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361-362D-4183-8107-FC6FB2B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2B7-702B-4461-B4EF-79CB3748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33C-67D6-4B9B-9469-B409BC8A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D1F-F685-42A2-964D-FB3A9959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7C8-D2C6-46BF-9342-6A8FAFA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7F6-4DEF-49BE-8A35-521E5637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4DA-A63C-490C-ACAE-7B17E1F4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0D-BFD0-4880-9103-2ADCC1A7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FE1-C380-4F45-80A4-2E417DB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C0A-38E8-4C64-A63D-21EFF5D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F88-FC3C-45C5-A7F4-D7F6657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7F7-255B-4C9C-9A8F-C5843EE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E06-E301-4D10-978E-6CABB199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physics.sfsu.edu/~mugawa/molecule.html" TargetMode="External"/><Relationship Id="rId4" Type="http://schemas.openxmlformats.org/officeDocument/2006/relationships/hyperlink" Target="http://www.answers.com/main/ntquery?method=4&amp;dsid=2222&amp;dekey=Friedrich+August+Kekul&#233;+von+Stradonitz&amp;gwp=8&amp;curtab=2222_1&amp;linktext=Friedrich%20August%20Kekul&#233;%20von%20Stradonitz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answers.com/main/ntquery?method=4&amp;dsname=Wikipedia+Images&amp;dekey=Benzene+circle.png&amp;gwp=8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matic Hydrocarb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5400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have many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7240" y="1846440"/>
            <a:ext cx="2497320" cy="2319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1268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isomers of 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840" y="27000"/>
            <a:ext cx="1384200" cy="339840"/>
          </a:xfrm>
          <a:custGeom>
            <a:avLst/>
            <a:gdLst/>
            <a:ahLst/>
            <a:rect l="l" t="t" r="r" b="b"/>
            <a:pathLst>
              <a:path w="3846" h="944">
                <a:moveTo>
                  <a:pt x="670" y="446"/>
                </a:moveTo>
                <a:lnTo>
                  <a:pt x="670" y="446"/>
                </a:lnTo>
              </a:path>
              <a:path w="3846" h="944">
                <a:moveTo>
                  <a:pt x="893" y="298"/>
                </a:moveTo>
                <a:cubicBezTo>
                  <a:pt x="859" y="291"/>
                  <a:pt x="828" y="280"/>
                  <a:pt x="794" y="273"/>
                </a:cubicBezTo>
                <a:cubicBezTo>
                  <a:pt x="767" y="344"/>
                  <a:pt x="714" y="400"/>
                  <a:pt x="695" y="471"/>
                </a:cubicBezTo>
                <a:cubicBezTo>
                  <a:pt x="680" y="525"/>
                  <a:pt x="688" y="568"/>
                  <a:pt x="670" y="620"/>
                </a:cubicBezTo>
                <a:cubicBezTo>
                  <a:pt x="646" y="688"/>
                  <a:pt x="627" y="724"/>
                  <a:pt x="670" y="794"/>
                </a:cubicBezTo>
                <a:cubicBezTo>
                  <a:pt x="697" y="837"/>
                  <a:pt x="716" y="915"/>
                  <a:pt x="744" y="943"/>
                </a:cubicBezTo>
                <a:cubicBezTo>
                  <a:pt x="763" y="962"/>
                  <a:pt x="869" y="1007"/>
                  <a:pt x="893" y="1017"/>
                </a:cubicBezTo>
                <a:cubicBezTo>
                  <a:pt x="932" y="1033"/>
                  <a:pt x="997" y="974"/>
                  <a:pt x="1017" y="943"/>
                </a:cubicBezTo>
                <a:cubicBezTo>
                  <a:pt x="1051" y="890"/>
                  <a:pt x="1091" y="857"/>
                  <a:pt x="1091" y="794"/>
                </a:cubicBezTo>
                <a:cubicBezTo>
                  <a:pt x="1091" y="723"/>
                  <a:pt x="1077" y="691"/>
                  <a:pt x="1067" y="620"/>
                </a:cubicBezTo>
                <a:cubicBezTo>
                  <a:pt x="1058" y="561"/>
                  <a:pt x="1031" y="522"/>
                  <a:pt x="992" y="471"/>
                </a:cubicBezTo>
                <a:cubicBezTo>
                  <a:pt x="964" y="434"/>
                  <a:pt x="921" y="392"/>
                  <a:pt x="918" y="347"/>
                </a:cubicBezTo>
                <a:cubicBezTo>
                  <a:pt x="918" y="331"/>
                  <a:pt x="918" y="314"/>
                  <a:pt x="918" y="298"/>
                </a:cubicBezTo>
              </a:path>
              <a:path w="3846" h="944">
                <a:moveTo>
                  <a:pt x="1463" y="347"/>
                </a:moveTo>
                <a:cubicBezTo>
                  <a:pt x="1463" y="505"/>
                  <a:pt x="1463" y="925"/>
                  <a:pt x="1463" y="918"/>
                </a:cubicBezTo>
                <a:cubicBezTo>
                  <a:pt x="1463" y="850"/>
                  <a:pt x="1454" y="807"/>
                  <a:pt x="1439" y="744"/>
                </a:cubicBezTo>
                <a:cubicBezTo>
                  <a:pt x="1421" y="668"/>
                  <a:pt x="1418" y="490"/>
                  <a:pt x="1463" y="422"/>
                </a:cubicBezTo>
                <a:cubicBezTo>
                  <a:pt x="1500" y="367"/>
                  <a:pt x="1504" y="333"/>
                  <a:pt x="1563" y="298"/>
                </a:cubicBezTo>
                <a:cubicBezTo>
                  <a:pt x="1602" y="275"/>
                  <a:pt x="1663" y="209"/>
                  <a:pt x="1712" y="198"/>
                </a:cubicBezTo>
                <a:cubicBezTo>
                  <a:pt x="1799" y="179"/>
                  <a:pt x="1805" y="225"/>
                  <a:pt x="1811" y="298"/>
                </a:cubicBezTo>
                <a:cubicBezTo>
                  <a:pt x="1816" y="356"/>
                  <a:pt x="1834" y="459"/>
                  <a:pt x="1786" y="496"/>
                </a:cubicBezTo>
                <a:cubicBezTo>
                  <a:pt x="1733" y="537"/>
                  <a:pt x="1677" y="578"/>
                  <a:pt x="1612" y="595"/>
                </a:cubicBezTo>
                <a:cubicBezTo>
                  <a:pt x="1584" y="595"/>
                  <a:pt x="1574" y="598"/>
                  <a:pt x="1563" y="620"/>
                </a:cubicBezTo>
                <a:cubicBezTo>
                  <a:pt x="1595" y="612"/>
                  <a:pt x="1646" y="571"/>
                  <a:pt x="1687" y="595"/>
                </a:cubicBezTo>
                <a:cubicBezTo>
                  <a:pt x="1728" y="619"/>
                  <a:pt x="1795" y="698"/>
                  <a:pt x="1811" y="744"/>
                </a:cubicBezTo>
                <a:cubicBezTo>
                  <a:pt x="1833" y="808"/>
                  <a:pt x="1810" y="825"/>
                  <a:pt x="1860" y="868"/>
                </a:cubicBezTo>
                <a:cubicBezTo>
                  <a:pt x="1912" y="913"/>
                  <a:pt x="1901" y="924"/>
                  <a:pt x="1935" y="967"/>
                </a:cubicBezTo>
                <a:cubicBezTo>
                  <a:pt x="1955" y="866"/>
                  <a:pt x="1959" y="903"/>
                  <a:pt x="1910" y="819"/>
                </a:cubicBezTo>
              </a:path>
              <a:path w="3846" h="944">
                <a:moveTo>
                  <a:pt x="2431" y="298"/>
                </a:moveTo>
                <a:cubicBezTo>
                  <a:pt x="2431" y="465"/>
                  <a:pt x="2440" y="635"/>
                  <a:pt x="2406" y="794"/>
                </a:cubicBezTo>
                <a:cubicBezTo>
                  <a:pt x="2395" y="847"/>
                  <a:pt x="2381" y="886"/>
                  <a:pt x="2381" y="943"/>
                </a:cubicBezTo>
                <a:cubicBezTo>
                  <a:pt x="2324" y="941"/>
                  <a:pt x="2371" y="888"/>
                  <a:pt x="2381" y="819"/>
                </a:cubicBezTo>
              </a:path>
              <a:path w="3846" h="944">
                <a:moveTo>
                  <a:pt x="2108" y="347"/>
                </a:moveTo>
                <a:cubicBezTo>
                  <a:pt x="2171" y="334"/>
                  <a:pt x="2222" y="297"/>
                  <a:pt x="2282" y="273"/>
                </a:cubicBezTo>
                <a:cubicBezTo>
                  <a:pt x="2376" y="236"/>
                  <a:pt x="2462" y="204"/>
                  <a:pt x="2555" y="174"/>
                </a:cubicBezTo>
                <a:cubicBezTo>
                  <a:pt x="2641" y="147"/>
                  <a:pt x="2682" y="124"/>
                  <a:pt x="2778" y="124"/>
                </a:cubicBezTo>
                <a:cubicBezTo>
                  <a:pt x="2810" y="124"/>
                  <a:pt x="2874" y="86"/>
                  <a:pt x="2902" y="74"/>
                </a:cubicBezTo>
                <a:cubicBezTo>
                  <a:pt x="2876" y="128"/>
                  <a:pt x="2858" y="140"/>
                  <a:pt x="2803" y="149"/>
                </a:cubicBezTo>
              </a:path>
              <a:path w="3846" h="944">
                <a:moveTo>
                  <a:pt x="3150" y="198"/>
                </a:moveTo>
                <a:cubicBezTo>
                  <a:pt x="3162" y="260"/>
                  <a:pt x="3175" y="305"/>
                  <a:pt x="3175" y="372"/>
                </a:cubicBezTo>
                <a:cubicBezTo>
                  <a:pt x="3175" y="478"/>
                  <a:pt x="3173" y="571"/>
                  <a:pt x="3150" y="670"/>
                </a:cubicBezTo>
                <a:cubicBezTo>
                  <a:pt x="3137" y="726"/>
                  <a:pt x="3110" y="795"/>
                  <a:pt x="3101" y="843"/>
                </a:cubicBezTo>
                <a:cubicBezTo>
                  <a:pt x="3089" y="912"/>
                  <a:pt x="3105" y="899"/>
                  <a:pt x="3076" y="967"/>
                </a:cubicBezTo>
                <a:cubicBezTo>
                  <a:pt x="3120" y="913"/>
                  <a:pt x="3125" y="887"/>
                  <a:pt x="3125" y="819"/>
                </a:cubicBezTo>
              </a:path>
              <a:path w="3846" h="944">
                <a:moveTo>
                  <a:pt x="3572" y="124"/>
                </a:moveTo>
                <a:cubicBezTo>
                  <a:pt x="3572" y="316"/>
                  <a:pt x="3530" y="564"/>
                  <a:pt x="3597" y="744"/>
                </a:cubicBezTo>
                <a:cubicBezTo>
                  <a:pt x="3618" y="799"/>
                  <a:pt x="3621" y="835"/>
                  <a:pt x="3621" y="893"/>
                </a:cubicBezTo>
                <a:cubicBezTo>
                  <a:pt x="3621" y="948"/>
                  <a:pt x="3590" y="886"/>
                  <a:pt x="3572" y="868"/>
                </a:cubicBezTo>
              </a:path>
              <a:path w="3846" h="944">
                <a:moveTo>
                  <a:pt x="3274" y="595"/>
                </a:moveTo>
                <a:cubicBezTo>
                  <a:pt x="3325" y="558"/>
                  <a:pt x="3343" y="594"/>
                  <a:pt x="3398" y="571"/>
                </a:cubicBezTo>
                <a:cubicBezTo>
                  <a:pt x="3437" y="554"/>
                  <a:pt x="3482" y="533"/>
                  <a:pt x="3522" y="521"/>
                </a:cubicBezTo>
                <a:cubicBezTo>
                  <a:pt x="3547" y="521"/>
                  <a:pt x="3555" y="521"/>
                  <a:pt x="3572" y="521"/>
                </a:cubicBezTo>
              </a:path>
              <a:path w="3846" h="944">
                <a:moveTo>
                  <a:pt x="4266" y="198"/>
                </a:moveTo>
                <a:cubicBezTo>
                  <a:pt x="4207" y="198"/>
                  <a:pt x="4188" y="197"/>
                  <a:pt x="4142" y="223"/>
                </a:cubicBezTo>
                <a:cubicBezTo>
                  <a:pt x="4094" y="251"/>
                  <a:pt x="4032" y="312"/>
                  <a:pt x="4018" y="372"/>
                </a:cubicBezTo>
                <a:cubicBezTo>
                  <a:pt x="4005" y="429"/>
                  <a:pt x="4010" y="488"/>
                  <a:pt x="3994" y="546"/>
                </a:cubicBezTo>
                <a:cubicBezTo>
                  <a:pt x="3976" y="610"/>
                  <a:pt x="3969" y="626"/>
                  <a:pt x="3969" y="695"/>
                </a:cubicBezTo>
                <a:cubicBezTo>
                  <a:pt x="3969" y="713"/>
                  <a:pt x="4010" y="812"/>
                  <a:pt x="4018" y="819"/>
                </a:cubicBezTo>
                <a:cubicBezTo>
                  <a:pt x="4065" y="861"/>
                  <a:pt x="4131" y="890"/>
                  <a:pt x="4192" y="893"/>
                </a:cubicBezTo>
                <a:cubicBezTo>
                  <a:pt x="4271" y="897"/>
                  <a:pt x="4298" y="897"/>
                  <a:pt x="4366" y="843"/>
                </a:cubicBezTo>
                <a:cubicBezTo>
                  <a:pt x="4420" y="800"/>
                  <a:pt x="4485" y="738"/>
                  <a:pt x="4490" y="695"/>
                </a:cubicBezTo>
                <a:cubicBezTo>
                  <a:pt x="4502" y="603"/>
                  <a:pt x="4500" y="478"/>
                  <a:pt x="4465" y="397"/>
                </a:cubicBezTo>
                <a:cubicBezTo>
                  <a:pt x="4432" y="320"/>
                  <a:pt x="4380" y="280"/>
                  <a:pt x="4341" y="223"/>
                </a:cubicBezTo>
                <a:cubicBezTo>
                  <a:pt x="4308" y="175"/>
                  <a:pt x="4261" y="235"/>
                  <a:pt x="4316" y="1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0720" y="88920"/>
            <a:ext cx="393480" cy="357120"/>
          </a:xfrm>
          <a:custGeom>
            <a:avLst/>
            <a:gdLst/>
            <a:ahLst/>
            <a:rect l="l" t="t" r="r" b="b"/>
            <a:pathLst>
              <a:path w="1092" h="993">
                <a:moveTo>
                  <a:pt x="6028" y="322"/>
                </a:moveTo>
                <a:cubicBezTo>
                  <a:pt x="6020" y="306"/>
                  <a:pt x="6011" y="289"/>
                  <a:pt x="6003" y="273"/>
                </a:cubicBezTo>
                <a:cubicBezTo>
                  <a:pt x="6003" y="491"/>
                  <a:pt x="5942" y="1069"/>
                  <a:pt x="6028" y="868"/>
                </a:cubicBezTo>
                <a:cubicBezTo>
                  <a:pt x="6028" y="860"/>
                  <a:pt x="6028" y="851"/>
                  <a:pt x="6028" y="843"/>
                </a:cubicBezTo>
              </a:path>
              <a:path w="1092" h="993">
                <a:moveTo>
                  <a:pt x="6350" y="794"/>
                </a:moveTo>
                <a:cubicBezTo>
                  <a:pt x="6373" y="839"/>
                  <a:pt x="6434" y="852"/>
                  <a:pt x="6449" y="918"/>
                </a:cubicBezTo>
                <a:cubicBezTo>
                  <a:pt x="6461" y="967"/>
                  <a:pt x="6446" y="1050"/>
                  <a:pt x="6424" y="1091"/>
                </a:cubicBezTo>
                <a:cubicBezTo>
                  <a:pt x="6395" y="1147"/>
                  <a:pt x="6349" y="1191"/>
                  <a:pt x="6300" y="1240"/>
                </a:cubicBezTo>
                <a:cubicBezTo>
                  <a:pt x="6345" y="1196"/>
                  <a:pt x="6362" y="1186"/>
                  <a:pt x="6350" y="1141"/>
                </a:cubicBezTo>
              </a:path>
              <a:path w="1092" h="993">
                <a:moveTo>
                  <a:pt x="6672" y="322"/>
                </a:moveTo>
                <a:cubicBezTo>
                  <a:pt x="6681" y="292"/>
                  <a:pt x="6714" y="206"/>
                  <a:pt x="6772" y="248"/>
                </a:cubicBezTo>
                <a:cubicBezTo>
                  <a:pt x="6838" y="296"/>
                  <a:pt x="6866" y="313"/>
                  <a:pt x="6871" y="397"/>
                </a:cubicBezTo>
                <a:cubicBezTo>
                  <a:pt x="6875" y="460"/>
                  <a:pt x="6861" y="495"/>
                  <a:pt x="6846" y="546"/>
                </a:cubicBezTo>
                <a:cubicBezTo>
                  <a:pt x="6830" y="600"/>
                  <a:pt x="6794" y="623"/>
                  <a:pt x="6772" y="670"/>
                </a:cubicBezTo>
                <a:cubicBezTo>
                  <a:pt x="6743" y="730"/>
                  <a:pt x="6735" y="794"/>
                  <a:pt x="6697" y="843"/>
                </a:cubicBezTo>
                <a:cubicBezTo>
                  <a:pt x="6716" y="742"/>
                  <a:pt x="6746" y="720"/>
                  <a:pt x="6821" y="645"/>
                </a:cubicBezTo>
                <a:cubicBezTo>
                  <a:pt x="6850" y="684"/>
                  <a:pt x="6880" y="744"/>
                  <a:pt x="6896" y="794"/>
                </a:cubicBezTo>
                <a:cubicBezTo>
                  <a:pt x="6914" y="853"/>
                  <a:pt x="6962" y="843"/>
                  <a:pt x="7020" y="843"/>
                </a:cubicBezTo>
                <a:cubicBezTo>
                  <a:pt x="7100" y="843"/>
                  <a:pt x="7094" y="849"/>
                  <a:pt x="7094" y="7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3920" y="81000"/>
            <a:ext cx="233280" cy="24120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9723" y="223"/>
                </a:moveTo>
                <a:cubicBezTo>
                  <a:pt x="9681" y="281"/>
                  <a:pt x="9718" y="298"/>
                  <a:pt x="9699" y="372"/>
                </a:cubicBezTo>
                <a:cubicBezTo>
                  <a:pt x="9683" y="435"/>
                  <a:pt x="9691" y="509"/>
                  <a:pt x="9674" y="571"/>
                </a:cubicBezTo>
                <a:cubicBezTo>
                  <a:pt x="9661" y="619"/>
                  <a:pt x="9633" y="678"/>
                  <a:pt x="9624" y="719"/>
                </a:cubicBezTo>
                <a:cubicBezTo>
                  <a:pt x="9618" y="746"/>
                  <a:pt x="9624" y="789"/>
                  <a:pt x="9624" y="819"/>
                </a:cubicBezTo>
                <a:cubicBezTo>
                  <a:pt x="9624" y="876"/>
                  <a:pt x="9624" y="752"/>
                  <a:pt x="9624" y="695"/>
                </a:cubicBezTo>
                <a:cubicBezTo>
                  <a:pt x="9624" y="562"/>
                  <a:pt x="9595" y="394"/>
                  <a:pt x="9649" y="273"/>
                </a:cubicBezTo>
                <a:cubicBezTo>
                  <a:pt x="9669" y="232"/>
                  <a:pt x="9667" y="216"/>
                  <a:pt x="9699" y="223"/>
                </a:cubicBezTo>
                <a:cubicBezTo>
                  <a:pt x="9732" y="269"/>
                  <a:pt x="9706" y="295"/>
                  <a:pt x="9723" y="347"/>
                </a:cubicBezTo>
                <a:cubicBezTo>
                  <a:pt x="9747" y="418"/>
                  <a:pt x="9789" y="448"/>
                  <a:pt x="9823" y="496"/>
                </a:cubicBezTo>
                <a:cubicBezTo>
                  <a:pt x="9861" y="549"/>
                  <a:pt x="9882" y="604"/>
                  <a:pt x="9947" y="620"/>
                </a:cubicBezTo>
                <a:cubicBezTo>
                  <a:pt x="9977" y="567"/>
                  <a:pt x="10015" y="522"/>
                  <a:pt x="10046" y="471"/>
                </a:cubicBezTo>
                <a:cubicBezTo>
                  <a:pt x="10085" y="407"/>
                  <a:pt x="10141" y="356"/>
                  <a:pt x="10195" y="298"/>
                </a:cubicBezTo>
                <a:cubicBezTo>
                  <a:pt x="10203" y="290"/>
                  <a:pt x="10212" y="281"/>
                  <a:pt x="10220" y="273"/>
                </a:cubicBezTo>
                <a:cubicBezTo>
                  <a:pt x="10254" y="354"/>
                  <a:pt x="10233" y="364"/>
                  <a:pt x="10220" y="446"/>
                </a:cubicBezTo>
                <a:cubicBezTo>
                  <a:pt x="10195" y="601"/>
                  <a:pt x="10162" y="1027"/>
                  <a:pt x="10244" y="893"/>
                </a:cubicBezTo>
                <a:cubicBezTo>
                  <a:pt x="10252" y="868"/>
                  <a:pt x="10261" y="844"/>
                  <a:pt x="10269" y="8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40120" y="61920"/>
            <a:ext cx="473040" cy="260280"/>
          </a:xfrm>
          <a:custGeom>
            <a:avLst/>
            <a:gdLst/>
            <a:ahLst/>
            <a:rect l="l" t="t" r="r" b="b"/>
            <a:pathLst>
              <a:path w="1316" h="720">
                <a:moveTo>
                  <a:pt x="10691" y="347"/>
                </a:moveTo>
                <a:cubicBezTo>
                  <a:pt x="10661" y="397"/>
                  <a:pt x="10666" y="434"/>
                  <a:pt x="10666" y="496"/>
                </a:cubicBezTo>
                <a:cubicBezTo>
                  <a:pt x="10666" y="609"/>
                  <a:pt x="10640" y="724"/>
                  <a:pt x="10716" y="794"/>
                </a:cubicBezTo>
                <a:cubicBezTo>
                  <a:pt x="10754" y="829"/>
                  <a:pt x="10820" y="831"/>
                  <a:pt x="10864" y="843"/>
                </a:cubicBezTo>
                <a:cubicBezTo>
                  <a:pt x="10921" y="858"/>
                  <a:pt x="10969" y="833"/>
                  <a:pt x="11013" y="819"/>
                </a:cubicBezTo>
                <a:cubicBezTo>
                  <a:pt x="11021" y="819"/>
                  <a:pt x="11030" y="819"/>
                  <a:pt x="11038" y="819"/>
                </a:cubicBezTo>
              </a:path>
              <a:path w="1316" h="720">
                <a:moveTo>
                  <a:pt x="10815" y="571"/>
                </a:moveTo>
                <a:cubicBezTo>
                  <a:pt x="10876" y="571"/>
                  <a:pt x="10997" y="595"/>
                  <a:pt x="11013" y="546"/>
                </a:cubicBezTo>
              </a:path>
              <a:path w="1316" h="720">
                <a:moveTo>
                  <a:pt x="10740" y="273"/>
                </a:moveTo>
                <a:cubicBezTo>
                  <a:pt x="10756" y="225"/>
                  <a:pt x="10793" y="251"/>
                  <a:pt x="10840" y="273"/>
                </a:cubicBezTo>
                <a:cubicBezTo>
                  <a:pt x="10918" y="310"/>
                  <a:pt x="10936" y="287"/>
                  <a:pt x="11013" y="248"/>
                </a:cubicBezTo>
                <a:cubicBezTo>
                  <a:pt x="11061" y="224"/>
                  <a:pt x="11074" y="227"/>
                  <a:pt x="11112" y="198"/>
                </a:cubicBezTo>
              </a:path>
              <a:path w="1316" h="720">
                <a:moveTo>
                  <a:pt x="11559" y="347"/>
                </a:moveTo>
                <a:cubicBezTo>
                  <a:pt x="11559" y="465"/>
                  <a:pt x="11559" y="949"/>
                  <a:pt x="11559" y="819"/>
                </a:cubicBezTo>
              </a:path>
              <a:path w="1316" h="720">
                <a:moveTo>
                  <a:pt x="11311" y="298"/>
                </a:moveTo>
                <a:cubicBezTo>
                  <a:pt x="11386" y="298"/>
                  <a:pt x="11440" y="285"/>
                  <a:pt x="11509" y="273"/>
                </a:cubicBezTo>
                <a:cubicBezTo>
                  <a:pt x="11562" y="264"/>
                  <a:pt x="11632" y="265"/>
                  <a:pt x="11683" y="248"/>
                </a:cubicBezTo>
                <a:cubicBezTo>
                  <a:pt x="11745" y="227"/>
                  <a:pt x="11797" y="215"/>
                  <a:pt x="11857" y="198"/>
                </a:cubicBezTo>
                <a:cubicBezTo>
                  <a:pt x="11938" y="175"/>
                  <a:pt x="11931" y="149"/>
                  <a:pt x="11981" y="2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54000"/>
            <a:ext cx="419040" cy="41904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13345" y="273"/>
                </a:moveTo>
                <a:cubicBezTo>
                  <a:pt x="13345" y="402"/>
                  <a:pt x="13336" y="523"/>
                  <a:pt x="13320" y="645"/>
                </a:cubicBezTo>
                <a:cubicBezTo>
                  <a:pt x="13314" y="689"/>
                  <a:pt x="13320" y="907"/>
                  <a:pt x="13320" y="868"/>
                </a:cubicBezTo>
              </a:path>
              <a:path w="1167" h="1167">
                <a:moveTo>
                  <a:pt x="13643" y="719"/>
                </a:moveTo>
                <a:cubicBezTo>
                  <a:pt x="13654" y="765"/>
                  <a:pt x="13672" y="819"/>
                  <a:pt x="13692" y="868"/>
                </a:cubicBezTo>
                <a:cubicBezTo>
                  <a:pt x="13723" y="945"/>
                  <a:pt x="13742" y="954"/>
                  <a:pt x="13742" y="1042"/>
                </a:cubicBezTo>
                <a:cubicBezTo>
                  <a:pt x="13742" y="1110"/>
                  <a:pt x="13733" y="1127"/>
                  <a:pt x="13717" y="1191"/>
                </a:cubicBezTo>
                <a:cubicBezTo>
                  <a:pt x="13708" y="1226"/>
                  <a:pt x="13679" y="1294"/>
                  <a:pt x="13643" y="1315"/>
                </a:cubicBezTo>
                <a:cubicBezTo>
                  <a:pt x="13635" y="1315"/>
                  <a:pt x="13626" y="1315"/>
                  <a:pt x="13618" y="1315"/>
                </a:cubicBezTo>
              </a:path>
              <a:path w="1167" h="1167">
                <a:moveTo>
                  <a:pt x="14139" y="174"/>
                </a:moveTo>
                <a:cubicBezTo>
                  <a:pt x="14182" y="141"/>
                  <a:pt x="14205" y="149"/>
                  <a:pt x="14263" y="149"/>
                </a:cubicBezTo>
                <a:cubicBezTo>
                  <a:pt x="14316" y="149"/>
                  <a:pt x="14373" y="224"/>
                  <a:pt x="14387" y="273"/>
                </a:cubicBezTo>
                <a:cubicBezTo>
                  <a:pt x="14401" y="322"/>
                  <a:pt x="14348" y="395"/>
                  <a:pt x="14312" y="422"/>
                </a:cubicBezTo>
                <a:cubicBezTo>
                  <a:pt x="14249" y="469"/>
                  <a:pt x="14227" y="525"/>
                  <a:pt x="14163" y="571"/>
                </a:cubicBezTo>
                <a:cubicBezTo>
                  <a:pt x="14207" y="560"/>
                  <a:pt x="14237" y="526"/>
                  <a:pt x="14288" y="521"/>
                </a:cubicBezTo>
                <a:cubicBezTo>
                  <a:pt x="14384" y="511"/>
                  <a:pt x="14383" y="557"/>
                  <a:pt x="14436" y="620"/>
                </a:cubicBezTo>
                <a:cubicBezTo>
                  <a:pt x="14483" y="676"/>
                  <a:pt x="14509" y="739"/>
                  <a:pt x="14486" y="819"/>
                </a:cubicBezTo>
                <a:cubicBezTo>
                  <a:pt x="14473" y="865"/>
                  <a:pt x="14417" y="993"/>
                  <a:pt x="14387" y="1017"/>
                </a:cubicBezTo>
                <a:cubicBezTo>
                  <a:pt x="14354" y="1043"/>
                  <a:pt x="14260" y="1081"/>
                  <a:pt x="14213" y="1067"/>
                </a:cubicBezTo>
                <a:cubicBezTo>
                  <a:pt x="14160" y="1051"/>
                  <a:pt x="14106" y="1029"/>
                  <a:pt x="14064" y="992"/>
                </a:cubicBezTo>
                <a:cubicBezTo>
                  <a:pt x="14015" y="948"/>
                  <a:pt x="14039" y="856"/>
                  <a:pt x="14039" y="7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840" y="455760"/>
            <a:ext cx="1608120" cy="1482480"/>
          </a:xfrm>
          <a:custGeom>
            <a:avLst/>
            <a:gdLst/>
            <a:ahLst/>
            <a:rect l="l" t="t" r="r" b="b"/>
            <a:pathLst>
              <a:path w="4466" h="4119">
                <a:moveTo>
                  <a:pt x="1736" y="2704"/>
                </a:moveTo>
                <a:lnTo>
                  <a:pt x="1736" y="2704"/>
                </a:lnTo>
              </a:path>
              <a:path w="4466" h="4119">
                <a:moveTo>
                  <a:pt x="1736" y="2704"/>
                </a:moveTo>
                <a:lnTo>
                  <a:pt x="1736" y="2704"/>
                </a:lnTo>
              </a:path>
              <a:path w="4466" h="4119">
                <a:moveTo>
                  <a:pt x="1761" y="2729"/>
                </a:moveTo>
                <a:cubicBezTo>
                  <a:pt x="1724" y="2742"/>
                  <a:pt x="1658" y="2757"/>
                  <a:pt x="1637" y="2778"/>
                </a:cubicBezTo>
                <a:cubicBezTo>
                  <a:pt x="1612" y="2803"/>
                  <a:pt x="1569" y="2866"/>
                  <a:pt x="1538" y="2902"/>
                </a:cubicBezTo>
                <a:cubicBezTo>
                  <a:pt x="1494" y="2954"/>
                  <a:pt x="1462" y="2982"/>
                  <a:pt x="1414" y="3026"/>
                </a:cubicBezTo>
                <a:cubicBezTo>
                  <a:pt x="1359" y="3076"/>
                  <a:pt x="1313" y="3127"/>
                  <a:pt x="1265" y="3175"/>
                </a:cubicBezTo>
                <a:cubicBezTo>
                  <a:pt x="1207" y="3233"/>
                  <a:pt x="1110" y="3283"/>
                  <a:pt x="1067" y="3324"/>
                </a:cubicBezTo>
                <a:cubicBezTo>
                  <a:pt x="1052" y="3338"/>
                  <a:pt x="965" y="3415"/>
                  <a:pt x="943" y="3448"/>
                </a:cubicBezTo>
                <a:cubicBezTo>
                  <a:pt x="908" y="3500"/>
                  <a:pt x="920" y="3538"/>
                  <a:pt x="918" y="3597"/>
                </a:cubicBezTo>
                <a:cubicBezTo>
                  <a:pt x="915" y="3683"/>
                  <a:pt x="900" y="3766"/>
                  <a:pt x="893" y="3845"/>
                </a:cubicBezTo>
                <a:cubicBezTo>
                  <a:pt x="883" y="3961"/>
                  <a:pt x="879" y="4082"/>
                  <a:pt x="868" y="4192"/>
                </a:cubicBezTo>
                <a:cubicBezTo>
                  <a:pt x="856" y="4313"/>
                  <a:pt x="868" y="4442"/>
                  <a:pt x="868" y="4564"/>
                </a:cubicBezTo>
                <a:cubicBezTo>
                  <a:pt x="903" y="4572"/>
                  <a:pt x="934" y="4568"/>
                  <a:pt x="992" y="4614"/>
                </a:cubicBezTo>
                <a:cubicBezTo>
                  <a:pt x="1044" y="4656"/>
                  <a:pt x="1097" y="4681"/>
                  <a:pt x="1141" y="4713"/>
                </a:cubicBezTo>
                <a:cubicBezTo>
                  <a:pt x="1187" y="4746"/>
                  <a:pt x="1223" y="4814"/>
                  <a:pt x="1265" y="4862"/>
                </a:cubicBezTo>
                <a:cubicBezTo>
                  <a:pt x="1302" y="4904"/>
                  <a:pt x="1348" y="4925"/>
                  <a:pt x="1389" y="4961"/>
                </a:cubicBezTo>
                <a:cubicBezTo>
                  <a:pt x="1472" y="5032"/>
                  <a:pt x="1562" y="5119"/>
                  <a:pt x="1637" y="5184"/>
                </a:cubicBezTo>
                <a:cubicBezTo>
                  <a:pt x="1698" y="5236"/>
                  <a:pt x="1730" y="5262"/>
                  <a:pt x="1786" y="5308"/>
                </a:cubicBezTo>
                <a:cubicBezTo>
                  <a:pt x="1836" y="5333"/>
                  <a:pt x="1852" y="5341"/>
                  <a:pt x="1860" y="5383"/>
                </a:cubicBezTo>
                <a:cubicBezTo>
                  <a:pt x="1903" y="5354"/>
                  <a:pt x="1957" y="5326"/>
                  <a:pt x="2009" y="5283"/>
                </a:cubicBezTo>
                <a:cubicBezTo>
                  <a:pt x="2073" y="5231"/>
                  <a:pt x="2121" y="5203"/>
                  <a:pt x="2183" y="5159"/>
                </a:cubicBezTo>
                <a:cubicBezTo>
                  <a:pt x="2241" y="5117"/>
                  <a:pt x="2300" y="5075"/>
                  <a:pt x="2356" y="5035"/>
                </a:cubicBezTo>
                <a:cubicBezTo>
                  <a:pt x="2417" y="4991"/>
                  <a:pt x="2426" y="4958"/>
                  <a:pt x="2480" y="4911"/>
                </a:cubicBezTo>
                <a:cubicBezTo>
                  <a:pt x="2517" y="4879"/>
                  <a:pt x="2574" y="4835"/>
                  <a:pt x="2604" y="4812"/>
                </a:cubicBezTo>
                <a:cubicBezTo>
                  <a:pt x="2644" y="4782"/>
                  <a:pt x="2749" y="4749"/>
                  <a:pt x="2778" y="4713"/>
                </a:cubicBezTo>
                <a:cubicBezTo>
                  <a:pt x="2812" y="4671"/>
                  <a:pt x="2800" y="4640"/>
                  <a:pt x="2803" y="4589"/>
                </a:cubicBezTo>
                <a:cubicBezTo>
                  <a:pt x="2824" y="4236"/>
                  <a:pt x="2803" y="3875"/>
                  <a:pt x="2803" y="3522"/>
                </a:cubicBezTo>
                <a:cubicBezTo>
                  <a:pt x="2748" y="3517"/>
                  <a:pt x="2705" y="3517"/>
                  <a:pt x="2654" y="3497"/>
                </a:cubicBezTo>
                <a:cubicBezTo>
                  <a:pt x="2613" y="3481"/>
                  <a:pt x="2571" y="3442"/>
                  <a:pt x="2530" y="3423"/>
                </a:cubicBezTo>
                <a:cubicBezTo>
                  <a:pt x="2477" y="3399"/>
                  <a:pt x="2428" y="3385"/>
                  <a:pt x="2381" y="3349"/>
                </a:cubicBezTo>
                <a:cubicBezTo>
                  <a:pt x="2342" y="3319"/>
                  <a:pt x="2301" y="3308"/>
                  <a:pt x="2257" y="3274"/>
                </a:cubicBezTo>
                <a:cubicBezTo>
                  <a:pt x="2207" y="3235"/>
                  <a:pt x="2179" y="3196"/>
                  <a:pt x="2133" y="3150"/>
                </a:cubicBezTo>
                <a:cubicBezTo>
                  <a:pt x="2090" y="3107"/>
                  <a:pt x="2016" y="3072"/>
                  <a:pt x="1984" y="3026"/>
                </a:cubicBezTo>
                <a:cubicBezTo>
                  <a:pt x="1964" y="2998"/>
                  <a:pt x="1961" y="2907"/>
                  <a:pt x="1935" y="2877"/>
                </a:cubicBezTo>
                <a:cubicBezTo>
                  <a:pt x="1919" y="2859"/>
                  <a:pt x="1834" y="2783"/>
                  <a:pt x="1811" y="2778"/>
                </a:cubicBezTo>
                <a:cubicBezTo>
                  <a:pt x="1749" y="2765"/>
                  <a:pt x="1797" y="2798"/>
                  <a:pt x="1836" y="2853"/>
                </a:cubicBezTo>
              </a:path>
              <a:path w="4466" h="4119">
                <a:moveTo>
                  <a:pt x="1935" y="3845"/>
                </a:moveTo>
                <a:cubicBezTo>
                  <a:pt x="1862" y="3814"/>
                  <a:pt x="1832" y="3822"/>
                  <a:pt x="1761" y="3870"/>
                </a:cubicBezTo>
                <a:cubicBezTo>
                  <a:pt x="1712" y="3903"/>
                  <a:pt x="1706" y="3947"/>
                  <a:pt x="1687" y="3994"/>
                </a:cubicBezTo>
                <a:cubicBezTo>
                  <a:pt x="1665" y="4049"/>
                  <a:pt x="1662" y="4083"/>
                  <a:pt x="1662" y="4142"/>
                </a:cubicBezTo>
                <a:cubicBezTo>
                  <a:pt x="1662" y="4246"/>
                  <a:pt x="1644" y="4291"/>
                  <a:pt x="1712" y="4366"/>
                </a:cubicBezTo>
                <a:cubicBezTo>
                  <a:pt x="1755" y="4413"/>
                  <a:pt x="1812" y="4414"/>
                  <a:pt x="1860" y="4440"/>
                </a:cubicBezTo>
                <a:cubicBezTo>
                  <a:pt x="1938" y="4482"/>
                  <a:pt x="1965" y="4426"/>
                  <a:pt x="2034" y="4390"/>
                </a:cubicBezTo>
                <a:cubicBezTo>
                  <a:pt x="2074" y="4369"/>
                  <a:pt x="2120" y="4314"/>
                  <a:pt x="2133" y="4266"/>
                </a:cubicBezTo>
                <a:cubicBezTo>
                  <a:pt x="2146" y="4218"/>
                  <a:pt x="2151" y="4058"/>
                  <a:pt x="2108" y="4018"/>
                </a:cubicBezTo>
                <a:cubicBezTo>
                  <a:pt x="2064" y="3977"/>
                  <a:pt x="2050" y="3921"/>
                  <a:pt x="1984" y="3894"/>
                </a:cubicBezTo>
                <a:cubicBezTo>
                  <a:pt x="1880" y="3852"/>
                  <a:pt x="1904" y="3992"/>
                  <a:pt x="1885" y="3845"/>
                </a:cubicBezTo>
              </a:path>
              <a:path w="4466" h="4119">
                <a:moveTo>
                  <a:pt x="1712" y="2604"/>
                </a:moveTo>
                <a:cubicBezTo>
                  <a:pt x="1746" y="2587"/>
                  <a:pt x="1796" y="2535"/>
                  <a:pt x="1836" y="2505"/>
                </a:cubicBezTo>
                <a:cubicBezTo>
                  <a:pt x="1872" y="2477"/>
                  <a:pt x="1931" y="2396"/>
                  <a:pt x="1960" y="2356"/>
                </a:cubicBezTo>
                <a:cubicBezTo>
                  <a:pt x="1999" y="2301"/>
                  <a:pt x="2049" y="2268"/>
                  <a:pt x="2084" y="2208"/>
                </a:cubicBezTo>
                <a:cubicBezTo>
                  <a:pt x="2111" y="2162"/>
                  <a:pt x="2198" y="2097"/>
                  <a:pt x="2133" y="2183"/>
                </a:cubicBezTo>
              </a:path>
              <a:path w="4466" h="4119">
                <a:moveTo>
                  <a:pt x="2927" y="3547"/>
                </a:moveTo>
                <a:cubicBezTo>
                  <a:pt x="2940" y="3497"/>
                  <a:pt x="2974" y="3469"/>
                  <a:pt x="3026" y="3448"/>
                </a:cubicBezTo>
                <a:cubicBezTo>
                  <a:pt x="3088" y="3423"/>
                  <a:pt x="3146" y="3421"/>
                  <a:pt x="3200" y="3398"/>
                </a:cubicBezTo>
                <a:cubicBezTo>
                  <a:pt x="3246" y="3379"/>
                  <a:pt x="3300" y="3349"/>
                  <a:pt x="3349" y="3324"/>
                </a:cubicBezTo>
                <a:cubicBezTo>
                  <a:pt x="3457" y="3270"/>
                  <a:pt x="3465" y="3251"/>
                  <a:pt x="3448" y="3225"/>
                </a:cubicBezTo>
                <a:cubicBezTo>
                  <a:pt x="3448" y="3217"/>
                  <a:pt x="3448" y="3208"/>
                  <a:pt x="3448" y="3200"/>
                </a:cubicBezTo>
              </a:path>
              <a:path w="4466" h="4119">
                <a:moveTo>
                  <a:pt x="2729" y="1389"/>
                </a:moveTo>
                <a:cubicBezTo>
                  <a:pt x="2696" y="1362"/>
                  <a:pt x="2653" y="1321"/>
                  <a:pt x="2604" y="1339"/>
                </a:cubicBezTo>
                <a:cubicBezTo>
                  <a:pt x="2524" y="1368"/>
                  <a:pt x="2523" y="1425"/>
                  <a:pt x="2480" y="1488"/>
                </a:cubicBezTo>
                <a:cubicBezTo>
                  <a:pt x="2449" y="1533"/>
                  <a:pt x="2431" y="1556"/>
                  <a:pt x="2431" y="1612"/>
                </a:cubicBezTo>
                <a:cubicBezTo>
                  <a:pt x="2431" y="1692"/>
                  <a:pt x="2412" y="1799"/>
                  <a:pt x="2456" y="1860"/>
                </a:cubicBezTo>
                <a:cubicBezTo>
                  <a:pt x="2489" y="1895"/>
                  <a:pt x="2497" y="1916"/>
                  <a:pt x="2480" y="1960"/>
                </a:cubicBezTo>
                <a:cubicBezTo>
                  <a:pt x="2552" y="1984"/>
                  <a:pt x="2512" y="2009"/>
                  <a:pt x="2604" y="2009"/>
                </a:cubicBezTo>
                <a:cubicBezTo>
                  <a:pt x="2659" y="2009"/>
                  <a:pt x="2744" y="1983"/>
                  <a:pt x="2778" y="1935"/>
                </a:cubicBezTo>
                <a:cubicBezTo>
                  <a:pt x="2786" y="1918"/>
                  <a:pt x="2795" y="1902"/>
                  <a:pt x="2803" y="1885"/>
                </a:cubicBezTo>
              </a:path>
              <a:path w="4466" h="4119">
                <a:moveTo>
                  <a:pt x="3125" y="1315"/>
                </a:moveTo>
                <a:cubicBezTo>
                  <a:pt x="3125" y="1451"/>
                  <a:pt x="3117" y="1583"/>
                  <a:pt x="3101" y="1712"/>
                </a:cubicBezTo>
                <a:cubicBezTo>
                  <a:pt x="3088" y="1816"/>
                  <a:pt x="3101" y="1929"/>
                  <a:pt x="3101" y="2034"/>
                </a:cubicBezTo>
                <a:cubicBezTo>
                  <a:pt x="3101" y="2104"/>
                  <a:pt x="3121" y="1972"/>
                  <a:pt x="3125" y="1960"/>
                </a:cubicBezTo>
              </a:path>
              <a:path w="4466" h="4119">
                <a:moveTo>
                  <a:pt x="3324" y="1265"/>
                </a:moveTo>
                <a:cubicBezTo>
                  <a:pt x="3324" y="1440"/>
                  <a:pt x="3293" y="1648"/>
                  <a:pt x="3349" y="1811"/>
                </a:cubicBezTo>
                <a:cubicBezTo>
                  <a:pt x="3359" y="1840"/>
                  <a:pt x="3404" y="1952"/>
                  <a:pt x="3398" y="1984"/>
                </a:cubicBezTo>
                <a:cubicBezTo>
                  <a:pt x="3372" y="2112"/>
                  <a:pt x="3373" y="2042"/>
                  <a:pt x="3349" y="1984"/>
                </a:cubicBezTo>
              </a:path>
              <a:path w="4466" h="4119">
                <a:moveTo>
                  <a:pt x="3175" y="1761"/>
                </a:moveTo>
                <a:cubicBezTo>
                  <a:pt x="3260" y="1761"/>
                  <a:pt x="3299" y="1773"/>
                  <a:pt x="3373" y="1811"/>
                </a:cubicBezTo>
              </a:path>
              <a:path w="4466" h="4119">
                <a:moveTo>
                  <a:pt x="3770" y="1935"/>
                </a:moveTo>
                <a:cubicBezTo>
                  <a:pt x="3780" y="1900"/>
                  <a:pt x="3809" y="1819"/>
                  <a:pt x="3870" y="1836"/>
                </a:cubicBezTo>
                <a:cubicBezTo>
                  <a:pt x="3933" y="1853"/>
                  <a:pt x="3935" y="1925"/>
                  <a:pt x="3919" y="1984"/>
                </a:cubicBezTo>
                <a:cubicBezTo>
                  <a:pt x="3901" y="2047"/>
                  <a:pt x="3860" y="2071"/>
                  <a:pt x="3845" y="2133"/>
                </a:cubicBezTo>
                <a:cubicBezTo>
                  <a:pt x="3921" y="2114"/>
                  <a:pt x="3911" y="2082"/>
                  <a:pt x="3944" y="2158"/>
                </a:cubicBezTo>
                <a:cubicBezTo>
                  <a:pt x="3971" y="2221"/>
                  <a:pt x="3985" y="2271"/>
                  <a:pt x="3944" y="2332"/>
                </a:cubicBezTo>
                <a:cubicBezTo>
                  <a:pt x="3926" y="2358"/>
                  <a:pt x="3881" y="2401"/>
                  <a:pt x="3845" y="2381"/>
                </a:cubicBezTo>
                <a:cubicBezTo>
                  <a:pt x="3798" y="2355"/>
                  <a:pt x="3740" y="2315"/>
                  <a:pt x="3696" y="2282"/>
                </a:cubicBezTo>
                <a:cubicBezTo>
                  <a:pt x="3662" y="2256"/>
                  <a:pt x="3667" y="2218"/>
                  <a:pt x="3646" y="2183"/>
                </a:cubicBezTo>
              </a:path>
              <a:path w="4466" h="4119">
                <a:moveTo>
                  <a:pt x="3994" y="3150"/>
                </a:moveTo>
                <a:cubicBezTo>
                  <a:pt x="3959" y="3089"/>
                  <a:pt x="3944" y="3033"/>
                  <a:pt x="3870" y="3076"/>
                </a:cubicBezTo>
                <a:cubicBezTo>
                  <a:pt x="3815" y="3108"/>
                  <a:pt x="3820" y="3171"/>
                  <a:pt x="3820" y="3225"/>
                </a:cubicBezTo>
                <a:cubicBezTo>
                  <a:pt x="3820" y="3299"/>
                  <a:pt x="3855" y="3330"/>
                  <a:pt x="3870" y="3398"/>
                </a:cubicBezTo>
                <a:cubicBezTo>
                  <a:pt x="3887" y="3473"/>
                  <a:pt x="3915" y="3538"/>
                  <a:pt x="3994" y="3547"/>
                </a:cubicBezTo>
                <a:cubicBezTo>
                  <a:pt x="4091" y="3558"/>
                  <a:pt x="4111" y="3513"/>
                  <a:pt x="4192" y="3473"/>
                </a:cubicBezTo>
              </a:path>
              <a:path w="4466" h="4119">
                <a:moveTo>
                  <a:pt x="4440" y="3001"/>
                </a:moveTo>
                <a:cubicBezTo>
                  <a:pt x="4440" y="3224"/>
                  <a:pt x="4440" y="3448"/>
                  <a:pt x="4440" y="3671"/>
                </a:cubicBezTo>
              </a:path>
              <a:path w="4466" h="4119">
                <a:moveTo>
                  <a:pt x="4738" y="2952"/>
                </a:moveTo>
                <a:cubicBezTo>
                  <a:pt x="4728" y="3031"/>
                  <a:pt x="4713" y="3091"/>
                  <a:pt x="4713" y="3175"/>
                </a:cubicBezTo>
                <a:cubicBezTo>
                  <a:pt x="4713" y="3349"/>
                  <a:pt x="4713" y="3522"/>
                  <a:pt x="4713" y="3696"/>
                </a:cubicBezTo>
              </a:path>
              <a:path w="4466" h="4119">
                <a:moveTo>
                  <a:pt x="4490" y="3373"/>
                </a:moveTo>
                <a:cubicBezTo>
                  <a:pt x="4556" y="3373"/>
                  <a:pt x="4622" y="3373"/>
                  <a:pt x="4688" y="3373"/>
                </a:cubicBezTo>
              </a:path>
              <a:path w="4466" h="4119">
                <a:moveTo>
                  <a:pt x="4986" y="3547"/>
                </a:moveTo>
                <a:cubicBezTo>
                  <a:pt x="4990" y="3520"/>
                  <a:pt x="5017" y="3398"/>
                  <a:pt x="5085" y="3448"/>
                </a:cubicBezTo>
                <a:cubicBezTo>
                  <a:pt x="5117" y="3471"/>
                  <a:pt x="5150" y="3582"/>
                  <a:pt x="5159" y="3621"/>
                </a:cubicBezTo>
                <a:cubicBezTo>
                  <a:pt x="5166" y="3649"/>
                  <a:pt x="5069" y="3754"/>
                  <a:pt x="5110" y="3671"/>
                </a:cubicBezTo>
                <a:cubicBezTo>
                  <a:pt x="5194" y="3671"/>
                  <a:pt x="5235" y="3672"/>
                  <a:pt x="5283" y="3746"/>
                </a:cubicBezTo>
                <a:cubicBezTo>
                  <a:pt x="5300" y="3772"/>
                  <a:pt x="5339" y="3867"/>
                  <a:pt x="5333" y="3894"/>
                </a:cubicBezTo>
                <a:cubicBezTo>
                  <a:pt x="5315" y="3977"/>
                  <a:pt x="5253" y="4052"/>
                  <a:pt x="5184" y="4093"/>
                </a:cubicBezTo>
                <a:cubicBezTo>
                  <a:pt x="5127" y="4127"/>
                  <a:pt x="5074" y="4118"/>
                  <a:pt x="5011" y="4118"/>
                </a:cubicBezTo>
                <a:cubicBezTo>
                  <a:pt x="4932" y="4118"/>
                  <a:pt x="4931" y="4075"/>
                  <a:pt x="4887" y="40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71920" y="54000"/>
            <a:ext cx="1349280" cy="1911240"/>
          </a:xfrm>
          <a:custGeom>
            <a:avLst/>
            <a:gdLst/>
            <a:ahLst/>
            <a:rect l="l" t="t" r="r" b="b"/>
            <a:pathLst>
              <a:path w="3746" h="5309">
                <a:moveTo>
                  <a:pt x="11088" y="2084"/>
                </a:moveTo>
                <a:cubicBezTo>
                  <a:pt x="11080" y="2086"/>
                  <a:pt x="11026" y="2092"/>
                  <a:pt x="10988" y="2158"/>
                </a:cubicBezTo>
                <a:cubicBezTo>
                  <a:pt x="10947" y="2229"/>
                  <a:pt x="10892" y="2295"/>
                  <a:pt x="10840" y="2356"/>
                </a:cubicBezTo>
                <a:cubicBezTo>
                  <a:pt x="10731" y="2486"/>
                  <a:pt x="10593" y="2592"/>
                  <a:pt x="10468" y="2704"/>
                </a:cubicBezTo>
                <a:cubicBezTo>
                  <a:pt x="10360" y="2801"/>
                  <a:pt x="10289" y="2897"/>
                  <a:pt x="10195" y="3001"/>
                </a:cubicBezTo>
                <a:cubicBezTo>
                  <a:pt x="10139" y="3064"/>
                  <a:pt x="10099" y="3137"/>
                  <a:pt x="10046" y="3200"/>
                </a:cubicBezTo>
                <a:cubicBezTo>
                  <a:pt x="9990" y="3266"/>
                  <a:pt x="9948" y="3296"/>
                  <a:pt x="9922" y="3373"/>
                </a:cubicBezTo>
                <a:cubicBezTo>
                  <a:pt x="9999" y="3319"/>
                  <a:pt x="10031" y="3298"/>
                  <a:pt x="10120" y="3249"/>
                </a:cubicBezTo>
              </a:path>
              <a:path w="3746" h="5309">
                <a:moveTo>
                  <a:pt x="11162" y="2158"/>
                </a:moveTo>
                <a:cubicBezTo>
                  <a:pt x="11162" y="2141"/>
                  <a:pt x="11162" y="2125"/>
                  <a:pt x="11162" y="2108"/>
                </a:cubicBezTo>
                <a:cubicBezTo>
                  <a:pt x="11171" y="2117"/>
                  <a:pt x="11246" y="2201"/>
                  <a:pt x="11261" y="2208"/>
                </a:cubicBezTo>
                <a:cubicBezTo>
                  <a:pt x="11353" y="2248"/>
                  <a:pt x="11438" y="2284"/>
                  <a:pt x="11534" y="2332"/>
                </a:cubicBezTo>
                <a:cubicBezTo>
                  <a:pt x="11612" y="2370"/>
                  <a:pt x="11676" y="2392"/>
                  <a:pt x="11757" y="2431"/>
                </a:cubicBezTo>
                <a:cubicBezTo>
                  <a:pt x="11833" y="2468"/>
                  <a:pt x="11860" y="2553"/>
                  <a:pt x="11931" y="2604"/>
                </a:cubicBezTo>
                <a:cubicBezTo>
                  <a:pt x="12002" y="2655"/>
                  <a:pt x="12079" y="2711"/>
                  <a:pt x="12154" y="2753"/>
                </a:cubicBezTo>
                <a:cubicBezTo>
                  <a:pt x="12234" y="2797"/>
                  <a:pt x="12312" y="2839"/>
                  <a:pt x="12378" y="2902"/>
                </a:cubicBezTo>
                <a:cubicBezTo>
                  <a:pt x="12449" y="2970"/>
                  <a:pt x="12501" y="3039"/>
                  <a:pt x="12576" y="3101"/>
                </a:cubicBezTo>
                <a:cubicBezTo>
                  <a:pt x="12616" y="3134"/>
                  <a:pt x="12666" y="3163"/>
                  <a:pt x="12700" y="3200"/>
                </a:cubicBezTo>
                <a:cubicBezTo>
                  <a:pt x="12747" y="3252"/>
                  <a:pt x="12735" y="3256"/>
                  <a:pt x="12799" y="3274"/>
                </a:cubicBezTo>
                <a:cubicBezTo>
                  <a:pt x="12725" y="3274"/>
                  <a:pt x="12670" y="3272"/>
                  <a:pt x="12601" y="3249"/>
                </a:cubicBezTo>
              </a:path>
              <a:path w="3746" h="5309">
                <a:moveTo>
                  <a:pt x="10021" y="3324"/>
                </a:moveTo>
                <a:cubicBezTo>
                  <a:pt x="10034" y="3374"/>
                  <a:pt x="10032" y="3417"/>
                  <a:pt x="10046" y="3473"/>
                </a:cubicBezTo>
                <a:cubicBezTo>
                  <a:pt x="10065" y="3547"/>
                  <a:pt x="10077" y="3623"/>
                  <a:pt x="10096" y="3696"/>
                </a:cubicBezTo>
                <a:cubicBezTo>
                  <a:pt x="10119" y="3788"/>
                  <a:pt x="10120" y="3871"/>
                  <a:pt x="10120" y="3969"/>
                </a:cubicBezTo>
                <a:cubicBezTo>
                  <a:pt x="10120" y="4136"/>
                  <a:pt x="10108" y="4307"/>
                  <a:pt x="10145" y="4465"/>
                </a:cubicBezTo>
                <a:cubicBezTo>
                  <a:pt x="10167" y="4561"/>
                  <a:pt x="10145" y="4689"/>
                  <a:pt x="10145" y="4787"/>
                </a:cubicBezTo>
                <a:cubicBezTo>
                  <a:pt x="10145" y="4754"/>
                  <a:pt x="10145" y="4721"/>
                  <a:pt x="10145" y="4688"/>
                </a:cubicBezTo>
              </a:path>
              <a:path w="3746" h="5309">
                <a:moveTo>
                  <a:pt x="10220" y="4688"/>
                </a:moveTo>
                <a:cubicBezTo>
                  <a:pt x="10298" y="4701"/>
                  <a:pt x="10347" y="4717"/>
                  <a:pt x="10418" y="4762"/>
                </a:cubicBezTo>
                <a:cubicBezTo>
                  <a:pt x="10467" y="4793"/>
                  <a:pt x="10551" y="4889"/>
                  <a:pt x="10616" y="4911"/>
                </a:cubicBezTo>
                <a:cubicBezTo>
                  <a:pt x="10678" y="4931"/>
                  <a:pt x="10752" y="4935"/>
                  <a:pt x="10815" y="4961"/>
                </a:cubicBezTo>
                <a:cubicBezTo>
                  <a:pt x="10891" y="4992"/>
                  <a:pt x="10929" y="5031"/>
                  <a:pt x="10988" y="5085"/>
                </a:cubicBezTo>
                <a:cubicBezTo>
                  <a:pt x="11032" y="5126"/>
                  <a:pt x="11106" y="5192"/>
                  <a:pt x="11162" y="5209"/>
                </a:cubicBezTo>
                <a:cubicBezTo>
                  <a:pt x="11247" y="5235"/>
                  <a:pt x="11272" y="5227"/>
                  <a:pt x="11361" y="5283"/>
                </a:cubicBezTo>
                <a:cubicBezTo>
                  <a:pt x="11408" y="5313"/>
                  <a:pt x="11458" y="5350"/>
                  <a:pt x="11485" y="5383"/>
                </a:cubicBezTo>
                <a:cubicBezTo>
                  <a:pt x="11506" y="5426"/>
                  <a:pt x="11510" y="5438"/>
                  <a:pt x="11534" y="5457"/>
                </a:cubicBezTo>
                <a:cubicBezTo>
                  <a:pt x="11574" y="5408"/>
                  <a:pt x="11612" y="5385"/>
                  <a:pt x="11658" y="5333"/>
                </a:cubicBezTo>
                <a:cubicBezTo>
                  <a:pt x="11701" y="5284"/>
                  <a:pt x="11729" y="5230"/>
                  <a:pt x="11782" y="5184"/>
                </a:cubicBezTo>
                <a:cubicBezTo>
                  <a:pt x="11845" y="5129"/>
                  <a:pt x="11914" y="5065"/>
                  <a:pt x="11981" y="5011"/>
                </a:cubicBezTo>
                <a:cubicBezTo>
                  <a:pt x="12065" y="4944"/>
                  <a:pt x="12150" y="4883"/>
                  <a:pt x="12229" y="4812"/>
                </a:cubicBezTo>
                <a:cubicBezTo>
                  <a:pt x="12280" y="4766"/>
                  <a:pt x="12321" y="4709"/>
                  <a:pt x="12378" y="4663"/>
                </a:cubicBezTo>
                <a:cubicBezTo>
                  <a:pt x="12388" y="4655"/>
                  <a:pt x="12491" y="4544"/>
                  <a:pt x="12502" y="4539"/>
                </a:cubicBezTo>
                <a:cubicBezTo>
                  <a:pt x="12527" y="4539"/>
                  <a:pt x="12551" y="4539"/>
                  <a:pt x="12576" y="4539"/>
                </a:cubicBezTo>
                <a:cubicBezTo>
                  <a:pt x="12605" y="4499"/>
                  <a:pt x="12626" y="4460"/>
                  <a:pt x="12675" y="4415"/>
                </a:cubicBezTo>
                <a:cubicBezTo>
                  <a:pt x="12646" y="4349"/>
                  <a:pt x="12641" y="4337"/>
                  <a:pt x="12626" y="4266"/>
                </a:cubicBezTo>
                <a:cubicBezTo>
                  <a:pt x="12612" y="4200"/>
                  <a:pt x="12612" y="4136"/>
                  <a:pt x="12601" y="4068"/>
                </a:cubicBezTo>
                <a:cubicBezTo>
                  <a:pt x="12588" y="3990"/>
                  <a:pt x="12591" y="3900"/>
                  <a:pt x="12576" y="3820"/>
                </a:cubicBezTo>
                <a:cubicBezTo>
                  <a:pt x="12567" y="3773"/>
                  <a:pt x="12532" y="3702"/>
                  <a:pt x="12526" y="3646"/>
                </a:cubicBezTo>
                <a:cubicBezTo>
                  <a:pt x="12514" y="3543"/>
                  <a:pt x="12526" y="3448"/>
                  <a:pt x="12502" y="3349"/>
                </a:cubicBezTo>
                <a:cubicBezTo>
                  <a:pt x="12491" y="3304"/>
                  <a:pt x="12481" y="3277"/>
                  <a:pt x="12477" y="3225"/>
                </a:cubicBezTo>
                <a:cubicBezTo>
                  <a:pt x="12474" y="3176"/>
                  <a:pt x="12517" y="3154"/>
                  <a:pt x="12477" y="3125"/>
                </a:cubicBezTo>
                <a:cubicBezTo>
                  <a:pt x="12416" y="3105"/>
                  <a:pt x="12401" y="3108"/>
                  <a:pt x="12378" y="3076"/>
                </a:cubicBezTo>
              </a:path>
              <a:path w="3746" h="5309">
                <a:moveTo>
                  <a:pt x="11038" y="2183"/>
                </a:moveTo>
                <a:cubicBezTo>
                  <a:pt x="11051" y="2130"/>
                  <a:pt x="11121" y="2092"/>
                  <a:pt x="11162" y="2059"/>
                </a:cubicBezTo>
                <a:cubicBezTo>
                  <a:pt x="11245" y="1992"/>
                  <a:pt x="11385" y="1978"/>
                  <a:pt x="11460" y="1910"/>
                </a:cubicBezTo>
                <a:cubicBezTo>
                  <a:pt x="11522" y="1854"/>
                  <a:pt x="11565" y="1812"/>
                  <a:pt x="11633" y="1761"/>
                </a:cubicBezTo>
                <a:cubicBezTo>
                  <a:pt x="11651" y="1747"/>
                  <a:pt x="11788" y="1724"/>
                  <a:pt x="11757" y="1687"/>
                </a:cubicBezTo>
                <a:cubicBezTo>
                  <a:pt x="11741" y="1687"/>
                  <a:pt x="11724" y="1687"/>
                  <a:pt x="11708" y="1687"/>
                </a:cubicBezTo>
              </a:path>
              <a:path w="3746" h="5309">
                <a:moveTo>
                  <a:pt x="12378" y="1488"/>
                </a:moveTo>
                <a:cubicBezTo>
                  <a:pt x="12364" y="1453"/>
                  <a:pt x="12328" y="1325"/>
                  <a:pt x="12254" y="1364"/>
                </a:cubicBezTo>
                <a:cubicBezTo>
                  <a:pt x="12213" y="1386"/>
                  <a:pt x="12144" y="1468"/>
                  <a:pt x="12129" y="1513"/>
                </a:cubicBezTo>
                <a:cubicBezTo>
                  <a:pt x="12105" y="1585"/>
                  <a:pt x="12122" y="1726"/>
                  <a:pt x="12154" y="1786"/>
                </a:cubicBezTo>
                <a:cubicBezTo>
                  <a:pt x="12197" y="1867"/>
                  <a:pt x="12274" y="1845"/>
                  <a:pt x="12353" y="1811"/>
                </a:cubicBezTo>
                <a:cubicBezTo>
                  <a:pt x="12438" y="1775"/>
                  <a:pt x="12466" y="1784"/>
                  <a:pt x="12526" y="1712"/>
                </a:cubicBezTo>
                <a:cubicBezTo>
                  <a:pt x="12534" y="1704"/>
                  <a:pt x="12543" y="1695"/>
                  <a:pt x="12551" y="1687"/>
                </a:cubicBezTo>
              </a:path>
              <a:path w="3746" h="5309">
                <a:moveTo>
                  <a:pt x="12774" y="1290"/>
                </a:moveTo>
                <a:cubicBezTo>
                  <a:pt x="12774" y="1426"/>
                  <a:pt x="12756" y="1797"/>
                  <a:pt x="12774" y="1761"/>
                </a:cubicBezTo>
                <a:cubicBezTo>
                  <a:pt x="12782" y="1753"/>
                  <a:pt x="12791" y="1744"/>
                  <a:pt x="12799" y="1736"/>
                </a:cubicBezTo>
              </a:path>
              <a:path w="3746" h="5309">
                <a:moveTo>
                  <a:pt x="12973" y="1290"/>
                </a:moveTo>
                <a:cubicBezTo>
                  <a:pt x="12982" y="1351"/>
                  <a:pt x="12998" y="1373"/>
                  <a:pt x="12998" y="1439"/>
                </a:cubicBezTo>
                <a:cubicBezTo>
                  <a:pt x="12998" y="1523"/>
                  <a:pt x="13042" y="1555"/>
                  <a:pt x="13047" y="1637"/>
                </a:cubicBezTo>
                <a:cubicBezTo>
                  <a:pt x="13050" y="1695"/>
                  <a:pt x="13047" y="1753"/>
                  <a:pt x="13047" y="1811"/>
                </a:cubicBezTo>
              </a:path>
              <a:path w="3746" h="5309">
                <a:moveTo>
                  <a:pt x="12774" y="1612"/>
                </a:moveTo>
                <a:cubicBezTo>
                  <a:pt x="12843" y="1612"/>
                  <a:pt x="12886" y="1596"/>
                  <a:pt x="12948" y="1588"/>
                </a:cubicBezTo>
                <a:cubicBezTo>
                  <a:pt x="13018" y="1579"/>
                  <a:pt x="13018" y="1576"/>
                  <a:pt x="13072" y="1563"/>
                </a:cubicBezTo>
              </a:path>
              <a:path w="3746" h="5309">
                <a:moveTo>
                  <a:pt x="13320" y="1637"/>
                </a:moveTo>
                <a:cubicBezTo>
                  <a:pt x="13359" y="1580"/>
                  <a:pt x="13415" y="1550"/>
                  <a:pt x="13469" y="1637"/>
                </a:cubicBezTo>
                <a:cubicBezTo>
                  <a:pt x="13515" y="1711"/>
                  <a:pt x="13489" y="1751"/>
                  <a:pt x="13444" y="1811"/>
                </a:cubicBezTo>
                <a:cubicBezTo>
                  <a:pt x="13419" y="1836"/>
                  <a:pt x="13411" y="1844"/>
                  <a:pt x="13395" y="1860"/>
                </a:cubicBezTo>
                <a:cubicBezTo>
                  <a:pt x="13434" y="1850"/>
                  <a:pt x="13471" y="1820"/>
                  <a:pt x="13519" y="1836"/>
                </a:cubicBezTo>
                <a:cubicBezTo>
                  <a:pt x="13572" y="1853"/>
                  <a:pt x="13606" y="1897"/>
                  <a:pt x="13643" y="1935"/>
                </a:cubicBezTo>
                <a:cubicBezTo>
                  <a:pt x="13678" y="1970"/>
                  <a:pt x="13670" y="2074"/>
                  <a:pt x="13643" y="2108"/>
                </a:cubicBezTo>
                <a:cubicBezTo>
                  <a:pt x="13593" y="2172"/>
                  <a:pt x="13520" y="2183"/>
                  <a:pt x="13444" y="2183"/>
                </a:cubicBezTo>
                <a:cubicBezTo>
                  <a:pt x="13397" y="2183"/>
                  <a:pt x="13365" y="2163"/>
                  <a:pt x="13320" y="2158"/>
                </a:cubicBezTo>
                <a:cubicBezTo>
                  <a:pt x="13295" y="2158"/>
                  <a:pt x="13287" y="2158"/>
                  <a:pt x="13295" y="2133"/>
                </a:cubicBezTo>
              </a:path>
              <a:path w="3746" h="5309">
                <a:moveTo>
                  <a:pt x="12105" y="967"/>
                </a:moveTo>
                <a:cubicBezTo>
                  <a:pt x="12105" y="833"/>
                  <a:pt x="12094" y="690"/>
                  <a:pt x="12129" y="571"/>
                </a:cubicBezTo>
                <a:cubicBezTo>
                  <a:pt x="12146" y="514"/>
                  <a:pt x="12159" y="480"/>
                  <a:pt x="12179" y="422"/>
                </a:cubicBezTo>
                <a:cubicBezTo>
                  <a:pt x="12191" y="386"/>
                  <a:pt x="12226" y="334"/>
                  <a:pt x="12254" y="298"/>
                </a:cubicBezTo>
                <a:cubicBezTo>
                  <a:pt x="12300" y="240"/>
                  <a:pt x="12321" y="232"/>
                  <a:pt x="12378" y="198"/>
                </a:cubicBezTo>
                <a:cubicBezTo>
                  <a:pt x="12416" y="176"/>
                  <a:pt x="12462" y="161"/>
                  <a:pt x="12502" y="149"/>
                </a:cubicBezTo>
                <a:cubicBezTo>
                  <a:pt x="12564" y="130"/>
                  <a:pt x="12605" y="208"/>
                  <a:pt x="12626" y="248"/>
                </a:cubicBezTo>
                <a:cubicBezTo>
                  <a:pt x="12659" y="311"/>
                  <a:pt x="12718" y="349"/>
                  <a:pt x="12725" y="422"/>
                </a:cubicBezTo>
                <a:cubicBezTo>
                  <a:pt x="12731" y="478"/>
                  <a:pt x="12737" y="517"/>
                  <a:pt x="12750" y="571"/>
                </a:cubicBezTo>
                <a:cubicBezTo>
                  <a:pt x="12778" y="690"/>
                  <a:pt x="12750" y="845"/>
                  <a:pt x="12750" y="967"/>
                </a:cubicBezTo>
                <a:cubicBezTo>
                  <a:pt x="12702" y="933"/>
                  <a:pt x="12687" y="914"/>
                  <a:pt x="12650" y="868"/>
                </a:cubicBezTo>
              </a:path>
              <a:path w="3746" h="5309">
                <a:moveTo>
                  <a:pt x="12129" y="744"/>
                </a:moveTo>
                <a:cubicBezTo>
                  <a:pt x="12172" y="733"/>
                  <a:pt x="12206" y="703"/>
                  <a:pt x="12254" y="695"/>
                </a:cubicBezTo>
                <a:cubicBezTo>
                  <a:pt x="12440" y="663"/>
                  <a:pt x="12660" y="695"/>
                  <a:pt x="12849" y="695"/>
                </a:cubicBezTo>
                <a:cubicBezTo>
                  <a:pt x="12741" y="748"/>
                  <a:pt x="12753" y="741"/>
                  <a:pt x="12650" y="6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920" y="71280"/>
            <a:ext cx="2849400" cy="6759720"/>
          </a:xfrm>
          <a:custGeom>
            <a:avLst/>
            <a:gdLst/>
            <a:ahLst/>
            <a:rect l="l" t="t" r="r" b="b"/>
            <a:pathLst>
              <a:path w="7914" h="18779">
                <a:moveTo>
                  <a:pt x="620" y="10567"/>
                </a:moveTo>
                <a:lnTo>
                  <a:pt x="620" y="10567"/>
                </a:lnTo>
              </a:path>
              <a:path w="7914" h="18779">
                <a:moveTo>
                  <a:pt x="645" y="10616"/>
                </a:moveTo>
                <a:cubicBezTo>
                  <a:pt x="617" y="10589"/>
                  <a:pt x="591" y="10551"/>
                  <a:pt x="546" y="10567"/>
                </a:cubicBezTo>
                <a:cubicBezTo>
                  <a:pt x="481" y="10590"/>
                  <a:pt x="441" y="10676"/>
                  <a:pt x="422" y="10740"/>
                </a:cubicBezTo>
                <a:cubicBezTo>
                  <a:pt x="403" y="10802"/>
                  <a:pt x="379" y="10847"/>
                  <a:pt x="422" y="10914"/>
                </a:cubicBezTo>
                <a:cubicBezTo>
                  <a:pt x="470" y="10988"/>
                  <a:pt x="482" y="11005"/>
                  <a:pt x="546" y="11063"/>
                </a:cubicBezTo>
                <a:cubicBezTo>
                  <a:pt x="575" y="11089"/>
                  <a:pt x="632" y="11109"/>
                  <a:pt x="670" y="11112"/>
                </a:cubicBezTo>
                <a:cubicBezTo>
                  <a:pt x="743" y="11117"/>
                  <a:pt x="769" y="11113"/>
                  <a:pt x="819" y="11063"/>
                </a:cubicBezTo>
                <a:cubicBezTo>
                  <a:pt x="861" y="11020"/>
                  <a:pt x="928" y="10944"/>
                  <a:pt x="918" y="10889"/>
                </a:cubicBezTo>
                <a:cubicBezTo>
                  <a:pt x="910" y="10843"/>
                  <a:pt x="868" y="10788"/>
                  <a:pt x="843" y="10740"/>
                </a:cubicBezTo>
                <a:cubicBezTo>
                  <a:pt x="809" y="10676"/>
                  <a:pt x="822" y="10644"/>
                  <a:pt x="769" y="10592"/>
                </a:cubicBezTo>
              </a:path>
              <a:path w="7914" h="18779">
                <a:moveTo>
                  <a:pt x="1141" y="10641"/>
                </a:moveTo>
                <a:cubicBezTo>
                  <a:pt x="1141" y="10712"/>
                  <a:pt x="1162" y="10770"/>
                  <a:pt x="1166" y="10840"/>
                </a:cubicBezTo>
                <a:cubicBezTo>
                  <a:pt x="1173" y="10971"/>
                  <a:pt x="1166" y="11105"/>
                  <a:pt x="1166" y="11237"/>
                </a:cubicBezTo>
                <a:cubicBezTo>
                  <a:pt x="1166" y="11301"/>
                  <a:pt x="1166" y="11129"/>
                  <a:pt x="1166" y="11112"/>
                </a:cubicBezTo>
                <a:cubicBezTo>
                  <a:pt x="1166" y="11033"/>
                  <a:pt x="1124" y="10800"/>
                  <a:pt x="1191" y="10740"/>
                </a:cubicBezTo>
                <a:cubicBezTo>
                  <a:pt x="1212" y="10721"/>
                  <a:pt x="1299" y="10650"/>
                  <a:pt x="1339" y="10641"/>
                </a:cubicBezTo>
                <a:cubicBezTo>
                  <a:pt x="1407" y="10625"/>
                  <a:pt x="1458" y="10662"/>
                  <a:pt x="1513" y="10666"/>
                </a:cubicBezTo>
                <a:cubicBezTo>
                  <a:pt x="1598" y="10672"/>
                  <a:pt x="1558" y="10634"/>
                  <a:pt x="1538" y="10567"/>
                </a:cubicBezTo>
              </a:path>
              <a:path w="7914" h="18779">
                <a:moveTo>
                  <a:pt x="2009" y="10418"/>
                </a:moveTo>
                <a:cubicBezTo>
                  <a:pt x="2009" y="10504"/>
                  <a:pt x="1991" y="10584"/>
                  <a:pt x="1984" y="10666"/>
                </a:cubicBezTo>
                <a:cubicBezTo>
                  <a:pt x="1966" y="10889"/>
                  <a:pt x="1931" y="11520"/>
                  <a:pt x="2009" y="11311"/>
                </a:cubicBezTo>
                <a:cubicBezTo>
                  <a:pt x="2009" y="11294"/>
                  <a:pt x="2009" y="11278"/>
                  <a:pt x="2009" y="11261"/>
                </a:cubicBezTo>
              </a:path>
              <a:path w="7914" h="18779">
                <a:moveTo>
                  <a:pt x="1612" y="10964"/>
                </a:moveTo>
                <a:cubicBezTo>
                  <a:pt x="1682" y="10972"/>
                  <a:pt x="1740" y="10985"/>
                  <a:pt x="1811" y="10988"/>
                </a:cubicBezTo>
                <a:cubicBezTo>
                  <a:pt x="1934" y="10993"/>
                  <a:pt x="2069" y="10994"/>
                  <a:pt x="2183" y="10939"/>
                </a:cubicBezTo>
                <a:cubicBezTo>
                  <a:pt x="2302" y="10881"/>
                  <a:pt x="2368" y="10809"/>
                  <a:pt x="2456" y="10716"/>
                </a:cubicBezTo>
                <a:cubicBezTo>
                  <a:pt x="2514" y="10655"/>
                  <a:pt x="2551" y="10602"/>
                  <a:pt x="2555" y="10517"/>
                </a:cubicBezTo>
                <a:cubicBezTo>
                  <a:pt x="2559" y="10431"/>
                  <a:pt x="2537" y="10407"/>
                  <a:pt x="2480" y="10344"/>
                </a:cubicBezTo>
                <a:cubicBezTo>
                  <a:pt x="2472" y="10336"/>
                  <a:pt x="2464" y="10327"/>
                  <a:pt x="2456" y="10319"/>
                </a:cubicBezTo>
                <a:cubicBezTo>
                  <a:pt x="2396" y="10378"/>
                  <a:pt x="2384" y="10445"/>
                  <a:pt x="2381" y="10542"/>
                </a:cubicBezTo>
                <a:cubicBezTo>
                  <a:pt x="2373" y="10773"/>
                  <a:pt x="2381" y="11006"/>
                  <a:pt x="2381" y="11237"/>
                </a:cubicBezTo>
                <a:cubicBezTo>
                  <a:pt x="2359" y="11171"/>
                  <a:pt x="2356" y="11136"/>
                  <a:pt x="2356" y="11063"/>
                </a:cubicBezTo>
                <a:cubicBezTo>
                  <a:pt x="2356" y="10965"/>
                  <a:pt x="2414" y="10900"/>
                  <a:pt x="2480" y="10840"/>
                </a:cubicBezTo>
                <a:cubicBezTo>
                  <a:pt x="2531" y="10794"/>
                  <a:pt x="2578" y="10822"/>
                  <a:pt x="2629" y="10864"/>
                </a:cubicBezTo>
                <a:cubicBezTo>
                  <a:pt x="2680" y="10905"/>
                  <a:pt x="2740" y="10974"/>
                  <a:pt x="2753" y="11038"/>
                </a:cubicBezTo>
                <a:cubicBezTo>
                  <a:pt x="2761" y="11076"/>
                  <a:pt x="2753" y="11122"/>
                  <a:pt x="2753" y="11162"/>
                </a:cubicBezTo>
                <a:cubicBezTo>
                  <a:pt x="2797" y="11118"/>
                  <a:pt x="2835" y="11085"/>
                  <a:pt x="2853" y="11013"/>
                </a:cubicBezTo>
              </a:path>
              <a:path w="7914" h="18779">
                <a:moveTo>
                  <a:pt x="3150" y="10740"/>
                </a:moveTo>
                <a:cubicBezTo>
                  <a:pt x="3089" y="10696"/>
                  <a:pt x="3063" y="10728"/>
                  <a:pt x="3026" y="10790"/>
                </a:cubicBezTo>
                <a:cubicBezTo>
                  <a:pt x="2989" y="10853"/>
                  <a:pt x="2977" y="10893"/>
                  <a:pt x="2977" y="10964"/>
                </a:cubicBezTo>
                <a:cubicBezTo>
                  <a:pt x="2977" y="11062"/>
                  <a:pt x="2984" y="11026"/>
                  <a:pt x="3026" y="11112"/>
                </a:cubicBezTo>
                <a:cubicBezTo>
                  <a:pt x="3030" y="11120"/>
                  <a:pt x="3113" y="11207"/>
                  <a:pt x="3125" y="11212"/>
                </a:cubicBezTo>
                <a:cubicBezTo>
                  <a:pt x="3170" y="11231"/>
                  <a:pt x="3271" y="11194"/>
                  <a:pt x="3299" y="11162"/>
                </a:cubicBezTo>
                <a:cubicBezTo>
                  <a:pt x="3312" y="11147"/>
                  <a:pt x="3369" y="11067"/>
                  <a:pt x="3373" y="11038"/>
                </a:cubicBezTo>
                <a:cubicBezTo>
                  <a:pt x="3388" y="10937"/>
                  <a:pt x="3326" y="10921"/>
                  <a:pt x="3299" y="10840"/>
                </a:cubicBezTo>
                <a:cubicBezTo>
                  <a:pt x="3277" y="10773"/>
                  <a:pt x="3240" y="10727"/>
                  <a:pt x="3175" y="10716"/>
                </a:cubicBezTo>
                <a:cubicBezTo>
                  <a:pt x="3097" y="10703"/>
                  <a:pt x="3101" y="10779"/>
                  <a:pt x="3101" y="10666"/>
                </a:cubicBezTo>
              </a:path>
              <a:path w="7914" h="18779">
                <a:moveTo>
                  <a:pt x="4043" y="10765"/>
                </a:moveTo>
                <a:cubicBezTo>
                  <a:pt x="4003" y="10745"/>
                  <a:pt x="3987" y="10726"/>
                  <a:pt x="3994" y="10765"/>
                </a:cubicBezTo>
                <a:cubicBezTo>
                  <a:pt x="4015" y="10818"/>
                  <a:pt x="4062" y="10841"/>
                  <a:pt x="4093" y="10889"/>
                </a:cubicBezTo>
                <a:cubicBezTo>
                  <a:pt x="4129" y="10946"/>
                  <a:pt x="4152" y="11009"/>
                  <a:pt x="4192" y="11063"/>
                </a:cubicBezTo>
                <a:cubicBezTo>
                  <a:pt x="4225" y="11107"/>
                  <a:pt x="4275" y="11134"/>
                  <a:pt x="4316" y="11162"/>
                </a:cubicBezTo>
              </a:path>
              <a:path w="7914" h="18779">
                <a:moveTo>
                  <a:pt x="4217" y="10716"/>
                </a:moveTo>
                <a:cubicBezTo>
                  <a:pt x="4120" y="10729"/>
                  <a:pt x="4150" y="10767"/>
                  <a:pt x="4093" y="10840"/>
                </a:cubicBezTo>
                <a:cubicBezTo>
                  <a:pt x="4028" y="10923"/>
                  <a:pt x="3961" y="11006"/>
                  <a:pt x="3894" y="11088"/>
                </a:cubicBezTo>
                <a:cubicBezTo>
                  <a:pt x="3874" y="11113"/>
                  <a:pt x="3775" y="11193"/>
                  <a:pt x="3770" y="11212"/>
                </a:cubicBezTo>
                <a:cubicBezTo>
                  <a:pt x="3798" y="11212"/>
                  <a:pt x="3809" y="11210"/>
                  <a:pt x="3820" y="11187"/>
                </a:cubicBezTo>
              </a:path>
              <a:path w="7914" h="18779">
                <a:moveTo>
                  <a:pt x="4738" y="10765"/>
                </a:moveTo>
                <a:cubicBezTo>
                  <a:pt x="4709" y="10813"/>
                  <a:pt x="4713" y="10827"/>
                  <a:pt x="4713" y="10889"/>
                </a:cubicBezTo>
                <a:cubicBezTo>
                  <a:pt x="4713" y="10963"/>
                  <a:pt x="4697" y="10995"/>
                  <a:pt x="4688" y="11063"/>
                </a:cubicBezTo>
                <a:cubicBezTo>
                  <a:pt x="4683" y="11104"/>
                  <a:pt x="4687" y="11172"/>
                  <a:pt x="4738" y="11187"/>
                </a:cubicBezTo>
                <a:cubicBezTo>
                  <a:pt x="4808" y="11207"/>
                  <a:pt x="4861" y="11150"/>
                  <a:pt x="4911" y="11112"/>
                </a:cubicBezTo>
                <a:cubicBezTo>
                  <a:pt x="4957" y="11077"/>
                  <a:pt x="4984" y="11017"/>
                  <a:pt x="4986" y="10964"/>
                </a:cubicBezTo>
                <a:cubicBezTo>
                  <a:pt x="4990" y="10882"/>
                  <a:pt x="4986" y="10556"/>
                  <a:pt x="4986" y="10641"/>
                </a:cubicBezTo>
                <a:cubicBezTo>
                  <a:pt x="4986" y="10787"/>
                  <a:pt x="5011" y="10925"/>
                  <a:pt x="5060" y="11063"/>
                </a:cubicBezTo>
                <a:cubicBezTo>
                  <a:pt x="5121" y="11234"/>
                  <a:pt x="5155" y="11376"/>
                  <a:pt x="5159" y="11559"/>
                </a:cubicBezTo>
                <a:cubicBezTo>
                  <a:pt x="5162" y="11679"/>
                  <a:pt x="5139" y="11769"/>
                  <a:pt x="5060" y="11857"/>
                </a:cubicBezTo>
                <a:cubicBezTo>
                  <a:pt x="4995" y="11929"/>
                  <a:pt x="4953" y="11931"/>
                  <a:pt x="4862" y="11931"/>
                </a:cubicBezTo>
                <a:cubicBezTo>
                  <a:pt x="4795" y="11931"/>
                  <a:pt x="4708" y="11852"/>
                  <a:pt x="4688" y="11782"/>
                </a:cubicBezTo>
                <a:cubicBezTo>
                  <a:pt x="4673" y="11730"/>
                  <a:pt x="4688" y="11609"/>
                  <a:pt x="4688" y="11559"/>
                </a:cubicBezTo>
              </a:path>
              <a:path w="7914" h="18779">
                <a:moveTo>
                  <a:pt x="5407" y="10145"/>
                </a:moveTo>
                <a:cubicBezTo>
                  <a:pt x="5407" y="10274"/>
                  <a:pt x="5346" y="11059"/>
                  <a:pt x="5432" y="11088"/>
                </a:cubicBezTo>
              </a:path>
              <a:path w="7914" h="18779">
                <a:moveTo>
                  <a:pt x="5680" y="10864"/>
                </a:moveTo>
                <a:cubicBezTo>
                  <a:pt x="5730" y="10852"/>
                  <a:pt x="5745" y="10840"/>
                  <a:pt x="5804" y="10840"/>
                </a:cubicBezTo>
                <a:cubicBezTo>
                  <a:pt x="5844" y="10840"/>
                  <a:pt x="5897" y="10785"/>
                  <a:pt x="5879" y="10740"/>
                </a:cubicBezTo>
                <a:cubicBezTo>
                  <a:pt x="5867" y="10710"/>
                  <a:pt x="5770" y="10617"/>
                  <a:pt x="5730" y="10641"/>
                </a:cubicBezTo>
                <a:cubicBezTo>
                  <a:pt x="5667" y="10679"/>
                  <a:pt x="5619" y="10795"/>
                  <a:pt x="5606" y="10864"/>
                </a:cubicBezTo>
                <a:cubicBezTo>
                  <a:pt x="5594" y="10927"/>
                  <a:pt x="5604" y="11017"/>
                  <a:pt x="5655" y="11063"/>
                </a:cubicBezTo>
                <a:cubicBezTo>
                  <a:pt x="5712" y="11113"/>
                  <a:pt x="5787" y="11127"/>
                  <a:pt x="5854" y="11162"/>
                </a:cubicBezTo>
                <a:cubicBezTo>
                  <a:pt x="5956" y="11216"/>
                  <a:pt x="5921" y="11184"/>
                  <a:pt x="5978" y="11063"/>
                </a:cubicBezTo>
              </a:path>
              <a:path w="7914" h="18779">
                <a:moveTo>
                  <a:pt x="6028" y="10616"/>
                </a:moveTo>
                <a:cubicBezTo>
                  <a:pt x="6007" y="10707"/>
                  <a:pt x="6003" y="10771"/>
                  <a:pt x="6003" y="10864"/>
                </a:cubicBezTo>
                <a:cubicBezTo>
                  <a:pt x="6003" y="10947"/>
                  <a:pt x="6003" y="11029"/>
                  <a:pt x="6003" y="11112"/>
                </a:cubicBezTo>
                <a:cubicBezTo>
                  <a:pt x="6033" y="11044"/>
                  <a:pt x="6022" y="10984"/>
                  <a:pt x="6052" y="10914"/>
                </a:cubicBezTo>
                <a:cubicBezTo>
                  <a:pt x="6082" y="10841"/>
                  <a:pt x="6097" y="10767"/>
                  <a:pt x="6176" y="10740"/>
                </a:cubicBezTo>
                <a:cubicBezTo>
                  <a:pt x="6206" y="10730"/>
                  <a:pt x="6334" y="10783"/>
                  <a:pt x="6350" y="10815"/>
                </a:cubicBezTo>
                <a:cubicBezTo>
                  <a:pt x="6364" y="10842"/>
                  <a:pt x="6334" y="11183"/>
                  <a:pt x="6375" y="11162"/>
                </a:cubicBezTo>
                <a:cubicBezTo>
                  <a:pt x="6400" y="11145"/>
                  <a:pt x="6424" y="11129"/>
                  <a:pt x="6449" y="11112"/>
                </a:cubicBezTo>
              </a:path>
              <a:path w="7914" h="18779">
                <a:moveTo>
                  <a:pt x="6648" y="10914"/>
                </a:moveTo>
                <a:cubicBezTo>
                  <a:pt x="6660" y="10841"/>
                  <a:pt x="6669" y="10864"/>
                  <a:pt x="6747" y="10864"/>
                </a:cubicBezTo>
                <a:cubicBezTo>
                  <a:pt x="6836" y="10864"/>
                  <a:pt x="6846" y="10827"/>
                  <a:pt x="6871" y="10740"/>
                </a:cubicBezTo>
                <a:cubicBezTo>
                  <a:pt x="6893" y="10663"/>
                  <a:pt x="6820" y="10666"/>
                  <a:pt x="6772" y="10666"/>
                </a:cubicBezTo>
                <a:cubicBezTo>
                  <a:pt x="6708" y="10666"/>
                  <a:pt x="6694" y="10711"/>
                  <a:pt x="6648" y="10740"/>
                </a:cubicBezTo>
                <a:cubicBezTo>
                  <a:pt x="6595" y="10774"/>
                  <a:pt x="6555" y="10827"/>
                  <a:pt x="6548" y="10889"/>
                </a:cubicBezTo>
                <a:cubicBezTo>
                  <a:pt x="6537" y="10984"/>
                  <a:pt x="6551" y="10992"/>
                  <a:pt x="6598" y="11063"/>
                </a:cubicBezTo>
                <a:cubicBezTo>
                  <a:pt x="6639" y="11126"/>
                  <a:pt x="6718" y="11191"/>
                  <a:pt x="6796" y="11212"/>
                </a:cubicBezTo>
                <a:cubicBezTo>
                  <a:pt x="6871" y="11232"/>
                  <a:pt x="6983" y="11208"/>
                  <a:pt x="7045" y="11162"/>
                </a:cubicBezTo>
                <a:cubicBezTo>
                  <a:pt x="7095" y="11111"/>
                  <a:pt x="7111" y="11093"/>
                  <a:pt x="7094" y="11038"/>
                </a:cubicBezTo>
              </a:path>
              <a:path w="7914" h="18779">
                <a:moveTo>
                  <a:pt x="7888" y="198"/>
                </a:moveTo>
                <a:cubicBezTo>
                  <a:pt x="7879" y="292"/>
                  <a:pt x="7872" y="381"/>
                  <a:pt x="7863" y="471"/>
                </a:cubicBezTo>
                <a:cubicBezTo>
                  <a:pt x="7855" y="553"/>
                  <a:pt x="7854" y="624"/>
                  <a:pt x="7838" y="695"/>
                </a:cubicBezTo>
                <a:cubicBezTo>
                  <a:pt x="7826" y="748"/>
                  <a:pt x="7762" y="841"/>
                  <a:pt x="7764" y="893"/>
                </a:cubicBezTo>
                <a:cubicBezTo>
                  <a:pt x="7766" y="944"/>
                  <a:pt x="7719" y="954"/>
                  <a:pt x="7739" y="1017"/>
                </a:cubicBezTo>
                <a:cubicBezTo>
                  <a:pt x="7764" y="1095"/>
                  <a:pt x="7892" y="1099"/>
                  <a:pt x="7913" y="1166"/>
                </a:cubicBezTo>
                <a:cubicBezTo>
                  <a:pt x="7934" y="1233"/>
                  <a:pt x="7949" y="1290"/>
                  <a:pt x="7962" y="1364"/>
                </a:cubicBezTo>
                <a:cubicBezTo>
                  <a:pt x="8000" y="1572"/>
                  <a:pt x="7934" y="1787"/>
                  <a:pt x="7938" y="1984"/>
                </a:cubicBezTo>
                <a:cubicBezTo>
                  <a:pt x="7940" y="2061"/>
                  <a:pt x="7960" y="2127"/>
                  <a:pt x="7962" y="2208"/>
                </a:cubicBezTo>
                <a:cubicBezTo>
                  <a:pt x="7966" y="2413"/>
                  <a:pt x="7959" y="2589"/>
                  <a:pt x="8012" y="2778"/>
                </a:cubicBezTo>
                <a:cubicBezTo>
                  <a:pt x="8032" y="2848"/>
                  <a:pt x="8061" y="2909"/>
                  <a:pt x="8086" y="2977"/>
                </a:cubicBezTo>
                <a:cubicBezTo>
                  <a:pt x="8112" y="3046"/>
                  <a:pt x="8145" y="3104"/>
                  <a:pt x="8161" y="3175"/>
                </a:cubicBezTo>
                <a:cubicBezTo>
                  <a:pt x="8197" y="3332"/>
                  <a:pt x="8199" y="3539"/>
                  <a:pt x="8161" y="3696"/>
                </a:cubicBezTo>
                <a:cubicBezTo>
                  <a:pt x="8143" y="3769"/>
                  <a:pt x="8109" y="3846"/>
                  <a:pt x="8086" y="3919"/>
                </a:cubicBezTo>
                <a:cubicBezTo>
                  <a:pt x="8061" y="3997"/>
                  <a:pt x="8027" y="4063"/>
                  <a:pt x="8012" y="4142"/>
                </a:cubicBezTo>
                <a:cubicBezTo>
                  <a:pt x="7994" y="4232"/>
                  <a:pt x="7988" y="4322"/>
                  <a:pt x="7987" y="4415"/>
                </a:cubicBezTo>
                <a:cubicBezTo>
                  <a:pt x="7986" y="4553"/>
                  <a:pt x="8010" y="4659"/>
                  <a:pt x="8037" y="4787"/>
                </a:cubicBezTo>
                <a:cubicBezTo>
                  <a:pt x="8047" y="4836"/>
                  <a:pt x="8110" y="4935"/>
                  <a:pt x="8111" y="4986"/>
                </a:cubicBezTo>
                <a:cubicBezTo>
                  <a:pt x="8112" y="5097"/>
                  <a:pt x="8065" y="5186"/>
                  <a:pt x="8062" y="5283"/>
                </a:cubicBezTo>
                <a:cubicBezTo>
                  <a:pt x="8053" y="5549"/>
                  <a:pt x="8035" y="5833"/>
                  <a:pt x="8062" y="6077"/>
                </a:cubicBezTo>
                <a:cubicBezTo>
                  <a:pt x="8069" y="6138"/>
                  <a:pt x="8083" y="6199"/>
                  <a:pt x="8086" y="6251"/>
                </a:cubicBezTo>
                <a:cubicBezTo>
                  <a:pt x="8090" y="6323"/>
                  <a:pt x="8124" y="6340"/>
                  <a:pt x="8111" y="6424"/>
                </a:cubicBezTo>
                <a:cubicBezTo>
                  <a:pt x="8103" y="6472"/>
                  <a:pt x="8047" y="6520"/>
                  <a:pt x="8037" y="6573"/>
                </a:cubicBezTo>
                <a:cubicBezTo>
                  <a:pt x="8025" y="6636"/>
                  <a:pt x="7995" y="6680"/>
                  <a:pt x="7987" y="6747"/>
                </a:cubicBezTo>
                <a:cubicBezTo>
                  <a:pt x="7960" y="6977"/>
                  <a:pt x="8012" y="7197"/>
                  <a:pt x="8037" y="7417"/>
                </a:cubicBezTo>
                <a:cubicBezTo>
                  <a:pt x="8046" y="7493"/>
                  <a:pt x="8058" y="7562"/>
                  <a:pt x="8062" y="7640"/>
                </a:cubicBezTo>
                <a:cubicBezTo>
                  <a:pt x="8080" y="7972"/>
                  <a:pt x="7928" y="8122"/>
                  <a:pt x="7888" y="8384"/>
                </a:cubicBezTo>
                <a:cubicBezTo>
                  <a:pt x="7864" y="8539"/>
                  <a:pt x="7941" y="8643"/>
                  <a:pt x="7962" y="8781"/>
                </a:cubicBezTo>
                <a:cubicBezTo>
                  <a:pt x="7971" y="8840"/>
                  <a:pt x="7982" y="8874"/>
                  <a:pt x="7987" y="8930"/>
                </a:cubicBezTo>
                <a:cubicBezTo>
                  <a:pt x="8002" y="9094"/>
                  <a:pt x="8001" y="9226"/>
                  <a:pt x="8037" y="9376"/>
                </a:cubicBezTo>
                <a:cubicBezTo>
                  <a:pt x="8056" y="9458"/>
                  <a:pt x="8110" y="9532"/>
                  <a:pt x="8111" y="9624"/>
                </a:cubicBezTo>
                <a:cubicBezTo>
                  <a:pt x="8112" y="9741"/>
                  <a:pt x="8066" y="9833"/>
                  <a:pt x="8062" y="9947"/>
                </a:cubicBezTo>
                <a:cubicBezTo>
                  <a:pt x="8053" y="10182"/>
                  <a:pt x="8116" y="10439"/>
                  <a:pt x="8086" y="10666"/>
                </a:cubicBezTo>
                <a:cubicBezTo>
                  <a:pt x="8075" y="10751"/>
                  <a:pt x="8028" y="10828"/>
                  <a:pt x="8012" y="10914"/>
                </a:cubicBezTo>
                <a:cubicBezTo>
                  <a:pt x="7981" y="11078"/>
                  <a:pt x="7933" y="11229"/>
                  <a:pt x="7987" y="11385"/>
                </a:cubicBezTo>
                <a:cubicBezTo>
                  <a:pt x="8015" y="11442"/>
                  <a:pt x="8031" y="11461"/>
                  <a:pt x="8086" y="11460"/>
                </a:cubicBezTo>
                <a:cubicBezTo>
                  <a:pt x="8055" y="11544"/>
                  <a:pt x="8017" y="11621"/>
                  <a:pt x="7987" y="11708"/>
                </a:cubicBezTo>
                <a:cubicBezTo>
                  <a:pt x="7963" y="11777"/>
                  <a:pt x="7915" y="11882"/>
                  <a:pt x="7913" y="11956"/>
                </a:cubicBezTo>
                <a:cubicBezTo>
                  <a:pt x="7909" y="12070"/>
                  <a:pt x="7959" y="12127"/>
                  <a:pt x="7962" y="12229"/>
                </a:cubicBezTo>
                <a:cubicBezTo>
                  <a:pt x="7966" y="12338"/>
                  <a:pt x="7931" y="12416"/>
                  <a:pt x="7962" y="12526"/>
                </a:cubicBezTo>
                <a:cubicBezTo>
                  <a:pt x="8001" y="12662"/>
                  <a:pt x="8105" y="12785"/>
                  <a:pt x="8136" y="12923"/>
                </a:cubicBezTo>
                <a:cubicBezTo>
                  <a:pt x="8147" y="12972"/>
                  <a:pt x="8153" y="13054"/>
                  <a:pt x="8161" y="13097"/>
                </a:cubicBezTo>
                <a:cubicBezTo>
                  <a:pt x="8178" y="13185"/>
                  <a:pt x="8181" y="13287"/>
                  <a:pt x="8186" y="13370"/>
                </a:cubicBezTo>
                <a:cubicBezTo>
                  <a:pt x="8215" y="13821"/>
                  <a:pt x="8133" y="14314"/>
                  <a:pt x="8235" y="14734"/>
                </a:cubicBezTo>
                <a:cubicBezTo>
                  <a:pt x="8252" y="14805"/>
                  <a:pt x="8312" y="14835"/>
                  <a:pt x="8310" y="14908"/>
                </a:cubicBezTo>
                <a:cubicBezTo>
                  <a:pt x="8307" y="15051"/>
                  <a:pt x="8260" y="15060"/>
                  <a:pt x="8210" y="15180"/>
                </a:cubicBezTo>
                <a:cubicBezTo>
                  <a:pt x="8183" y="15244"/>
                  <a:pt x="8138" y="15262"/>
                  <a:pt x="8111" y="15329"/>
                </a:cubicBezTo>
                <a:cubicBezTo>
                  <a:pt x="8090" y="15381"/>
                  <a:pt x="8055" y="15443"/>
                  <a:pt x="8037" y="15503"/>
                </a:cubicBezTo>
                <a:cubicBezTo>
                  <a:pt x="8026" y="15541"/>
                  <a:pt x="8048" y="15589"/>
                  <a:pt x="8037" y="15627"/>
                </a:cubicBezTo>
              </a:path>
              <a:path w="7914" h="18779">
                <a:moveTo>
                  <a:pt x="7987" y="15602"/>
                </a:moveTo>
                <a:cubicBezTo>
                  <a:pt x="8000" y="15671"/>
                  <a:pt x="8004" y="15704"/>
                  <a:pt x="7987" y="15776"/>
                </a:cubicBezTo>
                <a:cubicBezTo>
                  <a:pt x="7959" y="15889"/>
                  <a:pt x="7905" y="16008"/>
                  <a:pt x="7888" y="16123"/>
                </a:cubicBezTo>
                <a:cubicBezTo>
                  <a:pt x="7871" y="16237"/>
                  <a:pt x="7891" y="16276"/>
                  <a:pt x="7938" y="16346"/>
                </a:cubicBezTo>
                <a:cubicBezTo>
                  <a:pt x="7977" y="16404"/>
                  <a:pt x="8013" y="16392"/>
                  <a:pt x="8062" y="16446"/>
                </a:cubicBezTo>
                <a:cubicBezTo>
                  <a:pt x="8098" y="16485"/>
                  <a:pt x="8152" y="16565"/>
                  <a:pt x="8161" y="16619"/>
                </a:cubicBezTo>
                <a:cubicBezTo>
                  <a:pt x="8179" y="16724"/>
                  <a:pt x="8163" y="16845"/>
                  <a:pt x="8136" y="16942"/>
                </a:cubicBezTo>
                <a:cubicBezTo>
                  <a:pt x="8118" y="17006"/>
                  <a:pt x="8127" y="17076"/>
                  <a:pt x="8111" y="17140"/>
                </a:cubicBezTo>
                <a:cubicBezTo>
                  <a:pt x="8090" y="17222"/>
                  <a:pt x="8081" y="17305"/>
                  <a:pt x="8062" y="17388"/>
                </a:cubicBezTo>
                <a:cubicBezTo>
                  <a:pt x="8045" y="17462"/>
                  <a:pt x="8039" y="17511"/>
                  <a:pt x="8037" y="17587"/>
                </a:cubicBezTo>
                <a:cubicBezTo>
                  <a:pt x="8029" y="17899"/>
                  <a:pt x="8024" y="18226"/>
                  <a:pt x="8062" y="18529"/>
                </a:cubicBezTo>
                <a:cubicBezTo>
                  <a:pt x="8079" y="18662"/>
                  <a:pt x="8057" y="18801"/>
                  <a:pt x="8037" y="18926"/>
                </a:cubicBezTo>
                <a:cubicBezTo>
                  <a:pt x="8037" y="18943"/>
                  <a:pt x="8037" y="18959"/>
                  <a:pt x="8037" y="18976"/>
                </a:cubicBezTo>
                <a:cubicBezTo>
                  <a:pt x="8010" y="18896"/>
                  <a:pt x="8018" y="18900"/>
                  <a:pt x="8037" y="18827"/>
                </a:cubicBezTo>
                <a:cubicBezTo>
                  <a:pt x="8045" y="18802"/>
                  <a:pt x="8054" y="18777"/>
                  <a:pt x="8062" y="187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46640" y="3616200"/>
            <a:ext cx="2277720" cy="625680"/>
          </a:xfrm>
          <a:custGeom>
            <a:avLst/>
            <a:gdLst/>
            <a:ahLst/>
            <a:rect l="l" t="t" r="r" b="b"/>
            <a:pathLst>
              <a:path w="6326" h="1737">
                <a:moveTo>
                  <a:pt x="9575" y="10691"/>
                </a:moveTo>
                <a:cubicBezTo>
                  <a:pt x="9575" y="10683"/>
                  <a:pt x="9575" y="10674"/>
                  <a:pt x="9575" y="10666"/>
                </a:cubicBezTo>
                <a:cubicBezTo>
                  <a:pt x="9575" y="10542"/>
                  <a:pt x="9591" y="10738"/>
                  <a:pt x="9599" y="10765"/>
                </a:cubicBezTo>
                <a:cubicBezTo>
                  <a:pt x="9630" y="10866"/>
                  <a:pt x="9649" y="10933"/>
                  <a:pt x="9649" y="11038"/>
                </a:cubicBezTo>
                <a:cubicBezTo>
                  <a:pt x="9649" y="11102"/>
                  <a:pt x="9624" y="11146"/>
                  <a:pt x="9624" y="11212"/>
                </a:cubicBezTo>
                <a:cubicBezTo>
                  <a:pt x="9624" y="11072"/>
                  <a:pt x="9579" y="10869"/>
                  <a:pt x="9674" y="10765"/>
                </a:cubicBezTo>
                <a:cubicBezTo>
                  <a:pt x="9697" y="10740"/>
                  <a:pt x="9763" y="10707"/>
                  <a:pt x="9798" y="10716"/>
                </a:cubicBezTo>
                <a:cubicBezTo>
                  <a:pt x="9895" y="10741"/>
                  <a:pt x="9908" y="10801"/>
                  <a:pt x="9922" y="10889"/>
                </a:cubicBezTo>
                <a:cubicBezTo>
                  <a:pt x="9932" y="10951"/>
                  <a:pt x="9922" y="11025"/>
                  <a:pt x="9922" y="11088"/>
                </a:cubicBezTo>
                <a:cubicBezTo>
                  <a:pt x="9846" y="11111"/>
                  <a:pt x="9938" y="10997"/>
                  <a:pt x="9947" y="10939"/>
                </a:cubicBezTo>
                <a:cubicBezTo>
                  <a:pt x="9966" y="10815"/>
                  <a:pt x="9969" y="10722"/>
                  <a:pt x="10046" y="10616"/>
                </a:cubicBezTo>
                <a:cubicBezTo>
                  <a:pt x="10069" y="10594"/>
                  <a:pt x="10074" y="10586"/>
                  <a:pt x="10096" y="10592"/>
                </a:cubicBezTo>
                <a:cubicBezTo>
                  <a:pt x="10165" y="10681"/>
                  <a:pt x="10171" y="10765"/>
                  <a:pt x="10220" y="10864"/>
                </a:cubicBezTo>
                <a:cubicBezTo>
                  <a:pt x="10255" y="10936"/>
                  <a:pt x="10244" y="11009"/>
                  <a:pt x="10244" y="11088"/>
                </a:cubicBezTo>
                <a:cubicBezTo>
                  <a:pt x="10244" y="11142"/>
                  <a:pt x="10247" y="11160"/>
                  <a:pt x="10269" y="11212"/>
                </a:cubicBezTo>
              </a:path>
              <a:path w="6326" h="1737">
                <a:moveTo>
                  <a:pt x="10443" y="10790"/>
                </a:moveTo>
                <a:cubicBezTo>
                  <a:pt x="10475" y="10810"/>
                  <a:pt x="10523" y="10831"/>
                  <a:pt x="10567" y="10815"/>
                </a:cubicBezTo>
                <a:cubicBezTo>
                  <a:pt x="10637" y="10790"/>
                  <a:pt x="10661" y="10771"/>
                  <a:pt x="10716" y="10716"/>
                </a:cubicBezTo>
                <a:cubicBezTo>
                  <a:pt x="10762" y="10670"/>
                  <a:pt x="10701" y="10624"/>
                  <a:pt x="10666" y="10592"/>
                </a:cubicBezTo>
                <a:cubicBezTo>
                  <a:pt x="10605" y="10535"/>
                  <a:pt x="10546" y="10518"/>
                  <a:pt x="10468" y="10567"/>
                </a:cubicBezTo>
                <a:cubicBezTo>
                  <a:pt x="10429" y="10592"/>
                  <a:pt x="10420" y="10696"/>
                  <a:pt x="10418" y="10740"/>
                </a:cubicBezTo>
                <a:cubicBezTo>
                  <a:pt x="10413" y="10823"/>
                  <a:pt x="10421" y="10916"/>
                  <a:pt x="10468" y="10988"/>
                </a:cubicBezTo>
                <a:cubicBezTo>
                  <a:pt x="10515" y="11059"/>
                  <a:pt x="10609" y="11122"/>
                  <a:pt x="10691" y="11137"/>
                </a:cubicBezTo>
                <a:cubicBezTo>
                  <a:pt x="10796" y="11156"/>
                  <a:pt x="10891" y="11120"/>
                  <a:pt x="10988" y="11088"/>
                </a:cubicBezTo>
              </a:path>
              <a:path w="6326" h="1737">
                <a:moveTo>
                  <a:pt x="11212" y="10046"/>
                </a:moveTo>
                <a:cubicBezTo>
                  <a:pt x="11212" y="10191"/>
                  <a:pt x="11225" y="10326"/>
                  <a:pt x="11237" y="10468"/>
                </a:cubicBezTo>
                <a:cubicBezTo>
                  <a:pt x="11253" y="10655"/>
                  <a:pt x="11237" y="10850"/>
                  <a:pt x="11237" y="11038"/>
                </a:cubicBezTo>
              </a:path>
              <a:path w="6326" h="1737">
                <a:moveTo>
                  <a:pt x="11063" y="10740"/>
                </a:moveTo>
                <a:cubicBezTo>
                  <a:pt x="11078" y="10697"/>
                  <a:pt x="11135" y="10716"/>
                  <a:pt x="11187" y="10716"/>
                </a:cubicBezTo>
                <a:cubicBezTo>
                  <a:pt x="11264" y="10716"/>
                  <a:pt x="11315" y="10723"/>
                  <a:pt x="11385" y="10740"/>
                </a:cubicBezTo>
                <a:cubicBezTo>
                  <a:pt x="11427" y="10740"/>
                  <a:pt x="11452" y="10740"/>
                  <a:pt x="11485" y="10740"/>
                </a:cubicBezTo>
              </a:path>
              <a:path w="6326" h="1737">
                <a:moveTo>
                  <a:pt x="11757" y="10666"/>
                </a:moveTo>
                <a:cubicBezTo>
                  <a:pt x="11684" y="10602"/>
                  <a:pt x="11639" y="10607"/>
                  <a:pt x="11559" y="10691"/>
                </a:cubicBezTo>
                <a:cubicBezTo>
                  <a:pt x="11520" y="10732"/>
                  <a:pt x="11494" y="10811"/>
                  <a:pt x="11485" y="10864"/>
                </a:cubicBezTo>
                <a:cubicBezTo>
                  <a:pt x="11471" y="10951"/>
                  <a:pt x="11510" y="10965"/>
                  <a:pt x="11534" y="11038"/>
                </a:cubicBezTo>
                <a:cubicBezTo>
                  <a:pt x="11534" y="11073"/>
                  <a:pt x="11543" y="11086"/>
                  <a:pt x="11584" y="11088"/>
                </a:cubicBezTo>
                <a:cubicBezTo>
                  <a:pt x="11628" y="11061"/>
                  <a:pt x="11684" y="10998"/>
                  <a:pt x="11708" y="10939"/>
                </a:cubicBezTo>
                <a:cubicBezTo>
                  <a:pt x="11734" y="10876"/>
                  <a:pt x="11778" y="10783"/>
                  <a:pt x="11782" y="10716"/>
                </a:cubicBezTo>
                <a:cubicBezTo>
                  <a:pt x="11782" y="10699"/>
                  <a:pt x="11782" y="10683"/>
                  <a:pt x="11782" y="10666"/>
                </a:cubicBezTo>
                <a:cubicBezTo>
                  <a:pt x="11766" y="10708"/>
                  <a:pt x="11740" y="10767"/>
                  <a:pt x="11757" y="10815"/>
                </a:cubicBezTo>
                <a:cubicBezTo>
                  <a:pt x="11782" y="10883"/>
                  <a:pt x="11832" y="10921"/>
                  <a:pt x="11881" y="10964"/>
                </a:cubicBezTo>
                <a:cubicBezTo>
                  <a:pt x="11929" y="11006"/>
                  <a:pt x="11991" y="11051"/>
                  <a:pt x="12055" y="10988"/>
                </a:cubicBezTo>
                <a:cubicBezTo>
                  <a:pt x="12079" y="10940"/>
                  <a:pt x="12088" y="10926"/>
                  <a:pt x="12080" y="10889"/>
                </a:cubicBezTo>
              </a:path>
              <a:path w="6326" h="1737">
                <a:moveTo>
                  <a:pt x="12626" y="10641"/>
                </a:moveTo>
                <a:cubicBezTo>
                  <a:pt x="12598" y="10641"/>
                  <a:pt x="12587" y="10639"/>
                  <a:pt x="12576" y="10616"/>
                </a:cubicBezTo>
                <a:cubicBezTo>
                  <a:pt x="12662" y="10633"/>
                  <a:pt x="12691" y="10678"/>
                  <a:pt x="12700" y="10765"/>
                </a:cubicBezTo>
                <a:cubicBezTo>
                  <a:pt x="12708" y="10842"/>
                  <a:pt x="12690" y="10900"/>
                  <a:pt x="12725" y="10964"/>
                </a:cubicBezTo>
                <a:cubicBezTo>
                  <a:pt x="12758" y="11025"/>
                  <a:pt x="12807" y="11082"/>
                  <a:pt x="12849" y="11137"/>
                </a:cubicBezTo>
                <a:cubicBezTo>
                  <a:pt x="12907" y="11214"/>
                  <a:pt x="12985" y="11246"/>
                  <a:pt x="12998" y="11137"/>
                </a:cubicBezTo>
                <a:cubicBezTo>
                  <a:pt x="12998" y="11121"/>
                  <a:pt x="12998" y="11104"/>
                  <a:pt x="12998" y="11088"/>
                </a:cubicBezTo>
              </a:path>
              <a:path w="6326" h="1737">
                <a:moveTo>
                  <a:pt x="12898" y="10592"/>
                </a:moveTo>
                <a:cubicBezTo>
                  <a:pt x="12839" y="10631"/>
                  <a:pt x="12815" y="10700"/>
                  <a:pt x="12774" y="10765"/>
                </a:cubicBezTo>
                <a:cubicBezTo>
                  <a:pt x="12711" y="10865"/>
                  <a:pt x="12621" y="10943"/>
                  <a:pt x="12551" y="11038"/>
                </a:cubicBezTo>
                <a:cubicBezTo>
                  <a:pt x="12517" y="11084"/>
                  <a:pt x="12465" y="11136"/>
                  <a:pt x="12452" y="11187"/>
                </a:cubicBezTo>
                <a:cubicBezTo>
                  <a:pt x="12504" y="11187"/>
                  <a:pt x="12521" y="11185"/>
                  <a:pt x="12526" y="11137"/>
                </a:cubicBezTo>
              </a:path>
              <a:path w="6326" h="1737">
                <a:moveTo>
                  <a:pt x="13295" y="10716"/>
                </a:moveTo>
                <a:cubicBezTo>
                  <a:pt x="13346" y="10682"/>
                  <a:pt x="13298" y="10753"/>
                  <a:pt x="13295" y="10815"/>
                </a:cubicBezTo>
                <a:cubicBezTo>
                  <a:pt x="13291" y="10885"/>
                  <a:pt x="13297" y="10932"/>
                  <a:pt x="13320" y="10988"/>
                </a:cubicBezTo>
                <a:cubicBezTo>
                  <a:pt x="13359" y="11085"/>
                  <a:pt x="13334" y="11042"/>
                  <a:pt x="13395" y="11088"/>
                </a:cubicBezTo>
                <a:cubicBezTo>
                  <a:pt x="13466" y="11034"/>
                  <a:pt x="13527" y="10959"/>
                  <a:pt x="13543" y="10864"/>
                </a:cubicBezTo>
                <a:cubicBezTo>
                  <a:pt x="13557" y="10781"/>
                  <a:pt x="13523" y="10719"/>
                  <a:pt x="13519" y="10641"/>
                </a:cubicBezTo>
                <a:cubicBezTo>
                  <a:pt x="13512" y="10517"/>
                  <a:pt x="13538" y="10701"/>
                  <a:pt x="13543" y="10716"/>
                </a:cubicBezTo>
                <a:cubicBezTo>
                  <a:pt x="13592" y="10870"/>
                  <a:pt x="13665" y="11029"/>
                  <a:pt x="13692" y="11187"/>
                </a:cubicBezTo>
                <a:cubicBezTo>
                  <a:pt x="13715" y="11325"/>
                  <a:pt x="13701" y="11498"/>
                  <a:pt x="13667" y="11633"/>
                </a:cubicBezTo>
                <a:cubicBezTo>
                  <a:pt x="13650" y="11699"/>
                  <a:pt x="13628" y="11757"/>
                  <a:pt x="13568" y="11782"/>
                </a:cubicBezTo>
                <a:cubicBezTo>
                  <a:pt x="13524" y="11800"/>
                  <a:pt x="13429" y="11789"/>
                  <a:pt x="13395" y="11757"/>
                </a:cubicBezTo>
                <a:cubicBezTo>
                  <a:pt x="13295" y="11662"/>
                  <a:pt x="13273" y="11540"/>
                  <a:pt x="13271" y="11410"/>
                </a:cubicBezTo>
                <a:cubicBezTo>
                  <a:pt x="13271" y="11352"/>
                  <a:pt x="13271" y="11295"/>
                  <a:pt x="13271" y="11237"/>
                </a:cubicBezTo>
              </a:path>
              <a:path w="6326" h="1737">
                <a:moveTo>
                  <a:pt x="13891" y="10071"/>
                </a:moveTo>
                <a:cubicBezTo>
                  <a:pt x="13913" y="10175"/>
                  <a:pt x="13915" y="10261"/>
                  <a:pt x="13915" y="10368"/>
                </a:cubicBezTo>
                <a:cubicBezTo>
                  <a:pt x="13915" y="10493"/>
                  <a:pt x="13891" y="10613"/>
                  <a:pt x="13891" y="10740"/>
                </a:cubicBezTo>
                <a:cubicBezTo>
                  <a:pt x="13891" y="10764"/>
                  <a:pt x="13886" y="11073"/>
                  <a:pt x="13940" y="10964"/>
                </a:cubicBezTo>
                <a:cubicBezTo>
                  <a:pt x="13940" y="10947"/>
                  <a:pt x="13940" y="10931"/>
                  <a:pt x="13940" y="10914"/>
                </a:cubicBezTo>
              </a:path>
              <a:path w="6326" h="1737">
                <a:moveTo>
                  <a:pt x="14163" y="10765"/>
                </a:moveTo>
                <a:cubicBezTo>
                  <a:pt x="14253" y="10765"/>
                  <a:pt x="14350" y="10793"/>
                  <a:pt x="14412" y="10716"/>
                </a:cubicBezTo>
                <a:cubicBezTo>
                  <a:pt x="14460" y="10656"/>
                  <a:pt x="14441" y="10586"/>
                  <a:pt x="14387" y="10542"/>
                </a:cubicBezTo>
                <a:cubicBezTo>
                  <a:pt x="14317" y="10485"/>
                  <a:pt x="14231" y="10510"/>
                  <a:pt x="14188" y="10567"/>
                </a:cubicBezTo>
                <a:cubicBezTo>
                  <a:pt x="14121" y="10655"/>
                  <a:pt x="14094" y="10731"/>
                  <a:pt x="14089" y="10840"/>
                </a:cubicBezTo>
                <a:cubicBezTo>
                  <a:pt x="14086" y="10896"/>
                  <a:pt x="14078" y="10981"/>
                  <a:pt x="14139" y="11013"/>
                </a:cubicBezTo>
                <a:cubicBezTo>
                  <a:pt x="14201" y="11046"/>
                  <a:pt x="14314" y="11084"/>
                  <a:pt x="14387" y="11063"/>
                </a:cubicBezTo>
                <a:cubicBezTo>
                  <a:pt x="14441" y="11036"/>
                  <a:pt x="14461" y="11024"/>
                  <a:pt x="14486" y="10988"/>
                </a:cubicBezTo>
              </a:path>
              <a:path w="6326" h="1737">
                <a:moveTo>
                  <a:pt x="14684" y="10517"/>
                </a:moveTo>
                <a:cubicBezTo>
                  <a:pt x="14684" y="10682"/>
                  <a:pt x="14684" y="10848"/>
                  <a:pt x="14684" y="11013"/>
                </a:cubicBezTo>
                <a:cubicBezTo>
                  <a:pt x="14717" y="10997"/>
                  <a:pt x="14772" y="10938"/>
                  <a:pt x="14784" y="10889"/>
                </a:cubicBezTo>
                <a:cubicBezTo>
                  <a:pt x="14801" y="10820"/>
                  <a:pt x="14844" y="10740"/>
                  <a:pt x="14908" y="10691"/>
                </a:cubicBezTo>
                <a:cubicBezTo>
                  <a:pt x="14935" y="10670"/>
                  <a:pt x="15064" y="10563"/>
                  <a:pt x="15106" y="10616"/>
                </a:cubicBezTo>
                <a:cubicBezTo>
                  <a:pt x="15146" y="10666"/>
                  <a:pt x="15109" y="10755"/>
                  <a:pt x="15106" y="10815"/>
                </a:cubicBezTo>
                <a:cubicBezTo>
                  <a:pt x="15102" y="10885"/>
                  <a:pt x="15082" y="11121"/>
                  <a:pt x="15131" y="11137"/>
                </a:cubicBezTo>
              </a:path>
              <a:path w="6326" h="1737">
                <a:moveTo>
                  <a:pt x="15379" y="10790"/>
                </a:moveTo>
                <a:cubicBezTo>
                  <a:pt x="15425" y="10778"/>
                  <a:pt x="15478" y="10779"/>
                  <a:pt x="15528" y="10765"/>
                </a:cubicBezTo>
                <a:cubicBezTo>
                  <a:pt x="15598" y="10745"/>
                  <a:pt x="15592" y="10683"/>
                  <a:pt x="15553" y="10641"/>
                </a:cubicBezTo>
                <a:cubicBezTo>
                  <a:pt x="15503" y="10587"/>
                  <a:pt x="15448" y="10567"/>
                  <a:pt x="15379" y="10616"/>
                </a:cubicBezTo>
                <a:cubicBezTo>
                  <a:pt x="15316" y="10661"/>
                  <a:pt x="15285" y="10741"/>
                  <a:pt x="15280" y="10815"/>
                </a:cubicBezTo>
                <a:cubicBezTo>
                  <a:pt x="15275" y="10897"/>
                  <a:pt x="15290" y="10944"/>
                  <a:pt x="15329" y="11013"/>
                </a:cubicBezTo>
                <a:cubicBezTo>
                  <a:pt x="15373" y="11092"/>
                  <a:pt x="15437" y="11109"/>
                  <a:pt x="15528" y="11112"/>
                </a:cubicBezTo>
                <a:cubicBezTo>
                  <a:pt x="15650" y="11116"/>
                  <a:pt x="15769" y="11072"/>
                  <a:pt x="15875" y="11013"/>
                </a:cubicBezTo>
                <a:cubicBezTo>
                  <a:pt x="15883" y="11005"/>
                  <a:pt x="15892" y="10996"/>
                  <a:pt x="15900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34080" y="3813120"/>
            <a:ext cx="2313000" cy="571680"/>
          </a:xfrm>
          <a:custGeom>
            <a:avLst/>
            <a:gdLst/>
            <a:ahLst/>
            <a:rect l="l" t="t" r="r" b="b"/>
            <a:pathLst>
              <a:path w="6425" h="1588">
                <a:moveTo>
                  <a:pt x="18604" y="10864"/>
                </a:moveTo>
                <a:cubicBezTo>
                  <a:pt x="18604" y="11001"/>
                  <a:pt x="18594" y="11129"/>
                  <a:pt x="18579" y="11261"/>
                </a:cubicBezTo>
                <a:cubicBezTo>
                  <a:pt x="18570" y="11343"/>
                  <a:pt x="18558" y="11428"/>
                  <a:pt x="18554" y="11509"/>
                </a:cubicBezTo>
                <a:cubicBezTo>
                  <a:pt x="18551" y="11564"/>
                  <a:pt x="18513" y="11712"/>
                  <a:pt x="18504" y="11658"/>
                </a:cubicBezTo>
                <a:cubicBezTo>
                  <a:pt x="18504" y="11642"/>
                  <a:pt x="18504" y="11625"/>
                  <a:pt x="18504" y="11609"/>
                </a:cubicBezTo>
              </a:path>
              <a:path w="6425" h="1588">
                <a:moveTo>
                  <a:pt x="18430" y="10964"/>
                </a:moveTo>
                <a:cubicBezTo>
                  <a:pt x="18444" y="10892"/>
                  <a:pt x="18467" y="10838"/>
                  <a:pt x="18554" y="10815"/>
                </a:cubicBezTo>
                <a:cubicBezTo>
                  <a:pt x="18643" y="10792"/>
                  <a:pt x="18730" y="10821"/>
                  <a:pt x="18802" y="10864"/>
                </a:cubicBezTo>
                <a:cubicBezTo>
                  <a:pt x="18870" y="10904"/>
                  <a:pt x="19000" y="10981"/>
                  <a:pt x="19025" y="11063"/>
                </a:cubicBezTo>
                <a:cubicBezTo>
                  <a:pt x="19058" y="11172"/>
                  <a:pt x="19002" y="11198"/>
                  <a:pt x="18951" y="11261"/>
                </a:cubicBezTo>
                <a:cubicBezTo>
                  <a:pt x="18907" y="11316"/>
                  <a:pt x="18850" y="11367"/>
                  <a:pt x="18777" y="11385"/>
                </a:cubicBezTo>
                <a:cubicBezTo>
                  <a:pt x="18744" y="11393"/>
                  <a:pt x="18618" y="11452"/>
                  <a:pt x="18653" y="11361"/>
                </a:cubicBezTo>
                <a:cubicBezTo>
                  <a:pt x="18670" y="11336"/>
                  <a:pt x="18686" y="11311"/>
                  <a:pt x="18703" y="11286"/>
                </a:cubicBezTo>
              </a:path>
              <a:path w="6425" h="1588">
                <a:moveTo>
                  <a:pt x="19571" y="10914"/>
                </a:moveTo>
                <a:cubicBezTo>
                  <a:pt x="19508" y="10914"/>
                  <a:pt x="19446" y="10900"/>
                  <a:pt x="19397" y="10939"/>
                </a:cubicBezTo>
                <a:cubicBezTo>
                  <a:pt x="19338" y="10986"/>
                  <a:pt x="19311" y="11065"/>
                  <a:pt x="19298" y="11137"/>
                </a:cubicBezTo>
                <a:cubicBezTo>
                  <a:pt x="19288" y="11194"/>
                  <a:pt x="19289" y="11269"/>
                  <a:pt x="19323" y="11311"/>
                </a:cubicBezTo>
                <a:cubicBezTo>
                  <a:pt x="19348" y="11342"/>
                  <a:pt x="19363" y="11352"/>
                  <a:pt x="19397" y="11361"/>
                </a:cubicBezTo>
                <a:cubicBezTo>
                  <a:pt x="19462" y="11286"/>
                  <a:pt x="19465" y="11239"/>
                  <a:pt x="19496" y="11137"/>
                </a:cubicBezTo>
                <a:cubicBezTo>
                  <a:pt x="19509" y="11094"/>
                  <a:pt x="19500" y="10912"/>
                  <a:pt x="19521" y="10889"/>
                </a:cubicBezTo>
                <a:cubicBezTo>
                  <a:pt x="19538" y="10881"/>
                  <a:pt x="19554" y="10872"/>
                  <a:pt x="19571" y="10864"/>
                </a:cubicBezTo>
                <a:cubicBezTo>
                  <a:pt x="19571" y="10944"/>
                  <a:pt x="19568" y="11011"/>
                  <a:pt x="19596" y="11088"/>
                </a:cubicBezTo>
                <a:cubicBezTo>
                  <a:pt x="19627" y="11171"/>
                  <a:pt x="19652" y="11207"/>
                  <a:pt x="19695" y="11261"/>
                </a:cubicBezTo>
                <a:cubicBezTo>
                  <a:pt x="19715" y="11302"/>
                  <a:pt x="19713" y="11318"/>
                  <a:pt x="19745" y="11311"/>
                </a:cubicBezTo>
              </a:path>
              <a:path w="6425" h="1588">
                <a:moveTo>
                  <a:pt x="19943" y="10840"/>
                </a:moveTo>
                <a:cubicBezTo>
                  <a:pt x="19943" y="11005"/>
                  <a:pt x="19943" y="11171"/>
                  <a:pt x="19943" y="11336"/>
                </a:cubicBezTo>
                <a:cubicBezTo>
                  <a:pt x="19943" y="11152"/>
                  <a:pt x="19907" y="10938"/>
                  <a:pt x="19968" y="10765"/>
                </a:cubicBezTo>
                <a:cubicBezTo>
                  <a:pt x="19982" y="10725"/>
                  <a:pt x="20041" y="10677"/>
                  <a:pt x="20092" y="10691"/>
                </a:cubicBezTo>
                <a:cubicBezTo>
                  <a:pt x="20161" y="10710"/>
                  <a:pt x="20194" y="10767"/>
                  <a:pt x="20241" y="10790"/>
                </a:cubicBezTo>
              </a:path>
              <a:path w="6425" h="1588">
                <a:moveTo>
                  <a:pt x="20638" y="11088"/>
                </a:moveTo>
                <a:cubicBezTo>
                  <a:pt x="20638" y="11018"/>
                  <a:pt x="20660" y="10972"/>
                  <a:pt x="20588" y="10939"/>
                </a:cubicBezTo>
                <a:cubicBezTo>
                  <a:pt x="20539" y="10917"/>
                  <a:pt x="20492" y="10950"/>
                  <a:pt x="20464" y="10988"/>
                </a:cubicBezTo>
                <a:cubicBezTo>
                  <a:pt x="20411" y="11060"/>
                  <a:pt x="20383" y="11129"/>
                  <a:pt x="20365" y="11212"/>
                </a:cubicBezTo>
                <a:cubicBezTo>
                  <a:pt x="20348" y="11287"/>
                  <a:pt x="20379" y="11321"/>
                  <a:pt x="20414" y="11361"/>
                </a:cubicBezTo>
                <a:cubicBezTo>
                  <a:pt x="20456" y="11402"/>
                  <a:pt x="20464" y="11410"/>
                  <a:pt x="20489" y="11435"/>
                </a:cubicBezTo>
                <a:cubicBezTo>
                  <a:pt x="20550" y="11348"/>
                  <a:pt x="20574" y="11297"/>
                  <a:pt x="20613" y="11212"/>
                </a:cubicBezTo>
                <a:cubicBezTo>
                  <a:pt x="20641" y="11151"/>
                  <a:pt x="20674" y="11126"/>
                  <a:pt x="20687" y="11063"/>
                </a:cubicBezTo>
                <a:cubicBezTo>
                  <a:pt x="20659" y="11127"/>
                  <a:pt x="20646" y="11171"/>
                  <a:pt x="20687" y="11237"/>
                </a:cubicBezTo>
                <a:cubicBezTo>
                  <a:pt x="20728" y="11303"/>
                  <a:pt x="20777" y="11322"/>
                  <a:pt x="20836" y="11361"/>
                </a:cubicBezTo>
                <a:cubicBezTo>
                  <a:pt x="20903" y="11405"/>
                  <a:pt x="20896" y="11383"/>
                  <a:pt x="20960" y="11336"/>
                </a:cubicBezTo>
              </a:path>
              <a:path w="6425" h="1588">
                <a:moveTo>
                  <a:pt x="21059" y="10964"/>
                </a:moveTo>
                <a:cubicBezTo>
                  <a:pt x="21084" y="10988"/>
                  <a:pt x="21093" y="10996"/>
                  <a:pt x="21109" y="11013"/>
                </a:cubicBezTo>
              </a:path>
              <a:path w="6425" h="1588">
                <a:moveTo>
                  <a:pt x="21183" y="10964"/>
                </a:moveTo>
                <a:cubicBezTo>
                  <a:pt x="21167" y="10956"/>
                  <a:pt x="21150" y="10947"/>
                  <a:pt x="21134" y="10939"/>
                </a:cubicBezTo>
                <a:cubicBezTo>
                  <a:pt x="21145" y="10986"/>
                  <a:pt x="21182" y="11020"/>
                  <a:pt x="21208" y="11063"/>
                </a:cubicBezTo>
                <a:cubicBezTo>
                  <a:pt x="21270" y="11165"/>
                  <a:pt x="21309" y="11169"/>
                  <a:pt x="21382" y="11237"/>
                </a:cubicBezTo>
                <a:cubicBezTo>
                  <a:pt x="21419" y="11272"/>
                  <a:pt x="21484" y="11339"/>
                  <a:pt x="21506" y="11361"/>
                </a:cubicBezTo>
                <a:cubicBezTo>
                  <a:pt x="21528" y="11383"/>
                  <a:pt x="21548" y="11432"/>
                  <a:pt x="21555" y="11460"/>
                </a:cubicBezTo>
              </a:path>
              <a:path w="6425" h="1588">
                <a:moveTo>
                  <a:pt x="21481" y="11013"/>
                </a:moveTo>
                <a:cubicBezTo>
                  <a:pt x="21448" y="11078"/>
                  <a:pt x="21423" y="11123"/>
                  <a:pt x="21406" y="11187"/>
                </a:cubicBezTo>
                <a:cubicBezTo>
                  <a:pt x="21381" y="11282"/>
                  <a:pt x="21319" y="11331"/>
                  <a:pt x="21282" y="11410"/>
                </a:cubicBezTo>
                <a:cubicBezTo>
                  <a:pt x="21276" y="11424"/>
                  <a:pt x="21176" y="11652"/>
                  <a:pt x="21233" y="11509"/>
                </a:cubicBezTo>
              </a:path>
              <a:path w="6425" h="1588">
                <a:moveTo>
                  <a:pt x="21977" y="10964"/>
                </a:moveTo>
                <a:cubicBezTo>
                  <a:pt x="21977" y="11061"/>
                  <a:pt x="21959" y="11181"/>
                  <a:pt x="22002" y="11261"/>
                </a:cubicBezTo>
                <a:cubicBezTo>
                  <a:pt x="22028" y="11310"/>
                  <a:pt x="22042" y="11357"/>
                  <a:pt x="22076" y="11385"/>
                </a:cubicBezTo>
                <a:cubicBezTo>
                  <a:pt x="22093" y="11393"/>
                  <a:pt x="22109" y="11402"/>
                  <a:pt x="22126" y="11410"/>
                </a:cubicBezTo>
                <a:cubicBezTo>
                  <a:pt x="22161" y="11385"/>
                  <a:pt x="22202" y="11361"/>
                  <a:pt x="22225" y="11311"/>
                </a:cubicBezTo>
                <a:cubicBezTo>
                  <a:pt x="22254" y="11247"/>
                  <a:pt x="22272" y="11184"/>
                  <a:pt x="22275" y="11112"/>
                </a:cubicBezTo>
                <a:cubicBezTo>
                  <a:pt x="22278" y="11055"/>
                  <a:pt x="22275" y="10996"/>
                  <a:pt x="22275" y="10939"/>
                </a:cubicBezTo>
                <a:cubicBezTo>
                  <a:pt x="22280" y="11009"/>
                  <a:pt x="22274" y="11042"/>
                  <a:pt x="22299" y="11112"/>
                </a:cubicBezTo>
                <a:cubicBezTo>
                  <a:pt x="22330" y="11198"/>
                  <a:pt x="22364" y="11273"/>
                  <a:pt x="22399" y="11361"/>
                </a:cubicBezTo>
                <a:cubicBezTo>
                  <a:pt x="22458" y="11509"/>
                  <a:pt x="22526" y="11648"/>
                  <a:pt x="22547" y="11807"/>
                </a:cubicBezTo>
                <a:cubicBezTo>
                  <a:pt x="22562" y="11919"/>
                  <a:pt x="22540" y="11991"/>
                  <a:pt x="22473" y="12080"/>
                </a:cubicBezTo>
                <a:cubicBezTo>
                  <a:pt x="22437" y="12129"/>
                  <a:pt x="22334" y="12188"/>
                  <a:pt x="22275" y="12179"/>
                </a:cubicBezTo>
                <a:cubicBezTo>
                  <a:pt x="22221" y="12170"/>
                  <a:pt x="22196" y="12125"/>
                  <a:pt x="22175" y="12080"/>
                </a:cubicBezTo>
                <a:cubicBezTo>
                  <a:pt x="22149" y="11999"/>
                  <a:pt x="22141" y="11967"/>
                  <a:pt x="22151" y="11906"/>
                </a:cubicBezTo>
              </a:path>
              <a:path w="6425" h="1588">
                <a:moveTo>
                  <a:pt x="22671" y="10592"/>
                </a:moveTo>
                <a:cubicBezTo>
                  <a:pt x="22688" y="10592"/>
                  <a:pt x="22704" y="10592"/>
                  <a:pt x="22721" y="10592"/>
                </a:cubicBezTo>
                <a:cubicBezTo>
                  <a:pt x="22706" y="10649"/>
                  <a:pt x="22696" y="10696"/>
                  <a:pt x="22696" y="10765"/>
                </a:cubicBezTo>
                <a:cubicBezTo>
                  <a:pt x="22696" y="10875"/>
                  <a:pt x="22750" y="10960"/>
                  <a:pt x="22771" y="11063"/>
                </a:cubicBezTo>
                <a:cubicBezTo>
                  <a:pt x="22792" y="11167"/>
                  <a:pt x="22733" y="11348"/>
                  <a:pt x="22796" y="11410"/>
                </a:cubicBezTo>
              </a:path>
              <a:path w="6425" h="1588">
                <a:moveTo>
                  <a:pt x="23068" y="11088"/>
                </a:moveTo>
                <a:cubicBezTo>
                  <a:pt x="23127" y="11029"/>
                  <a:pt x="23154" y="11038"/>
                  <a:pt x="23242" y="11038"/>
                </a:cubicBezTo>
                <a:cubicBezTo>
                  <a:pt x="23296" y="11038"/>
                  <a:pt x="23315" y="11032"/>
                  <a:pt x="23366" y="11013"/>
                </a:cubicBezTo>
                <a:cubicBezTo>
                  <a:pt x="23362" y="10974"/>
                  <a:pt x="23364" y="10843"/>
                  <a:pt x="23292" y="10864"/>
                </a:cubicBezTo>
                <a:cubicBezTo>
                  <a:pt x="23245" y="10878"/>
                  <a:pt x="23159" y="10911"/>
                  <a:pt x="23118" y="10939"/>
                </a:cubicBezTo>
                <a:cubicBezTo>
                  <a:pt x="23064" y="10975"/>
                  <a:pt x="23068" y="11032"/>
                  <a:pt x="23068" y="11088"/>
                </a:cubicBezTo>
                <a:cubicBezTo>
                  <a:pt x="23068" y="11180"/>
                  <a:pt x="23077" y="11195"/>
                  <a:pt x="23143" y="11261"/>
                </a:cubicBezTo>
                <a:cubicBezTo>
                  <a:pt x="23200" y="11319"/>
                  <a:pt x="23263" y="11348"/>
                  <a:pt x="23341" y="11361"/>
                </a:cubicBezTo>
                <a:cubicBezTo>
                  <a:pt x="23417" y="11374"/>
                  <a:pt x="23429" y="11337"/>
                  <a:pt x="23465" y="11286"/>
                </a:cubicBezTo>
              </a:path>
              <a:path w="6425" h="1588">
                <a:moveTo>
                  <a:pt x="23639" y="10914"/>
                </a:moveTo>
                <a:cubicBezTo>
                  <a:pt x="23639" y="10980"/>
                  <a:pt x="23660" y="11028"/>
                  <a:pt x="23664" y="11088"/>
                </a:cubicBezTo>
                <a:cubicBezTo>
                  <a:pt x="23669" y="11158"/>
                  <a:pt x="23688" y="11213"/>
                  <a:pt x="23688" y="11286"/>
                </a:cubicBezTo>
                <a:cubicBezTo>
                  <a:pt x="23688" y="11294"/>
                  <a:pt x="23688" y="11303"/>
                  <a:pt x="23688" y="11311"/>
                </a:cubicBezTo>
                <a:cubicBezTo>
                  <a:pt x="23713" y="11295"/>
                  <a:pt x="23736" y="11237"/>
                  <a:pt x="23738" y="11187"/>
                </a:cubicBezTo>
                <a:cubicBezTo>
                  <a:pt x="23742" y="11112"/>
                  <a:pt x="23784" y="11074"/>
                  <a:pt x="23788" y="11013"/>
                </a:cubicBezTo>
                <a:cubicBezTo>
                  <a:pt x="23792" y="10954"/>
                  <a:pt x="23817" y="10944"/>
                  <a:pt x="23887" y="10939"/>
                </a:cubicBezTo>
                <a:cubicBezTo>
                  <a:pt x="23941" y="10935"/>
                  <a:pt x="23992" y="10980"/>
                  <a:pt x="24036" y="11013"/>
                </a:cubicBezTo>
                <a:cubicBezTo>
                  <a:pt x="24092" y="11054"/>
                  <a:pt x="24085" y="11126"/>
                  <a:pt x="24085" y="11187"/>
                </a:cubicBezTo>
                <a:cubicBezTo>
                  <a:pt x="24085" y="11203"/>
                  <a:pt x="24097" y="11397"/>
                  <a:pt x="24061" y="11385"/>
                </a:cubicBezTo>
                <a:cubicBezTo>
                  <a:pt x="24061" y="11377"/>
                  <a:pt x="24061" y="11369"/>
                  <a:pt x="24061" y="11361"/>
                </a:cubicBezTo>
              </a:path>
              <a:path w="6425" h="1588">
                <a:moveTo>
                  <a:pt x="24333" y="11063"/>
                </a:moveTo>
                <a:cubicBezTo>
                  <a:pt x="24377" y="11030"/>
                  <a:pt x="24414" y="11048"/>
                  <a:pt x="24457" y="11013"/>
                </a:cubicBezTo>
                <a:cubicBezTo>
                  <a:pt x="24518" y="10963"/>
                  <a:pt x="24528" y="10985"/>
                  <a:pt x="24581" y="10914"/>
                </a:cubicBezTo>
                <a:cubicBezTo>
                  <a:pt x="24631" y="10847"/>
                  <a:pt x="24585" y="10837"/>
                  <a:pt x="24532" y="10790"/>
                </a:cubicBezTo>
                <a:cubicBezTo>
                  <a:pt x="24475" y="10739"/>
                  <a:pt x="24424" y="10712"/>
                  <a:pt x="24358" y="10765"/>
                </a:cubicBezTo>
                <a:cubicBezTo>
                  <a:pt x="24318" y="10797"/>
                  <a:pt x="24287" y="10865"/>
                  <a:pt x="24284" y="10914"/>
                </a:cubicBezTo>
                <a:cubicBezTo>
                  <a:pt x="24279" y="10982"/>
                  <a:pt x="24280" y="11034"/>
                  <a:pt x="24309" y="11088"/>
                </a:cubicBezTo>
                <a:cubicBezTo>
                  <a:pt x="24347" y="11160"/>
                  <a:pt x="24382" y="11221"/>
                  <a:pt x="24433" y="11286"/>
                </a:cubicBezTo>
                <a:cubicBezTo>
                  <a:pt x="24466" y="11327"/>
                  <a:pt x="24559" y="11432"/>
                  <a:pt x="24606" y="11460"/>
                </a:cubicBezTo>
                <a:cubicBezTo>
                  <a:pt x="24671" y="11498"/>
                  <a:pt x="24738" y="11501"/>
                  <a:pt x="24780" y="11435"/>
                </a:cubicBezTo>
                <a:cubicBezTo>
                  <a:pt x="24805" y="11396"/>
                  <a:pt x="24848" y="11284"/>
                  <a:pt x="24854" y="11237"/>
                </a:cubicBezTo>
                <a:cubicBezTo>
                  <a:pt x="24854" y="11204"/>
                  <a:pt x="24854" y="11170"/>
                  <a:pt x="24854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17960" y="122400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11410" y="3448"/>
                </a:moveTo>
                <a:cubicBezTo>
                  <a:pt x="11402" y="3431"/>
                  <a:pt x="11393" y="3415"/>
                  <a:pt x="11385" y="3398"/>
                </a:cubicBezTo>
                <a:cubicBezTo>
                  <a:pt x="11331" y="3435"/>
                  <a:pt x="11291" y="3504"/>
                  <a:pt x="11261" y="3572"/>
                </a:cubicBezTo>
                <a:cubicBezTo>
                  <a:pt x="11231" y="3640"/>
                  <a:pt x="11211" y="3727"/>
                  <a:pt x="11187" y="3795"/>
                </a:cubicBezTo>
                <a:cubicBezTo>
                  <a:pt x="11159" y="3874"/>
                  <a:pt x="11151" y="3915"/>
                  <a:pt x="11187" y="3994"/>
                </a:cubicBezTo>
                <a:cubicBezTo>
                  <a:pt x="11206" y="4037"/>
                  <a:pt x="11248" y="4115"/>
                  <a:pt x="11286" y="4142"/>
                </a:cubicBezTo>
                <a:cubicBezTo>
                  <a:pt x="11338" y="4179"/>
                  <a:pt x="11374" y="4212"/>
                  <a:pt x="11435" y="4217"/>
                </a:cubicBezTo>
                <a:cubicBezTo>
                  <a:pt x="11489" y="4221"/>
                  <a:pt x="11520" y="4203"/>
                  <a:pt x="11559" y="4167"/>
                </a:cubicBezTo>
                <a:cubicBezTo>
                  <a:pt x="11617" y="4114"/>
                  <a:pt x="11668" y="4051"/>
                  <a:pt x="11708" y="3994"/>
                </a:cubicBezTo>
                <a:cubicBezTo>
                  <a:pt x="11735" y="3957"/>
                  <a:pt x="11752" y="3870"/>
                  <a:pt x="11733" y="3820"/>
                </a:cubicBezTo>
                <a:cubicBezTo>
                  <a:pt x="11714" y="3771"/>
                  <a:pt x="11698" y="3716"/>
                  <a:pt x="11658" y="3671"/>
                </a:cubicBezTo>
                <a:cubicBezTo>
                  <a:pt x="11606" y="3614"/>
                  <a:pt x="11527" y="3559"/>
                  <a:pt x="11485" y="3497"/>
                </a:cubicBezTo>
                <a:cubicBezTo>
                  <a:pt x="11466" y="3469"/>
                  <a:pt x="11465" y="3434"/>
                  <a:pt x="11460" y="33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2640" y="1490760"/>
            <a:ext cx="965160" cy="438120"/>
          </a:xfrm>
          <a:custGeom>
            <a:avLst/>
            <a:gdLst/>
            <a:ahLst/>
            <a:rect l="l" t="t" r="r" b="b"/>
            <a:pathLst>
              <a:path w="2680" h="1217">
                <a:moveTo>
                  <a:pt x="12675" y="4539"/>
                </a:moveTo>
                <a:cubicBezTo>
                  <a:pt x="12709" y="4499"/>
                  <a:pt x="12757" y="4463"/>
                  <a:pt x="12824" y="4490"/>
                </a:cubicBezTo>
                <a:cubicBezTo>
                  <a:pt x="12892" y="4517"/>
                  <a:pt x="12909" y="4539"/>
                  <a:pt x="12998" y="4539"/>
                </a:cubicBezTo>
                <a:cubicBezTo>
                  <a:pt x="13110" y="4539"/>
                  <a:pt x="13243" y="4561"/>
                  <a:pt x="13345" y="4514"/>
                </a:cubicBezTo>
                <a:cubicBezTo>
                  <a:pt x="13362" y="4506"/>
                  <a:pt x="13378" y="4498"/>
                  <a:pt x="13395" y="4490"/>
                </a:cubicBezTo>
              </a:path>
              <a:path w="2680" h="1217">
                <a:moveTo>
                  <a:pt x="13841" y="4341"/>
                </a:moveTo>
                <a:cubicBezTo>
                  <a:pt x="13813" y="4292"/>
                  <a:pt x="13785" y="4200"/>
                  <a:pt x="13717" y="4217"/>
                </a:cubicBezTo>
                <a:cubicBezTo>
                  <a:pt x="13697" y="4222"/>
                  <a:pt x="13646" y="4371"/>
                  <a:pt x="13643" y="4390"/>
                </a:cubicBezTo>
                <a:cubicBezTo>
                  <a:pt x="13629" y="4478"/>
                  <a:pt x="13597" y="4597"/>
                  <a:pt x="13618" y="4688"/>
                </a:cubicBezTo>
                <a:cubicBezTo>
                  <a:pt x="13632" y="4749"/>
                  <a:pt x="13690" y="4853"/>
                  <a:pt x="13742" y="4887"/>
                </a:cubicBezTo>
                <a:cubicBezTo>
                  <a:pt x="13777" y="4910"/>
                  <a:pt x="13891" y="4848"/>
                  <a:pt x="13915" y="4837"/>
                </a:cubicBezTo>
                <a:cubicBezTo>
                  <a:pt x="13971" y="4813"/>
                  <a:pt x="14012" y="4770"/>
                  <a:pt x="14064" y="4738"/>
                </a:cubicBezTo>
              </a:path>
              <a:path w="2680" h="1217">
                <a:moveTo>
                  <a:pt x="14337" y="4242"/>
                </a:moveTo>
                <a:cubicBezTo>
                  <a:pt x="14337" y="4321"/>
                  <a:pt x="14349" y="4369"/>
                  <a:pt x="14362" y="4440"/>
                </a:cubicBezTo>
                <a:cubicBezTo>
                  <a:pt x="14366" y="4465"/>
                  <a:pt x="14349" y="4726"/>
                  <a:pt x="14387" y="4713"/>
                </a:cubicBezTo>
                <a:cubicBezTo>
                  <a:pt x="14387" y="4705"/>
                  <a:pt x="14387" y="4696"/>
                  <a:pt x="14387" y="4688"/>
                </a:cubicBezTo>
              </a:path>
              <a:path w="2680" h="1217">
                <a:moveTo>
                  <a:pt x="14585" y="4142"/>
                </a:moveTo>
                <a:cubicBezTo>
                  <a:pt x="14620" y="4221"/>
                  <a:pt x="14648" y="4305"/>
                  <a:pt x="14660" y="4390"/>
                </a:cubicBezTo>
                <a:cubicBezTo>
                  <a:pt x="14676" y="4499"/>
                  <a:pt x="14624" y="4640"/>
                  <a:pt x="14684" y="4738"/>
                </a:cubicBezTo>
                <a:cubicBezTo>
                  <a:pt x="14692" y="4746"/>
                  <a:pt x="14701" y="4754"/>
                  <a:pt x="14709" y="4762"/>
                </a:cubicBezTo>
              </a:path>
              <a:path w="2680" h="1217">
                <a:moveTo>
                  <a:pt x="14387" y="4564"/>
                </a:moveTo>
                <a:cubicBezTo>
                  <a:pt x="14423" y="4536"/>
                  <a:pt x="14488" y="4521"/>
                  <a:pt x="14536" y="4514"/>
                </a:cubicBezTo>
                <a:cubicBezTo>
                  <a:pt x="14611" y="4503"/>
                  <a:pt x="14681" y="4490"/>
                  <a:pt x="14759" y="4490"/>
                </a:cubicBezTo>
              </a:path>
              <a:path w="2680" h="1217">
                <a:moveTo>
                  <a:pt x="15056" y="4688"/>
                </a:moveTo>
                <a:cubicBezTo>
                  <a:pt x="15048" y="4671"/>
                  <a:pt x="15040" y="4655"/>
                  <a:pt x="15032" y="4638"/>
                </a:cubicBezTo>
                <a:cubicBezTo>
                  <a:pt x="15109" y="4638"/>
                  <a:pt x="15195" y="4610"/>
                  <a:pt x="15230" y="4688"/>
                </a:cubicBezTo>
                <a:cubicBezTo>
                  <a:pt x="15250" y="4732"/>
                  <a:pt x="15200" y="4828"/>
                  <a:pt x="15180" y="4862"/>
                </a:cubicBezTo>
                <a:cubicBezTo>
                  <a:pt x="15156" y="4887"/>
                  <a:pt x="15148" y="4895"/>
                  <a:pt x="15131" y="4911"/>
                </a:cubicBezTo>
                <a:cubicBezTo>
                  <a:pt x="15256" y="4887"/>
                  <a:pt x="15173" y="4868"/>
                  <a:pt x="15304" y="4911"/>
                </a:cubicBezTo>
                <a:cubicBezTo>
                  <a:pt x="15359" y="4929"/>
                  <a:pt x="15367" y="5026"/>
                  <a:pt x="15354" y="5085"/>
                </a:cubicBezTo>
                <a:cubicBezTo>
                  <a:pt x="15329" y="5198"/>
                  <a:pt x="15265" y="5195"/>
                  <a:pt x="15205" y="5259"/>
                </a:cubicBezTo>
                <a:cubicBezTo>
                  <a:pt x="15129" y="5339"/>
                  <a:pt x="15124" y="5297"/>
                  <a:pt x="15032" y="5333"/>
                </a:cubicBezTo>
                <a:cubicBezTo>
                  <a:pt x="14998" y="5346"/>
                  <a:pt x="14956" y="5382"/>
                  <a:pt x="14908" y="5358"/>
                </a:cubicBezTo>
                <a:cubicBezTo>
                  <a:pt x="14847" y="5327"/>
                  <a:pt x="14833" y="5264"/>
                  <a:pt x="14808" y="52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27240" y="1847880"/>
            <a:ext cx="2779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8830" y="5581"/>
                </a:moveTo>
                <a:cubicBezTo>
                  <a:pt x="8830" y="5497"/>
                  <a:pt x="8830" y="5497"/>
                  <a:pt x="8830" y="5581"/>
                </a:cubicBezTo>
                <a:cubicBezTo>
                  <a:pt x="8830" y="5647"/>
                  <a:pt x="8821" y="5817"/>
                  <a:pt x="8830" y="5804"/>
                </a:cubicBezTo>
                <a:cubicBezTo>
                  <a:pt x="8838" y="5796"/>
                  <a:pt x="8847" y="5787"/>
                  <a:pt x="8855" y="5779"/>
                </a:cubicBezTo>
              </a:path>
              <a:path w="770" h="894">
                <a:moveTo>
                  <a:pt x="8806" y="5135"/>
                </a:moveTo>
                <a:cubicBezTo>
                  <a:pt x="8749" y="5143"/>
                  <a:pt x="8685" y="5177"/>
                  <a:pt x="8632" y="5209"/>
                </a:cubicBezTo>
                <a:cubicBezTo>
                  <a:pt x="8569" y="5247"/>
                  <a:pt x="8527" y="5280"/>
                  <a:pt x="8483" y="5333"/>
                </a:cubicBezTo>
                <a:cubicBezTo>
                  <a:pt x="8450" y="5372"/>
                  <a:pt x="8421" y="5498"/>
                  <a:pt x="8409" y="5556"/>
                </a:cubicBezTo>
                <a:cubicBezTo>
                  <a:pt x="8392" y="5636"/>
                  <a:pt x="8399" y="5763"/>
                  <a:pt x="8434" y="5829"/>
                </a:cubicBezTo>
                <a:cubicBezTo>
                  <a:pt x="8462" y="5882"/>
                  <a:pt x="8491" y="5911"/>
                  <a:pt x="8533" y="5953"/>
                </a:cubicBezTo>
                <a:cubicBezTo>
                  <a:pt x="8562" y="5982"/>
                  <a:pt x="8669" y="6019"/>
                  <a:pt x="8706" y="6028"/>
                </a:cubicBezTo>
                <a:cubicBezTo>
                  <a:pt x="8776" y="6046"/>
                  <a:pt x="8892" y="6031"/>
                  <a:pt x="8954" y="6003"/>
                </a:cubicBezTo>
                <a:cubicBezTo>
                  <a:pt x="9023" y="5972"/>
                  <a:pt x="9059" y="5951"/>
                  <a:pt x="9103" y="5904"/>
                </a:cubicBezTo>
                <a:cubicBezTo>
                  <a:pt x="9151" y="5852"/>
                  <a:pt x="9164" y="5824"/>
                  <a:pt x="9178" y="5755"/>
                </a:cubicBezTo>
                <a:cubicBezTo>
                  <a:pt x="9191" y="5688"/>
                  <a:pt x="9181" y="5609"/>
                  <a:pt x="9153" y="5556"/>
                </a:cubicBezTo>
                <a:cubicBezTo>
                  <a:pt x="9123" y="5501"/>
                  <a:pt x="9112" y="5433"/>
                  <a:pt x="9079" y="5383"/>
                </a:cubicBezTo>
                <a:cubicBezTo>
                  <a:pt x="9040" y="5324"/>
                  <a:pt x="9004" y="5333"/>
                  <a:pt x="8954" y="5308"/>
                </a:cubicBezTo>
                <a:cubicBezTo>
                  <a:pt x="8911" y="5286"/>
                  <a:pt x="8918" y="5281"/>
                  <a:pt x="8905" y="53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00240" y="3402000"/>
            <a:ext cx="33048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8706" y="9773"/>
                </a:moveTo>
                <a:cubicBezTo>
                  <a:pt x="8747" y="9724"/>
                  <a:pt x="8781" y="9704"/>
                  <a:pt x="8855" y="9699"/>
                </a:cubicBezTo>
                <a:cubicBezTo>
                  <a:pt x="8930" y="9694"/>
                  <a:pt x="8972" y="9718"/>
                  <a:pt x="8954" y="9798"/>
                </a:cubicBezTo>
                <a:cubicBezTo>
                  <a:pt x="8937" y="9873"/>
                  <a:pt x="8870" y="9953"/>
                  <a:pt x="8806" y="9996"/>
                </a:cubicBezTo>
                <a:cubicBezTo>
                  <a:pt x="8769" y="10021"/>
                  <a:pt x="8696" y="10025"/>
                  <a:pt x="8657" y="10046"/>
                </a:cubicBezTo>
                <a:cubicBezTo>
                  <a:pt x="8649" y="10054"/>
                  <a:pt x="8640" y="10063"/>
                  <a:pt x="8632" y="10071"/>
                </a:cubicBezTo>
                <a:cubicBezTo>
                  <a:pt x="8670" y="10062"/>
                  <a:pt x="8708" y="10026"/>
                  <a:pt x="8756" y="10046"/>
                </a:cubicBezTo>
                <a:cubicBezTo>
                  <a:pt x="8810" y="10069"/>
                  <a:pt x="8853" y="10153"/>
                  <a:pt x="8905" y="10170"/>
                </a:cubicBezTo>
                <a:cubicBezTo>
                  <a:pt x="8954" y="10170"/>
                  <a:pt x="8971" y="10170"/>
                  <a:pt x="8954" y="10120"/>
                </a:cubicBezTo>
              </a:path>
              <a:path w="919" h="869">
                <a:moveTo>
                  <a:pt x="8781" y="9451"/>
                </a:moveTo>
                <a:cubicBezTo>
                  <a:pt x="8700" y="9451"/>
                  <a:pt x="8625" y="9440"/>
                  <a:pt x="8558" y="9475"/>
                </a:cubicBezTo>
                <a:cubicBezTo>
                  <a:pt x="8495" y="9508"/>
                  <a:pt x="8461" y="9572"/>
                  <a:pt x="8409" y="9624"/>
                </a:cubicBezTo>
                <a:cubicBezTo>
                  <a:pt x="8360" y="9673"/>
                  <a:pt x="8337" y="9731"/>
                  <a:pt x="8334" y="9798"/>
                </a:cubicBezTo>
                <a:cubicBezTo>
                  <a:pt x="8331" y="9860"/>
                  <a:pt x="8325" y="9917"/>
                  <a:pt x="8359" y="9971"/>
                </a:cubicBezTo>
                <a:cubicBezTo>
                  <a:pt x="8393" y="10025"/>
                  <a:pt x="8421" y="10092"/>
                  <a:pt x="8458" y="10145"/>
                </a:cubicBezTo>
                <a:cubicBezTo>
                  <a:pt x="8499" y="10204"/>
                  <a:pt x="8520" y="10257"/>
                  <a:pt x="8582" y="10294"/>
                </a:cubicBezTo>
                <a:cubicBezTo>
                  <a:pt x="8635" y="10325"/>
                  <a:pt x="8671" y="10319"/>
                  <a:pt x="8731" y="10319"/>
                </a:cubicBezTo>
                <a:cubicBezTo>
                  <a:pt x="8811" y="10319"/>
                  <a:pt x="8909" y="10338"/>
                  <a:pt x="8979" y="10294"/>
                </a:cubicBezTo>
                <a:cubicBezTo>
                  <a:pt x="9040" y="10256"/>
                  <a:pt x="9100" y="10220"/>
                  <a:pt x="9153" y="10170"/>
                </a:cubicBezTo>
                <a:cubicBezTo>
                  <a:pt x="9185" y="10140"/>
                  <a:pt x="9204" y="10092"/>
                  <a:pt x="9227" y="10046"/>
                </a:cubicBezTo>
                <a:cubicBezTo>
                  <a:pt x="9260" y="9979"/>
                  <a:pt x="9252" y="9922"/>
                  <a:pt x="9252" y="9847"/>
                </a:cubicBezTo>
                <a:cubicBezTo>
                  <a:pt x="9252" y="9780"/>
                  <a:pt x="9243" y="9732"/>
                  <a:pt x="9203" y="9674"/>
                </a:cubicBezTo>
                <a:cubicBezTo>
                  <a:pt x="9174" y="9631"/>
                  <a:pt x="9184" y="9555"/>
                  <a:pt x="9128" y="9525"/>
                </a:cubicBezTo>
                <a:cubicBezTo>
                  <a:pt x="9071" y="9495"/>
                  <a:pt x="9015" y="9430"/>
                  <a:pt x="8954" y="9451"/>
                </a:cubicBezTo>
                <a:cubicBezTo>
                  <a:pt x="8903" y="9469"/>
                  <a:pt x="8845" y="9529"/>
                  <a:pt x="8806" y="95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28960" y="4367160"/>
            <a:ext cx="366840" cy="401760"/>
          </a:xfrm>
          <a:custGeom>
            <a:avLst/>
            <a:gdLst/>
            <a:ahLst/>
            <a:rect l="l" t="t" r="r" b="b"/>
            <a:pathLst>
              <a:path w="1018" h="1118">
                <a:moveTo>
                  <a:pt x="8682" y="12452"/>
                </a:moveTo>
                <a:cubicBezTo>
                  <a:pt x="8699" y="12380"/>
                  <a:pt x="8761" y="12383"/>
                  <a:pt x="8830" y="12378"/>
                </a:cubicBezTo>
                <a:cubicBezTo>
                  <a:pt x="8876" y="12375"/>
                  <a:pt x="8900" y="12378"/>
                  <a:pt x="8905" y="12427"/>
                </a:cubicBezTo>
                <a:cubicBezTo>
                  <a:pt x="8909" y="12461"/>
                  <a:pt x="8857" y="12555"/>
                  <a:pt x="8830" y="12576"/>
                </a:cubicBezTo>
                <a:cubicBezTo>
                  <a:pt x="8794" y="12604"/>
                  <a:pt x="8753" y="12614"/>
                  <a:pt x="8706" y="12626"/>
                </a:cubicBezTo>
                <a:cubicBezTo>
                  <a:pt x="8749" y="12651"/>
                  <a:pt x="8817" y="12656"/>
                  <a:pt x="8855" y="12700"/>
                </a:cubicBezTo>
                <a:cubicBezTo>
                  <a:pt x="8863" y="12717"/>
                  <a:pt x="8872" y="12733"/>
                  <a:pt x="8880" y="12750"/>
                </a:cubicBezTo>
                <a:cubicBezTo>
                  <a:pt x="8840" y="12781"/>
                  <a:pt x="8798" y="12822"/>
                  <a:pt x="8756" y="12849"/>
                </a:cubicBezTo>
                <a:cubicBezTo>
                  <a:pt x="8716" y="12875"/>
                  <a:pt x="8646" y="12894"/>
                  <a:pt x="8607" y="12849"/>
                </a:cubicBezTo>
                <a:cubicBezTo>
                  <a:pt x="8607" y="12821"/>
                  <a:pt x="8605" y="12810"/>
                  <a:pt x="8582" y="12799"/>
                </a:cubicBezTo>
              </a:path>
              <a:path w="1018" h="1118">
                <a:moveTo>
                  <a:pt x="8706" y="12129"/>
                </a:moveTo>
                <a:cubicBezTo>
                  <a:pt x="8612" y="12134"/>
                  <a:pt x="8545" y="12149"/>
                  <a:pt x="8458" y="12154"/>
                </a:cubicBezTo>
                <a:cubicBezTo>
                  <a:pt x="8381" y="12158"/>
                  <a:pt x="8360" y="12219"/>
                  <a:pt x="8310" y="12278"/>
                </a:cubicBezTo>
                <a:cubicBezTo>
                  <a:pt x="8238" y="12363"/>
                  <a:pt x="8218" y="12431"/>
                  <a:pt x="8186" y="12526"/>
                </a:cubicBezTo>
                <a:cubicBezTo>
                  <a:pt x="8158" y="12610"/>
                  <a:pt x="8116" y="12680"/>
                  <a:pt x="8136" y="12774"/>
                </a:cubicBezTo>
                <a:cubicBezTo>
                  <a:pt x="8159" y="12883"/>
                  <a:pt x="8195" y="12858"/>
                  <a:pt x="8260" y="12923"/>
                </a:cubicBezTo>
                <a:cubicBezTo>
                  <a:pt x="8299" y="12963"/>
                  <a:pt x="8349" y="13046"/>
                  <a:pt x="8384" y="13072"/>
                </a:cubicBezTo>
                <a:cubicBezTo>
                  <a:pt x="8442" y="13115"/>
                  <a:pt x="8467" y="13215"/>
                  <a:pt x="8533" y="13246"/>
                </a:cubicBezTo>
                <a:cubicBezTo>
                  <a:pt x="8568" y="13262"/>
                  <a:pt x="8673" y="13211"/>
                  <a:pt x="8706" y="13196"/>
                </a:cubicBezTo>
                <a:cubicBezTo>
                  <a:pt x="8754" y="13174"/>
                  <a:pt x="8803" y="13154"/>
                  <a:pt x="8855" y="13146"/>
                </a:cubicBezTo>
                <a:cubicBezTo>
                  <a:pt x="8952" y="13132"/>
                  <a:pt x="8938" y="13113"/>
                  <a:pt x="9004" y="13047"/>
                </a:cubicBezTo>
                <a:cubicBezTo>
                  <a:pt x="9047" y="13004"/>
                  <a:pt x="9062" y="12958"/>
                  <a:pt x="9103" y="12923"/>
                </a:cubicBezTo>
                <a:cubicBezTo>
                  <a:pt x="9159" y="12874"/>
                  <a:pt x="9153" y="12874"/>
                  <a:pt x="9153" y="12799"/>
                </a:cubicBezTo>
                <a:cubicBezTo>
                  <a:pt x="9153" y="12708"/>
                  <a:pt x="9152" y="12636"/>
                  <a:pt x="9128" y="12551"/>
                </a:cubicBezTo>
                <a:cubicBezTo>
                  <a:pt x="9113" y="12496"/>
                  <a:pt x="9067" y="12447"/>
                  <a:pt x="9054" y="12402"/>
                </a:cubicBezTo>
                <a:cubicBezTo>
                  <a:pt x="9035" y="12334"/>
                  <a:pt x="9053" y="12318"/>
                  <a:pt x="9004" y="12254"/>
                </a:cubicBezTo>
                <a:cubicBezTo>
                  <a:pt x="8969" y="12208"/>
                  <a:pt x="8910" y="12195"/>
                  <a:pt x="8855" y="12204"/>
                </a:cubicBezTo>
                <a:cubicBezTo>
                  <a:pt x="8807" y="12212"/>
                  <a:pt x="8745" y="12246"/>
                  <a:pt x="8706" y="12278"/>
                </a:cubicBezTo>
                <a:cubicBezTo>
                  <a:pt x="8657" y="12318"/>
                  <a:pt x="8649" y="12355"/>
                  <a:pt x="8607" y="124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71880" y="5473800"/>
            <a:ext cx="401400" cy="411120"/>
          </a:xfrm>
          <a:custGeom>
            <a:avLst/>
            <a:gdLst/>
            <a:ahLst/>
            <a:rect l="l" t="t" r="r" b="b"/>
            <a:pathLst>
              <a:path w="1117" h="1142">
                <a:moveTo>
                  <a:pt x="9004" y="15577"/>
                </a:moveTo>
                <a:cubicBezTo>
                  <a:pt x="9004" y="15638"/>
                  <a:pt x="9000" y="15677"/>
                  <a:pt x="8979" y="15726"/>
                </a:cubicBezTo>
                <a:cubicBezTo>
                  <a:pt x="8948" y="15799"/>
                  <a:pt x="8941" y="15820"/>
                  <a:pt x="9029" y="15825"/>
                </a:cubicBezTo>
                <a:cubicBezTo>
                  <a:pt x="9090" y="15828"/>
                  <a:pt x="9323" y="15857"/>
                  <a:pt x="9351" y="15801"/>
                </a:cubicBezTo>
                <a:cubicBezTo>
                  <a:pt x="9351" y="15776"/>
                  <a:pt x="9351" y="15768"/>
                  <a:pt x="9351" y="15751"/>
                </a:cubicBezTo>
              </a:path>
              <a:path w="1117" h="1142">
                <a:moveTo>
                  <a:pt x="9203" y="15528"/>
                </a:moveTo>
                <a:cubicBezTo>
                  <a:pt x="9155" y="15614"/>
                  <a:pt x="9153" y="15631"/>
                  <a:pt x="9153" y="15726"/>
                </a:cubicBezTo>
                <a:cubicBezTo>
                  <a:pt x="9153" y="15795"/>
                  <a:pt x="9162" y="15861"/>
                  <a:pt x="9128" y="15925"/>
                </a:cubicBezTo>
                <a:cubicBezTo>
                  <a:pt x="9104" y="15969"/>
                  <a:pt x="9086" y="16028"/>
                  <a:pt x="9054" y="16073"/>
                </a:cubicBezTo>
                <a:cubicBezTo>
                  <a:pt x="9038" y="16095"/>
                  <a:pt x="8993" y="16174"/>
                  <a:pt x="9054" y="16073"/>
                </a:cubicBezTo>
              </a:path>
              <a:path w="1117" h="1142">
                <a:moveTo>
                  <a:pt x="8979" y="15205"/>
                </a:moveTo>
                <a:cubicBezTo>
                  <a:pt x="8904" y="15211"/>
                  <a:pt x="8851" y="15213"/>
                  <a:pt x="8781" y="15230"/>
                </a:cubicBezTo>
                <a:cubicBezTo>
                  <a:pt x="8659" y="15259"/>
                  <a:pt x="8668" y="15337"/>
                  <a:pt x="8632" y="15429"/>
                </a:cubicBezTo>
                <a:cubicBezTo>
                  <a:pt x="8587" y="15544"/>
                  <a:pt x="8538" y="15626"/>
                  <a:pt x="8533" y="15751"/>
                </a:cubicBezTo>
                <a:cubicBezTo>
                  <a:pt x="8529" y="15866"/>
                  <a:pt x="8539" y="15898"/>
                  <a:pt x="8582" y="15999"/>
                </a:cubicBezTo>
                <a:cubicBezTo>
                  <a:pt x="8606" y="16055"/>
                  <a:pt x="8631" y="16125"/>
                  <a:pt x="8657" y="16173"/>
                </a:cubicBezTo>
                <a:cubicBezTo>
                  <a:pt x="8683" y="16220"/>
                  <a:pt x="8705" y="16279"/>
                  <a:pt x="8756" y="16297"/>
                </a:cubicBezTo>
                <a:cubicBezTo>
                  <a:pt x="8820" y="16320"/>
                  <a:pt x="8880" y="16342"/>
                  <a:pt x="8954" y="16346"/>
                </a:cubicBezTo>
                <a:cubicBezTo>
                  <a:pt x="9062" y="16351"/>
                  <a:pt x="9067" y="16298"/>
                  <a:pt x="9153" y="16272"/>
                </a:cubicBezTo>
                <a:cubicBezTo>
                  <a:pt x="9223" y="16251"/>
                  <a:pt x="9342" y="16236"/>
                  <a:pt x="9401" y="16173"/>
                </a:cubicBezTo>
                <a:cubicBezTo>
                  <a:pt x="9460" y="16110"/>
                  <a:pt x="9492" y="16077"/>
                  <a:pt x="9550" y="16024"/>
                </a:cubicBezTo>
                <a:cubicBezTo>
                  <a:pt x="9580" y="15997"/>
                  <a:pt x="9641" y="15916"/>
                  <a:pt x="9649" y="15875"/>
                </a:cubicBezTo>
                <a:cubicBezTo>
                  <a:pt x="9661" y="15809"/>
                  <a:pt x="9650" y="15735"/>
                  <a:pt x="9624" y="15677"/>
                </a:cubicBezTo>
                <a:cubicBezTo>
                  <a:pt x="9594" y="15609"/>
                  <a:pt x="9558" y="15546"/>
                  <a:pt x="9525" y="15478"/>
                </a:cubicBezTo>
                <a:cubicBezTo>
                  <a:pt x="9485" y="15395"/>
                  <a:pt x="9417" y="15336"/>
                  <a:pt x="9351" y="15280"/>
                </a:cubicBezTo>
                <a:cubicBezTo>
                  <a:pt x="9295" y="15233"/>
                  <a:pt x="9255" y="15219"/>
                  <a:pt x="9178" y="15230"/>
                </a:cubicBezTo>
                <a:cubicBezTo>
                  <a:pt x="9081" y="15244"/>
                  <a:pt x="9019" y="15288"/>
                  <a:pt x="8954" y="15354"/>
                </a:cubicBezTo>
                <a:cubicBezTo>
                  <a:pt x="8925" y="15384"/>
                  <a:pt x="8914" y="15399"/>
                  <a:pt x="8905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2960" y="6188040"/>
            <a:ext cx="473040" cy="473040"/>
          </a:xfrm>
          <a:custGeom>
            <a:avLst/>
            <a:gdLst/>
            <a:ahLst/>
            <a:rect l="l" t="t" r="r" b="b"/>
            <a:pathLst>
              <a:path w="1315" h="1315">
                <a:moveTo>
                  <a:pt x="9302" y="17735"/>
                </a:moveTo>
                <a:cubicBezTo>
                  <a:pt x="9240" y="17735"/>
                  <a:pt x="9209" y="17737"/>
                  <a:pt x="9153" y="17711"/>
                </a:cubicBezTo>
                <a:cubicBezTo>
                  <a:pt x="9112" y="17692"/>
                  <a:pt x="9054" y="17643"/>
                  <a:pt x="9004" y="17661"/>
                </a:cubicBezTo>
                <a:cubicBezTo>
                  <a:pt x="8908" y="17695"/>
                  <a:pt x="8965" y="17730"/>
                  <a:pt x="8905" y="17785"/>
                </a:cubicBezTo>
                <a:cubicBezTo>
                  <a:pt x="8857" y="17809"/>
                  <a:pt x="8840" y="17815"/>
                  <a:pt x="8855" y="17859"/>
                </a:cubicBezTo>
                <a:cubicBezTo>
                  <a:pt x="8926" y="17859"/>
                  <a:pt x="9025" y="17840"/>
                  <a:pt x="9079" y="17884"/>
                </a:cubicBezTo>
                <a:cubicBezTo>
                  <a:pt x="9141" y="17935"/>
                  <a:pt x="9159" y="17881"/>
                  <a:pt x="9203" y="17959"/>
                </a:cubicBezTo>
                <a:cubicBezTo>
                  <a:pt x="9221" y="17991"/>
                  <a:pt x="9247" y="18069"/>
                  <a:pt x="9227" y="18107"/>
                </a:cubicBezTo>
                <a:cubicBezTo>
                  <a:pt x="9183" y="18193"/>
                  <a:pt x="9119" y="18200"/>
                  <a:pt x="9029" y="18207"/>
                </a:cubicBezTo>
                <a:cubicBezTo>
                  <a:pt x="8955" y="18213"/>
                  <a:pt x="8960" y="18203"/>
                  <a:pt x="8930" y="18157"/>
                </a:cubicBezTo>
                <a:cubicBezTo>
                  <a:pt x="8922" y="18149"/>
                  <a:pt x="8913" y="18140"/>
                  <a:pt x="8905" y="18132"/>
                </a:cubicBezTo>
              </a:path>
              <a:path w="1315" h="1315">
                <a:moveTo>
                  <a:pt x="8781" y="17190"/>
                </a:moveTo>
                <a:cubicBezTo>
                  <a:pt x="8714" y="17195"/>
                  <a:pt x="8613" y="17204"/>
                  <a:pt x="8558" y="17239"/>
                </a:cubicBezTo>
                <a:cubicBezTo>
                  <a:pt x="8489" y="17283"/>
                  <a:pt x="8464" y="17356"/>
                  <a:pt x="8434" y="17413"/>
                </a:cubicBezTo>
                <a:cubicBezTo>
                  <a:pt x="8378" y="17520"/>
                  <a:pt x="8367" y="17597"/>
                  <a:pt x="8334" y="17711"/>
                </a:cubicBezTo>
                <a:cubicBezTo>
                  <a:pt x="8303" y="17816"/>
                  <a:pt x="8285" y="17899"/>
                  <a:pt x="8285" y="18008"/>
                </a:cubicBezTo>
                <a:cubicBezTo>
                  <a:pt x="8285" y="18071"/>
                  <a:pt x="8296" y="18166"/>
                  <a:pt x="8334" y="18207"/>
                </a:cubicBezTo>
                <a:cubicBezTo>
                  <a:pt x="8375" y="18250"/>
                  <a:pt x="8412" y="18312"/>
                  <a:pt x="8458" y="18355"/>
                </a:cubicBezTo>
                <a:cubicBezTo>
                  <a:pt x="8509" y="18403"/>
                  <a:pt x="8517" y="18435"/>
                  <a:pt x="8582" y="18479"/>
                </a:cubicBezTo>
                <a:cubicBezTo>
                  <a:pt x="8648" y="18524"/>
                  <a:pt x="8805" y="18517"/>
                  <a:pt x="8880" y="18504"/>
                </a:cubicBezTo>
                <a:cubicBezTo>
                  <a:pt x="8960" y="18490"/>
                  <a:pt x="9020" y="18479"/>
                  <a:pt x="9103" y="18479"/>
                </a:cubicBezTo>
                <a:cubicBezTo>
                  <a:pt x="9179" y="18479"/>
                  <a:pt x="9259" y="18493"/>
                  <a:pt x="9327" y="18455"/>
                </a:cubicBezTo>
                <a:cubicBezTo>
                  <a:pt x="9372" y="18429"/>
                  <a:pt x="9412" y="18391"/>
                  <a:pt x="9451" y="18355"/>
                </a:cubicBezTo>
                <a:cubicBezTo>
                  <a:pt x="9490" y="18318"/>
                  <a:pt x="9522" y="18275"/>
                  <a:pt x="9550" y="18231"/>
                </a:cubicBezTo>
                <a:cubicBezTo>
                  <a:pt x="9579" y="18184"/>
                  <a:pt x="9592" y="18111"/>
                  <a:pt x="9599" y="18058"/>
                </a:cubicBezTo>
                <a:cubicBezTo>
                  <a:pt x="9610" y="17981"/>
                  <a:pt x="9605" y="17879"/>
                  <a:pt x="9575" y="17810"/>
                </a:cubicBezTo>
                <a:cubicBezTo>
                  <a:pt x="9557" y="17769"/>
                  <a:pt x="9561" y="17697"/>
                  <a:pt x="9525" y="17661"/>
                </a:cubicBezTo>
                <a:cubicBezTo>
                  <a:pt x="9490" y="17626"/>
                  <a:pt x="9443" y="17567"/>
                  <a:pt x="9426" y="17512"/>
                </a:cubicBezTo>
                <a:cubicBezTo>
                  <a:pt x="9399" y="17424"/>
                  <a:pt x="9363" y="17392"/>
                  <a:pt x="9277" y="17338"/>
                </a:cubicBezTo>
                <a:cubicBezTo>
                  <a:pt x="9222" y="17304"/>
                  <a:pt x="9164" y="17314"/>
                  <a:pt x="9103" y="17314"/>
                </a:cubicBezTo>
                <a:cubicBezTo>
                  <a:pt x="9029" y="17314"/>
                  <a:pt x="8972" y="17308"/>
                  <a:pt x="8905" y="17338"/>
                </a:cubicBezTo>
                <a:cubicBezTo>
                  <a:pt x="8837" y="17368"/>
                  <a:pt x="8847" y="17338"/>
                  <a:pt x="8781" y="173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5200" y="2313000"/>
            <a:ext cx="606600" cy="349200"/>
          </a:xfrm>
          <a:custGeom>
            <a:avLst/>
            <a:gdLst/>
            <a:ahLst/>
            <a:rect l="l" t="t" r="r" b="b"/>
            <a:pathLst>
              <a:path w="1687" h="969">
                <a:moveTo>
                  <a:pt x="843" y="6474"/>
                </a:moveTo>
                <a:cubicBezTo>
                  <a:pt x="843" y="6615"/>
                  <a:pt x="855" y="6770"/>
                  <a:pt x="819" y="6896"/>
                </a:cubicBezTo>
                <a:cubicBezTo>
                  <a:pt x="809" y="6932"/>
                  <a:pt x="796" y="7004"/>
                  <a:pt x="819" y="6970"/>
                </a:cubicBezTo>
                <a:cubicBezTo>
                  <a:pt x="827" y="6962"/>
                  <a:pt x="835" y="6953"/>
                  <a:pt x="843" y="6945"/>
                </a:cubicBezTo>
              </a:path>
              <a:path w="1687" h="969">
                <a:moveTo>
                  <a:pt x="1116" y="6945"/>
                </a:moveTo>
                <a:cubicBezTo>
                  <a:pt x="1178" y="6961"/>
                  <a:pt x="1200" y="6997"/>
                  <a:pt x="1240" y="7045"/>
                </a:cubicBezTo>
                <a:cubicBezTo>
                  <a:pt x="1291" y="7105"/>
                  <a:pt x="1290" y="7141"/>
                  <a:pt x="1290" y="7218"/>
                </a:cubicBezTo>
                <a:cubicBezTo>
                  <a:pt x="1290" y="7301"/>
                  <a:pt x="1265" y="7291"/>
                  <a:pt x="1240" y="7367"/>
                </a:cubicBezTo>
                <a:cubicBezTo>
                  <a:pt x="1219" y="7428"/>
                  <a:pt x="1240" y="7340"/>
                  <a:pt x="1240" y="7317"/>
                </a:cubicBezTo>
              </a:path>
              <a:path w="1687" h="969">
                <a:moveTo>
                  <a:pt x="1637" y="6524"/>
                </a:moveTo>
                <a:cubicBezTo>
                  <a:pt x="1647" y="6495"/>
                  <a:pt x="1693" y="6464"/>
                  <a:pt x="1736" y="6449"/>
                </a:cubicBezTo>
                <a:cubicBezTo>
                  <a:pt x="1767" y="6438"/>
                  <a:pt x="1803" y="6431"/>
                  <a:pt x="1836" y="6424"/>
                </a:cubicBezTo>
                <a:cubicBezTo>
                  <a:pt x="1868" y="6491"/>
                  <a:pt x="1885" y="6525"/>
                  <a:pt x="1885" y="6598"/>
                </a:cubicBezTo>
                <a:cubicBezTo>
                  <a:pt x="1885" y="6661"/>
                  <a:pt x="1863" y="6722"/>
                  <a:pt x="1836" y="6772"/>
                </a:cubicBezTo>
                <a:cubicBezTo>
                  <a:pt x="1811" y="6818"/>
                  <a:pt x="1778" y="6912"/>
                  <a:pt x="1736" y="6945"/>
                </a:cubicBezTo>
                <a:cubicBezTo>
                  <a:pt x="1702" y="6971"/>
                  <a:pt x="1656" y="7010"/>
                  <a:pt x="1612" y="7045"/>
                </a:cubicBezTo>
                <a:cubicBezTo>
                  <a:pt x="1627" y="6993"/>
                  <a:pt x="1668" y="6916"/>
                  <a:pt x="1736" y="6896"/>
                </a:cubicBezTo>
                <a:cubicBezTo>
                  <a:pt x="1815" y="6873"/>
                  <a:pt x="1806" y="6991"/>
                  <a:pt x="1860" y="7020"/>
                </a:cubicBezTo>
                <a:cubicBezTo>
                  <a:pt x="1946" y="7066"/>
                  <a:pt x="1973" y="6996"/>
                  <a:pt x="2059" y="7069"/>
                </a:cubicBezTo>
              </a:path>
              <a:path w="1687" h="969">
                <a:moveTo>
                  <a:pt x="2332" y="6821"/>
                </a:moveTo>
                <a:cubicBezTo>
                  <a:pt x="2385" y="6821"/>
                  <a:pt x="2462" y="6838"/>
                  <a:pt x="2505" y="6796"/>
                </a:cubicBezTo>
                <a:cubicBezTo>
                  <a:pt x="2505" y="6788"/>
                  <a:pt x="2505" y="6780"/>
                  <a:pt x="2505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1080" y="2197080"/>
            <a:ext cx="1365120" cy="544680"/>
          </a:xfrm>
          <a:custGeom>
            <a:avLst/>
            <a:gdLst/>
            <a:ahLst/>
            <a:rect l="l" t="t" r="r" b="b"/>
            <a:pathLst>
              <a:path w="3796" h="1514">
                <a:moveTo>
                  <a:pt x="3249" y="6697"/>
                </a:moveTo>
                <a:cubicBezTo>
                  <a:pt x="3224" y="6662"/>
                  <a:pt x="3197" y="6611"/>
                  <a:pt x="3150" y="6598"/>
                </a:cubicBezTo>
                <a:cubicBezTo>
                  <a:pt x="3060" y="6574"/>
                  <a:pt x="3050" y="6692"/>
                  <a:pt x="3026" y="6747"/>
                </a:cubicBezTo>
                <a:cubicBezTo>
                  <a:pt x="3003" y="6799"/>
                  <a:pt x="3001" y="6817"/>
                  <a:pt x="3001" y="6871"/>
                </a:cubicBezTo>
                <a:cubicBezTo>
                  <a:pt x="3001" y="6933"/>
                  <a:pt x="2989" y="6991"/>
                  <a:pt x="3026" y="7045"/>
                </a:cubicBezTo>
                <a:cubicBezTo>
                  <a:pt x="3090" y="7139"/>
                  <a:pt x="3133" y="7129"/>
                  <a:pt x="3200" y="7069"/>
                </a:cubicBezTo>
                <a:cubicBezTo>
                  <a:pt x="3267" y="7008"/>
                  <a:pt x="3278" y="6976"/>
                  <a:pt x="3299" y="6896"/>
                </a:cubicBezTo>
                <a:cubicBezTo>
                  <a:pt x="3324" y="6801"/>
                  <a:pt x="3324" y="6721"/>
                  <a:pt x="3324" y="6623"/>
                </a:cubicBezTo>
                <a:cubicBezTo>
                  <a:pt x="3324" y="6482"/>
                  <a:pt x="3324" y="6342"/>
                  <a:pt x="3324" y="6201"/>
                </a:cubicBezTo>
                <a:cubicBezTo>
                  <a:pt x="3324" y="6138"/>
                  <a:pt x="3324" y="6256"/>
                  <a:pt x="3324" y="6276"/>
                </a:cubicBezTo>
                <a:cubicBezTo>
                  <a:pt x="3324" y="6452"/>
                  <a:pt x="3321" y="6628"/>
                  <a:pt x="3349" y="6796"/>
                </a:cubicBezTo>
                <a:cubicBezTo>
                  <a:pt x="3351" y="6809"/>
                  <a:pt x="3345" y="7104"/>
                  <a:pt x="3373" y="7094"/>
                </a:cubicBezTo>
                <a:cubicBezTo>
                  <a:pt x="3381" y="7078"/>
                  <a:pt x="3390" y="7061"/>
                  <a:pt x="3398" y="7045"/>
                </a:cubicBezTo>
              </a:path>
              <a:path w="3796" h="1514">
                <a:moveTo>
                  <a:pt x="3770" y="6821"/>
                </a:moveTo>
                <a:cubicBezTo>
                  <a:pt x="3760" y="6874"/>
                  <a:pt x="3746" y="6914"/>
                  <a:pt x="3746" y="6970"/>
                </a:cubicBezTo>
                <a:cubicBezTo>
                  <a:pt x="3746" y="6984"/>
                  <a:pt x="3746" y="7137"/>
                  <a:pt x="3746" y="7069"/>
                </a:cubicBezTo>
                <a:cubicBezTo>
                  <a:pt x="3746" y="7061"/>
                  <a:pt x="3746" y="7053"/>
                  <a:pt x="3746" y="7045"/>
                </a:cubicBezTo>
              </a:path>
              <a:path w="3796" h="1514">
                <a:moveTo>
                  <a:pt x="3721" y="6375"/>
                </a:moveTo>
                <a:cubicBezTo>
                  <a:pt x="3713" y="6375"/>
                  <a:pt x="3704" y="6375"/>
                  <a:pt x="3696" y="6375"/>
                </a:cubicBezTo>
              </a:path>
              <a:path w="3796" h="1514">
                <a:moveTo>
                  <a:pt x="4068" y="6796"/>
                </a:moveTo>
                <a:cubicBezTo>
                  <a:pt x="4068" y="6855"/>
                  <a:pt x="4089" y="6890"/>
                  <a:pt x="4093" y="6945"/>
                </a:cubicBezTo>
                <a:cubicBezTo>
                  <a:pt x="4097" y="7010"/>
                  <a:pt x="4093" y="7078"/>
                  <a:pt x="4093" y="7144"/>
                </a:cubicBezTo>
                <a:cubicBezTo>
                  <a:pt x="4093" y="7226"/>
                  <a:pt x="4092" y="7047"/>
                  <a:pt x="4093" y="7045"/>
                </a:cubicBezTo>
                <a:cubicBezTo>
                  <a:pt x="4107" y="6999"/>
                  <a:pt x="4120" y="6913"/>
                  <a:pt x="4142" y="6871"/>
                </a:cubicBezTo>
                <a:cubicBezTo>
                  <a:pt x="4165" y="6848"/>
                  <a:pt x="4173" y="6844"/>
                  <a:pt x="4167" y="6821"/>
                </a:cubicBezTo>
                <a:cubicBezTo>
                  <a:pt x="4226" y="6821"/>
                  <a:pt x="4293" y="6827"/>
                  <a:pt x="4316" y="6896"/>
                </a:cubicBezTo>
                <a:cubicBezTo>
                  <a:pt x="4341" y="6970"/>
                  <a:pt x="4316" y="7090"/>
                  <a:pt x="4316" y="7169"/>
                </a:cubicBezTo>
                <a:cubicBezTo>
                  <a:pt x="4336" y="7089"/>
                  <a:pt x="4377" y="7037"/>
                  <a:pt x="4390" y="6945"/>
                </a:cubicBezTo>
                <a:cubicBezTo>
                  <a:pt x="4397" y="6896"/>
                  <a:pt x="4411" y="6811"/>
                  <a:pt x="4440" y="6772"/>
                </a:cubicBezTo>
                <a:cubicBezTo>
                  <a:pt x="4457" y="6755"/>
                  <a:pt x="4473" y="6739"/>
                  <a:pt x="4490" y="6722"/>
                </a:cubicBezTo>
                <a:cubicBezTo>
                  <a:pt x="4522" y="6777"/>
                  <a:pt x="4553" y="6878"/>
                  <a:pt x="4564" y="6945"/>
                </a:cubicBezTo>
                <a:cubicBezTo>
                  <a:pt x="4573" y="7001"/>
                  <a:pt x="4536" y="7123"/>
                  <a:pt x="4589" y="7169"/>
                </a:cubicBezTo>
                <a:cubicBezTo>
                  <a:pt x="4628" y="7203"/>
                  <a:pt x="4614" y="7110"/>
                  <a:pt x="4614" y="7094"/>
                </a:cubicBezTo>
              </a:path>
              <a:path w="3796" h="1514">
                <a:moveTo>
                  <a:pt x="4862" y="6821"/>
                </a:moveTo>
                <a:cubicBezTo>
                  <a:pt x="4915" y="6821"/>
                  <a:pt x="4935" y="6805"/>
                  <a:pt x="4986" y="6796"/>
                </a:cubicBezTo>
                <a:cubicBezTo>
                  <a:pt x="5055" y="6784"/>
                  <a:pt x="5105" y="6791"/>
                  <a:pt x="5085" y="6697"/>
                </a:cubicBezTo>
                <a:cubicBezTo>
                  <a:pt x="5071" y="6632"/>
                  <a:pt x="5014" y="6579"/>
                  <a:pt x="4961" y="6573"/>
                </a:cubicBezTo>
                <a:cubicBezTo>
                  <a:pt x="4867" y="6562"/>
                  <a:pt x="4842" y="6616"/>
                  <a:pt x="4837" y="6697"/>
                </a:cubicBezTo>
                <a:cubicBezTo>
                  <a:pt x="4833" y="6776"/>
                  <a:pt x="4803" y="6986"/>
                  <a:pt x="4862" y="7045"/>
                </a:cubicBezTo>
                <a:cubicBezTo>
                  <a:pt x="4902" y="7085"/>
                  <a:pt x="5064" y="7086"/>
                  <a:pt x="5110" y="7069"/>
                </a:cubicBezTo>
                <a:cubicBezTo>
                  <a:pt x="5192" y="7039"/>
                  <a:pt x="5234" y="6983"/>
                  <a:pt x="5283" y="6921"/>
                </a:cubicBezTo>
              </a:path>
              <a:path w="3796" h="1514">
                <a:moveTo>
                  <a:pt x="5457" y="6325"/>
                </a:moveTo>
                <a:cubicBezTo>
                  <a:pt x="5429" y="6454"/>
                  <a:pt x="5440" y="6498"/>
                  <a:pt x="5482" y="6623"/>
                </a:cubicBezTo>
                <a:cubicBezTo>
                  <a:pt x="5513" y="6715"/>
                  <a:pt x="5507" y="6799"/>
                  <a:pt x="5507" y="6896"/>
                </a:cubicBezTo>
                <a:cubicBezTo>
                  <a:pt x="5507" y="6924"/>
                  <a:pt x="5486" y="7198"/>
                  <a:pt x="5482" y="7193"/>
                </a:cubicBezTo>
                <a:cubicBezTo>
                  <a:pt x="5474" y="7168"/>
                  <a:pt x="5465" y="7144"/>
                  <a:pt x="5457" y="7119"/>
                </a:cubicBezTo>
              </a:path>
              <a:path w="3796" h="1514">
                <a:moveTo>
                  <a:pt x="5308" y="6697"/>
                </a:moveTo>
                <a:cubicBezTo>
                  <a:pt x="5354" y="6630"/>
                  <a:pt x="5372" y="6648"/>
                  <a:pt x="5457" y="6648"/>
                </a:cubicBezTo>
                <a:cubicBezTo>
                  <a:pt x="5519" y="6648"/>
                  <a:pt x="5666" y="6674"/>
                  <a:pt x="5705" y="6623"/>
                </a:cubicBezTo>
                <a:cubicBezTo>
                  <a:pt x="5713" y="6606"/>
                  <a:pt x="5722" y="6590"/>
                  <a:pt x="5730" y="6573"/>
                </a:cubicBezTo>
              </a:path>
              <a:path w="3796" h="1514">
                <a:moveTo>
                  <a:pt x="5854" y="6226"/>
                </a:moveTo>
                <a:cubicBezTo>
                  <a:pt x="5799" y="6218"/>
                  <a:pt x="5766" y="6229"/>
                  <a:pt x="5755" y="6300"/>
                </a:cubicBezTo>
                <a:cubicBezTo>
                  <a:pt x="5717" y="6552"/>
                  <a:pt x="5755" y="6839"/>
                  <a:pt x="5755" y="7094"/>
                </a:cubicBezTo>
                <a:cubicBezTo>
                  <a:pt x="5783" y="7075"/>
                  <a:pt x="5803" y="6995"/>
                  <a:pt x="5829" y="6945"/>
                </a:cubicBezTo>
                <a:cubicBezTo>
                  <a:pt x="5863" y="6877"/>
                  <a:pt x="5859" y="6792"/>
                  <a:pt x="5928" y="6747"/>
                </a:cubicBezTo>
                <a:cubicBezTo>
                  <a:pt x="5945" y="6739"/>
                  <a:pt x="5961" y="6730"/>
                  <a:pt x="5978" y="6722"/>
                </a:cubicBezTo>
                <a:cubicBezTo>
                  <a:pt x="6035" y="6764"/>
                  <a:pt x="6048" y="6841"/>
                  <a:pt x="6052" y="6921"/>
                </a:cubicBezTo>
                <a:cubicBezTo>
                  <a:pt x="6055" y="6992"/>
                  <a:pt x="6038" y="7150"/>
                  <a:pt x="6102" y="7119"/>
                </a:cubicBezTo>
                <a:cubicBezTo>
                  <a:pt x="6124" y="7054"/>
                  <a:pt x="6132" y="7039"/>
                  <a:pt x="6127" y="6995"/>
                </a:cubicBezTo>
              </a:path>
              <a:path w="3796" h="1514">
                <a:moveTo>
                  <a:pt x="6226" y="6796"/>
                </a:moveTo>
                <a:cubicBezTo>
                  <a:pt x="6226" y="6879"/>
                  <a:pt x="6209" y="6972"/>
                  <a:pt x="6251" y="7045"/>
                </a:cubicBezTo>
                <a:cubicBezTo>
                  <a:pt x="6291" y="7115"/>
                  <a:pt x="6361" y="7044"/>
                  <a:pt x="6400" y="7020"/>
                </a:cubicBezTo>
                <a:cubicBezTo>
                  <a:pt x="6447" y="6992"/>
                  <a:pt x="6470" y="6951"/>
                  <a:pt x="6474" y="6896"/>
                </a:cubicBezTo>
                <a:cubicBezTo>
                  <a:pt x="6479" y="6822"/>
                  <a:pt x="6474" y="6746"/>
                  <a:pt x="6474" y="6672"/>
                </a:cubicBezTo>
                <a:cubicBezTo>
                  <a:pt x="6506" y="6714"/>
                  <a:pt x="6516" y="6791"/>
                  <a:pt x="6524" y="6846"/>
                </a:cubicBezTo>
                <a:cubicBezTo>
                  <a:pt x="6536" y="6928"/>
                  <a:pt x="6567" y="6991"/>
                  <a:pt x="6573" y="7069"/>
                </a:cubicBezTo>
                <a:cubicBezTo>
                  <a:pt x="6580" y="7155"/>
                  <a:pt x="6640" y="7256"/>
                  <a:pt x="6623" y="7342"/>
                </a:cubicBezTo>
                <a:cubicBezTo>
                  <a:pt x="6609" y="7409"/>
                  <a:pt x="6541" y="7477"/>
                  <a:pt x="6499" y="7516"/>
                </a:cubicBezTo>
                <a:cubicBezTo>
                  <a:pt x="6459" y="7553"/>
                  <a:pt x="6415" y="7575"/>
                  <a:pt x="6375" y="7615"/>
                </a:cubicBezTo>
                <a:cubicBezTo>
                  <a:pt x="6291" y="7567"/>
                  <a:pt x="6269" y="7553"/>
                  <a:pt x="6226" y="7466"/>
                </a:cubicBezTo>
              </a:path>
              <a:path w="3796" h="1514">
                <a:moveTo>
                  <a:pt x="6722" y="6102"/>
                </a:moveTo>
                <a:cubicBezTo>
                  <a:pt x="6706" y="6145"/>
                  <a:pt x="6672" y="6228"/>
                  <a:pt x="6697" y="6276"/>
                </a:cubicBezTo>
                <a:cubicBezTo>
                  <a:pt x="6735" y="6351"/>
                  <a:pt x="6747" y="6382"/>
                  <a:pt x="6747" y="6474"/>
                </a:cubicBezTo>
                <a:cubicBezTo>
                  <a:pt x="6747" y="6551"/>
                  <a:pt x="6737" y="6625"/>
                  <a:pt x="6772" y="6697"/>
                </a:cubicBezTo>
                <a:cubicBezTo>
                  <a:pt x="6806" y="6767"/>
                  <a:pt x="6776" y="6788"/>
                  <a:pt x="6772" y="6871"/>
                </a:cubicBezTo>
                <a:cubicBezTo>
                  <a:pt x="6770" y="6912"/>
                  <a:pt x="6772" y="7003"/>
                  <a:pt x="6796" y="6970"/>
                </a:cubicBezTo>
                <a:cubicBezTo>
                  <a:pt x="6796" y="6962"/>
                  <a:pt x="6796" y="6953"/>
                  <a:pt x="6796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640" y="2295360"/>
            <a:ext cx="188640" cy="473400"/>
          </a:xfrm>
          <a:custGeom>
            <a:avLst/>
            <a:gdLst/>
            <a:ahLst/>
            <a:rect l="l" t="t" r="r" b="b"/>
            <a:pathLst>
              <a:path w="522" h="1315">
                <a:moveTo>
                  <a:pt x="9525" y="6400"/>
                </a:moveTo>
                <a:cubicBezTo>
                  <a:pt x="9461" y="6378"/>
                  <a:pt x="9521" y="6460"/>
                  <a:pt x="9525" y="6524"/>
                </a:cubicBezTo>
                <a:cubicBezTo>
                  <a:pt x="9537" y="6742"/>
                  <a:pt x="9586" y="7320"/>
                  <a:pt x="9500" y="7119"/>
                </a:cubicBezTo>
                <a:cubicBezTo>
                  <a:pt x="9500" y="7111"/>
                  <a:pt x="9500" y="7102"/>
                  <a:pt x="9500" y="7094"/>
                </a:cubicBezTo>
              </a:path>
              <a:path w="522" h="1315">
                <a:moveTo>
                  <a:pt x="9847" y="7020"/>
                </a:moveTo>
                <a:cubicBezTo>
                  <a:pt x="9884" y="7057"/>
                  <a:pt x="9929" y="7081"/>
                  <a:pt x="9947" y="7119"/>
                </a:cubicBezTo>
                <a:cubicBezTo>
                  <a:pt x="9984" y="7196"/>
                  <a:pt x="10021" y="7206"/>
                  <a:pt x="10021" y="7293"/>
                </a:cubicBezTo>
                <a:cubicBezTo>
                  <a:pt x="10021" y="7370"/>
                  <a:pt x="10047" y="7498"/>
                  <a:pt x="9996" y="7565"/>
                </a:cubicBezTo>
                <a:cubicBezTo>
                  <a:pt x="9954" y="7620"/>
                  <a:pt x="9911" y="7635"/>
                  <a:pt x="9872" y="7689"/>
                </a:cubicBezTo>
                <a:cubicBezTo>
                  <a:pt x="9872" y="7640"/>
                  <a:pt x="9872" y="7623"/>
                  <a:pt x="9872" y="75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76760" y="2320920"/>
            <a:ext cx="171360" cy="331920"/>
          </a:xfrm>
          <a:custGeom>
            <a:avLst/>
            <a:gdLst/>
            <a:ahLst/>
            <a:rect l="l" t="t" r="r" b="b"/>
            <a:pathLst>
              <a:path w="473" h="919">
                <a:moveTo>
                  <a:pt x="10517" y="6747"/>
                </a:moveTo>
                <a:cubicBezTo>
                  <a:pt x="10485" y="6673"/>
                  <a:pt x="10487" y="6678"/>
                  <a:pt x="10542" y="6623"/>
                </a:cubicBezTo>
                <a:cubicBezTo>
                  <a:pt x="10600" y="6565"/>
                  <a:pt x="10647" y="6515"/>
                  <a:pt x="10666" y="6449"/>
                </a:cubicBezTo>
                <a:cubicBezTo>
                  <a:pt x="10777" y="6449"/>
                  <a:pt x="10760" y="6485"/>
                  <a:pt x="10815" y="6573"/>
                </a:cubicBezTo>
                <a:cubicBezTo>
                  <a:pt x="10835" y="6605"/>
                  <a:pt x="10862" y="6653"/>
                  <a:pt x="10840" y="6697"/>
                </a:cubicBezTo>
                <a:cubicBezTo>
                  <a:pt x="10817" y="6742"/>
                  <a:pt x="10776" y="6784"/>
                  <a:pt x="10740" y="6821"/>
                </a:cubicBezTo>
                <a:cubicBezTo>
                  <a:pt x="10711" y="6851"/>
                  <a:pt x="10700" y="6866"/>
                  <a:pt x="10691" y="6896"/>
                </a:cubicBezTo>
                <a:cubicBezTo>
                  <a:pt x="10744" y="6883"/>
                  <a:pt x="10776" y="6871"/>
                  <a:pt x="10840" y="6871"/>
                </a:cubicBezTo>
                <a:cubicBezTo>
                  <a:pt x="10923" y="6871"/>
                  <a:pt x="10950" y="6949"/>
                  <a:pt x="10964" y="7020"/>
                </a:cubicBezTo>
                <a:cubicBezTo>
                  <a:pt x="10979" y="7098"/>
                  <a:pt x="10950" y="7133"/>
                  <a:pt x="10914" y="7193"/>
                </a:cubicBezTo>
                <a:cubicBezTo>
                  <a:pt x="10865" y="7274"/>
                  <a:pt x="10873" y="7260"/>
                  <a:pt x="10790" y="7317"/>
                </a:cubicBezTo>
                <a:cubicBezTo>
                  <a:pt x="10745" y="7348"/>
                  <a:pt x="10703" y="7388"/>
                  <a:pt x="10641" y="7367"/>
                </a:cubicBezTo>
                <a:cubicBezTo>
                  <a:pt x="10592" y="7351"/>
                  <a:pt x="10531" y="7288"/>
                  <a:pt x="10592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71960" y="2062080"/>
            <a:ext cx="420840" cy="5018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11336" y="6896"/>
                </a:moveTo>
                <a:cubicBezTo>
                  <a:pt x="11328" y="6879"/>
                  <a:pt x="11319" y="6863"/>
                  <a:pt x="11311" y="6846"/>
                </a:cubicBezTo>
                <a:cubicBezTo>
                  <a:pt x="11377" y="6846"/>
                  <a:pt x="11431" y="6833"/>
                  <a:pt x="11485" y="6821"/>
                </a:cubicBezTo>
                <a:cubicBezTo>
                  <a:pt x="11556" y="6806"/>
                  <a:pt x="11637" y="6805"/>
                  <a:pt x="11708" y="6796"/>
                </a:cubicBezTo>
              </a:path>
              <a:path w="1167" h="1390">
                <a:moveTo>
                  <a:pt x="12477" y="6796"/>
                </a:moveTo>
                <a:cubicBezTo>
                  <a:pt x="12402" y="6749"/>
                  <a:pt x="12342" y="6702"/>
                  <a:pt x="12254" y="6697"/>
                </a:cubicBezTo>
                <a:cubicBezTo>
                  <a:pt x="12201" y="6694"/>
                  <a:pt x="12099" y="6714"/>
                  <a:pt x="12080" y="6747"/>
                </a:cubicBezTo>
                <a:cubicBezTo>
                  <a:pt x="12064" y="6774"/>
                  <a:pt x="12038" y="6863"/>
                  <a:pt x="12030" y="6896"/>
                </a:cubicBezTo>
                <a:cubicBezTo>
                  <a:pt x="12015" y="6964"/>
                  <a:pt x="12078" y="7033"/>
                  <a:pt x="12129" y="7069"/>
                </a:cubicBezTo>
                <a:cubicBezTo>
                  <a:pt x="12162" y="7092"/>
                  <a:pt x="12234" y="7146"/>
                  <a:pt x="12278" y="7119"/>
                </a:cubicBezTo>
                <a:cubicBezTo>
                  <a:pt x="12308" y="7101"/>
                  <a:pt x="12344" y="6947"/>
                  <a:pt x="12353" y="6921"/>
                </a:cubicBezTo>
                <a:cubicBezTo>
                  <a:pt x="12390" y="6816"/>
                  <a:pt x="12430" y="6708"/>
                  <a:pt x="12452" y="6598"/>
                </a:cubicBezTo>
                <a:cubicBezTo>
                  <a:pt x="12487" y="6426"/>
                  <a:pt x="12496" y="6227"/>
                  <a:pt x="12477" y="6052"/>
                </a:cubicBezTo>
                <a:cubicBezTo>
                  <a:pt x="12465" y="5941"/>
                  <a:pt x="12453" y="5631"/>
                  <a:pt x="12402" y="5730"/>
                </a:cubicBezTo>
                <a:cubicBezTo>
                  <a:pt x="12377" y="5777"/>
                  <a:pt x="12427" y="5823"/>
                  <a:pt x="12452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232092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12973" y="6871"/>
                </a:moveTo>
                <a:cubicBezTo>
                  <a:pt x="12965" y="6863"/>
                  <a:pt x="12956" y="6854"/>
                  <a:pt x="12948" y="6846"/>
                </a:cubicBezTo>
                <a:cubicBezTo>
                  <a:pt x="12929" y="6910"/>
                  <a:pt x="12923" y="6934"/>
                  <a:pt x="12923" y="6995"/>
                </a:cubicBezTo>
                <a:cubicBezTo>
                  <a:pt x="12923" y="7073"/>
                  <a:pt x="12939" y="7074"/>
                  <a:pt x="12898" y="7020"/>
                </a:cubicBezTo>
              </a:path>
              <a:path w="76" h="621">
                <a:moveTo>
                  <a:pt x="12898" y="6524"/>
                </a:moveTo>
                <a:cubicBezTo>
                  <a:pt x="12898" y="6479"/>
                  <a:pt x="12895" y="6466"/>
                  <a:pt x="12923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48120" y="2116080"/>
            <a:ext cx="1054080" cy="615960"/>
          </a:xfrm>
          <a:custGeom>
            <a:avLst/>
            <a:gdLst/>
            <a:ahLst/>
            <a:rect l="l" t="t" r="r" b="b"/>
            <a:pathLst>
              <a:path w="2928" h="1712">
                <a:moveTo>
                  <a:pt x="13469" y="6846"/>
                </a:moveTo>
                <a:cubicBezTo>
                  <a:pt x="13469" y="6770"/>
                  <a:pt x="13469" y="6907"/>
                  <a:pt x="13469" y="6921"/>
                </a:cubicBezTo>
                <a:cubicBezTo>
                  <a:pt x="13469" y="6970"/>
                  <a:pt x="13469" y="7020"/>
                  <a:pt x="13469" y="7069"/>
                </a:cubicBezTo>
                <a:cubicBezTo>
                  <a:pt x="13469" y="6968"/>
                  <a:pt x="13457" y="6868"/>
                  <a:pt x="13494" y="6772"/>
                </a:cubicBezTo>
                <a:cubicBezTo>
                  <a:pt x="13509" y="6734"/>
                  <a:pt x="13532" y="6631"/>
                  <a:pt x="13593" y="6648"/>
                </a:cubicBezTo>
                <a:cubicBezTo>
                  <a:pt x="13656" y="6666"/>
                  <a:pt x="13672" y="6759"/>
                  <a:pt x="13692" y="6796"/>
                </a:cubicBezTo>
                <a:cubicBezTo>
                  <a:pt x="13724" y="6855"/>
                  <a:pt x="13742" y="6873"/>
                  <a:pt x="13742" y="6945"/>
                </a:cubicBezTo>
                <a:cubicBezTo>
                  <a:pt x="13742" y="7021"/>
                  <a:pt x="13742" y="6885"/>
                  <a:pt x="13742" y="6871"/>
                </a:cubicBezTo>
                <a:cubicBezTo>
                  <a:pt x="13742" y="6803"/>
                  <a:pt x="13733" y="6721"/>
                  <a:pt x="13791" y="6672"/>
                </a:cubicBezTo>
                <a:cubicBezTo>
                  <a:pt x="13842" y="6628"/>
                  <a:pt x="13901" y="6606"/>
                  <a:pt x="13965" y="6598"/>
                </a:cubicBezTo>
                <a:cubicBezTo>
                  <a:pt x="13978" y="6664"/>
                  <a:pt x="14028" y="6730"/>
                  <a:pt x="14039" y="6796"/>
                </a:cubicBezTo>
                <a:cubicBezTo>
                  <a:pt x="14049" y="6856"/>
                  <a:pt x="14085" y="6918"/>
                  <a:pt x="14089" y="6970"/>
                </a:cubicBezTo>
                <a:cubicBezTo>
                  <a:pt x="14091" y="6996"/>
                  <a:pt x="14083" y="7178"/>
                  <a:pt x="14114" y="6995"/>
                </a:cubicBezTo>
                <a:cubicBezTo>
                  <a:pt x="14114" y="6978"/>
                  <a:pt x="14114" y="6962"/>
                  <a:pt x="14114" y="6945"/>
                </a:cubicBezTo>
              </a:path>
              <a:path w="2928" h="1712">
                <a:moveTo>
                  <a:pt x="14288" y="6772"/>
                </a:moveTo>
                <a:cubicBezTo>
                  <a:pt x="14307" y="6713"/>
                  <a:pt x="14332" y="6705"/>
                  <a:pt x="14412" y="6697"/>
                </a:cubicBezTo>
                <a:cubicBezTo>
                  <a:pt x="14463" y="6692"/>
                  <a:pt x="14506" y="6713"/>
                  <a:pt x="14511" y="6648"/>
                </a:cubicBezTo>
                <a:cubicBezTo>
                  <a:pt x="14516" y="6579"/>
                  <a:pt x="14478" y="6555"/>
                  <a:pt x="14412" y="6548"/>
                </a:cubicBezTo>
                <a:cubicBezTo>
                  <a:pt x="14372" y="6544"/>
                  <a:pt x="14330" y="6557"/>
                  <a:pt x="14312" y="6598"/>
                </a:cubicBezTo>
                <a:cubicBezTo>
                  <a:pt x="14289" y="6649"/>
                  <a:pt x="14250" y="6710"/>
                  <a:pt x="14238" y="6772"/>
                </a:cubicBezTo>
                <a:cubicBezTo>
                  <a:pt x="14227" y="6829"/>
                  <a:pt x="14242" y="6906"/>
                  <a:pt x="14288" y="6945"/>
                </a:cubicBezTo>
                <a:cubicBezTo>
                  <a:pt x="14338" y="6988"/>
                  <a:pt x="14423" y="7017"/>
                  <a:pt x="14486" y="7020"/>
                </a:cubicBezTo>
                <a:cubicBezTo>
                  <a:pt x="14570" y="7024"/>
                  <a:pt x="14621" y="6997"/>
                  <a:pt x="14684" y="6945"/>
                </a:cubicBezTo>
              </a:path>
              <a:path w="2928" h="1712">
                <a:moveTo>
                  <a:pt x="14808" y="6449"/>
                </a:moveTo>
                <a:cubicBezTo>
                  <a:pt x="14808" y="6532"/>
                  <a:pt x="14820" y="6596"/>
                  <a:pt x="14833" y="6672"/>
                </a:cubicBezTo>
                <a:cubicBezTo>
                  <a:pt x="14844" y="6737"/>
                  <a:pt x="14833" y="7124"/>
                  <a:pt x="14833" y="6945"/>
                </a:cubicBezTo>
              </a:path>
              <a:path w="2928" h="1712">
                <a:moveTo>
                  <a:pt x="14660" y="6722"/>
                </a:moveTo>
                <a:cubicBezTo>
                  <a:pt x="14714" y="6755"/>
                  <a:pt x="14765" y="6747"/>
                  <a:pt x="14833" y="6747"/>
                </a:cubicBezTo>
                <a:cubicBezTo>
                  <a:pt x="14891" y="6747"/>
                  <a:pt x="15009" y="6769"/>
                  <a:pt x="15056" y="6722"/>
                </a:cubicBezTo>
                <a:cubicBezTo>
                  <a:pt x="15089" y="6689"/>
                  <a:pt x="15172" y="6592"/>
                  <a:pt x="15180" y="6548"/>
                </a:cubicBezTo>
                <a:cubicBezTo>
                  <a:pt x="15194" y="6468"/>
                  <a:pt x="15258" y="6300"/>
                  <a:pt x="15255" y="6226"/>
                </a:cubicBezTo>
                <a:cubicBezTo>
                  <a:pt x="15255" y="6191"/>
                  <a:pt x="15250" y="6174"/>
                  <a:pt x="15230" y="6152"/>
                </a:cubicBezTo>
                <a:cubicBezTo>
                  <a:pt x="15181" y="6225"/>
                  <a:pt x="15167" y="6305"/>
                  <a:pt x="15156" y="6400"/>
                </a:cubicBezTo>
                <a:cubicBezTo>
                  <a:pt x="15138" y="6559"/>
                  <a:pt x="15159" y="6714"/>
                  <a:pt x="15131" y="6871"/>
                </a:cubicBezTo>
                <a:cubicBezTo>
                  <a:pt x="15131" y="6879"/>
                  <a:pt x="15131" y="6888"/>
                  <a:pt x="15131" y="6896"/>
                </a:cubicBezTo>
                <a:cubicBezTo>
                  <a:pt x="15181" y="6832"/>
                  <a:pt x="15220" y="6706"/>
                  <a:pt x="15304" y="6672"/>
                </a:cubicBezTo>
                <a:cubicBezTo>
                  <a:pt x="15376" y="6643"/>
                  <a:pt x="15422" y="6695"/>
                  <a:pt x="15453" y="6747"/>
                </a:cubicBezTo>
                <a:cubicBezTo>
                  <a:pt x="15490" y="6810"/>
                  <a:pt x="15462" y="6856"/>
                  <a:pt x="15478" y="6921"/>
                </a:cubicBezTo>
                <a:cubicBezTo>
                  <a:pt x="15498" y="6961"/>
                  <a:pt x="15497" y="6977"/>
                  <a:pt x="15528" y="6970"/>
                </a:cubicBezTo>
              </a:path>
              <a:path w="2928" h="1712">
                <a:moveTo>
                  <a:pt x="15677" y="6598"/>
                </a:moveTo>
                <a:cubicBezTo>
                  <a:pt x="15653" y="6687"/>
                  <a:pt x="15641" y="6722"/>
                  <a:pt x="15701" y="6796"/>
                </a:cubicBezTo>
                <a:cubicBezTo>
                  <a:pt x="15771" y="6881"/>
                  <a:pt x="15824" y="6910"/>
                  <a:pt x="15900" y="6796"/>
                </a:cubicBezTo>
                <a:cubicBezTo>
                  <a:pt x="15923" y="6762"/>
                  <a:pt x="15961" y="6666"/>
                  <a:pt x="15974" y="6623"/>
                </a:cubicBezTo>
                <a:cubicBezTo>
                  <a:pt x="15992" y="6565"/>
                  <a:pt x="15967" y="6527"/>
                  <a:pt x="15999" y="6474"/>
                </a:cubicBezTo>
                <a:cubicBezTo>
                  <a:pt x="16029" y="6553"/>
                  <a:pt x="16033" y="6638"/>
                  <a:pt x="16049" y="6722"/>
                </a:cubicBezTo>
                <a:cubicBezTo>
                  <a:pt x="16075" y="6863"/>
                  <a:pt x="16119" y="7002"/>
                  <a:pt x="16123" y="7144"/>
                </a:cubicBezTo>
                <a:cubicBezTo>
                  <a:pt x="16125" y="7225"/>
                  <a:pt x="16122" y="7362"/>
                  <a:pt x="16098" y="7441"/>
                </a:cubicBezTo>
                <a:cubicBezTo>
                  <a:pt x="16079" y="7505"/>
                  <a:pt x="16008" y="7542"/>
                  <a:pt x="15949" y="7565"/>
                </a:cubicBezTo>
                <a:cubicBezTo>
                  <a:pt x="15914" y="7579"/>
                  <a:pt x="15791" y="7617"/>
                  <a:pt x="15751" y="7590"/>
                </a:cubicBezTo>
                <a:cubicBezTo>
                  <a:pt x="15668" y="7535"/>
                  <a:pt x="15658" y="7479"/>
                  <a:pt x="15627" y="7392"/>
                </a:cubicBezTo>
              </a:path>
              <a:path w="2928" h="1712">
                <a:moveTo>
                  <a:pt x="16371" y="5879"/>
                </a:moveTo>
                <a:cubicBezTo>
                  <a:pt x="16371" y="6053"/>
                  <a:pt x="16290" y="6701"/>
                  <a:pt x="16396" y="67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589120"/>
            <a:ext cx="46080" cy="24156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9025" y="7193"/>
                </a:moveTo>
                <a:cubicBezTo>
                  <a:pt x="19009" y="7193"/>
                  <a:pt x="18992" y="7193"/>
                  <a:pt x="18976" y="7193"/>
                </a:cubicBezTo>
                <a:cubicBezTo>
                  <a:pt x="18976" y="7321"/>
                  <a:pt x="18965" y="7441"/>
                  <a:pt x="18951" y="7565"/>
                </a:cubicBezTo>
                <a:cubicBezTo>
                  <a:pt x="18943" y="7633"/>
                  <a:pt x="18951" y="7749"/>
                  <a:pt x="18926" y="7813"/>
                </a:cubicBezTo>
                <a:cubicBezTo>
                  <a:pt x="18891" y="7903"/>
                  <a:pt x="18908" y="7821"/>
                  <a:pt x="18951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3920" y="2652840"/>
            <a:ext cx="277920" cy="384120"/>
          </a:xfrm>
          <a:custGeom>
            <a:avLst/>
            <a:gdLst/>
            <a:ahLst/>
            <a:rect l="l" t="t" r="r" b="b"/>
            <a:pathLst>
              <a:path w="770" h="1068">
                <a:moveTo>
                  <a:pt x="19372" y="7789"/>
                </a:moveTo>
                <a:cubicBezTo>
                  <a:pt x="19409" y="7801"/>
                  <a:pt x="19454" y="7849"/>
                  <a:pt x="19496" y="7888"/>
                </a:cubicBezTo>
                <a:cubicBezTo>
                  <a:pt x="19535" y="7925"/>
                  <a:pt x="19567" y="7984"/>
                  <a:pt x="19571" y="8037"/>
                </a:cubicBezTo>
                <a:cubicBezTo>
                  <a:pt x="19576" y="8117"/>
                  <a:pt x="19528" y="8213"/>
                  <a:pt x="19496" y="8285"/>
                </a:cubicBezTo>
                <a:cubicBezTo>
                  <a:pt x="19465" y="8354"/>
                  <a:pt x="19441" y="8341"/>
                  <a:pt x="19422" y="8409"/>
                </a:cubicBezTo>
                <a:cubicBezTo>
                  <a:pt x="19409" y="8402"/>
                  <a:pt x="19416" y="8328"/>
                  <a:pt x="19422" y="8235"/>
                </a:cubicBezTo>
              </a:path>
              <a:path w="770" h="1068">
                <a:moveTo>
                  <a:pt x="19745" y="7491"/>
                </a:moveTo>
                <a:cubicBezTo>
                  <a:pt x="19745" y="7606"/>
                  <a:pt x="19741" y="7702"/>
                  <a:pt x="19720" y="7813"/>
                </a:cubicBezTo>
                <a:cubicBezTo>
                  <a:pt x="19708" y="7877"/>
                  <a:pt x="19805" y="7874"/>
                  <a:pt x="19844" y="7863"/>
                </a:cubicBezTo>
                <a:cubicBezTo>
                  <a:pt x="19904" y="7846"/>
                  <a:pt x="19928" y="7838"/>
                  <a:pt x="19993" y="7838"/>
                </a:cubicBezTo>
                <a:cubicBezTo>
                  <a:pt x="20044" y="7838"/>
                  <a:pt x="20105" y="7900"/>
                  <a:pt x="20141" y="7863"/>
                </a:cubicBezTo>
                <a:cubicBezTo>
                  <a:pt x="20141" y="7846"/>
                  <a:pt x="20141" y="7830"/>
                  <a:pt x="20141" y="7813"/>
                </a:cubicBezTo>
              </a:path>
              <a:path w="770" h="1068">
                <a:moveTo>
                  <a:pt x="20017" y="7367"/>
                </a:moveTo>
                <a:cubicBezTo>
                  <a:pt x="20017" y="7478"/>
                  <a:pt x="20003" y="7582"/>
                  <a:pt x="19993" y="7689"/>
                </a:cubicBezTo>
                <a:cubicBezTo>
                  <a:pt x="19980" y="7829"/>
                  <a:pt x="19973" y="7971"/>
                  <a:pt x="19968" y="8111"/>
                </a:cubicBezTo>
                <a:cubicBezTo>
                  <a:pt x="19966" y="8177"/>
                  <a:pt x="19968" y="8244"/>
                  <a:pt x="19968" y="8310"/>
                </a:cubicBezTo>
                <a:cubicBezTo>
                  <a:pt x="19968" y="8376"/>
                  <a:pt x="19947" y="8247"/>
                  <a:pt x="19943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2040" y="283068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20588" y="7888"/>
                </a:moveTo>
                <a:cubicBezTo>
                  <a:pt x="20631" y="7888"/>
                  <a:pt x="20755" y="7871"/>
                  <a:pt x="20712" y="7863"/>
                </a:cubicBezTo>
                <a:cubicBezTo>
                  <a:pt x="20695" y="7863"/>
                  <a:pt x="20679" y="7863"/>
                  <a:pt x="20662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89880" y="2643120"/>
            <a:ext cx="241200" cy="339840"/>
          </a:xfrm>
          <a:custGeom>
            <a:avLst/>
            <a:gdLst/>
            <a:ahLst/>
            <a:rect l="l" t="t" r="r" b="b"/>
            <a:pathLst>
              <a:path w="671" h="944">
                <a:moveTo>
                  <a:pt x="21357" y="7813"/>
                </a:moveTo>
                <a:cubicBezTo>
                  <a:pt x="21331" y="7767"/>
                  <a:pt x="21307" y="7700"/>
                  <a:pt x="21233" y="7739"/>
                </a:cubicBezTo>
                <a:cubicBezTo>
                  <a:pt x="21183" y="7766"/>
                  <a:pt x="21123" y="7826"/>
                  <a:pt x="21109" y="7888"/>
                </a:cubicBezTo>
                <a:cubicBezTo>
                  <a:pt x="21094" y="7950"/>
                  <a:pt x="21088" y="8022"/>
                  <a:pt x="21084" y="8086"/>
                </a:cubicBezTo>
                <a:cubicBezTo>
                  <a:pt x="21081" y="8133"/>
                  <a:pt x="21153" y="8195"/>
                  <a:pt x="21183" y="8210"/>
                </a:cubicBezTo>
                <a:cubicBezTo>
                  <a:pt x="21228" y="8233"/>
                  <a:pt x="21286" y="8285"/>
                  <a:pt x="21332" y="8235"/>
                </a:cubicBezTo>
                <a:cubicBezTo>
                  <a:pt x="21366" y="8198"/>
                  <a:pt x="21394" y="8062"/>
                  <a:pt x="21406" y="8012"/>
                </a:cubicBezTo>
                <a:cubicBezTo>
                  <a:pt x="21437" y="7887"/>
                  <a:pt x="21431" y="7768"/>
                  <a:pt x="21431" y="7640"/>
                </a:cubicBezTo>
                <a:cubicBezTo>
                  <a:pt x="21431" y="7553"/>
                  <a:pt x="21406" y="7479"/>
                  <a:pt x="21406" y="7392"/>
                </a:cubicBezTo>
                <a:cubicBezTo>
                  <a:pt x="21406" y="7375"/>
                  <a:pt x="21406" y="7359"/>
                  <a:pt x="21406" y="7342"/>
                </a:cubicBezTo>
                <a:cubicBezTo>
                  <a:pt x="21382" y="7407"/>
                  <a:pt x="21364" y="7496"/>
                  <a:pt x="21357" y="7565"/>
                </a:cubicBezTo>
                <a:cubicBezTo>
                  <a:pt x="21344" y="7699"/>
                  <a:pt x="21350" y="7830"/>
                  <a:pt x="21332" y="7962"/>
                </a:cubicBezTo>
                <a:cubicBezTo>
                  <a:pt x="21324" y="8017"/>
                  <a:pt x="21313" y="8146"/>
                  <a:pt x="21357" y="8161"/>
                </a:cubicBezTo>
              </a:path>
              <a:path w="671" h="944">
                <a:moveTo>
                  <a:pt x="21754" y="7962"/>
                </a:moveTo>
                <a:cubicBezTo>
                  <a:pt x="21754" y="8044"/>
                  <a:pt x="21746" y="8109"/>
                  <a:pt x="21729" y="8186"/>
                </a:cubicBezTo>
                <a:cubicBezTo>
                  <a:pt x="21724" y="8211"/>
                  <a:pt x="21704" y="8318"/>
                  <a:pt x="21704" y="8260"/>
                </a:cubicBezTo>
              </a:path>
              <a:path w="671" h="944">
                <a:moveTo>
                  <a:pt x="21704" y="7615"/>
                </a:moveTo>
                <a:cubicBezTo>
                  <a:pt x="21704" y="7573"/>
                  <a:pt x="21696" y="7557"/>
                  <a:pt x="21729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6720" y="2697120"/>
            <a:ext cx="901440" cy="500040"/>
          </a:xfrm>
          <a:custGeom>
            <a:avLst/>
            <a:gdLst/>
            <a:ahLst/>
            <a:rect l="l" t="t" r="r" b="b"/>
            <a:pathLst>
              <a:path w="2506" h="1390">
                <a:moveTo>
                  <a:pt x="22151" y="7913"/>
                </a:moveTo>
                <a:cubicBezTo>
                  <a:pt x="22143" y="7982"/>
                  <a:pt x="22126" y="8041"/>
                  <a:pt x="22126" y="8111"/>
                </a:cubicBezTo>
                <a:cubicBezTo>
                  <a:pt x="22126" y="8184"/>
                  <a:pt x="22129" y="8221"/>
                  <a:pt x="22101" y="8285"/>
                </a:cubicBezTo>
                <a:cubicBezTo>
                  <a:pt x="22109" y="8212"/>
                  <a:pt x="22129" y="8130"/>
                  <a:pt x="22151" y="8062"/>
                </a:cubicBezTo>
                <a:cubicBezTo>
                  <a:pt x="22174" y="7992"/>
                  <a:pt x="22239" y="7952"/>
                  <a:pt x="22299" y="7987"/>
                </a:cubicBezTo>
                <a:cubicBezTo>
                  <a:pt x="22317" y="7997"/>
                  <a:pt x="22368" y="8114"/>
                  <a:pt x="22374" y="8136"/>
                </a:cubicBezTo>
                <a:cubicBezTo>
                  <a:pt x="22383" y="8171"/>
                  <a:pt x="22374" y="8223"/>
                  <a:pt x="22374" y="8260"/>
                </a:cubicBezTo>
                <a:cubicBezTo>
                  <a:pt x="22419" y="8188"/>
                  <a:pt x="22466" y="8124"/>
                  <a:pt x="22523" y="8062"/>
                </a:cubicBezTo>
                <a:cubicBezTo>
                  <a:pt x="22557" y="8025"/>
                  <a:pt x="22578" y="8012"/>
                  <a:pt x="22622" y="7987"/>
                </a:cubicBezTo>
                <a:cubicBezTo>
                  <a:pt x="22644" y="8039"/>
                  <a:pt x="22666" y="8105"/>
                  <a:pt x="22671" y="8161"/>
                </a:cubicBezTo>
                <a:cubicBezTo>
                  <a:pt x="22674" y="8195"/>
                  <a:pt x="22656" y="8278"/>
                  <a:pt x="22721" y="8260"/>
                </a:cubicBezTo>
                <a:cubicBezTo>
                  <a:pt x="22738" y="8252"/>
                  <a:pt x="22754" y="8243"/>
                  <a:pt x="22771" y="8235"/>
                </a:cubicBezTo>
              </a:path>
              <a:path w="2506" h="1390">
                <a:moveTo>
                  <a:pt x="22994" y="8012"/>
                </a:moveTo>
                <a:cubicBezTo>
                  <a:pt x="23046" y="7973"/>
                  <a:pt x="23056" y="8005"/>
                  <a:pt x="23118" y="7987"/>
                </a:cubicBezTo>
                <a:cubicBezTo>
                  <a:pt x="23194" y="7964"/>
                  <a:pt x="23236" y="7938"/>
                  <a:pt x="23242" y="7863"/>
                </a:cubicBezTo>
                <a:cubicBezTo>
                  <a:pt x="23246" y="7809"/>
                  <a:pt x="23201" y="7752"/>
                  <a:pt x="23143" y="7764"/>
                </a:cubicBezTo>
                <a:cubicBezTo>
                  <a:pt x="23077" y="7777"/>
                  <a:pt x="22973" y="7855"/>
                  <a:pt x="22944" y="7913"/>
                </a:cubicBezTo>
                <a:cubicBezTo>
                  <a:pt x="22908" y="7985"/>
                  <a:pt x="22885" y="8048"/>
                  <a:pt x="22920" y="8111"/>
                </a:cubicBezTo>
                <a:cubicBezTo>
                  <a:pt x="22965" y="8192"/>
                  <a:pt x="23037" y="8219"/>
                  <a:pt x="23118" y="8260"/>
                </a:cubicBezTo>
                <a:cubicBezTo>
                  <a:pt x="23181" y="8291"/>
                  <a:pt x="23188" y="8307"/>
                  <a:pt x="23242" y="8285"/>
                </a:cubicBezTo>
              </a:path>
              <a:path w="2506" h="1390">
                <a:moveTo>
                  <a:pt x="23639" y="7665"/>
                </a:moveTo>
                <a:cubicBezTo>
                  <a:pt x="23659" y="7751"/>
                  <a:pt x="23664" y="7802"/>
                  <a:pt x="23664" y="7888"/>
                </a:cubicBezTo>
                <a:cubicBezTo>
                  <a:pt x="23664" y="7992"/>
                  <a:pt x="23650" y="7999"/>
                  <a:pt x="23614" y="8086"/>
                </a:cubicBezTo>
                <a:cubicBezTo>
                  <a:pt x="23594" y="8135"/>
                  <a:pt x="23575" y="8190"/>
                  <a:pt x="23564" y="8235"/>
                </a:cubicBezTo>
              </a:path>
              <a:path w="2506" h="1390">
                <a:moveTo>
                  <a:pt x="23391" y="8037"/>
                </a:moveTo>
                <a:cubicBezTo>
                  <a:pt x="23373" y="7984"/>
                  <a:pt x="23447" y="8012"/>
                  <a:pt x="23515" y="8012"/>
                </a:cubicBezTo>
                <a:cubicBezTo>
                  <a:pt x="23616" y="8012"/>
                  <a:pt x="23688" y="8037"/>
                  <a:pt x="23788" y="8012"/>
                </a:cubicBezTo>
                <a:cubicBezTo>
                  <a:pt x="23908" y="7982"/>
                  <a:pt x="23959" y="7967"/>
                  <a:pt x="24011" y="7863"/>
                </a:cubicBezTo>
                <a:cubicBezTo>
                  <a:pt x="24056" y="7773"/>
                  <a:pt x="24081" y="7690"/>
                  <a:pt x="24085" y="7590"/>
                </a:cubicBezTo>
                <a:cubicBezTo>
                  <a:pt x="24085" y="7532"/>
                  <a:pt x="24085" y="7524"/>
                  <a:pt x="24085" y="7491"/>
                </a:cubicBezTo>
                <a:cubicBezTo>
                  <a:pt x="24018" y="7576"/>
                  <a:pt x="24015" y="7660"/>
                  <a:pt x="23986" y="7764"/>
                </a:cubicBezTo>
                <a:cubicBezTo>
                  <a:pt x="23960" y="7860"/>
                  <a:pt x="23941" y="7962"/>
                  <a:pt x="23937" y="8062"/>
                </a:cubicBezTo>
                <a:cubicBezTo>
                  <a:pt x="23934" y="8128"/>
                  <a:pt x="23937" y="8194"/>
                  <a:pt x="23937" y="8260"/>
                </a:cubicBezTo>
                <a:cubicBezTo>
                  <a:pt x="23968" y="8220"/>
                  <a:pt x="24009" y="8178"/>
                  <a:pt x="24036" y="8136"/>
                </a:cubicBezTo>
                <a:cubicBezTo>
                  <a:pt x="24056" y="8096"/>
                  <a:pt x="24054" y="8079"/>
                  <a:pt x="24085" y="8086"/>
                </a:cubicBezTo>
                <a:cubicBezTo>
                  <a:pt x="24085" y="8154"/>
                  <a:pt x="24071" y="8226"/>
                  <a:pt x="24110" y="8285"/>
                </a:cubicBezTo>
                <a:cubicBezTo>
                  <a:pt x="24127" y="8311"/>
                  <a:pt x="24130" y="8302"/>
                  <a:pt x="24160" y="8310"/>
                </a:cubicBezTo>
              </a:path>
              <a:path w="2506" h="1390">
                <a:moveTo>
                  <a:pt x="24234" y="8086"/>
                </a:moveTo>
                <a:cubicBezTo>
                  <a:pt x="24234" y="8176"/>
                  <a:pt x="24219" y="8206"/>
                  <a:pt x="24284" y="8260"/>
                </a:cubicBezTo>
                <a:cubicBezTo>
                  <a:pt x="24319" y="8251"/>
                  <a:pt x="24406" y="8215"/>
                  <a:pt x="24433" y="8186"/>
                </a:cubicBezTo>
                <a:cubicBezTo>
                  <a:pt x="24490" y="8124"/>
                  <a:pt x="24481" y="8051"/>
                  <a:pt x="24507" y="7987"/>
                </a:cubicBezTo>
                <a:cubicBezTo>
                  <a:pt x="24520" y="7955"/>
                  <a:pt x="24559" y="7916"/>
                  <a:pt x="24581" y="7888"/>
                </a:cubicBezTo>
                <a:cubicBezTo>
                  <a:pt x="24581" y="8152"/>
                  <a:pt x="24565" y="8427"/>
                  <a:pt x="24606" y="8682"/>
                </a:cubicBezTo>
                <a:cubicBezTo>
                  <a:pt x="24622" y="8784"/>
                  <a:pt x="24596" y="8793"/>
                  <a:pt x="24532" y="8830"/>
                </a:cubicBezTo>
                <a:cubicBezTo>
                  <a:pt x="24464" y="8870"/>
                  <a:pt x="24441" y="8880"/>
                  <a:pt x="24358" y="8880"/>
                </a:cubicBezTo>
                <a:cubicBezTo>
                  <a:pt x="24269" y="8880"/>
                  <a:pt x="24218" y="8884"/>
                  <a:pt x="24209" y="8781"/>
                </a:cubicBezTo>
                <a:cubicBezTo>
                  <a:pt x="24209" y="8681"/>
                  <a:pt x="24205" y="8631"/>
                  <a:pt x="24185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10800" y="2571840"/>
            <a:ext cx="34920" cy="438120"/>
          </a:xfrm>
          <a:custGeom>
            <a:avLst/>
            <a:gdLst/>
            <a:ahLst/>
            <a:rect l="l" t="t" r="r" b="b"/>
            <a:pathLst>
              <a:path w="100" h="1216">
                <a:moveTo>
                  <a:pt x="25127" y="7144"/>
                </a:moveTo>
                <a:cubicBezTo>
                  <a:pt x="25103" y="7216"/>
                  <a:pt x="25082" y="7291"/>
                  <a:pt x="25078" y="7367"/>
                </a:cubicBezTo>
                <a:cubicBezTo>
                  <a:pt x="25073" y="7469"/>
                  <a:pt x="25062" y="7565"/>
                  <a:pt x="25053" y="7665"/>
                </a:cubicBezTo>
                <a:cubicBezTo>
                  <a:pt x="25040" y="7814"/>
                  <a:pt x="25028" y="7961"/>
                  <a:pt x="25028" y="8111"/>
                </a:cubicBezTo>
                <a:cubicBezTo>
                  <a:pt x="25028" y="8157"/>
                  <a:pt x="25028" y="8376"/>
                  <a:pt x="25028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240" y="2652840"/>
            <a:ext cx="1527120" cy="392040"/>
          </a:xfrm>
          <a:custGeom>
            <a:avLst/>
            <a:gdLst/>
            <a:ahLst/>
            <a:rect l="l" t="t" r="r" b="b"/>
            <a:pathLst>
              <a:path w="4242" h="1092">
                <a:moveTo>
                  <a:pt x="2108" y="7367"/>
                </a:moveTo>
                <a:cubicBezTo>
                  <a:pt x="2108" y="7481"/>
                  <a:pt x="2096" y="7580"/>
                  <a:pt x="2084" y="7689"/>
                </a:cubicBezTo>
                <a:cubicBezTo>
                  <a:pt x="2071" y="7804"/>
                  <a:pt x="2064" y="7922"/>
                  <a:pt x="2059" y="8037"/>
                </a:cubicBezTo>
                <a:cubicBezTo>
                  <a:pt x="2056" y="8111"/>
                  <a:pt x="2070" y="8167"/>
                  <a:pt x="2084" y="8235"/>
                </a:cubicBezTo>
                <a:cubicBezTo>
                  <a:pt x="2075" y="8171"/>
                  <a:pt x="2059" y="8133"/>
                  <a:pt x="2059" y="8062"/>
                </a:cubicBezTo>
                <a:cubicBezTo>
                  <a:pt x="2059" y="7963"/>
                  <a:pt x="2065" y="7999"/>
                  <a:pt x="2108" y="7913"/>
                </a:cubicBezTo>
                <a:cubicBezTo>
                  <a:pt x="2136" y="7856"/>
                  <a:pt x="2195" y="7817"/>
                  <a:pt x="2257" y="7789"/>
                </a:cubicBezTo>
                <a:cubicBezTo>
                  <a:pt x="2328" y="7757"/>
                  <a:pt x="2345" y="7823"/>
                  <a:pt x="2381" y="7863"/>
                </a:cubicBezTo>
                <a:cubicBezTo>
                  <a:pt x="2437" y="7925"/>
                  <a:pt x="2510" y="7946"/>
                  <a:pt x="2530" y="8037"/>
                </a:cubicBezTo>
                <a:cubicBezTo>
                  <a:pt x="2542" y="8090"/>
                  <a:pt x="2535" y="8165"/>
                  <a:pt x="2505" y="8210"/>
                </a:cubicBezTo>
                <a:cubicBezTo>
                  <a:pt x="2481" y="8246"/>
                  <a:pt x="2440" y="8310"/>
                  <a:pt x="2406" y="8334"/>
                </a:cubicBezTo>
                <a:cubicBezTo>
                  <a:pt x="2355" y="8370"/>
                  <a:pt x="2308" y="8367"/>
                  <a:pt x="2257" y="8334"/>
                </a:cubicBezTo>
                <a:cubicBezTo>
                  <a:pt x="2227" y="8315"/>
                  <a:pt x="2144" y="8274"/>
                  <a:pt x="2133" y="8235"/>
                </a:cubicBezTo>
                <a:cubicBezTo>
                  <a:pt x="2133" y="8219"/>
                  <a:pt x="2133" y="8202"/>
                  <a:pt x="2133" y="8186"/>
                </a:cubicBezTo>
              </a:path>
              <a:path w="4242" h="1092">
                <a:moveTo>
                  <a:pt x="2753" y="8086"/>
                </a:moveTo>
                <a:cubicBezTo>
                  <a:pt x="2820" y="8086"/>
                  <a:pt x="2950" y="8113"/>
                  <a:pt x="3001" y="8062"/>
                </a:cubicBezTo>
                <a:cubicBezTo>
                  <a:pt x="3040" y="8023"/>
                  <a:pt x="3020" y="7951"/>
                  <a:pt x="3001" y="7913"/>
                </a:cubicBezTo>
                <a:cubicBezTo>
                  <a:pt x="2967" y="7843"/>
                  <a:pt x="2898" y="7864"/>
                  <a:pt x="2853" y="7888"/>
                </a:cubicBezTo>
                <a:cubicBezTo>
                  <a:pt x="2816" y="7908"/>
                  <a:pt x="2748" y="7944"/>
                  <a:pt x="2729" y="7987"/>
                </a:cubicBezTo>
                <a:cubicBezTo>
                  <a:pt x="2701" y="8051"/>
                  <a:pt x="2700" y="8085"/>
                  <a:pt x="2729" y="8136"/>
                </a:cubicBezTo>
                <a:cubicBezTo>
                  <a:pt x="2749" y="8171"/>
                  <a:pt x="2791" y="8291"/>
                  <a:pt x="2828" y="8310"/>
                </a:cubicBezTo>
                <a:cubicBezTo>
                  <a:pt x="2870" y="8331"/>
                  <a:pt x="2924" y="8359"/>
                  <a:pt x="2977" y="8359"/>
                </a:cubicBezTo>
                <a:cubicBezTo>
                  <a:pt x="3069" y="8359"/>
                  <a:pt x="3100" y="8328"/>
                  <a:pt x="3175" y="8285"/>
                </a:cubicBezTo>
              </a:path>
              <a:path w="4242" h="1092">
                <a:moveTo>
                  <a:pt x="3274" y="7863"/>
                </a:moveTo>
                <a:cubicBezTo>
                  <a:pt x="3274" y="7964"/>
                  <a:pt x="3296" y="7980"/>
                  <a:pt x="3324" y="8062"/>
                </a:cubicBezTo>
                <a:cubicBezTo>
                  <a:pt x="3346" y="8126"/>
                  <a:pt x="3324" y="8241"/>
                  <a:pt x="3324" y="8310"/>
                </a:cubicBezTo>
                <a:cubicBezTo>
                  <a:pt x="3385" y="8258"/>
                  <a:pt x="3373" y="8244"/>
                  <a:pt x="3373" y="8161"/>
                </a:cubicBezTo>
                <a:cubicBezTo>
                  <a:pt x="3373" y="8099"/>
                  <a:pt x="3362" y="8041"/>
                  <a:pt x="3398" y="7987"/>
                </a:cubicBezTo>
                <a:cubicBezTo>
                  <a:pt x="3425" y="7946"/>
                  <a:pt x="3501" y="7916"/>
                  <a:pt x="3547" y="7913"/>
                </a:cubicBezTo>
                <a:cubicBezTo>
                  <a:pt x="3605" y="7909"/>
                  <a:pt x="3674" y="7922"/>
                  <a:pt x="3696" y="7987"/>
                </a:cubicBezTo>
                <a:cubicBezTo>
                  <a:pt x="3725" y="8073"/>
                  <a:pt x="3690" y="8205"/>
                  <a:pt x="3671" y="8285"/>
                </a:cubicBezTo>
                <a:cubicBezTo>
                  <a:pt x="3656" y="8349"/>
                  <a:pt x="3671" y="8327"/>
                  <a:pt x="3671" y="8260"/>
                </a:cubicBezTo>
              </a:path>
              <a:path w="4242" h="1092">
                <a:moveTo>
                  <a:pt x="3944" y="7938"/>
                </a:moveTo>
                <a:cubicBezTo>
                  <a:pt x="3997" y="7938"/>
                  <a:pt x="4024" y="7916"/>
                  <a:pt x="4068" y="7913"/>
                </a:cubicBezTo>
                <a:cubicBezTo>
                  <a:pt x="4108" y="7910"/>
                  <a:pt x="4177" y="7910"/>
                  <a:pt x="4192" y="7962"/>
                </a:cubicBezTo>
                <a:cubicBezTo>
                  <a:pt x="4210" y="8024"/>
                  <a:pt x="4159" y="8078"/>
                  <a:pt x="4118" y="8111"/>
                </a:cubicBezTo>
                <a:cubicBezTo>
                  <a:pt x="4075" y="8145"/>
                  <a:pt x="4024" y="8150"/>
                  <a:pt x="3994" y="8186"/>
                </a:cubicBezTo>
                <a:cubicBezTo>
                  <a:pt x="3946" y="8244"/>
                  <a:pt x="3954" y="8263"/>
                  <a:pt x="3919" y="8310"/>
                </a:cubicBezTo>
                <a:cubicBezTo>
                  <a:pt x="3972" y="8341"/>
                  <a:pt x="4015" y="8312"/>
                  <a:pt x="4068" y="8334"/>
                </a:cubicBezTo>
                <a:cubicBezTo>
                  <a:pt x="4115" y="8353"/>
                  <a:pt x="4132" y="8359"/>
                  <a:pt x="4192" y="8359"/>
                </a:cubicBezTo>
                <a:cubicBezTo>
                  <a:pt x="4235" y="8359"/>
                  <a:pt x="4285" y="8337"/>
                  <a:pt x="4316" y="8310"/>
                </a:cubicBezTo>
                <a:cubicBezTo>
                  <a:pt x="4324" y="8302"/>
                  <a:pt x="4333" y="8293"/>
                  <a:pt x="4341" y="8285"/>
                </a:cubicBezTo>
              </a:path>
              <a:path w="4242" h="1092">
                <a:moveTo>
                  <a:pt x="4539" y="8161"/>
                </a:moveTo>
                <a:cubicBezTo>
                  <a:pt x="4600" y="8135"/>
                  <a:pt x="4622" y="8136"/>
                  <a:pt x="4688" y="8136"/>
                </a:cubicBezTo>
                <a:cubicBezTo>
                  <a:pt x="4722" y="8136"/>
                  <a:pt x="4756" y="8104"/>
                  <a:pt x="4787" y="8086"/>
                </a:cubicBezTo>
                <a:cubicBezTo>
                  <a:pt x="4777" y="8037"/>
                  <a:pt x="4757" y="7969"/>
                  <a:pt x="4713" y="7938"/>
                </a:cubicBezTo>
                <a:cubicBezTo>
                  <a:pt x="4664" y="7903"/>
                  <a:pt x="4576" y="7940"/>
                  <a:pt x="4539" y="7987"/>
                </a:cubicBezTo>
                <a:cubicBezTo>
                  <a:pt x="4513" y="8020"/>
                  <a:pt x="4514" y="8092"/>
                  <a:pt x="4514" y="8136"/>
                </a:cubicBezTo>
                <a:cubicBezTo>
                  <a:pt x="4514" y="8212"/>
                  <a:pt x="4552" y="8249"/>
                  <a:pt x="4589" y="8310"/>
                </a:cubicBezTo>
                <a:cubicBezTo>
                  <a:pt x="4617" y="8356"/>
                  <a:pt x="4654" y="8389"/>
                  <a:pt x="4713" y="8409"/>
                </a:cubicBezTo>
                <a:cubicBezTo>
                  <a:pt x="4751" y="8422"/>
                  <a:pt x="4813" y="8415"/>
                  <a:pt x="4837" y="8384"/>
                </a:cubicBezTo>
                <a:cubicBezTo>
                  <a:pt x="4861" y="8336"/>
                  <a:pt x="4869" y="8322"/>
                  <a:pt x="4862" y="8285"/>
                </a:cubicBezTo>
              </a:path>
              <a:path w="4242" h="1092">
                <a:moveTo>
                  <a:pt x="4961" y="8012"/>
                </a:moveTo>
                <a:cubicBezTo>
                  <a:pt x="4978" y="8020"/>
                  <a:pt x="4994" y="8029"/>
                  <a:pt x="5011" y="8037"/>
                </a:cubicBezTo>
                <a:cubicBezTo>
                  <a:pt x="4998" y="8090"/>
                  <a:pt x="4986" y="8122"/>
                  <a:pt x="4986" y="8186"/>
                </a:cubicBezTo>
                <a:cubicBezTo>
                  <a:pt x="4986" y="8243"/>
                  <a:pt x="5006" y="8281"/>
                  <a:pt x="5011" y="8334"/>
                </a:cubicBezTo>
                <a:cubicBezTo>
                  <a:pt x="5014" y="8367"/>
                  <a:pt x="5011" y="8401"/>
                  <a:pt x="5011" y="8434"/>
                </a:cubicBezTo>
                <a:cubicBezTo>
                  <a:pt x="5017" y="8371"/>
                  <a:pt x="5035" y="8322"/>
                  <a:pt x="5035" y="8260"/>
                </a:cubicBezTo>
                <a:cubicBezTo>
                  <a:pt x="5035" y="8193"/>
                  <a:pt x="5032" y="8148"/>
                  <a:pt x="5060" y="8086"/>
                </a:cubicBezTo>
                <a:cubicBezTo>
                  <a:pt x="5094" y="8010"/>
                  <a:pt x="5183" y="7993"/>
                  <a:pt x="5259" y="7987"/>
                </a:cubicBezTo>
                <a:cubicBezTo>
                  <a:pt x="5333" y="7981"/>
                  <a:pt x="5369" y="8041"/>
                  <a:pt x="5407" y="8086"/>
                </a:cubicBezTo>
                <a:cubicBezTo>
                  <a:pt x="5457" y="8146"/>
                  <a:pt x="5457" y="8183"/>
                  <a:pt x="5457" y="8260"/>
                </a:cubicBezTo>
                <a:cubicBezTo>
                  <a:pt x="5457" y="8311"/>
                  <a:pt x="5448" y="8337"/>
                  <a:pt x="5482" y="8359"/>
                </a:cubicBezTo>
              </a:path>
              <a:path w="4242" h="1092">
                <a:moveTo>
                  <a:pt x="5755" y="8136"/>
                </a:moveTo>
                <a:cubicBezTo>
                  <a:pt x="5824" y="8136"/>
                  <a:pt x="5985" y="8167"/>
                  <a:pt x="6028" y="8111"/>
                </a:cubicBezTo>
                <a:cubicBezTo>
                  <a:pt x="6067" y="8060"/>
                  <a:pt x="6090" y="8011"/>
                  <a:pt x="6028" y="7962"/>
                </a:cubicBezTo>
                <a:cubicBezTo>
                  <a:pt x="6003" y="7942"/>
                  <a:pt x="5940" y="7938"/>
                  <a:pt x="5904" y="7938"/>
                </a:cubicBezTo>
                <a:cubicBezTo>
                  <a:pt x="5839" y="7938"/>
                  <a:pt x="5796" y="7922"/>
                  <a:pt x="5755" y="7987"/>
                </a:cubicBezTo>
                <a:cubicBezTo>
                  <a:pt x="5729" y="8027"/>
                  <a:pt x="5758" y="8152"/>
                  <a:pt x="5779" y="8186"/>
                </a:cubicBezTo>
                <a:cubicBezTo>
                  <a:pt x="5814" y="8243"/>
                  <a:pt x="5892" y="8264"/>
                  <a:pt x="5928" y="8310"/>
                </a:cubicBezTo>
                <a:cubicBezTo>
                  <a:pt x="5967" y="8359"/>
                  <a:pt x="5971" y="8439"/>
                  <a:pt x="6052" y="8458"/>
                </a:cubicBezTo>
                <a:cubicBezTo>
                  <a:pt x="6134" y="8477"/>
                  <a:pt x="6158" y="8400"/>
                  <a:pt x="6226" y="8384"/>
                </a:cubicBezTo>
                <a:cubicBezTo>
                  <a:pt x="6286" y="8370"/>
                  <a:pt x="6323" y="8374"/>
                  <a:pt x="6276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2120" y="2813040"/>
            <a:ext cx="1527120" cy="384120"/>
          </a:xfrm>
          <a:custGeom>
            <a:avLst/>
            <a:gdLst/>
            <a:ahLst/>
            <a:rect l="l" t="t" r="r" b="b"/>
            <a:pathLst>
              <a:path w="4243" h="1068">
                <a:moveTo>
                  <a:pt x="10418" y="7863"/>
                </a:moveTo>
                <a:cubicBezTo>
                  <a:pt x="10338" y="7783"/>
                  <a:pt x="10416" y="8003"/>
                  <a:pt x="10418" y="8086"/>
                </a:cubicBezTo>
                <a:cubicBezTo>
                  <a:pt x="10423" y="8256"/>
                  <a:pt x="10411" y="8418"/>
                  <a:pt x="10393" y="8582"/>
                </a:cubicBezTo>
                <a:cubicBezTo>
                  <a:pt x="10386" y="8645"/>
                  <a:pt x="10393" y="8717"/>
                  <a:pt x="10393" y="8781"/>
                </a:cubicBezTo>
                <a:cubicBezTo>
                  <a:pt x="10373" y="8728"/>
                  <a:pt x="10354" y="8667"/>
                  <a:pt x="10368" y="8607"/>
                </a:cubicBezTo>
                <a:cubicBezTo>
                  <a:pt x="10384" y="8536"/>
                  <a:pt x="10438" y="8431"/>
                  <a:pt x="10492" y="8384"/>
                </a:cubicBezTo>
                <a:cubicBezTo>
                  <a:pt x="10540" y="8342"/>
                  <a:pt x="10620" y="8317"/>
                  <a:pt x="10666" y="8384"/>
                </a:cubicBezTo>
                <a:cubicBezTo>
                  <a:pt x="10702" y="8435"/>
                  <a:pt x="10775" y="8541"/>
                  <a:pt x="10790" y="8607"/>
                </a:cubicBezTo>
                <a:cubicBezTo>
                  <a:pt x="10808" y="8688"/>
                  <a:pt x="10805" y="8744"/>
                  <a:pt x="10740" y="8781"/>
                </a:cubicBezTo>
                <a:cubicBezTo>
                  <a:pt x="10686" y="8812"/>
                  <a:pt x="10608" y="8854"/>
                  <a:pt x="10542" y="8830"/>
                </a:cubicBezTo>
                <a:cubicBezTo>
                  <a:pt x="10502" y="8815"/>
                  <a:pt x="10455" y="8747"/>
                  <a:pt x="10468" y="8706"/>
                </a:cubicBezTo>
                <a:cubicBezTo>
                  <a:pt x="10476" y="8698"/>
                  <a:pt x="10484" y="8690"/>
                  <a:pt x="10492" y="8682"/>
                </a:cubicBezTo>
              </a:path>
              <a:path w="4243" h="1068">
                <a:moveTo>
                  <a:pt x="11088" y="8558"/>
                </a:moveTo>
                <a:cubicBezTo>
                  <a:pt x="11071" y="8558"/>
                  <a:pt x="11055" y="8558"/>
                  <a:pt x="11038" y="8558"/>
                </a:cubicBezTo>
                <a:cubicBezTo>
                  <a:pt x="11092" y="8518"/>
                  <a:pt x="11146" y="8541"/>
                  <a:pt x="11212" y="8508"/>
                </a:cubicBezTo>
                <a:cubicBezTo>
                  <a:pt x="11293" y="8467"/>
                  <a:pt x="11237" y="8380"/>
                  <a:pt x="11187" y="8334"/>
                </a:cubicBezTo>
                <a:cubicBezTo>
                  <a:pt x="11169" y="8317"/>
                  <a:pt x="11116" y="8296"/>
                  <a:pt x="11088" y="8285"/>
                </a:cubicBezTo>
                <a:cubicBezTo>
                  <a:pt x="11034" y="8352"/>
                  <a:pt x="11016" y="8396"/>
                  <a:pt x="11013" y="8483"/>
                </a:cubicBezTo>
                <a:cubicBezTo>
                  <a:pt x="11008" y="8600"/>
                  <a:pt x="10988" y="8718"/>
                  <a:pt x="11063" y="8806"/>
                </a:cubicBezTo>
                <a:cubicBezTo>
                  <a:pt x="11128" y="8881"/>
                  <a:pt x="11204" y="8854"/>
                  <a:pt x="11286" y="8830"/>
                </a:cubicBezTo>
                <a:cubicBezTo>
                  <a:pt x="11355" y="8810"/>
                  <a:pt x="11420" y="8785"/>
                  <a:pt x="11485" y="8756"/>
                </a:cubicBezTo>
              </a:path>
              <a:path w="4243" h="1068">
                <a:moveTo>
                  <a:pt x="11559" y="8334"/>
                </a:moveTo>
                <a:cubicBezTo>
                  <a:pt x="11559" y="8409"/>
                  <a:pt x="11594" y="8440"/>
                  <a:pt x="11609" y="8508"/>
                </a:cubicBezTo>
                <a:cubicBezTo>
                  <a:pt x="11627" y="8590"/>
                  <a:pt x="11633" y="8671"/>
                  <a:pt x="11633" y="8756"/>
                </a:cubicBezTo>
                <a:cubicBezTo>
                  <a:pt x="11633" y="8773"/>
                  <a:pt x="11633" y="8789"/>
                  <a:pt x="11633" y="8806"/>
                </a:cubicBezTo>
                <a:cubicBezTo>
                  <a:pt x="11633" y="8870"/>
                  <a:pt x="11633" y="8700"/>
                  <a:pt x="11633" y="8682"/>
                </a:cubicBezTo>
                <a:cubicBezTo>
                  <a:pt x="11633" y="8549"/>
                  <a:pt x="11638" y="8481"/>
                  <a:pt x="11683" y="8359"/>
                </a:cubicBezTo>
                <a:cubicBezTo>
                  <a:pt x="11709" y="8290"/>
                  <a:pt x="11711" y="8282"/>
                  <a:pt x="11757" y="8235"/>
                </a:cubicBezTo>
                <a:cubicBezTo>
                  <a:pt x="11841" y="8259"/>
                  <a:pt x="11847" y="8319"/>
                  <a:pt x="11881" y="8409"/>
                </a:cubicBezTo>
                <a:cubicBezTo>
                  <a:pt x="11916" y="8503"/>
                  <a:pt x="11949" y="8607"/>
                  <a:pt x="11956" y="8706"/>
                </a:cubicBezTo>
                <a:cubicBezTo>
                  <a:pt x="11958" y="8731"/>
                  <a:pt x="11956" y="8865"/>
                  <a:pt x="11956" y="8806"/>
                </a:cubicBezTo>
                <a:cubicBezTo>
                  <a:pt x="11956" y="8798"/>
                  <a:pt x="11956" y="8789"/>
                  <a:pt x="11956" y="8781"/>
                </a:cubicBezTo>
              </a:path>
              <a:path w="4243" h="1068">
                <a:moveTo>
                  <a:pt x="12105" y="8384"/>
                </a:moveTo>
                <a:cubicBezTo>
                  <a:pt x="12105" y="8367"/>
                  <a:pt x="12105" y="8351"/>
                  <a:pt x="12105" y="8334"/>
                </a:cubicBezTo>
                <a:cubicBezTo>
                  <a:pt x="12209" y="8334"/>
                  <a:pt x="12312" y="8341"/>
                  <a:pt x="12402" y="8359"/>
                </a:cubicBezTo>
                <a:cubicBezTo>
                  <a:pt x="12476" y="8374"/>
                  <a:pt x="12484" y="8393"/>
                  <a:pt x="12452" y="8483"/>
                </a:cubicBezTo>
                <a:cubicBezTo>
                  <a:pt x="12436" y="8528"/>
                  <a:pt x="12407" y="8619"/>
                  <a:pt x="12378" y="8657"/>
                </a:cubicBezTo>
                <a:cubicBezTo>
                  <a:pt x="12344" y="8702"/>
                  <a:pt x="12300" y="8752"/>
                  <a:pt x="12278" y="8806"/>
                </a:cubicBezTo>
                <a:cubicBezTo>
                  <a:pt x="12278" y="8814"/>
                  <a:pt x="12278" y="8822"/>
                  <a:pt x="12278" y="8830"/>
                </a:cubicBezTo>
                <a:cubicBezTo>
                  <a:pt x="12340" y="8879"/>
                  <a:pt x="12374" y="8880"/>
                  <a:pt x="12452" y="8880"/>
                </a:cubicBezTo>
                <a:cubicBezTo>
                  <a:pt x="12528" y="8880"/>
                  <a:pt x="12575" y="8873"/>
                  <a:pt x="12626" y="8806"/>
                </a:cubicBezTo>
                <a:cubicBezTo>
                  <a:pt x="12647" y="8762"/>
                  <a:pt x="12650" y="8750"/>
                  <a:pt x="12675" y="8731"/>
                </a:cubicBezTo>
              </a:path>
              <a:path w="4243" h="1068">
                <a:moveTo>
                  <a:pt x="12799" y="8607"/>
                </a:moveTo>
                <a:cubicBezTo>
                  <a:pt x="12829" y="8502"/>
                  <a:pt x="12857" y="8558"/>
                  <a:pt x="12948" y="8533"/>
                </a:cubicBezTo>
                <a:cubicBezTo>
                  <a:pt x="12991" y="8521"/>
                  <a:pt x="13067" y="8434"/>
                  <a:pt x="13047" y="8384"/>
                </a:cubicBezTo>
                <a:cubicBezTo>
                  <a:pt x="13028" y="8336"/>
                  <a:pt x="12923" y="8266"/>
                  <a:pt x="12874" y="8310"/>
                </a:cubicBezTo>
                <a:cubicBezTo>
                  <a:pt x="12819" y="8359"/>
                  <a:pt x="12756" y="8435"/>
                  <a:pt x="12750" y="8508"/>
                </a:cubicBezTo>
                <a:cubicBezTo>
                  <a:pt x="12746" y="8558"/>
                  <a:pt x="12758" y="8621"/>
                  <a:pt x="12799" y="8657"/>
                </a:cubicBezTo>
                <a:cubicBezTo>
                  <a:pt x="12855" y="8705"/>
                  <a:pt x="12921" y="8780"/>
                  <a:pt x="12998" y="8806"/>
                </a:cubicBezTo>
                <a:cubicBezTo>
                  <a:pt x="13068" y="8830"/>
                  <a:pt x="13104" y="8849"/>
                  <a:pt x="13146" y="8781"/>
                </a:cubicBezTo>
                <a:cubicBezTo>
                  <a:pt x="13154" y="8764"/>
                  <a:pt x="13163" y="8748"/>
                  <a:pt x="13171" y="8731"/>
                </a:cubicBezTo>
              </a:path>
              <a:path w="4243" h="1068">
                <a:moveTo>
                  <a:pt x="13370" y="8384"/>
                </a:moveTo>
                <a:cubicBezTo>
                  <a:pt x="13334" y="8408"/>
                  <a:pt x="13345" y="8451"/>
                  <a:pt x="13345" y="8508"/>
                </a:cubicBezTo>
                <a:cubicBezTo>
                  <a:pt x="13345" y="8615"/>
                  <a:pt x="13345" y="8723"/>
                  <a:pt x="13345" y="8830"/>
                </a:cubicBezTo>
                <a:cubicBezTo>
                  <a:pt x="13373" y="8755"/>
                  <a:pt x="13416" y="8686"/>
                  <a:pt x="13419" y="8607"/>
                </a:cubicBezTo>
                <a:cubicBezTo>
                  <a:pt x="13422" y="8535"/>
                  <a:pt x="13443" y="8499"/>
                  <a:pt x="13469" y="8434"/>
                </a:cubicBezTo>
                <a:cubicBezTo>
                  <a:pt x="13503" y="8349"/>
                  <a:pt x="13535" y="8359"/>
                  <a:pt x="13618" y="8359"/>
                </a:cubicBezTo>
                <a:cubicBezTo>
                  <a:pt x="13682" y="8359"/>
                  <a:pt x="13715" y="8369"/>
                  <a:pt x="13742" y="8434"/>
                </a:cubicBezTo>
                <a:cubicBezTo>
                  <a:pt x="13754" y="8463"/>
                  <a:pt x="13752" y="8849"/>
                  <a:pt x="13767" y="8830"/>
                </a:cubicBezTo>
                <a:cubicBezTo>
                  <a:pt x="13767" y="8822"/>
                  <a:pt x="13767" y="8814"/>
                  <a:pt x="13767" y="8806"/>
                </a:cubicBezTo>
              </a:path>
              <a:path w="4243" h="1068">
                <a:moveTo>
                  <a:pt x="14114" y="8533"/>
                </a:moveTo>
                <a:cubicBezTo>
                  <a:pt x="14106" y="8516"/>
                  <a:pt x="14097" y="8500"/>
                  <a:pt x="14089" y="8483"/>
                </a:cubicBezTo>
                <a:cubicBezTo>
                  <a:pt x="14133" y="8492"/>
                  <a:pt x="14166" y="8508"/>
                  <a:pt x="14213" y="8508"/>
                </a:cubicBezTo>
                <a:cubicBezTo>
                  <a:pt x="14270" y="8508"/>
                  <a:pt x="14336" y="8460"/>
                  <a:pt x="14387" y="8434"/>
                </a:cubicBezTo>
                <a:cubicBezTo>
                  <a:pt x="14438" y="8409"/>
                  <a:pt x="14449" y="8407"/>
                  <a:pt x="14461" y="8359"/>
                </a:cubicBezTo>
                <a:cubicBezTo>
                  <a:pt x="14416" y="8323"/>
                  <a:pt x="14370" y="8291"/>
                  <a:pt x="14312" y="8285"/>
                </a:cubicBezTo>
                <a:cubicBezTo>
                  <a:pt x="14260" y="8280"/>
                  <a:pt x="14206" y="8336"/>
                  <a:pt x="14163" y="8359"/>
                </a:cubicBezTo>
                <a:cubicBezTo>
                  <a:pt x="14098" y="8394"/>
                  <a:pt x="14070" y="8438"/>
                  <a:pt x="14064" y="8508"/>
                </a:cubicBezTo>
                <a:cubicBezTo>
                  <a:pt x="14059" y="8563"/>
                  <a:pt x="14088" y="8637"/>
                  <a:pt x="14114" y="8682"/>
                </a:cubicBezTo>
                <a:cubicBezTo>
                  <a:pt x="14148" y="8742"/>
                  <a:pt x="14166" y="8760"/>
                  <a:pt x="14213" y="8781"/>
                </a:cubicBezTo>
                <a:cubicBezTo>
                  <a:pt x="14288" y="8814"/>
                  <a:pt x="14357" y="8800"/>
                  <a:pt x="14436" y="8830"/>
                </a:cubicBezTo>
                <a:cubicBezTo>
                  <a:pt x="14452" y="8836"/>
                  <a:pt x="14571" y="8902"/>
                  <a:pt x="14585" y="8880"/>
                </a:cubicBezTo>
                <a:cubicBezTo>
                  <a:pt x="14593" y="8847"/>
                  <a:pt x="14602" y="8814"/>
                  <a:pt x="14610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69080" y="3017880"/>
            <a:ext cx="1463760" cy="430200"/>
          </a:xfrm>
          <a:custGeom>
            <a:avLst/>
            <a:gdLst/>
            <a:ahLst/>
            <a:rect l="l" t="t" r="r" b="b"/>
            <a:pathLst>
              <a:path w="4069" h="1192">
                <a:moveTo>
                  <a:pt x="18827" y="8384"/>
                </a:moveTo>
                <a:cubicBezTo>
                  <a:pt x="18797" y="8503"/>
                  <a:pt x="18789" y="8632"/>
                  <a:pt x="18802" y="8756"/>
                </a:cubicBezTo>
                <a:cubicBezTo>
                  <a:pt x="18817" y="8904"/>
                  <a:pt x="18852" y="9028"/>
                  <a:pt x="18852" y="9178"/>
                </a:cubicBezTo>
                <a:cubicBezTo>
                  <a:pt x="18852" y="9274"/>
                  <a:pt x="18832" y="9358"/>
                  <a:pt x="18827" y="9451"/>
                </a:cubicBezTo>
                <a:cubicBezTo>
                  <a:pt x="18827" y="9492"/>
                  <a:pt x="18827" y="9500"/>
                  <a:pt x="18827" y="9525"/>
                </a:cubicBezTo>
                <a:cubicBezTo>
                  <a:pt x="18827" y="9436"/>
                  <a:pt x="18808" y="9330"/>
                  <a:pt x="18852" y="9252"/>
                </a:cubicBezTo>
                <a:cubicBezTo>
                  <a:pt x="18880" y="9201"/>
                  <a:pt x="18886" y="9154"/>
                  <a:pt x="18951" y="9128"/>
                </a:cubicBezTo>
                <a:cubicBezTo>
                  <a:pt x="19014" y="9103"/>
                  <a:pt x="19060" y="9168"/>
                  <a:pt x="19100" y="9203"/>
                </a:cubicBezTo>
                <a:cubicBezTo>
                  <a:pt x="19150" y="9247"/>
                  <a:pt x="19188" y="9319"/>
                  <a:pt x="19199" y="9376"/>
                </a:cubicBezTo>
                <a:cubicBezTo>
                  <a:pt x="19215" y="9458"/>
                  <a:pt x="19138" y="9475"/>
                  <a:pt x="19075" y="9475"/>
                </a:cubicBezTo>
                <a:cubicBezTo>
                  <a:pt x="18990" y="9475"/>
                  <a:pt x="18915" y="9508"/>
                  <a:pt x="18901" y="9426"/>
                </a:cubicBezTo>
              </a:path>
              <a:path w="4069" h="1192">
                <a:moveTo>
                  <a:pt x="19397" y="9227"/>
                </a:moveTo>
                <a:cubicBezTo>
                  <a:pt x="19440" y="9163"/>
                  <a:pt x="19442" y="9178"/>
                  <a:pt x="19521" y="9178"/>
                </a:cubicBezTo>
                <a:cubicBezTo>
                  <a:pt x="19603" y="9178"/>
                  <a:pt x="19625" y="9202"/>
                  <a:pt x="19645" y="9103"/>
                </a:cubicBezTo>
                <a:cubicBezTo>
                  <a:pt x="19654" y="9060"/>
                  <a:pt x="19612" y="8972"/>
                  <a:pt x="19571" y="8954"/>
                </a:cubicBezTo>
                <a:cubicBezTo>
                  <a:pt x="19496" y="8921"/>
                  <a:pt x="19458" y="8988"/>
                  <a:pt x="19422" y="9029"/>
                </a:cubicBezTo>
                <a:cubicBezTo>
                  <a:pt x="19364" y="9095"/>
                  <a:pt x="19328" y="9163"/>
                  <a:pt x="19323" y="9252"/>
                </a:cubicBezTo>
                <a:cubicBezTo>
                  <a:pt x="19317" y="9351"/>
                  <a:pt x="19335" y="9377"/>
                  <a:pt x="19422" y="9426"/>
                </a:cubicBezTo>
                <a:cubicBezTo>
                  <a:pt x="19490" y="9464"/>
                  <a:pt x="19565" y="9495"/>
                  <a:pt x="19645" y="9475"/>
                </a:cubicBezTo>
                <a:cubicBezTo>
                  <a:pt x="19695" y="9451"/>
                  <a:pt x="19712" y="9443"/>
                  <a:pt x="19720" y="9401"/>
                </a:cubicBezTo>
              </a:path>
              <a:path w="4069" h="1192">
                <a:moveTo>
                  <a:pt x="19918" y="8979"/>
                </a:moveTo>
                <a:cubicBezTo>
                  <a:pt x="19918" y="9115"/>
                  <a:pt x="19923" y="9247"/>
                  <a:pt x="19943" y="9376"/>
                </a:cubicBezTo>
                <a:cubicBezTo>
                  <a:pt x="19943" y="9418"/>
                  <a:pt x="19943" y="9426"/>
                  <a:pt x="19943" y="9451"/>
                </a:cubicBezTo>
                <a:cubicBezTo>
                  <a:pt x="19951" y="9384"/>
                  <a:pt x="19950" y="9292"/>
                  <a:pt x="19968" y="9227"/>
                </a:cubicBezTo>
                <a:cubicBezTo>
                  <a:pt x="19985" y="9167"/>
                  <a:pt x="20014" y="9104"/>
                  <a:pt x="20042" y="9054"/>
                </a:cubicBezTo>
                <a:cubicBezTo>
                  <a:pt x="20078" y="8991"/>
                  <a:pt x="20143" y="8961"/>
                  <a:pt x="20216" y="8954"/>
                </a:cubicBezTo>
                <a:cubicBezTo>
                  <a:pt x="20280" y="8948"/>
                  <a:pt x="20316" y="8938"/>
                  <a:pt x="20340" y="9004"/>
                </a:cubicBezTo>
                <a:cubicBezTo>
                  <a:pt x="20378" y="9107"/>
                  <a:pt x="20349" y="9290"/>
                  <a:pt x="20365" y="9401"/>
                </a:cubicBezTo>
                <a:cubicBezTo>
                  <a:pt x="20372" y="9452"/>
                  <a:pt x="20365" y="9504"/>
                  <a:pt x="20365" y="9426"/>
                </a:cubicBezTo>
              </a:path>
              <a:path w="4069" h="1192">
                <a:moveTo>
                  <a:pt x="20588" y="9103"/>
                </a:moveTo>
                <a:cubicBezTo>
                  <a:pt x="20696" y="8982"/>
                  <a:pt x="20642" y="9050"/>
                  <a:pt x="20762" y="9079"/>
                </a:cubicBezTo>
                <a:cubicBezTo>
                  <a:pt x="20804" y="9089"/>
                  <a:pt x="20887" y="9163"/>
                  <a:pt x="20861" y="9227"/>
                </a:cubicBezTo>
                <a:cubicBezTo>
                  <a:pt x="20838" y="9284"/>
                  <a:pt x="20755" y="9313"/>
                  <a:pt x="20712" y="9351"/>
                </a:cubicBezTo>
                <a:cubicBezTo>
                  <a:pt x="20669" y="9389"/>
                  <a:pt x="20648" y="9447"/>
                  <a:pt x="20638" y="9500"/>
                </a:cubicBezTo>
                <a:cubicBezTo>
                  <a:pt x="20684" y="9520"/>
                  <a:pt x="20736" y="9547"/>
                  <a:pt x="20786" y="9550"/>
                </a:cubicBezTo>
                <a:cubicBezTo>
                  <a:pt x="20877" y="9556"/>
                  <a:pt x="20945" y="9524"/>
                  <a:pt x="21010" y="9475"/>
                </a:cubicBezTo>
              </a:path>
              <a:path w="4069" h="1192">
                <a:moveTo>
                  <a:pt x="21183" y="9327"/>
                </a:moveTo>
                <a:cubicBezTo>
                  <a:pt x="21239" y="9327"/>
                  <a:pt x="21288" y="9337"/>
                  <a:pt x="21332" y="9302"/>
                </a:cubicBezTo>
                <a:cubicBezTo>
                  <a:pt x="21395" y="9252"/>
                  <a:pt x="21433" y="9255"/>
                  <a:pt x="21456" y="9178"/>
                </a:cubicBezTo>
                <a:cubicBezTo>
                  <a:pt x="21477" y="9107"/>
                  <a:pt x="21384" y="9046"/>
                  <a:pt x="21332" y="9029"/>
                </a:cubicBezTo>
                <a:cubicBezTo>
                  <a:pt x="21275" y="9010"/>
                  <a:pt x="21195" y="9032"/>
                  <a:pt x="21158" y="9079"/>
                </a:cubicBezTo>
                <a:cubicBezTo>
                  <a:pt x="21112" y="9137"/>
                  <a:pt x="21093" y="9230"/>
                  <a:pt x="21084" y="9302"/>
                </a:cubicBezTo>
                <a:cubicBezTo>
                  <a:pt x="21075" y="9370"/>
                  <a:pt x="21134" y="9483"/>
                  <a:pt x="21208" y="9500"/>
                </a:cubicBezTo>
                <a:cubicBezTo>
                  <a:pt x="21251" y="9510"/>
                  <a:pt x="21360" y="9540"/>
                  <a:pt x="21406" y="9525"/>
                </a:cubicBezTo>
                <a:cubicBezTo>
                  <a:pt x="21423" y="9517"/>
                  <a:pt x="21439" y="9508"/>
                  <a:pt x="21456" y="9500"/>
                </a:cubicBezTo>
              </a:path>
              <a:path w="4069" h="1192">
                <a:moveTo>
                  <a:pt x="21679" y="9103"/>
                </a:moveTo>
                <a:cubicBezTo>
                  <a:pt x="21679" y="9220"/>
                  <a:pt x="21666" y="9342"/>
                  <a:pt x="21704" y="9451"/>
                </a:cubicBezTo>
                <a:cubicBezTo>
                  <a:pt x="21725" y="9510"/>
                  <a:pt x="21729" y="9522"/>
                  <a:pt x="21729" y="9575"/>
                </a:cubicBezTo>
                <a:cubicBezTo>
                  <a:pt x="21772" y="9517"/>
                  <a:pt x="21732" y="9473"/>
                  <a:pt x="21729" y="9401"/>
                </a:cubicBezTo>
                <a:cubicBezTo>
                  <a:pt x="21725" y="9300"/>
                  <a:pt x="21759" y="9268"/>
                  <a:pt x="21779" y="9178"/>
                </a:cubicBezTo>
                <a:cubicBezTo>
                  <a:pt x="21793" y="9117"/>
                  <a:pt x="21833" y="9078"/>
                  <a:pt x="21903" y="9054"/>
                </a:cubicBezTo>
                <a:cubicBezTo>
                  <a:pt x="21945" y="9040"/>
                  <a:pt x="21996" y="9062"/>
                  <a:pt x="22002" y="9103"/>
                </a:cubicBezTo>
                <a:cubicBezTo>
                  <a:pt x="22012" y="9173"/>
                  <a:pt x="21996" y="9217"/>
                  <a:pt x="22027" y="9277"/>
                </a:cubicBezTo>
                <a:cubicBezTo>
                  <a:pt x="22069" y="9357"/>
                  <a:pt x="22095" y="9356"/>
                  <a:pt x="22101" y="9451"/>
                </a:cubicBezTo>
                <a:cubicBezTo>
                  <a:pt x="22106" y="9520"/>
                  <a:pt x="22069" y="9543"/>
                  <a:pt x="22151" y="9475"/>
                </a:cubicBezTo>
              </a:path>
              <a:path w="4069" h="1192">
                <a:moveTo>
                  <a:pt x="22324" y="9351"/>
                </a:moveTo>
                <a:cubicBezTo>
                  <a:pt x="22387" y="9320"/>
                  <a:pt x="22438" y="9322"/>
                  <a:pt x="22498" y="9302"/>
                </a:cubicBezTo>
                <a:cubicBezTo>
                  <a:pt x="22558" y="9282"/>
                  <a:pt x="22592" y="9228"/>
                  <a:pt x="22622" y="9178"/>
                </a:cubicBezTo>
                <a:cubicBezTo>
                  <a:pt x="22644" y="9134"/>
                  <a:pt x="22647" y="9123"/>
                  <a:pt x="22671" y="9103"/>
                </a:cubicBezTo>
                <a:cubicBezTo>
                  <a:pt x="22612" y="9070"/>
                  <a:pt x="22557" y="9006"/>
                  <a:pt x="22498" y="8979"/>
                </a:cubicBezTo>
                <a:cubicBezTo>
                  <a:pt x="22437" y="8951"/>
                  <a:pt x="22398" y="9001"/>
                  <a:pt x="22374" y="9029"/>
                </a:cubicBezTo>
                <a:cubicBezTo>
                  <a:pt x="22321" y="9091"/>
                  <a:pt x="22286" y="9118"/>
                  <a:pt x="22275" y="9203"/>
                </a:cubicBezTo>
                <a:cubicBezTo>
                  <a:pt x="22263" y="9300"/>
                  <a:pt x="22279" y="9331"/>
                  <a:pt x="22324" y="9401"/>
                </a:cubicBezTo>
                <a:cubicBezTo>
                  <a:pt x="22368" y="9470"/>
                  <a:pt x="22412" y="9507"/>
                  <a:pt x="22498" y="9525"/>
                </a:cubicBezTo>
                <a:cubicBezTo>
                  <a:pt x="22598" y="9546"/>
                  <a:pt x="22711" y="9513"/>
                  <a:pt x="22796" y="9500"/>
                </a:cubicBezTo>
                <a:cubicBezTo>
                  <a:pt x="22821" y="9500"/>
                  <a:pt x="22845" y="9500"/>
                  <a:pt x="22870" y="95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4473720"/>
            <a:ext cx="2224080" cy="634680"/>
          </a:xfrm>
          <a:custGeom>
            <a:avLst/>
            <a:gdLst/>
            <a:ahLst/>
            <a:rect l="l" t="t" r="r" b="b"/>
            <a:pathLst>
              <a:path w="6177" h="1762">
                <a:moveTo>
                  <a:pt x="595" y="12824"/>
                </a:moveTo>
                <a:lnTo>
                  <a:pt x="595" y="12824"/>
                </a:lnTo>
              </a:path>
              <a:path w="6177" h="1762">
                <a:moveTo>
                  <a:pt x="719" y="12824"/>
                </a:moveTo>
                <a:cubicBezTo>
                  <a:pt x="659" y="12798"/>
                  <a:pt x="631" y="12784"/>
                  <a:pt x="571" y="12824"/>
                </a:cubicBezTo>
                <a:cubicBezTo>
                  <a:pt x="504" y="12869"/>
                  <a:pt x="513" y="12886"/>
                  <a:pt x="471" y="12948"/>
                </a:cubicBezTo>
                <a:cubicBezTo>
                  <a:pt x="448" y="12983"/>
                  <a:pt x="413" y="13033"/>
                  <a:pt x="397" y="13072"/>
                </a:cubicBezTo>
                <a:cubicBezTo>
                  <a:pt x="376" y="13124"/>
                  <a:pt x="391" y="13248"/>
                  <a:pt x="422" y="13295"/>
                </a:cubicBezTo>
                <a:cubicBezTo>
                  <a:pt x="456" y="13346"/>
                  <a:pt x="510" y="13391"/>
                  <a:pt x="571" y="13395"/>
                </a:cubicBezTo>
                <a:cubicBezTo>
                  <a:pt x="633" y="13399"/>
                  <a:pt x="691" y="13389"/>
                  <a:pt x="744" y="13370"/>
                </a:cubicBezTo>
                <a:cubicBezTo>
                  <a:pt x="800" y="13350"/>
                  <a:pt x="860" y="13328"/>
                  <a:pt x="893" y="13271"/>
                </a:cubicBezTo>
                <a:cubicBezTo>
                  <a:pt x="921" y="13223"/>
                  <a:pt x="940" y="13159"/>
                  <a:pt x="943" y="13097"/>
                </a:cubicBezTo>
                <a:cubicBezTo>
                  <a:pt x="946" y="13032"/>
                  <a:pt x="906" y="12974"/>
                  <a:pt x="868" y="12923"/>
                </a:cubicBezTo>
                <a:cubicBezTo>
                  <a:pt x="830" y="12872"/>
                  <a:pt x="800" y="12833"/>
                  <a:pt x="744" y="12799"/>
                </a:cubicBezTo>
                <a:cubicBezTo>
                  <a:pt x="668" y="12753"/>
                  <a:pt x="657" y="12844"/>
                  <a:pt x="719" y="12750"/>
                </a:cubicBezTo>
              </a:path>
              <a:path w="6177" h="1762">
                <a:moveTo>
                  <a:pt x="1191" y="12973"/>
                </a:moveTo>
                <a:cubicBezTo>
                  <a:pt x="1174" y="12965"/>
                  <a:pt x="1158" y="12956"/>
                  <a:pt x="1141" y="12948"/>
                </a:cubicBezTo>
                <a:cubicBezTo>
                  <a:pt x="1152" y="12993"/>
                  <a:pt x="1166" y="13018"/>
                  <a:pt x="1166" y="13072"/>
                </a:cubicBezTo>
                <a:cubicBezTo>
                  <a:pt x="1166" y="13163"/>
                  <a:pt x="1166" y="13254"/>
                  <a:pt x="1166" y="13345"/>
                </a:cubicBezTo>
                <a:cubicBezTo>
                  <a:pt x="1166" y="13213"/>
                  <a:pt x="1166" y="13080"/>
                  <a:pt x="1166" y="12948"/>
                </a:cubicBezTo>
                <a:cubicBezTo>
                  <a:pt x="1234" y="12938"/>
                  <a:pt x="1295" y="12923"/>
                  <a:pt x="1364" y="12923"/>
                </a:cubicBezTo>
                <a:cubicBezTo>
                  <a:pt x="1432" y="12923"/>
                  <a:pt x="1456" y="12896"/>
                  <a:pt x="1488" y="12849"/>
                </a:cubicBezTo>
              </a:path>
              <a:path w="6177" h="1762">
                <a:moveTo>
                  <a:pt x="1811" y="12576"/>
                </a:moveTo>
                <a:cubicBezTo>
                  <a:pt x="1787" y="12640"/>
                  <a:pt x="1786" y="12681"/>
                  <a:pt x="1786" y="12750"/>
                </a:cubicBezTo>
                <a:cubicBezTo>
                  <a:pt x="1786" y="12872"/>
                  <a:pt x="1829" y="13376"/>
                  <a:pt x="1736" y="13345"/>
                </a:cubicBezTo>
              </a:path>
              <a:path w="6177" h="1762">
                <a:moveTo>
                  <a:pt x="1513" y="13047"/>
                </a:moveTo>
                <a:cubicBezTo>
                  <a:pt x="1583" y="13073"/>
                  <a:pt x="1636" y="13072"/>
                  <a:pt x="1712" y="13072"/>
                </a:cubicBezTo>
                <a:cubicBezTo>
                  <a:pt x="1784" y="13072"/>
                  <a:pt x="1868" y="13066"/>
                  <a:pt x="1935" y="13047"/>
                </a:cubicBezTo>
                <a:cubicBezTo>
                  <a:pt x="2008" y="13026"/>
                  <a:pt x="2069" y="12957"/>
                  <a:pt x="2108" y="12898"/>
                </a:cubicBezTo>
                <a:cubicBezTo>
                  <a:pt x="2148" y="12837"/>
                  <a:pt x="2202" y="12766"/>
                  <a:pt x="2208" y="12700"/>
                </a:cubicBezTo>
                <a:cubicBezTo>
                  <a:pt x="2212" y="12653"/>
                  <a:pt x="2197" y="12572"/>
                  <a:pt x="2183" y="12526"/>
                </a:cubicBezTo>
                <a:cubicBezTo>
                  <a:pt x="2162" y="12455"/>
                  <a:pt x="2121" y="12436"/>
                  <a:pt x="2059" y="12427"/>
                </a:cubicBezTo>
                <a:cubicBezTo>
                  <a:pt x="2050" y="12512"/>
                  <a:pt x="2034" y="12587"/>
                  <a:pt x="2034" y="12675"/>
                </a:cubicBezTo>
                <a:cubicBezTo>
                  <a:pt x="2034" y="12796"/>
                  <a:pt x="2046" y="12906"/>
                  <a:pt x="2059" y="13022"/>
                </a:cubicBezTo>
                <a:cubicBezTo>
                  <a:pt x="2070" y="13127"/>
                  <a:pt x="2059" y="13239"/>
                  <a:pt x="2059" y="13345"/>
                </a:cubicBezTo>
                <a:cubicBezTo>
                  <a:pt x="2098" y="13296"/>
                  <a:pt x="2107" y="13252"/>
                  <a:pt x="2133" y="13196"/>
                </a:cubicBezTo>
                <a:cubicBezTo>
                  <a:pt x="2173" y="13112"/>
                  <a:pt x="2190" y="13081"/>
                  <a:pt x="2257" y="13022"/>
                </a:cubicBezTo>
                <a:cubicBezTo>
                  <a:pt x="2296" y="12988"/>
                  <a:pt x="2371" y="12951"/>
                  <a:pt x="2406" y="13022"/>
                </a:cubicBezTo>
                <a:cubicBezTo>
                  <a:pt x="2419" y="13048"/>
                  <a:pt x="2427" y="13142"/>
                  <a:pt x="2431" y="13171"/>
                </a:cubicBezTo>
                <a:cubicBezTo>
                  <a:pt x="2443" y="13265"/>
                  <a:pt x="2448" y="13311"/>
                  <a:pt x="2480" y="13196"/>
                </a:cubicBezTo>
              </a:path>
              <a:path w="6177" h="1762">
                <a:moveTo>
                  <a:pt x="3026" y="12849"/>
                </a:moveTo>
                <a:cubicBezTo>
                  <a:pt x="2962" y="12849"/>
                  <a:pt x="2877" y="12845"/>
                  <a:pt x="2828" y="12898"/>
                </a:cubicBezTo>
                <a:cubicBezTo>
                  <a:pt x="2784" y="12945"/>
                  <a:pt x="2778" y="12987"/>
                  <a:pt x="2778" y="13047"/>
                </a:cubicBezTo>
                <a:cubicBezTo>
                  <a:pt x="2778" y="13098"/>
                  <a:pt x="2787" y="13213"/>
                  <a:pt x="2828" y="13246"/>
                </a:cubicBezTo>
                <a:cubicBezTo>
                  <a:pt x="2850" y="13264"/>
                  <a:pt x="2945" y="13282"/>
                  <a:pt x="2977" y="13295"/>
                </a:cubicBezTo>
                <a:cubicBezTo>
                  <a:pt x="3031" y="13317"/>
                  <a:pt x="3118" y="13401"/>
                  <a:pt x="3175" y="13320"/>
                </a:cubicBezTo>
                <a:cubicBezTo>
                  <a:pt x="3203" y="13280"/>
                  <a:pt x="3244" y="13231"/>
                  <a:pt x="3249" y="13171"/>
                </a:cubicBezTo>
                <a:cubicBezTo>
                  <a:pt x="3252" y="13133"/>
                  <a:pt x="3243" y="13076"/>
                  <a:pt x="3225" y="13047"/>
                </a:cubicBezTo>
                <a:cubicBezTo>
                  <a:pt x="3190" y="12988"/>
                  <a:pt x="3093" y="12896"/>
                  <a:pt x="3026" y="12874"/>
                </a:cubicBezTo>
                <a:cubicBezTo>
                  <a:pt x="2998" y="12874"/>
                  <a:pt x="2988" y="12876"/>
                  <a:pt x="2977" y="12898"/>
                </a:cubicBezTo>
              </a:path>
              <a:path w="6177" h="1762">
                <a:moveTo>
                  <a:pt x="3621" y="12973"/>
                </a:moveTo>
                <a:cubicBezTo>
                  <a:pt x="3621" y="13051"/>
                  <a:pt x="3621" y="13380"/>
                  <a:pt x="3621" y="13295"/>
                </a:cubicBezTo>
                <a:cubicBezTo>
                  <a:pt x="3621" y="13228"/>
                  <a:pt x="3631" y="13179"/>
                  <a:pt x="3671" y="13122"/>
                </a:cubicBezTo>
                <a:cubicBezTo>
                  <a:pt x="3707" y="13071"/>
                  <a:pt x="3731" y="13019"/>
                  <a:pt x="3795" y="12998"/>
                </a:cubicBezTo>
                <a:cubicBezTo>
                  <a:pt x="3835" y="12985"/>
                  <a:pt x="3946" y="13027"/>
                  <a:pt x="3969" y="13047"/>
                </a:cubicBezTo>
                <a:cubicBezTo>
                  <a:pt x="4020" y="13092"/>
                  <a:pt x="4043" y="13128"/>
                  <a:pt x="4043" y="13196"/>
                </a:cubicBezTo>
                <a:cubicBezTo>
                  <a:pt x="4043" y="13270"/>
                  <a:pt x="4043" y="13345"/>
                  <a:pt x="4043" y="13419"/>
                </a:cubicBezTo>
                <a:cubicBezTo>
                  <a:pt x="4043" y="13298"/>
                  <a:pt x="4012" y="13132"/>
                  <a:pt x="4068" y="13022"/>
                </a:cubicBezTo>
                <a:cubicBezTo>
                  <a:pt x="4102" y="12956"/>
                  <a:pt x="4179" y="12970"/>
                  <a:pt x="4217" y="13022"/>
                </a:cubicBezTo>
                <a:cubicBezTo>
                  <a:pt x="4262" y="13085"/>
                  <a:pt x="4266" y="13120"/>
                  <a:pt x="4266" y="13196"/>
                </a:cubicBezTo>
                <a:cubicBezTo>
                  <a:pt x="4266" y="13255"/>
                  <a:pt x="4257" y="13299"/>
                  <a:pt x="4291" y="13345"/>
                </a:cubicBezTo>
              </a:path>
              <a:path w="6177" h="1762">
                <a:moveTo>
                  <a:pt x="4539" y="13146"/>
                </a:moveTo>
                <a:cubicBezTo>
                  <a:pt x="4549" y="13089"/>
                  <a:pt x="4564" y="13077"/>
                  <a:pt x="4638" y="13072"/>
                </a:cubicBezTo>
                <a:cubicBezTo>
                  <a:pt x="4717" y="13067"/>
                  <a:pt x="4764" y="13080"/>
                  <a:pt x="4812" y="12998"/>
                </a:cubicBezTo>
                <a:cubicBezTo>
                  <a:pt x="4845" y="12941"/>
                  <a:pt x="4790" y="12901"/>
                  <a:pt x="4762" y="12874"/>
                </a:cubicBezTo>
                <a:cubicBezTo>
                  <a:pt x="4696" y="12812"/>
                  <a:pt x="4679" y="12824"/>
                  <a:pt x="4589" y="12824"/>
                </a:cubicBezTo>
                <a:cubicBezTo>
                  <a:pt x="4543" y="12824"/>
                  <a:pt x="4474" y="12900"/>
                  <a:pt x="4465" y="12948"/>
                </a:cubicBezTo>
                <a:cubicBezTo>
                  <a:pt x="4446" y="13052"/>
                  <a:pt x="4470" y="13133"/>
                  <a:pt x="4514" y="13221"/>
                </a:cubicBezTo>
                <a:cubicBezTo>
                  <a:pt x="4549" y="13292"/>
                  <a:pt x="4638" y="13339"/>
                  <a:pt x="4713" y="13370"/>
                </a:cubicBezTo>
                <a:cubicBezTo>
                  <a:pt x="4838" y="13423"/>
                  <a:pt x="4892" y="13381"/>
                  <a:pt x="4986" y="13295"/>
                </a:cubicBezTo>
                <a:cubicBezTo>
                  <a:pt x="5002" y="13279"/>
                  <a:pt x="5019" y="13262"/>
                  <a:pt x="5035" y="13246"/>
                </a:cubicBezTo>
              </a:path>
              <a:path w="6177" h="1762">
                <a:moveTo>
                  <a:pt x="5259" y="12700"/>
                </a:moveTo>
                <a:cubicBezTo>
                  <a:pt x="5259" y="12915"/>
                  <a:pt x="5259" y="13130"/>
                  <a:pt x="5259" y="13345"/>
                </a:cubicBezTo>
              </a:path>
              <a:path w="6177" h="1762">
                <a:moveTo>
                  <a:pt x="4961" y="13022"/>
                </a:moveTo>
                <a:cubicBezTo>
                  <a:pt x="5118" y="13022"/>
                  <a:pt x="5309" y="13051"/>
                  <a:pt x="5457" y="12998"/>
                </a:cubicBezTo>
                <a:cubicBezTo>
                  <a:pt x="5528" y="12972"/>
                  <a:pt x="5633" y="12910"/>
                  <a:pt x="5680" y="12849"/>
                </a:cubicBezTo>
                <a:cubicBezTo>
                  <a:pt x="5733" y="12779"/>
                  <a:pt x="5756" y="12651"/>
                  <a:pt x="5705" y="12576"/>
                </a:cubicBezTo>
                <a:cubicBezTo>
                  <a:pt x="5663" y="12515"/>
                  <a:pt x="5658" y="12516"/>
                  <a:pt x="5606" y="12477"/>
                </a:cubicBezTo>
                <a:cubicBezTo>
                  <a:pt x="5581" y="12551"/>
                  <a:pt x="5581" y="12592"/>
                  <a:pt x="5581" y="12675"/>
                </a:cubicBezTo>
                <a:cubicBezTo>
                  <a:pt x="5581" y="12773"/>
                  <a:pt x="5612" y="12833"/>
                  <a:pt x="5631" y="12923"/>
                </a:cubicBezTo>
                <a:cubicBezTo>
                  <a:pt x="5647" y="12999"/>
                  <a:pt x="5690" y="13068"/>
                  <a:pt x="5705" y="13146"/>
                </a:cubicBezTo>
                <a:cubicBezTo>
                  <a:pt x="5709" y="13167"/>
                  <a:pt x="5705" y="13291"/>
                  <a:pt x="5705" y="13171"/>
                </a:cubicBezTo>
                <a:cubicBezTo>
                  <a:pt x="5705" y="13113"/>
                  <a:pt x="5719" y="13073"/>
                  <a:pt x="5730" y="13047"/>
                </a:cubicBezTo>
                <a:cubicBezTo>
                  <a:pt x="5747" y="13008"/>
                  <a:pt x="5803" y="12929"/>
                  <a:pt x="5854" y="12948"/>
                </a:cubicBezTo>
                <a:cubicBezTo>
                  <a:pt x="5901" y="12965"/>
                  <a:pt x="5964" y="13013"/>
                  <a:pt x="5978" y="13072"/>
                </a:cubicBezTo>
                <a:cubicBezTo>
                  <a:pt x="5982" y="13089"/>
                  <a:pt x="5962" y="13278"/>
                  <a:pt x="6003" y="13196"/>
                </a:cubicBezTo>
                <a:cubicBezTo>
                  <a:pt x="6003" y="13188"/>
                  <a:pt x="6003" y="13179"/>
                  <a:pt x="6003" y="13171"/>
                </a:cubicBezTo>
              </a:path>
              <a:path w="6177" h="1762">
                <a:moveTo>
                  <a:pt x="6152" y="12973"/>
                </a:moveTo>
                <a:cubicBezTo>
                  <a:pt x="6152" y="13047"/>
                  <a:pt x="6165" y="13103"/>
                  <a:pt x="6176" y="13171"/>
                </a:cubicBezTo>
                <a:cubicBezTo>
                  <a:pt x="6186" y="13231"/>
                  <a:pt x="6166" y="13257"/>
                  <a:pt x="6226" y="13295"/>
                </a:cubicBezTo>
                <a:cubicBezTo>
                  <a:pt x="6276" y="13320"/>
                  <a:pt x="6292" y="13328"/>
                  <a:pt x="6300" y="13370"/>
                </a:cubicBezTo>
                <a:cubicBezTo>
                  <a:pt x="6361" y="13332"/>
                  <a:pt x="6390" y="13302"/>
                  <a:pt x="6424" y="13246"/>
                </a:cubicBezTo>
                <a:cubicBezTo>
                  <a:pt x="6468" y="13175"/>
                  <a:pt x="6446" y="13140"/>
                  <a:pt x="6424" y="13072"/>
                </a:cubicBezTo>
                <a:cubicBezTo>
                  <a:pt x="6408" y="13023"/>
                  <a:pt x="6390" y="12970"/>
                  <a:pt x="6375" y="12923"/>
                </a:cubicBezTo>
                <a:cubicBezTo>
                  <a:pt x="6400" y="12976"/>
                  <a:pt x="6469" y="13116"/>
                  <a:pt x="6499" y="13196"/>
                </a:cubicBezTo>
                <a:cubicBezTo>
                  <a:pt x="6572" y="13389"/>
                  <a:pt x="6573" y="13564"/>
                  <a:pt x="6573" y="13767"/>
                </a:cubicBezTo>
                <a:cubicBezTo>
                  <a:pt x="6573" y="13874"/>
                  <a:pt x="6545" y="13968"/>
                  <a:pt x="6499" y="14064"/>
                </a:cubicBezTo>
                <a:cubicBezTo>
                  <a:pt x="6465" y="14135"/>
                  <a:pt x="6427" y="14184"/>
                  <a:pt x="6350" y="14188"/>
                </a:cubicBezTo>
                <a:cubicBezTo>
                  <a:pt x="6248" y="14193"/>
                  <a:pt x="6222" y="14133"/>
                  <a:pt x="6152" y="14064"/>
                </a:cubicBezTo>
                <a:cubicBezTo>
                  <a:pt x="6092" y="14005"/>
                  <a:pt x="6069" y="13976"/>
                  <a:pt x="6052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7840" y="4456080"/>
            <a:ext cx="19080" cy="357120"/>
          </a:xfrm>
          <a:custGeom>
            <a:avLst/>
            <a:gdLst/>
            <a:ahLst/>
            <a:rect l="l" t="t" r="r" b="b"/>
            <a:pathLst>
              <a:path w="51" h="993">
                <a:moveTo>
                  <a:pt x="7020" y="12378"/>
                </a:moveTo>
                <a:cubicBezTo>
                  <a:pt x="6992" y="12441"/>
                  <a:pt x="6995" y="12480"/>
                  <a:pt x="6995" y="12551"/>
                </a:cubicBezTo>
                <a:cubicBezTo>
                  <a:pt x="6995" y="12645"/>
                  <a:pt x="7028" y="12709"/>
                  <a:pt x="7045" y="12799"/>
                </a:cubicBezTo>
                <a:cubicBezTo>
                  <a:pt x="7077" y="12974"/>
                  <a:pt x="7045" y="13191"/>
                  <a:pt x="7045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4956120"/>
            <a:ext cx="1447920" cy="357120"/>
          </a:xfrm>
          <a:custGeom>
            <a:avLst/>
            <a:gdLst/>
            <a:ahLst/>
            <a:rect l="l" t="t" r="r" b="b"/>
            <a:pathLst>
              <a:path w="4019" h="993">
                <a:moveTo>
                  <a:pt x="893" y="13791"/>
                </a:moveTo>
                <a:cubicBezTo>
                  <a:pt x="876" y="13783"/>
                  <a:pt x="860" y="13775"/>
                  <a:pt x="843" y="13767"/>
                </a:cubicBezTo>
                <a:cubicBezTo>
                  <a:pt x="843" y="14017"/>
                  <a:pt x="845" y="14266"/>
                  <a:pt x="819" y="14511"/>
                </a:cubicBezTo>
                <a:cubicBezTo>
                  <a:pt x="819" y="14512"/>
                  <a:pt x="819" y="14709"/>
                  <a:pt x="819" y="14635"/>
                </a:cubicBezTo>
              </a:path>
              <a:path w="4019" h="993">
                <a:moveTo>
                  <a:pt x="521" y="14337"/>
                </a:moveTo>
                <a:cubicBezTo>
                  <a:pt x="513" y="14312"/>
                  <a:pt x="504" y="14288"/>
                  <a:pt x="496" y="14263"/>
                </a:cubicBezTo>
                <a:cubicBezTo>
                  <a:pt x="782" y="14263"/>
                  <a:pt x="1085" y="14291"/>
                  <a:pt x="1364" y="14238"/>
                </a:cubicBezTo>
                <a:cubicBezTo>
                  <a:pt x="1372" y="14238"/>
                  <a:pt x="1381" y="14238"/>
                  <a:pt x="1389" y="14238"/>
                </a:cubicBezTo>
              </a:path>
              <a:path w="4019" h="993">
                <a:moveTo>
                  <a:pt x="1488" y="14188"/>
                </a:moveTo>
                <a:cubicBezTo>
                  <a:pt x="1378" y="14199"/>
                  <a:pt x="1400" y="14206"/>
                  <a:pt x="1339" y="14288"/>
                </a:cubicBezTo>
                <a:cubicBezTo>
                  <a:pt x="1302" y="14337"/>
                  <a:pt x="1315" y="14398"/>
                  <a:pt x="1315" y="14461"/>
                </a:cubicBezTo>
                <a:cubicBezTo>
                  <a:pt x="1315" y="14517"/>
                  <a:pt x="1355" y="14574"/>
                  <a:pt x="1414" y="14585"/>
                </a:cubicBezTo>
                <a:cubicBezTo>
                  <a:pt x="1475" y="14596"/>
                  <a:pt x="1564" y="14537"/>
                  <a:pt x="1588" y="14486"/>
                </a:cubicBezTo>
                <a:cubicBezTo>
                  <a:pt x="1610" y="14439"/>
                  <a:pt x="1554" y="14373"/>
                  <a:pt x="1538" y="14337"/>
                </a:cubicBezTo>
                <a:cubicBezTo>
                  <a:pt x="1507" y="14265"/>
                  <a:pt x="1504" y="14311"/>
                  <a:pt x="1488" y="14263"/>
                </a:cubicBezTo>
              </a:path>
              <a:path w="4019" h="993">
                <a:moveTo>
                  <a:pt x="1712" y="13891"/>
                </a:moveTo>
                <a:cubicBezTo>
                  <a:pt x="1753" y="13981"/>
                  <a:pt x="1777" y="14064"/>
                  <a:pt x="1786" y="14163"/>
                </a:cubicBezTo>
                <a:cubicBezTo>
                  <a:pt x="1799" y="14306"/>
                  <a:pt x="1767" y="14444"/>
                  <a:pt x="1761" y="14585"/>
                </a:cubicBezTo>
                <a:cubicBezTo>
                  <a:pt x="1759" y="14645"/>
                  <a:pt x="1749" y="14709"/>
                  <a:pt x="1786" y="14734"/>
                </a:cubicBezTo>
              </a:path>
              <a:path w="4019" h="993">
                <a:moveTo>
                  <a:pt x="2034" y="14263"/>
                </a:moveTo>
                <a:cubicBezTo>
                  <a:pt x="2049" y="14337"/>
                  <a:pt x="2079" y="14357"/>
                  <a:pt x="2084" y="14436"/>
                </a:cubicBezTo>
                <a:cubicBezTo>
                  <a:pt x="2088" y="14499"/>
                  <a:pt x="2068" y="14560"/>
                  <a:pt x="2108" y="14610"/>
                </a:cubicBezTo>
                <a:cubicBezTo>
                  <a:pt x="2149" y="14662"/>
                  <a:pt x="2198" y="14660"/>
                  <a:pt x="2257" y="14660"/>
                </a:cubicBezTo>
                <a:cubicBezTo>
                  <a:pt x="2316" y="14660"/>
                  <a:pt x="2360" y="14611"/>
                  <a:pt x="2381" y="14560"/>
                </a:cubicBezTo>
                <a:cubicBezTo>
                  <a:pt x="2405" y="14502"/>
                  <a:pt x="2404" y="14377"/>
                  <a:pt x="2406" y="14312"/>
                </a:cubicBezTo>
                <a:cubicBezTo>
                  <a:pt x="2406" y="14287"/>
                  <a:pt x="2406" y="14263"/>
                  <a:pt x="2406" y="14238"/>
                </a:cubicBezTo>
                <a:cubicBezTo>
                  <a:pt x="2406" y="14170"/>
                  <a:pt x="2406" y="14345"/>
                  <a:pt x="2406" y="14362"/>
                </a:cubicBezTo>
                <a:cubicBezTo>
                  <a:pt x="2406" y="14418"/>
                  <a:pt x="2372" y="14635"/>
                  <a:pt x="2456" y="14635"/>
                </a:cubicBezTo>
                <a:cubicBezTo>
                  <a:pt x="2472" y="14627"/>
                  <a:pt x="2489" y="14618"/>
                  <a:pt x="2505" y="14610"/>
                </a:cubicBezTo>
              </a:path>
              <a:path w="4019" h="993">
                <a:moveTo>
                  <a:pt x="2679" y="14461"/>
                </a:moveTo>
                <a:cubicBezTo>
                  <a:pt x="2728" y="14424"/>
                  <a:pt x="2760" y="14436"/>
                  <a:pt x="2828" y="14436"/>
                </a:cubicBezTo>
                <a:cubicBezTo>
                  <a:pt x="2875" y="14436"/>
                  <a:pt x="2938" y="14431"/>
                  <a:pt x="2977" y="14412"/>
                </a:cubicBezTo>
                <a:cubicBezTo>
                  <a:pt x="3035" y="14383"/>
                  <a:pt x="3045" y="14282"/>
                  <a:pt x="3001" y="14238"/>
                </a:cubicBezTo>
                <a:cubicBezTo>
                  <a:pt x="2953" y="14190"/>
                  <a:pt x="2853" y="14207"/>
                  <a:pt x="2803" y="14238"/>
                </a:cubicBezTo>
                <a:cubicBezTo>
                  <a:pt x="2755" y="14268"/>
                  <a:pt x="2732" y="14338"/>
                  <a:pt x="2729" y="14387"/>
                </a:cubicBezTo>
                <a:cubicBezTo>
                  <a:pt x="2726" y="14439"/>
                  <a:pt x="2735" y="14500"/>
                  <a:pt x="2778" y="14536"/>
                </a:cubicBezTo>
                <a:cubicBezTo>
                  <a:pt x="2828" y="14578"/>
                  <a:pt x="2888" y="14605"/>
                  <a:pt x="2952" y="14610"/>
                </a:cubicBezTo>
                <a:cubicBezTo>
                  <a:pt x="3006" y="14614"/>
                  <a:pt x="3057" y="14590"/>
                  <a:pt x="3101" y="14560"/>
                </a:cubicBezTo>
                <a:cubicBezTo>
                  <a:pt x="3130" y="14531"/>
                  <a:pt x="3145" y="14520"/>
                  <a:pt x="3175" y="14511"/>
                </a:cubicBezTo>
              </a:path>
              <a:path w="4019" h="993">
                <a:moveTo>
                  <a:pt x="3249" y="14288"/>
                </a:moveTo>
                <a:cubicBezTo>
                  <a:pt x="3249" y="14361"/>
                  <a:pt x="3242" y="14426"/>
                  <a:pt x="3274" y="14486"/>
                </a:cubicBezTo>
                <a:cubicBezTo>
                  <a:pt x="3304" y="14543"/>
                  <a:pt x="3288" y="14587"/>
                  <a:pt x="3324" y="14635"/>
                </a:cubicBezTo>
                <a:cubicBezTo>
                  <a:pt x="3348" y="14571"/>
                  <a:pt x="3349" y="14530"/>
                  <a:pt x="3349" y="14461"/>
                </a:cubicBezTo>
                <a:cubicBezTo>
                  <a:pt x="3349" y="14391"/>
                  <a:pt x="3377" y="14322"/>
                  <a:pt x="3423" y="14263"/>
                </a:cubicBezTo>
                <a:cubicBezTo>
                  <a:pt x="3468" y="14205"/>
                  <a:pt x="3504" y="14169"/>
                  <a:pt x="3572" y="14163"/>
                </a:cubicBezTo>
                <a:cubicBezTo>
                  <a:pt x="3649" y="14157"/>
                  <a:pt x="3668" y="14257"/>
                  <a:pt x="3671" y="14312"/>
                </a:cubicBezTo>
                <a:cubicBezTo>
                  <a:pt x="3675" y="14386"/>
                  <a:pt x="3646" y="14457"/>
                  <a:pt x="3646" y="14536"/>
                </a:cubicBezTo>
                <a:cubicBezTo>
                  <a:pt x="3646" y="14585"/>
                  <a:pt x="3646" y="14635"/>
                  <a:pt x="3646" y="14684"/>
                </a:cubicBezTo>
              </a:path>
              <a:path w="4019" h="993">
                <a:moveTo>
                  <a:pt x="3969" y="14486"/>
                </a:moveTo>
                <a:cubicBezTo>
                  <a:pt x="4062" y="14486"/>
                  <a:pt x="4042" y="14485"/>
                  <a:pt x="4118" y="14436"/>
                </a:cubicBezTo>
                <a:cubicBezTo>
                  <a:pt x="4163" y="14407"/>
                  <a:pt x="4252" y="14347"/>
                  <a:pt x="4192" y="14288"/>
                </a:cubicBezTo>
                <a:cubicBezTo>
                  <a:pt x="4162" y="14259"/>
                  <a:pt x="4086" y="14203"/>
                  <a:pt x="4043" y="14213"/>
                </a:cubicBezTo>
                <a:cubicBezTo>
                  <a:pt x="3996" y="14224"/>
                  <a:pt x="3931" y="14294"/>
                  <a:pt x="3919" y="14337"/>
                </a:cubicBezTo>
                <a:cubicBezTo>
                  <a:pt x="3892" y="14437"/>
                  <a:pt x="3932" y="14500"/>
                  <a:pt x="3969" y="14560"/>
                </a:cubicBezTo>
                <a:cubicBezTo>
                  <a:pt x="4006" y="14621"/>
                  <a:pt x="4041" y="14602"/>
                  <a:pt x="4093" y="14635"/>
                </a:cubicBezTo>
                <a:cubicBezTo>
                  <a:pt x="4151" y="14672"/>
                  <a:pt x="4198" y="14736"/>
                  <a:pt x="4266" y="14759"/>
                </a:cubicBezTo>
                <a:cubicBezTo>
                  <a:pt x="4316" y="14776"/>
                  <a:pt x="4440" y="14623"/>
                  <a:pt x="4465" y="14585"/>
                </a:cubicBezTo>
                <a:cubicBezTo>
                  <a:pt x="4490" y="14536"/>
                  <a:pt x="4498" y="14519"/>
                  <a:pt x="4514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6920" y="108000"/>
            <a:ext cx="1403280" cy="2500200"/>
          </a:xfrm>
          <a:custGeom>
            <a:avLst/>
            <a:gdLst/>
            <a:ahLst/>
            <a:rect l="l" t="t" r="r" b="b"/>
            <a:pathLst>
              <a:path w="3895" h="6946">
                <a:moveTo>
                  <a:pt x="19844" y="571"/>
                </a:moveTo>
                <a:cubicBezTo>
                  <a:pt x="19844" y="661"/>
                  <a:pt x="19868" y="668"/>
                  <a:pt x="19893" y="744"/>
                </a:cubicBezTo>
                <a:cubicBezTo>
                  <a:pt x="19910" y="795"/>
                  <a:pt x="19893" y="1152"/>
                  <a:pt x="19893" y="1042"/>
                </a:cubicBezTo>
                <a:cubicBezTo>
                  <a:pt x="19893" y="921"/>
                  <a:pt x="19886" y="812"/>
                  <a:pt x="19869" y="695"/>
                </a:cubicBezTo>
                <a:cubicBezTo>
                  <a:pt x="19860" y="634"/>
                  <a:pt x="19870" y="541"/>
                  <a:pt x="19918" y="496"/>
                </a:cubicBezTo>
                <a:cubicBezTo>
                  <a:pt x="19974" y="443"/>
                  <a:pt x="20000" y="385"/>
                  <a:pt x="20067" y="372"/>
                </a:cubicBezTo>
                <a:cubicBezTo>
                  <a:pt x="20139" y="358"/>
                  <a:pt x="20223" y="396"/>
                  <a:pt x="20241" y="471"/>
                </a:cubicBezTo>
                <a:cubicBezTo>
                  <a:pt x="20255" y="531"/>
                  <a:pt x="20243" y="599"/>
                  <a:pt x="20216" y="645"/>
                </a:cubicBezTo>
                <a:cubicBezTo>
                  <a:pt x="20173" y="721"/>
                  <a:pt x="20120" y="732"/>
                  <a:pt x="20067" y="794"/>
                </a:cubicBezTo>
                <a:cubicBezTo>
                  <a:pt x="20015" y="794"/>
                  <a:pt x="20117" y="808"/>
                  <a:pt x="20141" y="819"/>
                </a:cubicBezTo>
                <a:cubicBezTo>
                  <a:pt x="20221" y="856"/>
                  <a:pt x="20207" y="951"/>
                  <a:pt x="20290" y="992"/>
                </a:cubicBezTo>
                <a:cubicBezTo>
                  <a:pt x="20298" y="992"/>
                  <a:pt x="20307" y="992"/>
                  <a:pt x="20315" y="992"/>
                </a:cubicBezTo>
              </a:path>
              <a:path w="3895" h="6946">
                <a:moveTo>
                  <a:pt x="20613" y="1017"/>
                </a:moveTo>
                <a:cubicBezTo>
                  <a:pt x="20604" y="956"/>
                  <a:pt x="20588" y="934"/>
                  <a:pt x="20588" y="868"/>
                </a:cubicBezTo>
                <a:cubicBezTo>
                  <a:pt x="20588" y="794"/>
                  <a:pt x="20567" y="771"/>
                  <a:pt x="20563" y="695"/>
                </a:cubicBezTo>
                <a:cubicBezTo>
                  <a:pt x="20559" y="612"/>
                  <a:pt x="20549" y="513"/>
                  <a:pt x="20588" y="446"/>
                </a:cubicBezTo>
                <a:cubicBezTo>
                  <a:pt x="20612" y="405"/>
                  <a:pt x="20675" y="335"/>
                  <a:pt x="20737" y="372"/>
                </a:cubicBezTo>
                <a:cubicBezTo>
                  <a:pt x="20802" y="411"/>
                  <a:pt x="20853" y="438"/>
                  <a:pt x="20910" y="496"/>
                </a:cubicBezTo>
                <a:cubicBezTo>
                  <a:pt x="20977" y="564"/>
                  <a:pt x="21003" y="604"/>
                  <a:pt x="21034" y="695"/>
                </a:cubicBezTo>
                <a:cubicBezTo>
                  <a:pt x="21058" y="765"/>
                  <a:pt x="21059" y="797"/>
                  <a:pt x="21059" y="868"/>
                </a:cubicBezTo>
                <a:cubicBezTo>
                  <a:pt x="21059" y="910"/>
                  <a:pt x="21046" y="1191"/>
                  <a:pt x="21084" y="1067"/>
                </a:cubicBezTo>
                <a:cubicBezTo>
                  <a:pt x="21084" y="1059"/>
                  <a:pt x="21084" y="1050"/>
                  <a:pt x="21084" y="1042"/>
                </a:cubicBezTo>
              </a:path>
              <a:path w="3895" h="6946">
                <a:moveTo>
                  <a:pt x="20638" y="819"/>
                </a:moveTo>
                <a:cubicBezTo>
                  <a:pt x="20692" y="805"/>
                  <a:pt x="20699" y="774"/>
                  <a:pt x="20762" y="769"/>
                </a:cubicBezTo>
                <a:cubicBezTo>
                  <a:pt x="20861" y="761"/>
                  <a:pt x="20941" y="767"/>
                  <a:pt x="21034" y="744"/>
                </a:cubicBezTo>
                <a:cubicBezTo>
                  <a:pt x="21062" y="744"/>
                  <a:pt x="21073" y="746"/>
                  <a:pt x="21084" y="769"/>
                </a:cubicBezTo>
              </a:path>
              <a:path w="3895" h="6946">
                <a:moveTo>
                  <a:pt x="21977" y="422"/>
                </a:moveTo>
                <a:cubicBezTo>
                  <a:pt x="21977" y="354"/>
                  <a:pt x="21977" y="529"/>
                  <a:pt x="21977" y="546"/>
                </a:cubicBezTo>
                <a:cubicBezTo>
                  <a:pt x="21977" y="707"/>
                  <a:pt x="21979" y="864"/>
                  <a:pt x="21952" y="1017"/>
                </a:cubicBezTo>
                <a:cubicBezTo>
                  <a:pt x="21940" y="1085"/>
                  <a:pt x="21960" y="1111"/>
                  <a:pt x="21977" y="1042"/>
                </a:cubicBezTo>
              </a:path>
              <a:path w="3895" h="6946">
                <a:moveTo>
                  <a:pt x="22225" y="819"/>
                </a:moveTo>
                <a:cubicBezTo>
                  <a:pt x="22282" y="819"/>
                  <a:pt x="22336" y="815"/>
                  <a:pt x="22374" y="868"/>
                </a:cubicBezTo>
                <a:cubicBezTo>
                  <a:pt x="22419" y="931"/>
                  <a:pt x="22423" y="966"/>
                  <a:pt x="22423" y="1042"/>
                </a:cubicBezTo>
                <a:cubicBezTo>
                  <a:pt x="22423" y="1130"/>
                  <a:pt x="22399" y="1139"/>
                  <a:pt x="22374" y="1215"/>
                </a:cubicBezTo>
                <a:cubicBezTo>
                  <a:pt x="22366" y="1240"/>
                  <a:pt x="22311" y="1336"/>
                  <a:pt x="22299" y="1265"/>
                </a:cubicBezTo>
                <a:cubicBezTo>
                  <a:pt x="22299" y="1248"/>
                  <a:pt x="22299" y="1232"/>
                  <a:pt x="22299" y="1215"/>
                </a:cubicBezTo>
              </a:path>
              <a:path w="3895" h="6946">
                <a:moveTo>
                  <a:pt x="22622" y="397"/>
                </a:moveTo>
                <a:cubicBezTo>
                  <a:pt x="22622" y="504"/>
                  <a:pt x="22622" y="612"/>
                  <a:pt x="22622" y="719"/>
                </a:cubicBezTo>
                <a:cubicBezTo>
                  <a:pt x="22745" y="719"/>
                  <a:pt x="22809" y="714"/>
                  <a:pt x="22920" y="670"/>
                </a:cubicBezTo>
                <a:cubicBezTo>
                  <a:pt x="22977" y="647"/>
                  <a:pt x="22994" y="645"/>
                  <a:pt x="23068" y="645"/>
                </a:cubicBezTo>
                <a:cubicBezTo>
                  <a:pt x="23110" y="645"/>
                  <a:pt x="23147" y="604"/>
                  <a:pt x="23192" y="595"/>
                </a:cubicBezTo>
              </a:path>
              <a:path w="3895" h="6946">
                <a:moveTo>
                  <a:pt x="22920" y="298"/>
                </a:moveTo>
                <a:cubicBezTo>
                  <a:pt x="22942" y="378"/>
                  <a:pt x="22969" y="440"/>
                  <a:pt x="22969" y="521"/>
                </a:cubicBezTo>
                <a:cubicBezTo>
                  <a:pt x="22969" y="642"/>
                  <a:pt x="22964" y="761"/>
                  <a:pt x="22944" y="868"/>
                </a:cubicBezTo>
                <a:cubicBezTo>
                  <a:pt x="22932" y="933"/>
                  <a:pt x="22989" y="1131"/>
                  <a:pt x="22920" y="1166"/>
                </a:cubicBezTo>
                <a:cubicBezTo>
                  <a:pt x="22887" y="1166"/>
                  <a:pt x="22878" y="1158"/>
                  <a:pt x="22895" y="1116"/>
                </a:cubicBezTo>
              </a:path>
              <a:path w="3895" h="6946">
                <a:moveTo>
                  <a:pt x="20290" y="1984"/>
                </a:moveTo>
                <a:cubicBezTo>
                  <a:pt x="20219" y="1994"/>
                  <a:pt x="20209" y="2020"/>
                  <a:pt x="20166" y="2084"/>
                </a:cubicBezTo>
                <a:cubicBezTo>
                  <a:pt x="20110" y="2168"/>
                  <a:pt x="20051" y="2247"/>
                  <a:pt x="19993" y="2332"/>
                </a:cubicBezTo>
                <a:cubicBezTo>
                  <a:pt x="19903" y="2462"/>
                  <a:pt x="19801" y="2565"/>
                  <a:pt x="19695" y="2679"/>
                </a:cubicBezTo>
                <a:cubicBezTo>
                  <a:pt x="19603" y="2778"/>
                  <a:pt x="19529" y="2871"/>
                  <a:pt x="19447" y="2977"/>
                </a:cubicBezTo>
                <a:cubicBezTo>
                  <a:pt x="19409" y="3026"/>
                  <a:pt x="19348" y="3082"/>
                  <a:pt x="19323" y="3125"/>
                </a:cubicBezTo>
                <a:cubicBezTo>
                  <a:pt x="19323" y="3160"/>
                  <a:pt x="19318" y="3178"/>
                  <a:pt x="19298" y="3200"/>
                </a:cubicBezTo>
                <a:cubicBezTo>
                  <a:pt x="19338" y="3175"/>
                  <a:pt x="19353" y="3170"/>
                  <a:pt x="19397" y="3125"/>
                </a:cubicBezTo>
              </a:path>
              <a:path w="3895" h="6946">
                <a:moveTo>
                  <a:pt x="20389" y="2059"/>
                </a:moveTo>
                <a:cubicBezTo>
                  <a:pt x="20434" y="2103"/>
                  <a:pt x="20434" y="2127"/>
                  <a:pt x="20489" y="2158"/>
                </a:cubicBezTo>
                <a:cubicBezTo>
                  <a:pt x="20564" y="2201"/>
                  <a:pt x="20637" y="2267"/>
                  <a:pt x="20712" y="2307"/>
                </a:cubicBezTo>
                <a:cubicBezTo>
                  <a:pt x="20804" y="2356"/>
                  <a:pt x="20876" y="2433"/>
                  <a:pt x="20960" y="2505"/>
                </a:cubicBezTo>
                <a:cubicBezTo>
                  <a:pt x="21036" y="2570"/>
                  <a:pt x="21107" y="2640"/>
                  <a:pt x="21183" y="2704"/>
                </a:cubicBezTo>
                <a:cubicBezTo>
                  <a:pt x="21242" y="2754"/>
                  <a:pt x="21296" y="2819"/>
                  <a:pt x="21332" y="2877"/>
                </a:cubicBezTo>
                <a:cubicBezTo>
                  <a:pt x="21388" y="2967"/>
                  <a:pt x="21416" y="2966"/>
                  <a:pt x="21307" y="2952"/>
                </a:cubicBezTo>
              </a:path>
              <a:path w="3895" h="6946">
                <a:moveTo>
                  <a:pt x="19422" y="3274"/>
                </a:moveTo>
                <a:cubicBezTo>
                  <a:pt x="19446" y="3315"/>
                  <a:pt x="19469" y="3371"/>
                  <a:pt x="19472" y="3423"/>
                </a:cubicBezTo>
                <a:cubicBezTo>
                  <a:pt x="19482" y="3567"/>
                  <a:pt x="19477" y="4397"/>
                  <a:pt x="19496" y="4390"/>
                </a:cubicBezTo>
              </a:path>
              <a:path w="3895" h="6946">
                <a:moveTo>
                  <a:pt x="19571" y="4440"/>
                </a:moveTo>
                <a:cubicBezTo>
                  <a:pt x="19641" y="4448"/>
                  <a:pt x="19678" y="4475"/>
                  <a:pt x="19745" y="4490"/>
                </a:cubicBezTo>
                <a:cubicBezTo>
                  <a:pt x="19803" y="4503"/>
                  <a:pt x="19865" y="4523"/>
                  <a:pt x="19918" y="4564"/>
                </a:cubicBezTo>
                <a:cubicBezTo>
                  <a:pt x="19993" y="4623"/>
                  <a:pt x="20092" y="4627"/>
                  <a:pt x="20191" y="4638"/>
                </a:cubicBezTo>
                <a:cubicBezTo>
                  <a:pt x="20289" y="4649"/>
                  <a:pt x="20346" y="4644"/>
                  <a:pt x="20439" y="4688"/>
                </a:cubicBezTo>
                <a:cubicBezTo>
                  <a:pt x="20503" y="4719"/>
                  <a:pt x="20533" y="4772"/>
                  <a:pt x="20588" y="4812"/>
                </a:cubicBezTo>
                <a:cubicBezTo>
                  <a:pt x="20646" y="4854"/>
                  <a:pt x="20717" y="4881"/>
                  <a:pt x="20762" y="4936"/>
                </a:cubicBezTo>
                <a:cubicBezTo>
                  <a:pt x="20791" y="4966"/>
                  <a:pt x="20802" y="4981"/>
                  <a:pt x="20811" y="5011"/>
                </a:cubicBezTo>
                <a:cubicBezTo>
                  <a:pt x="20839" y="4980"/>
                  <a:pt x="20883" y="4939"/>
                  <a:pt x="20910" y="4887"/>
                </a:cubicBezTo>
                <a:cubicBezTo>
                  <a:pt x="20937" y="4836"/>
                  <a:pt x="20958" y="4788"/>
                  <a:pt x="20985" y="4738"/>
                </a:cubicBezTo>
                <a:cubicBezTo>
                  <a:pt x="21024" y="4667"/>
                  <a:pt x="21062" y="4604"/>
                  <a:pt x="21109" y="4539"/>
                </a:cubicBezTo>
                <a:cubicBezTo>
                  <a:pt x="21152" y="4479"/>
                  <a:pt x="21199" y="4413"/>
                  <a:pt x="21258" y="4366"/>
                </a:cubicBezTo>
                <a:cubicBezTo>
                  <a:pt x="21301" y="4332"/>
                  <a:pt x="21341" y="4305"/>
                  <a:pt x="21382" y="4266"/>
                </a:cubicBezTo>
                <a:cubicBezTo>
                  <a:pt x="21403" y="4246"/>
                  <a:pt x="21400" y="4234"/>
                  <a:pt x="21406" y="4192"/>
                </a:cubicBezTo>
                <a:cubicBezTo>
                  <a:pt x="21357" y="4192"/>
                  <a:pt x="21340" y="4192"/>
                  <a:pt x="21357" y="4142"/>
                </a:cubicBezTo>
              </a:path>
              <a:path w="3895" h="6946">
                <a:moveTo>
                  <a:pt x="21431" y="3026"/>
                </a:moveTo>
                <a:cubicBezTo>
                  <a:pt x="21431" y="2984"/>
                  <a:pt x="21431" y="3059"/>
                  <a:pt x="21431" y="3101"/>
                </a:cubicBezTo>
                <a:cubicBezTo>
                  <a:pt x="21431" y="3181"/>
                  <a:pt x="21426" y="3247"/>
                  <a:pt x="21456" y="3324"/>
                </a:cubicBezTo>
                <a:cubicBezTo>
                  <a:pt x="21482" y="3393"/>
                  <a:pt x="21496" y="3453"/>
                  <a:pt x="21530" y="3522"/>
                </a:cubicBezTo>
                <a:cubicBezTo>
                  <a:pt x="21558" y="3578"/>
                  <a:pt x="21577" y="3634"/>
                  <a:pt x="21580" y="3696"/>
                </a:cubicBezTo>
                <a:cubicBezTo>
                  <a:pt x="21586" y="3842"/>
                  <a:pt x="21613" y="4059"/>
                  <a:pt x="21555" y="4192"/>
                </a:cubicBezTo>
                <a:cubicBezTo>
                  <a:pt x="21532" y="4125"/>
                  <a:pt x="21527" y="4107"/>
                  <a:pt x="21506" y="4068"/>
                </a:cubicBezTo>
              </a:path>
              <a:path w="3895" h="6946">
                <a:moveTo>
                  <a:pt x="20613" y="3398"/>
                </a:moveTo>
                <a:cubicBezTo>
                  <a:pt x="20577" y="3362"/>
                  <a:pt x="20528" y="3286"/>
                  <a:pt x="20464" y="3324"/>
                </a:cubicBezTo>
                <a:cubicBezTo>
                  <a:pt x="20426" y="3347"/>
                  <a:pt x="20384" y="3458"/>
                  <a:pt x="20365" y="3497"/>
                </a:cubicBezTo>
                <a:cubicBezTo>
                  <a:pt x="20338" y="3552"/>
                  <a:pt x="20318" y="3636"/>
                  <a:pt x="20315" y="3696"/>
                </a:cubicBezTo>
                <a:cubicBezTo>
                  <a:pt x="20312" y="3752"/>
                  <a:pt x="20343" y="3852"/>
                  <a:pt x="20389" y="3894"/>
                </a:cubicBezTo>
                <a:cubicBezTo>
                  <a:pt x="20428" y="3930"/>
                  <a:pt x="20491" y="3999"/>
                  <a:pt x="20538" y="4018"/>
                </a:cubicBezTo>
                <a:cubicBezTo>
                  <a:pt x="20591" y="4040"/>
                  <a:pt x="20670" y="3998"/>
                  <a:pt x="20712" y="3969"/>
                </a:cubicBezTo>
                <a:cubicBezTo>
                  <a:pt x="20754" y="3940"/>
                  <a:pt x="20843" y="3841"/>
                  <a:pt x="20861" y="3795"/>
                </a:cubicBezTo>
                <a:cubicBezTo>
                  <a:pt x="20894" y="3712"/>
                  <a:pt x="20846" y="3599"/>
                  <a:pt x="20836" y="3522"/>
                </a:cubicBezTo>
                <a:cubicBezTo>
                  <a:pt x="20823" y="3426"/>
                  <a:pt x="20804" y="3380"/>
                  <a:pt x="20712" y="3324"/>
                </a:cubicBezTo>
                <a:cubicBezTo>
                  <a:pt x="20651" y="3287"/>
                  <a:pt x="20607" y="3274"/>
                  <a:pt x="20538" y="3274"/>
                </a:cubicBezTo>
                <a:cubicBezTo>
                  <a:pt x="20414" y="3274"/>
                  <a:pt x="20536" y="3331"/>
                  <a:pt x="20389" y="3225"/>
                </a:cubicBezTo>
              </a:path>
              <a:path w="3895" h="6946">
                <a:moveTo>
                  <a:pt x="20315" y="1984"/>
                </a:moveTo>
                <a:cubicBezTo>
                  <a:pt x="20361" y="1929"/>
                  <a:pt x="20437" y="1903"/>
                  <a:pt x="20513" y="1860"/>
                </a:cubicBezTo>
                <a:cubicBezTo>
                  <a:pt x="20611" y="1804"/>
                  <a:pt x="20733" y="1761"/>
                  <a:pt x="20836" y="1712"/>
                </a:cubicBezTo>
                <a:cubicBezTo>
                  <a:pt x="20953" y="1656"/>
                  <a:pt x="21052" y="1589"/>
                  <a:pt x="21158" y="1513"/>
                </a:cubicBezTo>
                <a:cubicBezTo>
                  <a:pt x="21166" y="1505"/>
                  <a:pt x="21175" y="1496"/>
                  <a:pt x="21183" y="1488"/>
                </a:cubicBezTo>
              </a:path>
              <a:path w="3895" h="6946">
                <a:moveTo>
                  <a:pt x="21803" y="1364"/>
                </a:moveTo>
                <a:cubicBezTo>
                  <a:pt x="21717" y="1326"/>
                  <a:pt x="21726" y="1345"/>
                  <a:pt x="21630" y="1364"/>
                </a:cubicBezTo>
                <a:cubicBezTo>
                  <a:pt x="21615" y="1367"/>
                  <a:pt x="21536" y="1436"/>
                  <a:pt x="21530" y="1463"/>
                </a:cubicBezTo>
                <a:cubicBezTo>
                  <a:pt x="21525" y="1487"/>
                  <a:pt x="21498" y="1642"/>
                  <a:pt x="21506" y="1662"/>
                </a:cubicBezTo>
                <a:cubicBezTo>
                  <a:pt x="21544" y="1759"/>
                  <a:pt x="21585" y="1813"/>
                  <a:pt x="21679" y="1860"/>
                </a:cubicBezTo>
                <a:cubicBezTo>
                  <a:pt x="21722" y="1881"/>
                  <a:pt x="21826" y="1900"/>
                  <a:pt x="21878" y="1885"/>
                </a:cubicBezTo>
                <a:cubicBezTo>
                  <a:pt x="21927" y="1860"/>
                  <a:pt x="21944" y="1852"/>
                  <a:pt x="21977" y="1836"/>
                </a:cubicBezTo>
              </a:path>
              <a:path w="3895" h="6946">
                <a:moveTo>
                  <a:pt x="22175" y="1315"/>
                </a:moveTo>
                <a:cubicBezTo>
                  <a:pt x="22175" y="1420"/>
                  <a:pt x="22186" y="1511"/>
                  <a:pt x="22200" y="1612"/>
                </a:cubicBezTo>
                <a:cubicBezTo>
                  <a:pt x="22213" y="1707"/>
                  <a:pt x="22156" y="1964"/>
                  <a:pt x="22225" y="2009"/>
                </a:cubicBezTo>
              </a:path>
              <a:path w="3895" h="6946">
                <a:moveTo>
                  <a:pt x="22423" y="1315"/>
                </a:moveTo>
                <a:cubicBezTo>
                  <a:pt x="22423" y="1372"/>
                  <a:pt x="22415" y="1414"/>
                  <a:pt x="22448" y="1463"/>
                </a:cubicBezTo>
                <a:cubicBezTo>
                  <a:pt x="22487" y="1521"/>
                  <a:pt x="22473" y="1589"/>
                  <a:pt x="22473" y="1662"/>
                </a:cubicBezTo>
                <a:cubicBezTo>
                  <a:pt x="22473" y="1747"/>
                  <a:pt x="22576" y="1877"/>
                  <a:pt x="22498" y="1910"/>
                </a:cubicBezTo>
                <a:cubicBezTo>
                  <a:pt x="22481" y="1902"/>
                  <a:pt x="22465" y="1893"/>
                  <a:pt x="22448" y="1885"/>
                </a:cubicBezTo>
              </a:path>
              <a:path w="3895" h="6946">
                <a:moveTo>
                  <a:pt x="22200" y="1662"/>
                </a:moveTo>
                <a:cubicBezTo>
                  <a:pt x="22283" y="1652"/>
                  <a:pt x="22335" y="1642"/>
                  <a:pt x="22399" y="1588"/>
                </a:cubicBezTo>
                <a:cubicBezTo>
                  <a:pt x="22440" y="1553"/>
                  <a:pt x="22469" y="1563"/>
                  <a:pt x="22523" y="1563"/>
                </a:cubicBezTo>
              </a:path>
              <a:path w="3895" h="6946">
                <a:moveTo>
                  <a:pt x="22696" y="1687"/>
                </a:moveTo>
                <a:cubicBezTo>
                  <a:pt x="22740" y="1654"/>
                  <a:pt x="22767" y="1651"/>
                  <a:pt x="22820" y="1687"/>
                </a:cubicBezTo>
                <a:cubicBezTo>
                  <a:pt x="22904" y="1744"/>
                  <a:pt x="22844" y="1777"/>
                  <a:pt x="22820" y="1836"/>
                </a:cubicBezTo>
                <a:cubicBezTo>
                  <a:pt x="22820" y="1844"/>
                  <a:pt x="22820" y="1852"/>
                  <a:pt x="22820" y="1860"/>
                </a:cubicBezTo>
                <a:cubicBezTo>
                  <a:pt x="22861" y="1884"/>
                  <a:pt x="22935" y="1891"/>
                  <a:pt x="22969" y="1935"/>
                </a:cubicBezTo>
                <a:cubicBezTo>
                  <a:pt x="23005" y="1982"/>
                  <a:pt x="22998" y="2051"/>
                  <a:pt x="22969" y="2108"/>
                </a:cubicBezTo>
                <a:cubicBezTo>
                  <a:pt x="22957" y="2132"/>
                  <a:pt x="22891" y="2225"/>
                  <a:pt x="22870" y="2232"/>
                </a:cubicBezTo>
                <a:cubicBezTo>
                  <a:pt x="22801" y="2256"/>
                  <a:pt x="22667" y="2232"/>
                  <a:pt x="22597" y="2232"/>
                </a:cubicBezTo>
              </a:path>
              <a:path w="3895" h="6946">
                <a:moveTo>
                  <a:pt x="20861" y="5135"/>
                </a:moveTo>
                <a:cubicBezTo>
                  <a:pt x="20861" y="5102"/>
                  <a:pt x="20861" y="5068"/>
                  <a:pt x="20861" y="5035"/>
                </a:cubicBezTo>
                <a:cubicBezTo>
                  <a:pt x="20861" y="5116"/>
                  <a:pt x="20882" y="5175"/>
                  <a:pt x="20886" y="5259"/>
                </a:cubicBezTo>
                <a:cubicBezTo>
                  <a:pt x="20890" y="5344"/>
                  <a:pt x="20910" y="5420"/>
                  <a:pt x="20910" y="5507"/>
                </a:cubicBezTo>
                <a:cubicBezTo>
                  <a:pt x="20910" y="5563"/>
                  <a:pt x="20894" y="5603"/>
                  <a:pt x="20886" y="5655"/>
                </a:cubicBezTo>
                <a:cubicBezTo>
                  <a:pt x="20881" y="5688"/>
                  <a:pt x="20886" y="5738"/>
                  <a:pt x="20886" y="5705"/>
                </a:cubicBezTo>
              </a:path>
              <a:path w="3895" h="6946">
                <a:moveTo>
                  <a:pt x="20737" y="6325"/>
                </a:moveTo>
                <a:cubicBezTo>
                  <a:pt x="20674" y="6237"/>
                  <a:pt x="20623" y="6139"/>
                  <a:pt x="20513" y="6102"/>
                </a:cubicBezTo>
                <a:cubicBezTo>
                  <a:pt x="20442" y="6078"/>
                  <a:pt x="20424" y="6110"/>
                  <a:pt x="20389" y="6152"/>
                </a:cubicBezTo>
                <a:cubicBezTo>
                  <a:pt x="20355" y="6194"/>
                  <a:pt x="20343" y="6243"/>
                  <a:pt x="20340" y="6300"/>
                </a:cubicBezTo>
                <a:cubicBezTo>
                  <a:pt x="20335" y="6397"/>
                  <a:pt x="20356" y="6459"/>
                  <a:pt x="20389" y="6548"/>
                </a:cubicBezTo>
                <a:cubicBezTo>
                  <a:pt x="20411" y="6607"/>
                  <a:pt x="20471" y="6719"/>
                  <a:pt x="20538" y="6747"/>
                </a:cubicBezTo>
                <a:cubicBezTo>
                  <a:pt x="20582" y="6765"/>
                  <a:pt x="20717" y="6796"/>
                  <a:pt x="20762" y="6772"/>
                </a:cubicBezTo>
                <a:cubicBezTo>
                  <a:pt x="20808" y="6725"/>
                  <a:pt x="20820" y="6711"/>
                  <a:pt x="20861" y="6697"/>
                </a:cubicBezTo>
              </a:path>
              <a:path w="3895" h="6946">
                <a:moveTo>
                  <a:pt x="21233" y="6152"/>
                </a:moveTo>
                <a:cubicBezTo>
                  <a:pt x="21233" y="6213"/>
                  <a:pt x="21193" y="6681"/>
                  <a:pt x="21258" y="6697"/>
                </a:cubicBezTo>
                <a:cubicBezTo>
                  <a:pt x="21280" y="6675"/>
                  <a:pt x="21288" y="6670"/>
                  <a:pt x="21282" y="6648"/>
                </a:cubicBezTo>
              </a:path>
              <a:path w="3895" h="6946">
                <a:moveTo>
                  <a:pt x="21530" y="5953"/>
                </a:moveTo>
                <a:cubicBezTo>
                  <a:pt x="21530" y="6184"/>
                  <a:pt x="21593" y="6511"/>
                  <a:pt x="21506" y="6722"/>
                </a:cubicBezTo>
              </a:path>
              <a:path w="3895" h="6946">
                <a:moveTo>
                  <a:pt x="21233" y="6449"/>
                </a:moveTo>
                <a:cubicBezTo>
                  <a:pt x="21258" y="6362"/>
                  <a:pt x="21290" y="6375"/>
                  <a:pt x="21382" y="6375"/>
                </a:cubicBezTo>
                <a:cubicBezTo>
                  <a:pt x="21448" y="6375"/>
                  <a:pt x="21514" y="6375"/>
                  <a:pt x="21580" y="6375"/>
                </a:cubicBezTo>
              </a:path>
              <a:path w="3895" h="6946">
                <a:moveTo>
                  <a:pt x="21803" y="6524"/>
                </a:moveTo>
                <a:cubicBezTo>
                  <a:pt x="21843" y="6484"/>
                  <a:pt x="21888" y="6449"/>
                  <a:pt x="21952" y="6474"/>
                </a:cubicBezTo>
                <a:cubicBezTo>
                  <a:pt x="22005" y="6495"/>
                  <a:pt x="21974" y="6571"/>
                  <a:pt x="21952" y="6598"/>
                </a:cubicBezTo>
                <a:cubicBezTo>
                  <a:pt x="21911" y="6649"/>
                  <a:pt x="21857" y="6722"/>
                  <a:pt x="21828" y="6747"/>
                </a:cubicBezTo>
                <a:cubicBezTo>
                  <a:pt x="21800" y="6747"/>
                  <a:pt x="21789" y="6749"/>
                  <a:pt x="21779" y="6772"/>
                </a:cubicBezTo>
                <a:cubicBezTo>
                  <a:pt x="21840" y="6794"/>
                  <a:pt x="21892" y="6799"/>
                  <a:pt x="21952" y="6821"/>
                </a:cubicBezTo>
                <a:cubicBezTo>
                  <a:pt x="22029" y="6849"/>
                  <a:pt x="22095" y="6921"/>
                  <a:pt x="22051" y="6995"/>
                </a:cubicBezTo>
                <a:cubicBezTo>
                  <a:pt x="22022" y="7044"/>
                  <a:pt x="21972" y="7154"/>
                  <a:pt x="21927" y="7193"/>
                </a:cubicBezTo>
                <a:cubicBezTo>
                  <a:pt x="21877" y="7236"/>
                  <a:pt x="21842" y="7243"/>
                  <a:pt x="21779" y="7243"/>
                </a:cubicBezTo>
                <a:cubicBezTo>
                  <a:pt x="21651" y="7243"/>
                  <a:pt x="21585" y="7271"/>
                  <a:pt x="21506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58040" y="6269040"/>
            <a:ext cx="1322280" cy="455760"/>
          </a:xfrm>
          <a:custGeom>
            <a:avLst/>
            <a:gdLst/>
            <a:ahLst/>
            <a:rect l="l" t="t" r="r" b="b"/>
            <a:pathLst>
              <a:path w="3672" h="1266">
                <a:moveTo>
                  <a:pt x="20588" y="17934"/>
                </a:moveTo>
                <a:cubicBezTo>
                  <a:pt x="20571" y="17926"/>
                  <a:pt x="20555" y="17917"/>
                  <a:pt x="20538" y="17909"/>
                </a:cubicBezTo>
                <a:cubicBezTo>
                  <a:pt x="20538" y="17988"/>
                  <a:pt x="20537" y="18010"/>
                  <a:pt x="20588" y="18083"/>
                </a:cubicBezTo>
                <a:cubicBezTo>
                  <a:pt x="20630" y="18143"/>
                  <a:pt x="20713" y="18195"/>
                  <a:pt x="20762" y="18231"/>
                </a:cubicBezTo>
                <a:cubicBezTo>
                  <a:pt x="20814" y="18269"/>
                  <a:pt x="20884" y="18390"/>
                  <a:pt x="20910" y="18331"/>
                </a:cubicBezTo>
                <a:cubicBezTo>
                  <a:pt x="20910" y="18306"/>
                  <a:pt x="20910" y="18281"/>
                  <a:pt x="20910" y="18256"/>
                </a:cubicBezTo>
              </a:path>
              <a:path w="3672" h="1266">
                <a:moveTo>
                  <a:pt x="20811" y="17909"/>
                </a:moveTo>
                <a:cubicBezTo>
                  <a:pt x="20756" y="17964"/>
                  <a:pt x="20642" y="18057"/>
                  <a:pt x="20613" y="18132"/>
                </a:cubicBezTo>
                <a:cubicBezTo>
                  <a:pt x="20588" y="18198"/>
                  <a:pt x="20547" y="18243"/>
                  <a:pt x="20489" y="18306"/>
                </a:cubicBezTo>
                <a:cubicBezTo>
                  <a:pt x="20461" y="18337"/>
                  <a:pt x="20449" y="18342"/>
                  <a:pt x="20439" y="18380"/>
                </a:cubicBezTo>
                <a:cubicBezTo>
                  <a:pt x="20464" y="18355"/>
                  <a:pt x="20472" y="18347"/>
                  <a:pt x="20489" y="18331"/>
                </a:cubicBezTo>
              </a:path>
              <a:path w="3672" h="1266">
                <a:moveTo>
                  <a:pt x="21456" y="17785"/>
                </a:moveTo>
                <a:cubicBezTo>
                  <a:pt x="21394" y="17826"/>
                  <a:pt x="21378" y="17876"/>
                  <a:pt x="21357" y="17959"/>
                </a:cubicBezTo>
                <a:cubicBezTo>
                  <a:pt x="21348" y="17996"/>
                  <a:pt x="21367" y="18116"/>
                  <a:pt x="21406" y="18132"/>
                </a:cubicBezTo>
                <a:cubicBezTo>
                  <a:pt x="21455" y="18152"/>
                  <a:pt x="21547" y="18121"/>
                  <a:pt x="21580" y="18083"/>
                </a:cubicBezTo>
                <a:cubicBezTo>
                  <a:pt x="21640" y="18014"/>
                  <a:pt x="21672" y="17891"/>
                  <a:pt x="21704" y="17810"/>
                </a:cubicBezTo>
                <a:cubicBezTo>
                  <a:pt x="21752" y="17689"/>
                  <a:pt x="21704" y="17865"/>
                  <a:pt x="21704" y="17909"/>
                </a:cubicBezTo>
                <a:cubicBezTo>
                  <a:pt x="21704" y="18053"/>
                  <a:pt x="21711" y="18191"/>
                  <a:pt x="21679" y="18331"/>
                </a:cubicBezTo>
                <a:cubicBezTo>
                  <a:pt x="21668" y="18377"/>
                  <a:pt x="21638" y="18572"/>
                  <a:pt x="21605" y="18604"/>
                </a:cubicBezTo>
                <a:cubicBezTo>
                  <a:pt x="21572" y="18636"/>
                  <a:pt x="21475" y="18675"/>
                  <a:pt x="21431" y="18678"/>
                </a:cubicBezTo>
                <a:cubicBezTo>
                  <a:pt x="21365" y="18682"/>
                  <a:pt x="21310" y="18668"/>
                  <a:pt x="21332" y="18579"/>
                </a:cubicBezTo>
                <a:cubicBezTo>
                  <a:pt x="21340" y="18562"/>
                  <a:pt x="21349" y="18546"/>
                  <a:pt x="21357" y="18529"/>
                </a:cubicBezTo>
              </a:path>
              <a:path w="3672" h="1266">
                <a:moveTo>
                  <a:pt x="22175" y="17413"/>
                </a:moveTo>
                <a:cubicBezTo>
                  <a:pt x="22175" y="17582"/>
                  <a:pt x="22173" y="17745"/>
                  <a:pt x="22151" y="17909"/>
                </a:cubicBezTo>
                <a:cubicBezTo>
                  <a:pt x="22143" y="17971"/>
                  <a:pt x="22126" y="18019"/>
                  <a:pt x="22126" y="18083"/>
                </a:cubicBezTo>
                <a:cubicBezTo>
                  <a:pt x="22126" y="18165"/>
                  <a:pt x="22120" y="18219"/>
                  <a:pt x="22175" y="18107"/>
                </a:cubicBezTo>
              </a:path>
              <a:path w="3672" h="1266">
                <a:moveTo>
                  <a:pt x="22423" y="17959"/>
                </a:moveTo>
                <a:cubicBezTo>
                  <a:pt x="22481" y="17946"/>
                  <a:pt x="22549" y="17968"/>
                  <a:pt x="22597" y="17934"/>
                </a:cubicBezTo>
                <a:cubicBezTo>
                  <a:pt x="22683" y="17872"/>
                  <a:pt x="22686" y="17844"/>
                  <a:pt x="22622" y="17785"/>
                </a:cubicBezTo>
                <a:cubicBezTo>
                  <a:pt x="22570" y="17737"/>
                  <a:pt x="22502" y="17759"/>
                  <a:pt x="22473" y="17810"/>
                </a:cubicBezTo>
                <a:cubicBezTo>
                  <a:pt x="22436" y="17874"/>
                  <a:pt x="22405" y="17908"/>
                  <a:pt x="22399" y="17983"/>
                </a:cubicBezTo>
                <a:cubicBezTo>
                  <a:pt x="22393" y="18057"/>
                  <a:pt x="22422" y="18065"/>
                  <a:pt x="22473" y="18107"/>
                </a:cubicBezTo>
                <a:cubicBezTo>
                  <a:pt x="22532" y="18156"/>
                  <a:pt x="22597" y="18127"/>
                  <a:pt x="22647" y="18157"/>
                </a:cubicBezTo>
                <a:cubicBezTo>
                  <a:pt x="22741" y="18213"/>
                  <a:pt x="22684" y="18244"/>
                  <a:pt x="22771" y="18132"/>
                </a:cubicBezTo>
              </a:path>
              <a:path w="3672" h="1266">
                <a:moveTo>
                  <a:pt x="23044" y="17735"/>
                </a:moveTo>
                <a:cubicBezTo>
                  <a:pt x="23024" y="17809"/>
                  <a:pt x="23019" y="17858"/>
                  <a:pt x="23019" y="17934"/>
                </a:cubicBezTo>
                <a:cubicBezTo>
                  <a:pt x="23019" y="17979"/>
                  <a:pt x="22994" y="18011"/>
                  <a:pt x="22994" y="18058"/>
                </a:cubicBezTo>
                <a:cubicBezTo>
                  <a:pt x="22994" y="18074"/>
                  <a:pt x="22994" y="18091"/>
                  <a:pt x="22994" y="18107"/>
                </a:cubicBezTo>
                <a:cubicBezTo>
                  <a:pt x="22994" y="18146"/>
                  <a:pt x="23038" y="18045"/>
                  <a:pt x="23044" y="18008"/>
                </a:cubicBezTo>
                <a:cubicBezTo>
                  <a:pt x="23050" y="17971"/>
                  <a:pt x="23078" y="17892"/>
                  <a:pt x="23093" y="17859"/>
                </a:cubicBezTo>
                <a:cubicBezTo>
                  <a:pt x="23113" y="17816"/>
                  <a:pt x="23157" y="17770"/>
                  <a:pt x="23192" y="17735"/>
                </a:cubicBezTo>
                <a:cubicBezTo>
                  <a:pt x="23257" y="17670"/>
                  <a:pt x="23303" y="17686"/>
                  <a:pt x="23391" y="17686"/>
                </a:cubicBezTo>
                <a:cubicBezTo>
                  <a:pt x="23399" y="17686"/>
                  <a:pt x="23408" y="17686"/>
                  <a:pt x="23416" y="17686"/>
                </a:cubicBezTo>
                <a:cubicBezTo>
                  <a:pt x="23431" y="17749"/>
                  <a:pt x="23416" y="17770"/>
                  <a:pt x="23416" y="17835"/>
                </a:cubicBezTo>
                <a:cubicBezTo>
                  <a:pt x="23416" y="17908"/>
                  <a:pt x="23403" y="17922"/>
                  <a:pt x="23366" y="17983"/>
                </a:cubicBezTo>
                <a:cubicBezTo>
                  <a:pt x="23336" y="18032"/>
                  <a:pt x="23305" y="18114"/>
                  <a:pt x="23366" y="18033"/>
                </a:cubicBezTo>
              </a:path>
              <a:path w="3672" h="1266">
                <a:moveTo>
                  <a:pt x="23713" y="17810"/>
                </a:moveTo>
                <a:cubicBezTo>
                  <a:pt x="23781" y="17810"/>
                  <a:pt x="23832" y="17796"/>
                  <a:pt x="23887" y="17785"/>
                </a:cubicBezTo>
                <a:cubicBezTo>
                  <a:pt x="23959" y="17771"/>
                  <a:pt x="23980" y="17736"/>
                  <a:pt x="23986" y="17661"/>
                </a:cubicBezTo>
                <a:cubicBezTo>
                  <a:pt x="23991" y="17606"/>
                  <a:pt x="23902" y="17598"/>
                  <a:pt x="23862" y="17611"/>
                </a:cubicBezTo>
                <a:cubicBezTo>
                  <a:pt x="23795" y="17633"/>
                  <a:pt x="23771" y="17689"/>
                  <a:pt x="23738" y="17735"/>
                </a:cubicBezTo>
                <a:cubicBezTo>
                  <a:pt x="23699" y="17790"/>
                  <a:pt x="23688" y="17815"/>
                  <a:pt x="23688" y="17884"/>
                </a:cubicBezTo>
                <a:cubicBezTo>
                  <a:pt x="23688" y="17971"/>
                  <a:pt x="23749" y="17984"/>
                  <a:pt x="23812" y="18033"/>
                </a:cubicBezTo>
                <a:cubicBezTo>
                  <a:pt x="23854" y="18065"/>
                  <a:pt x="23899" y="18097"/>
                  <a:pt x="23937" y="18132"/>
                </a:cubicBezTo>
                <a:cubicBezTo>
                  <a:pt x="23986" y="18177"/>
                  <a:pt x="24035" y="18202"/>
                  <a:pt x="24085" y="18157"/>
                </a:cubicBezTo>
                <a:cubicBezTo>
                  <a:pt x="24093" y="18149"/>
                  <a:pt x="24102" y="18140"/>
                  <a:pt x="24110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16800" y="88920"/>
            <a:ext cx="473040" cy="295200"/>
          </a:xfrm>
          <a:custGeom>
            <a:avLst/>
            <a:gdLst/>
            <a:ahLst/>
            <a:rect l="l" t="t" r="r" b="b"/>
            <a:pathLst>
              <a:path w="1316" h="820">
                <a:moveTo>
                  <a:pt x="18479" y="298"/>
                </a:moveTo>
                <a:cubicBezTo>
                  <a:pt x="18479" y="520"/>
                  <a:pt x="18499" y="755"/>
                  <a:pt x="18455" y="967"/>
                </a:cubicBezTo>
                <a:cubicBezTo>
                  <a:pt x="18445" y="1015"/>
                  <a:pt x="18453" y="1013"/>
                  <a:pt x="18430" y="1067"/>
                </a:cubicBezTo>
                <a:cubicBezTo>
                  <a:pt x="18439" y="1006"/>
                  <a:pt x="18455" y="983"/>
                  <a:pt x="18455" y="918"/>
                </a:cubicBezTo>
              </a:path>
              <a:path w="1316" h="820">
                <a:moveTo>
                  <a:pt x="18380" y="372"/>
                </a:moveTo>
                <a:cubicBezTo>
                  <a:pt x="18393" y="279"/>
                  <a:pt x="18422" y="310"/>
                  <a:pt x="18504" y="273"/>
                </a:cubicBezTo>
                <a:cubicBezTo>
                  <a:pt x="18556" y="250"/>
                  <a:pt x="18574" y="248"/>
                  <a:pt x="18628" y="248"/>
                </a:cubicBezTo>
                <a:cubicBezTo>
                  <a:pt x="18664" y="248"/>
                  <a:pt x="18776" y="275"/>
                  <a:pt x="18802" y="298"/>
                </a:cubicBezTo>
                <a:cubicBezTo>
                  <a:pt x="18847" y="339"/>
                  <a:pt x="18872" y="414"/>
                  <a:pt x="18876" y="471"/>
                </a:cubicBezTo>
                <a:cubicBezTo>
                  <a:pt x="18880" y="521"/>
                  <a:pt x="18814" y="568"/>
                  <a:pt x="18802" y="620"/>
                </a:cubicBezTo>
                <a:cubicBezTo>
                  <a:pt x="18788" y="681"/>
                  <a:pt x="18786" y="686"/>
                  <a:pt x="18752" y="744"/>
                </a:cubicBezTo>
                <a:cubicBezTo>
                  <a:pt x="18703" y="734"/>
                  <a:pt x="18668" y="718"/>
                  <a:pt x="18628" y="695"/>
                </a:cubicBezTo>
                <a:cubicBezTo>
                  <a:pt x="18588" y="675"/>
                  <a:pt x="18572" y="656"/>
                  <a:pt x="18579" y="695"/>
                </a:cubicBezTo>
              </a:path>
              <a:path w="1316" h="820">
                <a:moveTo>
                  <a:pt x="19100" y="1042"/>
                </a:moveTo>
                <a:cubicBezTo>
                  <a:pt x="19127" y="1070"/>
                  <a:pt x="19146" y="971"/>
                  <a:pt x="19149" y="918"/>
                </a:cubicBezTo>
                <a:cubicBezTo>
                  <a:pt x="19155" y="813"/>
                  <a:pt x="19137" y="711"/>
                  <a:pt x="19174" y="620"/>
                </a:cubicBezTo>
                <a:cubicBezTo>
                  <a:pt x="19209" y="535"/>
                  <a:pt x="19230" y="479"/>
                  <a:pt x="19323" y="471"/>
                </a:cubicBezTo>
                <a:cubicBezTo>
                  <a:pt x="19388" y="466"/>
                  <a:pt x="19465" y="461"/>
                  <a:pt x="19521" y="496"/>
                </a:cubicBezTo>
                <a:cubicBezTo>
                  <a:pt x="19585" y="536"/>
                  <a:pt x="19571" y="591"/>
                  <a:pt x="19596" y="645"/>
                </a:cubicBezTo>
                <a:cubicBezTo>
                  <a:pt x="19622" y="701"/>
                  <a:pt x="19645" y="695"/>
                  <a:pt x="19645" y="769"/>
                </a:cubicBezTo>
                <a:cubicBezTo>
                  <a:pt x="19645" y="821"/>
                  <a:pt x="19645" y="1120"/>
                  <a:pt x="19645" y="943"/>
                </a:cubicBezTo>
                <a:cubicBezTo>
                  <a:pt x="19645" y="935"/>
                  <a:pt x="19645" y="926"/>
                  <a:pt x="19645" y="918"/>
                </a:cubicBezTo>
              </a:path>
              <a:path w="1316" h="820">
                <a:moveTo>
                  <a:pt x="19273" y="843"/>
                </a:moveTo>
                <a:cubicBezTo>
                  <a:pt x="19321" y="843"/>
                  <a:pt x="19353" y="848"/>
                  <a:pt x="19397" y="819"/>
                </a:cubicBezTo>
                <a:cubicBezTo>
                  <a:pt x="19451" y="783"/>
                  <a:pt x="19448" y="769"/>
                  <a:pt x="19521" y="769"/>
                </a:cubicBezTo>
                <a:cubicBezTo>
                  <a:pt x="19579" y="769"/>
                  <a:pt x="19637" y="769"/>
                  <a:pt x="19695" y="7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59680" y="2347920"/>
            <a:ext cx="366480" cy="331920"/>
          </a:xfrm>
          <a:custGeom>
            <a:avLst/>
            <a:gdLst/>
            <a:ahLst/>
            <a:rect l="l" t="t" r="r" b="b"/>
            <a:pathLst>
              <a:path w="1018" h="918">
                <a:moveTo>
                  <a:pt x="17859" y="6772"/>
                </a:moveTo>
                <a:cubicBezTo>
                  <a:pt x="17927" y="6838"/>
                  <a:pt x="17888" y="6855"/>
                  <a:pt x="17909" y="6945"/>
                </a:cubicBezTo>
                <a:cubicBezTo>
                  <a:pt x="17916" y="6975"/>
                  <a:pt x="17934" y="7104"/>
                  <a:pt x="17934" y="6995"/>
                </a:cubicBezTo>
              </a:path>
              <a:path w="1018" h="918">
                <a:moveTo>
                  <a:pt x="17636" y="6524"/>
                </a:moveTo>
                <a:cubicBezTo>
                  <a:pt x="17600" y="6586"/>
                  <a:pt x="17563" y="6621"/>
                  <a:pt x="17512" y="6672"/>
                </a:cubicBezTo>
                <a:cubicBezTo>
                  <a:pt x="17464" y="6719"/>
                  <a:pt x="17430" y="6756"/>
                  <a:pt x="17413" y="6821"/>
                </a:cubicBezTo>
                <a:cubicBezTo>
                  <a:pt x="17393" y="6895"/>
                  <a:pt x="17388" y="6965"/>
                  <a:pt x="17388" y="7045"/>
                </a:cubicBezTo>
                <a:cubicBezTo>
                  <a:pt x="17388" y="7131"/>
                  <a:pt x="17421" y="7165"/>
                  <a:pt x="17438" y="7243"/>
                </a:cubicBezTo>
                <a:cubicBezTo>
                  <a:pt x="17450" y="7297"/>
                  <a:pt x="17524" y="7367"/>
                  <a:pt x="17587" y="7392"/>
                </a:cubicBezTo>
                <a:cubicBezTo>
                  <a:pt x="17652" y="7418"/>
                  <a:pt x="17738" y="7438"/>
                  <a:pt x="17810" y="7441"/>
                </a:cubicBezTo>
                <a:cubicBezTo>
                  <a:pt x="17875" y="7444"/>
                  <a:pt x="17949" y="7437"/>
                  <a:pt x="18008" y="7417"/>
                </a:cubicBezTo>
                <a:cubicBezTo>
                  <a:pt x="18089" y="7390"/>
                  <a:pt x="18131" y="7359"/>
                  <a:pt x="18207" y="7317"/>
                </a:cubicBezTo>
                <a:cubicBezTo>
                  <a:pt x="18262" y="7287"/>
                  <a:pt x="18303" y="7235"/>
                  <a:pt x="18331" y="7193"/>
                </a:cubicBezTo>
                <a:cubicBezTo>
                  <a:pt x="18369" y="7135"/>
                  <a:pt x="18401" y="7090"/>
                  <a:pt x="18405" y="7020"/>
                </a:cubicBezTo>
                <a:cubicBezTo>
                  <a:pt x="18408" y="6967"/>
                  <a:pt x="18403" y="6939"/>
                  <a:pt x="18380" y="6896"/>
                </a:cubicBezTo>
                <a:cubicBezTo>
                  <a:pt x="18353" y="6845"/>
                  <a:pt x="18332" y="6793"/>
                  <a:pt x="18306" y="6747"/>
                </a:cubicBezTo>
                <a:cubicBezTo>
                  <a:pt x="18253" y="6653"/>
                  <a:pt x="18195" y="6653"/>
                  <a:pt x="18107" y="6623"/>
                </a:cubicBezTo>
                <a:cubicBezTo>
                  <a:pt x="18048" y="6603"/>
                  <a:pt x="17962" y="6573"/>
                  <a:pt x="17909" y="6548"/>
                </a:cubicBezTo>
                <a:cubicBezTo>
                  <a:pt x="17818" y="6506"/>
                  <a:pt x="17850" y="6529"/>
                  <a:pt x="17785" y="6573"/>
                </a:cubicBezTo>
                <a:cubicBezTo>
                  <a:pt x="17709" y="6625"/>
                  <a:pt x="17691" y="6697"/>
                  <a:pt x="17636" y="6772"/>
                </a:cubicBezTo>
                <a:cubicBezTo>
                  <a:pt x="17628" y="6780"/>
                  <a:pt x="17619" y="6788"/>
                  <a:pt x="17611" y="6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3760" y="3500280"/>
            <a:ext cx="455400" cy="438480"/>
          </a:xfrm>
          <a:custGeom>
            <a:avLst/>
            <a:gdLst/>
            <a:ahLst/>
            <a:rect l="l" t="t" r="r" b="b"/>
            <a:pathLst>
              <a:path w="1266" h="1217">
                <a:moveTo>
                  <a:pt x="17363" y="10244"/>
                </a:moveTo>
                <a:cubicBezTo>
                  <a:pt x="17412" y="10176"/>
                  <a:pt x="17445" y="10147"/>
                  <a:pt x="17512" y="10120"/>
                </a:cubicBezTo>
                <a:cubicBezTo>
                  <a:pt x="17560" y="10097"/>
                  <a:pt x="17575" y="10089"/>
                  <a:pt x="17611" y="10096"/>
                </a:cubicBezTo>
                <a:cubicBezTo>
                  <a:pt x="17659" y="10175"/>
                  <a:pt x="17632" y="10174"/>
                  <a:pt x="17587" y="10244"/>
                </a:cubicBezTo>
                <a:cubicBezTo>
                  <a:pt x="17549" y="10303"/>
                  <a:pt x="17541" y="10338"/>
                  <a:pt x="17487" y="10393"/>
                </a:cubicBezTo>
                <a:cubicBezTo>
                  <a:pt x="17451" y="10429"/>
                  <a:pt x="17407" y="10488"/>
                  <a:pt x="17363" y="10517"/>
                </a:cubicBezTo>
                <a:cubicBezTo>
                  <a:pt x="17347" y="10525"/>
                  <a:pt x="17330" y="10534"/>
                  <a:pt x="17314" y="10542"/>
                </a:cubicBezTo>
                <a:cubicBezTo>
                  <a:pt x="17329" y="10490"/>
                  <a:pt x="17362" y="10437"/>
                  <a:pt x="17438" y="10468"/>
                </a:cubicBezTo>
                <a:cubicBezTo>
                  <a:pt x="17497" y="10492"/>
                  <a:pt x="17516" y="10517"/>
                  <a:pt x="17587" y="10517"/>
                </a:cubicBezTo>
                <a:cubicBezTo>
                  <a:pt x="17679" y="10517"/>
                  <a:pt x="17727" y="10532"/>
                  <a:pt x="17785" y="10468"/>
                </a:cubicBezTo>
                <a:cubicBezTo>
                  <a:pt x="17793" y="10460"/>
                  <a:pt x="17802" y="10451"/>
                  <a:pt x="17810" y="10443"/>
                </a:cubicBezTo>
              </a:path>
              <a:path w="1266" h="1217">
                <a:moveTo>
                  <a:pt x="17363" y="9773"/>
                </a:moveTo>
                <a:cubicBezTo>
                  <a:pt x="17273" y="9844"/>
                  <a:pt x="17246" y="9861"/>
                  <a:pt x="17190" y="9947"/>
                </a:cubicBezTo>
                <a:cubicBezTo>
                  <a:pt x="17158" y="9996"/>
                  <a:pt x="17101" y="10059"/>
                  <a:pt x="17090" y="10120"/>
                </a:cubicBezTo>
                <a:cubicBezTo>
                  <a:pt x="17074" y="10213"/>
                  <a:pt x="17070" y="10324"/>
                  <a:pt x="17066" y="10418"/>
                </a:cubicBezTo>
                <a:cubicBezTo>
                  <a:pt x="17063" y="10490"/>
                  <a:pt x="17061" y="10550"/>
                  <a:pt x="17090" y="10616"/>
                </a:cubicBezTo>
                <a:cubicBezTo>
                  <a:pt x="17119" y="10683"/>
                  <a:pt x="17200" y="10730"/>
                  <a:pt x="17264" y="10765"/>
                </a:cubicBezTo>
                <a:cubicBezTo>
                  <a:pt x="17359" y="10816"/>
                  <a:pt x="17416" y="10856"/>
                  <a:pt x="17512" y="10889"/>
                </a:cubicBezTo>
                <a:cubicBezTo>
                  <a:pt x="17599" y="10919"/>
                  <a:pt x="17690" y="10958"/>
                  <a:pt x="17785" y="10939"/>
                </a:cubicBezTo>
                <a:cubicBezTo>
                  <a:pt x="17888" y="10919"/>
                  <a:pt x="17953" y="10887"/>
                  <a:pt x="18033" y="10815"/>
                </a:cubicBezTo>
                <a:cubicBezTo>
                  <a:pt x="18119" y="10739"/>
                  <a:pt x="18182" y="10651"/>
                  <a:pt x="18256" y="10567"/>
                </a:cubicBezTo>
                <a:cubicBezTo>
                  <a:pt x="18319" y="10496"/>
                  <a:pt x="18331" y="10488"/>
                  <a:pt x="18331" y="10393"/>
                </a:cubicBezTo>
                <a:cubicBezTo>
                  <a:pt x="18331" y="10300"/>
                  <a:pt x="18292" y="10207"/>
                  <a:pt x="18256" y="10120"/>
                </a:cubicBezTo>
                <a:cubicBezTo>
                  <a:pt x="18236" y="10073"/>
                  <a:pt x="18209" y="9953"/>
                  <a:pt x="18182" y="9922"/>
                </a:cubicBezTo>
                <a:cubicBezTo>
                  <a:pt x="18130" y="9861"/>
                  <a:pt x="18020" y="9824"/>
                  <a:pt x="17959" y="9798"/>
                </a:cubicBezTo>
                <a:cubicBezTo>
                  <a:pt x="17927" y="9784"/>
                  <a:pt x="17779" y="9702"/>
                  <a:pt x="17735" y="9723"/>
                </a:cubicBezTo>
                <a:cubicBezTo>
                  <a:pt x="17686" y="9773"/>
                  <a:pt x="17669" y="9790"/>
                  <a:pt x="17636" y="9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0760" y="4268880"/>
            <a:ext cx="473040" cy="544320"/>
          </a:xfrm>
          <a:custGeom>
            <a:avLst/>
            <a:gdLst/>
            <a:ahLst/>
            <a:rect l="l" t="t" r="r" b="b"/>
            <a:pathLst>
              <a:path w="1316" h="1514">
                <a:moveTo>
                  <a:pt x="17711" y="12328"/>
                </a:moveTo>
                <a:cubicBezTo>
                  <a:pt x="17722" y="12257"/>
                  <a:pt x="17754" y="12260"/>
                  <a:pt x="17835" y="12254"/>
                </a:cubicBezTo>
                <a:cubicBezTo>
                  <a:pt x="17900" y="12249"/>
                  <a:pt x="17909" y="12305"/>
                  <a:pt x="17909" y="12353"/>
                </a:cubicBezTo>
                <a:cubicBezTo>
                  <a:pt x="17909" y="12451"/>
                  <a:pt x="17820" y="12422"/>
                  <a:pt x="17760" y="12452"/>
                </a:cubicBezTo>
                <a:cubicBezTo>
                  <a:pt x="17752" y="12460"/>
                  <a:pt x="17743" y="12469"/>
                  <a:pt x="17735" y="12477"/>
                </a:cubicBezTo>
                <a:cubicBezTo>
                  <a:pt x="17753" y="12547"/>
                  <a:pt x="17774" y="12512"/>
                  <a:pt x="17835" y="12526"/>
                </a:cubicBezTo>
                <a:cubicBezTo>
                  <a:pt x="17930" y="12548"/>
                  <a:pt x="17982" y="12605"/>
                  <a:pt x="17934" y="12700"/>
                </a:cubicBezTo>
                <a:cubicBezTo>
                  <a:pt x="17899" y="12770"/>
                  <a:pt x="17861" y="12793"/>
                  <a:pt x="17785" y="12799"/>
                </a:cubicBezTo>
                <a:cubicBezTo>
                  <a:pt x="17741" y="12802"/>
                  <a:pt x="17634" y="12825"/>
                  <a:pt x="17661" y="12750"/>
                </a:cubicBezTo>
                <a:cubicBezTo>
                  <a:pt x="17669" y="12742"/>
                  <a:pt x="17678" y="12733"/>
                  <a:pt x="17686" y="12725"/>
                </a:cubicBezTo>
              </a:path>
              <a:path w="1316" h="1514">
                <a:moveTo>
                  <a:pt x="17785" y="11857"/>
                </a:moveTo>
                <a:cubicBezTo>
                  <a:pt x="17710" y="11857"/>
                  <a:pt x="17629" y="11843"/>
                  <a:pt x="17562" y="11881"/>
                </a:cubicBezTo>
                <a:cubicBezTo>
                  <a:pt x="17500" y="11916"/>
                  <a:pt x="17433" y="11973"/>
                  <a:pt x="17388" y="12030"/>
                </a:cubicBezTo>
                <a:cubicBezTo>
                  <a:pt x="17314" y="12124"/>
                  <a:pt x="17260" y="12268"/>
                  <a:pt x="17214" y="12378"/>
                </a:cubicBezTo>
                <a:cubicBezTo>
                  <a:pt x="17172" y="12480"/>
                  <a:pt x="17150" y="12617"/>
                  <a:pt x="17140" y="12725"/>
                </a:cubicBezTo>
                <a:cubicBezTo>
                  <a:pt x="17130" y="12832"/>
                  <a:pt x="17124" y="12975"/>
                  <a:pt x="17165" y="13072"/>
                </a:cubicBezTo>
                <a:cubicBezTo>
                  <a:pt x="17190" y="13131"/>
                  <a:pt x="17266" y="13228"/>
                  <a:pt x="17314" y="13271"/>
                </a:cubicBezTo>
                <a:cubicBezTo>
                  <a:pt x="17343" y="13297"/>
                  <a:pt x="17428" y="13358"/>
                  <a:pt x="17462" y="13370"/>
                </a:cubicBezTo>
                <a:cubicBezTo>
                  <a:pt x="17512" y="13388"/>
                  <a:pt x="17641" y="13358"/>
                  <a:pt x="17686" y="13345"/>
                </a:cubicBezTo>
                <a:cubicBezTo>
                  <a:pt x="17752" y="13326"/>
                  <a:pt x="17819" y="13294"/>
                  <a:pt x="17884" y="13271"/>
                </a:cubicBezTo>
                <a:cubicBezTo>
                  <a:pt x="17972" y="13239"/>
                  <a:pt x="18011" y="13217"/>
                  <a:pt x="18083" y="13171"/>
                </a:cubicBezTo>
                <a:cubicBezTo>
                  <a:pt x="18168" y="13117"/>
                  <a:pt x="18180" y="13108"/>
                  <a:pt x="18231" y="13022"/>
                </a:cubicBezTo>
                <a:cubicBezTo>
                  <a:pt x="18272" y="12954"/>
                  <a:pt x="18312" y="12862"/>
                  <a:pt x="18355" y="12799"/>
                </a:cubicBezTo>
                <a:cubicBezTo>
                  <a:pt x="18391" y="12746"/>
                  <a:pt x="18476" y="12653"/>
                  <a:pt x="18455" y="12576"/>
                </a:cubicBezTo>
                <a:cubicBezTo>
                  <a:pt x="18442" y="12528"/>
                  <a:pt x="18397" y="12453"/>
                  <a:pt x="18380" y="12402"/>
                </a:cubicBezTo>
                <a:cubicBezTo>
                  <a:pt x="18357" y="12334"/>
                  <a:pt x="18327" y="12279"/>
                  <a:pt x="18281" y="12229"/>
                </a:cubicBezTo>
                <a:cubicBezTo>
                  <a:pt x="18214" y="12155"/>
                  <a:pt x="18122" y="12116"/>
                  <a:pt x="18058" y="12055"/>
                </a:cubicBezTo>
                <a:cubicBezTo>
                  <a:pt x="18008" y="12008"/>
                  <a:pt x="17943" y="11974"/>
                  <a:pt x="17859" y="11956"/>
                </a:cubicBezTo>
                <a:cubicBezTo>
                  <a:pt x="17771" y="11937"/>
                  <a:pt x="17738" y="11983"/>
                  <a:pt x="17661" y="12005"/>
                </a:cubicBezTo>
                <a:cubicBezTo>
                  <a:pt x="17585" y="12026"/>
                  <a:pt x="17621" y="12016"/>
                  <a:pt x="17587" y="120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48240" y="5205240"/>
            <a:ext cx="376560" cy="438480"/>
          </a:xfrm>
          <a:custGeom>
            <a:avLst/>
            <a:gdLst/>
            <a:ahLst/>
            <a:rect l="l" t="t" r="r" b="b"/>
            <a:pathLst>
              <a:path w="1043" h="1217">
                <a:moveTo>
                  <a:pt x="17959" y="14982"/>
                </a:moveTo>
                <a:cubicBezTo>
                  <a:pt x="17981" y="15012"/>
                  <a:pt x="18003" y="15065"/>
                  <a:pt x="17983" y="15106"/>
                </a:cubicBezTo>
                <a:cubicBezTo>
                  <a:pt x="17962" y="15149"/>
                  <a:pt x="17934" y="15200"/>
                  <a:pt x="18008" y="15205"/>
                </a:cubicBezTo>
                <a:cubicBezTo>
                  <a:pt x="18057" y="15209"/>
                  <a:pt x="18142" y="15180"/>
                  <a:pt x="18182" y="15156"/>
                </a:cubicBezTo>
                <a:cubicBezTo>
                  <a:pt x="18223" y="15132"/>
                  <a:pt x="18279" y="15110"/>
                  <a:pt x="18331" y="15106"/>
                </a:cubicBezTo>
                <a:cubicBezTo>
                  <a:pt x="18397" y="15102"/>
                  <a:pt x="18376" y="15098"/>
                  <a:pt x="18405" y="15032"/>
                </a:cubicBezTo>
              </a:path>
              <a:path w="1043" h="1217">
                <a:moveTo>
                  <a:pt x="18281" y="14833"/>
                </a:moveTo>
                <a:cubicBezTo>
                  <a:pt x="18264" y="14889"/>
                  <a:pt x="18270" y="14931"/>
                  <a:pt x="18256" y="14982"/>
                </a:cubicBezTo>
                <a:cubicBezTo>
                  <a:pt x="18236" y="15059"/>
                  <a:pt x="18211" y="15132"/>
                  <a:pt x="18207" y="15205"/>
                </a:cubicBezTo>
                <a:cubicBezTo>
                  <a:pt x="18207" y="15257"/>
                  <a:pt x="18206" y="15275"/>
                  <a:pt x="18182" y="15304"/>
                </a:cubicBezTo>
              </a:path>
              <a:path w="1043" h="1217">
                <a:moveTo>
                  <a:pt x="17934" y="14461"/>
                </a:moveTo>
                <a:cubicBezTo>
                  <a:pt x="17847" y="14508"/>
                  <a:pt x="17776" y="14539"/>
                  <a:pt x="17735" y="14635"/>
                </a:cubicBezTo>
                <a:cubicBezTo>
                  <a:pt x="17671" y="14784"/>
                  <a:pt x="17640" y="14971"/>
                  <a:pt x="17636" y="15131"/>
                </a:cubicBezTo>
                <a:cubicBezTo>
                  <a:pt x="17632" y="15278"/>
                  <a:pt x="17606" y="15454"/>
                  <a:pt x="17686" y="15577"/>
                </a:cubicBezTo>
                <a:cubicBezTo>
                  <a:pt x="17723" y="15633"/>
                  <a:pt x="17824" y="15673"/>
                  <a:pt x="17884" y="15677"/>
                </a:cubicBezTo>
                <a:cubicBezTo>
                  <a:pt x="18003" y="15685"/>
                  <a:pt x="18172" y="15700"/>
                  <a:pt x="18281" y="15652"/>
                </a:cubicBezTo>
                <a:cubicBezTo>
                  <a:pt x="18367" y="15614"/>
                  <a:pt x="18435" y="15593"/>
                  <a:pt x="18504" y="15528"/>
                </a:cubicBezTo>
                <a:cubicBezTo>
                  <a:pt x="18581" y="15456"/>
                  <a:pt x="18607" y="15398"/>
                  <a:pt x="18628" y="15304"/>
                </a:cubicBezTo>
                <a:cubicBezTo>
                  <a:pt x="18658" y="15170"/>
                  <a:pt x="18695" y="15048"/>
                  <a:pt x="18678" y="14908"/>
                </a:cubicBezTo>
                <a:cubicBezTo>
                  <a:pt x="18661" y="14770"/>
                  <a:pt x="18629" y="14735"/>
                  <a:pt x="18554" y="14635"/>
                </a:cubicBezTo>
                <a:cubicBezTo>
                  <a:pt x="18487" y="14546"/>
                  <a:pt x="18415" y="14549"/>
                  <a:pt x="18306" y="14511"/>
                </a:cubicBezTo>
                <a:cubicBezTo>
                  <a:pt x="18235" y="14487"/>
                  <a:pt x="18203" y="14486"/>
                  <a:pt x="18132" y="14486"/>
                </a:cubicBezTo>
                <a:cubicBezTo>
                  <a:pt x="18124" y="14486"/>
                  <a:pt x="18115" y="14486"/>
                  <a:pt x="18107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29240" y="6107040"/>
            <a:ext cx="687600" cy="679680"/>
          </a:xfrm>
          <a:custGeom>
            <a:avLst/>
            <a:gdLst/>
            <a:ahLst/>
            <a:rect l="l" t="t" r="r" b="b"/>
            <a:pathLst>
              <a:path w="1911" h="1887">
                <a:moveTo>
                  <a:pt x="19224" y="18132"/>
                </a:moveTo>
                <a:lnTo>
                  <a:pt x="19224" y="18132"/>
                </a:lnTo>
              </a:path>
              <a:path w="1911" h="1887">
                <a:moveTo>
                  <a:pt x="19000" y="18852"/>
                </a:moveTo>
                <a:cubicBezTo>
                  <a:pt x="18967" y="18794"/>
                  <a:pt x="18974" y="18781"/>
                  <a:pt x="19000" y="18728"/>
                </a:cubicBezTo>
                <a:cubicBezTo>
                  <a:pt x="19030" y="18667"/>
                  <a:pt x="19019" y="18616"/>
                  <a:pt x="19050" y="18554"/>
                </a:cubicBezTo>
                <a:cubicBezTo>
                  <a:pt x="19068" y="18518"/>
                  <a:pt x="19105" y="18462"/>
                  <a:pt x="19124" y="18430"/>
                </a:cubicBezTo>
                <a:cubicBezTo>
                  <a:pt x="19141" y="18401"/>
                  <a:pt x="19168" y="18338"/>
                  <a:pt x="19174" y="18306"/>
                </a:cubicBezTo>
                <a:cubicBezTo>
                  <a:pt x="19187" y="18239"/>
                  <a:pt x="19154" y="18188"/>
                  <a:pt x="19199" y="18132"/>
                </a:cubicBezTo>
                <a:cubicBezTo>
                  <a:pt x="19224" y="18100"/>
                  <a:pt x="19258" y="18024"/>
                  <a:pt x="19273" y="18008"/>
                </a:cubicBezTo>
                <a:cubicBezTo>
                  <a:pt x="19309" y="17969"/>
                  <a:pt x="19378" y="17945"/>
                  <a:pt x="19422" y="17909"/>
                </a:cubicBezTo>
                <a:cubicBezTo>
                  <a:pt x="19456" y="17880"/>
                  <a:pt x="19529" y="17845"/>
                  <a:pt x="19571" y="17835"/>
                </a:cubicBezTo>
                <a:cubicBezTo>
                  <a:pt x="19634" y="17821"/>
                  <a:pt x="19649" y="17852"/>
                  <a:pt x="19695" y="17884"/>
                </a:cubicBezTo>
                <a:cubicBezTo>
                  <a:pt x="19744" y="17918"/>
                  <a:pt x="19771" y="17973"/>
                  <a:pt x="19769" y="18033"/>
                </a:cubicBezTo>
                <a:cubicBezTo>
                  <a:pt x="19767" y="18072"/>
                  <a:pt x="19744" y="18127"/>
                  <a:pt x="19720" y="18157"/>
                </a:cubicBezTo>
                <a:cubicBezTo>
                  <a:pt x="19666" y="18224"/>
                  <a:pt x="19637" y="18297"/>
                  <a:pt x="19546" y="18331"/>
                </a:cubicBezTo>
                <a:cubicBezTo>
                  <a:pt x="19499" y="18348"/>
                  <a:pt x="19450" y="18353"/>
                  <a:pt x="19397" y="18355"/>
                </a:cubicBezTo>
                <a:cubicBezTo>
                  <a:pt x="19314" y="18358"/>
                  <a:pt x="19249" y="18358"/>
                  <a:pt x="19174" y="18331"/>
                </a:cubicBezTo>
                <a:cubicBezTo>
                  <a:pt x="19125" y="18313"/>
                  <a:pt x="19216" y="18362"/>
                  <a:pt x="19248" y="18355"/>
                </a:cubicBezTo>
                <a:cubicBezTo>
                  <a:pt x="19265" y="18347"/>
                  <a:pt x="19281" y="18339"/>
                  <a:pt x="19298" y="18331"/>
                </a:cubicBezTo>
              </a:path>
              <a:path w="1911" h="1887">
                <a:moveTo>
                  <a:pt x="18628" y="17487"/>
                </a:moveTo>
                <a:cubicBezTo>
                  <a:pt x="18550" y="17487"/>
                  <a:pt x="18448" y="17467"/>
                  <a:pt x="18380" y="17512"/>
                </a:cubicBezTo>
                <a:cubicBezTo>
                  <a:pt x="18314" y="17556"/>
                  <a:pt x="18355" y="17578"/>
                  <a:pt x="18331" y="17636"/>
                </a:cubicBezTo>
                <a:cubicBezTo>
                  <a:pt x="18319" y="17664"/>
                  <a:pt x="18272" y="17708"/>
                  <a:pt x="18256" y="17735"/>
                </a:cubicBezTo>
                <a:cubicBezTo>
                  <a:pt x="18307" y="17723"/>
                  <a:pt x="18345" y="17698"/>
                  <a:pt x="18405" y="17686"/>
                </a:cubicBezTo>
                <a:cubicBezTo>
                  <a:pt x="18439" y="17679"/>
                  <a:pt x="18514" y="17793"/>
                  <a:pt x="18529" y="17810"/>
                </a:cubicBezTo>
                <a:cubicBezTo>
                  <a:pt x="18579" y="17867"/>
                  <a:pt x="18593" y="17913"/>
                  <a:pt x="18628" y="17983"/>
                </a:cubicBezTo>
                <a:cubicBezTo>
                  <a:pt x="18547" y="18016"/>
                  <a:pt x="18517" y="18033"/>
                  <a:pt x="18430" y="18033"/>
                </a:cubicBezTo>
                <a:cubicBezTo>
                  <a:pt x="18356" y="18033"/>
                  <a:pt x="18314" y="18041"/>
                  <a:pt x="18256" y="18008"/>
                </a:cubicBezTo>
                <a:cubicBezTo>
                  <a:pt x="18216" y="17988"/>
                  <a:pt x="18200" y="17990"/>
                  <a:pt x="18207" y="17959"/>
                </a:cubicBezTo>
              </a:path>
              <a:path w="1911" h="1887">
                <a:moveTo>
                  <a:pt x="18306" y="16966"/>
                </a:moveTo>
                <a:cubicBezTo>
                  <a:pt x="18242" y="17002"/>
                  <a:pt x="18186" y="17039"/>
                  <a:pt x="18132" y="17090"/>
                </a:cubicBezTo>
                <a:cubicBezTo>
                  <a:pt x="18060" y="17159"/>
                  <a:pt x="17972" y="17210"/>
                  <a:pt x="17909" y="17289"/>
                </a:cubicBezTo>
                <a:cubicBezTo>
                  <a:pt x="17837" y="17380"/>
                  <a:pt x="17859" y="17476"/>
                  <a:pt x="17859" y="17587"/>
                </a:cubicBezTo>
                <a:cubicBezTo>
                  <a:pt x="17859" y="17703"/>
                  <a:pt x="17827" y="17874"/>
                  <a:pt x="17884" y="17983"/>
                </a:cubicBezTo>
                <a:cubicBezTo>
                  <a:pt x="17927" y="18065"/>
                  <a:pt x="17980" y="18131"/>
                  <a:pt x="18058" y="18182"/>
                </a:cubicBezTo>
                <a:cubicBezTo>
                  <a:pt x="18146" y="18239"/>
                  <a:pt x="18237" y="18284"/>
                  <a:pt x="18331" y="18331"/>
                </a:cubicBezTo>
                <a:cubicBezTo>
                  <a:pt x="18395" y="18363"/>
                  <a:pt x="18412" y="18413"/>
                  <a:pt x="18479" y="18430"/>
                </a:cubicBezTo>
                <a:cubicBezTo>
                  <a:pt x="18537" y="18445"/>
                  <a:pt x="18651" y="18420"/>
                  <a:pt x="18703" y="18405"/>
                </a:cubicBezTo>
                <a:cubicBezTo>
                  <a:pt x="18754" y="18390"/>
                  <a:pt x="18889" y="18317"/>
                  <a:pt x="18926" y="18281"/>
                </a:cubicBezTo>
                <a:cubicBezTo>
                  <a:pt x="18967" y="18240"/>
                  <a:pt x="18998" y="18183"/>
                  <a:pt x="19025" y="18132"/>
                </a:cubicBezTo>
                <a:cubicBezTo>
                  <a:pt x="19065" y="18056"/>
                  <a:pt x="19050" y="17969"/>
                  <a:pt x="19050" y="17884"/>
                </a:cubicBezTo>
                <a:cubicBezTo>
                  <a:pt x="19050" y="17802"/>
                  <a:pt x="19034" y="17737"/>
                  <a:pt x="19025" y="17661"/>
                </a:cubicBezTo>
                <a:cubicBezTo>
                  <a:pt x="19016" y="17577"/>
                  <a:pt x="18969" y="17559"/>
                  <a:pt x="18951" y="17487"/>
                </a:cubicBezTo>
                <a:cubicBezTo>
                  <a:pt x="18929" y="17399"/>
                  <a:pt x="18895" y="17351"/>
                  <a:pt x="18852" y="17264"/>
                </a:cubicBezTo>
                <a:cubicBezTo>
                  <a:pt x="18825" y="17209"/>
                  <a:pt x="18787" y="17195"/>
                  <a:pt x="18728" y="17165"/>
                </a:cubicBezTo>
                <a:cubicBezTo>
                  <a:pt x="18681" y="17141"/>
                  <a:pt x="18625" y="17123"/>
                  <a:pt x="18579" y="17115"/>
                </a:cubicBezTo>
                <a:cubicBezTo>
                  <a:pt x="18512" y="17104"/>
                  <a:pt x="18484" y="17156"/>
                  <a:pt x="18430" y="17165"/>
                </a:cubicBezTo>
                <a:cubicBezTo>
                  <a:pt x="18336" y="17181"/>
                  <a:pt x="18286" y="17127"/>
                  <a:pt x="18256" y="172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57920" y="108000"/>
            <a:ext cx="544320" cy="6696000"/>
          </a:xfrm>
          <a:custGeom>
            <a:avLst/>
            <a:gdLst/>
            <a:ahLst/>
            <a:rect l="l" t="t" r="r" b="b"/>
            <a:pathLst>
              <a:path w="1514" h="18604">
                <a:moveTo>
                  <a:pt x="16346" y="298"/>
                </a:moveTo>
                <a:cubicBezTo>
                  <a:pt x="16339" y="394"/>
                  <a:pt x="16324" y="476"/>
                  <a:pt x="16321" y="571"/>
                </a:cubicBezTo>
                <a:cubicBezTo>
                  <a:pt x="16319" y="639"/>
                  <a:pt x="16280" y="698"/>
                  <a:pt x="16297" y="769"/>
                </a:cubicBezTo>
                <a:cubicBezTo>
                  <a:pt x="16325" y="888"/>
                  <a:pt x="16416" y="962"/>
                  <a:pt x="16446" y="1067"/>
                </a:cubicBezTo>
                <a:cubicBezTo>
                  <a:pt x="16470" y="1152"/>
                  <a:pt x="16512" y="1205"/>
                  <a:pt x="16495" y="1315"/>
                </a:cubicBezTo>
                <a:cubicBezTo>
                  <a:pt x="16484" y="1386"/>
                  <a:pt x="16418" y="1449"/>
                  <a:pt x="16396" y="1513"/>
                </a:cubicBezTo>
                <a:cubicBezTo>
                  <a:pt x="16370" y="1589"/>
                  <a:pt x="16316" y="1659"/>
                  <a:pt x="16297" y="1736"/>
                </a:cubicBezTo>
                <a:cubicBezTo>
                  <a:pt x="16263" y="1873"/>
                  <a:pt x="16264" y="1944"/>
                  <a:pt x="16321" y="2059"/>
                </a:cubicBezTo>
                <a:cubicBezTo>
                  <a:pt x="16359" y="2137"/>
                  <a:pt x="16506" y="2183"/>
                  <a:pt x="16520" y="2282"/>
                </a:cubicBezTo>
                <a:cubicBezTo>
                  <a:pt x="16539" y="2418"/>
                  <a:pt x="16488" y="2312"/>
                  <a:pt x="16470" y="2456"/>
                </a:cubicBezTo>
                <a:cubicBezTo>
                  <a:pt x="16460" y="2541"/>
                  <a:pt x="16388" y="2550"/>
                  <a:pt x="16396" y="2654"/>
                </a:cubicBezTo>
                <a:cubicBezTo>
                  <a:pt x="16410" y="2834"/>
                  <a:pt x="16473" y="2792"/>
                  <a:pt x="16545" y="2927"/>
                </a:cubicBezTo>
                <a:cubicBezTo>
                  <a:pt x="16613" y="3055"/>
                  <a:pt x="16687" y="3111"/>
                  <a:pt x="16718" y="3249"/>
                </a:cubicBezTo>
                <a:cubicBezTo>
                  <a:pt x="16749" y="3388"/>
                  <a:pt x="16736" y="3540"/>
                  <a:pt x="16768" y="3671"/>
                </a:cubicBezTo>
                <a:cubicBezTo>
                  <a:pt x="16779" y="3716"/>
                  <a:pt x="16841" y="3828"/>
                  <a:pt x="16842" y="3870"/>
                </a:cubicBezTo>
                <a:cubicBezTo>
                  <a:pt x="16847" y="4018"/>
                  <a:pt x="16821" y="4089"/>
                  <a:pt x="16768" y="4217"/>
                </a:cubicBezTo>
                <a:cubicBezTo>
                  <a:pt x="16721" y="4331"/>
                  <a:pt x="16640" y="4397"/>
                  <a:pt x="16619" y="4514"/>
                </a:cubicBezTo>
                <a:cubicBezTo>
                  <a:pt x="16603" y="4599"/>
                  <a:pt x="16557" y="4622"/>
                  <a:pt x="16570" y="4713"/>
                </a:cubicBezTo>
                <a:cubicBezTo>
                  <a:pt x="16583" y="4804"/>
                  <a:pt x="16688" y="4818"/>
                  <a:pt x="16694" y="4911"/>
                </a:cubicBezTo>
                <a:cubicBezTo>
                  <a:pt x="16702" y="5029"/>
                  <a:pt x="16651" y="5146"/>
                  <a:pt x="16669" y="5259"/>
                </a:cubicBezTo>
                <a:cubicBezTo>
                  <a:pt x="16682" y="5342"/>
                  <a:pt x="16701" y="5405"/>
                  <a:pt x="16718" y="5482"/>
                </a:cubicBezTo>
                <a:cubicBezTo>
                  <a:pt x="16735" y="5560"/>
                  <a:pt x="16787" y="5591"/>
                  <a:pt x="16793" y="5680"/>
                </a:cubicBezTo>
                <a:cubicBezTo>
                  <a:pt x="16797" y="5739"/>
                  <a:pt x="16766" y="5776"/>
                  <a:pt x="16768" y="5829"/>
                </a:cubicBezTo>
                <a:cubicBezTo>
                  <a:pt x="16777" y="6050"/>
                  <a:pt x="16790" y="6295"/>
                  <a:pt x="16768" y="6499"/>
                </a:cubicBezTo>
                <a:cubicBezTo>
                  <a:pt x="16764" y="6538"/>
                  <a:pt x="16715" y="6648"/>
                  <a:pt x="16718" y="6672"/>
                </a:cubicBezTo>
                <a:cubicBezTo>
                  <a:pt x="16731" y="6771"/>
                  <a:pt x="16744" y="6759"/>
                  <a:pt x="16768" y="6846"/>
                </a:cubicBezTo>
                <a:cubicBezTo>
                  <a:pt x="16786" y="6912"/>
                  <a:pt x="16826" y="6950"/>
                  <a:pt x="16842" y="7020"/>
                </a:cubicBezTo>
                <a:cubicBezTo>
                  <a:pt x="16872" y="7153"/>
                  <a:pt x="16892" y="7265"/>
                  <a:pt x="16892" y="7417"/>
                </a:cubicBezTo>
                <a:cubicBezTo>
                  <a:pt x="16892" y="7511"/>
                  <a:pt x="16865" y="7590"/>
                  <a:pt x="16867" y="7689"/>
                </a:cubicBezTo>
                <a:cubicBezTo>
                  <a:pt x="16870" y="7831"/>
                  <a:pt x="16923" y="7976"/>
                  <a:pt x="16917" y="8111"/>
                </a:cubicBezTo>
                <a:cubicBezTo>
                  <a:pt x="16911" y="8254"/>
                  <a:pt x="16869" y="8310"/>
                  <a:pt x="16818" y="8434"/>
                </a:cubicBezTo>
                <a:cubicBezTo>
                  <a:pt x="16797" y="8486"/>
                  <a:pt x="16732" y="8555"/>
                  <a:pt x="16718" y="8607"/>
                </a:cubicBezTo>
                <a:cubicBezTo>
                  <a:pt x="16701" y="8670"/>
                  <a:pt x="16700" y="8715"/>
                  <a:pt x="16694" y="8781"/>
                </a:cubicBezTo>
                <a:cubicBezTo>
                  <a:pt x="16684" y="8892"/>
                  <a:pt x="16729" y="8969"/>
                  <a:pt x="16718" y="9079"/>
                </a:cubicBezTo>
                <a:cubicBezTo>
                  <a:pt x="16708" y="9176"/>
                  <a:pt x="16684" y="9256"/>
                  <a:pt x="16669" y="9351"/>
                </a:cubicBezTo>
                <a:cubicBezTo>
                  <a:pt x="16645" y="9497"/>
                  <a:pt x="16605" y="9652"/>
                  <a:pt x="16594" y="9798"/>
                </a:cubicBezTo>
                <a:cubicBezTo>
                  <a:pt x="16579" y="10005"/>
                  <a:pt x="16598" y="10205"/>
                  <a:pt x="16644" y="10393"/>
                </a:cubicBezTo>
                <a:cubicBezTo>
                  <a:pt x="16688" y="10572"/>
                  <a:pt x="16749" y="10695"/>
                  <a:pt x="16743" y="10889"/>
                </a:cubicBezTo>
                <a:cubicBezTo>
                  <a:pt x="16740" y="11003"/>
                  <a:pt x="16676" y="11123"/>
                  <a:pt x="16669" y="11237"/>
                </a:cubicBezTo>
                <a:cubicBezTo>
                  <a:pt x="16654" y="11474"/>
                  <a:pt x="16691" y="11609"/>
                  <a:pt x="16793" y="11807"/>
                </a:cubicBezTo>
                <a:cubicBezTo>
                  <a:pt x="16845" y="11909"/>
                  <a:pt x="16929" y="12001"/>
                  <a:pt x="16966" y="12105"/>
                </a:cubicBezTo>
                <a:cubicBezTo>
                  <a:pt x="16999" y="12196"/>
                  <a:pt x="17004" y="12280"/>
                  <a:pt x="17016" y="12378"/>
                </a:cubicBezTo>
                <a:cubicBezTo>
                  <a:pt x="17040" y="12579"/>
                  <a:pt x="17023" y="12753"/>
                  <a:pt x="17066" y="12948"/>
                </a:cubicBezTo>
                <a:cubicBezTo>
                  <a:pt x="17092" y="13068"/>
                  <a:pt x="17128" y="13169"/>
                  <a:pt x="17140" y="13295"/>
                </a:cubicBezTo>
                <a:cubicBezTo>
                  <a:pt x="17160" y="13506"/>
                  <a:pt x="17111" y="13710"/>
                  <a:pt x="17115" y="13915"/>
                </a:cubicBezTo>
                <a:cubicBezTo>
                  <a:pt x="17118" y="14066"/>
                  <a:pt x="17176" y="14159"/>
                  <a:pt x="17190" y="14288"/>
                </a:cubicBezTo>
                <a:cubicBezTo>
                  <a:pt x="17195" y="14336"/>
                  <a:pt x="17182" y="14389"/>
                  <a:pt x="17190" y="14436"/>
                </a:cubicBezTo>
                <a:cubicBezTo>
                  <a:pt x="17199" y="14452"/>
                  <a:pt x="17263" y="14504"/>
                  <a:pt x="17289" y="14560"/>
                </a:cubicBezTo>
                <a:cubicBezTo>
                  <a:pt x="17310" y="14606"/>
                  <a:pt x="17306" y="14661"/>
                  <a:pt x="17338" y="14709"/>
                </a:cubicBezTo>
                <a:cubicBezTo>
                  <a:pt x="17410" y="14817"/>
                  <a:pt x="17468" y="14891"/>
                  <a:pt x="17537" y="14982"/>
                </a:cubicBezTo>
                <a:cubicBezTo>
                  <a:pt x="17603" y="15069"/>
                  <a:pt x="17677" y="15069"/>
                  <a:pt x="17711" y="15205"/>
                </a:cubicBezTo>
                <a:cubicBezTo>
                  <a:pt x="17730" y="15279"/>
                  <a:pt x="17744" y="15295"/>
                  <a:pt x="17735" y="15379"/>
                </a:cubicBezTo>
                <a:cubicBezTo>
                  <a:pt x="17731" y="15413"/>
                  <a:pt x="17649" y="15503"/>
                  <a:pt x="17636" y="15553"/>
                </a:cubicBezTo>
                <a:cubicBezTo>
                  <a:pt x="17636" y="15561"/>
                  <a:pt x="17636" y="15569"/>
                  <a:pt x="17636" y="15577"/>
                </a:cubicBezTo>
              </a:path>
              <a:path w="1514" h="18604">
                <a:moveTo>
                  <a:pt x="17686" y="15602"/>
                </a:moveTo>
                <a:cubicBezTo>
                  <a:pt x="17616" y="15652"/>
                  <a:pt x="17608" y="15692"/>
                  <a:pt x="17587" y="15776"/>
                </a:cubicBezTo>
                <a:cubicBezTo>
                  <a:pt x="17564" y="15868"/>
                  <a:pt x="17547" y="15979"/>
                  <a:pt x="17537" y="16073"/>
                </a:cubicBezTo>
                <a:cubicBezTo>
                  <a:pt x="17530" y="16142"/>
                  <a:pt x="17508" y="16231"/>
                  <a:pt x="17512" y="16297"/>
                </a:cubicBezTo>
                <a:cubicBezTo>
                  <a:pt x="17517" y="16390"/>
                  <a:pt x="17556" y="16426"/>
                  <a:pt x="17636" y="16470"/>
                </a:cubicBezTo>
                <a:cubicBezTo>
                  <a:pt x="17690" y="16500"/>
                  <a:pt x="17723" y="16508"/>
                  <a:pt x="17760" y="16570"/>
                </a:cubicBezTo>
                <a:cubicBezTo>
                  <a:pt x="17795" y="16630"/>
                  <a:pt x="17783" y="16657"/>
                  <a:pt x="17760" y="16718"/>
                </a:cubicBezTo>
                <a:cubicBezTo>
                  <a:pt x="17740" y="16772"/>
                  <a:pt x="17707" y="16841"/>
                  <a:pt x="17686" y="16892"/>
                </a:cubicBezTo>
                <a:cubicBezTo>
                  <a:pt x="17664" y="16946"/>
                  <a:pt x="17663" y="16961"/>
                  <a:pt x="17661" y="17016"/>
                </a:cubicBezTo>
                <a:cubicBezTo>
                  <a:pt x="17657" y="17117"/>
                  <a:pt x="17694" y="17251"/>
                  <a:pt x="17686" y="17338"/>
                </a:cubicBezTo>
                <a:cubicBezTo>
                  <a:pt x="17682" y="17379"/>
                  <a:pt x="17672" y="17442"/>
                  <a:pt x="17661" y="17487"/>
                </a:cubicBezTo>
                <a:cubicBezTo>
                  <a:pt x="17633" y="17598"/>
                  <a:pt x="17668" y="17609"/>
                  <a:pt x="17686" y="17711"/>
                </a:cubicBezTo>
                <a:cubicBezTo>
                  <a:pt x="17703" y="17806"/>
                  <a:pt x="17689" y="17929"/>
                  <a:pt x="17661" y="18008"/>
                </a:cubicBezTo>
                <a:cubicBezTo>
                  <a:pt x="17639" y="18069"/>
                  <a:pt x="17619" y="18118"/>
                  <a:pt x="17611" y="18182"/>
                </a:cubicBezTo>
                <a:cubicBezTo>
                  <a:pt x="17603" y="18244"/>
                  <a:pt x="17620" y="18265"/>
                  <a:pt x="17661" y="18306"/>
                </a:cubicBezTo>
                <a:cubicBezTo>
                  <a:pt x="17709" y="18330"/>
                  <a:pt x="17726" y="18336"/>
                  <a:pt x="17711" y="18380"/>
                </a:cubicBezTo>
                <a:cubicBezTo>
                  <a:pt x="17751" y="18421"/>
                  <a:pt x="17773" y="18375"/>
                  <a:pt x="17760" y="18479"/>
                </a:cubicBezTo>
                <a:cubicBezTo>
                  <a:pt x="17755" y="18523"/>
                  <a:pt x="17729" y="18568"/>
                  <a:pt x="17711" y="18604"/>
                </a:cubicBezTo>
                <a:cubicBezTo>
                  <a:pt x="17684" y="18659"/>
                  <a:pt x="17668" y="18695"/>
                  <a:pt x="17661" y="18752"/>
                </a:cubicBezTo>
                <a:cubicBezTo>
                  <a:pt x="17654" y="18809"/>
                  <a:pt x="17655" y="18845"/>
                  <a:pt x="17636" y="18901"/>
                </a:cubicBezTo>
                <a:cubicBezTo>
                  <a:pt x="17649" y="18816"/>
                  <a:pt x="17654" y="18796"/>
                  <a:pt x="17686" y="18728"/>
                </a:cubicBezTo>
              </a:path>
            </a:pathLst>
          </a:custGeom>
          <a:noFill/>
          <a:ln cap="rnd"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37000" y="5518080"/>
            <a:ext cx="1044360" cy="376200"/>
          </a:xfrm>
          <a:custGeom>
            <a:avLst/>
            <a:gdLst/>
            <a:ahLst/>
            <a:rect l="l" t="t" r="r" b="b"/>
            <a:pathLst>
              <a:path w="2903" h="1043">
                <a:moveTo>
                  <a:pt x="9823" y="15850"/>
                </a:moveTo>
                <a:cubicBezTo>
                  <a:pt x="9866" y="15865"/>
                  <a:pt x="9847" y="15922"/>
                  <a:pt x="9847" y="15974"/>
                </a:cubicBezTo>
                <a:cubicBezTo>
                  <a:pt x="9847" y="16044"/>
                  <a:pt x="9847" y="16366"/>
                  <a:pt x="9847" y="16272"/>
                </a:cubicBezTo>
                <a:cubicBezTo>
                  <a:pt x="9847" y="16169"/>
                  <a:pt x="9826" y="16034"/>
                  <a:pt x="9872" y="15949"/>
                </a:cubicBezTo>
                <a:cubicBezTo>
                  <a:pt x="9900" y="15898"/>
                  <a:pt x="9930" y="15866"/>
                  <a:pt x="9971" y="15825"/>
                </a:cubicBezTo>
                <a:cubicBezTo>
                  <a:pt x="10003" y="15793"/>
                  <a:pt x="10122" y="15783"/>
                  <a:pt x="10170" y="15801"/>
                </a:cubicBezTo>
                <a:cubicBezTo>
                  <a:pt x="10210" y="15816"/>
                  <a:pt x="10249" y="15893"/>
                  <a:pt x="10269" y="15925"/>
                </a:cubicBezTo>
                <a:cubicBezTo>
                  <a:pt x="10299" y="15974"/>
                  <a:pt x="10312" y="16067"/>
                  <a:pt x="10294" y="16123"/>
                </a:cubicBezTo>
                <a:cubicBezTo>
                  <a:pt x="10285" y="16153"/>
                  <a:pt x="10269" y="16315"/>
                  <a:pt x="10269" y="16197"/>
                </a:cubicBezTo>
                <a:cubicBezTo>
                  <a:pt x="10269" y="16098"/>
                  <a:pt x="10300" y="16083"/>
                  <a:pt x="10319" y="16024"/>
                </a:cubicBezTo>
                <a:cubicBezTo>
                  <a:pt x="10331" y="15986"/>
                  <a:pt x="10340" y="15881"/>
                  <a:pt x="10368" y="15850"/>
                </a:cubicBezTo>
                <a:cubicBezTo>
                  <a:pt x="10410" y="15804"/>
                  <a:pt x="10482" y="15756"/>
                  <a:pt x="10542" y="15751"/>
                </a:cubicBezTo>
                <a:cubicBezTo>
                  <a:pt x="10639" y="15743"/>
                  <a:pt x="10594" y="15832"/>
                  <a:pt x="10616" y="15875"/>
                </a:cubicBezTo>
                <a:cubicBezTo>
                  <a:pt x="10647" y="15937"/>
                  <a:pt x="10641" y="15999"/>
                  <a:pt x="10641" y="16073"/>
                </a:cubicBezTo>
                <a:cubicBezTo>
                  <a:pt x="10641" y="16109"/>
                  <a:pt x="10648" y="16364"/>
                  <a:pt x="10666" y="16346"/>
                </a:cubicBezTo>
                <a:cubicBezTo>
                  <a:pt x="10683" y="16321"/>
                  <a:pt x="10699" y="16297"/>
                  <a:pt x="10716" y="16272"/>
                </a:cubicBezTo>
              </a:path>
              <a:path w="2903" h="1043">
                <a:moveTo>
                  <a:pt x="10964" y="16073"/>
                </a:moveTo>
                <a:cubicBezTo>
                  <a:pt x="10986" y="16030"/>
                  <a:pt x="11032" y="16005"/>
                  <a:pt x="11088" y="15999"/>
                </a:cubicBezTo>
                <a:cubicBezTo>
                  <a:pt x="11151" y="15993"/>
                  <a:pt x="11184" y="16002"/>
                  <a:pt x="11237" y="15974"/>
                </a:cubicBezTo>
                <a:cubicBezTo>
                  <a:pt x="11329" y="15924"/>
                  <a:pt x="11266" y="15869"/>
                  <a:pt x="11212" y="15801"/>
                </a:cubicBezTo>
                <a:cubicBezTo>
                  <a:pt x="11159" y="15735"/>
                  <a:pt x="11087" y="15787"/>
                  <a:pt x="11038" y="15825"/>
                </a:cubicBezTo>
                <a:cubicBezTo>
                  <a:pt x="10992" y="15861"/>
                  <a:pt x="11005" y="15947"/>
                  <a:pt x="10988" y="15999"/>
                </a:cubicBezTo>
                <a:cubicBezTo>
                  <a:pt x="10969" y="16058"/>
                  <a:pt x="10946" y="16132"/>
                  <a:pt x="10964" y="16197"/>
                </a:cubicBezTo>
                <a:cubicBezTo>
                  <a:pt x="10974" y="16235"/>
                  <a:pt x="11025" y="16303"/>
                  <a:pt x="11063" y="16321"/>
                </a:cubicBezTo>
                <a:cubicBezTo>
                  <a:pt x="11104" y="16341"/>
                  <a:pt x="11199" y="16363"/>
                  <a:pt x="11237" y="16371"/>
                </a:cubicBezTo>
                <a:cubicBezTo>
                  <a:pt x="11287" y="16381"/>
                  <a:pt x="11412" y="16303"/>
                  <a:pt x="11435" y="16272"/>
                </a:cubicBezTo>
                <a:cubicBezTo>
                  <a:pt x="11443" y="16247"/>
                  <a:pt x="11452" y="16222"/>
                  <a:pt x="11460" y="16197"/>
                </a:cubicBezTo>
              </a:path>
              <a:path w="2903" h="1043">
                <a:moveTo>
                  <a:pt x="11683" y="15329"/>
                </a:moveTo>
                <a:cubicBezTo>
                  <a:pt x="11683" y="15643"/>
                  <a:pt x="11683" y="15958"/>
                  <a:pt x="11683" y="16272"/>
                </a:cubicBezTo>
              </a:path>
              <a:path w="2903" h="1043">
                <a:moveTo>
                  <a:pt x="11460" y="15949"/>
                </a:moveTo>
                <a:cubicBezTo>
                  <a:pt x="11493" y="15930"/>
                  <a:pt x="11567" y="15906"/>
                  <a:pt x="11609" y="15900"/>
                </a:cubicBezTo>
                <a:cubicBezTo>
                  <a:pt x="11694" y="15888"/>
                  <a:pt x="11786" y="15905"/>
                  <a:pt x="11857" y="15925"/>
                </a:cubicBezTo>
                <a:cubicBezTo>
                  <a:pt x="11881" y="15925"/>
                  <a:pt x="11890" y="15925"/>
                  <a:pt x="11906" y="15925"/>
                </a:cubicBezTo>
              </a:path>
              <a:path w="2903" h="1043">
                <a:moveTo>
                  <a:pt x="12502" y="15875"/>
                </a:moveTo>
                <a:cubicBezTo>
                  <a:pt x="12415" y="15823"/>
                  <a:pt x="12419" y="15825"/>
                  <a:pt x="12328" y="15825"/>
                </a:cubicBezTo>
                <a:cubicBezTo>
                  <a:pt x="12258" y="15825"/>
                  <a:pt x="12240" y="15892"/>
                  <a:pt x="12229" y="15949"/>
                </a:cubicBezTo>
                <a:cubicBezTo>
                  <a:pt x="12216" y="16012"/>
                  <a:pt x="12180" y="16108"/>
                  <a:pt x="12204" y="16173"/>
                </a:cubicBezTo>
                <a:cubicBezTo>
                  <a:pt x="12220" y="16216"/>
                  <a:pt x="12300" y="16301"/>
                  <a:pt x="12353" y="16297"/>
                </a:cubicBezTo>
                <a:cubicBezTo>
                  <a:pt x="12402" y="16293"/>
                  <a:pt x="12485" y="16184"/>
                  <a:pt x="12502" y="16148"/>
                </a:cubicBezTo>
                <a:cubicBezTo>
                  <a:pt x="12521" y="16107"/>
                  <a:pt x="12502" y="16018"/>
                  <a:pt x="12502" y="15974"/>
                </a:cubicBezTo>
                <a:cubicBezTo>
                  <a:pt x="12476" y="16009"/>
                  <a:pt x="12457" y="16076"/>
                  <a:pt x="12477" y="16123"/>
                </a:cubicBezTo>
                <a:cubicBezTo>
                  <a:pt x="12506" y="16189"/>
                  <a:pt x="12574" y="16279"/>
                  <a:pt x="12626" y="16321"/>
                </a:cubicBezTo>
                <a:cubicBezTo>
                  <a:pt x="12734" y="16408"/>
                  <a:pt x="12725" y="16301"/>
                  <a:pt x="12725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456160"/>
            <a:ext cx="339840" cy="438120"/>
          </a:xfrm>
          <a:custGeom>
            <a:avLst/>
            <a:gdLst/>
            <a:ahLst/>
            <a:rect l="l" t="t" r="r" b="b"/>
            <a:pathLst>
              <a:path w="943" h="1216">
                <a:moveTo>
                  <a:pt x="13469" y="15825"/>
                </a:moveTo>
                <a:cubicBezTo>
                  <a:pt x="13408" y="15758"/>
                  <a:pt x="13415" y="15682"/>
                  <a:pt x="13295" y="15726"/>
                </a:cubicBezTo>
                <a:cubicBezTo>
                  <a:pt x="13272" y="15734"/>
                  <a:pt x="13180" y="15808"/>
                  <a:pt x="13171" y="15825"/>
                </a:cubicBezTo>
                <a:cubicBezTo>
                  <a:pt x="13136" y="15889"/>
                  <a:pt x="13122" y="15997"/>
                  <a:pt x="13122" y="16073"/>
                </a:cubicBezTo>
                <a:cubicBezTo>
                  <a:pt x="13122" y="16165"/>
                  <a:pt x="13179" y="16214"/>
                  <a:pt x="13221" y="16297"/>
                </a:cubicBezTo>
                <a:cubicBezTo>
                  <a:pt x="13235" y="16324"/>
                  <a:pt x="13309" y="16390"/>
                  <a:pt x="13345" y="16371"/>
                </a:cubicBezTo>
                <a:cubicBezTo>
                  <a:pt x="13459" y="16312"/>
                  <a:pt x="13498" y="16105"/>
                  <a:pt x="13519" y="15999"/>
                </a:cubicBezTo>
                <a:cubicBezTo>
                  <a:pt x="13557" y="15803"/>
                  <a:pt x="13558" y="15647"/>
                  <a:pt x="13543" y="15453"/>
                </a:cubicBezTo>
                <a:cubicBezTo>
                  <a:pt x="13535" y="15356"/>
                  <a:pt x="13543" y="15254"/>
                  <a:pt x="13543" y="15156"/>
                </a:cubicBezTo>
                <a:cubicBezTo>
                  <a:pt x="13562" y="15226"/>
                  <a:pt x="13568" y="15277"/>
                  <a:pt x="13568" y="15354"/>
                </a:cubicBezTo>
                <a:cubicBezTo>
                  <a:pt x="13568" y="15565"/>
                  <a:pt x="13488" y="15975"/>
                  <a:pt x="13618" y="16148"/>
                </a:cubicBezTo>
              </a:path>
              <a:path w="943" h="1216">
                <a:moveTo>
                  <a:pt x="13965" y="15925"/>
                </a:moveTo>
                <a:cubicBezTo>
                  <a:pt x="13965" y="15988"/>
                  <a:pt x="13946" y="16036"/>
                  <a:pt x="13940" y="16098"/>
                </a:cubicBezTo>
                <a:cubicBezTo>
                  <a:pt x="13936" y="16137"/>
                  <a:pt x="13940" y="16184"/>
                  <a:pt x="13940" y="16222"/>
                </a:cubicBezTo>
                <a:cubicBezTo>
                  <a:pt x="13940" y="16131"/>
                  <a:pt x="13940" y="16107"/>
                  <a:pt x="13940" y="16049"/>
                </a:cubicBezTo>
              </a:path>
              <a:path w="943" h="1216">
                <a:moveTo>
                  <a:pt x="14064" y="15404"/>
                </a:moveTo>
                <a:cubicBezTo>
                  <a:pt x="13982" y="15404"/>
                  <a:pt x="13990" y="15445"/>
                  <a:pt x="13990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7320" y="5491080"/>
            <a:ext cx="911520" cy="50184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14461" y="15925"/>
                </a:moveTo>
                <a:cubicBezTo>
                  <a:pt x="14461" y="16046"/>
                  <a:pt x="14483" y="16186"/>
                  <a:pt x="14436" y="16297"/>
                </a:cubicBezTo>
                <a:cubicBezTo>
                  <a:pt x="14445" y="16227"/>
                  <a:pt x="14461" y="16172"/>
                  <a:pt x="14461" y="16098"/>
                </a:cubicBezTo>
                <a:cubicBezTo>
                  <a:pt x="14461" y="16027"/>
                  <a:pt x="14441" y="15876"/>
                  <a:pt x="14511" y="15825"/>
                </a:cubicBezTo>
                <a:cubicBezTo>
                  <a:pt x="14633" y="15736"/>
                  <a:pt x="14632" y="15865"/>
                  <a:pt x="14660" y="15925"/>
                </a:cubicBezTo>
                <a:cubicBezTo>
                  <a:pt x="14695" y="15999"/>
                  <a:pt x="14700" y="16052"/>
                  <a:pt x="14734" y="16123"/>
                </a:cubicBezTo>
                <a:cubicBezTo>
                  <a:pt x="14742" y="16140"/>
                  <a:pt x="14751" y="16156"/>
                  <a:pt x="14759" y="16173"/>
                </a:cubicBezTo>
                <a:cubicBezTo>
                  <a:pt x="14759" y="16099"/>
                  <a:pt x="14813" y="16095"/>
                  <a:pt x="14833" y="16024"/>
                </a:cubicBezTo>
                <a:cubicBezTo>
                  <a:pt x="14858" y="15935"/>
                  <a:pt x="14883" y="15882"/>
                  <a:pt x="14932" y="15801"/>
                </a:cubicBezTo>
                <a:cubicBezTo>
                  <a:pt x="14956" y="15753"/>
                  <a:pt x="14962" y="15736"/>
                  <a:pt x="15007" y="15751"/>
                </a:cubicBezTo>
                <a:cubicBezTo>
                  <a:pt x="15015" y="15819"/>
                  <a:pt x="15032" y="15879"/>
                  <a:pt x="15032" y="15949"/>
                </a:cubicBezTo>
                <a:cubicBezTo>
                  <a:pt x="15032" y="16022"/>
                  <a:pt x="15014" y="16115"/>
                  <a:pt x="15056" y="16173"/>
                </a:cubicBezTo>
              </a:path>
              <a:path w="2531" h="1390">
                <a:moveTo>
                  <a:pt x="15354" y="15925"/>
                </a:moveTo>
                <a:cubicBezTo>
                  <a:pt x="15364" y="15954"/>
                  <a:pt x="15412" y="15969"/>
                  <a:pt x="15453" y="15949"/>
                </a:cubicBezTo>
                <a:cubicBezTo>
                  <a:pt x="15484" y="15934"/>
                  <a:pt x="15523" y="15860"/>
                  <a:pt x="15503" y="15825"/>
                </a:cubicBezTo>
                <a:cubicBezTo>
                  <a:pt x="15475" y="15775"/>
                  <a:pt x="15445" y="15714"/>
                  <a:pt x="15379" y="15726"/>
                </a:cubicBezTo>
                <a:cubicBezTo>
                  <a:pt x="15285" y="15743"/>
                  <a:pt x="15249" y="15811"/>
                  <a:pt x="15230" y="15900"/>
                </a:cubicBezTo>
                <a:cubicBezTo>
                  <a:pt x="15215" y="15971"/>
                  <a:pt x="15188" y="16030"/>
                  <a:pt x="15230" y="16098"/>
                </a:cubicBezTo>
                <a:cubicBezTo>
                  <a:pt x="15269" y="16161"/>
                  <a:pt x="15366" y="16190"/>
                  <a:pt x="15429" y="16222"/>
                </a:cubicBezTo>
                <a:cubicBezTo>
                  <a:pt x="15482" y="16249"/>
                  <a:pt x="15537" y="16307"/>
                  <a:pt x="15577" y="16272"/>
                </a:cubicBezTo>
                <a:cubicBezTo>
                  <a:pt x="15594" y="16255"/>
                  <a:pt x="15610" y="16239"/>
                  <a:pt x="15627" y="16222"/>
                </a:cubicBezTo>
              </a:path>
              <a:path w="2531" h="1390">
                <a:moveTo>
                  <a:pt x="15850" y="15379"/>
                </a:moveTo>
                <a:cubicBezTo>
                  <a:pt x="15820" y="15419"/>
                  <a:pt x="15811" y="15473"/>
                  <a:pt x="15825" y="15528"/>
                </a:cubicBezTo>
                <a:cubicBezTo>
                  <a:pt x="15847" y="15614"/>
                  <a:pt x="15875" y="15631"/>
                  <a:pt x="15875" y="15726"/>
                </a:cubicBezTo>
                <a:cubicBezTo>
                  <a:pt x="15875" y="15753"/>
                  <a:pt x="15861" y="16131"/>
                  <a:pt x="15850" y="16123"/>
                </a:cubicBezTo>
                <a:cubicBezTo>
                  <a:pt x="15842" y="16106"/>
                  <a:pt x="15833" y="16090"/>
                  <a:pt x="15825" y="16073"/>
                </a:cubicBezTo>
              </a:path>
              <a:path w="2531" h="1390">
                <a:moveTo>
                  <a:pt x="15577" y="15875"/>
                </a:moveTo>
                <a:cubicBezTo>
                  <a:pt x="15732" y="15875"/>
                  <a:pt x="15957" y="15920"/>
                  <a:pt x="16098" y="15850"/>
                </a:cubicBezTo>
                <a:cubicBezTo>
                  <a:pt x="16187" y="15806"/>
                  <a:pt x="16298" y="15701"/>
                  <a:pt x="16321" y="15602"/>
                </a:cubicBezTo>
                <a:cubicBezTo>
                  <a:pt x="16344" y="15504"/>
                  <a:pt x="16327" y="15365"/>
                  <a:pt x="16272" y="15280"/>
                </a:cubicBezTo>
                <a:cubicBezTo>
                  <a:pt x="16264" y="15272"/>
                  <a:pt x="16255" y="15263"/>
                  <a:pt x="16247" y="15255"/>
                </a:cubicBezTo>
                <a:cubicBezTo>
                  <a:pt x="16168" y="15379"/>
                  <a:pt x="16196" y="15413"/>
                  <a:pt x="16173" y="15553"/>
                </a:cubicBezTo>
                <a:cubicBezTo>
                  <a:pt x="16157" y="15648"/>
                  <a:pt x="16148" y="15725"/>
                  <a:pt x="16148" y="15825"/>
                </a:cubicBezTo>
                <a:cubicBezTo>
                  <a:pt x="16148" y="15888"/>
                  <a:pt x="16117" y="16087"/>
                  <a:pt x="16148" y="15999"/>
                </a:cubicBezTo>
                <a:cubicBezTo>
                  <a:pt x="16175" y="15923"/>
                  <a:pt x="16196" y="15870"/>
                  <a:pt x="16247" y="15825"/>
                </a:cubicBezTo>
                <a:cubicBezTo>
                  <a:pt x="16318" y="15761"/>
                  <a:pt x="16315" y="15860"/>
                  <a:pt x="16346" y="15900"/>
                </a:cubicBezTo>
                <a:cubicBezTo>
                  <a:pt x="16366" y="15926"/>
                  <a:pt x="16415" y="16017"/>
                  <a:pt x="16421" y="16049"/>
                </a:cubicBezTo>
                <a:cubicBezTo>
                  <a:pt x="16430" y="16095"/>
                  <a:pt x="16417" y="16114"/>
                  <a:pt x="16396" y="16148"/>
                </a:cubicBezTo>
              </a:path>
              <a:path w="2531" h="1390">
                <a:moveTo>
                  <a:pt x="16594" y="15900"/>
                </a:moveTo>
                <a:cubicBezTo>
                  <a:pt x="16610" y="15940"/>
                  <a:pt x="16641" y="16007"/>
                  <a:pt x="16669" y="16049"/>
                </a:cubicBezTo>
                <a:cubicBezTo>
                  <a:pt x="16705" y="16103"/>
                  <a:pt x="16779" y="16070"/>
                  <a:pt x="16818" y="16049"/>
                </a:cubicBezTo>
                <a:cubicBezTo>
                  <a:pt x="16911" y="15999"/>
                  <a:pt x="16917" y="15951"/>
                  <a:pt x="16917" y="15850"/>
                </a:cubicBezTo>
                <a:cubicBezTo>
                  <a:pt x="16917" y="15834"/>
                  <a:pt x="16917" y="15817"/>
                  <a:pt x="16917" y="15801"/>
                </a:cubicBezTo>
                <a:cubicBezTo>
                  <a:pt x="16917" y="15734"/>
                  <a:pt x="16917" y="15839"/>
                  <a:pt x="16917" y="15850"/>
                </a:cubicBezTo>
                <a:cubicBezTo>
                  <a:pt x="16917" y="15944"/>
                  <a:pt x="16963" y="16004"/>
                  <a:pt x="16966" y="16098"/>
                </a:cubicBezTo>
                <a:cubicBezTo>
                  <a:pt x="16971" y="16225"/>
                  <a:pt x="16984" y="16384"/>
                  <a:pt x="16942" y="16495"/>
                </a:cubicBezTo>
                <a:cubicBezTo>
                  <a:pt x="16903" y="16599"/>
                  <a:pt x="16863" y="16634"/>
                  <a:pt x="16743" y="16644"/>
                </a:cubicBezTo>
                <a:cubicBezTo>
                  <a:pt x="16649" y="16652"/>
                  <a:pt x="16602" y="16634"/>
                  <a:pt x="16520" y="16594"/>
                </a:cubicBezTo>
                <a:cubicBezTo>
                  <a:pt x="16439" y="16554"/>
                  <a:pt x="16452" y="16458"/>
                  <a:pt x="16446" y="163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32680" y="5464080"/>
            <a:ext cx="18720" cy="304920"/>
          </a:xfrm>
          <a:custGeom>
            <a:avLst/>
            <a:gdLst/>
            <a:ahLst/>
            <a:rect l="l" t="t" r="r" b="b"/>
            <a:pathLst>
              <a:path w="50" h="845">
                <a:moveTo>
                  <a:pt x="17363" y="15180"/>
                </a:moveTo>
                <a:cubicBezTo>
                  <a:pt x="17306" y="15248"/>
                  <a:pt x="17314" y="15245"/>
                  <a:pt x="17314" y="15329"/>
                </a:cubicBezTo>
                <a:cubicBezTo>
                  <a:pt x="17314" y="15397"/>
                  <a:pt x="17320" y="15439"/>
                  <a:pt x="17338" y="15503"/>
                </a:cubicBezTo>
                <a:cubicBezTo>
                  <a:pt x="17369" y="15612"/>
                  <a:pt x="17363" y="15713"/>
                  <a:pt x="17363" y="15825"/>
                </a:cubicBezTo>
                <a:cubicBezTo>
                  <a:pt x="17363" y="15891"/>
                  <a:pt x="17363" y="15958"/>
                  <a:pt x="17363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37000" y="6045120"/>
            <a:ext cx="1579680" cy="393840"/>
          </a:xfrm>
          <a:custGeom>
            <a:avLst/>
            <a:gdLst/>
            <a:ahLst/>
            <a:rect l="l" t="t" r="r" b="b"/>
            <a:pathLst>
              <a:path w="4391" h="1092">
                <a:moveTo>
                  <a:pt x="9971" y="16793"/>
                </a:moveTo>
                <a:cubicBezTo>
                  <a:pt x="9971" y="16876"/>
                  <a:pt x="9956" y="16937"/>
                  <a:pt x="9947" y="17016"/>
                </a:cubicBezTo>
                <a:cubicBezTo>
                  <a:pt x="9935" y="17123"/>
                  <a:pt x="9916" y="17209"/>
                  <a:pt x="9897" y="17314"/>
                </a:cubicBezTo>
                <a:cubicBezTo>
                  <a:pt x="9884" y="17385"/>
                  <a:pt x="9889" y="17467"/>
                  <a:pt x="9872" y="17537"/>
                </a:cubicBezTo>
                <a:cubicBezTo>
                  <a:pt x="9864" y="17554"/>
                  <a:pt x="9855" y="17570"/>
                  <a:pt x="9847" y="17587"/>
                </a:cubicBezTo>
                <a:cubicBezTo>
                  <a:pt x="9827" y="17518"/>
                  <a:pt x="9823" y="17483"/>
                  <a:pt x="9823" y="17413"/>
                </a:cubicBezTo>
                <a:cubicBezTo>
                  <a:pt x="9823" y="17354"/>
                  <a:pt x="9847" y="17282"/>
                  <a:pt x="9897" y="17239"/>
                </a:cubicBezTo>
                <a:cubicBezTo>
                  <a:pt x="9958" y="17187"/>
                  <a:pt x="10022" y="17217"/>
                  <a:pt x="10071" y="17264"/>
                </a:cubicBezTo>
                <a:cubicBezTo>
                  <a:pt x="10118" y="17308"/>
                  <a:pt x="10242" y="17373"/>
                  <a:pt x="10269" y="17413"/>
                </a:cubicBezTo>
                <a:cubicBezTo>
                  <a:pt x="10300" y="17460"/>
                  <a:pt x="10250" y="17539"/>
                  <a:pt x="10220" y="17562"/>
                </a:cubicBezTo>
                <a:cubicBezTo>
                  <a:pt x="10136" y="17625"/>
                  <a:pt x="10072" y="17636"/>
                  <a:pt x="9971" y="17636"/>
                </a:cubicBezTo>
                <a:cubicBezTo>
                  <a:pt x="9924" y="17636"/>
                  <a:pt x="9847" y="17630"/>
                  <a:pt x="9847" y="17562"/>
                </a:cubicBezTo>
                <a:cubicBezTo>
                  <a:pt x="9869" y="17518"/>
                  <a:pt x="9872" y="17506"/>
                  <a:pt x="9897" y="17487"/>
                </a:cubicBezTo>
              </a:path>
              <a:path w="4391" h="1092">
                <a:moveTo>
                  <a:pt x="10393" y="17413"/>
                </a:moveTo>
                <a:cubicBezTo>
                  <a:pt x="10463" y="17373"/>
                  <a:pt x="10472" y="17384"/>
                  <a:pt x="10542" y="17363"/>
                </a:cubicBezTo>
                <a:cubicBezTo>
                  <a:pt x="10582" y="17343"/>
                  <a:pt x="10589" y="17334"/>
                  <a:pt x="10616" y="17338"/>
                </a:cubicBezTo>
                <a:cubicBezTo>
                  <a:pt x="10607" y="17270"/>
                  <a:pt x="10587" y="17252"/>
                  <a:pt x="10542" y="17214"/>
                </a:cubicBezTo>
                <a:cubicBezTo>
                  <a:pt x="10494" y="17174"/>
                  <a:pt x="10410" y="17118"/>
                  <a:pt x="10368" y="17214"/>
                </a:cubicBezTo>
                <a:cubicBezTo>
                  <a:pt x="10342" y="17272"/>
                  <a:pt x="10322" y="17345"/>
                  <a:pt x="10319" y="17413"/>
                </a:cubicBezTo>
                <a:cubicBezTo>
                  <a:pt x="10314" y="17511"/>
                  <a:pt x="10306" y="17563"/>
                  <a:pt x="10368" y="17636"/>
                </a:cubicBezTo>
                <a:cubicBezTo>
                  <a:pt x="10418" y="17696"/>
                  <a:pt x="10515" y="17745"/>
                  <a:pt x="10592" y="17735"/>
                </a:cubicBezTo>
                <a:cubicBezTo>
                  <a:pt x="10653" y="17727"/>
                  <a:pt x="10717" y="17700"/>
                  <a:pt x="10765" y="17661"/>
                </a:cubicBezTo>
              </a:path>
              <a:path w="4391" h="1092">
                <a:moveTo>
                  <a:pt x="10889" y="17239"/>
                </a:moveTo>
                <a:cubicBezTo>
                  <a:pt x="10861" y="17276"/>
                  <a:pt x="10847" y="17337"/>
                  <a:pt x="10864" y="17388"/>
                </a:cubicBezTo>
                <a:cubicBezTo>
                  <a:pt x="10885" y="17451"/>
                  <a:pt x="10889" y="17485"/>
                  <a:pt x="10889" y="17562"/>
                </a:cubicBezTo>
                <a:cubicBezTo>
                  <a:pt x="10889" y="17587"/>
                  <a:pt x="10889" y="17611"/>
                  <a:pt x="10889" y="17636"/>
                </a:cubicBezTo>
                <a:cubicBezTo>
                  <a:pt x="10889" y="17769"/>
                  <a:pt x="10889" y="17595"/>
                  <a:pt x="10889" y="17562"/>
                </a:cubicBezTo>
                <a:cubicBezTo>
                  <a:pt x="10889" y="17456"/>
                  <a:pt x="10868" y="17391"/>
                  <a:pt x="10939" y="17314"/>
                </a:cubicBezTo>
                <a:cubicBezTo>
                  <a:pt x="10983" y="17266"/>
                  <a:pt x="10998" y="17264"/>
                  <a:pt x="11063" y="17264"/>
                </a:cubicBezTo>
                <a:cubicBezTo>
                  <a:pt x="11143" y="17264"/>
                  <a:pt x="11176" y="17259"/>
                  <a:pt x="11237" y="17314"/>
                </a:cubicBezTo>
                <a:cubicBezTo>
                  <a:pt x="11277" y="17350"/>
                  <a:pt x="11261" y="17412"/>
                  <a:pt x="11261" y="17462"/>
                </a:cubicBezTo>
                <a:cubicBezTo>
                  <a:pt x="11261" y="17517"/>
                  <a:pt x="11231" y="17711"/>
                  <a:pt x="11311" y="17711"/>
                </a:cubicBezTo>
                <a:cubicBezTo>
                  <a:pt x="11311" y="17703"/>
                  <a:pt x="11311" y="17694"/>
                  <a:pt x="11311" y="17686"/>
                </a:cubicBezTo>
              </a:path>
              <a:path w="4391" h="1092">
                <a:moveTo>
                  <a:pt x="11633" y="17264"/>
                </a:moveTo>
                <a:cubicBezTo>
                  <a:pt x="11653" y="17234"/>
                  <a:pt x="11725" y="17218"/>
                  <a:pt x="11782" y="17214"/>
                </a:cubicBezTo>
                <a:cubicBezTo>
                  <a:pt x="11843" y="17210"/>
                  <a:pt x="11882" y="17213"/>
                  <a:pt x="11931" y="17239"/>
                </a:cubicBezTo>
                <a:cubicBezTo>
                  <a:pt x="11948" y="17247"/>
                  <a:pt x="11964" y="17256"/>
                  <a:pt x="11981" y="17264"/>
                </a:cubicBezTo>
                <a:cubicBezTo>
                  <a:pt x="11951" y="17331"/>
                  <a:pt x="11909" y="17399"/>
                  <a:pt x="11881" y="17462"/>
                </a:cubicBezTo>
                <a:cubicBezTo>
                  <a:pt x="11858" y="17514"/>
                  <a:pt x="11795" y="17611"/>
                  <a:pt x="11782" y="17661"/>
                </a:cubicBezTo>
                <a:cubicBezTo>
                  <a:pt x="11782" y="17706"/>
                  <a:pt x="11786" y="17719"/>
                  <a:pt x="11757" y="17735"/>
                </a:cubicBezTo>
                <a:cubicBezTo>
                  <a:pt x="11827" y="17758"/>
                  <a:pt x="11882" y="17760"/>
                  <a:pt x="11956" y="17760"/>
                </a:cubicBezTo>
                <a:cubicBezTo>
                  <a:pt x="12055" y="17760"/>
                  <a:pt x="12155" y="17760"/>
                  <a:pt x="12254" y="17760"/>
                </a:cubicBezTo>
              </a:path>
              <a:path w="4391" h="1092">
                <a:moveTo>
                  <a:pt x="12402" y="17537"/>
                </a:moveTo>
                <a:cubicBezTo>
                  <a:pt x="12459" y="17480"/>
                  <a:pt x="12456" y="17508"/>
                  <a:pt x="12526" y="17487"/>
                </a:cubicBezTo>
                <a:cubicBezTo>
                  <a:pt x="12608" y="17463"/>
                  <a:pt x="12649" y="17404"/>
                  <a:pt x="12675" y="17363"/>
                </a:cubicBezTo>
                <a:cubicBezTo>
                  <a:pt x="12696" y="17329"/>
                  <a:pt x="12692" y="17246"/>
                  <a:pt x="12650" y="17214"/>
                </a:cubicBezTo>
                <a:cubicBezTo>
                  <a:pt x="12597" y="17173"/>
                  <a:pt x="12555" y="17189"/>
                  <a:pt x="12502" y="17214"/>
                </a:cubicBezTo>
                <a:cubicBezTo>
                  <a:pt x="12423" y="17251"/>
                  <a:pt x="12376" y="17291"/>
                  <a:pt x="12328" y="17363"/>
                </a:cubicBezTo>
                <a:cubicBezTo>
                  <a:pt x="12289" y="17421"/>
                  <a:pt x="12303" y="17496"/>
                  <a:pt x="12303" y="17562"/>
                </a:cubicBezTo>
                <a:cubicBezTo>
                  <a:pt x="12303" y="17623"/>
                  <a:pt x="12386" y="17677"/>
                  <a:pt x="12427" y="17711"/>
                </a:cubicBezTo>
                <a:cubicBezTo>
                  <a:pt x="12500" y="17771"/>
                  <a:pt x="12505" y="17785"/>
                  <a:pt x="12601" y="17785"/>
                </a:cubicBezTo>
                <a:cubicBezTo>
                  <a:pt x="12614" y="17785"/>
                  <a:pt x="12743" y="17765"/>
                  <a:pt x="12750" y="17760"/>
                </a:cubicBezTo>
                <a:cubicBezTo>
                  <a:pt x="12758" y="17744"/>
                  <a:pt x="12766" y="17727"/>
                  <a:pt x="12774" y="17711"/>
                </a:cubicBezTo>
              </a:path>
              <a:path w="4391" h="1092">
                <a:moveTo>
                  <a:pt x="12824" y="17289"/>
                </a:moveTo>
                <a:cubicBezTo>
                  <a:pt x="12832" y="17351"/>
                  <a:pt x="12870" y="17402"/>
                  <a:pt x="12874" y="17462"/>
                </a:cubicBezTo>
                <a:cubicBezTo>
                  <a:pt x="12881" y="17560"/>
                  <a:pt x="12874" y="17661"/>
                  <a:pt x="12874" y="17760"/>
                </a:cubicBezTo>
                <a:cubicBezTo>
                  <a:pt x="12874" y="17601"/>
                  <a:pt x="12857" y="17447"/>
                  <a:pt x="12923" y="17314"/>
                </a:cubicBezTo>
                <a:cubicBezTo>
                  <a:pt x="12937" y="17286"/>
                  <a:pt x="13006" y="17225"/>
                  <a:pt x="13047" y="17214"/>
                </a:cubicBezTo>
                <a:cubicBezTo>
                  <a:pt x="13120" y="17194"/>
                  <a:pt x="13140" y="17249"/>
                  <a:pt x="13196" y="17264"/>
                </a:cubicBezTo>
                <a:cubicBezTo>
                  <a:pt x="13266" y="17283"/>
                  <a:pt x="13291" y="17309"/>
                  <a:pt x="13295" y="17388"/>
                </a:cubicBezTo>
                <a:cubicBezTo>
                  <a:pt x="13301" y="17503"/>
                  <a:pt x="13297" y="17605"/>
                  <a:pt x="13271" y="17711"/>
                </a:cubicBezTo>
                <a:cubicBezTo>
                  <a:pt x="13271" y="17735"/>
                  <a:pt x="13271" y="17744"/>
                  <a:pt x="13271" y="17760"/>
                </a:cubicBezTo>
              </a:path>
              <a:path w="4391" h="1092">
                <a:moveTo>
                  <a:pt x="13643" y="17462"/>
                </a:moveTo>
                <a:cubicBezTo>
                  <a:pt x="13748" y="17462"/>
                  <a:pt x="13782" y="17443"/>
                  <a:pt x="13866" y="17413"/>
                </a:cubicBezTo>
                <a:cubicBezTo>
                  <a:pt x="13920" y="17394"/>
                  <a:pt x="13966" y="17391"/>
                  <a:pt x="14015" y="17363"/>
                </a:cubicBezTo>
                <a:cubicBezTo>
                  <a:pt x="14086" y="17322"/>
                  <a:pt x="14069" y="17300"/>
                  <a:pt x="14015" y="17239"/>
                </a:cubicBezTo>
                <a:cubicBezTo>
                  <a:pt x="13970" y="17188"/>
                  <a:pt x="13934" y="17169"/>
                  <a:pt x="13866" y="17165"/>
                </a:cubicBezTo>
                <a:cubicBezTo>
                  <a:pt x="13786" y="17161"/>
                  <a:pt x="13776" y="17190"/>
                  <a:pt x="13717" y="17239"/>
                </a:cubicBezTo>
                <a:cubicBezTo>
                  <a:pt x="13667" y="17280"/>
                  <a:pt x="13643" y="17326"/>
                  <a:pt x="13643" y="17388"/>
                </a:cubicBezTo>
                <a:cubicBezTo>
                  <a:pt x="13643" y="17456"/>
                  <a:pt x="13625" y="17534"/>
                  <a:pt x="13667" y="17587"/>
                </a:cubicBezTo>
                <a:cubicBezTo>
                  <a:pt x="13712" y="17644"/>
                  <a:pt x="13765" y="17689"/>
                  <a:pt x="13816" y="17735"/>
                </a:cubicBezTo>
                <a:cubicBezTo>
                  <a:pt x="13864" y="17779"/>
                  <a:pt x="13950" y="17804"/>
                  <a:pt x="14015" y="17835"/>
                </a:cubicBezTo>
                <a:cubicBezTo>
                  <a:pt x="14064" y="17859"/>
                  <a:pt x="14081" y="17867"/>
                  <a:pt x="14114" y="17884"/>
                </a:cubicBezTo>
                <a:cubicBezTo>
                  <a:pt x="14155" y="17825"/>
                  <a:pt x="14199" y="17780"/>
                  <a:pt x="14213" y="177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8280" y="1857240"/>
            <a:ext cx="214560" cy="312840"/>
          </a:xfrm>
          <a:custGeom>
            <a:avLst/>
            <a:gdLst/>
            <a:ahLst/>
            <a:rect l="l" t="t" r="r" b="b"/>
            <a:pathLst>
              <a:path w="596" h="870">
                <a:moveTo>
                  <a:pt x="496" y="5482"/>
                </a:moveTo>
                <a:cubicBezTo>
                  <a:pt x="496" y="5427"/>
                  <a:pt x="496" y="5380"/>
                  <a:pt x="496" y="5457"/>
                </a:cubicBezTo>
                <a:cubicBezTo>
                  <a:pt x="496" y="5552"/>
                  <a:pt x="495" y="5624"/>
                  <a:pt x="471" y="5705"/>
                </a:cubicBezTo>
                <a:cubicBezTo>
                  <a:pt x="471" y="5738"/>
                  <a:pt x="471" y="5738"/>
                  <a:pt x="471" y="5680"/>
                </a:cubicBezTo>
              </a:path>
              <a:path w="596" h="870">
                <a:moveTo>
                  <a:pt x="546" y="5159"/>
                </a:moveTo>
                <a:cubicBezTo>
                  <a:pt x="436" y="5252"/>
                  <a:pt x="431" y="5283"/>
                  <a:pt x="372" y="5407"/>
                </a:cubicBezTo>
                <a:cubicBezTo>
                  <a:pt x="342" y="5470"/>
                  <a:pt x="347" y="5524"/>
                  <a:pt x="322" y="5581"/>
                </a:cubicBezTo>
                <a:cubicBezTo>
                  <a:pt x="305" y="5620"/>
                  <a:pt x="286" y="5666"/>
                  <a:pt x="273" y="5705"/>
                </a:cubicBezTo>
                <a:cubicBezTo>
                  <a:pt x="256" y="5756"/>
                  <a:pt x="269" y="5868"/>
                  <a:pt x="298" y="5904"/>
                </a:cubicBezTo>
                <a:cubicBezTo>
                  <a:pt x="331" y="5946"/>
                  <a:pt x="425" y="6007"/>
                  <a:pt x="471" y="6028"/>
                </a:cubicBezTo>
                <a:cubicBezTo>
                  <a:pt x="538" y="6059"/>
                  <a:pt x="617" y="6014"/>
                  <a:pt x="670" y="6003"/>
                </a:cubicBezTo>
                <a:cubicBezTo>
                  <a:pt x="754" y="5985"/>
                  <a:pt x="782" y="6034"/>
                  <a:pt x="843" y="5953"/>
                </a:cubicBezTo>
                <a:cubicBezTo>
                  <a:pt x="882" y="5901"/>
                  <a:pt x="868" y="5840"/>
                  <a:pt x="868" y="5779"/>
                </a:cubicBezTo>
                <a:cubicBezTo>
                  <a:pt x="868" y="5701"/>
                  <a:pt x="839" y="5654"/>
                  <a:pt x="819" y="5581"/>
                </a:cubicBezTo>
                <a:cubicBezTo>
                  <a:pt x="804" y="5526"/>
                  <a:pt x="812" y="5461"/>
                  <a:pt x="794" y="5407"/>
                </a:cubicBezTo>
                <a:cubicBezTo>
                  <a:pt x="777" y="5357"/>
                  <a:pt x="726" y="5297"/>
                  <a:pt x="695" y="5259"/>
                </a:cubicBezTo>
                <a:cubicBezTo>
                  <a:pt x="662" y="5217"/>
                  <a:pt x="639" y="5154"/>
                  <a:pt x="595" y="5184"/>
                </a:cubicBezTo>
                <a:cubicBezTo>
                  <a:pt x="587" y="5201"/>
                  <a:pt x="579" y="5217"/>
                  <a:pt x="571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00" y="3384720"/>
            <a:ext cx="303120" cy="268200"/>
          </a:xfrm>
          <a:custGeom>
            <a:avLst/>
            <a:gdLst/>
            <a:ahLst/>
            <a:rect l="l" t="t" r="r" b="b"/>
            <a:pathLst>
              <a:path w="845" h="745">
                <a:moveTo>
                  <a:pt x="620" y="9649"/>
                </a:moveTo>
                <a:cubicBezTo>
                  <a:pt x="653" y="9609"/>
                  <a:pt x="680" y="9576"/>
                  <a:pt x="744" y="9599"/>
                </a:cubicBezTo>
                <a:cubicBezTo>
                  <a:pt x="778" y="9611"/>
                  <a:pt x="869" y="9674"/>
                  <a:pt x="819" y="9723"/>
                </a:cubicBezTo>
                <a:cubicBezTo>
                  <a:pt x="765" y="9776"/>
                  <a:pt x="704" y="9816"/>
                  <a:pt x="645" y="9872"/>
                </a:cubicBezTo>
                <a:cubicBezTo>
                  <a:pt x="609" y="9906"/>
                  <a:pt x="507" y="9947"/>
                  <a:pt x="546" y="9947"/>
                </a:cubicBezTo>
                <a:cubicBezTo>
                  <a:pt x="596" y="9947"/>
                  <a:pt x="630" y="9939"/>
                  <a:pt x="670" y="9971"/>
                </a:cubicBezTo>
                <a:cubicBezTo>
                  <a:pt x="730" y="10018"/>
                  <a:pt x="763" y="10076"/>
                  <a:pt x="819" y="9996"/>
                </a:cubicBezTo>
                <a:cubicBezTo>
                  <a:pt x="819" y="9988"/>
                  <a:pt x="819" y="9979"/>
                  <a:pt x="819" y="9971"/>
                </a:cubicBezTo>
              </a:path>
              <a:path w="845" h="745">
                <a:moveTo>
                  <a:pt x="645" y="9401"/>
                </a:moveTo>
                <a:cubicBezTo>
                  <a:pt x="569" y="9401"/>
                  <a:pt x="464" y="9384"/>
                  <a:pt x="397" y="9426"/>
                </a:cubicBezTo>
                <a:cubicBezTo>
                  <a:pt x="334" y="9465"/>
                  <a:pt x="333" y="9517"/>
                  <a:pt x="298" y="9575"/>
                </a:cubicBezTo>
                <a:cubicBezTo>
                  <a:pt x="266" y="9629"/>
                  <a:pt x="268" y="9640"/>
                  <a:pt x="248" y="9699"/>
                </a:cubicBezTo>
                <a:cubicBezTo>
                  <a:pt x="226" y="9765"/>
                  <a:pt x="223" y="9798"/>
                  <a:pt x="223" y="9872"/>
                </a:cubicBezTo>
                <a:cubicBezTo>
                  <a:pt x="223" y="9940"/>
                  <a:pt x="238" y="9955"/>
                  <a:pt x="273" y="9996"/>
                </a:cubicBezTo>
                <a:cubicBezTo>
                  <a:pt x="309" y="10038"/>
                  <a:pt x="370" y="10100"/>
                  <a:pt x="422" y="10120"/>
                </a:cubicBezTo>
                <a:cubicBezTo>
                  <a:pt x="461" y="10135"/>
                  <a:pt x="502" y="10145"/>
                  <a:pt x="546" y="10145"/>
                </a:cubicBezTo>
                <a:cubicBezTo>
                  <a:pt x="615" y="10145"/>
                  <a:pt x="663" y="10149"/>
                  <a:pt x="719" y="10120"/>
                </a:cubicBezTo>
                <a:cubicBezTo>
                  <a:pt x="771" y="10093"/>
                  <a:pt x="822" y="10072"/>
                  <a:pt x="868" y="10046"/>
                </a:cubicBezTo>
                <a:cubicBezTo>
                  <a:pt x="944" y="10002"/>
                  <a:pt x="953" y="9978"/>
                  <a:pt x="992" y="9922"/>
                </a:cubicBezTo>
                <a:cubicBezTo>
                  <a:pt x="1052" y="9838"/>
                  <a:pt x="1067" y="9857"/>
                  <a:pt x="1067" y="9748"/>
                </a:cubicBezTo>
                <a:cubicBezTo>
                  <a:pt x="1067" y="9644"/>
                  <a:pt x="1069" y="9641"/>
                  <a:pt x="1017" y="9575"/>
                </a:cubicBezTo>
                <a:cubicBezTo>
                  <a:pt x="952" y="9493"/>
                  <a:pt x="962" y="9507"/>
                  <a:pt x="868" y="9451"/>
                </a:cubicBezTo>
                <a:cubicBezTo>
                  <a:pt x="826" y="9426"/>
                  <a:pt x="776" y="9410"/>
                  <a:pt x="719" y="9426"/>
                </a:cubicBezTo>
                <a:cubicBezTo>
                  <a:pt x="666" y="9441"/>
                  <a:pt x="549" y="9530"/>
                  <a:pt x="595" y="9500"/>
                </a:cubicBezTo>
                <a:cubicBezTo>
                  <a:pt x="603" y="9492"/>
                  <a:pt x="612" y="9483"/>
                  <a:pt x="620" y="94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80" y="4214880"/>
            <a:ext cx="37656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546" y="11981"/>
                </a:moveTo>
                <a:cubicBezTo>
                  <a:pt x="538" y="11964"/>
                  <a:pt x="529" y="11948"/>
                  <a:pt x="521" y="11931"/>
                </a:cubicBezTo>
                <a:cubicBezTo>
                  <a:pt x="574" y="11931"/>
                  <a:pt x="591" y="11911"/>
                  <a:pt x="645" y="11906"/>
                </a:cubicBezTo>
                <a:cubicBezTo>
                  <a:pt x="709" y="11901"/>
                  <a:pt x="787" y="11914"/>
                  <a:pt x="819" y="11981"/>
                </a:cubicBezTo>
                <a:cubicBezTo>
                  <a:pt x="852" y="12050"/>
                  <a:pt x="752" y="12135"/>
                  <a:pt x="695" y="12154"/>
                </a:cubicBezTo>
                <a:cubicBezTo>
                  <a:pt x="652" y="12168"/>
                  <a:pt x="629" y="12141"/>
                  <a:pt x="695" y="12179"/>
                </a:cubicBezTo>
                <a:cubicBezTo>
                  <a:pt x="717" y="12192"/>
                  <a:pt x="818" y="12266"/>
                  <a:pt x="794" y="12303"/>
                </a:cubicBezTo>
                <a:cubicBezTo>
                  <a:pt x="765" y="12349"/>
                  <a:pt x="644" y="12412"/>
                  <a:pt x="595" y="12427"/>
                </a:cubicBezTo>
                <a:cubicBezTo>
                  <a:pt x="529" y="12447"/>
                  <a:pt x="471" y="12412"/>
                  <a:pt x="446" y="12353"/>
                </a:cubicBezTo>
                <a:cubicBezTo>
                  <a:pt x="446" y="12345"/>
                  <a:pt x="446" y="12336"/>
                  <a:pt x="446" y="12328"/>
                </a:cubicBezTo>
              </a:path>
              <a:path w="1043" h="819">
                <a:moveTo>
                  <a:pt x="645" y="11757"/>
                </a:moveTo>
                <a:cubicBezTo>
                  <a:pt x="582" y="11748"/>
                  <a:pt x="517" y="11711"/>
                  <a:pt x="446" y="11733"/>
                </a:cubicBezTo>
                <a:cubicBezTo>
                  <a:pt x="390" y="11750"/>
                  <a:pt x="316" y="11818"/>
                  <a:pt x="273" y="11857"/>
                </a:cubicBezTo>
                <a:cubicBezTo>
                  <a:pt x="232" y="11895"/>
                  <a:pt x="164" y="11976"/>
                  <a:pt x="149" y="12030"/>
                </a:cubicBezTo>
                <a:cubicBezTo>
                  <a:pt x="138" y="12068"/>
                  <a:pt x="128" y="12115"/>
                  <a:pt x="124" y="12154"/>
                </a:cubicBezTo>
                <a:cubicBezTo>
                  <a:pt x="114" y="12236"/>
                  <a:pt x="120" y="12325"/>
                  <a:pt x="149" y="12402"/>
                </a:cubicBezTo>
                <a:cubicBezTo>
                  <a:pt x="166" y="12447"/>
                  <a:pt x="250" y="12517"/>
                  <a:pt x="298" y="12526"/>
                </a:cubicBezTo>
                <a:cubicBezTo>
                  <a:pt x="407" y="12547"/>
                  <a:pt x="619" y="12546"/>
                  <a:pt x="719" y="12502"/>
                </a:cubicBezTo>
                <a:cubicBezTo>
                  <a:pt x="753" y="12487"/>
                  <a:pt x="811" y="12471"/>
                  <a:pt x="843" y="12452"/>
                </a:cubicBezTo>
                <a:cubicBezTo>
                  <a:pt x="885" y="12427"/>
                  <a:pt x="924" y="12423"/>
                  <a:pt x="967" y="12402"/>
                </a:cubicBezTo>
                <a:cubicBezTo>
                  <a:pt x="1037" y="12368"/>
                  <a:pt x="1046" y="12349"/>
                  <a:pt x="1091" y="12303"/>
                </a:cubicBezTo>
                <a:cubicBezTo>
                  <a:pt x="1149" y="12245"/>
                  <a:pt x="1159" y="12265"/>
                  <a:pt x="1166" y="12179"/>
                </a:cubicBezTo>
                <a:cubicBezTo>
                  <a:pt x="1171" y="12123"/>
                  <a:pt x="1162" y="12054"/>
                  <a:pt x="1141" y="12005"/>
                </a:cubicBezTo>
                <a:cubicBezTo>
                  <a:pt x="1126" y="11971"/>
                  <a:pt x="1091" y="11881"/>
                  <a:pt x="1067" y="11857"/>
                </a:cubicBezTo>
                <a:cubicBezTo>
                  <a:pt x="1013" y="11803"/>
                  <a:pt x="930" y="11775"/>
                  <a:pt x="868" y="11733"/>
                </a:cubicBezTo>
                <a:cubicBezTo>
                  <a:pt x="831" y="11708"/>
                  <a:pt x="769" y="11695"/>
                  <a:pt x="719" y="11708"/>
                </a:cubicBezTo>
                <a:cubicBezTo>
                  <a:pt x="636" y="11730"/>
                  <a:pt x="601" y="11788"/>
                  <a:pt x="546" y="11832"/>
                </a:cubicBezTo>
                <a:cubicBezTo>
                  <a:pt x="503" y="11866"/>
                  <a:pt x="452" y="11901"/>
                  <a:pt x="422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5330880"/>
            <a:ext cx="4208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620" y="15056"/>
                </a:moveTo>
                <a:cubicBezTo>
                  <a:pt x="620" y="15040"/>
                  <a:pt x="620" y="15023"/>
                  <a:pt x="620" y="15007"/>
                </a:cubicBezTo>
                <a:cubicBezTo>
                  <a:pt x="620" y="15064"/>
                  <a:pt x="628" y="15106"/>
                  <a:pt x="595" y="15156"/>
                </a:cubicBezTo>
                <a:cubicBezTo>
                  <a:pt x="576" y="15185"/>
                  <a:pt x="492" y="15249"/>
                  <a:pt x="571" y="15280"/>
                </a:cubicBezTo>
                <a:cubicBezTo>
                  <a:pt x="638" y="15306"/>
                  <a:pt x="1072" y="15302"/>
                  <a:pt x="1067" y="15230"/>
                </a:cubicBezTo>
                <a:cubicBezTo>
                  <a:pt x="1059" y="15213"/>
                  <a:pt x="1050" y="15197"/>
                  <a:pt x="1042" y="15180"/>
                </a:cubicBezTo>
              </a:path>
              <a:path w="1167" h="795">
                <a:moveTo>
                  <a:pt x="843" y="15056"/>
                </a:moveTo>
                <a:cubicBezTo>
                  <a:pt x="843" y="15118"/>
                  <a:pt x="846" y="15154"/>
                  <a:pt x="819" y="15205"/>
                </a:cubicBezTo>
                <a:cubicBezTo>
                  <a:pt x="787" y="15266"/>
                  <a:pt x="772" y="15326"/>
                  <a:pt x="744" y="15379"/>
                </a:cubicBezTo>
                <a:cubicBezTo>
                  <a:pt x="718" y="15427"/>
                  <a:pt x="707" y="15480"/>
                  <a:pt x="695" y="15528"/>
                </a:cubicBezTo>
              </a:path>
              <a:path w="1167" h="795">
                <a:moveTo>
                  <a:pt x="868" y="14808"/>
                </a:moveTo>
                <a:cubicBezTo>
                  <a:pt x="732" y="14808"/>
                  <a:pt x="511" y="14772"/>
                  <a:pt x="397" y="14833"/>
                </a:cubicBezTo>
                <a:cubicBezTo>
                  <a:pt x="340" y="14863"/>
                  <a:pt x="272" y="14892"/>
                  <a:pt x="223" y="14932"/>
                </a:cubicBezTo>
                <a:cubicBezTo>
                  <a:pt x="164" y="14981"/>
                  <a:pt x="149" y="15043"/>
                  <a:pt x="124" y="15106"/>
                </a:cubicBezTo>
                <a:cubicBezTo>
                  <a:pt x="101" y="15166"/>
                  <a:pt x="101" y="15190"/>
                  <a:pt x="99" y="15255"/>
                </a:cubicBezTo>
                <a:cubicBezTo>
                  <a:pt x="95" y="15357"/>
                  <a:pt x="145" y="15373"/>
                  <a:pt x="198" y="15453"/>
                </a:cubicBezTo>
                <a:cubicBezTo>
                  <a:pt x="244" y="15522"/>
                  <a:pt x="296" y="15539"/>
                  <a:pt x="372" y="15577"/>
                </a:cubicBezTo>
                <a:cubicBezTo>
                  <a:pt x="464" y="15623"/>
                  <a:pt x="530" y="15591"/>
                  <a:pt x="620" y="15577"/>
                </a:cubicBezTo>
                <a:cubicBezTo>
                  <a:pt x="698" y="15565"/>
                  <a:pt x="768" y="15544"/>
                  <a:pt x="843" y="15528"/>
                </a:cubicBezTo>
                <a:cubicBezTo>
                  <a:pt x="933" y="15509"/>
                  <a:pt x="994" y="15490"/>
                  <a:pt x="1067" y="15429"/>
                </a:cubicBezTo>
                <a:cubicBezTo>
                  <a:pt x="1128" y="15378"/>
                  <a:pt x="1162" y="15313"/>
                  <a:pt x="1215" y="15255"/>
                </a:cubicBezTo>
                <a:cubicBezTo>
                  <a:pt x="1255" y="15211"/>
                  <a:pt x="1225" y="15185"/>
                  <a:pt x="1240" y="15131"/>
                </a:cubicBezTo>
                <a:cubicBezTo>
                  <a:pt x="1267" y="15036"/>
                  <a:pt x="1285" y="15022"/>
                  <a:pt x="1215" y="14957"/>
                </a:cubicBezTo>
                <a:cubicBezTo>
                  <a:pt x="1181" y="14926"/>
                  <a:pt x="1114" y="14869"/>
                  <a:pt x="1067" y="14858"/>
                </a:cubicBezTo>
                <a:cubicBezTo>
                  <a:pt x="989" y="14839"/>
                  <a:pt x="890" y="14858"/>
                  <a:pt x="819" y="14883"/>
                </a:cubicBezTo>
                <a:cubicBezTo>
                  <a:pt x="784" y="14895"/>
                  <a:pt x="706" y="14927"/>
                  <a:pt x="695" y="149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40" y="6000840"/>
            <a:ext cx="428400" cy="393480"/>
          </a:xfrm>
          <a:custGeom>
            <a:avLst/>
            <a:gdLst/>
            <a:ahLst/>
            <a:rect l="l" t="t" r="r" b="b"/>
            <a:pathLst>
              <a:path w="1191" h="1092">
                <a:moveTo>
                  <a:pt x="1017" y="16892"/>
                </a:moveTo>
                <a:cubicBezTo>
                  <a:pt x="1009" y="16875"/>
                  <a:pt x="1000" y="16859"/>
                  <a:pt x="992" y="16842"/>
                </a:cubicBezTo>
                <a:cubicBezTo>
                  <a:pt x="950" y="16867"/>
                  <a:pt x="899" y="16916"/>
                  <a:pt x="843" y="16892"/>
                </a:cubicBezTo>
                <a:cubicBezTo>
                  <a:pt x="792" y="16870"/>
                  <a:pt x="760" y="16847"/>
                  <a:pt x="695" y="16842"/>
                </a:cubicBezTo>
                <a:cubicBezTo>
                  <a:pt x="634" y="16837"/>
                  <a:pt x="636" y="16903"/>
                  <a:pt x="620" y="16942"/>
                </a:cubicBezTo>
                <a:cubicBezTo>
                  <a:pt x="598" y="16995"/>
                  <a:pt x="581" y="17043"/>
                  <a:pt x="546" y="17090"/>
                </a:cubicBezTo>
                <a:cubicBezTo>
                  <a:pt x="530" y="17111"/>
                  <a:pt x="439" y="17270"/>
                  <a:pt x="521" y="17165"/>
                </a:cubicBezTo>
                <a:cubicBezTo>
                  <a:pt x="552" y="17125"/>
                  <a:pt x="600" y="17140"/>
                  <a:pt x="645" y="17140"/>
                </a:cubicBezTo>
                <a:cubicBezTo>
                  <a:pt x="721" y="17140"/>
                  <a:pt x="835" y="17118"/>
                  <a:pt x="893" y="17165"/>
                </a:cubicBezTo>
                <a:cubicBezTo>
                  <a:pt x="934" y="17198"/>
                  <a:pt x="977" y="17232"/>
                  <a:pt x="967" y="17289"/>
                </a:cubicBezTo>
                <a:cubicBezTo>
                  <a:pt x="959" y="17335"/>
                  <a:pt x="894" y="17402"/>
                  <a:pt x="843" y="17413"/>
                </a:cubicBezTo>
                <a:cubicBezTo>
                  <a:pt x="744" y="17434"/>
                  <a:pt x="617" y="17510"/>
                  <a:pt x="546" y="17438"/>
                </a:cubicBezTo>
                <a:cubicBezTo>
                  <a:pt x="546" y="17396"/>
                  <a:pt x="546" y="17388"/>
                  <a:pt x="546" y="17363"/>
                </a:cubicBezTo>
              </a:path>
              <a:path w="1191" h="1092">
                <a:moveTo>
                  <a:pt x="347" y="16669"/>
                </a:moveTo>
                <a:cubicBezTo>
                  <a:pt x="291" y="16690"/>
                  <a:pt x="212" y="16689"/>
                  <a:pt x="174" y="16743"/>
                </a:cubicBezTo>
                <a:cubicBezTo>
                  <a:pt x="130" y="16806"/>
                  <a:pt x="136" y="16851"/>
                  <a:pt x="99" y="16917"/>
                </a:cubicBezTo>
                <a:cubicBezTo>
                  <a:pt x="80" y="16952"/>
                  <a:pt x="55" y="17022"/>
                  <a:pt x="50" y="17066"/>
                </a:cubicBezTo>
                <a:cubicBezTo>
                  <a:pt x="40" y="17146"/>
                  <a:pt x="49" y="17223"/>
                  <a:pt x="74" y="17289"/>
                </a:cubicBezTo>
                <a:cubicBezTo>
                  <a:pt x="99" y="17354"/>
                  <a:pt x="87" y="17442"/>
                  <a:pt x="149" y="17487"/>
                </a:cubicBezTo>
                <a:cubicBezTo>
                  <a:pt x="210" y="17531"/>
                  <a:pt x="262" y="17586"/>
                  <a:pt x="322" y="17636"/>
                </a:cubicBezTo>
                <a:cubicBezTo>
                  <a:pt x="364" y="17671"/>
                  <a:pt x="419" y="17722"/>
                  <a:pt x="471" y="17735"/>
                </a:cubicBezTo>
                <a:cubicBezTo>
                  <a:pt x="528" y="17749"/>
                  <a:pt x="587" y="17758"/>
                  <a:pt x="645" y="17760"/>
                </a:cubicBezTo>
                <a:cubicBezTo>
                  <a:pt x="720" y="17763"/>
                  <a:pt x="782" y="17765"/>
                  <a:pt x="843" y="17735"/>
                </a:cubicBezTo>
                <a:cubicBezTo>
                  <a:pt x="903" y="17705"/>
                  <a:pt x="962" y="17695"/>
                  <a:pt x="1017" y="17661"/>
                </a:cubicBezTo>
                <a:cubicBezTo>
                  <a:pt x="1061" y="17634"/>
                  <a:pt x="1097" y="17589"/>
                  <a:pt x="1141" y="17562"/>
                </a:cubicBezTo>
                <a:cubicBezTo>
                  <a:pt x="1219" y="17515"/>
                  <a:pt x="1236" y="17476"/>
                  <a:pt x="1240" y="17388"/>
                </a:cubicBezTo>
                <a:cubicBezTo>
                  <a:pt x="1245" y="17281"/>
                  <a:pt x="1259" y="17131"/>
                  <a:pt x="1215" y="17041"/>
                </a:cubicBezTo>
                <a:cubicBezTo>
                  <a:pt x="1189" y="16988"/>
                  <a:pt x="1155" y="16936"/>
                  <a:pt x="1116" y="16892"/>
                </a:cubicBezTo>
                <a:cubicBezTo>
                  <a:pt x="1086" y="16858"/>
                  <a:pt x="1027" y="16838"/>
                  <a:pt x="992" y="16818"/>
                </a:cubicBezTo>
                <a:cubicBezTo>
                  <a:pt x="943" y="16790"/>
                  <a:pt x="887" y="16765"/>
                  <a:pt x="843" y="16743"/>
                </a:cubicBezTo>
                <a:cubicBezTo>
                  <a:pt x="759" y="16701"/>
                  <a:pt x="769" y="16699"/>
                  <a:pt x="670" y="16694"/>
                </a:cubicBezTo>
                <a:cubicBezTo>
                  <a:pt x="614" y="16691"/>
                  <a:pt x="573" y="16678"/>
                  <a:pt x="521" y="16669"/>
                </a:cubicBezTo>
                <a:cubicBezTo>
                  <a:pt x="400" y="16649"/>
                  <a:pt x="319" y="16692"/>
                  <a:pt x="223" y="16718"/>
                </a:cubicBezTo>
                <a:cubicBezTo>
                  <a:pt x="203" y="16723"/>
                  <a:pt x="244" y="16705"/>
                  <a:pt x="273" y="166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75000" y="4643280"/>
            <a:ext cx="857160" cy="54000"/>
          </a:xfrm>
          <a:custGeom>
            <a:avLst/>
            <a:gdLst/>
            <a:ahLst/>
            <a:rect l="l" t="t" r="r" b="b"/>
            <a:pathLst>
              <a:path w="2382" h="150">
                <a:moveTo>
                  <a:pt x="9475" y="12923"/>
                </a:moveTo>
                <a:cubicBezTo>
                  <a:pt x="9430" y="12923"/>
                  <a:pt x="9389" y="12943"/>
                  <a:pt x="9376" y="12948"/>
                </a:cubicBezTo>
                <a:cubicBezTo>
                  <a:pt x="9445" y="12948"/>
                  <a:pt x="9543" y="12978"/>
                  <a:pt x="9599" y="12973"/>
                </a:cubicBezTo>
                <a:cubicBezTo>
                  <a:pt x="9644" y="12969"/>
                  <a:pt x="9677" y="12951"/>
                  <a:pt x="9723" y="12948"/>
                </a:cubicBezTo>
                <a:cubicBezTo>
                  <a:pt x="9798" y="12944"/>
                  <a:pt x="9855" y="12925"/>
                  <a:pt x="9922" y="12923"/>
                </a:cubicBezTo>
                <a:cubicBezTo>
                  <a:pt x="10010" y="12920"/>
                  <a:pt x="10096" y="12909"/>
                  <a:pt x="10170" y="12898"/>
                </a:cubicBezTo>
                <a:cubicBezTo>
                  <a:pt x="10240" y="12888"/>
                  <a:pt x="10314" y="12916"/>
                  <a:pt x="10368" y="12923"/>
                </a:cubicBezTo>
                <a:cubicBezTo>
                  <a:pt x="10445" y="12933"/>
                  <a:pt x="10519" y="12936"/>
                  <a:pt x="10592" y="12948"/>
                </a:cubicBezTo>
                <a:cubicBezTo>
                  <a:pt x="10653" y="12958"/>
                  <a:pt x="10683" y="12988"/>
                  <a:pt x="10740" y="12998"/>
                </a:cubicBezTo>
                <a:cubicBezTo>
                  <a:pt x="10799" y="13008"/>
                  <a:pt x="10865" y="13037"/>
                  <a:pt x="10914" y="13047"/>
                </a:cubicBezTo>
                <a:cubicBezTo>
                  <a:pt x="11034" y="13072"/>
                  <a:pt x="11174" y="13041"/>
                  <a:pt x="11286" y="13022"/>
                </a:cubicBezTo>
                <a:cubicBezTo>
                  <a:pt x="11449" y="12995"/>
                  <a:pt x="11784" y="13210"/>
                  <a:pt x="11757" y="13047"/>
                </a:cubicBezTo>
                <a:cubicBezTo>
                  <a:pt x="11741" y="13022"/>
                  <a:pt x="11724" y="12998"/>
                  <a:pt x="11708" y="129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4527720"/>
            <a:ext cx="2430360" cy="393480"/>
          </a:xfrm>
          <a:custGeom>
            <a:avLst/>
            <a:gdLst/>
            <a:ahLst/>
            <a:rect l="l" t="t" r="r" b="b"/>
            <a:pathLst>
              <a:path w="6748" h="1092">
                <a:moveTo>
                  <a:pt x="9426" y="12874"/>
                </a:moveTo>
                <a:cubicBezTo>
                  <a:pt x="9391" y="12874"/>
                  <a:pt x="9373" y="12878"/>
                  <a:pt x="9351" y="12898"/>
                </a:cubicBezTo>
                <a:cubicBezTo>
                  <a:pt x="9386" y="12901"/>
                  <a:pt x="9424" y="12925"/>
                  <a:pt x="9475" y="12923"/>
                </a:cubicBezTo>
                <a:cubicBezTo>
                  <a:pt x="9539" y="12920"/>
                  <a:pt x="9590" y="12902"/>
                  <a:pt x="9649" y="12898"/>
                </a:cubicBezTo>
                <a:cubicBezTo>
                  <a:pt x="9707" y="12895"/>
                  <a:pt x="9778" y="12878"/>
                  <a:pt x="9823" y="12874"/>
                </a:cubicBezTo>
                <a:cubicBezTo>
                  <a:pt x="9904" y="12867"/>
                  <a:pt x="9970" y="12889"/>
                  <a:pt x="10046" y="12898"/>
                </a:cubicBezTo>
                <a:cubicBezTo>
                  <a:pt x="10125" y="12907"/>
                  <a:pt x="10200" y="12939"/>
                  <a:pt x="10269" y="12948"/>
                </a:cubicBezTo>
                <a:cubicBezTo>
                  <a:pt x="10525" y="12982"/>
                  <a:pt x="10822" y="12939"/>
                  <a:pt x="11063" y="12923"/>
                </a:cubicBezTo>
                <a:cubicBezTo>
                  <a:pt x="11393" y="12901"/>
                  <a:pt x="11741" y="12947"/>
                  <a:pt x="12055" y="12898"/>
                </a:cubicBezTo>
                <a:cubicBezTo>
                  <a:pt x="12133" y="12886"/>
                  <a:pt x="12196" y="12876"/>
                  <a:pt x="12278" y="12874"/>
                </a:cubicBezTo>
                <a:cubicBezTo>
                  <a:pt x="12367" y="12872"/>
                  <a:pt x="12450" y="12863"/>
                  <a:pt x="12526" y="12849"/>
                </a:cubicBezTo>
                <a:cubicBezTo>
                  <a:pt x="12573" y="12840"/>
                  <a:pt x="12629" y="12828"/>
                  <a:pt x="12675" y="12824"/>
                </a:cubicBezTo>
                <a:cubicBezTo>
                  <a:pt x="13094" y="12789"/>
                  <a:pt x="13528" y="12873"/>
                  <a:pt x="13940" y="12799"/>
                </a:cubicBezTo>
                <a:cubicBezTo>
                  <a:pt x="14006" y="12787"/>
                  <a:pt x="14072" y="12756"/>
                  <a:pt x="14139" y="12750"/>
                </a:cubicBezTo>
                <a:cubicBezTo>
                  <a:pt x="14463" y="12722"/>
                  <a:pt x="14821" y="12744"/>
                  <a:pt x="15131" y="12725"/>
                </a:cubicBezTo>
                <a:cubicBezTo>
                  <a:pt x="15325" y="12713"/>
                  <a:pt x="15510" y="12747"/>
                  <a:pt x="15677" y="12675"/>
                </a:cubicBezTo>
                <a:cubicBezTo>
                  <a:pt x="15727" y="12653"/>
                  <a:pt x="15769" y="12626"/>
                  <a:pt x="15825" y="12601"/>
                </a:cubicBezTo>
                <a:cubicBezTo>
                  <a:pt x="15858" y="12586"/>
                  <a:pt x="15890" y="12589"/>
                  <a:pt x="15925" y="12576"/>
                </a:cubicBezTo>
                <a:cubicBezTo>
                  <a:pt x="15925" y="12798"/>
                  <a:pt x="15870" y="13094"/>
                  <a:pt x="15900" y="13295"/>
                </a:cubicBezTo>
                <a:cubicBezTo>
                  <a:pt x="15906" y="13335"/>
                  <a:pt x="15942" y="13363"/>
                  <a:pt x="15949" y="13395"/>
                </a:cubicBezTo>
                <a:cubicBezTo>
                  <a:pt x="15882" y="13366"/>
                  <a:pt x="15843" y="13330"/>
                  <a:pt x="15776" y="13320"/>
                </a:cubicBezTo>
                <a:cubicBezTo>
                  <a:pt x="15464" y="13273"/>
                  <a:pt x="15086" y="13315"/>
                  <a:pt x="14784" y="13295"/>
                </a:cubicBezTo>
                <a:cubicBezTo>
                  <a:pt x="13873" y="13234"/>
                  <a:pt x="12928" y="13321"/>
                  <a:pt x="12030" y="13271"/>
                </a:cubicBezTo>
                <a:cubicBezTo>
                  <a:pt x="11775" y="13257"/>
                  <a:pt x="11508" y="13260"/>
                  <a:pt x="11261" y="13246"/>
                </a:cubicBezTo>
                <a:cubicBezTo>
                  <a:pt x="11101" y="13237"/>
                  <a:pt x="10943" y="13242"/>
                  <a:pt x="10790" y="13221"/>
                </a:cubicBezTo>
                <a:cubicBezTo>
                  <a:pt x="10707" y="13210"/>
                  <a:pt x="10624" y="13210"/>
                  <a:pt x="10542" y="13196"/>
                </a:cubicBezTo>
                <a:cubicBezTo>
                  <a:pt x="10474" y="13185"/>
                  <a:pt x="10411" y="13182"/>
                  <a:pt x="10344" y="13171"/>
                </a:cubicBezTo>
                <a:cubicBezTo>
                  <a:pt x="10293" y="13162"/>
                  <a:pt x="10246" y="13155"/>
                  <a:pt x="10195" y="13146"/>
                </a:cubicBezTo>
                <a:cubicBezTo>
                  <a:pt x="10129" y="13134"/>
                  <a:pt x="10063" y="13102"/>
                  <a:pt x="9996" y="13097"/>
                </a:cubicBezTo>
                <a:cubicBezTo>
                  <a:pt x="9768" y="13079"/>
                  <a:pt x="9531" y="13097"/>
                  <a:pt x="9302" y="13097"/>
                </a:cubicBezTo>
                <a:cubicBezTo>
                  <a:pt x="9302" y="13271"/>
                  <a:pt x="9302" y="13444"/>
                  <a:pt x="9302" y="13618"/>
                </a:cubicBezTo>
                <a:cubicBezTo>
                  <a:pt x="9362" y="13609"/>
                  <a:pt x="9411" y="13597"/>
                  <a:pt x="9475" y="13593"/>
                </a:cubicBezTo>
                <a:cubicBezTo>
                  <a:pt x="9669" y="13580"/>
                  <a:pt x="9856" y="13614"/>
                  <a:pt x="10046" y="13618"/>
                </a:cubicBezTo>
                <a:cubicBezTo>
                  <a:pt x="10145" y="13620"/>
                  <a:pt x="10224" y="13599"/>
                  <a:pt x="10319" y="13593"/>
                </a:cubicBezTo>
                <a:cubicBezTo>
                  <a:pt x="10564" y="13577"/>
                  <a:pt x="10824" y="13582"/>
                  <a:pt x="11063" y="13568"/>
                </a:cubicBezTo>
                <a:cubicBezTo>
                  <a:pt x="11276" y="13556"/>
                  <a:pt x="11504" y="13561"/>
                  <a:pt x="11708" y="13593"/>
                </a:cubicBezTo>
                <a:cubicBezTo>
                  <a:pt x="11782" y="13604"/>
                  <a:pt x="11851" y="13615"/>
                  <a:pt x="11931" y="13618"/>
                </a:cubicBezTo>
                <a:cubicBezTo>
                  <a:pt x="12053" y="13623"/>
                  <a:pt x="12143" y="13653"/>
                  <a:pt x="12254" y="13667"/>
                </a:cubicBezTo>
                <a:cubicBezTo>
                  <a:pt x="12433" y="13689"/>
                  <a:pt x="12635" y="13654"/>
                  <a:pt x="12799" y="13643"/>
                </a:cubicBezTo>
                <a:cubicBezTo>
                  <a:pt x="13081" y="13625"/>
                  <a:pt x="13347" y="13637"/>
                  <a:pt x="13618" y="13593"/>
                </a:cubicBezTo>
                <a:cubicBezTo>
                  <a:pt x="13686" y="13582"/>
                  <a:pt x="13722" y="13580"/>
                  <a:pt x="13791" y="13568"/>
                </a:cubicBezTo>
                <a:cubicBezTo>
                  <a:pt x="13848" y="13558"/>
                  <a:pt x="13886" y="13554"/>
                  <a:pt x="13940" y="13543"/>
                </a:cubicBezTo>
                <a:cubicBezTo>
                  <a:pt x="13995" y="13532"/>
                  <a:pt x="14030" y="13524"/>
                  <a:pt x="14089" y="13519"/>
                </a:cubicBezTo>
                <a:cubicBezTo>
                  <a:pt x="14152" y="13514"/>
                  <a:pt x="14212" y="13503"/>
                  <a:pt x="14263" y="13494"/>
                </a:cubicBezTo>
                <a:cubicBezTo>
                  <a:pt x="14314" y="13485"/>
                  <a:pt x="14361" y="13478"/>
                  <a:pt x="14412" y="13469"/>
                </a:cubicBezTo>
                <a:cubicBezTo>
                  <a:pt x="14472" y="13459"/>
                  <a:pt x="14523" y="13449"/>
                  <a:pt x="14585" y="13444"/>
                </a:cubicBezTo>
                <a:cubicBezTo>
                  <a:pt x="15066" y="13406"/>
                  <a:pt x="15566" y="13444"/>
                  <a:pt x="16049" y="13444"/>
                </a:cubicBezTo>
                <a:cubicBezTo>
                  <a:pt x="15994" y="13400"/>
                  <a:pt x="15895" y="13331"/>
                  <a:pt x="15825" y="1327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70800" y="4572000"/>
            <a:ext cx="2089080" cy="339840"/>
          </a:xfrm>
          <a:custGeom>
            <a:avLst/>
            <a:gdLst/>
            <a:ahLst/>
            <a:rect l="l" t="t" r="r" b="b"/>
            <a:pathLst>
              <a:path w="5805" h="944">
                <a:moveTo>
                  <a:pt x="18604" y="12799"/>
                </a:moveTo>
                <a:cubicBezTo>
                  <a:pt x="18624" y="12791"/>
                  <a:pt x="18654" y="12762"/>
                  <a:pt x="18703" y="12750"/>
                </a:cubicBezTo>
                <a:cubicBezTo>
                  <a:pt x="18722" y="12745"/>
                  <a:pt x="18814" y="12726"/>
                  <a:pt x="18827" y="12725"/>
                </a:cubicBezTo>
                <a:cubicBezTo>
                  <a:pt x="19120" y="12698"/>
                  <a:pt x="19433" y="12719"/>
                  <a:pt x="19720" y="12700"/>
                </a:cubicBezTo>
                <a:cubicBezTo>
                  <a:pt x="19821" y="12693"/>
                  <a:pt x="19900" y="12705"/>
                  <a:pt x="19993" y="12725"/>
                </a:cubicBezTo>
                <a:cubicBezTo>
                  <a:pt x="20063" y="12740"/>
                  <a:pt x="20116" y="12747"/>
                  <a:pt x="20191" y="12750"/>
                </a:cubicBezTo>
                <a:cubicBezTo>
                  <a:pt x="21551" y="12803"/>
                  <a:pt x="22923" y="12750"/>
                  <a:pt x="24284" y="12750"/>
                </a:cubicBezTo>
                <a:cubicBezTo>
                  <a:pt x="24296" y="12805"/>
                  <a:pt x="24325" y="12869"/>
                  <a:pt x="24333" y="12923"/>
                </a:cubicBezTo>
                <a:cubicBezTo>
                  <a:pt x="24352" y="13050"/>
                  <a:pt x="24333" y="13191"/>
                  <a:pt x="24333" y="13320"/>
                </a:cubicBezTo>
                <a:cubicBezTo>
                  <a:pt x="23895" y="13320"/>
                  <a:pt x="23411" y="13366"/>
                  <a:pt x="22994" y="13295"/>
                </a:cubicBezTo>
                <a:cubicBezTo>
                  <a:pt x="22946" y="13287"/>
                  <a:pt x="22891" y="13275"/>
                  <a:pt x="22845" y="13271"/>
                </a:cubicBezTo>
                <a:cubicBezTo>
                  <a:pt x="22701" y="13259"/>
                  <a:pt x="22554" y="13272"/>
                  <a:pt x="22423" y="13246"/>
                </a:cubicBezTo>
                <a:cubicBezTo>
                  <a:pt x="22356" y="13233"/>
                  <a:pt x="22293" y="13233"/>
                  <a:pt x="22225" y="13221"/>
                </a:cubicBezTo>
                <a:cubicBezTo>
                  <a:pt x="22169" y="13211"/>
                  <a:pt x="22106" y="13200"/>
                  <a:pt x="22051" y="13196"/>
                </a:cubicBezTo>
                <a:cubicBezTo>
                  <a:pt x="21957" y="13189"/>
                  <a:pt x="21868" y="13177"/>
                  <a:pt x="21779" y="13171"/>
                </a:cubicBezTo>
                <a:cubicBezTo>
                  <a:pt x="21427" y="13146"/>
                  <a:pt x="21057" y="13168"/>
                  <a:pt x="20712" y="13146"/>
                </a:cubicBezTo>
                <a:cubicBezTo>
                  <a:pt x="20629" y="13141"/>
                  <a:pt x="20541" y="13127"/>
                  <a:pt x="20464" y="13122"/>
                </a:cubicBezTo>
                <a:cubicBezTo>
                  <a:pt x="20127" y="13099"/>
                  <a:pt x="19777" y="13121"/>
                  <a:pt x="19447" y="13097"/>
                </a:cubicBezTo>
                <a:cubicBezTo>
                  <a:pt x="19285" y="13085"/>
                  <a:pt x="19099" y="13083"/>
                  <a:pt x="18951" y="13072"/>
                </a:cubicBezTo>
                <a:cubicBezTo>
                  <a:pt x="18837" y="13064"/>
                  <a:pt x="18736" y="13070"/>
                  <a:pt x="18628" y="13047"/>
                </a:cubicBezTo>
                <a:cubicBezTo>
                  <a:pt x="18591" y="13039"/>
                  <a:pt x="18569" y="13032"/>
                  <a:pt x="18529" y="13022"/>
                </a:cubicBezTo>
                <a:cubicBezTo>
                  <a:pt x="18546" y="13057"/>
                  <a:pt x="18561" y="13109"/>
                  <a:pt x="18579" y="13146"/>
                </a:cubicBezTo>
                <a:cubicBezTo>
                  <a:pt x="18630" y="13252"/>
                  <a:pt x="18626" y="13269"/>
                  <a:pt x="18604" y="13395"/>
                </a:cubicBezTo>
                <a:cubicBezTo>
                  <a:pt x="18597" y="13435"/>
                  <a:pt x="18589" y="13474"/>
                  <a:pt x="18579" y="13519"/>
                </a:cubicBezTo>
                <a:cubicBezTo>
                  <a:pt x="18581" y="13519"/>
                  <a:pt x="18643" y="13540"/>
                  <a:pt x="18678" y="13543"/>
                </a:cubicBezTo>
                <a:cubicBezTo>
                  <a:pt x="19080" y="13575"/>
                  <a:pt x="19493" y="13543"/>
                  <a:pt x="19893" y="13568"/>
                </a:cubicBezTo>
                <a:cubicBezTo>
                  <a:pt x="20363" y="13597"/>
                  <a:pt x="24062" y="13266"/>
                  <a:pt x="24234" y="13593"/>
                </a:cubicBezTo>
                <a:cubicBezTo>
                  <a:pt x="24211" y="13616"/>
                  <a:pt x="24203" y="13620"/>
                  <a:pt x="24209" y="136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43800" y="5599080"/>
            <a:ext cx="1741320" cy="36720"/>
          </a:xfrm>
          <a:custGeom>
            <a:avLst/>
            <a:gdLst/>
            <a:ahLst/>
            <a:rect l="l" t="t" r="r" b="b"/>
            <a:pathLst>
              <a:path w="4838" h="100">
                <a:moveTo>
                  <a:pt x="18455" y="15652"/>
                </a:moveTo>
                <a:cubicBezTo>
                  <a:pt x="18458" y="15651"/>
                  <a:pt x="18495" y="15631"/>
                  <a:pt x="18529" y="15627"/>
                </a:cubicBezTo>
                <a:cubicBezTo>
                  <a:pt x="18601" y="15618"/>
                  <a:pt x="18656" y="15650"/>
                  <a:pt x="18728" y="15652"/>
                </a:cubicBezTo>
                <a:cubicBezTo>
                  <a:pt x="19384" y="15669"/>
                  <a:pt x="20062" y="15674"/>
                  <a:pt x="20712" y="15627"/>
                </a:cubicBezTo>
                <a:cubicBezTo>
                  <a:pt x="21221" y="15590"/>
                  <a:pt x="21748" y="15642"/>
                  <a:pt x="22250" y="15602"/>
                </a:cubicBezTo>
                <a:cubicBezTo>
                  <a:pt x="22318" y="15597"/>
                  <a:pt x="22385" y="15584"/>
                  <a:pt x="22448" y="15577"/>
                </a:cubicBezTo>
                <a:cubicBezTo>
                  <a:pt x="22528" y="15568"/>
                  <a:pt x="22622" y="15558"/>
                  <a:pt x="22696" y="15553"/>
                </a:cubicBezTo>
                <a:cubicBezTo>
                  <a:pt x="22893" y="15540"/>
                  <a:pt x="23095" y="15553"/>
                  <a:pt x="23292" y="155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43800" y="5500800"/>
            <a:ext cx="2116080" cy="339480"/>
          </a:xfrm>
          <a:custGeom>
            <a:avLst/>
            <a:gdLst/>
            <a:ahLst/>
            <a:rect l="l" t="t" r="r" b="b"/>
            <a:pathLst>
              <a:path w="5879" h="943">
                <a:moveTo>
                  <a:pt x="18504" y="15850"/>
                </a:moveTo>
                <a:cubicBezTo>
                  <a:pt x="18526" y="15891"/>
                  <a:pt x="18538" y="15881"/>
                  <a:pt x="18554" y="15925"/>
                </a:cubicBezTo>
                <a:cubicBezTo>
                  <a:pt x="18577" y="15990"/>
                  <a:pt x="18596" y="16053"/>
                  <a:pt x="18604" y="16123"/>
                </a:cubicBezTo>
                <a:cubicBezTo>
                  <a:pt x="18608" y="16156"/>
                  <a:pt x="18601" y="16189"/>
                  <a:pt x="18604" y="16222"/>
                </a:cubicBezTo>
                <a:cubicBezTo>
                  <a:pt x="19656" y="16222"/>
                  <a:pt x="20706" y="16197"/>
                  <a:pt x="21754" y="16197"/>
                </a:cubicBezTo>
                <a:cubicBezTo>
                  <a:pt x="22597" y="16197"/>
                  <a:pt x="23441" y="16197"/>
                  <a:pt x="24284" y="16197"/>
                </a:cubicBezTo>
                <a:cubicBezTo>
                  <a:pt x="24284" y="16015"/>
                  <a:pt x="24269" y="15819"/>
                  <a:pt x="24259" y="15652"/>
                </a:cubicBezTo>
                <a:cubicBezTo>
                  <a:pt x="24254" y="15562"/>
                  <a:pt x="24259" y="15469"/>
                  <a:pt x="24259" y="15379"/>
                </a:cubicBezTo>
                <a:cubicBezTo>
                  <a:pt x="24210" y="15432"/>
                  <a:pt x="24185" y="15449"/>
                  <a:pt x="24135" y="15478"/>
                </a:cubicBezTo>
                <a:cubicBezTo>
                  <a:pt x="24070" y="15516"/>
                  <a:pt x="24060" y="15507"/>
                  <a:pt x="23986" y="15528"/>
                </a:cubicBezTo>
                <a:cubicBezTo>
                  <a:pt x="23938" y="15542"/>
                  <a:pt x="23896" y="15558"/>
                  <a:pt x="23837" y="15553"/>
                </a:cubicBezTo>
                <a:cubicBezTo>
                  <a:pt x="23729" y="15543"/>
                  <a:pt x="23643" y="15549"/>
                  <a:pt x="23540" y="15553"/>
                </a:cubicBezTo>
                <a:cubicBezTo>
                  <a:pt x="23471" y="15556"/>
                  <a:pt x="23393" y="15530"/>
                  <a:pt x="23341" y="15528"/>
                </a:cubicBezTo>
                <a:cubicBezTo>
                  <a:pt x="23185" y="15522"/>
                  <a:pt x="23027" y="15528"/>
                  <a:pt x="22870" y="15528"/>
                </a:cubicBezTo>
                <a:cubicBezTo>
                  <a:pt x="23078" y="15528"/>
                  <a:pt x="23290" y="15515"/>
                  <a:pt x="23490" y="15503"/>
                </a:cubicBezTo>
                <a:cubicBezTo>
                  <a:pt x="23707" y="15490"/>
                  <a:pt x="23926" y="15515"/>
                  <a:pt x="24135" y="15478"/>
                </a:cubicBezTo>
                <a:cubicBezTo>
                  <a:pt x="24189" y="15469"/>
                  <a:pt x="24232" y="15471"/>
                  <a:pt x="24284" y="15453"/>
                </a:cubicBezTo>
                <a:cubicBezTo>
                  <a:pt x="24300" y="15445"/>
                  <a:pt x="24317" y="15437"/>
                  <a:pt x="24333" y="15429"/>
                </a:cubicBezTo>
                <a:cubicBezTo>
                  <a:pt x="24271" y="15416"/>
                  <a:pt x="24219" y="15415"/>
                  <a:pt x="24160" y="15404"/>
                </a:cubicBezTo>
                <a:cubicBezTo>
                  <a:pt x="24119" y="15396"/>
                  <a:pt x="24089" y="15383"/>
                  <a:pt x="24036" y="15379"/>
                </a:cubicBezTo>
                <a:cubicBezTo>
                  <a:pt x="23580" y="15342"/>
                  <a:pt x="23088" y="15380"/>
                  <a:pt x="22647" y="15354"/>
                </a:cubicBezTo>
                <a:cubicBezTo>
                  <a:pt x="22438" y="15342"/>
                  <a:pt x="22228" y="15364"/>
                  <a:pt x="22027" y="15329"/>
                </a:cubicBezTo>
                <a:cubicBezTo>
                  <a:pt x="21975" y="15320"/>
                  <a:pt x="21933" y="15309"/>
                  <a:pt x="21878" y="15304"/>
                </a:cubicBezTo>
                <a:cubicBezTo>
                  <a:pt x="21103" y="15233"/>
                  <a:pt x="20285" y="15329"/>
                  <a:pt x="19521" y="15280"/>
                </a:cubicBezTo>
                <a:cubicBezTo>
                  <a:pt x="19371" y="15270"/>
                  <a:pt x="18532" y="15190"/>
                  <a:pt x="18455" y="15304"/>
                </a:cubicBezTo>
                <a:cubicBezTo>
                  <a:pt x="18423" y="15351"/>
                  <a:pt x="18491" y="15298"/>
                  <a:pt x="18479" y="153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06840" y="664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18455"/>
                </a:moveTo>
                <a:lnTo>
                  <a:pt x="10021" y="18455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6572160"/>
            <a:ext cx="2670120" cy="88920"/>
          </a:xfrm>
          <a:custGeom>
            <a:avLst/>
            <a:gdLst/>
            <a:ahLst/>
            <a:rect l="l" t="t" r="r" b="b"/>
            <a:pathLst>
              <a:path w="7417" h="249">
                <a:moveTo>
                  <a:pt x="9996" y="18504"/>
                </a:moveTo>
                <a:cubicBezTo>
                  <a:pt x="9956" y="18484"/>
                  <a:pt x="9940" y="18465"/>
                  <a:pt x="9947" y="18504"/>
                </a:cubicBezTo>
                <a:cubicBezTo>
                  <a:pt x="10091" y="18504"/>
                  <a:pt x="10232" y="18488"/>
                  <a:pt x="10368" y="18479"/>
                </a:cubicBezTo>
                <a:cubicBezTo>
                  <a:pt x="10443" y="18474"/>
                  <a:pt x="10496" y="18469"/>
                  <a:pt x="10567" y="18455"/>
                </a:cubicBezTo>
                <a:cubicBezTo>
                  <a:pt x="10609" y="18447"/>
                  <a:pt x="10665" y="18438"/>
                  <a:pt x="10716" y="18430"/>
                </a:cubicBezTo>
                <a:cubicBezTo>
                  <a:pt x="10775" y="18421"/>
                  <a:pt x="10831" y="18409"/>
                  <a:pt x="10889" y="18405"/>
                </a:cubicBezTo>
                <a:cubicBezTo>
                  <a:pt x="10939" y="18402"/>
                  <a:pt x="11002" y="18383"/>
                  <a:pt x="11038" y="18380"/>
                </a:cubicBezTo>
                <a:cubicBezTo>
                  <a:pt x="11709" y="18324"/>
                  <a:pt x="12406" y="18396"/>
                  <a:pt x="13072" y="18355"/>
                </a:cubicBezTo>
                <a:cubicBezTo>
                  <a:pt x="13577" y="18324"/>
                  <a:pt x="14121" y="18350"/>
                  <a:pt x="14610" y="18380"/>
                </a:cubicBezTo>
                <a:cubicBezTo>
                  <a:pt x="14768" y="18390"/>
                  <a:pt x="14939" y="18364"/>
                  <a:pt x="15081" y="18355"/>
                </a:cubicBezTo>
                <a:cubicBezTo>
                  <a:pt x="15731" y="18313"/>
                  <a:pt x="16398" y="18372"/>
                  <a:pt x="17041" y="18331"/>
                </a:cubicBezTo>
                <a:cubicBezTo>
                  <a:pt x="17116" y="18326"/>
                  <a:pt x="17172" y="18312"/>
                  <a:pt x="17239" y="18306"/>
                </a:cubicBezTo>
                <a:cubicBezTo>
                  <a:pt x="17271" y="18303"/>
                  <a:pt x="17306" y="18307"/>
                  <a:pt x="17338" y="18306"/>
                </a:cubicBezTo>
                <a:cubicBezTo>
                  <a:pt x="17244" y="18295"/>
                  <a:pt x="17205" y="18283"/>
                  <a:pt x="17115" y="18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4760" y="5446800"/>
            <a:ext cx="2143080" cy="384120"/>
          </a:xfrm>
          <a:custGeom>
            <a:avLst/>
            <a:gdLst/>
            <a:ahLst/>
            <a:rect l="l" t="t" r="r" b="b"/>
            <a:pathLst>
              <a:path w="5954" h="1067">
                <a:moveTo>
                  <a:pt x="1339" y="15379"/>
                </a:moveTo>
                <a:cubicBezTo>
                  <a:pt x="1674" y="15379"/>
                  <a:pt x="2000" y="15354"/>
                  <a:pt x="2332" y="15354"/>
                </a:cubicBezTo>
                <a:cubicBezTo>
                  <a:pt x="2467" y="15354"/>
                  <a:pt x="2602" y="15337"/>
                  <a:pt x="2729" y="15329"/>
                </a:cubicBezTo>
                <a:cubicBezTo>
                  <a:pt x="2834" y="15323"/>
                  <a:pt x="2960" y="15309"/>
                  <a:pt x="3051" y="15304"/>
                </a:cubicBezTo>
                <a:cubicBezTo>
                  <a:pt x="3165" y="15297"/>
                  <a:pt x="3291" y="15285"/>
                  <a:pt x="3398" y="15280"/>
                </a:cubicBezTo>
                <a:cubicBezTo>
                  <a:pt x="3949" y="15252"/>
                  <a:pt x="4524" y="15294"/>
                  <a:pt x="5060" y="15255"/>
                </a:cubicBezTo>
                <a:cubicBezTo>
                  <a:pt x="5191" y="15246"/>
                  <a:pt x="5333" y="15238"/>
                  <a:pt x="5457" y="15230"/>
                </a:cubicBezTo>
                <a:cubicBezTo>
                  <a:pt x="5592" y="15221"/>
                  <a:pt x="5724" y="15214"/>
                  <a:pt x="5854" y="15205"/>
                </a:cubicBezTo>
                <a:cubicBezTo>
                  <a:pt x="5931" y="15200"/>
                  <a:pt x="6003" y="15185"/>
                  <a:pt x="6077" y="15180"/>
                </a:cubicBezTo>
                <a:cubicBezTo>
                  <a:pt x="6167" y="15174"/>
                  <a:pt x="6266" y="15161"/>
                  <a:pt x="6350" y="15156"/>
                </a:cubicBezTo>
                <a:cubicBezTo>
                  <a:pt x="6448" y="15150"/>
                  <a:pt x="6564" y="15137"/>
                  <a:pt x="6648" y="15131"/>
                </a:cubicBezTo>
                <a:cubicBezTo>
                  <a:pt x="6746" y="15124"/>
                  <a:pt x="6847" y="15131"/>
                  <a:pt x="6945" y="15131"/>
                </a:cubicBezTo>
                <a:cubicBezTo>
                  <a:pt x="6952" y="15162"/>
                  <a:pt x="6961" y="15217"/>
                  <a:pt x="6970" y="15255"/>
                </a:cubicBezTo>
                <a:cubicBezTo>
                  <a:pt x="6979" y="15295"/>
                  <a:pt x="6990" y="15327"/>
                  <a:pt x="6995" y="15379"/>
                </a:cubicBezTo>
                <a:cubicBezTo>
                  <a:pt x="7017" y="15623"/>
                  <a:pt x="6995" y="15878"/>
                  <a:pt x="6995" y="16123"/>
                </a:cubicBezTo>
                <a:cubicBezTo>
                  <a:pt x="6926" y="16106"/>
                  <a:pt x="6924" y="16071"/>
                  <a:pt x="6846" y="16073"/>
                </a:cubicBezTo>
                <a:cubicBezTo>
                  <a:pt x="6801" y="16074"/>
                  <a:pt x="6744" y="16090"/>
                  <a:pt x="6697" y="16098"/>
                </a:cubicBezTo>
                <a:cubicBezTo>
                  <a:pt x="6639" y="16108"/>
                  <a:pt x="6562" y="16163"/>
                  <a:pt x="6499" y="16173"/>
                </a:cubicBezTo>
                <a:cubicBezTo>
                  <a:pt x="6418" y="16185"/>
                  <a:pt x="6330" y="16191"/>
                  <a:pt x="6251" y="16197"/>
                </a:cubicBezTo>
                <a:cubicBezTo>
                  <a:pt x="6044" y="16214"/>
                  <a:pt x="5830" y="16186"/>
                  <a:pt x="5631" y="16173"/>
                </a:cubicBezTo>
                <a:cubicBezTo>
                  <a:pt x="5433" y="16161"/>
                  <a:pt x="5226" y="16161"/>
                  <a:pt x="5035" y="16148"/>
                </a:cubicBezTo>
                <a:cubicBezTo>
                  <a:pt x="4951" y="16142"/>
                  <a:pt x="4865" y="16127"/>
                  <a:pt x="4787" y="16123"/>
                </a:cubicBezTo>
                <a:cubicBezTo>
                  <a:pt x="4193" y="16090"/>
                  <a:pt x="3506" y="16058"/>
                  <a:pt x="2927" y="16148"/>
                </a:cubicBezTo>
                <a:cubicBezTo>
                  <a:pt x="2859" y="16158"/>
                  <a:pt x="2802" y="16170"/>
                  <a:pt x="2729" y="16173"/>
                </a:cubicBezTo>
                <a:cubicBezTo>
                  <a:pt x="2193" y="16194"/>
                  <a:pt x="1652" y="16173"/>
                  <a:pt x="1116" y="16173"/>
                </a:cubicBezTo>
                <a:cubicBezTo>
                  <a:pt x="1110" y="16130"/>
                  <a:pt x="1092" y="16082"/>
                  <a:pt x="1091" y="16024"/>
                </a:cubicBezTo>
                <a:cubicBezTo>
                  <a:pt x="1090" y="15961"/>
                  <a:pt x="1076" y="15901"/>
                  <a:pt x="1067" y="15850"/>
                </a:cubicBezTo>
                <a:cubicBezTo>
                  <a:pt x="1059" y="15806"/>
                  <a:pt x="1046" y="15772"/>
                  <a:pt x="1042" y="15726"/>
                </a:cubicBezTo>
                <a:cubicBezTo>
                  <a:pt x="1038" y="15685"/>
                  <a:pt x="1044" y="15643"/>
                  <a:pt x="1042" y="15602"/>
                </a:cubicBezTo>
                <a:cubicBezTo>
                  <a:pt x="1723" y="15602"/>
                  <a:pt x="2434" y="15653"/>
                  <a:pt x="3101" y="15553"/>
                </a:cubicBezTo>
                <a:cubicBezTo>
                  <a:pt x="3197" y="15539"/>
                  <a:pt x="3302" y="15511"/>
                  <a:pt x="3398" y="15503"/>
                </a:cubicBezTo>
                <a:cubicBezTo>
                  <a:pt x="3536" y="15492"/>
                  <a:pt x="3686" y="15486"/>
                  <a:pt x="3820" y="15478"/>
                </a:cubicBezTo>
                <a:cubicBezTo>
                  <a:pt x="3962" y="15470"/>
                  <a:pt x="4102" y="15460"/>
                  <a:pt x="4242" y="15453"/>
                </a:cubicBezTo>
                <a:cubicBezTo>
                  <a:pt x="4694" y="15429"/>
                  <a:pt x="5161" y="15454"/>
                  <a:pt x="5606" y="15429"/>
                </a:cubicBezTo>
                <a:cubicBezTo>
                  <a:pt x="5798" y="15418"/>
                  <a:pt x="5992" y="15441"/>
                  <a:pt x="6176" y="15453"/>
                </a:cubicBezTo>
                <a:cubicBezTo>
                  <a:pt x="6247" y="15457"/>
                  <a:pt x="6312" y="15426"/>
                  <a:pt x="6375" y="15429"/>
                </a:cubicBezTo>
                <a:cubicBezTo>
                  <a:pt x="6442" y="15433"/>
                  <a:pt x="6510" y="15457"/>
                  <a:pt x="6573" y="15453"/>
                </a:cubicBezTo>
                <a:cubicBezTo>
                  <a:pt x="6628" y="15450"/>
                  <a:pt x="6667" y="15425"/>
                  <a:pt x="6722" y="15429"/>
                </a:cubicBezTo>
                <a:cubicBezTo>
                  <a:pt x="6744" y="15430"/>
                  <a:pt x="6884" y="15459"/>
                  <a:pt x="6896" y="15478"/>
                </a:cubicBezTo>
                <a:cubicBezTo>
                  <a:pt x="6932" y="15534"/>
                  <a:pt x="6828" y="15516"/>
                  <a:pt x="6772" y="15553"/>
                </a:cubicBezTo>
                <a:cubicBezTo>
                  <a:pt x="6755" y="15561"/>
                  <a:pt x="6739" y="15569"/>
                  <a:pt x="6722" y="1557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84200" y="5653080"/>
            <a:ext cx="1036800" cy="17640"/>
          </a:xfrm>
          <a:custGeom>
            <a:avLst/>
            <a:gdLst/>
            <a:ahLst/>
            <a:rect l="l" t="t" r="r" b="b"/>
            <a:pathLst>
              <a:path w="2878" h="51">
                <a:moveTo>
                  <a:pt x="6722" y="15751"/>
                </a:moveTo>
                <a:cubicBezTo>
                  <a:pt x="6616" y="15751"/>
                  <a:pt x="6523" y="15739"/>
                  <a:pt x="6424" y="15726"/>
                </a:cubicBezTo>
                <a:cubicBezTo>
                  <a:pt x="6165" y="15692"/>
                  <a:pt x="5889" y="15730"/>
                  <a:pt x="5631" y="15701"/>
                </a:cubicBezTo>
                <a:cubicBezTo>
                  <a:pt x="5406" y="15676"/>
                  <a:pt x="5104" y="15670"/>
                  <a:pt x="4887" y="15726"/>
                </a:cubicBezTo>
                <a:cubicBezTo>
                  <a:pt x="4778" y="15754"/>
                  <a:pt x="4679" y="15751"/>
                  <a:pt x="4564" y="15751"/>
                </a:cubicBezTo>
                <a:cubicBezTo>
                  <a:pt x="4348" y="15751"/>
                  <a:pt x="4016" y="15791"/>
                  <a:pt x="3845" y="157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" y="6126120"/>
            <a:ext cx="2268360" cy="490680"/>
          </a:xfrm>
          <a:custGeom>
            <a:avLst/>
            <a:gdLst/>
            <a:ahLst/>
            <a:rect l="l" t="t" r="r" b="b"/>
            <a:pathLst>
              <a:path w="6301" h="1365">
                <a:moveTo>
                  <a:pt x="1042" y="17413"/>
                </a:moveTo>
                <a:cubicBezTo>
                  <a:pt x="1092" y="17406"/>
                  <a:pt x="1114" y="17391"/>
                  <a:pt x="1166" y="17388"/>
                </a:cubicBezTo>
                <a:cubicBezTo>
                  <a:pt x="1325" y="17377"/>
                  <a:pt x="1494" y="17404"/>
                  <a:pt x="1637" y="17413"/>
                </a:cubicBezTo>
                <a:cubicBezTo>
                  <a:pt x="1874" y="17429"/>
                  <a:pt x="2104" y="17436"/>
                  <a:pt x="2332" y="17462"/>
                </a:cubicBezTo>
                <a:cubicBezTo>
                  <a:pt x="2581" y="17490"/>
                  <a:pt x="2891" y="17475"/>
                  <a:pt x="3125" y="17438"/>
                </a:cubicBezTo>
                <a:cubicBezTo>
                  <a:pt x="3191" y="17428"/>
                  <a:pt x="3237" y="17424"/>
                  <a:pt x="3299" y="17413"/>
                </a:cubicBezTo>
                <a:cubicBezTo>
                  <a:pt x="3371" y="17400"/>
                  <a:pt x="3450" y="17393"/>
                  <a:pt x="3522" y="17388"/>
                </a:cubicBezTo>
                <a:cubicBezTo>
                  <a:pt x="3668" y="17378"/>
                  <a:pt x="3779" y="17346"/>
                  <a:pt x="3919" y="17314"/>
                </a:cubicBezTo>
                <a:cubicBezTo>
                  <a:pt x="3978" y="17300"/>
                  <a:pt x="4033" y="17300"/>
                  <a:pt x="4093" y="17289"/>
                </a:cubicBezTo>
                <a:cubicBezTo>
                  <a:pt x="4137" y="17281"/>
                  <a:pt x="4178" y="17267"/>
                  <a:pt x="4217" y="17264"/>
                </a:cubicBezTo>
                <a:cubicBezTo>
                  <a:pt x="4414" y="17247"/>
                  <a:pt x="4626" y="17250"/>
                  <a:pt x="4812" y="17239"/>
                </a:cubicBezTo>
                <a:cubicBezTo>
                  <a:pt x="4883" y="17235"/>
                  <a:pt x="4957" y="17261"/>
                  <a:pt x="5011" y="17264"/>
                </a:cubicBezTo>
                <a:cubicBezTo>
                  <a:pt x="5087" y="17268"/>
                  <a:pt x="5141" y="17249"/>
                  <a:pt x="5209" y="17239"/>
                </a:cubicBezTo>
                <a:cubicBezTo>
                  <a:pt x="5269" y="17230"/>
                  <a:pt x="5319" y="17219"/>
                  <a:pt x="5383" y="17214"/>
                </a:cubicBezTo>
                <a:cubicBezTo>
                  <a:pt x="5478" y="17206"/>
                  <a:pt x="5597" y="17195"/>
                  <a:pt x="5680" y="17190"/>
                </a:cubicBezTo>
                <a:cubicBezTo>
                  <a:pt x="5785" y="17183"/>
                  <a:pt x="5879" y="17183"/>
                  <a:pt x="5978" y="17165"/>
                </a:cubicBezTo>
                <a:cubicBezTo>
                  <a:pt x="6037" y="17154"/>
                  <a:pt x="6093" y="17151"/>
                  <a:pt x="6152" y="17140"/>
                </a:cubicBezTo>
                <a:cubicBezTo>
                  <a:pt x="6216" y="17128"/>
                  <a:pt x="6285" y="17119"/>
                  <a:pt x="6350" y="17115"/>
                </a:cubicBezTo>
                <a:cubicBezTo>
                  <a:pt x="6448" y="17109"/>
                  <a:pt x="6531" y="17106"/>
                  <a:pt x="6623" y="17090"/>
                </a:cubicBezTo>
                <a:cubicBezTo>
                  <a:pt x="6665" y="17083"/>
                  <a:pt x="6705" y="17070"/>
                  <a:pt x="6747" y="17066"/>
                </a:cubicBezTo>
                <a:cubicBezTo>
                  <a:pt x="6820" y="17060"/>
                  <a:pt x="6880" y="17046"/>
                  <a:pt x="6945" y="17041"/>
                </a:cubicBezTo>
                <a:cubicBezTo>
                  <a:pt x="7021" y="17035"/>
                  <a:pt x="7098" y="17021"/>
                  <a:pt x="7169" y="17016"/>
                </a:cubicBezTo>
                <a:cubicBezTo>
                  <a:pt x="7210" y="17013"/>
                  <a:pt x="7252" y="17018"/>
                  <a:pt x="7293" y="17016"/>
                </a:cubicBezTo>
                <a:cubicBezTo>
                  <a:pt x="7293" y="17379"/>
                  <a:pt x="7255" y="17779"/>
                  <a:pt x="7317" y="18132"/>
                </a:cubicBezTo>
                <a:cubicBezTo>
                  <a:pt x="7319" y="18145"/>
                  <a:pt x="7338" y="18214"/>
                  <a:pt x="7342" y="18231"/>
                </a:cubicBezTo>
                <a:cubicBezTo>
                  <a:pt x="7281" y="18238"/>
                  <a:pt x="7275" y="18231"/>
                  <a:pt x="7218" y="18231"/>
                </a:cubicBezTo>
                <a:cubicBezTo>
                  <a:pt x="6887" y="18231"/>
                  <a:pt x="6549" y="18225"/>
                  <a:pt x="6226" y="18207"/>
                </a:cubicBezTo>
                <a:cubicBezTo>
                  <a:pt x="5742" y="18179"/>
                  <a:pt x="5237" y="18207"/>
                  <a:pt x="4762" y="18231"/>
                </a:cubicBezTo>
                <a:cubicBezTo>
                  <a:pt x="4590" y="18240"/>
                  <a:pt x="4399" y="18247"/>
                  <a:pt x="4242" y="18256"/>
                </a:cubicBezTo>
                <a:cubicBezTo>
                  <a:pt x="4169" y="18260"/>
                  <a:pt x="4103" y="18270"/>
                  <a:pt x="4043" y="18281"/>
                </a:cubicBezTo>
                <a:cubicBezTo>
                  <a:pt x="3968" y="18295"/>
                  <a:pt x="3915" y="18334"/>
                  <a:pt x="3845" y="18355"/>
                </a:cubicBezTo>
                <a:cubicBezTo>
                  <a:pt x="3807" y="18366"/>
                  <a:pt x="3734" y="18380"/>
                  <a:pt x="3696" y="18380"/>
                </a:cubicBezTo>
                <a:cubicBezTo>
                  <a:pt x="3628" y="18380"/>
                  <a:pt x="3585" y="18372"/>
                  <a:pt x="3522" y="18355"/>
                </a:cubicBezTo>
                <a:cubicBezTo>
                  <a:pt x="3481" y="18344"/>
                  <a:pt x="3426" y="18341"/>
                  <a:pt x="3398" y="18306"/>
                </a:cubicBezTo>
                <a:cubicBezTo>
                  <a:pt x="3354" y="18250"/>
                  <a:pt x="3385" y="18195"/>
                  <a:pt x="3373" y="18132"/>
                </a:cubicBezTo>
                <a:cubicBezTo>
                  <a:pt x="3365" y="18091"/>
                  <a:pt x="3352" y="18049"/>
                  <a:pt x="3349" y="18008"/>
                </a:cubicBezTo>
                <a:cubicBezTo>
                  <a:pt x="3345" y="17951"/>
                  <a:pt x="3351" y="17892"/>
                  <a:pt x="3349" y="17835"/>
                </a:cubicBezTo>
                <a:cubicBezTo>
                  <a:pt x="3279" y="17831"/>
                  <a:pt x="3252" y="17844"/>
                  <a:pt x="3175" y="17835"/>
                </a:cubicBezTo>
                <a:cubicBezTo>
                  <a:pt x="3116" y="17828"/>
                  <a:pt x="3067" y="17813"/>
                  <a:pt x="3001" y="17810"/>
                </a:cubicBezTo>
                <a:cubicBezTo>
                  <a:pt x="2810" y="17803"/>
                  <a:pt x="2605" y="17823"/>
                  <a:pt x="2431" y="17835"/>
                </a:cubicBezTo>
                <a:cubicBezTo>
                  <a:pt x="2336" y="17841"/>
                  <a:pt x="2237" y="17815"/>
                  <a:pt x="2158" y="17810"/>
                </a:cubicBezTo>
                <a:cubicBezTo>
                  <a:pt x="1926" y="17795"/>
                  <a:pt x="1691" y="17790"/>
                  <a:pt x="1463" y="17785"/>
                </a:cubicBezTo>
                <a:cubicBezTo>
                  <a:pt x="1334" y="17782"/>
                  <a:pt x="1243" y="17752"/>
                  <a:pt x="1141" y="17735"/>
                </a:cubicBezTo>
                <a:cubicBezTo>
                  <a:pt x="1108" y="17735"/>
                  <a:pt x="1092" y="17735"/>
                  <a:pt x="1067" y="17735"/>
                </a:cubicBezTo>
                <a:cubicBezTo>
                  <a:pt x="1108" y="17730"/>
                  <a:pt x="1159" y="17712"/>
                  <a:pt x="1215" y="17711"/>
                </a:cubicBezTo>
                <a:cubicBezTo>
                  <a:pt x="1313" y="17709"/>
                  <a:pt x="1393" y="17691"/>
                  <a:pt x="1488" y="17686"/>
                </a:cubicBezTo>
                <a:cubicBezTo>
                  <a:pt x="1955" y="17661"/>
                  <a:pt x="2499" y="17634"/>
                  <a:pt x="2952" y="17711"/>
                </a:cubicBezTo>
                <a:cubicBezTo>
                  <a:pt x="3077" y="17732"/>
                  <a:pt x="3195" y="17735"/>
                  <a:pt x="3324" y="17735"/>
                </a:cubicBezTo>
                <a:cubicBezTo>
                  <a:pt x="3420" y="17735"/>
                  <a:pt x="3505" y="17727"/>
                  <a:pt x="3597" y="17711"/>
                </a:cubicBezTo>
                <a:cubicBezTo>
                  <a:pt x="3709" y="17692"/>
                  <a:pt x="3827" y="17668"/>
                  <a:pt x="3944" y="17661"/>
                </a:cubicBezTo>
                <a:cubicBezTo>
                  <a:pt x="4125" y="17650"/>
                  <a:pt x="4313" y="17647"/>
                  <a:pt x="4490" y="17636"/>
                </a:cubicBezTo>
                <a:cubicBezTo>
                  <a:pt x="4593" y="17630"/>
                  <a:pt x="4687" y="17634"/>
                  <a:pt x="4787" y="17611"/>
                </a:cubicBezTo>
                <a:cubicBezTo>
                  <a:pt x="4866" y="17592"/>
                  <a:pt x="4957" y="17582"/>
                  <a:pt x="5035" y="17562"/>
                </a:cubicBezTo>
                <a:cubicBezTo>
                  <a:pt x="5094" y="17547"/>
                  <a:pt x="5149" y="17523"/>
                  <a:pt x="5209" y="17512"/>
                </a:cubicBezTo>
                <a:cubicBezTo>
                  <a:pt x="5296" y="17496"/>
                  <a:pt x="5399" y="17469"/>
                  <a:pt x="5482" y="17462"/>
                </a:cubicBezTo>
                <a:cubicBezTo>
                  <a:pt x="5555" y="17456"/>
                  <a:pt x="5637" y="17443"/>
                  <a:pt x="5705" y="17438"/>
                </a:cubicBezTo>
                <a:cubicBezTo>
                  <a:pt x="5789" y="17432"/>
                  <a:pt x="5874" y="17418"/>
                  <a:pt x="5953" y="17413"/>
                </a:cubicBezTo>
                <a:cubicBezTo>
                  <a:pt x="6070" y="17405"/>
                  <a:pt x="6625" y="17361"/>
                  <a:pt x="6672" y="17438"/>
                </a:cubicBezTo>
                <a:cubicBezTo>
                  <a:pt x="6713" y="17506"/>
                  <a:pt x="6646" y="17612"/>
                  <a:pt x="6697" y="17661"/>
                </a:cubicBezTo>
                <a:cubicBezTo>
                  <a:pt x="6731" y="17694"/>
                  <a:pt x="6789" y="17719"/>
                  <a:pt x="6846" y="17711"/>
                </a:cubicBezTo>
                <a:cubicBezTo>
                  <a:pt x="6916" y="17701"/>
                  <a:pt x="6945" y="17597"/>
                  <a:pt x="6995" y="17562"/>
                </a:cubicBezTo>
                <a:cubicBezTo>
                  <a:pt x="7066" y="17512"/>
                  <a:pt x="7086" y="17516"/>
                  <a:pt x="7119" y="17438"/>
                </a:cubicBezTo>
                <a:cubicBezTo>
                  <a:pt x="7119" y="17421"/>
                  <a:pt x="7119" y="17405"/>
                  <a:pt x="7119" y="17388"/>
                </a:cubicBezTo>
                <a:cubicBezTo>
                  <a:pt x="7087" y="17483"/>
                  <a:pt x="7038" y="17589"/>
                  <a:pt x="7020" y="17686"/>
                </a:cubicBezTo>
                <a:cubicBezTo>
                  <a:pt x="7010" y="17740"/>
                  <a:pt x="7024" y="17753"/>
                  <a:pt x="7020" y="17785"/>
                </a:cubicBezTo>
                <a:cubicBezTo>
                  <a:pt x="6997" y="17774"/>
                  <a:pt x="6974" y="17720"/>
                  <a:pt x="6896" y="17711"/>
                </a:cubicBezTo>
                <a:cubicBezTo>
                  <a:pt x="6764" y="17697"/>
                  <a:pt x="6631" y="17699"/>
                  <a:pt x="6499" y="17686"/>
                </a:cubicBezTo>
                <a:cubicBezTo>
                  <a:pt x="6258" y="17662"/>
                  <a:pt x="6021" y="17661"/>
                  <a:pt x="5779" y="17661"/>
                </a:cubicBezTo>
                <a:cubicBezTo>
                  <a:pt x="5670" y="17661"/>
                  <a:pt x="5584" y="17667"/>
                  <a:pt x="5482" y="17711"/>
                </a:cubicBezTo>
                <a:cubicBezTo>
                  <a:pt x="5379" y="17755"/>
                  <a:pt x="5421" y="17768"/>
                  <a:pt x="5358" y="17810"/>
                </a:cubicBezTo>
                <a:cubicBezTo>
                  <a:pt x="5420" y="17846"/>
                  <a:pt x="5460" y="17891"/>
                  <a:pt x="5531" y="17909"/>
                </a:cubicBezTo>
                <a:cubicBezTo>
                  <a:pt x="5600" y="17926"/>
                  <a:pt x="5714" y="17901"/>
                  <a:pt x="5779" y="17884"/>
                </a:cubicBezTo>
                <a:cubicBezTo>
                  <a:pt x="5874" y="17860"/>
                  <a:pt x="5960" y="17830"/>
                  <a:pt x="6052" y="17810"/>
                </a:cubicBezTo>
                <a:cubicBezTo>
                  <a:pt x="6122" y="17795"/>
                  <a:pt x="6168" y="17756"/>
                  <a:pt x="6226" y="17735"/>
                </a:cubicBezTo>
                <a:cubicBezTo>
                  <a:pt x="6157" y="17728"/>
                  <a:pt x="6113" y="17733"/>
                  <a:pt x="6052" y="17711"/>
                </a:cubicBezTo>
                <a:cubicBezTo>
                  <a:pt x="6044" y="17703"/>
                  <a:pt x="6036" y="17694"/>
                  <a:pt x="6028" y="176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040" y="6224760"/>
            <a:ext cx="1706760" cy="34920"/>
          </a:xfrm>
          <a:custGeom>
            <a:avLst/>
            <a:gdLst/>
            <a:ahLst/>
            <a:rect l="l" t="t" r="r" b="b"/>
            <a:pathLst>
              <a:path w="4739" h="100">
                <a:moveTo>
                  <a:pt x="5829" y="17338"/>
                </a:moveTo>
                <a:cubicBezTo>
                  <a:pt x="5708" y="17338"/>
                  <a:pt x="5595" y="17333"/>
                  <a:pt x="5482" y="17363"/>
                </a:cubicBezTo>
                <a:cubicBezTo>
                  <a:pt x="5422" y="17379"/>
                  <a:pt x="5397" y="17386"/>
                  <a:pt x="5333" y="17388"/>
                </a:cubicBezTo>
                <a:cubicBezTo>
                  <a:pt x="5196" y="17393"/>
                  <a:pt x="5065" y="17377"/>
                  <a:pt x="4936" y="17363"/>
                </a:cubicBezTo>
                <a:cubicBezTo>
                  <a:pt x="4886" y="17357"/>
                  <a:pt x="4833" y="17343"/>
                  <a:pt x="4787" y="17338"/>
                </a:cubicBezTo>
                <a:cubicBezTo>
                  <a:pt x="4725" y="17331"/>
                  <a:pt x="4638" y="17319"/>
                  <a:pt x="4589" y="17314"/>
                </a:cubicBezTo>
                <a:cubicBezTo>
                  <a:pt x="4433" y="17299"/>
                  <a:pt x="4268" y="17305"/>
                  <a:pt x="4118" y="17289"/>
                </a:cubicBezTo>
                <a:cubicBezTo>
                  <a:pt x="3820" y="17257"/>
                  <a:pt x="3489" y="17287"/>
                  <a:pt x="3200" y="17314"/>
                </a:cubicBezTo>
                <a:cubicBezTo>
                  <a:pt x="3112" y="17322"/>
                  <a:pt x="3003" y="17331"/>
                  <a:pt x="2927" y="17338"/>
                </a:cubicBezTo>
                <a:cubicBezTo>
                  <a:pt x="2792" y="17351"/>
                  <a:pt x="2657" y="17326"/>
                  <a:pt x="2530" y="17314"/>
                </a:cubicBezTo>
                <a:cubicBezTo>
                  <a:pt x="2252" y="17289"/>
                  <a:pt x="1959" y="17315"/>
                  <a:pt x="1687" y="17289"/>
                </a:cubicBezTo>
                <a:cubicBezTo>
                  <a:pt x="1542" y="17275"/>
                  <a:pt x="1369" y="17281"/>
                  <a:pt x="1240" y="17314"/>
                </a:cubicBezTo>
                <a:cubicBezTo>
                  <a:pt x="1190" y="17327"/>
                  <a:pt x="1130" y="17304"/>
                  <a:pt x="1091" y="17338"/>
                </a:cubicBezTo>
                <a:cubicBezTo>
                  <a:pt x="1091" y="17363"/>
                  <a:pt x="1091" y="17371"/>
                  <a:pt x="1116" y="173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5429160"/>
            <a:ext cx="849240" cy="206640"/>
          </a:xfrm>
          <a:custGeom>
            <a:avLst/>
            <a:gdLst/>
            <a:ahLst/>
            <a:rect l="l" t="t" r="r" b="b"/>
            <a:pathLst>
              <a:path w="2357" h="572">
                <a:moveTo>
                  <a:pt x="1786" y="15156"/>
                </a:moveTo>
                <a:cubicBezTo>
                  <a:pt x="1738" y="15176"/>
                  <a:pt x="1692" y="15183"/>
                  <a:pt x="1662" y="15230"/>
                </a:cubicBezTo>
                <a:cubicBezTo>
                  <a:pt x="1625" y="15287"/>
                  <a:pt x="1598" y="15334"/>
                  <a:pt x="1588" y="15404"/>
                </a:cubicBezTo>
                <a:cubicBezTo>
                  <a:pt x="1582" y="15444"/>
                  <a:pt x="1614" y="15518"/>
                  <a:pt x="1637" y="15553"/>
                </a:cubicBezTo>
                <a:cubicBezTo>
                  <a:pt x="1668" y="15599"/>
                  <a:pt x="1762" y="15577"/>
                  <a:pt x="1811" y="15577"/>
                </a:cubicBezTo>
                <a:cubicBezTo>
                  <a:pt x="1876" y="15577"/>
                  <a:pt x="1860" y="15475"/>
                  <a:pt x="1860" y="15429"/>
                </a:cubicBezTo>
                <a:cubicBezTo>
                  <a:pt x="1860" y="15351"/>
                  <a:pt x="1835" y="15338"/>
                  <a:pt x="1786" y="15280"/>
                </a:cubicBezTo>
                <a:cubicBezTo>
                  <a:pt x="1751" y="15238"/>
                  <a:pt x="1704" y="15236"/>
                  <a:pt x="1761" y="15255"/>
                </a:cubicBezTo>
              </a:path>
              <a:path w="2357" h="572">
                <a:moveTo>
                  <a:pt x="2084" y="15354"/>
                </a:moveTo>
                <a:cubicBezTo>
                  <a:pt x="2084" y="15412"/>
                  <a:pt x="2084" y="15470"/>
                  <a:pt x="2084" y="15528"/>
                </a:cubicBezTo>
                <a:cubicBezTo>
                  <a:pt x="2146" y="15443"/>
                  <a:pt x="2107" y="15442"/>
                  <a:pt x="2133" y="15354"/>
                </a:cubicBezTo>
                <a:cubicBezTo>
                  <a:pt x="2148" y="15302"/>
                  <a:pt x="2209" y="15249"/>
                  <a:pt x="2257" y="15230"/>
                </a:cubicBezTo>
                <a:cubicBezTo>
                  <a:pt x="2301" y="15212"/>
                  <a:pt x="2371" y="15224"/>
                  <a:pt x="2381" y="15255"/>
                </a:cubicBezTo>
              </a:path>
              <a:path w="2357" h="572">
                <a:moveTo>
                  <a:pt x="2753" y="15156"/>
                </a:moveTo>
                <a:cubicBezTo>
                  <a:pt x="2753" y="15321"/>
                  <a:pt x="2753" y="15487"/>
                  <a:pt x="2753" y="15652"/>
                </a:cubicBezTo>
                <a:cubicBezTo>
                  <a:pt x="2725" y="15579"/>
                  <a:pt x="2728" y="15576"/>
                  <a:pt x="2679" y="15528"/>
                </a:cubicBezTo>
              </a:path>
              <a:path w="2357" h="572">
                <a:moveTo>
                  <a:pt x="2456" y="15329"/>
                </a:moveTo>
                <a:cubicBezTo>
                  <a:pt x="2547" y="15329"/>
                  <a:pt x="2654" y="15313"/>
                  <a:pt x="2729" y="15354"/>
                </a:cubicBezTo>
                <a:cubicBezTo>
                  <a:pt x="2811" y="15398"/>
                  <a:pt x="2849" y="15368"/>
                  <a:pt x="2927" y="15329"/>
                </a:cubicBezTo>
                <a:cubicBezTo>
                  <a:pt x="2990" y="15297"/>
                  <a:pt x="3024" y="15232"/>
                  <a:pt x="3076" y="15180"/>
                </a:cubicBezTo>
                <a:cubicBezTo>
                  <a:pt x="3111" y="15145"/>
                  <a:pt x="3101" y="15133"/>
                  <a:pt x="3101" y="15081"/>
                </a:cubicBezTo>
                <a:cubicBezTo>
                  <a:pt x="3055" y="15139"/>
                  <a:pt x="3014" y="15205"/>
                  <a:pt x="3001" y="15280"/>
                </a:cubicBezTo>
                <a:cubicBezTo>
                  <a:pt x="2988" y="15355"/>
                  <a:pt x="2977" y="15426"/>
                  <a:pt x="2977" y="15503"/>
                </a:cubicBezTo>
                <a:cubicBezTo>
                  <a:pt x="2977" y="15544"/>
                  <a:pt x="2977" y="15586"/>
                  <a:pt x="2977" y="15627"/>
                </a:cubicBezTo>
                <a:cubicBezTo>
                  <a:pt x="3003" y="15617"/>
                  <a:pt x="3103" y="15557"/>
                  <a:pt x="3125" y="15528"/>
                </a:cubicBezTo>
                <a:cubicBezTo>
                  <a:pt x="3168" y="15472"/>
                  <a:pt x="3159" y="15432"/>
                  <a:pt x="3249" y="15404"/>
                </a:cubicBezTo>
                <a:cubicBezTo>
                  <a:pt x="3319" y="15383"/>
                  <a:pt x="3365" y="15457"/>
                  <a:pt x="3373" y="15503"/>
                </a:cubicBezTo>
                <a:cubicBezTo>
                  <a:pt x="3376" y="15522"/>
                  <a:pt x="3417" y="15629"/>
                  <a:pt x="3448" y="15602"/>
                </a:cubicBezTo>
                <a:cubicBezTo>
                  <a:pt x="3456" y="15586"/>
                  <a:pt x="3465" y="15569"/>
                  <a:pt x="3473" y="15553"/>
                </a:cubicBezTo>
              </a:path>
              <a:path w="2357" h="572">
                <a:moveTo>
                  <a:pt x="3820" y="15304"/>
                </a:moveTo>
                <a:cubicBezTo>
                  <a:pt x="3763" y="15304"/>
                  <a:pt x="3709" y="15301"/>
                  <a:pt x="3671" y="15354"/>
                </a:cubicBezTo>
                <a:cubicBezTo>
                  <a:pt x="3630" y="15411"/>
                  <a:pt x="3621" y="15435"/>
                  <a:pt x="3621" y="15503"/>
                </a:cubicBezTo>
                <a:cubicBezTo>
                  <a:pt x="3621" y="15548"/>
                  <a:pt x="3678" y="15592"/>
                  <a:pt x="3721" y="15602"/>
                </a:cubicBezTo>
                <a:cubicBezTo>
                  <a:pt x="3790" y="15618"/>
                  <a:pt x="3840" y="15593"/>
                  <a:pt x="3894" y="15553"/>
                </a:cubicBezTo>
                <a:cubicBezTo>
                  <a:pt x="3980" y="15490"/>
                  <a:pt x="3927" y="15474"/>
                  <a:pt x="3894" y="15404"/>
                </a:cubicBezTo>
                <a:cubicBezTo>
                  <a:pt x="3849" y="15310"/>
                  <a:pt x="3888" y="15289"/>
                  <a:pt x="3770" y="15280"/>
                </a:cubicBezTo>
                <a:cubicBezTo>
                  <a:pt x="3735" y="15277"/>
                  <a:pt x="3705" y="15298"/>
                  <a:pt x="367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5607000"/>
            <a:ext cx="1170000" cy="403200"/>
          </a:xfrm>
          <a:custGeom>
            <a:avLst/>
            <a:gdLst/>
            <a:ahLst/>
            <a:rect l="l" t="t" r="r" b="b"/>
            <a:pathLst>
              <a:path w="3250" h="1118">
                <a:moveTo>
                  <a:pt x="1439" y="16098"/>
                </a:moveTo>
                <a:cubicBezTo>
                  <a:pt x="1439" y="16001"/>
                  <a:pt x="1408" y="16006"/>
                  <a:pt x="1315" y="15999"/>
                </a:cubicBezTo>
                <a:cubicBezTo>
                  <a:pt x="1242" y="15994"/>
                  <a:pt x="1227" y="16012"/>
                  <a:pt x="1191" y="16073"/>
                </a:cubicBezTo>
                <a:cubicBezTo>
                  <a:pt x="1161" y="16123"/>
                  <a:pt x="1141" y="16165"/>
                  <a:pt x="1141" y="16222"/>
                </a:cubicBezTo>
                <a:cubicBezTo>
                  <a:pt x="1141" y="16264"/>
                  <a:pt x="1180" y="16343"/>
                  <a:pt x="1215" y="16371"/>
                </a:cubicBezTo>
                <a:cubicBezTo>
                  <a:pt x="1283" y="16424"/>
                  <a:pt x="1330" y="16296"/>
                  <a:pt x="1364" y="16272"/>
                </a:cubicBezTo>
                <a:cubicBezTo>
                  <a:pt x="1403" y="16244"/>
                  <a:pt x="1453" y="16207"/>
                  <a:pt x="1463" y="16148"/>
                </a:cubicBezTo>
                <a:cubicBezTo>
                  <a:pt x="1488" y="16005"/>
                  <a:pt x="1460" y="15837"/>
                  <a:pt x="1439" y="15701"/>
                </a:cubicBezTo>
                <a:cubicBezTo>
                  <a:pt x="1438" y="15692"/>
                  <a:pt x="1437" y="15541"/>
                  <a:pt x="1463" y="15577"/>
                </a:cubicBezTo>
                <a:cubicBezTo>
                  <a:pt x="1463" y="15585"/>
                  <a:pt x="1463" y="15594"/>
                  <a:pt x="1463" y="15602"/>
                </a:cubicBezTo>
              </a:path>
              <a:path w="3250" h="1118">
                <a:moveTo>
                  <a:pt x="1736" y="16123"/>
                </a:moveTo>
                <a:cubicBezTo>
                  <a:pt x="1736" y="16207"/>
                  <a:pt x="1726" y="16256"/>
                  <a:pt x="1712" y="16321"/>
                </a:cubicBezTo>
                <a:cubicBezTo>
                  <a:pt x="1712" y="16378"/>
                  <a:pt x="1717" y="16390"/>
                  <a:pt x="1761" y="16321"/>
                </a:cubicBezTo>
              </a:path>
              <a:path w="3250" h="1118">
                <a:moveTo>
                  <a:pt x="1761" y="15925"/>
                </a:moveTo>
                <a:cubicBezTo>
                  <a:pt x="1761" y="15900"/>
                  <a:pt x="1761" y="15875"/>
                  <a:pt x="1761" y="15850"/>
                </a:cubicBezTo>
                <a:cubicBezTo>
                  <a:pt x="1761" y="15925"/>
                  <a:pt x="1753" y="15926"/>
                  <a:pt x="1811" y="15974"/>
                </a:cubicBezTo>
              </a:path>
              <a:path w="3250" h="1118">
                <a:moveTo>
                  <a:pt x="2009" y="16123"/>
                </a:moveTo>
                <a:cubicBezTo>
                  <a:pt x="2058" y="16188"/>
                  <a:pt x="2059" y="16171"/>
                  <a:pt x="2059" y="16247"/>
                </a:cubicBezTo>
                <a:cubicBezTo>
                  <a:pt x="2103" y="16169"/>
                  <a:pt x="2108" y="16161"/>
                  <a:pt x="2158" y="16123"/>
                </a:cubicBezTo>
                <a:cubicBezTo>
                  <a:pt x="2204" y="16077"/>
                  <a:pt x="2216" y="16063"/>
                  <a:pt x="2257" y="16049"/>
                </a:cubicBezTo>
                <a:cubicBezTo>
                  <a:pt x="2307" y="16110"/>
                  <a:pt x="2296" y="16154"/>
                  <a:pt x="2332" y="16222"/>
                </a:cubicBezTo>
                <a:cubicBezTo>
                  <a:pt x="2356" y="16247"/>
                  <a:pt x="2364" y="16256"/>
                  <a:pt x="2381" y="16272"/>
                </a:cubicBezTo>
                <a:cubicBezTo>
                  <a:pt x="2450" y="16211"/>
                  <a:pt x="2457" y="16183"/>
                  <a:pt x="2505" y="16123"/>
                </a:cubicBezTo>
                <a:cubicBezTo>
                  <a:pt x="2570" y="16042"/>
                  <a:pt x="2576" y="16132"/>
                  <a:pt x="2604" y="16173"/>
                </a:cubicBezTo>
                <a:cubicBezTo>
                  <a:pt x="2640" y="16227"/>
                  <a:pt x="2639" y="16262"/>
                  <a:pt x="2679" y="16321"/>
                </a:cubicBezTo>
              </a:path>
              <a:path w="3250" h="1118">
                <a:moveTo>
                  <a:pt x="2828" y="16173"/>
                </a:moveTo>
                <a:cubicBezTo>
                  <a:pt x="2897" y="16173"/>
                  <a:pt x="2945" y="16169"/>
                  <a:pt x="3001" y="16123"/>
                </a:cubicBezTo>
                <a:cubicBezTo>
                  <a:pt x="3051" y="16082"/>
                  <a:pt x="3025" y="16009"/>
                  <a:pt x="2977" y="15974"/>
                </a:cubicBezTo>
                <a:cubicBezTo>
                  <a:pt x="2887" y="15909"/>
                  <a:pt x="2861" y="15992"/>
                  <a:pt x="2853" y="16073"/>
                </a:cubicBezTo>
                <a:cubicBezTo>
                  <a:pt x="2848" y="16121"/>
                  <a:pt x="2841" y="16210"/>
                  <a:pt x="2877" y="16247"/>
                </a:cubicBezTo>
                <a:cubicBezTo>
                  <a:pt x="2926" y="16297"/>
                  <a:pt x="3037" y="16314"/>
                  <a:pt x="3101" y="16297"/>
                </a:cubicBezTo>
                <a:cubicBezTo>
                  <a:pt x="3150" y="16272"/>
                  <a:pt x="3167" y="16263"/>
                  <a:pt x="3200" y="16247"/>
                </a:cubicBezTo>
              </a:path>
              <a:path w="3250" h="1118">
                <a:moveTo>
                  <a:pt x="3349" y="15825"/>
                </a:moveTo>
                <a:cubicBezTo>
                  <a:pt x="3327" y="15912"/>
                  <a:pt x="3299" y="15966"/>
                  <a:pt x="3299" y="16049"/>
                </a:cubicBezTo>
                <a:cubicBezTo>
                  <a:pt x="3299" y="16155"/>
                  <a:pt x="3301" y="16247"/>
                  <a:pt x="3324" y="16346"/>
                </a:cubicBezTo>
                <a:cubicBezTo>
                  <a:pt x="3345" y="16437"/>
                  <a:pt x="3300" y="16353"/>
                  <a:pt x="3274" y="16321"/>
                </a:cubicBezTo>
              </a:path>
              <a:path w="3250" h="1118">
                <a:moveTo>
                  <a:pt x="3101" y="15999"/>
                </a:moveTo>
                <a:cubicBezTo>
                  <a:pt x="3161" y="15999"/>
                  <a:pt x="3178" y="16004"/>
                  <a:pt x="3225" y="16024"/>
                </a:cubicBezTo>
                <a:cubicBezTo>
                  <a:pt x="3289" y="16051"/>
                  <a:pt x="3362" y="16068"/>
                  <a:pt x="3423" y="16024"/>
                </a:cubicBezTo>
                <a:cubicBezTo>
                  <a:pt x="3492" y="15974"/>
                  <a:pt x="3521" y="15891"/>
                  <a:pt x="3547" y="15825"/>
                </a:cubicBezTo>
                <a:cubicBezTo>
                  <a:pt x="3567" y="15775"/>
                  <a:pt x="3572" y="15755"/>
                  <a:pt x="3572" y="15701"/>
                </a:cubicBezTo>
                <a:cubicBezTo>
                  <a:pt x="3546" y="15747"/>
                  <a:pt x="3506" y="15797"/>
                  <a:pt x="3497" y="15850"/>
                </a:cubicBezTo>
                <a:cubicBezTo>
                  <a:pt x="3483" y="15927"/>
                  <a:pt x="3455" y="16016"/>
                  <a:pt x="3473" y="16098"/>
                </a:cubicBezTo>
                <a:cubicBezTo>
                  <a:pt x="3487" y="16161"/>
                  <a:pt x="3497" y="16204"/>
                  <a:pt x="3497" y="16272"/>
                </a:cubicBezTo>
                <a:cubicBezTo>
                  <a:pt x="3525" y="16217"/>
                  <a:pt x="3539" y="16148"/>
                  <a:pt x="3572" y="16098"/>
                </a:cubicBezTo>
                <a:cubicBezTo>
                  <a:pt x="3596" y="16062"/>
                  <a:pt x="3674" y="16055"/>
                  <a:pt x="3696" y="16098"/>
                </a:cubicBezTo>
                <a:cubicBezTo>
                  <a:pt x="3704" y="16115"/>
                  <a:pt x="3730" y="16216"/>
                  <a:pt x="3746" y="16222"/>
                </a:cubicBezTo>
                <a:cubicBezTo>
                  <a:pt x="3797" y="16222"/>
                  <a:pt x="3814" y="16220"/>
                  <a:pt x="3820" y="16173"/>
                </a:cubicBezTo>
              </a:path>
              <a:path w="3250" h="1118">
                <a:moveTo>
                  <a:pt x="3994" y="16049"/>
                </a:moveTo>
                <a:cubicBezTo>
                  <a:pt x="3994" y="16111"/>
                  <a:pt x="3984" y="16167"/>
                  <a:pt x="4018" y="16222"/>
                </a:cubicBezTo>
                <a:cubicBezTo>
                  <a:pt x="4059" y="16288"/>
                  <a:pt x="4120" y="16274"/>
                  <a:pt x="4167" y="16247"/>
                </a:cubicBezTo>
                <a:cubicBezTo>
                  <a:pt x="4225" y="16214"/>
                  <a:pt x="4261" y="16171"/>
                  <a:pt x="4266" y="16098"/>
                </a:cubicBezTo>
                <a:cubicBezTo>
                  <a:pt x="4271" y="16025"/>
                  <a:pt x="4266" y="15949"/>
                  <a:pt x="4266" y="15875"/>
                </a:cubicBezTo>
                <a:cubicBezTo>
                  <a:pt x="4266" y="15979"/>
                  <a:pt x="4280" y="16072"/>
                  <a:pt x="4291" y="16173"/>
                </a:cubicBezTo>
                <a:cubicBezTo>
                  <a:pt x="4303" y="16282"/>
                  <a:pt x="4325" y="16390"/>
                  <a:pt x="4341" y="16495"/>
                </a:cubicBezTo>
                <a:cubicBezTo>
                  <a:pt x="4346" y="16524"/>
                  <a:pt x="4358" y="16671"/>
                  <a:pt x="4316" y="16694"/>
                </a:cubicBezTo>
                <a:cubicBezTo>
                  <a:pt x="4213" y="16750"/>
                  <a:pt x="4088" y="16619"/>
                  <a:pt x="4018" y="16570"/>
                </a:cubicBezTo>
                <a:cubicBezTo>
                  <a:pt x="3961" y="16530"/>
                  <a:pt x="3875" y="16471"/>
                  <a:pt x="3870" y="16396"/>
                </a:cubicBezTo>
                <a:cubicBezTo>
                  <a:pt x="3870" y="16379"/>
                  <a:pt x="3870" y="16363"/>
                  <a:pt x="3870" y="16346"/>
                </a:cubicBezTo>
              </a:path>
              <a:path w="3250" h="1118">
                <a:moveTo>
                  <a:pt x="4341" y="15652"/>
                </a:moveTo>
                <a:cubicBezTo>
                  <a:pt x="4392" y="15669"/>
                  <a:pt x="4366" y="15767"/>
                  <a:pt x="4366" y="15825"/>
                </a:cubicBezTo>
                <a:cubicBezTo>
                  <a:pt x="4366" y="15954"/>
                  <a:pt x="4374" y="16072"/>
                  <a:pt x="4390" y="16197"/>
                </a:cubicBezTo>
                <a:cubicBezTo>
                  <a:pt x="4399" y="16264"/>
                  <a:pt x="4405" y="16419"/>
                  <a:pt x="4366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85960" y="5616720"/>
            <a:ext cx="1036440" cy="258480"/>
          </a:xfrm>
          <a:custGeom>
            <a:avLst/>
            <a:gdLst/>
            <a:ahLst/>
            <a:rect l="l" t="t" r="r" b="b"/>
            <a:pathLst>
              <a:path w="2878" h="720">
                <a:moveTo>
                  <a:pt x="4961" y="15602"/>
                </a:moveTo>
                <a:cubicBezTo>
                  <a:pt x="5021" y="15662"/>
                  <a:pt x="5011" y="15688"/>
                  <a:pt x="5011" y="15776"/>
                </a:cubicBezTo>
                <a:cubicBezTo>
                  <a:pt x="5011" y="15866"/>
                  <a:pt x="4999" y="15940"/>
                  <a:pt x="4986" y="16024"/>
                </a:cubicBezTo>
                <a:cubicBezTo>
                  <a:pt x="4979" y="16070"/>
                  <a:pt x="4986" y="16126"/>
                  <a:pt x="4986" y="16173"/>
                </a:cubicBezTo>
                <a:cubicBezTo>
                  <a:pt x="4986" y="16110"/>
                  <a:pt x="5019" y="16110"/>
                  <a:pt x="5035" y="16049"/>
                </a:cubicBezTo>
                <a:cubicBezTo>
                  <a:pt x="5047" y="16005"/>
                  <a:pt x="5052" y="15919"/>
                  <a:pt x="5085" y="15900"/>
                </a:cubicBezTo>
                <a:cubicBezTo>
                  <a:pt x="5142" y="15867"/>
                  <a:pt x="5187" y="15910"/>
                  <a:pt x="5209" y="15949"/>
                </a:cubicBezTo>
                <a:cubicBezTo>
                  <a:pt x="5242" y="16006"/>
                  <a:pt x="5234" y="16060"/>
                  <a:pt x="5234" y="16123"/>
                </a:cubicBezTo>
                <a:cubicBezTo>
                  <a:pt x="5234" y="16213"/>
                  <a:pt x="5142" y="16154"/>
                  <a:pt x="5110" y="16148"/>
                </a:cubicBezTo>
                <a:cubicBezTo>
                  <a:pt x="5028" y="16132"/>
                  <a:pt x="5002" y="16142"/>
                  <a:pt x="5085" y="16073"/>
                </a:cubicBezTo>
              </a:path>
              <a:path w="2878" h="720">
                <a:moveTo>
                  <a:pt x="5383" y="16024"/>
                </a:moveTo>
                <a:cubicBezTo>
                  <a:pt x="5429" y="15988"/>
                  <a:pt x="5470" y="15999"/>
                  <a:pt x="5531" y="15999"/>
                </a:cubicBezTo>
                <a:cubicBezTo>
                  <a:pt x="5584" y="15999"/>
                  <a:pt x="5595" y="15918"/>
                  <a:pt x="5581" y="15875"/>
                </a:cubicBezTo>
                <a:cubicBezTo>
                  <a:pt x="5567" y="15833"/>
                  <a:pt x="5477" y="15784"/>
                  <a:pt x="5457" y="15850"/>
                </a:cubicBezTo>
                <a:cubicBezTo>
                  <a:pt x="5437" y="15915"/>
                  <a:pt x="5432" y="15975"/>
                  <a:pt x="5432" y="16049"/>
                </a:cubicBezTo>
                <a:cubicBezTo>
                  <a:pt x="5432" y="16103"/>
                  <a:pt x="5456" y="16147"/>
                  <a:pt x="5507" y="16173"/>
                </a:cubicBezTo>
                <a:cubicBezTo>
                  <a:pt x="5564" y="16202"/>
                  <a:pt x="5601" y="16185"/>
                  <a:pt x="5655" y="16173"/>
                </a:cubicBezTo>
              </a:path>
              <a:path w="2878" h="720">
                <a:moveTo>
                  <a:pt x="5779" y="15825"/>
                </a:moveTo>
                <a:cubicBezTo>
                  <a:pt x="5744" y="15874"/>
                  <a:pt x="5755" y="15908"/>
                  <a:pt x="5755" y="15974"/>
                </a:cubicBezTo>
                <a:cubicBezTo>
                  <a:pt x="5755" y="16024"/>
                  <a:pt x="5755" y="16073"/>
                  <a:pt x="5755" y="16123"/>
                </a:cubicBezTo>
                <a:cubicBezTo>
                  <a:pt x="5797" y="16101"/>
                  <a:pt x="5827" y="16049"/>
                  <a:pt x="5854" y="15999"/>
                </a:cubicBezTo>
                <a:cubicBezTo>
                  <a:pt x="5876" y="15957"/>
                  <a:pt x="5914" y="15883"/>
                  <a:pt x="5978" y="15900"/>
                </a:cubicBezTo>
                <a:cubicBezTo>
                  <a:pt x="6035" y="15915"/>
                  <a:pt x="6066" y="16039"/>
                  <a:pt x="6077" y="16098"/>
                </a:cubicBezTo>
                <a:cubicBezTo>
                  <a:pt x="6088" y="16154"/>
                  <a:pt x="6082" y="16282"/>
                  <a:pt x="6127" y="16247"/>
                </a:cubicBezTo>
                <a:cubicBezTo>
                  <a:pt x="6143" y="16222"/>
                  <a:pt x="6160" y="16198"/>
                  <a:pt x="6176" y="16173"/>
                </a:cubicBezTo>
              </a:path>
              <a:path w="2878" h="720">
                <a:moveTo>
                  <a:pt x="6201" y="15925"/>
                </a:moveTo>
                <a:cubicBezTo>
                  <a:pt x="6218" y="15915"/>
                  <a:pt x="6301" y="15874"/>
                  <a:pt x="6325" y="15900"/>
                </a:cubicBezTo>
                <a:cubicBezTo>
                  <a:pt x="6358" y="15936"/>
                  <a:pt x="6402" y="16014"/>
                  <a:pt x="6350" y="16049"/>
                </a:cubicBezTo>
                <a:cubicBezTo>
                  <a:pt x="6314" y="16073"/>
                  <a:pt x="6256" y="16103"/>
                  <a:pt x="6251" y="16148"/>
                </a:cubicBezTo>
                <a:cubicBezTo>
                  <a:pt x="6251" y="16214"/>
                  <a:pt x="6251" y="16231"/>
                  <a:pt x="6251" y="16272"/>
                </a:cubicBezTo>
                <a:cubicBezTo>
                  <a:pt x="6315" y="16281"/>
                  <a:pt x="6353" y="16297"/>
                  <a:pt x="6424" y="16297"/>
                </a:cubicBezTo>
                <a:cubicBezTo>
                  <a:pt x="6496" y="16297"/>
                  <a:pt x="6525" y="16270"/>
                  <a:pt x="6573" y="16222"/>
                </a:cubicBezTo>
                <a:cubicBezTo>
                  <a:pt x="6581" y="16214"/>
                  <a:pt x="6590" y="16205"/>
                  <a:pt x="6598" y="16197"/>
                </a:cubicBezTo>
              </a:path>
              <a:path w="2878" h="720">
                <a:moveTo>
                  <a:pt x="6623" y="15974"/>
                </a:moveTo>
                <a:cubicBezTo>
                  <a:pt x="6681" y="15996"/>
                  <a:pt x="6755" y="16024"/>
                  <a:pt x="6796" y="15949"/>
                </a:cubicBezTo>
                <a:cubicBezTo>
                  <a:pt x="6831" y="15887"/>
                  <a:pt x="6739" y="15861"/>
                  <a:pt x="6697" y="15875"/>
                </a:cubicBezTo>
                <a:cubicBezTo>
                  <a:pt x="6668" y="15885"/>
                  <a:pt x="6583" y="15940"/>
                  <a:pt x="6573" y="15974"/>
                </a:cubicBezTo>
                <a:cubicBezTo>
                  <a:pt x="6558" y="16027"/>
                  <a:pt x="6598" y="16107"/>
                  <a:pt x="6623" y="16148"/>
                </a:cubicBezTo>
                <a:cubicBezTo>
                  <a:pt x="6655" y="16202"/>
                  <a:pt x="6749" y="16250"/>
                  <a:pt x="6796" y="16297"/>
                </a:cubicBezTo>
                <a:cubicBezTo>
                  <a:pt x="6825" y="16325"/>
                  <a:pt x="6838" y="16333"/>
                  <a:pt x="6871" y="16321"/>
                </a:cubicBezTo>
              </a:path>
              <a:path w="2878" h="720">
                <a:moveTo>
                  <a:pt x="7020" y="15825"/>
                </a:moveTo>
                <a:cubicBezTo>
                  <a:pt x="7020" y="15923"/>
                  <a:pt x="7024" y="16006"/>
                  <a:pt x="7045" y="16098"/>
                </a:cubicBezTo>
                <a:cubicBezTo>
                  <a:pt x="7045" y="16106"/>
                  <a:pt x="7045" y="16115"/>
                  <a:pt x="7045" y="16123"/>
                </a:cubicBezTo>
                <a:cubicBezTo>
                  <a:pt x="7077" y="16082"/>
                  <a:pt x="7096" y="16040"/>
                  <a:pt x="7119" y="15999"/>
                </a:cubicBezTo>
                <a:cubicBezTo>
                  <a:pt x="7152" y="15942"/>
                  <a:pt x="7146" y="15892"/>
                  <a:pt x="7193" y="15925"/>
                </a:cubicBezTo>
                <a:cubicBezTo>
                  <a:pt x="7284" y="15988"/>
                  <a:pt x="7267" y="16028"/>
                  <a:pt x="7317" y="16098"/>
                </a:cubicBezTo>
                <a:cubicBezTo>
                  <a:pt x="7321" y="16103"/>
                  <a:pt x="7387" y="16244"/>
                  <a:pt x="7392" y="16247"/>
                </a:cubicBezTo>
                <a:cubicBezTo>
                  <a:pt x="7392" y="16239"/>
                  <a:pt x="7392" y="16230"/>
                  <a:pt x="7392" y="16222"/>
                </a:cubicBezTo>
              </a:path>
              <a:path w="2878" h="720">
                <a:moveTo>
                  <a:pt x="7565" y="16024"/>
                </a:moveTo>
                <a:cubicBezTo>
                  <a:pt x="7676" y="16024"/>
                  <a:pt x="7666" y="16028"/>
                  <a:pt x="7739" y="15974"/>
                </a:cubicBezTo>
                <a:cubicBezTo>
                  <a:pt x="7787" y="15950"/>
                  <a:pt x="7804" y="15944"/>
                  <a:pt x="7789" y="15900"/>
                </a:cubicBezTo>
                <a:cubicBezTo>
                  <a:pt x="7769" y="15859"/>
                  <a:pt x="7722" y="15828"/>
                  <a:pt x="7665" y="15825"/>
                </a:cubicBezTo>
                <a:cubicBezTo>
                  <a:pt x="7538" y="15819"/>
                  <a:pt x="7548" y="15853"/>
                  <a:pt x="7516" y="15949"/>
                </a:cubicBezTo>
                <a:cubicBezTo>
                  <a:pt x="7507" y="15974"/>
                  <a:pt x="7464" y="16066"/>
                  <a:pt x="7491" y="16098"/>
                </a:cubicBezTo>
                <a:cubicBezTo>
                  <a:pt x="7515" y="16127"/>
                  <a:pt x="7607" y="16229"/>
                  <a:pt x="7640" y="16247"/>
                </a:cubicBezTo>
                <a:cubicBezTo>
                  <a:pt x="7682" y="16270"/>
                  <a:pt x="7829" y="16249"/>
                  <a:pt x="7838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1240" y="6197760"/>
            <a:ext cx="258840" cy="179280"/>
          </a:xfrm>
          <a:custGeom>
            <a:avLst/>
            <a:gdLst/>
            <a:ahLst/>
            <a:rect l="l" t="t" r="r" b="b"/>
            <a:pathLst>
              <a:path w="720" h="498">
                <a:moveTo>
                  <a:pt x="2456" y="17314"/>
                </a:moveTo>
                <a:cubicBezTo>
                  <a:pt x="2430" y="17253"/>
                  <a:pt x="2431" y="17219"/>
                  <a:pt x="2356" y="17214"/>
                </a:cubicBezTo>
                <a:cubicBezTo>
                  <a:pt x="2306" y="17211"/>
                  <a:pt x="2241" y="17221"/>
                  <a:pt x="2208" y="17264"/>
                </a:cubicBezTo>
                <a:cubicBezTo>
                  <a:pt x="2192" y="17285"/>
                  <a:pt x="2141" y="17328"/>
                  <a:pt x="2133" y="17363"/>
                </a:cubicBezTo>
                <a:cubicBezTo>
                  <a:pt x="2119" y="17427"/>
                  <a:pt x="2074" y="17447"/>
                  <a:pt x="2059" y="17512"/>
                </a:cubicBezTo>
                <a:cubicBezTo>
                  <a:pt x="2048" y="17559"/>
                  <a:pt x="2059" y="17622"/>
                  <a:pt x="2084" y="17661"/>
                </a:cubicBezTo>
                <a:cubicBezTo>
                  <a:pt x="2108" y="17698"/>
                  <a:pt x="2145" y="17703"/>
                  <a:pt x="2183" y="17711"/>
                </a:cubicBezTo>
                <a:cubicBezTo>
                  <a:pt x="2215" y="17637"/>
                  <a:pt x="2225" y="17640"/>
                  <a:pt x="2282" y="17587"/>
                </a:cubicBezTo>
                <a:cubicBezTo>
                  <a:pt x="2328" y="17544"/>
                  <a:pt x="2362" y="17475"/>
                  <a:pt x="2381" y="17413"/>
                </a:cubicBezTo>
                <a:cubicBezTo>
                  <a:pt x="2400" y="17351"/>
                  <a:pt x="2381" y="17320"/>
                  <a:pt x="2431" y="17264"/>
                </a:cubicBezTo>
                <a:cubicBezTo>
                  <a:pt x="2471" y="17219"/>
                  <a:pt x="2542" y="17181"/>
                  <a:pt x="2604" y="17214"/>
                </a:cubicBezTo>
                <a:cubicBezTo>
                  <a:pt x="2668" y="17248"/>
                  <a:pt x="2704" y="17289"/>
                  <a:pt x="2778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8280" y="6116760"/>
            <a:ext cx="1224000" cy="376200"/>
          </a:xfrm>
          <a:custGeom>
            <a:avLst/>
            <a:gdLst/>
            <a:ahLst/>
            <a:rect l="l" t="t" r="r" b="b"/>
            <a:pathLst>
              <a:path w="3400" h="1043">
                <a:moveTo>
                  <a:pt x="3522" y="17363"/>
                </a:moveTo>
                <a:cubicBezTo>
                  <a:pt x="3534" y="17314"/>
                  <a:pt x="3579" y="17283"/>
                  <a:pt x="3621" y="17338"/>
                </a:cubicBezTo>
                <a:cubicBezTo>
                  <a:pt x="3661" y="17390"/>
                  <a:pt x="3671" y="17424"/>
                  <a:pt x="3671" y="17487"/>
                </a:cubicBezTo>
                <a:cubicBezTo>
                  <a:pt x="3671" y="17522"/>
                  <a:pt x="3745" y="17602"/>
                  <a:pt x="3770" y="17636"/>
                </a:cubicBezTo>
                <a:cubicBezTo>
                  <a:pt x="3816" y="17697"/>
                  <a:pt x="3815" y="17711"/>
                  <a:pt x="3894" y="17711"/>
                </a:cubicBezTo>
                <a:cubicBezTo>
                  <a:pt x="3992" y="17711"/>
                  <a:pt x="4003" y="17667"/>
                  <a:pt x="4043" y="17587"/>
                </a:cubicBezTo>
              </a:path>
              <a:path w="3400" h="1043">
                <a:moveTo>
                  <a:pt x="3919" y="17289"/>
                </a:moveTo>
                <a:cubicBezTo>
                  <a:pt x="3877" y="17367"/>
                  <a:pt x="3879" y="17439"/>
                  <a:pt x="3845" y="17512"/>
                </a:cubicBezTo>
                <a:cubicBezTo>
                  <a:pt x="3810" y="17588"/>
                  <a:pt x="3757" y="17633"/>
                  <a:pt x="3696" y="17686"/>
                </a:cubicBezTo>
                <a:cubicBezTo>
                  <a:pt x="3664" y="17714"/>
                  <a:pt x="3647" y="17752"/>
                  <a:pt x="3621" y="17785"/>
                </a:cubicBezTo>
                <a:cubicBezTo>
                  <a:pt x="3662" y="17868"/>
                  <a:pt x="3691" y="17815"/>
                  <a:pt x="3746" y="17760"/>
                </a:cubicBezTo>
              </a:path>
              <a:path w="3400" h="1043">
                <a:moveTo>
                  <a:pt x="4316" y="17388"/>
                </a:moveTo>
                <a:cubicBezTo>
                  <a:pt x="4316" y="17455"/>
                  <a:pt x="4301" y="17529"/>
                  <a:pt x="4341" y="17587"/>
                </a:cubicBezTo>
                <a:cubicBezTo>
                  <a:pt x="4375" y="17636"/>
                  <a:pt x="4408" y="17661"/>
                  <a:pt x="4465" y="17661"/>
                </a:cubicBezTo>
                <a:cubicBezTo>
                  <a:pt x="4561" y="17661"/>
                  <a:pt x="4569" y="17656"/>
                  <a:pt x="4638" y="17587"/>
                </a:cubicBezTo>
                <a:cubicBezTo>
                  <a:pt x="4689" y="17536"/>
                  <a:pt x="4738" y="17482"/>
                  <a:pt x="4762" y="17413"/>
                </a:cubicBezTo>
                <a:cubicBezTo>
                  <a:pt x="4764" y="17407"/>
                  <a:pt x="4762" y="17320"/>
                  <a:pt x="4762" y="17388"/>
                </a:cubicBezTo>
                <a:cubicBezTo>
                  <a:pt x="4762" y="17462"/>
                  <a:pt x="4782" y="17518"/>
                  <a:pt x="4812" y="17587"/>
                </a:cubicBezTo>
                <a:cubicBezTo>
                  <a:pt x="4843" y="17658"/>
                  <a:pt x="4881" y="17707"/>
                  <a:pt x="4887" y="17785"/>
                </a:cubicBezTo>
                <a:cubicBezTo>
                  <a:pt x="4892" y="17850"/>
                  <a:pt x="4875" y="17905"/>
                  <a:pt x="4837" y="17959"/>
                </a:cubicBezTo>
                <a:cubicBezTo>
                  <a:pt x="4799" y="18013"/>
                  <a:pt x="4789" y="18029"/>
                  <a:pt x="4713" y="18033"/>
                </a:cubicBezTo>
                <a:cubicBezTo>
                  <a:pt x="4674" y="18035"/>
                  <a:pt x="4559" y="17999"/>
                  <a:pt x="4539" y="17959"/>
                </a:cubicBezTo>
                <a:cubicBezTo>
                  <a:pt x="4531" y="17944"/>
                  <a:pt x="4539" y="17853"/>
                  <a:pt x="4539" y="17835"/>
                </a:cubicBezTo>
              </a:path>
              <a:path w="3400" h="1043">
                <a:moveTo>
                  <a:pt x="5234" y="16991"/>
                </a:moveTo>
                <a:cubicBezTo>
                  <a:pt x="5234" y="17168"/>
                  <a:pt x="5237" y="17343"/>
                  <a:pt x="5209" y="17512"/>
                </a:cubicBezTo>
                <a:cubicBezTo>
                  <a:pt x="5201" y="17557"/>
                  <a:pt x="5182" y="17689"/>
                  <a:pt x="5259" y="17661"/>
                </a:cubicBezTo>
                <a:cubicBezTo>
                  <a:pt x="5267" y="17653"/>
                  <a:pt x="5275" y="17644"/>
                  <a:pt x="5283" y="17636"/>
                </a:cubicBezTo>
              </a:path>
              <a:path w="3400" h="1043">
                <a:moveTo>
                  <a:pt x="5407" y="17537"/>
                </a:moveTo>
                <a:cubicBezTo>
                  <a:pt x="5422" y="17533"/>
                  <a:pt x="5569" y="17520"/>
                  <a:pt x="5581" y="17512"/>
                </a:cubicBezTo>
                <a:cubicBezTo>
                  <a:pt x="5612" y="17491"/>
                  <a:pt x="5730" y="17388"/>
                  <a:pt x="5680" y="17338"/>
                </a:cubicBezTo>
                <a:cubicBezTo>
                  <a:pt x="5630" y="17288"/>
                  <a:pt x="5539" y="17306"/>
                  <a:pt x="5507" y="17363"/>
                </a:cubicBezTo>
                <a:cubicBezTo>
                  <a:pt x="5456" y="17453"/>
                  <a:pt x="5443" y="17465"/>
                  <a:pt x="5507" y="17537"/>
                </a:cubicBezTo>
                <a:cubicBezTo>
                  <a:pt x="5543" y="17577"/>
                  <a:pt x="5586" y="17609"/>
                  <a:pt x="5631" y="17636"/>
                </a:cubicBezTo>
                <a:cubicBezTo>
                  <a:pt x="5677" y="17664"/>
                  <a:pt x="5704" y="17661"/>
                  <a:pt x="5755" y="17661"/>
                </a:cubicBezTo>
              </a:path>
              <a:path w="3400" h="1043">
                <a:moveTo>
                  <a:pt x="5978" y="17338"/>
                </a:moveTo>
                <a:cubicBezTo>
                  <a:pt x="5965" y="17388"/>
                  <a:pt x="5953" y="17402"/>
                  <a:pt x="5953" y="17462"/>
                </a:cubicBezTo>
                <a:cubicBezTo>
                  <a:pt x="5953" y="17504"/>
                  <a:pt x="5928" y="17535"/>
                  <a:pt x="5928" y="17587"/>
                </a:cubicBezTo>
                <a:cubicBezTo>
                  <a:pt x="6007" y="17555"/>
                  <a:pt x="6010" y="17477"/>
                  <a:pt x="6077" y="17438"/>
                </a:cubicBezTo>
                <a:cubicBezTo>
                  <a:pt x="6104" y="17422"/>
                  <a:pt x="6192" y="17396"/>
                  <a:pt x="6226" y="17388"/>
                </a:cubicBezTo>
                <a:cubicBezTo>
                  <a:pt x="6226" y="17462"/>
                  <a:pt x="6216" y="17527"/>
                  <a:pt x="6251" y="17587"/>
                </a:cubicBezTo>
                <a:cubicBezTo>
                  <a:pt x="6276" y="17636"/>
                  <a:pt x="6284" y="17652"/>
                  <a:pt x="6325" y="17611"/>
                </a:cubicBezTo>
              </a:path>
              <a:path w="3400" h="1043">
                <a:moveTo>
                  <a:pt x="6524" y="17462"/>
                </a:moveTo>
                <a:cubicBezTo>
                  <a:pt x="6564" y="17462"/>
                  <a:pt x="6617" y="17472"/>
                  <a:pt x="6648" y="17438"/>
                </a:cubicBezTo>
                <a:cubicBezTo>
                  <a:pt x="6676" y="17408"/>
                  <a:pt x="6691" y="17369"/>
                  <a:pt x="6722" y="17338"/>
                </a:cubicBezTo>
                <a:cubicBezTo>
                  <a:pt x="6696" y="17317"/>
                  <a:pt x="6610" y="17258"/>
                  <a:pt x="6573" y="17264"/>
                </a:cubicBezTo>
                <a:cubicBezTo>
                  <a:pt x="6526" y="17272"/>
                  <a:pt x="6472" y="17350"/>
                  <a:pt x="6449" y="17388"/>
                </a:cubicBezTo>
                <a:cubicBezTo>
                  <a:pt x="6438" y="17406"/>
                  <a:pt x="6398" y="17514"/>
                  <a:pt x="6424" y="17537"/>
                </a:cubicBezTo>
                <a:cubicBezTo>
                  <a:pt x="6488" y="17595"/>
                  <a:pt x="6566" y="17632"/>
                  <a:pt x="6648" y="17661"/>
                </a:cubicBezTo>
                <a:cubicBezTo>
                  <a:pt x="6720" y="17686"/>
                  <a:pt x="6797" y="17705"/>
                  <a:pt x="6871" y="17711"/>
                </a:cubicBezTo>
                <a:cubicBezTo>
                  <a:pt x="6906" y="17711"/>
                  <a:pt x="6919" y="17702"/>
                  <a:pt x="6921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71920" y="4491000"/>
            <a:ext cx="785880" cy="206280"/>
          </a:xfrm>
          <a:custGeom>
            <a:avLst/>
            <a:gdLst/>
            <a:ahLst/>
            <a:rect l="l" t="t" r="r" b="b"/>
            <a:pathLst>
              <a:path w="2184" h="571">
                <a:moveTo>
                  <a:pt x="9922" y="12650"/>
                </a:moveTo>
                <a:cubicBezTo>
                  <a:pt x="9922" y="12733"/>
                  <a:pt x="9922" y="12815"/>
                  <a:pt x="9922" y="12898"/>
                </a:cubicBezTo>
                <a:cubicBezTo>
                  <a:pt x="9926" y="12864"/>
                  <a:pt x="9955" y="12722"/>
                  <a:pt x="9971" y="12700"/>
                </a:cubicBezTo>
                <a:cubicBezTo>
                  <a:pt x="9997" y="12665"/>
                  <a:pt x="10076" y="12637"/>
                  <a:pt x="10120" y="12650"/>
                </a:cubicBezTo>
                <a:cubicBezTo>
                  <a:pt x="10187" y="12670"/>
                  <a:pt x="10225" y="12736"/>
                  <a:pt x="10244" y="12799"/>
                </a:cubicBezTo>
                <a:cubicBezTo>
                  <a:pt x="10264" y="12864"/>
                  <a:pt x="10250" y="12996"/>
                  <a:pt x="10220" y="13047"/>
                </a:cubicBezTo>
                <a:cubicBezTo>
                  <a:pt x="10220" y="12969"/>
                  <a:pt x="10207" y="12889"/>
                  <a:pt x="10244" y="12824"/>
                </a:cubicBezTo>
                <a:cubicBezTo>
                  <a:pt x="10268" y="12782"/>
                  <a:pt x="10279" y="12706"/>
                  <a:pt x="10319" y="12675"/>
                </a:cubicBezTo>
                <a:cubicBezTo>
                  <a:pt x="10366" y="12639"/>
                  <a:pt x="10424" y="12695"/>
                  <a:pt x="10443" y="12725"/>
                </a:cubicBezTo>
                <a:cubicBezTo>
                  <a:pt x="10476" y="12776"/>
                  <a:pt x="10468" y="12816"/>
                  <a:pt x="10468" y="12874"/>
                </a:cubicBezTo>
                <a:cubicBezTo>
                  <a:pt x="10468" y="12922"/>
                  <a:pt x="10465" y="12961"/>
                  <a:pt x="10517" y="12973"/>
                </a:cubicBezTo>
                <a:cubicBezTo>
                  <a:pt x="10525" y="12973"/>
                  <a:pt x="10534" y="12973"/>
                  <a:pt x="10542" y="12973"/>
                </a:cubicBezTo>
              </a:path>
              <a:path w="2184" h="571">
                <a:moveTo>
                  <a:pt x="10740" y="12799"/>
                </a:moveTo>
                <a:cubicBezTo>
                  <a:pt x="10807" y="12799"/>
                  <a:pt x="10827" y="12779"/>
                  <a:pt x="10889" y="12774"/>
                </a:cubicBezTo>
                <a:cubicBezTo>
                  <a:pt x="10923" y="12771"/>
                  <a:pt x="11020" y="12761"/>
                  <a:pt x="10988" y="12700"/>
                </a:cubicBezTo>
                <a:cubicBezTo>
                  <a:pt x="10962" y="12650"/>
                  <a:pt x="10842" y="12621"/>
                  <a:pt x="10790" y="12650"/>
                </a:cubicBezTo>
                <a:cubicBezTo>
                  <a:pt x="10721" y="12689"/>
                  <a:pt x="10716" y="12732"/>
                  <a:pt x="10716" y="12799"/>
                </a:cubicBezTo>
                <a:cubicBezTo>
                  <a:pt x="10716" y="12856"/>
                  <a:pt x="10779" y="12909"/>
                  <a:pt x="10840" y="12923"/>
                </a:cubicBezTo>
                <a:cubicBezTo>
                  <a:pt x="10901" y="12937"/>
                  <a:pt x="10999" y="12971"/>
                  <a:pt x="11063" y="12948"/>
                </a:cubicBezTo>
                <a:cubicBezTo>
                  <a:pt x="11109" y="12931"/>
                  <a:pt x="11136" y="12885"/>
                  <a:pt x="11162" y="12849"/>
                </a:cubicBezTo>
              </a:path>
              <a:path w="2184" h="571">
                <a:moveTo>
                  <a:pt x="11336" y="12477"/>
                </a:moveTo>
                <a:cubicBezTo>
                  <a:pt x="11336" y="12538"/>
                  <a:pt x="11316" y="12558"/>
                  <a:pt x="11311" y="12626"/>
                </a:cubicBezTo>
                <a:cubicBezTo>
                  <a:pt x="11304" y="12726"/>
                  <a:pt x="11323" y="12742"/>
                  <a:pt x="11361" y="12824"/>
                </a:cubicBezTo>
                <a:cubicBezTo>
                  <a:pt x="11372" y="12849"/>
                  <a:pt x="11361" y="12895"/>
                  <a:pt x="11361" y="12923"/>
                </a:cubicBezTo>
                <a:cubicBezTo>
                  <a:pt x="11339" y="12880"/>
                  <a:pt x="11326" y="12868"/>
                  <a:pt x="11361" y="12849"/>
                </a:cubicBezTo>
              </a:path>
              <a:path w="2184" h="571">
                <a:moveTo>
                  <a:pt x="11137" y="12700"/>
                </a:moveTo>
                <a:cubicBezTo>
                  <a:pt x="11229" y="12700"/>
                  <a:pt x="11300" y="12695"/>
                  <a:pt x="11385" y="12675"/>
                </a:cubicBezTo>
                <a:cubicBezTo>
                  <a:pt x="11425" y="12666"/>
                  <a:pt x="11469" y="12654"/>
                  <a:pt x="11509" y="12650"/>
                </a:cubicBezTo>
                <a:cubicBezTo>
                  <a:pt x="11517" y="12650"/>
                  <a:pt x="11526" y="12650"/>
                  <a:pt x="11534" y="12650"/>
                </a:cubicBezTo>
              </a:path>
              <a:path w="2184" h="571">
                <a:moveTo>
                  <a:pt x="11832" y="12750"/>
                </a:moveTo>
                <a:cubicBezTo>
                  <a:pt x="11808" y="12678"/>
                  <a:pt x="11791" y="12700"/>
                  <a:pt x="11708" y="12700"/>
                </a:cubicBezTo>
                <a:cubicBezTo>
                  <a:pt x="11660" y="12700"/>
                  <a:pt x="11623" y="12756"/>
                  <a:pt x="11609" y="12799"/>
                </a:cubicBezTo>
                <a:cubicBezTo>
                  <a:pt x="11593" y="12846"/>
                  <a:pt x="11558" y="12896"/>
                  <a:pt x="11609" y="12948"/>
                </a:cubicBezTo>
                <a:cubicBezTo>
                  <a:pt x="11634" y="12973"/>
                  <a:pt x="11725" y="12989"/>
                  <a:pt x="11757" y="12973"/>
                </a:cubicBezTo>
                <a:cubicBezTo>
                  <a:pt x="11817" y="12943"/>
                  <a:pt x="11832" y="12878"/>
                  <a:pt x="11857" y="12824"/>
                </a:cubicBezTo>
                <a:cubicBezTo>
                  <a:pt x="11865" y="12807"/>
                  <a:pt x="11873" y="12791"/>
                  <a:pt x="11881" y="12774"/>
                </a:cubicBezTo>
                <a:cubicBezTo>
                  <a:pt x="11849" y="12829"/>
                  <a:pt x="11849" y="12856"/>
                  <a:pt x="11906" y="12898"/>
                </a:cubicBezTo>
                <a:cubicBezTo>
                  <a:pt x="12003" y="12969"/>
                  <a:pt x="12040" y="12964"/>
                  <a:pt x="12105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18000" y="4446720"/>
            <a:ext cx="920880" cy="40320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12551" y="12675"/>
                </a:moveTo>
                <a:cubicBezTo>
                  <a:pt x="12595" y="12690"/>
                  <a:pt x="12576" y="12746"/>
                  <a:pt x="12576" y="12799"/>
                </a:cubicBezTo>
                <a:cubicBezTo>
                  <a:pt x="12576" y="12834"/>
                  <a:pt x="12576" y="13070"/>
                  <a:pt x="12576" y="12948"/>
                </a:cubicBezTo>
                <a:cubicBezTo>
                  <a:pt x="12576" y="12899"/>
                  <a:pt x="12623" y="12777"/>
                  <a:pt x="12650" y="12750"/>
                </a:cubicBezTo>
                <a:cubicBezTo>
                  <a:pt x="12700" y="12725"/>
                  <a:pt x="12717" y="12717"/>
                  <a:pt x="12725" y="12675"/>
                </a:cubicBezTo>
                <a:cubicBezTo>
                  <a:pt x="12762" y="12731"/>
                  <a:pt x="12794" y="12784"/>
                  <a:pt x="12799" y="12849"/>
                </a:cubicBezTo>
                <a:cubicBezTo>
                  <a:pt x="12803" y="12898"/>
                  <a:pt x="12799" y="12949"/>
                  <a:pt x="12799" y="12998"/>
                </a:cubicBezTo>
                <a:cubicBezTo>
                  <a:pt x="12835" y="12949"/>
                  <a:pt x="12814" y="12905"/>
                  <a:pt x="12849" y="12849"/>
                </a:cubicBezTo>
                <a:cubicBezTo>
                  <a:pt x="12870" y="12816"/>
                  <a:pt x="12937" y="12777"/>
                  <a:pt x="12973" y="12774"/>
                </a:cubicBezTo>
                <a:cubicBezTo>
                  <a:pt x="12989" y="12774"/>
                  <a:pt x="13006" y="12774"/>
                  <a:pt x="13022" y="12774"/>
                </a:cubicBezTo>
                <a:cubicBezTo>
                  <a:pt x="13022" y="12841"/>
                  <a:pt x="13008" y="12915"/>
                  <a:pt x="13047" y="12973"/>
                </a:cubicBezTo>
                <a:cubicBezTo>
                  <a:pt x="13078" y="13019"/>
                  <a:pt x="13072" y="13008"/>
                  <a:pt x="13072" y="13072"/>
                </a:cubicBezTo>
              </a:path>
              <a:path w="2556" h="1117">
                <a:moveTo>
                  <a:pt x="13196" y="12948"/>
                </a:moveTo>
                <a:cubicBezTo>
                  <a:pt x="13290" y="12948"/>
                  <a:pt x="13325" y="12962"/>
                  <a:pt x="13395" y="12898"/>
                </a:cubicBezTo>
                <a:cubicBezTo>
                  <a:pt x="13445" y="12852"/>
                  <a:pt x="13428" y="12795"/>
                  <a:pt x="13370" y="12774"/>
                </a:cubicBezTo>
                <a:cubicBezTo>
                  <a:pt x="13350" y="12767"/>
                  <a:pt x="13203" y="12817"/>
                  <a:pt x="13196" y="12824"/>
                </a:cubicBezTo>
                <a:cubicBezTo>
                  <a:pt x="13146" y="12874"/>
                  <a:pt x="13209" y="12932"/>
                  <a:pt x="13246" y="12973"/>
                </a:cubicBezTo>
                <a:cubicBezTo>
                  <a:pt x="13295" y="13027"/>
                  <a:pt x="13347" y="13063"/>
                  <a:pt x="13419" y="13072"/>
                </a:cubicBezTo>
                <a:cubicBezTo>
                  <a:pt x="13501" y="13083"/>
                  <a:pt x="13566" y="13066"/>
                  <a:pt x="13643" y="13047"/>
                </a:cubicBezTo>
              </a:path>
              <a:path w="2556" h="1117">
                <a:moveTo>
                  <a:pt x="13767" y="12576"/>
                </a:moveTo>
                <a:cubicBezTo>
                  <a:pt x="13767" y="12656"/>
                  <a:pt x="13781" y="12732"/>
                  <a:pt x="13791" y="12799"/>
                </a:cubicBezTo>
                <a:cubicBezTo>
                  <a:pt x="13805" y="12896"/>
                  <a:pt x="13812" y="12911"/>
                  <a:pt x="13841" y="12998"/>
                </a:cubicBezTo>
                <a:cubicBezTo>
                  <a:pt x="13853" y="13033"/>
                  <a:pt x="13829" y="13068"/>
                  <a:pt x="13816" y="13097"/>
                </a:cubicBezTo>
              </a:path>
              <a:path w="2556" h="1117">
                <a:moveTo>
                  <a:pt x="13618" y="12725"/>
                </a:moveTo>
                <a:cubicBezTo>
                  <a:pt x="13694" y="12755"/>
                  <a:pt x="13773" y="12760"/>
                  <a:pt x="13841" y="12799"/>
                </a:cubicBezTo>
                <a:cubicBezTo>
                  <a:pt x="13905" y="12835"/>
                  <a:pt x="13950" y="12819"/>
                  <a:pt x="14015" y="12774"/>
                </a:cubicBezTo>
                <a:cubicBezTo>
                  <a:pt x="14062" y="12741"/>
                  <a:pt x="14085" y="12693"/>
                  <a:pt x="14089" y="12650"/>
                </a:cubicBezTo>
                <a:cubicBezTo>
                  <a:pt x="14092" y="12618"/>
                  <a:pt x="14089" y="12582"/>
                  <a:pt x="14089" y="12551"/>
                </a:cubicBezTo>
                <a:cubicBezTo>
                  <a:pt x="14042" y="12559"/>
                  <a:pt x="14026" y="12572"/>
                  <a:pt x="14015" y="12626"/>
                </a:cubicBezTo>
                <a:cubicBezTo>
                  <a:pt x="13995" y="12723"/>
                  <a:pt x="13992" y="12942"/>
                  <a:pt x="14039" y="13022"/>
                </a:cubicBezTo>
                <a:cubicBezTo>
                  <a:pt x="14071" y="12959"/>
                  <a:pt x="14107" y="12893"/>
                  <a:pt x="14188" y="12874"/>
                </a:cubicBezTo>
                <a:cubicBezTo>
                  <a:pt x="14236" y="12863"/>
                  <a:pt x="14294" y="12828"/>
                  <a:pt x="14312" y="12874"/>
                </a:cubicBezTo>
                <a:cubicBezTo>
                  <a:pt x="14345" y="12958"/>
                  <a:pt x="14365" y="12996"/>
                  <a:pt x="14436" y="13047"/>
                </a:cubicBezTo>
              </a:path>
              <a:path w="2556" h="1117">
                <a:moveTo>
                  <a:pt x="14560" y="12874"/>
                </a:moveTo>
                <a:cubicBezTo>
                  <a:pt x="14579" y="12968"/>
                  <a:pt x="14564" y="12941"/>
                  <a:pt x="14635" y="12998"/>
                </a:cubicBezTo>
                <a:cubicBezTo>
                  <a:pt x="14671" y="12949"/>
                  <a:pt x="14650" y="12905"/>
                  <a:pt x="14684" y="12849"/>
                </a:cubicBezTo>
                <a:cubicBezTo>
                  <a:pt x="14712" y="12821"/>
                  <a:pt x="14721" y="12807"/>
                  <a:pt x="14709" y="12774"/>
                </a:cubicBezTo>
                <a:cubicBezTo>
                  <a:pt x="14692" y="12820"/>
                  <a:pt x="14670" y="12871"/>
                  <a:pt x="14684" y="12923"/>
                </a:cubicBezTo>
                <a:cubicBezTo>
                  <a:pt x="14706" y="13008"/>
                  <a:pt x="14765" y="13070"/>
                  <a:pt x="14808" y="13146"/>
                </a:cubicBezTo>
                <a:cubicBezTo>
                  <a:pt x="14849" y="13219"/>
                  <a:pt x="14894" y="13289"/>
                  <a:pt x="14908" y="13370"/>
                </a:cubicBezTo>
                <a:cubicBezTo>
                  <a:pt x="14908" y="13411"/>
                  <a:pt x="14908" y="13419"/>
                  <a:pt x="14908" y="13444"/>
                </a:cubicBezTo>
                <a:cubicBezTo>
                  <a:pt x="14811" y="13468"/>
                  <a:pt x="14796" y="13428"/>
                  <a:pt x="14734" y="13345"/>
                </a:cubicBezTo>
                <a:cubicBezTo>
                  <a:pt x="14682" y="13268"/>
                  <a:pt x="14665" y="13240"/>
                  <a:pt x="14684" y="13171"/>
                </a:cubicBezTo>
              </a:path>
              <a:path w="2556" h="1117">
                <a:moveTo>
                  <a:pt x="15106" y="12353"/>
                </a:moveTo>
                <a:cubicBezTo>
                  <a:pt x="15106" y="12510"/>
                  <a:pt x="15106" y="12667"/>
                  <a:pt x="1510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41840" y="4776840"/>
            <a:ext cx="1231920" cy="241200"/>
          </a:xfrm>
          <a:custGeom>
            <a:avLst/>
            <a:gdLst/>
            <a:ahLst/>
            <a:rect l="l" t="t" r="r" b="b"/>
            <a:pathLst>
              <a:path w="3424" h="670">
                <a:moveTo>
                  <a:pt x="10567" y="13320"/>
                </a:moveTo>
                <a:cubicBezTo>
                  <a:pt x="10575" y="13312"/>
                  <a:pt x="10584" y="13303"/>
                  <a:pt x="10592" y="13295"/>
                </a:cubicBezTo>
                <a:cubicBezTo>
                  <a:pt x="10592" y="13356"/>
                  <a:pt x="10628" y="13387"/>
                  <a:pt x="10641" y="13444"/>
                </a:cubicBezTo>
                <a:cubicBezTo>
                  <a:pt x="10656" y="13511"/>
                  <a:pt x="10666" y="13571"/>
                  <a:pt x="10666" y="13643"/>
                </a:cubicBezTo>
                <a:cubicBezTo>
                  <a:pt x="10666" y="13692"/>
                  <a:pt x="10666" y="13742"/>
                  <a:pt x="10666" y="13791"/>
                </a:cubicBezTo>
              </a:path>
              <a:path w="3424" h="670">
                <a:moveTo>
                  <a:pt x="10393" y="13519"/>
                </a:moveTo>
                <a:cubicBezTo>
                  <a:pt x="10575" y="13519"/>
                  <a:pt x="10757" y="13519"/>
                  <a:pt x="10939" y="13519"/>
                </a:cubicBezTo>
              </a:path>
              <a:path w="3424" h="670">
                <a:moveTo>
                  <a:pt x="11187" y="13618"/>
                </a:moveTo>
                <a:cubicBezTo>
                  <a:pt x="11087" y="13588"/>
                  <a:pt x="11089" y="13574"/>
                  <a:pt x="11013" y="13643"/>
                </a:cubicBezTo>
                <a:cubicBezTo>
                  <a:pt x="10975" y="13677"/>
                  <a:pt x="10988" y="13717"/>
                  <a:pt x="10988" y="13767"/>
                </a:cubicBezTo>
                <a:cubicBezTo>
                  <a:pt x="11075" y="13788"/>
                  <a:pt x="11080" y="13757"/>
                  <a:pt x="11162" y="13742"/>
                </a:cubicBezTo>
                <a:cubicBezTo>
                  <a:pt x="11256" y="13725"/>
                  <a:pt x="11205" y="13669"/>
                  <a:pt x="11187" y="13593"/>
                </a:cubicBezTo>
                <a:cubicBezTo>
                  <a:pt x="11180" y="13564"/>
                  <a:pt x="11123" y="13554"/>
                  <a:pt x="11088" y="13519"/>
                </a:cubicBezTo>
              </a:path>
              <a:path w="3424" h="670">
                <a:moveTo>
                  <a:pt x="11534" y="13271"/>
                </a:moveTo>
                <a:cubicBezTo>
                  <a:pt x="11534" y="13375"/>
                  <a:pt x="11548" y="13468"/>
                  <a:pt x="11559" y="13568"/>
                </a:cubicBezTo>
                <a:cubicBezTo>
                  <a:pt x="11568" y="13651"/>
                  <a:pt x="11533" y="13749"/>
                  <a:pt x="11584" y="13816"/>
                </a:cubicBezTo>
              </a:path>
              <a:path w="3424" h="670">
                <a:moveTo>
                  <a:pt x="11832" y="13568"/>
                </a:moveTo>
                <a:cubicBezTo>
                  <a:pt x="11890" y="13587"/>
                  <a:pt x="11844" y="13641"/>
                  <a:pt x="11832" y="13692"/>
                </a:cubicBezTo>
                <a:cubicBezTo>
                  <a:pt x="11818" y="13752"/>
                  <a:pt x="11823" y="13795"/>
                  <a:pt x="11881" y="13816"/>
                </a:cubicBezTo>
                <a:cubicBezTo>
                  <a:pt x="11946" y="13839"/>
                  <a:pt x="11988" y="13779"/>
                  <a:pt x="12030" y="13742"/>
                </a:cubicBezTo>
                <a:cubicBezTo>
                  <a:pt x="12092" y="13687"/>
                  <a:pt x="12109" y="13686"/>
                  <a:pt x="12129" y="13618"/>
                </a:cubicBezTo>
                <a:cubicBezTo>
                  <a:pt x="12189" y="13677"/>
                  <a:pt x="12165" y="13728"/>
                  <a:pt x="12229" y="13791"/>
                </a:cubicBezTo>
                <a:cubicBezTo>
                  <a:pt x="12262" y="13791"/>
                  <a:pt x="12278" y="13791"/>
                  <a:pt x="12303" y="13791"/>
                </a:cubicBezTo>
              </a:path>
              <a:path w="3424" h="670">
                <a:moveTo>
                  <a:pt x="12502" y="13643"/>
                </a:moveTo>
                <a:cubicBezTo>
                  <a:pt x="12555" y="13635"/>
                  <a:pt x="12594" y="13630"/>
                  <a:pt x="12601" y="13568"/>
                </a:cubicBezTo>
                <a:cubicBezTo>
                  <a:pt x="12607" y="13514"/>
                  <a:pt x="12515" y="13508"/>
                  <a:pt x="12477" y="13519"/>
                </a:cubicBezTo>
                <a:cubicBezTo>
                  <a:pt x="12408" y="13539"/>
                  <a:pt x="12360" y="13571"/>
                  <a:pt x="12353" y="13643"/>
                </a:cubicBezTo>
                <a:cubicBezTo>
                  <a:pt x="12349" y="13684"/>
                  <a:pt x="12447" y="13740"/>
                  <a:pt x="12477" y="13767"/>
                </a:cubicBezTo>
                <a:cubicBezTo>
                  <a:pt x="12516" y="13801"/>
                  <a:pt x="12563" y="13887"/>
                  <a:pt x="12626" y="13866"/>
                </a:cubicBezTo>
                <a:cubicBezTo>
                  <a:pt x="12634" y="13858"/>
                  <a:pt x="12642" y="13849"/>
                  <a:pt x="12650" y="13841"/>
                </a:cubicBezTo>
              </a:path>
              <a:path w="3424" h="670">
                <a:moveTo>
                  <a:pt x="12824" y="13568"/>
                </a:moveTo>
                <a:cubicBezTo>
                  <a:pt x="12850" y="13612"/>
                  <a:pt x="12849" y="13639"/>
                  <a:pt x="12849" y="13692"/>
                </a:cubicBezTo>
                <a:cubicBezTo>
                  <a:pt x="12849" y="13751"/>
                  <a:pt x="12837" y="13816"/>
                  <a:pt x="12874" y="13841"/>
                </a:cubicBezTo>
                <a:cubicBezTo>
                  <a:pt x="12909" y="13797"/>
                  <a:pt x="13002" y="13730"/>
                  <a:pt x="13022" y="13692"/>
                </a:cubicBezTo>
                <a:cubicBezTo>
                  <a:pt x="13051" y="13638"/>
                  <a:pt x="13033" y="13600"/>
                  <a:pt x="13097" y="13568"/>
                </a:cubicBezTo>
                <a:cubicBezTo>
                  <a:pt x="13122" y="13581"/>
                  <a:pt x="13201" y="13657"/>
                  <a:pt x="13221" y="13692"/>
                </a:cubicBezTo>
                <a:cubicBezTo>
                  <a:pt x="13232" y="13710"/>
                  <a:pt x="13265" y="13819"/>
                  <a:pt x="13271" y="13841"/>
                </a:cubicBezTo>
                <a:cubicBezTo>
                  <a:pt x="13290" y="13913"/>
                  <a:pt x="13290" y="13947"/>
                  <a:pt x="13345" y="13866"/>
                </a:cubicBezTo>
              </a:path>
              <a:path w="3424" h="670">
                <a:moveTo>
                  <a:pt x="13519" y="13717"/>
                </a:moveTo>
                <a:cubicBezTo>
                  <a:pt x="13596" y="13717"/>
                  <a:pt x="13604" y="13677"/>
                  <a:pt x="13667" y="13643"/>
                </a:cubicBezTo>
                <a:cubicBezTo>
                  <a:pt x="13702" y="13624"/>
                  <a:pt x="13735" y="13578"/>
                  <a:pt x="13692" y="13543"/>
                </a:cubicBezTo>
                <a:cubicBezTo>
                  <a:pt x="13643" y="13503"/>
                  <a:pt x="13568" y="13510"/>
                  <a:pt x="13519" y="13543"/>
                </a:cubicBezTo>
                <a:cubicBezTo>
                  <a:pt x="13456" y="13584"/>
                  <a:pt x="13444" y="13591"/>
                  <a:pt x="13444" y="13667"/>
                </a:cubicBezTo>
                <a:cubicBezTo>
                  <a:pt x="13444" y="13730"/>
                  <a:pt x="13441" y="13795"/>
                  <a:pt x="13494" y="13841"/>
                </a:cubicBezTo>
                <a:cubicBezTo>
                  <a:pt x="13544" y="13884"/>
                  <a:pt x="13584" y="13922"/>
                  <a:pt x="13643" y="13940"/>
                </a:cubicBezTo>
                <a:cubicBezTo>
                  <a:pt x="13701" y="13958"/>
                  <a:pt x="13764" y="13932"/>
                  <a:pt x="13816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66000" y="4411800"/>
            <a:ext cx="1884240" cy="366480"/>
          </a:xfrm>
          <a:custGeom>
            <a:avLst/>
            <a:gdLst/>
            <a:ahLst/>
            <a:rect l="l" t="t" r="r" b="b"/>
            <a:pathLst>
              <a:path w="5234" h="1018">
                <a:moveTo>
                  <a:pt x="19546" y="12551"/>
                </a:moveTo>
                <a:cubicBezTo>
                  <a:pt x="19546" y="12630"/>
                  <a:pt x="19537" y="12702"/>
                  <a:pt x="19571" y="12774"/>
                </a:cubicBezTo>
                <a:cubicBezTo>
                  <a:pt x="19603" y="12841"/>
                  <a:pt x="19596" y="12899"/>
                  <a:pt x="19596" y="12973"/>
                </a:cubicBezTo>
                <a:cubicBezTo>
                  <a:pt x="19596" y="13055"/>
                  <a:pt x="19553" y="12970"/>
                  <a:pt x="19546" y="12948"/>
                </a:cubicBezTo>
              </a:path>
              <a:path w="5234" h="1018">
                <a:moveTo>
                  <a:pt x="19372" y="12526"/>
                </a:moveTo>
                <a:cubicBezTo>
                  <a:pt x="19331" y="12471"/>
                  <a:pt x="19356" y="12462"/>
                  <a:pt x="19397" y="12427"/>
                </a:cubicBezTo>
                <a:cubicBezTo>
                  <a:pt x="19436" y="12394"/>
                  <a:pt x="19536" y="12343"/>
                  <a:pt x="19596" y="12378"/>
                </a:cubicBezTo>
                <a:cubicBezTo>
                  <a:pt x="19674" y="12424"/>
                  <a:pt x="19700" y="12498"/>
                  <a:pt x="19769" y="12551"/>
                </a:cubicBezTo>
                <a:cubicBezTo>
                  <a:pt x="19820" y="12590"/>
                  <a:pt x="19831" y="12584"/>
                  <a:pt x="19844" y="12650"/>
                </a:cubicBezTo>
                <a:cubicBezTo>
                  <a:pt x="19788" y="12682"/>
                  <a:pt x="19734" y="12730"/>
                  <a:pt x="19670" y="12750"/>
                </a:cubicBezTo>
                <a:cubicBezTo>
                  <a:pt x="19614" y="12767"/>
                  <a:pt x="19520" y="12832"/>
                  <a:pt x="19670" y="12750"/>
                </a:cubicBezTo>
              </a:path>
              <a:path w="5234" h="1018">
                <a:moveTo>
                  <a:pt x="20365" y="12551"/>
                </a:moveTo>
                <a:cubicBezTo>
                  <a:pt x="20379" y="12490"/>
                  <a:pt x="20333" y="12502"/>
                  <a:pt x="20265" y="12502"/>
                </a:cubicBezTo>
                <a:cubicBezTo>
                  <a:pt x="20195" y="12502"/>
                  <a:pt x="20116" y="12559"/>
                  <a:pt x="20092" y="12626"/>
                </a:cubicBezTo>
                <a:cubicBezTo>
                  <a:pt x="20068" y="12696"/>
                  <a:pt x="20123" y="12731"/>
                  <a:pt x="20166" y="12774"/>
                </a:cubicBezTo>
                <a:cubicBezTo>
                  <a:pt x="20188" y="12747"/>
                  <a:pt x="20256" y="12684"/>
                  <a:pt x="20265" y="12650"/>
                </a:cubicBezTo>
                <a:cubicBezTo>
                  <a:pt x="20265" y="12609"/>
                  <a:pt x="20265" y="12601"/>
                  <a:pt x="20265" y="12576"/>
                </a:cubicBezTo>
                <a:cubicBezTo>
                  <a:pt x="20309" y="12605"/>
                  <a:pt x="20343" y="12646"/>
                  <a:pt x="20365" y="12700"/>
                </a:cubicBezTo>
                <a:cubicBezTo>
                  <a:pt x="20383" y="12744"/>
                  <a:pt x="20404" y="12789"/>
                  <a:pt x="20464" y="12774"/>
                </a:cubicBezTo>
                <a:cubicBezTo>
                  <a:pt x="20489" y="12766"/>
                  <a:pt x="20513" y="12758"/>
                  <a:pt x="20538" y="12750"/>
                </a:cubicBezTo>
              </a:path>
              <a:path w="5234" h="1018">
                <a:moveTo>
                  <a:pt x="20737" y="12551"/>
                </a:moveTo>
                <a:cubicBezTo>
                  <a:pt x="20805" y="12586"/>
                  <a:pt x="20767" y="12611"/>
                  <a:pt x="20786" y="12675"/>
                </a:cubicBezTo>
                <a:cubicBezTo>
                  <a:pt x="20801" y="12726"/>
                  <a:pt x="20811" y="12725"/>
                  <a:pt x="20811" y="12774"/>
                </a:cubicBezTo>
                <a:cubicBezTo>
                  <a:pt x="20811" y="12698"/>
                  <a:pt x="20839" y="12672"/>
                  <a:pt x="20861" y="12601"/>
                </a:cubicBezTo>
                <a:cubicBezTo>
                  <a:pt x="20879" y="12543"/>
                  <a:pt x="20910" y="12490"/>
                  <a:pt x="20910" y="12427"/>
                </a:cubicBezTo>
                <a:cubicBezTo>
                  <a:pt x="20981" y="12427"/>
                  <a:pt x="21022" y="12439"/>
                  <a:pt x="21084" y="12477"/>
                </a:cubicBezTo>
                <a:cubicBezTo>
                  <a:pt x="21109" y="12493"/>
                  <a:pt x="21133" y="12510"/>
                  <a:pt x="21158" y="12526"/>
                </a:cubicBezTo>
              </a:path>
              <a:path w="5234" h="1018">
                <a:moveTo>
                  <a:pt x="21382" y="12576"/>
                </a:moveTo>
                <a:cubicBezTo>
                  <a:pt x="21382" y="12535"/>
                  <a:pt x="21382" y="12527"/>
                  <a:pt x="21382" y="12502"/>
                </a:cubicBezTo>
                <a:cubicBezTo>
                  <a:pt x="21287" y="12515"/>
                  <a:pt x="21278" y="12564"/>
                  <a:pt x="21233" y="12626"/>
                </a:cubicBezTo>
                <a:cubicBezTo>
                  <a:pt x="21173" y="12709"/>
                  <a:pt x="21161" y="12691"/>
                  <a:pt x="21233" y="12774"/>
                </a:cubicBezTo>
                <a:cubicBezTo>
                  <a:pt x="21272" y="12735"/>
                  <a:pt x="21299" y="12706"/>
                  <a:pt x="21357" y="12700"/>
                </a:cubicBezTo>
                <a:cubicBezTo>
                  <a:pt x="21432" y="12692"/>
                  <a:pt x="21463" y="12729"/>
                  <a:pt x="21530" y="12750"/>
                </a:cubicBezTo>
                <a:cubicBezTo>
                  <a:pt x="21585" y="12767"/>
                  <a:pt x="21623" y="12794"/>
                  <a:pt x="21679" y="12799"/>
                </a:cubicBezTo>
                <a:cubicBezTo>
                  <a:pt x="21687" y="12799"/>
                  <a:pt x="21696" y="12799"/>
                  <a:pt x="21704" y="12799"/>
                </a:cubicBezTo>
              </a:path>
              <a:path w="5234" h="1018">
                <a:moveTo>
                  <a:pt x="22051" y="12526"/>
                </a:moveTo>
                <a:cubicBezTo>
                  <a:pt x="22097" y="12549"/>
                  <a:pt x="22101" y="12572"/>
                  <a:pt x="22101" y="12626"/>
                </a:cubicBezTo>
                <a:cubicBezTo>
                  <a:pt x="22101" y="12692"/>
                  <a:pt x="22101" y="12758"/>
                  <a:pt x="22101" y="12824"/>
                </a:cubicBezTo>
                <a:cubicBezTo>
                  <a:pt x="22185" y="12790"/>
                  <a:pt x="22168" y="12763"/>
                  <a:pt x="22200" y="12700"/>
                </a:cubicBezTo>
                <a:cubicBezTo>
                  <a:pt x="22227" y="12646"/>
                  <a:pt x="22302" y="12605"/>
                  <a:pt x="22349" y="12576"/>
                </a:cubicBezTo>
                <a:cubicBezTo>
                  <a:pt x="22381" y="12618"/>
                  <a:pt x="22374" y="12644"/>
                  <a:pt x="22374" y="12700"/>
                </a:cubicBezTo>
                <a:cubicBezTo>
                  <a:pt x="22374" y="12759"/>
                  <a:pt x="22401" y="12755"/>
                  <a:pt x="22423" y="12799"/>
                </a:cubicBezTo>
                <a:cubicBezTo>
                  <a:pt x="22466" y="12726"/>
                  <a:pt x="22483" y="12715"/>
                  <a:pt x="22572" y="12700"/>
                </a:cubicBezTo>
                <a:cubicBezTo>
                  <a:pt x="22582" y="12750"/>
                  <a:pt x="22617" y="12801"/>
                  <a:pt x="22647" y="12824"/>
                </a:cubicBezTo>
                <a:cubicBezTo>
                  <a:pt x="22722" y="12881"/>
                  <a:pt x="22728" y="12828"/>
                  <a:pt x="22771" y="12774"/>
                </a:cubicBezTo>
              </a:path>
              <a:path w="5234" h="1018">
                <a:moveTo>
                  <a:pt x="22920" y="12700"/>
                </a:moveTo>
                <a:cubicBezTo>
                  <a:pt x="22989" y="12680"/>
                  <a:pt x="23003" y="12656"/>
                  <a:pt x="23019" y="12576"/>
                </a:cubicBezTo>
                <a:cubicBezTo>
                  <a:pt x="22957" y="12582"/>
                  <a:pt x="22864" y="12594"/>
                  <a:pt x="22820" y="12650"/>
                </a:cubicBezTo>
                <a:cubicBezTo>
                  <a:pt x="22778" y="12704"/>
                  <a:pt x="22850" y="12768"/>
                  <a:pt x="22870" y="12799"/>
                </a:cubicBezTo>
                <a:cubicBezTo>
                  <a:pt x="22919" y="12874"/>
                  <a:pt x="22964" y="12928"/>
                  <a:pt x="23044" y="12973"/>
                </a:cubicBezTo>
                <a:cubicBezTo>
                  <a:pt x="23093" y="12998"/>
                  <a:pt x="23110" y="13006"/>
                  <a:pt x="23143" y="12973"/>
                </a:cubicBezTo>
              </a:path>
              <a:path w="5234" h="1018">
                <a:moveTo>
                  <a:pt x="23391" y="12353"/>
                </a:moveTo>
                <a:cubicBezTo>
                  <a:pt x="23391" y="12498"/>
                  <a:pt x="23346" y="12750"/>
                  <a:pt x="23416" y="12874"/>
                </a:cubicBezTo>
                <a:cubicBezTo>
                  <a:pt x="23450" y="12908"/>
                  <a:pt x="23454" y="12902"/>
                  <a:pt x="23416" y="12824"/>
                </a:cubicBezTo>
              </a:path>
              <a:path w="5234" h="1018">
                <a:moveTo>
                  <a:pt x="23192" y="12502"/>
                </a:moveTo>
                <a:cubicBezTo>
                  <a:pt x="23264" y="12509"/>
                  <a:pt x="23298" y="12546"/>
                  <a:pt x="23366" y="12551"/>
                </a:cubicBezTo>
                <a:cubicBezTo>
                  <a:pt x="23449" y="12557"/>
                  <a:pt x="23496" y="12535"/>
                  <a:pt x="23540" y="12477"/>
                </a:cubicBezTo>
                <a:cubicBezTo>
                  <a:pt x="23584" y="12419"/>
                  <a:pt x="23623" y="12340"/>
                  <a:pt x="23639" y="12278"/>
                </a:cubicBezTo>
                <a:cubicBezTo>
                  <a:pt x="23590" y="12340"/>
                  <a:pt x="23589" y="12374"/>
                  <a:pt x="23589" y="12452"/>
                </a:cubicBezTo>
                <a:cubicBezTo>
                  <a:pt x="23589" y="12551"/>
                  <a:pt x="23589" y="12651"/>
                  <a:pt x="23589" y="12750"/>
                </a:cubicBezTo>
                <a:cubicBezTo>
                  <a:pt x="23688" y="12750"/>
                  <a:pt x="23657" y="12722"/>
                  <a:pt x="23738" y="12675"/>
                </a:cubicBezTo>
                <a:cubicBezTo>
                  <a:pt x="23784" y="12648"/>
                  <a:pt x="23816" y="12632"/>
                  <a:pt x="23862" y="12650"/>
                </a:cubicBezTo>
                <a:cubicBezTo>
                  <a:pt x="23862" y="12725"/>
                  <a:pt x="23846" y="12808"/>
                  <a:pt x="23887" y="12874"/>
                </a:cubicBezTo>
                <a:cubicBezTo>
                  <a:pt x="23895" y="12882"/>
                  <a:pt x="23904" y="12890"/>
                  <a:pt x="23912" y="12898"/>
                </a:cubicBezTo>
              </a:path>
              <a:path w="5234" h="1018">
                <a:moveTo>
                  <a:pt x="24061" y="12750"/>
                </a:moveTo>
                <a:cubicBezTo>
                  <a:pt x="24061" y="12766"/>
                  <a:pt x="24061" y="12783"/>
                  <a:pt x="24061" y="12799"/>
                </a:cubicBezTo>
                <a:cubicBezTo>
                  <a:pt x="24132" y="12799"/>
                  <a:pt x="24189" y="12812"/>
                  <a:pt x="24209" y="12725"/>
                </a:cubicBezTo>
                <a:cubicBezTo>
                  <a:pt x="24209" y="12680"/>
                  <a:pt x="24206" y="12667"/>
                  <a:pt x="24234" y="12650"/>
                </a:cubicBezTo>
                <a:cubicBezTo>
                  <a:pt x="24234" y="12586"/>
                  <a:pt x="24234" y="12689"/>
                  <a:pt x="24234" y="12700"/>
                </a:cubicBezTo>
                <a:cubicBezTo>
                  <a:pt x="24234" y="12785"/>
                  <a:pt x="24248" y="12820"/>
                  <a:pt x="24284" y="12898"/>
                </a:cubicBezTo>
                <a:cubicBezTo>
                  <a:pt x="24324" y="12986"/>
                  <a:pt x="24368" y="13020"/>
                  <a:pt x="24383" y="13122"/>
                </a:cubicBezTo>
                <a:cubicBezTo>
                  <a:pt x="24391" y="13175"/>
                  <a:pt x="24391" y="13245"/>
                  <a:pt x="24333" y="13271"/>
                </a:cubicBezTo>
                <a:cubicBezTo>
                  <a:pt x="24282" y="13294"/>
                  <a:pt x="24202" y="13178"/>
                  <a:pt x="24185" y="13146"/>
                </a:cubicBezTo>
                <a:cubicBezTo>
                  <a:pt x="24177" y="13121"/>
                  <a:pt x="24168" y="13097"/>
                  <a:pt x="24160" y="13072"/>
                </a:cubicBezTo>
              </a:path>
              <a:path w="5234" h="1018">
                <a:moveTo>
                  <a:pt x="24532" y="12254"/>
                </a:moveTo>
                <a:cubicBezTo>
                  <a:pt x="24569" y="12302"/>
                  <a:pt x="24557" y="12335"/>
                  <a:pt x="24557" y="12402"/>
                </a:cubicBezTo>
                <a:cubicBezTo>
                  <a:pt x="24557" y="12531"/>
                  <a:pt x="24556" y="12652"/>
                  <a:pt x="24581" y="12774"/>
                </a:cubicBezTo>
                <a:cubicBezTo>
                  <a:pt x="24585" y="12793"/>
                  <a:pt x="24589" y="12910"/>
                  <a:pt x="24557" y="12898"/>
                </a:cubicBezTo>
                <a:cubicBezTo>
                  <a:pt x="24540" y="12882"/>
                  <a:pt x="24524" y="12865"/>
                  <a:pt x="24507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4724280"/>
            <a:ext cx="1224000" cy="258840"/>
          </a:xfrm>
          <a:custGeom>
            <a:avLst/>
            <a:gdLst/>
            <a:ahLst/>
            <a:rect l="l" t="t" r="r" b="b"/>
            <a:pathLst>
              <a:path w="3399" h="720">
                <a:moveTo>
                  <a:pt x="19248" y="13122"/>
                </a:moveTo>
                <a:cubicBezTo>
                  <a:pt x="19248" y="13329"/>
                  <a:pt x="19248" y="13535"/>
                  <a:pt x="19248" y="13742"/>
                </a:cubicBezTo>
              </a:path>
              <a:path w="3399" h="720">
                <a:moveTo>
                  <a:pt x="18901" y="13494"/>
                </a:moveTo>
                <a:cubicBezTo>
                  <a:pt x="19086" y="13494"/>
                  <a:pt x="19271" y="13499"/>
                  <a:pt x="19447" y="13469"/>
                </a:cubicBezTo>
                <a:cubicBezTo>
                  <a:pt x="19506" y="13459"/>
                  <a:pt x="19592" y="13465"/>
                  <a:pt x="19645" y="13494"/>
                </a:cubicBezTo>
                <a:cubicBezTo>
                  <a:pt x="19653" y="13502"/>
                  <a:pt x="19662" y="13511"/>
                  <a:pt x="19670" y="13519"/>
                </a:cubicBezTo>
              </a:path>
              <a:path w="3399" h="720">
                <a:moveTo>
                  <a:pt x="19695" y="13519"/>
                </a:moveTo>
                <a:cubicBezTo>
                  <a:pt x="19624" y="13489"/>
                  <a:pt x="19607" y="13489"/>
                  <a:pt x="19546" y="13543"/>
                </a:cubicBezTo>
                <a:cubicBezTo>
                  <a:pt x="19505" y="13579"/>
                  <a:pt x="19521" y="13641"/>
                  <a:pt x="19521" y="13692"/>
                </a:cubicBezTo>
                <a:cubicBezTo>
                  <a:pt x="19521" y="13769"/>
                  <a:pt x="19588" y="13736"/>
                  <a:pt x="19621" y="13717"/>
                </a:cubicBezTo>
                <a:cubicBezTo>
                  <a:pt x="19680" y="13683"/>
                  <a:pt x="19746" y="13683"/>
                  <a:pt x="19769" y="13618"/>
                </a:cubicBezTo>
                <a:cubicBezTo>
                  <a:pt x="19792" y="13554"/>
                  <a:pt x="19707" y="13537"/>
                  <a:pt x="19695" y="13494"/>
                </a:cubicBezTo>
                <a:cubicBezTo>
                  <a:pt x="19695" y="13449"/>
                  <a:pt x="19698" y="13436"/>
                  <a:pt x="19670" y="13419"/>
                </a:cubicBezTo>
              </a:path>
              <a:path w="3399" h="720">
                <a:moveTo>
                  <a:pt x="20141" y="13196"/>
                </a:moveTo>
                <a:cubicBezTo>
                  <a:pt x="20141" y="13394"/>
                  <a:pt x="20141" y="13593"/>
                  <a:pt x="20141" y="13791"/>
                </a:cubicBezTo>
              </a:path>
              <a:path w="3399" h="720">
                <a:moveTo>
                  <a:pt x="20389" y="13494"/>
                </a:moveTo>
                <a:cubicBezTo>
                  <a:pt x="20406" y="13494"/>
                  <a:pt x="20422" y="13494"/>
                  <a:pt x="20439" y="13494"/>
                </a:cubicBezTo>
                <a:cubicBezTo>
                  <a:pt x="20431" y="13551"/>
                  <a:pt x="20393" y="13584"/>
                  <a:pt x="20389" y="13643"/>
                </a:cubicBezTo>
                <a:cubicBezTo>
                  <a:pt x="20385" y="13700"/>
                  <a:pt x="20388" y="13723"/>
                  <a:pt x="20414" y="13767"/>
                </a:cubicBezTo>
                <a:cubicBezTo>
                  <a:pt x="20450" y="13760"/>
                  <a:pt x="20525" y="13738"/>
                  <a:pt x="20538" y="13692"/>
                </a:cubicBezTo>
                <a:cubicBezTo>
                  <a:pt x="20556" y="13630"/>
                  <a:pt x="20598" y="13580"/>
                  <a:pt x="20638" y="13519"/>
                </a:cubicBezTo>
                <a:cubicBezTo>
                  <a:pt x="20662" y="13494"/>
                  <a:pt x="20670" y="13485"/>
                  <a:pt x="20687" y="13469"/>
                </a:cubicBezTo>
                <a:cubicBezTo>
                  <a:pt x="20687" y="13536"/>
                  <a:pt x="20673" y="13609"/>
                  <a:pt x="20712" y="13667"/>
                </a:cubicBezTo>
                <a:cubicBezTo>
                  <a:pt x="20737" y="13692"/>
                  <a:pt x="20745" y="13700"/>
                  <a:pt x="20762" y="13667"/>
                </a:cubicBezTo>
              </a:path>
              <a:path w="3399" h="720">
                <a:moveTo>
                  <a:pt x="20935" y="13568"/>
                </a:moveTo>
                <a:cubicBezTo>
                  <a:pt x="20979" y="13568"/>
                  <a:pt x="21030" y="13584"/>
                  <a:pt x="21059" y="13543"/>
                </a:cubicBezTo>
                <a:cubicBezTo>
                  <a:pt x="21067" y="13527"/>
                  <a:pt x="21076" y="13510"/>
                  <a:pt x="21084" y="13494"/>
                </a:cubicBezTo>
                <a:cubicBezTo>
                  <a:pt x="21024" y="13494"/>
                  <a:pt x="20954" y="13491"/>
                  <a:pt x="20910" y="13543"/>
                </a:cubicBezTo>
                <a:cubicBezTo>
                  <a:pt x="20847" y="13617"/>
                  <a:pt x="20906" y="13633"/>
                  <a:pt x="20935" y="13692"/>
                </a:cubicBezTo>
                <a:cubicBezTo>
                  <a:pt x="20963" y="13748"/>
                  <a:pt x="20980" y="13750"/>
                  <a:pt x="21034" y="13791"/>
                </a:cubicBezTo>
                <a:cubicBezTo>
                  <a:pt x="21042" y="13799"/>
                  <a:pt x="21051" y="13808"/>
                  <a:pt x="21059" y="13816"/>
                </a:cubicBezTo>
              </a:path>
              <a:path w="3399" h="720">
                <a:moveTo>
                  <a:pt x="21307" y="13519"/>
                </a:moveTo>
                <a:cubicBezTo>
                  <a:pt x="21347" y="13584"/>
                  <a:pt x="21311" y="13596"/>
                  <a:pt x="21307" y="13667"/>
                </a:cubicBezTo>
                <a:cubicBezTo>
                  <a:pt x="21304" y="13716"/>
                  <a:pt x="21307" y="13767"/>
                  <a:pt x="21307" y="13816"/>
                </a:cubicBezTo>
                <a:cubicBezTo>
                  <a:pt x="21388" y="13789"/>
                  <a:pt x="21404" y="13753"/>
                  <a:pt x="21456" y="13692"/>
                </a:cubicBezTo>
              </a:path>
              <a:path w="3399" h="720">
                <a:moveTo>
                  <a:pt x="21555" y="13568"/>
                </a:moveTo>
                <a:cubicBezTo>
                  <a:pt x="21572" y="13568"/>
                  <a:pt x="21588" y="13568"/>
                  <a:pt x="21605" y="13568"/>
                </a:cubicBezTo>
                <a:cubicBezTo>
                  <a:pt x="21615" y="13635"/>
                  <a:pt x="21631" y="13644"/>
                  <a:pt x="21679" y="13692"/>
                </a:cubicBezTo>
                <a:cubicBezTo>
                  <a:pt x="21737" y="13750"/>
                  <a:pt x="21672" y="13740"/>
                  <a:pt x="21754" y="13767"/>
                </a:cubicBezTo>
              </a:path>
              <a:path w="3399" h="720">
                <a:moveTo>
                  <a:pt x="21977" y="13593"/>
                </a:moveTo>
                <a:cubicBezTo>
                  <a:pt x="22037" y="13533"/>
                  <a:pt x="22055" y="13569"/>
                  <a:pt x="22126" y="13543"/>
                </a:cubicBezTo>
                <a:cubicBezTo>
                  <a:pt x="22134" y="13535"/>
                  <a:pt x="22143" y="13527"/>
                  <a:pt x="22151" y="13519"/>
                </a:cubicBezTo>
                <a:cubicBezTo>
                  <a:pt x="22138" y="13455"/>
                  <a:pt x="22122" y="13424"/>
                  <a:pt x="22051" y="13419"/>
                </a:cubicBezTo>
                <a:cubicBezTo>
                  <a:pt x="21995" y="13415"/>
                  <a:pt x="21939" y="13418"/>
                  <a:pt x="21903" y="13469"/>
                </a:cubicBezTo>
                <a:cubicBezTo>
                  <a:pt x="21865" y="13523"/>
                  <a:pt x="21868" y="13590"/>
                  <a:pt x="21903" y="13643"/>
                </a:cubicBezTo>
                <a:cubicBezTo>
                  <a:pt x="21937" y="13695"/>
                  <a:pt x="21984" y="13729"/>
                  <a:pt x="22027" y="13767"/>
                </a:cubicBezTo>
                <a:cubicBezTo>
                  <a:pt x="22074" y="13808"/>
                  <a:pt x="22109" y="13837"/>
                  <a:pt x="22175" y="13841"/>
                </a:cubicBezTo>
                <a:cubicBezTo>
                  <a:pt x="22231" y="13845"/>
                  <a:pt x="22258" y="13847"/>
                  <a:pt x="2229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91200" y="5187960"/>
            <a:ext cx="2054520" cy="465120"/>
          </a:xfrm>
          <a:custGeom>
            <a:avLst/>
            <a:gdLst/>
            <a:ahLst/>
            <a:rect l="l" t="t" r="r" b="b"/>
            <a:pathLst>
              <a:path w="5706" h="1290">
                <a:moveTo>
                  <a:pt x="19472" y="15056"/>
                </a:moveTo>
                <a:cubicBezTo>
                  <a:pt x="19472" y="14991"/>
                  <a:pt x="19472" y="15195"/>
                  <a:pt x="19472" y="15205"/>
                </a:cubicBezTo>
                <a:cubicBezTo>
                  <a:pt x="19472" y="15362"/>
                  <a:pt x="19472" y="15520"/>
                  <a:pt x="19472" y="15677"/>
                </a:cubicBezTo>
                <a:cubicBezTo>
                  <a:pt x="19515" y="15676"/>
                  <a:pt x="19555" y="15643"/>
                  <a:pt x="19571" y="15577"/>
                </a:cubicBezTo>
              </a:path>
              <a:path w="5706" h="1290">
                <a:moveTo>
                  <a:pt x="19422" y="15106"/>
                </a:moveTo>
                <a:cubicBezTo>
                  <a:pt x="19429" y="15046"/>
                  <a:pt x="19451" y="14976"/>
                  <a:pt x="19521" y="14957"/>
                </a:cubicBezTo>
                <a:cubicBezTo>
                  <a:pt x="19575" y="14942"/>
                  <a:pt x="19783" y="14937"/>
                  <a:pt x="19819" y="14982"/>
                </a:cubicBezTo>
                <a:cubicBezTo>
                  <a:pt x="19879" y="15059"/>
                  <a:pt x="19869" y="15089"/>
                  <a:pt x="19869" y="15180"/>
                </a:cubicBezTo>
                <a:cubicBezTo>
                  <a:pt x="19869" y="15233"/>
                  <a:pt x="19788" y="15253"/>
                  <a:pt x="19745" y="15255"/>
                </a:cubicBezTo>
                <a:cubicBezTo>
                  <a:pt x="19673" y="15258"/>
                  <a:pt x="19651" y="15247"/>
                  <a:pt x="19596" y="15280"/>
                </a:cubicBezTo>
                <a:cubicBezTo>
                  <a:pt x="19662" y="15270"/>
                  <a:pt x="19705" y="15237"/>
                  <a:pt x="19769" y="15205"/>
                </a:cubicBezTo>
              </a:path>
              <a:path w="5706" h="1290">
                <a:moveTo>
                  <a:pt x="20439" y="15007"/>
                </a:moveTo>
                <a:cubicBezTo>
                  <a:pt x="20349" y="15007"/>
                  <a:pt x="20275" y="15003"/>
                  <a:pt x="20191" y="15032"/>
                </a:cubicBezTo>
                <a:cubicBezTo>
                  <a:pt x="20124" y="15055"/>
                  <a:pt x="20038" y="15078"/>
                  <a:pt x="20017" y="15156"/>
                </a:cubicBezTo>
                <a:cubicBezTo>
                  <a:pt x="20003" y="15207"/>
                  <a:pt x="20024" y="15273"/>
                  <a:pt x="20067" y="15304"/>
                </a:cubicBezTo>
                <a:cubicBezTo>
                  <a:pt x="20134" y="15351"/>
                  <a:pt x="20199" y="15335"/>
                  <a:pt x="20241" y="15255"/>
                </a:cubicBezTo>
                <a:cubicBezTo>
                  <a:pt x="20268" y="15203"/>
                  <a:pt x="20254" y="15071"/>
                  <a:pt x="20315" y="15032"/>
                </a:cubicBezTo>
                <a:cubicBezTo>
                  <a:pt x="20332" y="15032"/>
                  <a:pt x="20348" y="15032"/>
                  <a:pt x="20365" y="15032"/>
                </a:cubicBezTo>
                <a:cubicBezTo>
                  <a:pt x="20365" y="15096"/>
                  <a:pt x="20365" y="15142"/>
                  <a:pt x="20389" y="15205"/>
                </a:cubicBezTo>
                <a:cubicBezTo>
                  <a:pt x="20408" y="15256"/>
                  <a:pt x="20441" y="15333"/>
                  <a:pt x="20513" y="15329"/>
                </a:cubicBezTo>
                <a:cubicBezTo>
                  <a:pt x="20561" y="15326"/>
                  <a:pt x="20622" y="15255"/>
                  <a:pt x="20662" y="15230"/>
                </a:cubicBezTo>
              </a:path>
              <a:path w="5706" h="1290">
                <a:moveTo>
                  <a:pt x="20737" y="14932"/>
                </a:moveTo>
                <a:cubicBezTo>
                  <a:pt x="20747" y="14974"/>
                  <a:pt x="20766" y="15012"/>
                  <a:pt x="20786" y="15056"/>
                </a:cubicBezTo>
                <a:cubicBezTo>
                  <a:pt x="20813" y="15113"/>
                  <a:pt x="20811" y="15142"/>
                  <a:pt x="20811" y="15205"/>
                </a:cubicBezTo>
                <a:cubicBezTo>
                  <a:pt x="20811" y="15213"/>
                  <a:pt x="20811" y="15222"/>
                  <a:pt x="20811" y="15230"/>
                </a:cubicBezTo>
                <a:cubicBezTo>
                  <a:pt x="20801" y="15151"/>
                  <a:pt x="20786" y="15091"/>
                  <a:pt x="20786" y="15007"/>
                </a:cubicBezTo>
                <a:cubicBezTo>
                  <a:pt x="20786" y="14955"/>
                  <a:pt x="20764" y="14853"/>
                  <a:pt x="20836" y="14833"/>
                </a:cubicBezTo>
                <a:cubicBezTo>
                  <a:pt x="20897" y="14815"/>
                  <a:pt x="20990" y="14858"/>
                  <a:pt x="21059" y="14858"/>
                </a:cubicBezTo>
                <a:cubicBezTo>
                  <a:pt x="21100" y="14858"/>
                  <a:pt x="21125" y="14858"/>
                  <a:pt x="21158" y="14858"/>
                </a:cubicBezTo>
              </a:path>
              <a:path w="5706" h="1290">
                <a:moveTo>
                  <a:pt x="21555" y="14932"/>
                </a:moveTo>
                <a:cubicBezTo>
                  <a:pt x="21511" y="14867"/>
                  <a:pt x="21500" y="14872"/>
                  <a:pt x="21431" y="14908"/>
                </a:cubicBezTo>
                <a:cubicBezTo>
                  <a:pt x="21359" y="14946"/>
                  <a:pt x="21355" y="14973"/>
                  <a:pt x="21307" y="15032"/>
                </a:cubicBezTo>
                <a:cubicBezTo>
                  <a:pt x="21291" y="15048"/>
                  <a:pt x="21274" y="15065"/>
                  <a:pt x="21258" y="15081"/>
                </a:cubicBezTo>
                <a:cubicBezTo>
                  <a:pt x="21305" y="15110"/>
                  <a:pt x="21363" y="15111"/>
                  <a:pt x="21406" y="15056"/>
                </a:cubicBezTo>
                <a:cubicBezTo>
                  <a:pt x="21406" y="15021"/>
                  <a:pt x="21411" y="15004"/>
                  <a:pt x="21431" y="14982"/>
                </a:cubicBezTo>
                <a:cubicBezTo>
                  <a:pt x="21431" y="15050"/>
                  <a:pt x="21452" y="15110"/>
                  <a:pt x="21506" y="15156"/>
                </a:cubicBezTo>
                <a:cubicBezTo>
                  <a:pt x="21564" y="15206"/>
                  <a:pt x="21630" y="15230"/>
                  <a:pt x="21704" y="15230"/>
                </a:cubicBezTo>
              </a:path>
              <a:path w="5706" h="1290">
                <a:moveTo>
                  <a:pt x="22225" y="14932"/>
                </a:moveTo>
                <a:cubicBezTo>
                  <a:pt x="22177" y="14912"/>
                  <a:pt x="22127" y="14888"/>
                  <a:pt x="22076" y="14883"/>
                </a:cubicBezTo>
                <a:cubicBezTo>
                  <a:pt x="21993" y="14875"/>
                  <a:pt x="21976" y="14877"/>
                  <a:pt x="21927" y="14932"/>
                </a:cubicBezTo>
                <a:cubicBezTo>
                  <a:pt x="21890" y="14973"/>
                  <a:pt x="21859" y="15026"/>
                  <a:pt x="21853" y="15081"/>
                </a:cubicBezTo>
                <a:cubicBezTo>
                  <a:pt x="21844" y="15175"/>
                  <a:pt x="21877" y="15147"/>
                  <a:pt x="21952" y="15180"/>
                </a:cubicBezTo>
                <a:cubicBezTo>
                  <a:pt x="22027" y="15213"/>
                  <a:pt x="22079" y="15177"/>
                  <a:pt x="22126" y="15106"/>
                </a:cubicBezTo>
                <a:cubicBezTo>
                  <a:pt x="22187" y="15014"/>
                  <a:pt x="22175" y="14912"/>
                  <a:pt x="22175" y="14808"/>
                </a:cubicBezTo>
                <a:cubicBezTo>
                  <a:pt x="22175" y="14703"/>
                  <a:pt x="22204" y="14673"/>
                  <a:pt x="22225" y="14585"/>
                </a:cubicBezTo>
                <a:cubicBezTo>
                  <a:pt x="22245" y="14499"/>
                  <a:pt x="22225" y="14549"/>
                  <a:pt x="22225" y="14585"/>
                </a:cubicBezTo>
              </a:path>
              <a:path w="5706" h="1290">
                <a:moveTo>
                  <a:pt x="22448" y="14982"/>
                </a:moveTo>
                <a:cubicBezTo>
                  <a:pt x="22448" y="14995"/>
                  <a:pt x="22448" y="15309"/>
                  <a:pt x="22448" y="15106"/>
                </a:cubicBezTo>
              </a:path>
              <a:path w="5706" h="1290">
                <a:moveTo>
                  <a:pt x="22498" y="14858"/>
                </a:moveTo>
                <a:cubicBezTo>
                  <a:pt x="22498" y="14755"/>
                  <a:pt x="22502" y="14848"/>
                  <a:pt x="22523" y="14883"/>
                </a:cubicBezTo>
              </a:path>
              <a:path w="5706" h="1290">
                <a:moveTo>
                  <a:pt x="22771" y="14982"/>
                </a:moveTo>
                <a:cubicBezTo>
                  <a:pt x="22813" y="15097"/>
                  <a:pt x="22820" y="15103"/>
                  <a:pt x="22820" y="15205"/>
                </a:cubicBezTo>
                <a:cubicBezTo>
                  <a:pt x="22820" y="15213"/>
                  <a:pt x="22820" y="15222"/>
                  <a:pt x="22820" y="15230"/>
                </a:cubicBezTo>
                <a:cubicBezTo>
                  <a:pt x="22869" y="15173"/>
                  <a:pt x="22915" y="15124"/>
                  <a:pt x="22969" y="15081"/>
                </a:cubicBezTo>
                <a:cubicBezTo>
                  <a:pt x="23012" y="15047"/>
                  <a:pt x="23093" y="14975"/>
                  <a:pt x="23118" y="15081"/>
                </a:cubicBezTo>
                <a:cubicBezTo>
                  <a:pt x="23125" y="15111"/>
                  <a:pt x="23118" y="15169"/>
                  <a:pt x="23118" y="15205"/>
                </a:cubicBezTo>
                <a:cubicBezTo>
                  <a:pt x="23168" y="15156"/>
                  <a:pt x="23199" y="15109"/>
                  <a:pt x="23242" y="15056"/>
                </a:cubicBezTo>
                <a:cubicBezTo>
                  <a:pt x="23283" y="15070"/>
                  <a:pt x="23347" y="15129"/>
                  <a:pt x="23391" y="15180"/>
                </a:cubicBezTo>
                <a:cubicBezTo>
                  <a:pt x="23411" y="15220"/>
                  <a:pt x="23409" y="15237"/>
                  <a:pt x="23440" y="15230"/>
                </a:cubicBezTo>
              </a:path>
              <a:path w="5706" h="1290">
                <a:moveTo>
                  <a:pt x="23540" y="15131"/>
                </a:moveTo>
                <a:cubicBezTo>
                  <a:pt x="23591" y="15110"/>
                  <a:pt x="23707" y="15078"/>
                  <a:pt x="23738" y="15032"/>
                </a:cubicBezTo>
                <a:cubicBezTo>
                  <a:pt x="23774" y="14978"/>
                  <a:pt x="23714" y="14898"/>
                  <a:pt x="23664" y="14883"/>
                </a:cubicBezTo>
                <a:cubicBezTo>
                  <a:pt x="23599" y="14864"/>
                  <a:pt x="23555" y="14917"/>
                  <a:pt x="23515" y="14957"/>
                </a:cubicBezTo>
                <a:cubicBezTo>
                  <a:pt x="23468" y="15004"/>
                  <a:pt x="23490" y="15037"/>
                  <a:pt x="23515" y="15081"/>
                </a:cubicBezTo>
                <a:cubicBezTo>
                  <a:pt x="23547" y="15136"/>
                  <a:pt x="23621" y="15211"/>
                  <a:pt x="23688" y="15230"/>
                </a:cubicBezTo>
                <a:cubicBezTo>
                  <a:pt x="23785" y="15257"/>
                  <a:pt x="23854" y="15164"/>
                  <a:pt x="23912" y="15106"/>
                </a:cubicBezTo>
              </a:path>
              <a:path w="5706" h="1290">
                <a:moveTo>
                  <a:pt x="24036" y="14759"/>
                </a:moveTo>
                <a:cubicBezTo>
                  <a:pt x="24069" y="14834"/>
                  <a:pt x="24061" y="14898"/>
                  <a:pt x="24061" y="14982"/>
                </a:cubicBezTo>
                <a:cubicBezTo>
                  <a:pt x="24061" y="15057"/>
                  <a:pt x="24085" y="15247"/>
                  <a:pt x="24036" y="15280"/>
                </a:cubicBezTo>
              </a:path>
              <a:path w="5706" h="1290">
                <a:moveTo>
                  <a:pt x="23763" y="14883"/>
                </a:moveTo>
                <a:cubicBezTo>
                  <a:pt x="23858" y="14907"/>
                  <a:pt x="23943" y="14962"/>
                  <a:pt x="24036" y="14982"/>
                </a:cubicBezTo>
                <a:cubicBezTo>
                  <a:pt x="24081" y="14992"/>
                  <a:pt x="24159" y="14946"/>
                  <a:pt x="24185" y="14908"/>
                </a:cubicBezTo>
                <a:cubicBezTo>
                  <a:pt x="24207" y="14876"/>
                  <a:pt x="24250" y="14769"/>
                  <a:pt x="24259" y="14734"/>
                </a:cubicBezTo>
                <a:cubicBezTo>
                  <a:pt x="24266" y="14709"/>
                  <a:pt x="24259" y="14663"/>
                  <a:pt x="24259" y="14635"/>
                </a:cubicBezTo>
                <a:cubicBezTo>
                  <a:pt x="24226" y="14679"/>
                  <a:pt x="24194" y="14750"/>
                  <a:pt x="24185" y="14808"/>
                </a:cubicBezTo>
                <a:cubicBezTo>
                  <a:pt x="24170" y="14908"/>
                  <a:pt x="24160" y="15003"/>
                  <a:pt x="24160" y="15106"/>
                </a:cubicBezTo>
                <a:cubicBezTo>
                  <a:pt x="24160" y="15123"/>
                  <a:pt x="24160" y="15139"/>
                  <a:pt x="24160" y="15156"/>
                </a:cubicBezTo>
                <a:cubicBezTo>
                  <a:pt x="24183" y="15116"/>
                  <a:pt x="24226" y="15021"/>
                  <a:pt x="24284" y="15032"/>
                </a:cubicBezTo>
                <a:cubicBezTo>
                  <a:pt x="24352" y="15045"/>
                  <a:pt x="24378" y="15125"/>
                  <a:pt x="24383" y="15180"/>
                </a:cubicBezTo>
                <a:cubicBezTo>
                  <a:pt x="24387" y="15223"/>
                  <a:pt x="24370" y="15217"/>
                  <a:pt x="24408" y="15230"/>
                </a:cubicBezTo>
              </a:path>
              <a:path w="5706" h="1290">
                <a:moveTo>
                  <a:pt x="24557" y="15106"/>
                </a:moveTo>
                <a:cubicBezTo>
                  <a:pt x="24587" y="15158"/>
                  <a:pt x="24577" y="15174"/>
                  <a:pt x="24631" y="15205"/>
                </a:cubicBezTo>
                <a:cubicBezTo>
                  <a:pt x="24675" y="15227"/>
                  <a:pt x="24686" y="15230"/>
                  <a:pt x="24705" y="15255"/>
                </a:cubicBezTo>
                <a:cubicBezTo>
                  <a:pt x="24748" y="15179"/>
                  <a:pt x="24800" y="15120"/>
                  <a:pt x="24805" y="15032"/>
                </a:cubicBezTo>
                <a:cubicBezTo>
                  <a:pt x="24805" y="15015"/>
                  <a:pt x="24805" y="14999"/>
                  <a:pt x="24805" y="14982"/>
                </a:cubicBezTo>
                <a:cubicBezTo>
                  <a:pt x="24866" y="15003"/>
                  <a:pt x="24813" y="15078"/>
                  <a:pt x="24805" y="15131"/>
                </a:cubicBezTo>
                <a:cubicBezTo>
                  <a:pt x="24794" y="15205"/>
                  <a:pt x="24791" y="15283"/>
                  <a:pt x="24780" y="15354"/>
                </a:cubicBezTo>
                <a:cubicBezTo>
                  <a:pt x="24772" y="15404"/>
                  <a:pt x="24804" y="15469"/>
                  <a:pt x="24755" y="15503"/>
                </a:cubicBezTo>
                <a:cubicBezTo>
                  <a:pt x="24686" y="15551"/>
                  <a:pt x="24694" y="15501"/>
                  <a:pt x="24656" y="15453"/>
                </a:cubicBezTo>
              </a:path>
              <a:path w="5706" h="1290">
                <a:moveTo>
                  <a:pt x="25102" y="14412"/>
                </a:moveTo>
                <a:cubicBezTo>
                  <a:pt x="25154" y="14429"/>
                  <a:pt x="25127" y="14554"/>
                  <a:pt x="25127" y="14610"/>
                </a:cubicBezTo>
                <a:cubicBezTo>
                  <a:pt x="25127" y="14684"/>
                  <a:pt x="25167" y="15159"/>
                  <a:pt x="25102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69120" y="5634000"/>
            <a:ext cx="1258920" cy="295200"/>
          </a:xfrm>
          <a:custGeom>
            <a:avLst/>
            <a:gdLst/>
            <a:ahLst/>
            <a:rect l="l" t="t" r="r" b="b"/>
            <a:pathLst>
              <a:path w="3498" h="819">
                <a:moveTo>
                  <a:pt x="20191" y="15652"/>
                </a:moveTo>
                <a:cubicBezTo>
                  <a:pt x="20191" y="15726"/>
                  <a:pt x="20186" y="15782"/>
                  <a:pt x="20216" y="15850"/>
                </a:cubicBezTo>
                <a:cubicBezTo>
                  <a:pt x="20246" y="15918"/>
                  <a:pt x="20241" y="15976"/>
                  <a:pt x="20241" y="16049"/>
                </a:cubicBezTo>
                <a:cubicBezTo>
                  <a:pt x="20241" y="16098"/>
                  <a:pt x="20241" y="16148"/>
                  <a:pt x="20241" y="16197"/>
                </a:cubicBezTo>
                <a:cubicBezTo>
                  <a:pt x="20241" y="16268"/>
                  <a:pt x="20236" y="16086"/>
                  <a:pt x="20241" y="16073"/>
                </a:cubicBezTo>
                <a:cubicBezTo>
                  <a:pt x="20253" y="16041"/>
                  <a:pt x="20307" y="15939"/>
                  <a:pt x="20340" y="15925"/>
                </a:cubicBezTo>
                <a:cubicBezTo>
                  <a:pt x="20387" y="15905"/>
                  <a:pt x="20439" y="15936"/>
                  <a:pt x="20464" y="15974"/>
                </a:cubicBezTo>
                <a:cubicBezTo>
                  <a:pt x="20484" y="16006"/>
                  <a:pt x="20541" y="16109"/>
                  <a:pt x="20513" y="16148"/>
                </a:cubicBezTo>
                <a:cubicBezTo>
                  <a:pt x="20479" y="16196"/>
                  <a:pt x="20424" y="16216"/>
                  <a:pt x="20365" y="16197"/>
                </a:cubicBezTo>
                <a:cubicBezTo>
                  <a:pt x="20333" y="16187"/>
                  <a:pt x="20205" y="16120"/>
                  <a:pt x="20216" y="16098"/>
                </a:cubicBezTo>
                <a:cubicBezTo>
                  <a:pt x="20232" y="16082"/>
                  <a:pt x="20249" y="16065"/>
                  <a:pt x="20265" y="16049"/>
                </a:cubicBezTo>
              </a:path>
              <a:path w="3498" h="819">
                <a:moveTo>
                  <a:pt x="20687" y="16049"/>
                </a:moveTo>
                <a:cubicBezTo>
                  <a:pt x="20755" y="15990"/>
                  <a:pt x="20767" y="16020"/>
                  <a:pt x="20836" y="15974"/>
                </a:cubicBezTo>
                <a:cubicBezTo>
                  <a:pt x="20883" y="15942"/>
                  <a:pt x="20861" y="15882"/>
                  <a:pt x="20811" y="15875"/>
                </a:cubicBezTo>
                <a:cubicBezTo>
                  <a:pt x="20745" y="15865"/>
                  <a:pt x="20678" y="15907"/>
                  <a:pt x="20662" y="15974"/>
                </a:cubicBezTo>
                <a:cubicBezTo>
                  <a:pt x="20648" y="16031"/>
                  <a:pt x="20677" y="16104"/>
                  <a:pt x="20712" y="16148"/>
                </a:cubicBezTo>
                <a:cubicBezTo>
                  <a:pt x="20731" y="16173"/>
                  <a:pt x="20816" y="16267"/>
                  <a:pt x="20861" y="16222"/>
                </a:cubicBezTo>
                <a:cubicBezTo>
                  <a:pt x="20861" y="16214"/>
                  <a:pt x="20861" y="16205"/>
                  <a:pt x="20861" y="16197"/>
                </a:cubicBezTo>
              </a:path>
              <a:path w="3498" h="819">
                <a:moveTo>
                  <a:pt x="20960" y="15925"/>
                </a:moveTo>
                <a:cubicBezTo>
                  <a:pt x="20960" y="15988"/>
                  <a:pt x="20950" y="16042"/>
                  <a:pt x="20985" y="16098"/>
                </a:cubicBezTo>
                <a:cubicBezTo>
                  <a:pt x="21012" y="16141"/>
                  <a:pt x="21010" y="16170"/>
                  <a:pt x="21010" y="16222"/>
                </a:cubicBezTo>
                <a:cubicBezTo>
                  <a:pt x="21070" y="16162"/>
                  <a:pt x="21084" y="16079"/>
                  <a:pt x="21134" y="16024"/>
                </a:cubicBezTo>
                <a:cubicBezTo>
                  <a:pt x="21181" y="15972"/>
                  <a:pt x="21251" y="15866"/>
                  <a:pt x="21332" y="15875"/>
                </a:cubicBezTo>
                <a:cubicBezTo>
                  <a:pt x="21421" y="15885"/>
                  <a:pt x="21422" y="16009"/>
                  <a:pt x="21431" y="16073"/>
                </a:cubicBezTo>
                <a:cubicBezTo>
                  <a:pt x="21444" y="16170"/>
                  <a:pt x="21375" y="16295"/>
                  <a:pt x="21481" y="16173"/>
                </a:cubicBezTo>
              </a:path>
              <a:path w="3498" h="819">
                <a:moveTo>
                  <a:pt x="21630" y="15999"/>
                </a:moveTo>
                <a:cubicBezTo>
                  <a:pt x="21681" y="15990"/>
                  <a:pt x="21726" y="15974"/>
                  <a:pt x="21779" y="15974"/>
                </a:cubicBezTo>
                <a:cubicBezTo>
                  <a:pt x="21811" y="15974"/>
                  <a:pt x="21853" y="16013"/>
                  <a:pt x="21828" y="16049"/>
                </a:cubicBezTo>
                <a:cubicBezTo>
                  <a:pt x="21797" y="16093"/>
                  <a:pt x="21710" y="16128"/>
                  <a:pt x="21704" y="16173"/>
                </a:cubicBezTo>
                <a:cubicBezTo>
                  <a:pt x="21704" y="16189"/>
                  <a:pt x="21704" y="16206"/>
                  <a:pt x="21704" y="16222"/>
                </a:cubicBezTo>
                <a:cubicBezTo>
                  <a:pt x="21785" y="16232"/>
                  <a:pt x="21845" y="16284"/>
                  <a:pt x="21927" y="16297"/>
                </a:cubicBezTo>
                <a:cubicBezTo>
                  <a:pt x="22016" y="16311"/>
                  <a:pt x="22113" y="16340"/>
                  <a:pt x="22200" y="16297"/>
                </a:cubicBezTo>
                <a:cubicBezTo>
                  <a:pt x="22230" y="16267"/>
                  <a:pt x="22241" y="16253"/>
                  <a:pt x="22250" y="16222"/>
                </a:cubicBezTo>
              </a:path>
              <a:path w="3498" h="819">
                <a:moveTo>
                  <a:pt x="22324" y="16073"/>
                </a:moveTo>
                <a:cubicBezTo>
                  <a:pt x="22401" y="16073"/>
                  <a:pt x="22500" y="16099"/>
                  <a:pt x="22547" y="16024"/>
                </a:cubicBezTo>
                <a:cubicBezTo>
                  <a:pt x="22593" y="15951"/>
                  <a:pt x="22451" y="15949"/>
                  <a:pt x="22423" y="15949"/>
                </a:cubicBezTo>
                <a:cubicBezTo>
                  <a:pt x="22370" y="15949"/>
                  <a:pt x="22318" y="15965"/>
                  <a:pt x="22275" y="15999"/>
                </a:cubicBezTo>
                <a:cubicBezTo>
                  <a:pt x="22210" y="16050"/>
                  <a:pt x="22200" y="16071"/>
                  <a:pt x="22200" y="16148"/>
                </a:cubicBezTo>
                <a:cubicBezTo>
                  <a:pt x="22200" y="16212"/>
                  <a:pt x="22287" y="16291"/>
                  <a:pt x="22349" y="16321"/>
                </a:cubicBezTo>
                <a:cubicBezTo>
                  <a:pt x="22417" y="16353"/>
                  <a:pt x="22529" y="16408"/>
                  <a:pt x="22597" y="16346"/>
                </a:cubicBezTo>
                <a:cubicBezTo>
                  <a:pt x="22605" y="16330"/>
                  <a:pt x="22614" y="16313"/>
                  <a:pt x="22622" y="16297"/>
                </a:cubicBezTo>
              </a:path>
              <a:path w="3498" h="819">
                <a:moveTo>
                  <a:pt x="22671" y="15949"/>
                </a:moveTo>
                <a:cubicBezTo>
                  <a:pt x="22671" y="16027"/>
                  <a:pt x="22653" y="16128"/>
                  <a:pt x="22696" y="16197"/>
                </a:cubicBezTo>
                <a:cubicBezTo>
                  <a:pt x="22725" y="16244"/>
                  <a:pt x="22721" y="16232"/>
                  <a:pt x="22721" y="16297"/>
                </a:cubicBezTo>
                <a:cubicBezTo>
                  <a:pt x="22751" y="16223"/>
                  <a:pt x="22771" y="16171"/>
                  <a:pt x="22796" y="16098"/>
                </a:cubicBezTo>
                <a:cubicBezTo>
                  <a:pt x="22822" y="16022"/>
                  <a:pt x="22834" y="15983"/>
                  <a:pt x="22920" y="15974"/>
                </a:cubicBezTo>
                <a:cubicBezTo>
                  <a:pt x="22940" y="15972"/>
                  <a:pt x="23006" y="16046"/>
                  <a:pt x="23019" y="16073"/>
                </a:cubicBezTo>
                <a:cubicBezTo>
                  <a:pt x="23050" y="16139"/>
                  <a:pt x="23074" y="16189"/>
                  <a:pt x="23118" y="16247"/>
                </a:cubicBezTo>
                <a:cubicBezTo>
                  <a:pt x="23160" y="16303"/>
                  <a:pt x="23166" y="16326"/>
                  <a:pt x="23192" y="16247"/>
                </a:cubicBezTo>
              </a:path>
              <a:path w="3498" h="819">
                <a:moveTo>
                  <a:pt x="23416" y="16098"/>
                </a:moveTo>
                <a:cubicBezTo>
                  <a:pt x="23480" y="16098"/>
                  <a:pt x="23527" y="16078"/>
                  <a:pt x="23589" y="16073"/>
                </a:cubicBezTo>
                <a:cubicBezTo>
                  <a:pt x="23635" y="16069"/>
                  <a:pt x="23654" y="16033"/>
                  <a:pt x="23688" y="15999"/>
                </a:cubicBezTo>
                <a:cubicBezTo>
                  <a:pt x="23645" y="15964"/>
                  <a:pt x="23620" y="15949"/>
                  <a:pt x="23564" y="15949"/>
                </a:cubicBezTo>
                <a:cubicBezTo>
                  <a:pt x="23497" y="15949"/>
                  <a:pt x="23399" y="15963"/>
                  <a:pt x="23341" y="15999"/>
                </a:cubicBezTo>
                <a:cubicBezTo>
                  <a:pt x="23278" y="16038"/>
                  <a:pt x="23267" y="16012"/>
                  <a:pt x="23267" y="16098"/>
                </a:cubicBezTo>
                <a:cubicBezTo>
                  <a:pt x="23267" y="16174"/>
                  <a:pt x="23326" y="16265"/>
                  <a:pt x="23391" y="16321"/>
                </a:cubicBezTo>
                <a:cubicBezTo>
                  <a:pt x="23442" y="16365"/>
                  <a:pt x="23522" y="16448"/>
                  <a:pt x="23589" y="16470"/>
                </a:cubicBezTo>
                <a:cubicBezTo>
                  <a:pt x="23625" y="16482"/>
                  <a:pt x="23658" y="16459"/>
                  <a:pt x="23688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87840" y="6500880"/>
            <a:ext cx="357120" cy="160200"/>
          </a:xfrm>
          <a:custGeom>
            <a:avLst/>
            <a:gdLst/>
            <a:ahLst/>
            <a:rect l="l" t="t" r="r" b="b"/>
            <a:pathLst>
              <a:path w="994" h="447">
                <a:moveTo>
                  <a:pt x="10244" y="18256"/>
                </a:moveTo>
                <a:cubicBezTo>
                  <a:pt x="10302" y="18210"/>
                  <a:pt x="10325" y="18190"/>
                  <a:pt x="10368" y="18132"/>
                </a:cubicBezTo>
                <a:cubicBezTo>
                  <a:pt x="10395" y="18096"/>
                  <a:pt x="10477" y="18065"/>
                  <a:pt x="10517" y="18058"/>
                </a:cubicBezTo>
                <a:cubicBezTo>
                  <a:pt x="10525" y="18058"/>
                  <a:pt x="10534" y="18058"/>
                  <a:pt x="10542" y="18058"/>
                </a:cubicBezTo>
                <a:cubicBezTo>
                  <a:pt x="10558" y="18100"/>
                  <a:pt x="10584" y="18159"/>
                  <a:pt x="10567" y="18207"/>
                </a:cubicBezTo>
                <a:cubicBezTo>
                  <a:pt x="10548" y="18260"/>
                  <a:pt x="10526" y="18309"/>
                  <a:pt x="10492" y="18355"/>
                </a:cubicBezTo>
                <a:cubicBezTo>
                  <a:pt x="10477" y="18375"/>
                  <a:pt x="10413" y="18507"/>
                  <a:pt x="10468" y="18405"/>
                </a:cubicBezTo>
                <a:cubicBezTo>
                  <a:pt x="10493" y="18357"/>
                  <a:pt x="10511" y="18329"/>
                  <a:pt x="10542" y="18281"/>
                </a:cubicBezTo>
                <a:cubicBezTo>
                  <a:pt x="10570" y="18238"/>
                  <a:pt x="10613" y="18150"/>
                  <a:pt x="10666" y="18132"/>
                </a:cubicBezTo>
                <a:cubicBezTo>
                  <a:pt x="10742" y="18107"/>
                  <a:pt x="10784" y="18202"/>
                  <a:pt x="10790" y="18256"/>
                </a:cubicBezTo>
                <a:cubicBezTo>
                  <a:pt x="10796" y="18308"/>
                  <a:pt x="10783" y="18359"/>
                  <a:pt x="10765" y="18405"/>
                </a:cubicBezTo>
                <a:cubicBezTo>
                  <a:pt x="10757" y="18422"/>
                  <a:pt x="10748" y="18438"/>
                  <a:pt x="10740" y="18455"/>
                </a:cubicBezTo>
                <a:cubicBezTo>
                  <a:pt x="10740" y="18403"/>
                  <a:pt x="10724" y="18322"/>
                  <a:pt x="10765" y="18281"/>
                </a:cubicBezTo>
                <a:cubicBezTo>
                  <a:pt x="10781" y="18265"/>
                  <a:pt x="10900" y="18181"/>
                  <a:pt x="10914" y="18157"/>
                </a:cubicBezTo>
                <a:cubicBezTo>
                  <a:pt x="10939" y="18115"/>
                  <a:pt x="10938" y="18087"/>
                  <a:pt x="11013" y="18107"/>
                </a:cubicBezTo>
                <a:cubicBezTo>
                  <a:pt x="11091" y="18128"/>
                  <a:pt x="11104" y="18151"/>
                  <a:pt x="11112" y="18231"/>
                </a:cubicBezTo>
                <a:cubicBezTo>
                  <a:pt x="11117" y="18286"/>
                  <a:pt x="11065" y="18308"/>
                  <a:pt x="11063" y="18355"/>
                </a:cubicBezTo>
                <a:cubicBezTo>
                  <a:pt x="11057" y="18466"/>
                  <a:pt x="11075" y="18476"/>
                  <a:pt x="11187" y="18504"/>
                </a:cubicBezTo>
                <a:cubicBezTo>
                  <a:pt x="11215" y="18504"/>
                  <a:pt x="11226" y="18502"/>
                  <a:pt x="11237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75080" y="6518160"/>
            <a:ext cx="295200" cy="2336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12154" y="18157"/>
                </a:moveTo>
                <a:cubicBezTo>
                  <a:pt x="12168" y="18128"/>
                  <a:pt x="12250" y="18058"/>
                  <a:pt x="12278" y="18132"/>
                </a:cubicBezTo>
                <a:cubicBezTo>
                  <a:pt x="12307" y="18208"/>
                  <a:pt x="12270" y="18297"/>
                  <a:pt x="12303" y="18380"/>
                </a:cubicBezTo>
                <a:cubicBezTo>
                  <a:pt x="12319" y="18421"/>
                  <a:pt x="12391" y="18471"/>
                  <a:pt x="12427" y="18479"/>
                </a:cubicBezTo>
                <a:cubicBezTo>
                  <a:pt x="12476" y="18490"/>
                  <a:pt x="12495" y="18462"/>
                  <a:pt x="12526" y="18430"/>
                </a:cubicBezTo>
              </a:path>
              <a:path w="820" h="646">
                <a:moveTo>
                  <a:pt x="12477" y="18157"/>
                </a:moveTo>
                <a:cubicBezTo>
                  <a:pt x="12411" y="18201"/>
                  <a:pt x="12417" y="18225"/>
                  <a:pt x="12378" y="18281"/>
                </a:cubicBezTo>
                <a:cubicBezTo>
                  <a:pt x="12340" y="18335"/>
                  <a:pt x="12288" y="18373"/>
                  <a:pt x="12254" y="18430"/>
                </a:cubicBezTo>
                <a:cubicBezTo>
                  <a:pt x="12227" y="18476"/>
                  <a:pt x="12198" y="18492"/>
                  <a:pt x="12179" y="18529"/>
                </a:cubicBezTo>
                <a:cubicBezTo>
                  <a:pt x="12214" y="18529"/>
                  <a:pt x="12232" y="18524"/>
                  <a:pt x="12254" y="18504"/>
                </a:cubicBezTo>
              </a:path>
              <a:path w="820" h="646">
                <a:moveTo>
                  <a:pt x="12650" y="18231"/>
                </a:moveTo>
                <a:cubicBezTo>
                  <a:pt x="12643" y="18289"/>
                  <a:pt x="12604" y="18370"/>
                  <a:pt x="12626" y="18430"/>
                </a:cubicBezTo>
                <a:cubicBezTo>
                  <a:pt x="12643" y="18477"/>
                  <a:pt x="12720" y="18554"/>
                  <a:pt x="12774" y="18504"/>
                </a:cubicBezTo>
                <a:cubicBezTo>
                  <a:pt x="12838" y="18445"/>
                  <a:pt x="12864" y="18396"/>
                  <a:pt x="12898" y="18331"/>
                </a:cubicBezTo>
                <a:cubicBezTo>
                  <a:pt x="12928" y="18275"/>
                  <a:pt x="12961" y="18218"/>
                  <a:pt x="12973" y="18157"/>
                </a:cubicBezTo>
                <a:cubicBezTo>
                  <a:pt x="12973" y="18317"/>
                  <a:pt x="12975" y="18476"/>
                  <a:pt x="12948" y="18628"/>
                </a:cubicBezTo>
                <a:cubicBezTo>
                  <a:pt x="12936" y="18698"/>
                  <a:pt x="12906" y="18734"/>
                  <a:pt x="12824" y="18752"/>
                </a:cubicBezTo>
                <a:cubicBezTo>
                  <a:pt x="12767" y="18764"/>
                  <a:pt x="12719" y="18716"/>
                  <a:pt x="12700" y="18678"/>
                </a:cubicBezTo>
                <a:cubicBezTo>
                  <a:pt x="12667" y="18611"/>
                  <a:pt x="12682" y="18607"/>
                  <a:pt x="12725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22920" y="6456240"/>
            <a:ext cx="741240" cy="196920"/>
          </a:xfrm>
          <a:custGeom>
            <a:avLst/>
            <a:gdLst/>
            <a:ahLst/>
            <a:rect l="l" t="t" r="r" b="b"/>
            <a:pathLst>
              <a:path w="2059" h="546">
                <a:moveTo>
                  <a:pt x="13469" y="17934"/>
                </a:moveTo>
                <a:cubicBezTo>
                  <a:pt x="13428" y="18050"/>
                  <a:pt x="13419" y="18092"/>
                  <a:pt x="13419" y="18207"/>
                </a:cubicBezTo>
                <a:cubicBezTo>
                  <a:pt x="13419" y="18273"/>
                  <a:pt x="13406" y="18326"/>
                  <a:pt x="13395" y="18380"/>
                </a:cubicBezTo>
                <a:cubicBezTo>
                  <a:pt x="13377" y="18465"/>
                  <a:pt x="13426" y="18424"/>
                  <a:pt x="13469" y="18405"/>
                </a:cubicBezTo>
              </a:path>
              <a:path w="2059" h="546">
                <a:moveTo>
                  <a:pt x="13767" y="18281"/>
                </a:moveTo>
                <a:cubicBezTo>
                  <a:pt x="13836" y="18281"/>
                  <a:pt x="13885" y="18288"/>
                  <a:pt x="13940" y="18256"/>
                </a:cubicBezTo>
                <a:cubicBezTo>
                  <a:pt x="13957" y="18248"/>
                  <a:pt x="13973" y="18239"/>
                  <a:pt x="13990" y="18231"/>
                </a:cubicBezTo>
                <a:cubicBezTo>
                  <a:pt x="13982" y="18190"/>
                  <a:pt x="13954" y="18103"/>
                  <a:pt x="13891" y="18107"/>
                </a:cubicBezTo>
                <a:cubicBezTo>
                  <a:pt x="13835" y="18110"/>
                  <a:pt x="13779" y="18171"/>
                  <a:pt x="13742" y="18207"/>
                </a:cubicBezTo>
                <a:cubicBezTo>
                  <a:pt x="13721" y="18228"/>
                  <a:pt x="13664" y="18296"/>
                  <a:pt x="13692" y="18331"/>
                </a:cubicBezTo>
                <a:cubicBezTo>
                  <a:pt x="13760" y="18416"/>
                  <a:pt x="13779" y="18405"/>
                  <a:pt x="13866" y="18405"/>
                </a:cubicBezTo>
                <a:cubicBezTo>
                  <a:pt x="13924" y="18405"/>
                  <a:pt x="13981" y="18405"/>
                  <a:pt x="14039" y="18405"/>
                </a:cubicBezTo>
              </a:path>
              <a:path w="2059" h="546">
                <a:moveTo>
                  <a:pt x="14288" y="18107"/>
                </a:moveTo>
                <a:cubicBezTo>
                  <a:pt x="14267" y="18163"/>
                  <a:pt x="14263" y="18197"/>
                  <a:pt x="14263" y="18256"/>
                </a:cubicBezTo>
                <a:cubicBezTo>
                  <a:pt x="14263" y="18297"/>
                  <a:pt x="14263" y="18339"/>
                  <a:pt x="14263" y="18380"/>
                </a:cubicBezTo>
                <a:cubicBezTo>
                  <a:pt x="14292" y="18330"/>
                  <a:pt x="14332" y="18302"/>
                  <a:pt x="14362" y="18256"/>
                </a:cubicBezTo>
                <a:cubicBezTo>
                  <a:pt x="14391" y="18211"/>
                  <a:pt x="14428" y="18169"/>
                  <a:pt x="14486" y="18157"/>
                </a:cubicBezTo>
                <a:cubicBezTo>
                  <a:pt x="14527" y="18149"/>
                  <a:pt x="14604" y="18208"/>
                  <a:pt x="14635" y="18231"/>
                </a:cubicBezTo>
                <a:cubicBezTo>
                  <a:pt x="14677" y="18262"/>
                  <a:pt x="14704" y="18304"/>
                  <a:pt x="14709" y="18355"/>
                </a:cubicBezTo>
                <a:cubicBezTo>
                  <a:pt x="14715" y="18411"/>
                  <a:pt x="14651" y="18417"/>
                  <a:pt x="14709" y="18455"/>
                </a:cubicBezTo>
              </a:path>
              <a:path w="2059" h="546">
                <a:moveTo>
                  <a:pt x="15007" y="18306"/>
                </a:moveTo>
                <a:cubicBezTo>
                  <a:pt x="15038" y="18298"/>
                  <a:pt x="15101" y="18294"/>
                  <a:pt x="15131" y="18281"/>
                </a:cubicBezTo>
                <a:cubicBezTo>
                  <a:pt x="15144" y="18276"/>
                  <a:pt x="15254" y="18208"/>
                  <a:pt x="15255" y="18207"/>
                </a:cubicBezTo>
                <a:cubicBezTo>
                  <a:pt x="15277" y="18183"/>
                  <a:pt x="15270" y="18079"/>
                  <a:pt x="15230" y="18058"/>
                </a:cubicBezTo>
                <a:cubicBezTo>
                  <a:pt x="15173" y="18028"/>
                  <a:pt x="15117" y="18071"/>
                  <a:pt x="15081" y="18107"/>
                </a:cubicBezTo>
                <a:cubicBezTo>
                  <a:pt x="15047" y="18141"/>
                  <a:pt x="14992" y="18159"/>
                  <a:pt x="14982" y="18207"/>
                </a:cubicBezTo>
                <a:cubicBezTo>
                  <a:pt x="14966" y="18279"/>
                  <a:pt x="14986" y="18305"/>
                  <a:pt x="15032" y="18355"/>
                </a:cubicBezTo>
                <a:cubicBezTo>
                  <a:pt x="15052" y="18377"/>
                  <a:pt x="15137" y="18473"/>
                  <a:pt x="15156" y="18479"/>
                </a:cubicBezTo>
                <a:cubicBezTo>
                  <a:pt x="15208" y="18495"/>
                  <a:pt x="15341" y="18487"/>
                  <a:pt x="15379" y="18455"/>
                </a:cubicBezTo>
                <a:cubicBezTo>
                  <a:pt x="15421" y="18413"/>
                  <a:pt x="15429" y="18406"/>
                  <a:pt x="154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9840" y="231840"/>
            <a:ext cx="1652400" cy="679320"/>
          </a:xfrm>
          <a:custGeom>
            <a:avLst/>
            <a:gdLst/>
            <a:ahLst/>
            <a:rect l="l" t="t" r="r" b="b"/>
            <a:pathLst>
              <a:path w="4589" h="1886">
                <a:moveTo>
                  <a:pt x="2183" y="1017"/>
                </a:moveTo>
                <a:cubicBezTo>
                  <a:pt x="2165" y="984"/>
                  <a:pt x="2127" y="889"/>
                  <a:pt x="2108" y="868"/>
                </a:cubicBezTo>
                <a:cubicBezTo>
                  <a:pt x="2042" y="795"/>
                  <a:pt x="2021" y="771"/>
                  <a:pt x="1935" y="719"/>
                </a:cubicBezTo>
                <a:cubicBezTo>
                  <a:pt x="1860" y="674"/>
                  <a:pt x="1803" y="655"/>
                  <a:pt x="1712" y="645"/>
                </a:cubicBezTo>
                <a:cubicBezTo>
                  <a:pt x="1611" y="633"/>
                  <a:pt x="1545" y="662"/>
                  <a:pt x="1463" y="719"/>
                </a:cubicBezTo>
                <a:cubicBezTo>
                  <a:pt x="1348" y="798"/>
                  <a:pt x="1291" y="903"/>
                  <a:pt x="1215" y="1017"/>
                </a:cubicBezTo>
                <a:cubicBezTo>
                  <a:pt x="1150" y="1114"/>
                  <a:pt x="1127" y="1198"/>
                  <a:pt x="1141" y="1315"/>
                </a:cubicBezTo>
                <a:cubicBezTo>
                  <a:pt x="1152" y="1405"/>
                  <a:pt x="1168" y="1499"/>
                  <a:pt x="1240" y="1563"/>
                </a:cubicBezTo>
                <a:cubicBezTo>
                  <a:pt x="1316" y="1631"/>
                  <a:pt x="1415" y="1649"/>
                  <a:pt x="1513" y="1637"/>
                </a:cubicBezTo>
                <a:cubicBezTo>
                  <a:pt x="1635" y="1622"/>
                  <a:pt x="1767" y="1574"/>
                  <a:pt x="1885" y="1538"/>
                </a:cubicBezTo>
                <a:cubicBezTo>
                  <a:pt x="1975" y="1511"/>
                  <a:pt x="2071" y="1491"/>
                  <a:pt x="2158" y="1538"/>
                </a:cubicBezTo>
                <a:cubicBezTo>
                  <a:pt x="2265" y="1597"/>
                  <a:pt x="2285" y="1641"/>
                  <a:pt x="2356" y="1712"/>
                </a:cubicBezTo>
                <a:cubicBezTo>
                  <a:pt x="2423" y="1779"/>
                  <a:pt x="2446" y="1803"/>
                  <a:pt x="2456" y="1910"/>
                </a:cubicBezTo>
                <a:cubicBezTo>
                  <a:pt x="2465" y="2001"/>
                  <a:pt x="2446" y="2054"/>
                  <a:pt x="2406" y="2133"/>
                </a:cubicBezTo>
                <a:cubicBezTo>
                  <a:pt x="2374" y="2197"/>
                  <a:pt x="2275" y="2320"/>
                  <a:pt x="2208" y="2356"/>
                </a:cubicBezTo>
                <a:cubicBezTo>
                  <a:pt x="2100" y="2415"/>
                  <a:pt x="1936" y="2488"/>
                  <a:pt x="1811" y="2505"/>
                </a:cubicBezTo>
                <a:cubicBezTo>
                  <a:pt x="1640" y="2528"/>
                  <a:pt x="1419" y="2444"/>
                  <a:pt x="1265" y="2381"/>
                </a:cubicBezTo>
                <a:cubicBezTo>
                  <a:pt x="1158" y="2337"/>
                  <a:pt x="1048" y="2248"/>
                  <a:pt x="943" y="2208"/>
                </a:cubicBezTo>
                <a:cubicBezTo>
                  <a:pt x="951" y="2216"/>
                  <a:pt x="959" y="2224"/>
                  <a:pt x="967" y="2232"/>
                </a:cubicBezTo>
              </a:path>
              <a:path w="4589" h="1886">
                <a:moveTo>
                  <a:pt x="3101" y="2034"/>
                </a:moveTo>
                <a:cubicBezTo>
                  <a:pt x="3063" y="1975"/>
                  <a:pt x="3021" y="1856"/>
                  <a:pt x="2927" y="1885"/>
                </a:cubicBezTo>
                <a:cubicBezTo>
                  <a:pt x="2877" y="1900"/>
                  <a:pt x="2814" y="2010"/>
                  <a:pt x="2803" y="2059"/>
                </a:cubicBezTo>
                <a:cubicBezTo>
                  <a:pt x="2788" y="2127"/>
                  <a:pt x="2763" y="2209"/>
                  <a:pt x="2778" y="2282"/>
                </a:cubicBezTo>
                <a:cubicBezTo>
                  <a:pt x="2796" y="2365"/>
                  <a:pt x="2832" y="2439"/>
                  <a:pt x="2902" y="2480"/>
                </a:cubicBezTo>
                <a:cubicBezTo>
                  <a:pt x="2975" y="2523"/>
                  <a:pt x="3023" y="2549"/>
                  <a:pt x="3101" y="2505"/>
                </a:cubicBezTo>
                <a:cubicBezTo>
                  <a:pt x="3188" y="2456"/>
                  <a:pt x="3242" y="2396"/>
                  <a:pt x="3249" y="2307"/>
                </a:cubicBezTo>
                <a:cubicBezTo>
                  <a:pt x="3255" y="2231"/>
                  <a:pt x="3239" y="2075"/>
                  <a:pt x="3200" y="2009"/>
                </a:cubicBezTo>
                <a:cubicBezTo>
                  <a:pt x="3179" y="1974"/>
                  <a:pt x="3118" y="1896"/>
                  <a:pt x="3076" y="1885"/>
                </a:cubicBezTo>
                <a:cubicBezTo>
                  <a:pt x="3024" y="1885"/>
                  <a:pt x="3006" y="1887"/>
                  <a:pt x="3001" y="1935"/>
                </a:cubicBezTo>
              </a:path>
              <a:path w="4589" h="1886">
                <a:moveTo>
                  <a:pt x="3746" y="1984"/>
                </a:moveTo>
                <a:cubicBezTo>
                  <a:pt x="3746" y="2112"/>
                  <a:pt x="3738" y="2243"/>
                  <a:pt x="3721" y="2356"/>
                </a:cubicBezTo>
                <a:cubicBezTo>
                  <a:pt x="3714" y="2401"/>
                  <a:pt x="3721" y="2458"/>
                  <a:pt x="3721" y="2505"/>
                </a:cubicBezTo>
                <a:cubicBezTo>
                  <a:pt x="3758" y="2431"/>
                  <a:pt x="3770" y="2390"/>
                  <a:pt x="3770" y="2307"/>
                </a:cubicBezTo>
                <a:cubicBezTo>
                  <a:pt x="3770" y="2219"/>
                  <a:pt x="3761" y="2140"/>
                  <a:pt x="3795" y="2059"/>
                </a:cubicBezTo>
                <a:cubicBezTo>
                  <a:pt x="3823" y="1992"/>
                  <a:pt x="3809" y="1962"/>
                  <a:pt x="3870" y="1935"/>
                </a:cubicBezTo>
                <a:cubicBezTo>
                  <a:pt x="3922" y="1913"/>
                  <a:pt x="3984" y="1894"/>
                  <a:pt x="4043" y="1910"/>
                </a:cubicBezTo>
                <a:cubicBezTo>
                  <a:pt x="4096" y="1925"/>
                  <a:pt x="4148" y="1986"/>
                  <a:pt x="4167" y="2034"/>
                </a:cubicBezTo>
                <a:cubicBezTo>
                  <a:pt x="4193" y="2099"/>
                  <a:pt x="4156" y="2174"/>
                  <a:pt x="4142" y="2232"/>
                </a:cubicBezTo>
                <a:cubicBezTo>
                  <a:pt x="4133" y="2269"/>
                  <a:pt x="4142" y="2318"/>
                  <a:pt x="4142" y="2356"/>
                </a:cubicBezTo>
                <a:cubicBezTo>
                  <a:pt x="4142" y="2283"/>
                  <a:pt x="4136" y="2219"/>
                  <a:pt x="4167" y="2158"/>
                </a:cubicBezTo>
                <a:cubicBezTo>
                  <a:pt x="4203" y="2086"/>
                  <a:pt x="4220" y="2052"/>
                  <a:pt x="4266" y="1984"/>
                </a:cubicBezTo>
                <a:cubicBezTo>
                  <a:pt x="4291" y="1947"/>
                  <a:pt x="4324" y="1871"/>
                  <a:pt x="4390" y="1910"/>
                </a:cubicBezTo>
                <a:cubicBezTo>
                  <a:pt x="4458" y="1950"/>
                  <a:pt x="4458" y="2004"/>
                  <a:pt x="4490" y="2059"/>
                </a:cubicBezTo>
                <a:cubicBezTo>
                  <a:pt x="4533" y="2133"/>
                  <a:pt x="4539" y="2167"/>
                  <a:pt x="4539" y="2257"/>
                </a:cubicBezTo>
                <a:cubicBezTo>
                  <a:pt x="4539" y="2307"/>
                  <a:pt x="4539" y="2645"/>
                  <a:pt x="4539" y="2456"/>
                </a:cubicBezTo>
                <a:cubicBezTo>
                  <a:pt x="4539" y="2448"/>
                  <a:pt x="4539" y="2439"/>
                  <a:pt x="4539" y="2431"/>
                </a:cubicBezTo>
              </a:path>
              <a:path w="4589" h="1886">
                <a:moveTo>
                  <a:pt x="4887" y="2158"/>
                </a:moveTo>
                <a:cubicBezTo>
                  <a:pt x="4939" y="2147"/>
                  <a:pt x="4984" y="2121"/>
                  <a:pt x="5035" y="2108"/>
                </a:cubicBezTo>
                <a:cubicBezTo>
                  <a:pt x="5095" y="2093"/>
                  <a:pt x="5127" y="2058"/>
                  <a:pt x="5184" y="2034"/>
                </a:cubicBezTo>
                <a:cubicBezTo>
                  <a:pt x="5255" y="2005"/>
                  <a:pt x="5260" y="2007"/>
                  <a:pt x="5308" y="1960"/>
                </a:cubicBezTo>
                <a:cubicBezTo>
                  <a:pt x="5257" y="1888"/>
                  <a:pt x="5201" y="1858"/>
                  <a:pt x="5110" y="1836"/>
                </a:cubicBezTo>
                <a:cubicBezTo>
                  <a:pt x="5050" y="1821"/>
                  <a:pt x="5026" y="1884"/>
                  <a:pt x="4986" y="1910"/>
                </a:cubicBezTo>
                <a:cubicBezTo>
                  <a:pt x="4892" y="1971"/>
                  <a:pt x="4940" y="1988"/>
                  <a:pt x="4911" y="2084"/>
                </a:cubicBezTo>
                <a:cubicBezTo>
                  <a:pt x="4887" y="2162"/>
                  <a:pt x="4874" y="2212"/>
                  <a:pt x="4911" y="2282"/>
                </a:cubicBezTo>
                <a:cubicBezTo>
                  <a:pt x="4958" y="2371"/>
                  <a:pt x="4949" y="2390"/>
                  <a:pt x="5035" y="2456"/>
                </a:cubicBezTo>
                <a:cubicBezTo>
                  <a:pt x="5097" y="2503"/>
                  <a:pt x="5201" y="2545"/>
                  <a:pt x="5283" y="2530"/>
                </a:cubicBezTo>
                <a:cubicBezTo>
                  <a:pt x="5355" y="2517"/>
                  <a:pt x="5426" y="2465"/>
                  <a:pt x="5482" y="2431"/>
                </a:cubicBezTo>
                <a:cubicBezTo>
                  <a:pt x="5537" y="2403"/>
                  <a:pt x="5553" y="2388"/>
                  <a:pt x="5531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36920" y="374760"/>
            <a:ext cx="1338120" cy="501480"/>
          </a:xfrm>
          <a:custGeom>
            <a:avLst/>
            <a:gdLst/>
            <a:ahLst/>
            <a:rect l="l" t="t" r="r" b="b"/>
            <a:pathLst>
              <a:path w="3721" h="1390">
                <a:moveTo>
                  <a:pt x="7417" y="1860"/>
                </a:moveTo>
                <a:cubicBezTo>
                  <a:pt x="7437" y="1820"/>
                  <a:pt x="7445" y="1813"/>
                  <a:pt x="7441" y="1786"/>
                </a:cubicBezTo>
                <a:cubicBezTo>
                  <a:pt x="7400" y="1761"/>
                  <a:pt x="7345" y="1741"/>
                  <a:pt x="7293" y="1736"/>
                </a:cubicBezTo>
                <a:cubicBezTo>
                  <a:pt x="7229" y="1730"/>
                  <a:pt x="7191" y="1742"/>
                  <a:pt x="7144" y="1786"/>
                </a:cubicBezTo>
                <a:cubicBezTo>
                  <a:pt x="7097" y="1830"/>
                  <a:pt x="7058" y="1917"/>
                  <a:pt x="7045" y="1984"/>
                </a:cubicBezTo>
                <a:cubicBezTo>
                  <a:pt x="7032" y="2049"/>
                  <a:pt x="7043" y="2125"/>
                  <a:pt x="7069" y="2183"/>
                </a:cubicBezTo>
                <a:cubicBezTo>
                  <a:pt x="7111" y="2278"/>
                  <a:pt x="7155" y="2312"/>
                  <a:pt x="7243" y="2356"/>
                </a:cubicBezTo>
                <a:cubicBezTo>
                  <a:pt x="7333" y="2401"/>
                  <a:pt x="7364" y="2369"/>
                  <a:pt x="7441" y="2307"/>
                </a:cubicBezTo>
                <a:cubicBezTo>
                  <a:pt x="7506" y="2255"/>
                  <a:pt x="7491" y="2182"/>
                  <a:pt x="7491" y="2108"/>
                </a:cubicBezTo>
                <a:cubicBezTo>
                  <a:pt x="7491" y="2061"/>
                  <a:pt x="7467" y="1971"/>
                  <a:pt x="7441" y="1935"/>
                </a:cubicBezTo>
                <a:cubicBezTo>
                  <a:pt x="7385" y="1858"/>
                  <a:pt x="7394" y="1894"/>
                  <a:pt x="7441" y="1811"/>
                </a:cubicBezTo>
              </a:path>
              <a:path w="3721" h="1390">
                <a:moveTo>
                  <a:pt x="8235" y="1389"/>
                </a:moveTo>
                <a:cubicBezTo>
                  <a:pt x="8227" y="1372"/>
                  <a:pt x="8218" y="1356"/>
                  <a:pt x="8210" y="1339"/>
                </a:cubicBezTo>
                <a:cubicBezTo>
                  <a:pt x="8210" y="1468"/>
                  <a:pt x="8224" y="1586"/>
                  <a:pt x="8235" y="1712"/>
                </a:cubicBezTo>
                <a:cubicBezTo>
                  <a:pt x="8245" y="1831"/>
                  <a:pt x="8234" y="1945"/>
                  <a:pt x="8210" y="2059"/>
                </a:cubicBezTo>
                <a:cubicBezTo>
                  <a:pt x="8191" y="2152"/>
                  <a:pt x="8161" y="2238"/>
                  <a:pt x="8161" y="2332"/>
                </a:cubicBezTo>
                <a:cubicBezTo>
                  <a:pt x="8161" y="2380"/>
                  <a:pt x="8181" y="2404"/>
                  <a:pt x="8136" y="2332"/>
                </a:cubicBezTo>
              </a:path>
              <a:path w="3721" h="1390">
                <a:moveTo>
                  <a:pt x="7813" y="1960"/>
                </a:moveTo>
                <a:cubicBezTo>
                  <a:pt x="7931" y="1969"/>
                  <a:pt x="8040" y="1984"/>
                  <a:pt x="8161" y="1984"/>
                </a:cubicBezTo>
                <a:cubicBezTo>
                  <a:pt x="8291" y="1984"/>
                  <a:pt x="8406" y="1985"/>
                  <a:pt x="8533" y="1960"/>
                </a:cubicBezTo>
                <a:cubicBezTo>
                  <a:pt x="8699" y="1927"/>
                  <a:pt x="8836" y="1831"/>
                  <a:pt x="8930" y="1687"/>
                </a:cubicBezTo>
                <a:cubicBezTo>
                  <a:pt x="9013" y="1560"/>
                  <a:pt x="9044" y="1384"/>
                  <a:pt x="9004" y="1240"/>
                </a:cubicBezTo>
                <a:cubicBezTo>
                  <a:pt x="8970" y="1119"/>
                  <a:pt x="8943" y="1122"/>
                  <a:pt x="8880" y="1042"/>
                </a:cubicBezTo>
                <a:cubicBezTo>
                  <a:pt x="8791" y="1131"/>
                  <a:pt x="8792" y="1153"/>
                  <a:pt x="8781" y="1315"/>
                </a:cubicBezTo>
                <a:cubicBezTo>
                  <a:pt x="8766" y="1538"/>
                  <a:pt x="8772" y="1762"/>
                  <a:pt x="8756" y="1984"/>
                </a:cubicBezTo>
                <a:cubicBezTo>
                  <a:pt x="8746" y="2128"/>
                  <a:pt x="8706" y="2261"/>
                  <a:pt x="8706" y="2406"/>
                </a:cubicBezTo>
                <a:cubicBezTo>
                  <a:pt x="8706" y="2414"/>
                  <a:pt x="8706" y="2423"/>
                  <a:pt x="8706" y="2431"/>
                </a:cubicBezTo>
                <a:cubicBezTo>
                  <a:pt x="8726" y="2338"/>
                  <a:pt x="8715" y="2218"/>
                  <a:pt x="8756" y="2133"/>
                </a:cubicBezTo>
                <a:cubicBezTo>
                  <a:pt x="8804" y="2034"/>
                  <a:pt x="8837" y="1938"/>
                  <a:pt x="8954" y="1910"/>
                </a:cubicBezTo>
                <a:cubicBezTo>
                  <a:pt x="9032" y="1891"/>
                  <a:pt x="9036" y="1971"/>
                  <a:pt x="9079" y="2009"/>
                </a:cubicBezTo>
                <a:cubicBezTo>
                  <a:pt x="9144" y="2068"/>
                  <a:pt x="9165" y="2096"/>
                  <a:pt x="9203" y="2158"/>
                </a:cubicBezTo>
                <a:cubicBezTo>
                  <a:pt x="9236" y="2212"/>
                  <a:pt x="9222" y="2247"/>
                  <a:pt x="9227" y="2307"/>
                </a:cubicBezTo>
              </a:path>
              <a:path w="3721" h="1390">
                <a:moveTo>
                  <a:pt x="9550" y="2059"/>
                </a:moveTo>
                <a:cubicBezTo>
                  <a:pt x="9562" y="1986"/>
                  <a:pt x="9571" y="2009"/>
                  <a:pt x="9649" y="2009"/>
                </a:cubicBezTo>
                <a:cubicBezTo>
                  <a:pt x="9711" y="2009"/>
                  <a:pt x="9726" y="1994"/>
                  <a:pt x="9773" y="1984"/>
                </a:cubicBezTo>
                <a:cubicBezTo>
                  <a:pt x="9848" y="1968"/>
                  <a:pt x="9823" y="1937"/>
                  <a:pt x="9823" y="1860"/>
                </a:cubicBezTo>
                <a:cubicBezTo>
                  <a:pt x="9823" y="1792"/>
                  <a:pt x="9766" y="1765"/>
                  <a:pt x="9699" y="1761"/>
                </a:cubicBezTo>
                <a:cubicBezTo>
                  <a:pt x="9587" y="1753"/>
                  <a:pt x="9575" y="1866"/>
                  <a:pt x="9525" y="1935"/>
                </a:cubicBezTo>
                <a:cubicBezTo>
                  <a:pt x="9464" y="2020"/>
                  <a:pt x="9475" y="2075"/>
                  <a:pt x="9475" y="2183"/>
                </a:cubicBezTo>
                <a:cubicBezTo>
                  <a:pt x="9475" y="2265"/>
                  <a:pt x="9534" y="2290"/>
                  <a:pt x="9599" y="2332"/>
                </a:cubicBezTo>
                <a:cubicBezTo>
                  <a:pt x="9692" y="2392"/>
                  <a:pt x="9783" y="2427"/>
                  <a:pt x="9897" y="2406"/>
                </a:cubicBezTo>
                <a:cubicBezTo>
                  <a:pt x="9979" y="2391"/>
                  <a:pt x="10015" y="2338"/>
                  <a:pt x="10071" y="2282"/>
                </a:cubicBezTo>
              </a:path>
              <a:path w="3721" h="1390">
                <a:moveTo>
                  <a:pt x="10294" y="1910"/>
                </a:moveTo>
                <a:cubicBezTo>
                  <a:pt x="10294" y="2059"/>
                  <a:pt x="10294" y="2207"/>
                  <a:pt x="10294" y="2356"/>
                </a:cubicBezTo>
                <a:cubicBezTo>
                  <a:pt x="10294" y="2253"/>
                  <a:pt x="10287" y="2155"/>
                  <a:pt x="10319" y="2059"/>
                </a:cubicBezTo>
                <a:cubicBezTo>
                  <a:pt x="10347" y="1976"/>
                  <a:pt x="10344" y="1888"/>
                  <a:pt x="10393" y="1811"/>
                </a:cubicBezTo>
                <a:cubicBezTo>
                  <a:pt x="10422" y="1766"/>
                  <a:pt x="10470" y="1761"/>
                  <a:pt x="10517" y="1761"/>
                </a:cubicBezTo>
                <a:cubicBezTo>
                  <a:pt x="10575" y="1761"/>
                  <a:pt x="10719" y="1788"/>
                  <a:pt x="10765" y="1736"/>
                </a:cubicBezTo>
                <a:cubicBezTo>
                  <a:pt x="10765" y="1712"/>
                  <a:pt x="10765" y="1703"/>
                  <a:pt x="10765" y="16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40160" y="500040"/>
            <a:ext cx="1955880" cy="366840"/>
          </a:xfrm>
          <a:custGeom>
            <a:avLst/>
            <a:gdLst/>
            <a:ahLst/>
            <a:rect l="l" t="t" r="r" b="b"/>
            <a:pathLst>
              <a:path w="5433" h="1018">
                <a:moveTo>
                  <a:pt x="12626" y="1563"/>
                </a:moveTo>
                <a:cubicBezTo>
                  <a:pt x="12604" y="1524"/>
                  <a:pt x="12567" y="1436"/>
                  <a:pt x="12526" y="1414"/>
                </a:cubicBezTo>
                <a:cubicBezTo>
                  <a:pt x="12413" y="1354"/>
                  <a:pt x="12322" y="1399"/>
                  <a:pt x="12229" y="1439"/>
                </a:cubicBezTo>
                <a:cubicBezTo>
                  <a:pt x="12102" y="1494"/>
                  <a:pt x="12106" y="1585"/>
                  <a:pt x="12080" y="1712"/>
                </a:cubicBezTo>
                <a:cubicBezTo>
                  <a:pt x="12055" y="1835"/>
                  <a:pt x="12020" y="2010"/>
                  <a:pt x="12055" y="2133"/>
                </a:cubicBezTo>
                <a:cubicBezTo>
                  <a:pt x="12089" y="2251"/>
                  <a:pt x="12159" y="2349"/>
                  <a:pt x="12278" y="2356"/>
                </a:cubicBezTo>
                <a:cubicBezTo>
                  <a:pt x="12492" y="2368"/>
                  <a:pt x="12647" y="2316"/>
                  <a:pt x="12824" y="2208"/>
                </a:cubicBezTo>
              </a:path>
              <a:path w="5433" h="1018">
                <a:moveTo>
                  <a:pt x="13246" y="1712"/>
                </a:moveTo>
                <a:cubicBezTo>
                  <a:pt x="13146" y="1692"/>
                  <a:pt x="13146" y="1694"/>
                  <a:pt x="13097" y="1786"/>
                </a:cubicBezTo>
                <a:cubicBezTo>
                  <a:pt x="13061" y="1853"/>
                  <a:pt x="13009" y="1933"/>
                  <a:pt x="12998" y="2009"/>
                </a:cubicBezTo>
                <a:cubicBezTo>
                  <a:pt x="12980" y="2131"/>
                  <a:pt x="13012" y="2177"/>
                  <a:pt x="13072" y="2257"/>
                </a:cubicBezTo>
                <a:cubicBezTo>
                  <a:pt x="13150" y="2361"/>
                  <a:pt x="13224" y="2272"/>
                  <a:pt x="13320" y="2208"/>
                </a:cubicBezTo>
                <a:cubicBezTo>
                  <a:pt x="13441" y="2127"/>
                  <a:pt x="13510" y="2052"/>
                  <a:pt x="13543" y="1910"/>
                </a:cubicBezTo>
                <a:cubicBezTo>
                  <a:pt x="13554" y="1862"/>
                  <a:pt x="13474" y="1785"/>
                  <a:pt x="13444" y="1761"/>
                </a:cubicBezTo>
                <a:cubicBezTo>
                  <a:pt x="13392" y="1719"/>
                  <a:pt x="13363" y="1676"/>
                  <a:pt x="13295" y="1662"/>
                </a:cubicBezTo>
              </a:path>
              <a:path w="5433" h="1018">
                <a:moveTo>
                  <a:pt x="13841" y="1687"/>
                </a:moveTo>
                <a:lnTo>
                  <a:pt x="13866" y="1736"/>
                </a:lnTo>
                <a:lnTo>
                  <a:pt x="13866" y="1761"/>
                </a:lnTo>
                <a:lnTo>
                  <a:pt x="13866" y="1811"/>
                </a:lnTo>
                <a:lnTo>
                  <a:pt x="13866" y="1860"/>
                </a:lnTo>
                <a:lnTo>
                  <a:pt x="13866" y="1910"/>
                </a:lnTo>
                <a:lnTo>
                  <a:pt x="13866" y="1960"/>
                </a:lnTo>
                <a:lnTo>
                  <a:pt x="13866" y="2009"/>
                </a:lnTo>
                <a:lnTo>
                  <a:pt x="13866" y="2059"/>
                </a:lnTo>
                <a:lnTo>
                  <a:pt x="13866" y="2108"/>
                </a:lnTo>
                <a:lnTo>
                  <a:pt x="13866" y="2158"/>
                </a:lnTo>
                <a:lnTo>
                  <a:pt x="13841" y="2183"/>
                </a:lnTo>
                <a:lnTo>
                  <a:pt x="13841" y="2133"/>
                </a:lnTo>
                <a:lnTo>
                  <a:pt x="13866" y="2108"/>
                </a:lnTo>
                <a:lnTo>
                  <a:pt x="13891" y="2059"/>
                </a:lnTo>
                <a:lnTo>
                  <a:pt x="13891" y="2034"/>
                </a:lnTo>
                <a:lnTo>
                  <a:pt x="13915" y="1984"/>
                </a:lnTo>
                <a:lnTo>
                  <a:pt x="13940" y="1935"/>
                </a:lnTo>
                <a:lnTo>
                  <a:pt x="13940" y="1885"/>
                </a:lnTo>
                <a:lnTo>
                  <a:pt x="13965" y="1836"/>
                </a:lnTo>
                <a:lnTo>
                  <a:pt x="14015" y="1786"/>
                </a:lnTo>
                <a:lnTo>
                  <a:pt x="14039" y="1736"/>
                </a:lnTo>
                <a:lnTo>
                  <a:pt x="14064" y="1736"/>
                </a:lnTo>
                <a:lnTo>
                  <a:pt x="14139" y="1736"/>
                </a:lnTo>
                <a:lnTo>
                  <a:pt x="14163" y="1786"/>
                </a:lnTo>
                <a:lnTo>
                  <a:pt x="14188" y="1811"/>
                </a:lnTo>
                <a:lnTo>
                  <a:pt x="14188" y="1860"/>
                </a:lnTo>
                <a:lnTo>
                  <a:pt x="14213" y="1935"/>
                </a:lnTo>
                <a:lnTo>
                  <a:pt x="14238" y="1984"/>
                </a:lnTo>
                <a:lnTo>
                  <a:pt x="14263" y="2059"/>
                </a:lnTo>
                <a:lnTo>
                  <a:pt x="14263" y="2108"/>
                </a:lnTo>
                <a:lnTo>
                  <a:pt x="14263" y="2133"/>
                </a:lnTo>
                <a:lnTo>
                  <a:pt x="14263" y="2183"/>
                </a:lnTo>
                <a:lnTo>
                  <a:pt x="14263" y="2208"/>
                </a:lnTo>
                <a:lnTo>
                  <a:pt x="14263" y="2133"/>
                </a:lnTo>
                <a:lnTo>
                  <a:pt x="14288" y="2059"/>
                </a:lnTo>
                <a:lnTo>
                  <a:pt x="14312" y="2009"/>
                </a:lnTo>
                <a:lnTo>
                  <a:pt x="14312" y="1960"/>
                </a:lnTo>
                <a:lnTo>
                  <a:pt x="14337" y="1885"/>
                </a:lnTo>
                <a:lnTo>
                  <a:pt x="14362" y="1836"/>
                </a:lnTo>
                <a:lnTo>
                  <a:pt x="14387" y="1761"/>
                </a:lnTo>
                <a:lnTo>
                  <a:pt x="14436" y="1736"/>
                </a:lnTo>
                <a:lnTo>
                  <a:pt x="14461" y="1712"/>
                </a:lnTo>
                <a:lnTo>
                  <a:pt x="14511" y="1712"/>
                </a:lnTo>
                <a:lnTo>
                  <a:pt x="14536" y="1712"/>
                </a:lnTo>
                <a:lnTo>
                  <a:pt x="14560" y="1712"/>
                </a:lnTo>
                <a:lnTo>
                  <a:pt x="14635" y="1761"/>
                </a:lnTo>
                <a:lnTo>
                  <a:pt x="14660" y="1786"/>
                </a:lnTo>
                <a:lnTo>
                  <a:pt x="14684" y="1836"/>
                </a:lnTo>
                <a:lnTo>
                  <a:pt x="14734" y="1885"/>
                </a:lnTo>
                <a:lnTo>
                  <a:pt x="14759" y="1935"/>
                </a:lnTo>
                <a:lnTo>
                  <a:pt x="14784" y="1960"/>
                </a:lnTo>
                <a:lnTo>
                  <a:pt x="14808" y="2034"/>
                </a:lnTo>
                <a:lnTo>
                  <a:pt x="14808" y="2084"/>
                </a:lnTo>
                <a:lnTo>
                  <a:pt x="14808" y="2133"/>
                </a:lnTo>
                <a:lnTo>
                  <a:pt x="14808" y="2183"/>
                </a:lnTo>
                <a:lnTo>
                  <a:pt x="14808" y="2208"/>
                </a:lnTo>
                <a:lnTo>
                  <a:pt x="14808" y="2158"/>
                </a:lnTo>
                <a:lnTo>
                  <a:pt x="14833" y="2133"/>
                </a:lnTo>
              </a:path>
              <a:path w="5433" h="1018">
                <a:moveTo>
                  <a:pt x="15131" y="1736"/>
                </a:moveTo>
                <a:cubicBezTo>
                  <a:pt x="15131" y="1824"/>
                  <a:pt x="15138" y="1901"/>
                  <a:pt x="15156" y="1984"/>
                </a:cubicBezTo>
                <a:cubicBezTo>
                  <a:pt x="15166" y="2029"/>
                  <a:pt x="15156" y="2086"/>
                  <a:pt x="15156" y="2133"/>
                </a:cubicBezTo>
                <a:cubicBezTo>
                  <a:pt x="15177" y="2063"/>
                  <a:pt x="15182" y="2002"/>
                  <a:pt x="15205" y="1935"/>
                </a:cubicBezTo>
                <a:cubicBezTo>
                  <a:pt x="15238" y="1841"/>
                  <a:pt x="15226" y="1774"/>
                  <a:pt x="15304" y="1712"/>
                </a:cubicBezTo>
                <a:cubicBezTo>
                  <a:pt x="15322" y="1698"/>
                  <a:pt x="15432" y="1646"/>
                  <a:pt x="15453" y="1662"/>
                </a:cubicBezTo>
                <a:cubicBezTo>
                  <a:pt x="15519" y="1712"/>
                  <a:pt x="15614" y="1848"/>
                  <a:pt x="15627" y="1935"/>
                </a:cubicBezTo>
                <a:cubicBezTo>
                  <a:pt x="15640" y="2018"/>
                  <a:pt x="15619" y="2083"/>
                  <a:pt x="15602" y="2158"/>
                </a:cubicBezTo>
                <a:cubicBezTo>
                  <a:pt x="15602" y="2193"/>
                  <a:pt x="15597" y="2210"/>
                  <a:pt x="15577" y="2232"/>
                </a:cubicBezTo>
                <a:cubicBezTo>
                  <a:pt x="15577" y="2155"/>
                  <a:pt x="15571" y="2104"/>
                  <a:pt x="15602" y="2034"/>
                </a:cubicBezTo>
                <a:cubicBezTo>
                  <a:pt x="15634" y="1961"/>
                  <a:pt x="15676" y="1871"/>
                  <a:pt x="15726" y="1811"/>
                </a:cubicBezTo>
                <a:cubicBezTo>
                  <a:pt x="15766" y="1763"/>
                  <a:pt x="15840" y="1623"/>
                  <a:pt x="15925" y="1662"/>
                </a:cubicBezTo>
                <a:cubicBezTo>
                  <a:pt x="16020" y="1705"/>
                  <a:pt x="15999" y="1831"/>
                  <a:pt x="15999" y="1910"/>
                </a:cubicBezTo>
                <a:cubicBezTo>
                  <a:pt x="15999" y="2003"/>
                  <a:pt x="15909" y="2249"/>
                  <a:pt x="15974" y="2183"/>
                </a:cubicBezTo>
                <a:cubicBezTo>
                  <a:pt x="15982" y="2166"/>
                  <a:pt x="15991" y="2150"/>
                  <a:pt x="15999" y="2133"/>
                </a:cubicBezTo>
              </a:path>
              <a:path w="5433" h="1018">
                <a:moveTo>
                  <a:pt x="16694" y="1761"/>
                </a:moveTo>
                <a:cubicBezTo>
                  <a:pt x="16629" y="1733"/>
                  <a:pt x="16586" y="1720"/>
                  <a:pt x="16520" y="1761"/>
                </a:cubicBezTo>
                <a:cubicBezTo>
                  <a:pt x="16465" y="1795"/>
                  <a:pt x="16425" y="1807"/>
                  <a:pt x="16371" y="1860"/>
                </a:cubicBezTo>
                <a:cubicBezTo>
                  <a:pt x="16305" y="1925"/>
                  <a:pt x="16321" y="1970"/>
                  <a:pt x="16321" y="2059"/>
                </a:cubicBezTo>
                <a:cubicBezTo>
                  <a:pt x="16321" y="2147"/>
                  <a:pt x="16350" y="2157"/>
                  <a:pt x="16421" y="2183"/>
                </a:cubicBezTo>
                <a:cubicBezTo>
                  <a:pt x="16481" y="2205"/>
                  <a:pt x="16578" y="2226"/>
                  <a:pt x="16644" y="2208"/>
                </a:cubicBezTo>
                <a:cubicBezTo>
                  <a:pt x="16728" y="2185"/>
                  <a:pt x="16743" y="2162"/>
                  <a:pt x="16743" y="2084"/>
                </a:cubicBezTo>
                <a:cubicBezTo>
                  <a:pt x="16743" y="2018"/>
                  <a:pt x="16788" y="1981"/>
                  <a:pt x="16793" y="1910"/>
                </a:cubicBezTo>
                <a:cubicBezTo>
                  <a:pt x="16797" y="1844"/>
                  <a:pt x="16735" y="1803"/>
                  <a:pt x="16694" y="1761"/>
                </a:cubicBezTo>
                <a:cubicBezTo>
                  <a:pt x="16658" y="1724"/>
                  <a:pt x="16618" y="1736"/>
                  <a:pt x="16570" y="1736"/>
                </a:cubicBezTo>
              </a:path>
              <a:path w="5433" h="1018">
                <a:moveTo>
                  <a:pt x="16991" y="1662"/>
                </a:moveTo>
                <a:cubicBezTo>
                  <a:pt x="17028" y="1711"/>
                  <a:pt x="17016" y="1743"/>
                  <a:pt x="17016" y="1811"/>
                </a:cubicBezTo>
                <a:cubicBezTo>
                  <a:pt x="17016" y="1925"/>
                  <a:pt x="17020" y="2033"/>
                  <a:pt x="17041" y="2133"/>
                </a:cubicBezTo>
                <a:cubicBezTo>
                  <a:pt x="17041" y="2175"/>
                  <a:pt x="17041" y="2183"/>
                  <a:pt x="17041" y="2208"/>
                </a:cubicBezTo>
                <a:cubicBezTo>
                  <a:pt x="17071" y="2139"/>
                  <a:pt x="17066" y="2112"/>
                  <a:pt x="17066" y="2034"/>
                </a:cubicBezTo>
                <a:cubicBezTo>
                  <a:pt x="17066" y="1984"/>
                  <a:pt x="17058" y="1950"/>
                  <a:pt x="17090" y="1910"/>
                </a:cubicBezTo>
                <a:cubicBezTo>
                  <a:pt x="17123" y="1868"/>
                  <a:pt x="17129" y="1816"/>
                  <a:pt x="17165" y="1786"/>
                </a:cubicBezTo>
                <a:cubicBezTo>
                  <a:pt x="17216" y="1744"/>
                  <a:pt x="17305" y="1699"/>
                  <a:pt x="17363" y="1687"/>
                </a:cubicBezTo>
                <a:cubicBezTo>
                  <a:pt x="17435" y="1673"/>
                  <a:pt x="17484" y="1717"/>
                  <a:pt x="17487" y="1786"/>
                </a:cubicBezTo>
                <a:cubicBezTo>
                  <a:pt x="17497" y="1975"/>
                  <a:pt x="17487" y="2167"/>
                  <a:pt x="17487" y="2356"/>
                </a:cubicBezTo>
                <a:cubicBezTo>
                  <a:pt x="17487" y="2486"/>
                  <a:pt x="17487" y="2280"/>
                  <a:pt x="17487" y="22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62800" y="303120"/>
            <a:ext cx="787320" cy="554040"/>
          </a:xfrm>
          <a:custGeom>
            <a:avLst/>
            <a:gdLst/>
            <a:ahLst/>
            <a:rect l="l" t="t" r="r" b="b"/>
            <a:pathLst>
              <a:path w="2184" h="1539">
                <a:moveTo>
                  <a:pt x="18951" y="2232"/>
                </a:moveTo>
                <a:cubicBezTo>
                  <a:pt x="18936" y="2180"/>
                  <a:pt x="18908" y="2107"/>
                  <a:pt x="18901" y="2059"/>
                </a:cubicBezTo>
                <a:cubicBezTo>
                  <a:pt x="18885" y="1958"/>
                  <a:pt x="18885" y="1836"/>
                  <a:pt x="18876" y="1736"/>
                </a:cubicBezTo>
                <a:cubicBezTo>
                  <a:pt x="18862" y="1585"/>
                  <a:pt x="18804" y="1457"/>
                  <a:pt x="18777" y="1315"/>
                </a:cubicBezTo>
                <a:cubicBezTo>
                  <a:pt x="18763" y="1243"/>
                  <a:pt x="18730" y="1100"/>
                  <a:pt x="18777" y="1042"/>
                </a:cubicBezTo>
                <a:cubicBezTo>
                  <a:pt x="18854" y="947"/>
                  <a:pt x="18990" y="905"/>
                  <a:pt x="19100" y="868"/>
                </a:cubicBezTo>
                <a:cubicBezTo>
                  <a:pt x="19215" y="829"/>
                  <a:pt x="19279" y="831"/>
                  <a:pt x="19372" y="893"/>
                </a:cubicBezTo>
                <a:cubicBezTo>
                  <a:pt x="19396" y="909"/>
                  <a:pt x="19499" y="969"/>
                  <a:pt x="19496" y="1017"/>
                </a:cubicBezTo>
                <a:cubicBezTo>
                  <a:pt x="19488" y="1034"/>
                  <a:pt x="19480" y="1050"/>
                  <a:pt x="19472" y="1067"/>
                </a:cubicBezTo>
              </a:path>
              <a:path w="2184" h="1539">
                <a:moveTo>
                  <a:pt x="18231" y="1687"/>
                </a:moveTo>
                <a:cubicBezTo>
                  <a:pt x="18416" y="1687"/>
                  <a:pt x="18594" y="1696"/>
                  <a:pt x="18777" y="1712"/>
                </a:cubicBezTo>
                <a:cubicBezTo>
                  <a:pt x="18883" y="1721"/>
                  <a:pt x="18994" y="1712"/>
                  <a:pt x="19100" y="1712"/>
                </a:cubicBezTo>
              </a:path>
              <a:path w="2184" h="1539">
                <a:moveTo>
                  <a:pt x="19422" y="1662"/>
                </a:moveTo>
                <a:cubicBezTo>
                  <a:pt x="19422" y="1715"/>
                  <a:pt x="19406" y="1735"/>
                  <a:pt x="19397" y="1786"/>
                </a:cubicBezTo>
                <a:cubicBezTo>
                  <a:pt x="19383" y="1868"/>
                  <a:pt x="19380" y="1980"/>
                  <a:pt x="19372" y="2059"/>
                </a:cubicBezTo>
                <a:cubicBezTo>
                  <a:pt x="19364" y="2140"/>
                  <a:pt x="19354" y="2209"/>
                  <a:pt x="19348" y="2282"/>
                </a:cubicBezTo>
                <a:cubicBezTo>
                  <a:pt x="19348" y="2290"/>
                  <a:pt x="19348" y="2299"/>
                  <a:pt x="19348" y="2307"/>
                </a:cubicBezTo>
                <a:cubicBezTo>
                  <a:pt x="19445" y="2361"/>
                  <a:pt x="19451" y="2339"/>
                  <a:pt x="19546" y="2282"/>
                </a:cubicBezTo>
                <a:cubicBezTo>
                  <a:pt x="19610" y="2244"/>
                  <a:pt x="19661" y="2162"/>
                  <a:pt x="19670" y="2084"/>
                </a:cubicBezTo>
                <a:cubicBezTo>
                  <a:pt x="19685" y="1954"/>
                  <a:pt x="19711" y="1817"/>
                  <a:pt x="19720" y="1687"/>
                </a:cubicBezTo>
                <a:cubicBezTo>
                  <a:pt x="19720" y="1679"/>
                  <a:pt x="19720" y="1670"/>
                  <a:pt x="19720" y="1662"/>
                </a:cubicBezTo>
                <a:cubicBezTo>
                  <a:pt x="19688" y="1704"/>
                  <a:pt x="19695" y="1730"/>
                  <a:pt x="19695" y="1786"/>
                </a:cubicBezTo>
                <a:cubicBezTo>
                  <a:pt x="19695" y="1906"/>
                  <a:pt x="19658" y="2115"/>
                  <a:pt x="19745" y="2158"/>
                </a:cubicBezTo>
              </a:path>
              <a:path w="2184" h="1539">
                <a:moveTo>
                  <a:pt x="19993" y="1687"/>
                </a:moveTo>
                <a:cubicBezTo>
                  <a:pt x="19978" y="1748"/>
                  <a:pt x="19949" y="1781"/>
                  <a:pt x="19943" y="1860"/>
                </a:cubicBezTo>
                <a:cubicBezTo>
                  <a:pt x="19933" y="1984"/>
                  <a:pt x="19904" y="2251"/>
                  <a:pt x="19968" y="2356"/>
                </a:cubicBezTo>
                <a:cubicBezTo>
                  <a:pt x="19968" y="2138"/>
                  <a:pt x="19932" y="1889"/>
                  <a:pt x="20017" y="1687"/>
                </a:cubicBezTo>
                <a:cubicBezTo>
                  <a:pt x="20035" y="1643"/>
                  <a:pt x="20100" y="1616"/>
                  <a:pt x="20141" y="1612"/>
                </a:cubicBezTo>
                <a:cubicBezTo>
                  <a:pt x="20174" y="1609"/>
                  <a:pt x="20271" y="1660"/>
                  <a:pt x="20290" y="1687"/>
                </a:cubicBezTo>
                <a:cubicBezTo>
                  <a:pt x="20307" y="1720"/>
                  <a:pt x="20323" y="1753"/>
                  <a:pt x="20340" y="1786"/>
                </a:cubicBezTo>
              </a:path>
              <a:path w="2184" h="1539">
                <a:moveTo>
                  <a:pt x="20340" y="1687"/>
                </a:moveTo>
                <a:cubicBezTo>
                  <a:pt x="20332" y="1695"/>
                  <a:pt x="20323" y="1704"/>
                  <a:pt x="20315" y="1712"/>
                </a:cubicBezTo>
                <a:cubicBezTo>
                  <a:pt x="20335" y="1761"/>
                  <a:pt x="20364" y="1807"/>
                  <a:pt x="20389" y="1860"/>
                </a:cubicBezTo>
                <a:cubicBezTo>
                  <a:pt x="20418" y="1921"/>
                  <a:pt x="20414" y="1967"/>
                  <a:pt x="20414" y="2034"/>
                </a:cubicBezTo>
                <a:cubicBezTo>
                  <a:pt x="20414" y="2127"/>
                  <a:pt x="20410" y="2196"/>
                  <a:pt x="20389" y="2282"/>
                </a:cubicBezTo>
                <a:cubicBezTo>
                  <a:pt x="20380" y="2318"/>
                  <a:pt x="20317" y="2430"/>
                  <a:pt x="20389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45240" y="392040"/>
            <a:ext cx="1544760" cy="438120"/>
          </a:xfrm>
          <a:custGeom>
            <a:avLst/>
            <a:gdLst/>
            <a:ahLst/>
            <a:rect l="l" t="t" r="r" b="b"/>
            <a:pathLst>
              <a:path w="4292" h="1217">
                <a:moveTo>
                  <a:pt x="21580" y="1588"/>
                </a:moveTo>
                <a:cubicBezTo>
                  <a:pt x="21550" y="1561"/>
                  <a:pt x="21472" y="1475"/>
                  <a:pt x="21431" y="1463"/>
                </a:cubicBezTo>
                <a:cubicBezTo>
                  <a:pt x="21365" y="1444"/>
                  <a:pt x="21267" y="1463"/>
                  <a:pt x="21208" y="1488"/>
                </a:cubicBezTo>
                <a:cubicBezTo>
                  <a:pt x="21138" y="1518"/>
                  <a:pt x="21087" y="1584"/>
                  <a:pt x="21034" y="1637"/>
                </a:cubicBezTo>
                <a:cubicBezTo>
                  <a:pt x="20989" y="1683"/>
                  <a:pt x="20964" y="1717"/>
                  <a:pt x="20960" y="1786"/>
                </a:cubicBezTo>
                <a:cubicBezTo>
                  <a:pt x="20953" y="1905"/>
                  <a:pt x="20953" y="1990"/>
                  <a:pt x="21010" y="2084"/>
                </a:cubicBezTo>
                <a:cubicBezTo>
                  <a:pt x="21058" y="2163"/>
                  <a:pt x="21127" y="2216"/>
                  <a:pt x="21208" y="2257"/>
                </a:cubicBezTo>
                <a:cubicBezTo>
                  <a:pt x="21275" y="2291"/>
                  <a:pt x="21383" y="2304"/>
                  <a:pt x="21456" y="2307"/>
                </a:cubicBezTo>
                <a:cubicBezTo>
                  <a:pt x="21593" y="2313"/>
                  <a:pt x="21648" y="2256"/>
                  <a:pt x="21729" y="2158"/>
                </a:cubicBezTo>
              </a:path>
              <a:path w="4292" h="1217">
                <a:moveTo>
                  <a:pt x="22299" y="1191"/>
                </a:moveTo>
                <a:cubicBezTo>
                  <a:pt x="22271" y="1268"/>
                  <a:pt x="22275" y="1330"/>
                  <a:pt x="22275" y="1414"/>
                </a:cubicBezTo>
                <a:cubicBezTo>
                  <a:pt x="22275" y="1557"/>
                  <a:pt x="22295" y="1694"/>
                  <a:pt x="22299" y="1836"/>
                </a:cubicBezTo>
                <a:cubicBezTo>
                  <a:pt x="22302" y="1930"/>
                  <a:pt x="22324" y="2012"/>
                  <a:pt x="22324" y="2108"/>
                </a:cubicBezTo>
                <a:cubicBezTo>
                  <a:pt x="22324" y="2149"/>
                  <a:pt x="22324" y="2191"/>
                  <a:pt x="22324" y="2232"/>
                </a:cubicBezTo>
              </a:path>
              <a:path w="4292" h="1217">
                <a:moveTo>
                  <a:pt x="21977" y="1860"/>
                </a:moveTo>
                <a:cubicBezTo>
                  <a:pt x="21996" y="1785"/>
                  <a:pt x="22030" y="1823"/>
                  <a:pt x="22101" y="1811"/>
                </a:cubicBezTo>
                <a:cubicBezTo>
                  <a:pt x="22203" y="1794"/>
                  <a:pt x="22324" y="1809"/>
                  <a:pt x="22423" y="1786"/>
                </a:cubicBezTo>
                <a:cubicBezTo>
                  <a:pt x="22488" y="1771"/>
                  <a:pt x="22587" y="1763"/>
                  <a:pt x="22647" y="1736"/>
                </a:cubicBezTo>
                <a:cubicBezTo>
                  <a:pt x="22655" y="1728"/>
                  <a:pt x="22663" y="1720"/>
                  <a:pt x="22671" y="1712"/>
                </a:cubicBezTo>
              </a:path>
              <a:path w="4292" h="1217">
                <a:moveTo>
                  <a:pt x="22820" y="1761"/>
                </a:moveTo>
                <a:cubicBezTo>
                  <a:pt x="22820" y="1864"/>
                  <a:pt x="22790" y="2089"/>
                  <a:pt x="22845" y="2034"/>
                </a:cubicBezTo>
              </a:path>
              <a:path w="4292" h="1217">
                <a:moveTo>
                  <a:pt x="22820" y="1389"/>
                </a:moveTo>
                <a:cubicBezTo>
                  <a:pt x="22798" y="1366"/>
                  <a:pt x="22790" y="1355"/>
                  <a:pt x="22796" y="1389"/>
                </a:cubicBezTo>
              </a:path>
              <a:path w="4292" h="1217">
                <a:moveTo>
                  <a:pt x="23490" y="1736"/>
                </a:moveTo>
                <a:cubicBezTo>
                  <a:pt x="23418" y="1686"/>
                  <a:pt x="23373" y="1628"/>
                  <a:pt x="23292" y="1687"/>
                </a:cubicBezTo>
                <a:cubicBezTo>
                  <a:pt x="23237" y="1727"/>
                  <a:pt x="23213" y="1831"/>
                  <a:pt x="23192" y="1885"/>
                </a:cubicBezTo>
                <a:cubicBezTo>
                  <a:pt x="23167" y="1950"/>
                  <a:pt x="23144" y="2042"/>
                  <a:pt x="23192" y="2108"/>
                </a:cubicBezTo>
                <a:cubicBezTo>
                  <a:pt x="23227" y="2157"/>
                  <a:pt x="23356" y="2180"/>
                  <a:pt x="23416" y="2183"/>
                </a:cubicBezTo>
                <a:cubicBezTo>
                  <a:pt x="23490" y="2187"/>
                  <a:pt x="23533" y="2189"/>
                  <a:pt x="23540" y="2108"/>
                </a:cubicBezTo>
                <a:cubicBezTo>
                  <a:pt x="23548" y="2017"/>
                  <a:pt x="23580" y="1793"/>
                  <a:pt x="23490" y="1736"/>
                </a:cubicBezTo>
                <a:cubicBezTo>
                  <a:pt x="23465" y="1736"/>
                  <a:pt x="23457" y="1736"/>
                  <a:pt x="23440" y="1736"/>
                </a:cubicBezTo>
              </a:path>
              <a:path w="4292" h="1217">
                <a:moveTo>
                  <a:pt x="23763" y="1712"/>
                </a:moveTo>
                <a:cubicBezTo>
                  <a:pt x="23789" y="1772"/>
                  <a:pt x="23788" y="1795"/>
                  <a:pt x="23788" y="1860"/>
                </a:cubicBezTo>
                <a:cubicBezTo>
                  <a:pt x="23788" y="1952"/>
                  <a:pt x="23814" y="1972"/>
                  <a:pt x="23837" y="2059"/>
                </a:cubicBezTo>
                <a:cubicBezTo>
                  <a:pt x="23849" y="2104"/>
                  <a:pt x="23829" y="2144"/>
                  <a:pt x="23812" y="2183"/>
                </a:cubicBezTo>
                <a:cubicBezTo>
                  <a:pt x="23812" y="2126"/>
                  <a:pt x="23804" y="2084"/>
                  <a:pt x="23837" y="2034"/>
                </a:cubicBezTo>
                <a:cubicBezTo>
                  <a:pt x="23878" y="1973"/>
                  <a:pt x="23851" y="1908"/>
                  <a:pt x="23887" y="1836"/>
                </a:cubicBezTo>
                <a:cubicBezTo>
                  <a:pt x="23928" y="1754"/>
                  <a:pt x="23966" y="1778"/>
                  <a:pt x="24036" y="1736"/>
                </a:cubicBezTo>
                <a:cubicBezTo>
                  <a:pt x="24094" y="1701"/>
                  <a:pt x="24097" y="1716"/>
                  <a:pt x="24135" y="1761"/>
                </a:cubicBezTo>
                <a:cubicBezTo>
                  <a:pt x="24186" y="1820"/>
                  <a:pt x="24255" y="1886"/>
                  <a:pt x="24284" y="1960"/>
                </a:cubicBezTo>
                <a:cubicBezTo>
                  <a:pt x="24303" y="2009"/>
                  <a:pt x="24269" y="2065"/>
                  <a:pt x="24259" y="2108"/>
                </a:cubicBezTo>
                <a:cubicBezTo>
                  <a:pt x="24241" y="2183"/>
                  <a:pt x="24234" y="2147"/>
                  <a:pt x="24234" y="2084"/>
                </a:cubicBezTo>
              </a:path>
              <a:path w="4292" h="1217">
                <a:moveTo>
                  <a:pt x="24805" y="1786"/>
                </a:moveTo>
                <a:cubicBezTo>
                  <a:pt x="24748" y="1778"/>
                  <a:pt x="24718" y="1761"/>
                  <a:pt x="24656" y="1761"/>
                </a:cubicBezTo>
                <a:cubicBezTo>
                  <a:pt x="24569" y="1761"/>
                  <a:pt x="24531" y="1851"/>
                  <a:pt x="24507" y="1910"/>
                </a:cubicBezTo>
                <a:cubicBezTo>
                  <a:pt x="24472" y="1995"/>
                  <a:pt x="24457" y="2038"/>
                  <a:pt x="24457" y="2133"/>
                </a:cubicBezTo>
                <a:cubicBezTo>
                  <a:pt x="24457" y="2202"/>
                  <a:pt x="24526" y="2242"/>
                  <a:pt x="24581" y="2282"/>
                </a:cubicBezTo>
                <a:cubicBezTo>
                  <a:pt x="24637" y="2242"/>
                  <a:pt x="24677" y="2201"/>
                  <a:pt x="24705" y="2133"/>
                </a:cubicBezTo>
                <a:cubicBezTo>
                  <a:pt x="24740" y="2048"/>
                  <a:pt x="24724" y="1968"/>
                  <a:pt x="24755" y="1885"/>
                </a:cubicBezTo>
                <a:cubicBezTo>
                  <a:pt x="24804" y="1860"/>
                  <a:pt x="24755" y="1919"/>
                  <a:pt x="24755" y="1984"/>
                </a:cubicBezTo>
                <a:cubicBezTo>
                  <a:pt x="24755" y="2082"/>
                  <a:pt x="24804" y="2095"/>
                  <a:pt x="24854" y="2158"/>
                </a:cubicBezTo>
                <a:cubicBezTo>
                  <a:pt x="24877" y="2186"/>
                  <a:pt x="24932" y="2273"/>
                  <a:pt x="24978" y="2208"/>
                </a:cubicBezTo>
                <a:cubicBezTo>
                  <a:pt x="24978" y="2200"/>
                  <a:pt x="24978" y="2191"/>
                  <a:pt x="24978" y="2183"/>
                </a:cubicBezTo>
              </a:path>
              <a:path w="4292" h="1217">
                <a:moveTo>
                  <a:pt x="25028" y="1091"/>
                </a:moveTo>
                <a:cubicBezTo>
                  <a:pt x="25082" y="1176"/>
                  <a:pt x="25134" y="1263"/>
                  <a:pt x="25152" y="1364"/>
                </a:cubicBezTo>
                <a:cubicBezTo>
                  <a:pt x="25183" y="1535"/>
                  <a:pt x="25116" y="1718"/>
                  <a:pt x="25177" y="1885"/>
                </a:cubicBezTo>
                <a:cubicBezTo>
                  <a:pt x="25206" y="1964"/>
                  <a:pt x="25226" y="1996"/>
                  <a:pt x="25226" y="2084"/>
                </a:cubicBezTo>
                <a:cubicBezTo>
                  <a:pt x="25226" y="2088"/>
                  <a:pt x="25261" y="2209"/>
                  <a:pt x="25251" y="2208"/>
                </a:cubicBezTo>
                <a:cubicBezTo>
                  <a:pt x="25211" y="2188"/>
                  <a:pt x="25195" y="2189"/>
                  <a:pt x="2520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6160" y="1438200"/>
            <a:ext cx="1474920" cy="115920"/>
          </a:xfrm>
          <a:custGeom>
            <a:avLst/>
            <a:gdLst/>
            <a:ahLst/>
            <a:rect l="l" t="t" r="r" b="b"/>
            <a:pathLst>
              <a:path w="4094" h="323">
                <a:moveTo>
                  <a:pt x="2158" y="4018"/>
                </a:moveTo>
                <a:cubicBezTo>
                  <a:pt x="2168" y="4037"/>
                  <a:pt x="2203" y="4140"/>
                  <a:pt x="2257" y="4142"/>
                </a:cubicBezTo>
                <a:cubicBezTo>
                  <a:pt x="2360" y="4145"/>
                  <a:pt x="2380" y="4063"/>
                  <a:pt x="2456" y="4018"/>
                </a:cubicBezTo>
                <a:cubicBezTo>
                  <a:pt x="2496" y="3998"/>
                  <a:pt x="2503" y="3990"/>
                  <a:pt x="2530" y="3994"/>
                </a:cubicBezTo>
                <a:cubicBezTo>
                  <a:pt x="2587" y="4088"/>
                  <a:pt x="2556" y="4092"/>
                  <a:pt x="2654" y="4118"/>
                </a:cubicBezTo>
                <a:cubicBezTo>
                  <a:pt x="2729" y="4138"/>
                  <a:pt x="2762" y="4157"/>
                  <a:pt x="2828" y="4142"/>
                </a:cubicBezTo>
                <a:cubicBezTo>
                  <a:pt x="2899" y="4125"/>
                  <a:pt x="2950" y="4096"/>
                  <a:pt x="3026" y="4093"/>
                </a:cubicBezTo>
                <a:cubicBezTo>
                  <a:pt x="3092" y="4091"/>
                  <a:pt x="3161" y="4075"/>
                  <a:pt x="3200" y="4142"/>
                </a:cubicBezTo>
                <a:cubicBezTo>
                  <a:pt x="3222" y="4180"/>
                  <a:pt x="3195" y="4231"/>
                  <a:pt x="3249" y="4266"/>
                </a:cubicBezTo>
                <a:cubicBezTo>
                  <a:pt x="3306" y="4303"/>
                  <a:pt x="3314" y="4286"/>
                  <a:pt x="3373" y="4266"/>
                </a:cubicBezTo>
                <a:cubicBezTo>
                  <a:pt x="3423" y="4249"/>
                  <a:pt x="3475" y="4233"/>
                  <a:pt x="3522" y="4217"/>
                </a:cubicBezTo>
                <a:cubicBezTo>
                  <a:pt x="3603" y="4152"/>
                  <a:pt x="3544" y="4167"/>
                  <a:pt x="3671" y="4167"/>
                </a:cubicBezTo>
                <a:cubicBezTo>
                  <a:pt x="3762" y="4167"/>
                  <a:pt x="3809" y="4207"/>
                  <a:pt x="3894" y="4217"/>
                </a:cubicBezTo>
                <a:cubicBezTo>
                  <a:pt x="3968" y="4226"/>
                  <a:pt x="4023" y="4198"/>
                  <a:pt x="4093" y="4192"/>
                </a:cubicBezTo>
                <a:cubicBezTo>
                  <a:pt x="4143" y="4188"/>
                  <a:pt x="4176" y="4179"/>
                  <a:pt x="4217" y="4167"/>
                </a:cubicBezTo>
                <a:cubicBezTo>
                  <a:pt x="4259" y="4155"/>
                  <a:pt x="4310" y="4123"/>
                  <a:pt x="4366" y="4142"/>
                </a:cubicBezTo>
                <a:cubicBezTo>
                  <a:pt x="4439" y="4167"/>
                  <a:pt x="4504" y="4266"/>
                  <a:pt x="4589" y="4266"/>
                </a:cubicBezTo>
                <a:cubicBezTo>
                  <a:pt x="4647" y="4266"/>
                  <a:pt x="4712" y="4226"/>
                  <a:pt x="4762" y="4192"/>
                </a:cubicBezTo>
                <a:cubicBezTo>
                  <a:pt x="4818" y="4154"/>
                  <a:pt x="4814" y="4148"/>
                  <a:pt x="4887" y="4142"/>
                </a:cubicBezTo>
                <a:cubicBezTo>
                  <a:pt x="5000" y="4133"/>
                  <a:pt x="4980" y="4188"/>
                  <a:pt x="5035" y="4266"/>
                </a:cubicBezTo>
                <a:cubicBezTo>
                  <a:pt x="5075" y="4322"/>
                  <a:pt x="5095" y="4324"/>
                  <a:pt x="5159" y="4291"/>
                </a:cubicBezTo>
                <a:cubicBezTo>
                  <a:pt x="5204" y="4268"/>
                  <a:pt x="5270" y="4217"/>
                  <a:pt x="5308" y="4192"/>
                </a:cubicBezTo>
                <a:cubicBezTo>
                  <a:pt x="5356" y="4160"/>
                  <a:pt x="5378" y="4152"/>
                  <a:pt x="5432" y="4142"/>
                </a:cubicBezTo>
                <a:cubicBezTo>
                  <a:pt x="5522" y="4124"/>
                  <a:pt x="5527" y="4170"/>
                  <a:pt x="5581" y="4217"/>
                </a:cubicBezTo>
                <a:cubicBezTo>
                  <a:pt x="5616" y="4247"/>
                  <a:pt x="5634" y="4284"/>
                  <a:pt x="5680" y="4291"/>
                </a:cubicBezTo>
                <a:cubicBezTo>
                  <a:pt x="5716" y="4296"/>
                  <a:pt x="5819" y="4228"/>
                  <a:pt x="5854" y="4217"/>
                </a:cubicBezTo>
                <a:cubicBezTo>
                  <a:pt x="5916" y="4198"/>
                  <a:pt x="5912" y="4200"/>
                  <a:pt x="5978" y="4217"/>
                </a:cubicBezTo>
                <a:cubicBezTo>
                  <a:pt x="6028" y="4230"/>
                  <a:pt x="6066" y="4240"/>
                  <a:pt x="6127" y="4242"/>
                </a:cubicBezTo>
                <a:cubicBezTo>
                  <a:pt x="6168" y="4244"/>
                  <a:pt x="6210" y="4242"/>
                  <a:pt x="6251" y="4242"/>
                </a:cubicBezTo>
                <a:cubicBezTo>
                  <a:pt x="6148" y="4269"/>
                  <a:pt x="6234" y="4300"/>
                  <a:pt x="6127" y="421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40160" y="946080"/>
            <a:ext cx="4724640" cy="135000"/>
          </a:xfrm>
          <a:custGeom>
            <a:avLst/>
            <a:gdLst/>
            <a:ahLst/>
            <a:rect l="l" t="t" r="r" b="b"/>
            <a:pathLst>
              <a:path w="13123" h="373">
                <a:moveTo>
                  <a:pt x="12055" y="2753"/>
                </a:moveTo>
                <a:cubicBezTo>
                  <a:pt x="12055" y="2803"/>
                  <a:pt x="12055" y="2820"/>
                  <a:pt x="12055" y="2853"/>
                </a:cubicBezTo>
                <a:cubicBezTo>
                  <a:pt x="12142" y="2824"/>
                  <a:pt x="12222" y="2778"/>
                  <a:pt x="12303" y="2753"/>
                </a:cubicBezTo>
                <a:cubicBezTo>
                  <a:pt x="12382" y="2728"/>
                  <a:pt x="12373" y="2722"/>
                  <a:pt x="12452" y="2753"/>
                </a:cubicBezTo>
                <a:cubicBezTo>
                  <a:pt x="12488" y="2767"/>
                  <a:pt x="12539" y="2808"/>
                  <a:pt x="12576" y="2828"/>
                </a:cubicBezTo>
                <a:cubicBezTo>
                  <a:pt x="12602" y="2804"/>
                  <a:pt x="12655" y="2712"/>
                  <a:pt x="12700" y="2704"/>
                </a:cubicBezTo>
                <a:cubicBezTo>
                  <a:pt x="12808" y="2685"/>
                  <a:pt x="12728" y="2734"/>
                  <a:pt x="12799" y="2778"/>
                </a:cubicBezTo>
                <a:cubicBezTo>
                  <a:pt x="12902" y="2842"/>
                  <a:pt x="12838" y="2805"/>
                  <a:pt x="12948" y="2778"/>
                </a:cubicBezTo>
                <a:cubicBezTo>
                  <a:pt x="12979" y="2770"/>
                  <a:pt x="13035" y="2720"/>
                  <a:pt x="13072" y="2729"/>
                </a:cubicBezTo>
                <a:cubicBezTo>
                  <a:pt x="13190" y="2759"/>
                  <a:pt x="13135" y="2796"/>
                  <a:pt x="13171" y="2877"/>
                </a:cubicBezTo>
                <a:cubicBezTo>
                  <a:pt x="13231" y="2845"/>
                  <a:pt x="13277" y="2822"/>
                  <a:pt x="13345" y="2803"/>
                </a:cubicBezTo>
                <a:cubicBezTo>
                  <a:pt x="13383" y="2792"/>
                  <a:pt x="13448" y="2753"/>
                  <a:pt x="13494" y="2778"/>
                </a:cubicBezTo>
                <a:cubicBezTo>
                  <a:pt x="13532" y="2798"/>
                  <a:pt x="13555" y="2844"/>
                  <a:pt x="13593" y="2877"/>
                </a:cubicBezTo>
                <a:cubicBezTo>
                  <a:pt x="13605" y="2864"/>
                  <a:pt x="13670" y="2721"/>
                  <a:pt x="13717" y="2729"/>
                </a:cubicBezTo>
                <a:cubicBezTo>
                  <a:pt x="13772" y="2738"/>
                  <a:pt x="13721" y="2785"/>
                  <a:pt x="13742" y="2803"/>
                </a:cubicBezTo>
                <a:cubicBezTo>
                  <a:pt x="13805" y="2776"/>
                  <a:pt x="13817" y="2740"/>
                  <a:pt x="13891" y="2753"/>
                </a:cubicBezTo>
                <a:cubicBezTo>
                  <a:pt x="13966" y="2766"/>
                  <a:pt x="13950" y="2816"/>
                  <a:pt x="14015" y="2853"/>
                </a:cubicBezTo>
                <a:cubicBezTo>
                  <a:pt x="14023" y="2853"/>
                  <a:pt x="14031" y="2853"/>
                  <a:pt x="14039" y="2853"/>
                </a:cubicBezTo>
                <a:cubicBezTo>
                  <a:pt x="14088" y="2804"/>
                  <a:pt x="14183" y="2664"/>
                  <a:pt x="14238" y="2704"/>
                </a:cubicBezTo>
                <a:cubicBezTo>
                  <a:pt x="14265" y="2724"/>
                  <a:pt x="14226" y="2772"/>
                  <a:pt x="14238" y="2803"/>
                </a:cubicBezTo>
                <a:cubicBezTo>
                  <a:pt x="14265" y="2792"/>
                  <a:pt x="14358" y="2721"/>
                  <a:pt x="14387" y="2729"/>
                </a:cubicBezTo>
                <a:cubicBezTo>
                  <a:pt x="14445" y="2745"/>
                  <a:pt x="14438" y="2800"/>
                  <a:pt x="14536" y="2803"/>
                </a:cubicBezTo>
                <a:cubicBezTo>
                  <a:pt x="14564" y="2804"/>
                  <a:pt x="14693" y="2784"/>
                  <a:pt x="14734" y="2778"/>
                </a:cubicBezTo>
                <a:cubicBezTo>
                  <a:pt x="14760" y="2774"/>
                  <a:pt x="14860" y="2724"/>
                  <a:pt x="14883" y="2753"/>
                </a:cubicBezTo>
                <a:cubicBezTo>
                  <a:pt x="14904" y="2778"/>
                  <a:pt x="14852" y="2820"/>
                  <a:pt x="14858" y="2853"/>
                </a:cubicBezTo>
                <a:cubicBezTo>
                  <a:pt x="14894" y="2787"/>
                  <a:pt x="14886" y="2778"/>
                  <a:pt x="14957" y="2729"/>
                </a:cubicBezTo>
                <a:cubicBezTo>
                  <a:pt x="14974" y="2721"/>
                  <a:pt x="14990" y="2712"/>
                  <a:pt x="15007" y="2704"/>
                </a:cubicBezTo>
                <a:cubicBezTo>
                  <a:pt x="15006" y="2717"/>
                  <a:pt x="14942" y="2845"/>
                  <a:pt x="14982" y="2853"/>
                </a:cubicBezTo>
                <a:cubicBezTo>
                  <a:pt x="15048" y="2867"/>
                  <a:pt x="15080" y="2799"/>
                  <a:pt x="15131" y="2778"/>
                </a:cubicBezTo>
                <a:cubicBezTo>
                  <a:pt x="15182" y="2757"/>
                  <a:pt x="15246" y="2718"/>
                  <a:pt x="15304" y="2729"/>
                </a:cubicBezTo>
                <a:cubicBezTo>
                  <a:pt x="15375" y="2743"/>
                  <a:pt x="15428" y="2833"/>
                  <a:pt x="15503" y="2853"/>
                </a:cubicBezTo>
                <a:cubicBezTo>
                  <a:pt x="15541" y="2863"/>
                  <a:pt x="15623" y="2856"/>
                  <a:pt x="15652" y="2828"/>
                </a:cubicBezTo>
                <a:cubicBezTo>
                  <a:pt x="15716" y="2767"/>
                  <a:pt x="15657" y="2753"/>
                  <a:pt x="15677" y="2753"/>
                </a:cubicBezTo>
                <a:cubicBezTo>
                  <a:pt x="15677" y="2778"/>
                  <a:pt x="15677" y="2786"/>
                  <a:pt x="15677" y="2803"/>
                </a:cubicBezTo>
                <a:cubicBezTo>
                  <a:pt x="15715" y="2779"/>
                  <a:pt x="15756" y="2713"/>
                  <a:pt x="15801" y="2704"/>
                </a:cubicBezTo>
                <a:cubicBezTo>
                  <a:pt x="15872" y="2690"/>
                  <a:pt x="15993" y="2690"/>
                  <a:pt x="16049" y="2729"/>
                </a:cubicBezTo>
                <a:cubicBezTo>
                  <a:pt x="16092" y="2759"/>
                  <a:pt x="16179" y="2891"/>
                  <a:pt x="16247" y="2877"/>
                </a:cubicBezTo>
                <a:cubicBezTo>
                  <a:pt x="16305" y="2865"/>
                  <a:pt x="16315" y="2798"/>
                  <a:pt x="16371" y="2778"/>
                </a:cubicBezTo>
                <a:cubicBezTo>
                  <a:pt x="16389" y="2772"/>
                  <a:pt x="16507" y="2750"/>
                  <a:pt x="16520" y="2753"/>
                </a:cubicBezTo>
                <a:cubicBezTo>
                  <a:pt x="16599" y="2769"/>
                  <a:pt x="16632" y="2875"/>
                  <a:pt x="16694" y="2877"/>
                </a:cubicBezTo>
                <a:cubicBezTo>
                  <a:pt x="16754" y="2879"/>
                  <a:pt x="16819" y="2810"/>
                  <a:pt x="16867" y="2778"/>
                </a:cubicBezTo>
                <a:cubicBezTo>
                  <a:pt x="16930" y="2825"/>
                  <a:pt x="16840" y="2844"/>
                  <a:pt x="16917" y="2803"/>
                </a:cubicBezTo>
                <a:cubicBezTo>
                  <a:pt x="16978" y="2771"/>
                  <a:pt x="16994" y="2744"/>
                  <a:pt x="17066" y="2753"/>
                </a:cubicBezTo>
                <a:cubicBezTo>
                  <a:pt x="17112" y="2758"/>
                  <a:pt x="17137" y="2809"/>
                  <a:pt x="17190" y="2803"/>
                </a:cubicBezTo>
                <a:cubicBezTo>
                  <a:pt x="17238" y="2798"/>
                  <a:pt x="17317" y="2746"/>
                  <a:pt x="17363" y="2729"/>
                </a:cubicBezTo>
                <a:cubicBezTo>
                  <a:pt x="17495" y="2681"/>
                  <a:pt x="17243" y="2847"/>
                  <a:pt x="17413" y="2704"/>
                </a:cubicBezTo>
              </a:path>
              <a:path w="13123" h="373">
                <a:moveTo>
                  <a:pt x="18777" y="2753"/>
                </a:moveTo>
                <a:cubicBezTo>
                  <a:pt x="18816" y="2781"/>
                  <a:pt x="18848" y="2826"/>
                  <a:pt x="18876" y="2853"/>
                </a:cubicBezTo>
                <a:cubicBezTo>
                  <a:pt x="18915" y="2891"/>
                  <a:pt x="18917" y="2908"/>
                  <a:pt x="18951" y="2902"/>
                </a:cubicBezTo>
                <a:cubicBezTo>
                  <a:pt x="18997" y="2859"/>
                  <a:pt x="19016" y="2815"/>
                  <a:pt x="19075" y="2778"/>
                </a:cubicBezTo>
                <a:cubicBezTo>
                  <a:pt x="19230" y="2679"/>
                  <a:pt x="19141" y="2795"/>
                  <a:pt x="19248" y="2853"/>
                </a:cubicBezTo>
                <a:cubicBezTo>
                  <a:pt x="19356" y="2911"/>
                  <a:pt x="19284" y="2898"/>
                  <a:pt x="19397" y="2853"/>
                </a:cubicBezTo>
                <a:cubicBezTo>
                  <a:pt x="19442" y="2835"/>
                  <a:pt x="19479" y="2802"/>
                  <a:pt x="19521" y="2778"/>
                </a:cubicBezTo>
                <a:cubicBezTo>
                  <a:pt x="19561" y="2821"/>
                  <a:pt x="19559" y="2879"/>
                  <a:pt x="19621" y="2902"/>
                </a:cubicBezTo>
                <a:cubicBezTo>
                  <a:pt x="19714" y="2936"/>
                  <a:pt x="19731" y="2866"/>
                  <a:pt x="19819" y="2853"/>
                </a:cubicBezTo>
                <a:cubicBezTo>
                  <a:pt x="19908" y="2840"/>
                  <a:pt x="19913" y="2862"/>
                  <a:pt x="19968" y="2902"/>
                </a:cubicBezTo>
                <a:cubicBezTo>
                  <a:pt x="20040" y="2954"/>
                  <a:pt x="20030" y="2968"/>
                  <a:pt x="20117" y="2977"/>
                </a:cubicBezTo>
                <a:cubicBezTo>
                  <a:pt x="20210" y="2986"/>
                  <a:pt x="20239" y="2918"/>
                  <a:pt x="20315" y="2902"/>
                </a:cubicBezTo>
                <a:cubicBezTo>
                  <a:pt x="20366" y="2891"/>
                  <a:pt x="20392" y="2949"/>
                  <a:pt x="20439" y="2927"/>
                </a:cubicBezTo>
                <a:cubicBezTo>
                  <a:pt x="20502" y="2898"/>
                  <a:pt x="20534" y="2848"/>
                  <a:pt x="20588" y="2803"/>
                </a:cubicBezTo>
                <a:cubicBezTo>
                  <a:pt x="20638" y="2761"/>
                  <a:pt x="20661" y="2707"/>
                  <a:pt x="20737" y="2729"/>
                </a:cubicBezTo>
                <a:cubicBezTo>
                  <a:pt x="20779" y="2741"/>
                  <a:pt x="20887" y="2851"/>
                  <a:pt x="20935" y="2877"/>
                </a:cubicBezTo>
                <a:cubicBezTo>
                  <a:pt x="21011" y="2919"/>
                  <a:pt x="21052" y="2918"/>
                  <a:pt x="21134" y="2927"/>
                </a:cubicBezTo>
                <a:cubicBezTo>
                  <a:pt x="21218" y="2936"/>
                  <a:pt x="21288" y="2911"/>
                  <a:pt x="21357" y="2952"/>
                </a:cubicBezTo>
                <a:cubicBezTo>
                  <a:pt x="21357" y="2980"/>
                  <a:pt x="21359" y="2991"/>
                  <a:pt x="21382" y="3001"/>
                </a:cubicBezTo>
                <a:cubicBezTo>
                  <a:pt x="21478" y="2953"/>
                  <a:pt x="21577" y="2892"/>
                  <a:pt x="21679" y="2853"/>
                </a:cubicBezTo>
                <a:cubicBezTo>
                  <a:pt x="21726" y="2835"/>
                  <a:pt x="21777" y="2827"/>
                  <a:pt x="21828" y="2803"/>
                </a:cubicBezTo>
                <a:cubicBezTo>
                  <a:pt x="21851" y="2780"/>
                  <a:pt x="21855" y="2772"/>
                  <a:pt x="21878" y="2778"/>
                </a:cubicBezTo>
                <a:cubicBezTo>
                  <a:pt x="21958" y="2846"/>
                  <a:pt x="21911" y="2893"/>
                  <a:pt x="22051" y="2853"/>
                </a:cubicBezTo>
                <a:cubicBezTo>
                  <a:pt x="22105" y="2838"/>
                  <a:pt x="22205" y="2782"/>
                  <a:pt x="22250" y="2753"/>
                </a:cubicBezTo>
                <a:cubicBezTo>
                  <a:pt x="22291" y="2727"/>
                  <a:pt x="22339" y="2699"/>
                  <a:pt x="22374" y="2679"/>
                </a:cubicBezTo>
                <a:cubicBezTo>
                  <a:pt x="22401" y="2760"/>
                  <a:pt x="22372" y="2871"/>
                  <a:pt x="22473" y="2877"/>
                </a:cubicBezTo>
                <a:cubicBezTo>
                  <a:pt x="22531" y="2880"/>
                  <a:pt x="22617" y="2826"/>
                  <a:pt x="22671" y="2803"/>
                </a:cubicBezTo>
                <a:cubicBezTo>
                  <a:pt x="22711" y="2786"/>
                  <a:pt x="22750" y="2767"/>
                  <a:pt x="22796" y="2753"/>
                </a:cubicBezTo>
                <a:cubicBezTo>
                  <a:pt x="22885" y="2843"/>
                  <a:pt x="22883" y="2871"/>
                  <a:pt x="23019" y="2877"/>
                </a:cubicBezTo>
                <a:cubicBezTo>
                  <a:pt x="23122" y="2882"/>
                  <a:pt x="23132" y="2833"/>
                  <a:pt x="23217" y="2803"/>
                </a:cubicBezTo>
                <a:cubicBezTo>
                  <a:pt x="23263" y="2787"/>
                  <a:pt x="23342" y="2750"/>
                  <a:pt x="23391" y="2753"/>
                </a:cubicBezTo>
                <a:cubicBezTo>
                  <a:pt x="23463" y="2758"/>
                  <a:pt x="23468" y="2859"/>
                  <a:pt x="23540" y="2853"/>
                </a:cubicBezTo>
                <a:cubicBezTo>
                  <a:pt x="23598" y="2848"/>
                  <a:pt x="23650" y="2805"/>
                  <a:pt x="23688" y="2778"/>
                </a:cubicBezTo>
                <a:cubicBezTo>
                  <a:pt x="23739" y="2742"/>
                  <a:pt x="23779" y="2680"/>
                  <a:pt x="23837" y="2654"/>
                </a:cubicBezTo>
                <a:cubicBezTo>
                  <a:pt x="23897" y="2627"/>
                  <a:pt x="23978" y="2613"/>
                  <a:pt x="24036" y="2654"/>
                </a:cubicBezTo>
                <a:cubicBezTo>
                  <a:pt x="24101" y="2700"/>
                  <a:pt x="24081" y="2769"/>
                  <a:pt x="24185" y="2753"/>
                </a:cubicBezTo>
                <a:cubicBezTo>
                  <a:pt x="24246" y="2743"/>
                  <a:pt x="24298" y="2677"/>
                  <a:pt x="24358" y="2654"/>
                </a:cubicBezTo>
                <a:cubicBezTo>
                  <a:pt x="24397" y="2639"/>
                  <a:pt x="24458" y="2609"/>
                  <a:pt x="24507" y="2629"/>
                </a:cubicBezTo>
                <a:cubicBezTo>
                  <a:pt x="24574" y="2657"/>
                  <a:pt x="24597" y="2762"/>
                  <a:pt x="24705" y="2753"/>
                </a:cubicBezTo>
                <a:cubicBezTo>
                  <a:pt x="24757" y="2749"/>
                  <a:pt x="24784" y="2709"/>
                  <a:pt x="24829" y="2704"/>
                </a:cubicBezTo>
                <a:cubicBezTo>
                  <a:pt x="24888" y="2697"/>
                  <a:pt x="24935" y="2723"/>
                  <a:pt x="24978" y="2729"/>
                </a:cubicBezTo>
                <a:cubicBezTo>
                  <a:pt x="25109" y="2748"/>
                  <a:pt x="25086" y="2732"/>
                  <a:pt x="25177" y="2704"/>
                </a:cubicBezTo>
                <a:cubicBezTo>
                  <a:pt x="25116" y="2695"/>
                  <a:pt x="25064" y="2690"/>
                  <a:pt x="25003" y="2679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7800" y="1125360"/>
            <a:ext cx="1420560" cy="500400"/>
          </a:xfrm>
          <a:custGeom>
            <a:avLst/>
            <a:gdLst/>
            <a:ahLst/>
            <a:rect l="l" t="t" r="r" b="b"/>
            <a:pathLst>
              <a:path w="3945" h="1390">
                <a:moveTo>
                  <a:pt x="2803" y="3324"/>
                </a:moveTo>
                <a:cubicBezTo>
                  <a:pt x="2771" y="3260"/>
                  <a:pt x="2769" y="3221"/>
                  <a:pt x="2704" y="3175"/>
                </a:cubicBezTo>
                <a:cubicBezTo>
                  <a:pt x="2664" y="3147"/>
                  <a:pt x="2579" y="3137"/>
                  <a:pt x="2530" y="3150"/>
                </a:cubicBezTo>
                <a:cubicBezTo>
                  <a:pt x="2432" y="3176"/>
                  <a:pt x="2410" y="3291"/>
                  <a:pt x="2381" y="3373"/>
                </a:cubicBezTo>
                <a:cubicBezTo>
                  <a:pt x="2351" y="3455"/>
                  <a:pt x="2336" y="3583"/>
                  <a:pt x="2356" y="3671"/>
                </a:cubicBezTo>
                <a:cubicBezTo>
                  <a:pt x="2381" y="3781"/>
                  <a:pt x="2468" y="3770"/>
                  <a:pt x="2555" y="3770"/>
                </a:cubicBezTo>
                <a:cubicBezTo>
                  <a:pt x="2616" y="3770"/>
                  <a:pt x="2703" y="3735"/>
                  <a:pt x="2729" y="3671"/>
                </a:cubicBezTo>
                <a:cubicBezTo>
                  <a:pt x="2763" y="3587"/>
                  <a:pt x="2729" y="3416"/>
                  <a:pt x="2729" y="3324"/>
                </a:cubicBezTo>
                <a:cubicBezTo>
                  <a:pt x="2729" y="3388"/>
                  <a:pt x="2733" y="3436"/>
                  <a:pt x="2753" y="3497"/>
                </a:cubicBezTo>
                <a:cubicBezTo>
                  <a:pt x="2791" y="3612"/>
                  <a:pt x="2843" y="3731"/>
                  <a:pt x="2877" y="3845"/>
                </a:cubicBezTo>
                <a:cubicBezTo>
                  <a:pt x="2914" y="3969"/>
                  <a:pt x="2927" y="4089"/>
                  <a:pt x="2927" y="4217"/>
                </a:cubicBezTo>
                <a:cubicBezTo>
                  <a:pt x="2927" y="4289"/>
                  <a:pt x="2946" y="4378"/>
                  <a:pt x="2902" y="4440"/>
                </a:cubicBezTo>
                <a:cubicBezTo>
                  <a:pt x="2842" y="4525"/>
                  <a:pt x="2771" y="4514"/>
                  <a:pt x="2679" y="4514"/>
                </a:cubicBezTo>
                <a:cubicBezTo>
                  <a:pt x="2590" y="4514"/>
                  <a:pt x="2526" y="4493"/>
                  <a:pt x="2456" y="4440"/>
                </a:cubicBezTo>
                <a:cubicBezTo>
                  <a:pt x="2433" y="4417"/>
                  <a:pt x="2425" y="4413"/>
                  <a:pt x="2431" y="4390"/>
                </a:cubicBezTo>
              </a:path>
              <a:path w="3945" h="1390">
                <a:moveTo>
                  <a:pt x="3150" y="3423"/>
                </a:moveTo>
                <a:cubicBezTo>
                  <a:pt x="3150" y="3492"/>
                  <a:pt x="3142" y="3556"/>
                  <a:pt x="3175" y="3621"/>
                </a:cubicBezTo>
                <a:cubicBezTo>
                  <a:pt x="3198" y="3668"/>
                  <a:pt x="3200" y="3686"/>
                  <a:pt x="3200" y="3746"/>
                </a:cubicBezTo>
                <a:cubicBezTo>
                  <a:pt x="3200" y="3754"/>
                  <a:pt x="3200" y="3762"/>
                  <a:pt x="3200" y="3770"/>
                </a:cubicBezTo>
                <a:cubicBezTo>
                  <a:pt x="3200" y="3671"/>
                  <a:pt x="3189" y="3592"/>
                  <a:pt x="3175" y="3497"/>
                </a:cubicBezTo>
                <a:cubicBezTo>
                  <a:pt x="3165" y="3429"/>
                  <a:pt x="3163" y="3364"/>
                  <a:pt x="3225" y="3324"/>
                </a:cubicBezTo>
                <a:cubicBezTo>
                  <a:pt x="3282" y="3287"/>
                  <a:pt x="3305" y="3274"/>
                  <a:pt x="3373" y="3274"/>
                </a:cubicBezTo>
                <a:cubicBezTo>
                  <a:pt x="3455" y="3274"/>
                  <a:pt x="3396" y="3282"/>
                  <a:pt x="3448" y="3299"/>
                </a:cubicBezTo>
              </a:path>
              <a:path w="3945" h="1390">
                <a:moveTo>
                  <a:pt x="3944" y="3274"/>
                </a:moveTo>
                <a:cubicBezTo>
                  <a:pt x="3841" y="3274"/>
                  <a:pt x="3808" y="3261"/>
                  <a:pt x="3746" y="3349"/>
                </a:cubicBezTo>
                <a:cubicBezTo>
                  <a:pt x="3706" y="3406"/>
                  <a:pt x="3675" y="3452"/>
                  <a:pt x="3671" y="3522"/>
                </a:cubicBezTo>
                <a:cubicBezTo>
                  <a:pt x="3669" y="3566"/>
                  <a:pt x="3659" y="3679"/>
                  <a:pt x="3721" y="3696"/>
                </a:cubicBezTo>
                <a:cubicBezTo>
                  <a:pt x="3788" y="3714"/>
                  <a:pt x="3857" y="3745"/>
                  <a:pt x="3919" y="3721"/>
                </a:cubicBezTo>
                <a:cubicBezTo>
                  <a:pt x="4004" y="3688"/>
                  <a:pt x="4008" y="3636"/>
                  <a:pt x="4043" y="3572"/>
                </a:cubicBezTo>
                <a:cubicBezTo>
                  <a:pt x="4080" y="3504"/>
                  <a:pt x="4056" y="3506"/>
                  <a:pt x="4043" y="3448"/>
                </a:cubicBezTo>
                <a:cubicBezTo>
                  <a:pt x="4034" y="3405"/>
                  <a:pt x="4029" y="3316"/>
                  <a:pt x="3969" y="3299"/>
                </a:cubicBezTo>
                <a:cubicBezTo>
                  <a:pt x="3952" y="3299"/>
                  <a:pt x="3936" y="3299"/>
                  <a:pt x="3919" y="3299"/>
                </a:cubicBezTo>
              </a:path>
              <a:path w="3945" h="1390">
                <a:moveTo>
                  <a:pt x="4316" y="3324"/>
                </a:moveTo>
                <a:cubicBezTo>
                  <a:pt x="4346" y="3374"/>
                  <a:pt x="4341" y="3411"/>
                  <a:pt x="4341" y="3473"/>
                </a:cubicBezTo>
                <a:cubicBezTo>
                  <a:pt x="4341" y="3547"/>
                  <a:pt x="4332" y="3611"/>
                  <a:pt x="4366" y="3671"/>
                </a:cubicBezTo>
                <a:cubicBezTo>
                  <a:pt x="4382" y="3699"/>
                  <a:pt x="4441" y="3785"/>
                  <a:pt x="4490" y="3746"/>
                </a:cubicBezTo>
                <a:cubicBezTo>
                  <a:pt x="4566" y="3685"/>
                  <a:pt x="4576" y="3605"/>
                  <a:pt x="4638" y="3547"/>
                </a:cubicBezTo>
                <a:cubicBezTo>
                  <a:pt x="4693" y="3495"/>
                  <a:pt x="4706" y="3460"/>
                  <a:pt x="4713" y="3373"/>
                </a:cubicBezTo>
                <a:cubicBezTo>
                  <a:pt x="4713" y="3340"/>
                  <a:pt x="4713" y="3324"/>
                  <a:pt x="4713" y="3299"/>
                </a:cubicBezTo>
                <a:cubicBezTo>
                  <a:pt x="4687" y="3360"/>
                  <a:pt x="4688" y="3382"/>
                  <a:pt x="4688" y="3448"/>
                </a:cubicBezTo>
                <a:cubicBezTo>
                  <a:pt x="4688" y="3525"/>
                  <a:pt x="4731" y="3622"/>
                  <a:pt x="4762" y="3696"/>
                </a:cubicBezTo>
                <a:cubicBezTo>
                  <a:pt x="4795" y="3776"/>
                  <a:pt x="4800" y="3824"/>
                  <a:pt x="4862" y="3845"/>
                </a:cubicBezTo>
              </a:path>
              <a:path w="3945" h="1390">
                <a:moveTo>
                  <a:pt x="4986" y="3423"/>
                </a:moveTo>
                <a:cubicBezTo>
                  <a:pt x="4986" y="3522"/>
                  <a:pt x="5000" y="3557"/>
                  <a:pt x="5035" y="3646"/>
                </a:cubicBezTo>
                <a:cubicBezTo>
                  <a:pt x="5074" y="3746"/>
                  <a:pt x="5085" y="3811"/>
                  <a:pt x="5085" y="3919"/>
                </a:cubicBezTo>
                <a:cubicBezTo>
                  <a:pt x="5085" y="3978"/>
                  <a:pt x="5094" y="4355"/>
                  <a:pt x="5060" y="4242"/>
                </a:cubicBezTo>
                <a:cubicBezTo>
                  <a:pt x="5060" y="4234"/>
                  <a:pt x="5060" y="4225"/>
                  <a:pt x="5060" y="4217"/>
                </a:cubicBezTo>
              </a:path>
              <a:path w="3945" h="1390">
                <a:moveTo>
                  <a:pt x="4961" y="3646"/>
                </a:moveTo>
                <a:cubicBezTo>
                  <a:pt x="4927" y="3590"/>
                  <a:pt x="4936" y="3543"/>
                  <a:pt x="4936" y="3473"/>
                </a:cubicBezTo>
                <a:cubicBezTo>
                  <a:pt x="4936" y="3389"/>
                  <a:pt x="4926" y="3389"/>
                  <a:pt x="4986" y="3324"/>
                </a:cubicBezTo>
                <a:cubicBezTo>
                  <a:pt x="5019" y="3289"/>
                  <a:pt x="5036" y="3235"/>
                  <a:pt x="5085" y="3225"/>
                </a:cubicBezTo>
                <a:cubicBezTo>
                  <a:pt x="5161" y="3209"/>
                  <a:pt x="5251" y="3255"/>
                  <a:pt x="5308" y="3299"/>
                </a:cubicBezTo>
                <a:cubicBezTo>
                  <a:pt x="5386" y="3359"/>
                  <a:pt x="5492" y="3427"/>
                  <a:pt x="5507" y="3522"/>
                </a:cubicBezTo>
                <a:cubicBezTo>
                  <a:pt x="5518" y="3595"/>
                  <a:pt x="5477" y="3606"/>
                  <a:pt x="5432" y="3646"/>
                </a:cubicBezTo>
                <a:cubicBezTo>
                  <a:pt x="5365" y="3706"/>
                  <a:pt x="5302" y="3733"/>
                  <a:pt x="5234" y="3770"/>
                </a:cubicBezTo>
                <a:cubicBezTo>
                  <a:pt x="5201" y="3788"/>
                  <a:pt x="5155" y="3818"/>
                  <a:pt x="5110" y="3795"/>
                </a:cubicBezTo>
                <a:cubicBezTo>
                  <a:pt x="5066" y="3773"/>
                  <a:pt x="5020" y="3706"/>
                  <a:pt x="4986" y="3671"/>
                </a:cubicBezTo>
              </a:path>
              <a:path w="3945" h="1390">
                <a:moveTo>
                  <a:pt x="6127" y="3175"/>
                </a:moveTo>
                <a:cubicBezTo>
                  <a:pt x="6099" y="3120"/>
                  <a:pt x="6067" y="3125"/>
                  <a:pt x="6003" y="3125"/>
                </a:cubicBezTo>
                <a:cubicBezTo>
                  <a:pt x="5965" y="3125"/>
                  <a:pt x="5859" y="3157"/>
                  <a:pt x="5829" y="3175"/>
                </a:cubicBezTo>
                <a:cubicBezTo>
                  <a:pt x="5772" y="3210"/>
                  <a:pt x="5726" y="3256"/>
                  <a:pt x="5705" y="3324"/>
                </a:cubicBezTo>
                <a:cubicBezTo>
                  <a:pt x="5678" y="3411"/>
                  <a:pt x="5785" y="3419"/>
                  <a:pt x="5829" y="3448"/>
                </a:cubicBezTo>
                <a:cubicBezTo>
                  <a:pt x="5893" y="3491"/>
                  <a:pt x="5997" y="3473"/>
                  <a:pt x="6077" y="3473"/>
                </a:cubicBezTo>
                <a:cubicBezTo>
                  <a:pt x="6168" y="3473"/>
                  <a:pt x="6185" y="3481"/>
                  <a:pt x="6251" y="3547"/>
                </a:cubicBezTo>
                <a:cubicBezTo>
                  <a:pt x="6297" y="3592"/>
                  <a:pt x="6317" y="3681"/>
                  <a:pt x="6300" y="3746"/>
                </a:cubicBezTo>
                <a:cubicBezTo>
                  <a:pt x="6280" y="3818"/>
                  <a:pt x="6220" y="3877"/>
                  <a:pt x="6152" y="3894"/>
                </a:cubicBezTo>
                <a:cubicBezTo>
                  <a:pt x="6066" y="3915"/>
                  <a:pt x="5989" y="3858"/>
                  <a:pt x="5928" y="3820"/>
                </a:cubicBezTo>
                <a:cubicBezTo>
                  <a:pt x="5884" y="3793"/>
                  <a:pt x="5803" y="3774"/>
                  <a:pt x="5779" y="3721"/>
                </a:cubicBezTo>
                <a:cubicBezTo>
                  <a:pt x="5779" y="3696"/>
                  <a:pt x="5779" y="3688"/>
                  <a:pt x="5779" y="36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73200" y="1125360"/>
            <a:ext cx="54000" cy="249480"/>
          </a:xfrm>
          <a:custGeom>
            <a:avLst/>
            <a:gdLst/>
            <a:ahLst/>
            <a:rect l="l" t="t" r="r" b="b"/>
            <a:pathLst>
              <a:path w="150" h="696">
                <a:moveTo>
                  <a:pt x="6945" y="3225"/>
                </a:moveTo>
                <a:cubicBezTo>
                  <a:pt x="6937" y="3217"/>
                  <a:pt x="6929" y="3208"/>
                  <a:pt x="6921" y="3200"/>
                </a:cubicBezTo>
                <a:cubicBezTo>
                  <a:pt x="6921" y="3214"/>
                  <a:pt x="6929" y="3314"/>
                  <a:pt x="6970" y="3274"/>
                </a:cubicBezTo>
                <a:cubicBezTo>
                  <a:pt x="7036" y="3209"/>
                  <a:pt x="6964" y="3169"/>
                  <a:pt x="6921" y="3125"/>
                </a:cubicBezTo>
                <a:cubicBezTo>
                  <a:pt x="6877" y="3180"/>
                  <a:pt x="6871" y="3205"/>
                  <a:pt x="6871" y="3274"/>
                </a:cubicBezTo>
                <a:cubicBezTo>
                  <a:pt x="6871" y="3299"/>
                  <a:pt x="6871" y="3307"/>
                  <a:pt x="6871" y="3324"/>
                </a:cubicBezTo>
              </a:path>
              <a:path w="150" h="696">
                <a:moveTo>
                  <a:pt x="6970" y="3746"/>
                </a:moveTo>
                <a:cubicBezTo>
                  <a:pt x="6970" y="3789"/>
                  <a:pt x="6969" y="3785"/>
                  <a:pt x="6995" y="3820"/>
                </a:cubicBezTo>
                <a:cubicBezTo>
                  <a:pt x="7023" y="3754"/>
                  <a:pt x="7050" y="3707"/>
                  <a:pt x="6970" y="3671"/>
                </a:cubicBezTo>
                <a:cubicBezTo>
                  <a:pt x="6894" y="3637"/>
                  <a:pt x="6896" y="3731"/>
                  <a:pt x="6896" y="3770"/>
                </a:cubicBezTo>
                <a:cubicBezTo>
                  <a:pt x="6945" y="3807"/>
                  <a:pt x="6931" y="3798"/>
                  <a:pt x="6995" y="3770"/>
                </a:cubicBezTo>
                <a:cubicBezTo>
                  <a:pt x="6974" y="3718"/>
                  <a:pt x="6927" y="3802"/>
                  <a:pt x="6921" y="3746"/>
                </a:cubicBezTo>
                <a:cubicBezTo>
                  <a:pt x="6921" y="3655"/>
                  <a:pt x="6921" y="3613"/>
                  <a:pt x="6921" y="35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040" y="2160720"/>
            <a:ext cx="260280" cy="9360"/>
          </a:xfrm>
          <a:custGeom>
            <a:avLst/>
            <a:gdLst/>
            <a:ahLst/>
            <a:rect l="l" t="t" r="r" b="b"/>
            <a:pathLst>
              <a:path w="721" h="26">
                <a:moveTo>
                  <a:pt x="1116" y="6003"/>
                </a:moveTo>
                <a:lnTo>
                  <a:pt x="1116" y="6003"/>
                </a:lnTo>
              </a:path>
              <a:path w="721" h="26">
                <a:moveTo>
                  <a:pt x="1091" y="6028"/>
                </a:moveTo>
                <a:cubicBezTo>
                  <a:pt x="1153" y="6013"/>
                  <a:pt x="1155" y="6010"/>
                  <a:pt x="1215" y="6028"/>
                </a:cubicBezTo>
                <a:cubicBezTo>
                  <a:pt x="1346" y="6068"/>
                  <a:pt x="1798" y="6025"/>
                  <a:pt x="1761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0160" y="1893960"/>
            <a:ext cx="285840" cy="446040"/>
          </a:xfrm>
          <a:custGeom>
            <a:avLst/>
            <a:gdLst/>
            <a:ahLst/>
            <a:rect l="l" t="t" r="r" b="b"/>
            <a:pathLst>
              <a:path w="795" h="1241">
                <a:moveTo>
                  <a:pt x="2307" y="5432"/>
                </a:moveTo>
                <a:cubicBezTo>
                  <a:pt x="2317" y="5482"/>
                  <a:pt x="2340" y="5536"/>
                  <a:pt x="2356" y="5581"/>
                </a:cubicBezTo>
                <a:cubicBezTo>
                  <a:pt x="2385" y="5665"/>
                  <a:pt x="2381" y="5739"/>
                  <a:pt x="2381" y="5829"/>
                </a:cubicBezTo>
                <a:cubicBezTo>
                  <a:pt x="2381" y="5970"/>
                  <a:pt x="2371" y="6488"/>
                  <a:pt x="2406" y="6449"/>
                </a:cubicBezTo>
                <a:cubicBezTo>
                  <a:pt x="2414" y="6441"/>
                  <a:pt x="2423" y="6432"/>
                  <a:pt x="2431" y="6424"/>
                </a:cubicBezTo>
              </a:path>
              <a:path w="795" h="1241">
                <a:moveTo>
                  <a:pt x="2356" y="5581"/>
                </a:moveTo>
                <a:cubicBezTo>
                  <a:pt x="2399" y="5570"/>
                  <a:pt x="2436" y="5552"/>
                  <a:pt x="2480" y="5531"/>
                </a:cubicBezTo>
                <a:cubicBezTo>
                  <a:pt x="2555" y="5496"/>
                  <a:pt x="2635" y="5435"/>
                  <a:pt x="2704" y="5407"/>
                </a:cubicBezTo>
                <a:cubicBezTo>
                  <a:pt x="2773" y="5379"/>
                  <a:pt x="2859" y="5360"/>
                  <a:pt x="2927" y="5333"/>
                </a:cubicBezTo>
                <a:cubicBezTo>
                  <a:pt x="2946" y="5325"/>
                  <a:pt x="3098" y="5258"/>
                  <a:pt x="3101" y="5259"/>
                </a:cubicBezTo>
                <a:cubicBezTo>
                  <a:pt x="3101" y="5292"/>
                  <a:pt x="3092" y="5300"/>
                  <a:pt x="3051" y="5283"/>
                </a:cubicBezTo>
              </a:path>
              <a:path w="795" h="1241">
                <a:moveTo>
                  <a:pt x="2530" y="6052"/>
                </a:moveTo>
                <a:cubicBezTo>
                  <a:pt x="2574" y="6021"/>
                  <a:pt x="2597" y="6028"/>
                  <a:pt x="2654" y="6028"/>
                </a:cubicBezTo>
                <a:cubicBezTo>
                  <a:pt x="2756" y="6028"/>
                  <a:pt x="3169" y="6057"/>
                  <a:pt x="3026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1803240"/>
            <a:ext cx="1357200" cy="492120"/>
          </a:xfrm>
          <a:custGeom>
            <a:avLst/>
            <a:gdLst/>
            <a:ahLst/>
            <a:rect l="l" t="t" r="r" b="b"/>
            <a:pathLst>
              <a:path w="3772" h="1365">
                <a:moveTo>
                  <a:pt x="5879" y="6300"/>
                </a:moveTo>
                <a:cubicBezTo>
                  <a:pt x="5895" y="6325"/>
                  <a:pt x="5912" y="6350"/>
                  <a:pt x="5928" y="6375"/>
                </a:cubicBezTo>
                <a:cubicBezTo>
                  <a:pt x="5952" y="6304"/>
                  <a:pt x="5991" y="6230"/>
                  <a:pt x="5978" y="6152"/>
                </a:cubicBezTo>
                <a:cubicBezTo>
                  <a:pt x="5958" y="6030"/>
                  <a:pt x="5915" y="5898"/>
                  <a:pt x="5879" y="5779"/>
                </a:cubicBezTo>
                <a:cubicBezTo>
                  <a:pt x="5849" y="5679"/>
                  <a:pt x="5854" y="5587"/>
                  <a:pt x="5854" y="5482"/>
                </a:cubicBezTo>
                <a:cubicBezTo>
                  <a:pt x="5854" y="5316"/>
                  <a:pt x="5881" y="5273"/>
                  <a:pt x="5953" y="5135"/>
                </a:cubicBezTo>
                <a:cubicBezTo>
                  <a:pt x="5993" y="5057"/>
                  <a:pt x="5988" y="5004"/>
                  <a:pt x="6077" y="5035"/>
                </a:cubicBezTo>
                <a:cubicBezTo>
                  <a:pt x="6149" y="5060"/>
                  <a:pt x="6228" y="5119"/>
                  <a:pt x="6300" y="5135"/>
                </a:cubicBezTo>
                <a:cubicBezTo>
                  <a:pt x="6409" y="5159"/>
                  <a:pt x="6297" y="5172"/>
                  <a:pt x="6251" y="5184"/>
                </a:cubicBezTo>
              </a:path>
              <a:path w="3772" h="1365">
                <a:moveTo>
                  <a:pt x="5680" y="5904"/>
                </a:moveTo>
                <a:cubicBezTo>
                  <a:pt x="5722" y="5934"/>
                  <a:pt x="5749" y="5928"/>
                  <a:pt x="5804" y="5928"/>
                </a:cubicBezTo>
                <a:cubicBezTo>
                  <a:pt x="5908" y="5928"/>
                  <a:pt x="6002" y="5933"/>
                  <a:pt x="6102" y="5904"/>
                </a:cubicBezTo>
                <a:cubicBezTo>
                  <a:pt x="6189" y="5878"/>
                  <a:pt x="6233" y="5854"/>
                  <a:pt x="6325" y="5854"/>
                </a:cubicBezTo>
                <a:cubicBezTo>
                  <a:pt x="6399" y="5854"/>
                  <a:pt x="6400" y="5896"/>
                  <a:pt x="6424" y="5953"/>
                </a:cubicBezTo>
              </a:path>
              <a:path w="3772" h="1365">
                <a:moveTo>
                  <a:pt x="6796" y="5184"/>
                </a:moveTo>
                <a:cubicBezTo>
                  <a:pt x="6796" y="5499"/>
                  <a:pt x="6835" y="5849"/>
                  <a:pt x="6772" y="6152"/>
                </a:cubicBezTo>
                <a:cubicBezTo>
                  <a:pt x="6769" y="6168"/>
                  <a:pt x="6762" y="6286"/>
                  <a:pt x="6796" y="6251"/>
                </a:cubicBezTo>
                <a:cubicBezTo>
                  <a:pt x="6796" y="6243"/>
                  <a:pt x="6796" y="6234"/>
                  <a:pt x="6796" y="6226"/>
                </a:cubicBezTo>
              </a:path>
              <a:path w="3772" h="1365">
                <a:moveTo>
                  <a:pt x="7119" y="5854"/>
                </a:moveTo>
                <a:cubicBezTo>
                  <a:pt x="7149" y="5904"/>
                  <a:pt x="7144" y="5941"/>
                  <a:pt x="7144" y="6003"/>
                </a:cubicBezTo>
                <a:cubicBezTo>
                  <a:pt x="7144" y="6094"/>
                  <a:pt x="7146" y="6174"/>
                  <a:pt x="7169" y="6251"/>
                </a:cubicBezTo>
                <a:cubicBezTo>
                  <a:pt x="7185" y="6304"/>
                  <a:pt x="7160" y="6329"/>
                  <a:pt x="7193" y="6375"/>
                </a:cubicBezTo>
                <a:cubicBezTo>
                  <a:pt x="7278" y="6358"/>
                  <a:pt x="7293" y="6315"/>
                  <a:pt x="7342" y="6251"/>
                </a:cubicBezTo>
                <a:cubicBezTo>
                  <a:pt x="7392" y="6186"/>
                  <a:pt x="7409" y="6104"/>
                  <a:pt x="7441" y="6028"/>
                </a:cubicBezTo>
                <a:cubicBezTo>
                  <a:pt x="7473" y="5953"/>
                  <a:pt x="7466" y="5885"/>
                  <a:pt x="7466" y="5804"/>
                </a:cubicBezTo>
                <a:cubicBezTo>
                  <a:pt x="7466" y="5931"/>
                  <a:pt x="7439" y="6085"/>
                  <a:pt x="7491" y="6201"/>
                </a:cubicBezTo>
                <a:cubicBezTo>
                  <a:pt x="7504" y="6229"/>
                  <a:pt x="7556" y="6337"/>
                  <a:pt x="7590" y="6325"/>
                </a:cubicBezTo>
                <a:cubicBezTo>
                  <a:pt x="7620" y="6295"/>
                  <a:pt x="7634" y="6284"/>
                  <a:pt x="7665" y="6276"/>
                </a:cubicBezTo>
              </a:path>
              <a:path w="3772" h="1365">
                <a:moveTo>
                  <a:pt x="8136" y="5804"/>
                </a:moveTo>
                <a:cubicBezTo>
                  <a:pt x="8083" y="5804"/>
                  <a:pt x="8056" y="5826"/>
                  <a:pt x="8012" y="5829"/>
                </a:cubicBezTo>
                <a:cubicBezTo>
                  <a:pt x="7942" y="5834"/>
                  <a:pt x="7883" y="5928"/>
                  <a:pt x="7863" y="6003"/>
                </a:cubicBezTo>
                <a:cubicBezTo>
                  <a:pt x="7843" y="6077"/>
                  <a:pt x="7853" y="6231"/>
                  <a:pt x="7888" y="6300"/>
                </a:cubicBezTo>
                <a:cubicBezTo>
                  <a:pt x="7912" y="6348"/>
                  <a:pt x="8014" y="6366"/>
                  <a:pt x="8062" y="6350"/>
                </a:cubicBezTo>
                <a:cubicBezTo>
                  <a:pt x="8115" y="6332"/>
                  <a:pt x="8222" y="6258"/>
                  <a:pt x="8235" y="6201"/>
                </a:cubicBezTo>
                <a:cubicBezTo>
                  <a:pt x="8252" y="6128"/>
                  <a:pt x="8241" y="6012"/>
                  <a:pt x="8210" y="5953"/>
                </a:cubicBezTo>
                <a:cubicBezTo>
                  <a:pt x="8177" y="5890"/>
                  <a:pt x="8172" y="5889"/>
                  <a:pt x="8111" y="5854"/>
                </a:cubicBezTo>
              </a:path>
              <a:path w="3772" h="1365">
                <a:moveTo>
                  <a:pt x="8458" y="5904"/>
                </a:moveTo>
                <a:cubicBezTo>
                  <a:pt x="8471" y="5956"/>
                  <a:pt x="8483" y="5989"/>
                  <a:pt x="8483" y="6052"/>
                </a:cubicBezTo>
                <a:cubicBezTo>
                  <a:pt x="8483" y="6151"/>
                  <a:pt x="8483" y="6251"/>
                  <a:pt x="8483" y="6350"/>
                </a:cubicBezTo>
                <a:cubicBezTo>
                  <a:pt x="8522" y="6311"/>
                  <a:pt x="8508" y="6204"/>
                  <a:pt x="8508" y="6127"/>
                </a:cubicBezTo>
                <a:cubicBezTo>
                  <a:pt x="8508" y="6039"/>
                  <a:pt x="8495" y="5958"/>
                  <a:pt x="8533" y="5879"/>
                </a:cubicBezTo>
                <a:cubicBezTo>
                  <a:pt x="8554" y="5836"/>
                  <a:pt x="8611" y="5786"/>
                  <a:pt x="8657" y="5779"/>
                </a:cubicBezTo>
                <a:cubicBezTo>
                  <a:pt x="8736" y="5766"/>
                  <a:pt x="8784" y="5797"/>
                  <a:pt x="8855" y="5804"/>
                </a:cubicBezTo>
                <a:cubicBezTo>
                  <a:pt x="8863" y="5804"/>
                  <a:pt x="8872" y="5804"/>
                  <a:pt x="8880" y="5804"/>
                </a:cubicBezTo>
              </a:path>
              <a:path w="3772" h="1365">
                <a:moveTo>
                  <a:pt x="9277" y="5904"/>
                </a:moveTo>
                <a:cubicBezTo>
                  <a:pt x="9277" y="5871"/>
                  <a:pt x="9277" y="5854"/>
                  <a:pt x="9277" y="5829"/>
                </a:cubicBezTo>
                <a:cubicBezTo>
                  <a:pt x="9203" y="5829"/>
                  <a:pt x="9150" y="5835"/>
                  <a:pt x="9103" y="5904"/>
                </a:cubicBezTo>
                <a:cubicBezTo>
                  <a:pt x="9076" y="5944"/>
                  <a:pt x="9043" y="6030"/>
                  <a:pt x="9029" y="6077"/>
                </a:cubicBezTo>
                <a:cubicBezTo>
                  <a:pt x="9013" y="6129"/>
                  <a:pt x="9032" y="6163"/>
                  <a:pt x="9054" y="6201"/>
                </a:cubicBezTo>
                <a:cubicBezTo>
                  <a:pt x="9093" y="6269"/>
                  <a:pt x="9124" y="6294"/>
                  <a:pt x="9203" y="6325"/>
                </a:cubicBezTo>
                <a:cubicBezTo>
                  <a:pt x="9237" y="6339"/>
                  <a:pt x="9325" y="6271"/>
                  <a:pt x="9351" y="6251"/>
                </a:cubicBezTo>
                <a:cubicBezTo>
                  <a:pt x="9393" y="6219"/>
                  <a:pt x="9421" y="6179"/>
                  <a:pt x="9426" y="6127"/>
                </a:cubicBezTo>
                <a:cubicBezTo>
                  <a:pt x="9430" y="6084"/>
                  <a:pt x="9463" y="6048"/>
                  <a:pt x="9451" y="6003"/>
                </a:cubicBezTo>
                <a:cubicBezTo>
                  <a:pt x="9433" y="5934"/>
                  <a:pt x="9371" y="5856"/>
                  <a:pt x="9302" y="5829"/>
                </a:cubicBezTo>
                <a:cubicBezTo>
                  <a:pt x="9234" y="5803"/>
                  <a:pt x="9236" y="5838"/>
                  <a:pt x="9178" y="57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48120" y="2009880"/>
            <a:ext cx="196920" cy="9360"/>
          </a:xfrm>
          <a:custGeom>
            <a:avLst/>
            <a:gdLst/>
            <a:ahLst/>
            <a:rect l="l" t="t" r="r" b="b"/>
            <a:pathLst>
              <a:path w="547" h="26">
                <a:moveTo>
                  <a:pt x="13469" y="5606"/>
                </a:moveTo>
                <a:cubicBezTo>
                  <a:pt x="13567" y="5606"/>
                  <a:pt x="13657" y="5606"/>
                  <a:pt x="13742" y="5581"/>
                </a:cubicBezTo>
                <a:cubicBezTo>
                  <a:pt x="13818" y="5558"/>
                  <a:pt x="13934" y="5581"/>
                  <a:pt x="14015" y="5581"/>
                </a:cubicBezTo>
                <a:cubicBezTo>
                  <a:pt x="13925" y="5596"/>
                  <a:pt x="14005" y="5591"/>
                  <a:pt x="13915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741320"/>
            <a:ext cx="849240" cy="500400"/>
          </a:xfrm>
          <a:custGeom>
            <a:avLst/>
            <a:gdLst/>
            <a:ahLst/>
            <a:rect l="l" t="t" r="r" b="b"/>
            <a:pathLst>
              <a:path w="2358" h="1390">
                <a:moveTo>
                  <a:pt x="14858" y="4887"/>
                </a:moveTo>
                <a:cubicBezTo>
                  <a:pt x="14858" y="4870"/>
                  <a:pt x="14858" y="4854"/>
                  <a:pt x="14858" y="4837"/>
                </a:cubicBezTo>
                <a:cubicBezTo>
                  <a:pt x="14858" y="4915"/>
                  <a:pt x="14895" y="4985"/>
                  <a:pt x="14883" y="5060"/>
                </a:cubicBezTo>
                <a:cubicBezTo>
                  <a:pt x="14867" y="5165"/>
                  <a:pt x="14876" y="5278"/>
                  <a:pt x="14858" y="5383"/>
                </a:cubicBezTo>
                <a:cubicBezTo>
                  <a:pt x="14843" y="5473"/>
                  <a:pt x="14814" y="5567"/>
                  <a:pt x="14808" y="5655"/>
                </a:cubicBezTo>
                <a:cubicBezTo>
                  <a:pt x="14804" y="5712"/>
                  <a:pt x="14803" y="5715"/>
                  <a:pt x="14833" y="5755"/>
                </a:cubicBezTo>
              </a:path>
              <a:path w="2358" h="1390">
                <a:moveTo>
                  <a:pt x="14833" y="5060"/>
                </a:moveTo>
                <a:cubicBezTo>
                  <a:pt x="14871" y="5098"/>
                  <a:pt x="14906" y="5151"/>
                  <a:pt x="14932" y="5184"/>
                </a:cubicBezTo>
                <a:cubicBezTo>
                  <a:pt x="14991" y="5258"/>
                  <a:pt x="15040" y="5338"/>
                  <a:pt x="15106" y="5407"/>
                </a:cubicBezTo>
                <a:cubicBezTo>
                  <a:pt x="15165" y="5469"/>
                  <a:pt x="15197" y="5543"/>
                  <a:pt x="15255" y="5606"/>
                </a:cubicBezTo>
                <a:cubicBezTo>
                  <a:pt x="15300" y="5656"/>
                  <a:pt x="15296" y="5697"/>
                  <a:pt x="15354" y="5755"/>
                </a:cubicBezTo>
                <a:cubicBezTo>
                  <a:pt x="15354" y="5662"/>
                  <a:pt x="15342" y="5596"/>
                  <a:pt x="15329" y="5507"/>
                </a:cubicBezTo>
                <a:cubicBezTo>
                  <a:pt x="15303" y="5334"/>
                  <a:pt x="15324" y="5128"/>
                  <a:pt x="15354" y="4961"/>
                </a:cubicBezTo>
                <a:cubicBezTo>
                  <a:pt x="15366" y="4894"/>
                  <a:pt x="15342" y="4871"/>
                  <a:pt x="15429" y="4862"/>
                </a:cubicBezTo>
                <a:cubicBezTo>
                  <a:pt x="15437" y="4862"/>
                  <a:pt x="15445" y="4862"/>
                  <a:pt x="15453" y="4862"/>
                </a:cubicBezTo>
              </a:path>
              <a:path w="2358" h="1390">
                <a:moveTo>
                  <a:pt x="15925" y="4862"/>
                </a:moveTo>
                <a:cubicBezTo>
                  <a:pt x="15822" y="4877"/>
                  <a:pt x="15868" y="4893"/>
                  <a:pt x="15825" y="4961"/>
                </a:cubicBezTo>
                <a:cubicBezTo>
                  <a:pt x="15785" y="5024"/>
                  <a:pt x="15740" y="5103"/>
                  <a:pt x="15726" y="5184"/>
                </a:cubicBezTo>
                <a:cubicBezTo>
                  <a:pt x="15708" y="5292"/>
                  <a:pt x="15712" y="5427"/>
                  <a:pt x="15776" y="5507"/>
                </a:cubicBezTo>
                <a:cubicBezTo>
                  <a:pt x="15801" y="5538"/>
                  <a:pt x="15866" y="5643"/>
                  <a:pt x="15900" y="5655"/>
                </a:cubicBezTo>
                <a:cubicBezTo>
                  <a:pt x="15958" y="5675"/>
                  <a:pt x="16048" y="5634"/>
                  <a:pt x="16073" y="5581"/>
                </a:cubicBezTo>
                <a:cubicBezTo>
                  <a:pt x="16088" y="5548"/>
                  <a:pt x="16141" y="5445"/>
                  <a:pt x="16148" y="5407"/>
                </a:cubicBezTo>
                <a:cubicBezTo>
                  <a:pt x="16164" y="5318"/>
                  <a:pt x="16159" y="5190"/>
                  <a:pt x="16123" y="5110"/>
                </a:cubicBezTo>
                <a:cubicBezTo>
                  <a:pt x="16092" y="5041"/>
                  <a:pt x="16063" y="5000"/>
                  <a:pt x="15999" y="4961"/>
                </a:cubicBezTo>
                <a:cubicBezTo>
                  <a:pt x="15943" y="4927"/>
                  <a:pt x="15921" y="4852"/>
                  <a:pt x="15900" y="4936"/>
                </a:cubicBezTo>
              </a:path>
              <a:path w="2358" h="1390">
                <a:moveTo>
                  <a:pt x="16520" y="5680"/>
                </a:moveTo>
                <a:cubicBezTo>
                  <a:pt x="16512" y="5664"/>
                  <a:pt x="16503" y="5647"/>
                  <a:pt x="16495" y="5631"/>
                </a:cubicBezTo>
                <a:cubicBezTo>
                  <a:pt x="16552" y="5607"/>
                  <a:pt x="16585" y="5585"/>
                  <a:pt x="16644" y="5581"/>
                </a:cubicBezTo>
                <a:cubicBezTo>
                  <a:pt x="16751" y="5575"/>
                  <a:pt x="16784" y="5598"/>
                  <a:pt x="16818" y="5705"/>
                </a:cubicBezTo>
                <a:cubicBezTo>
                  <a:pt x="16833" y="5752"/>
                  <a:pt x="16764" y="5861"/>
                  <a:pt x="16743" y="5904"/>
                </a:cubicBezTo>
                <a:cubicBezTo>
                  <a:pt x="16710" y="5972"/>
                  <a:pt x="16669" y="6046"/>
                  <a:pt x="16619" y="6102"/>
                </a:cubicBezTo>
                <a:cubicBezTo>
                  <a:pt x="16589" y="6132"/>
                  <a:pt x="16578" y="6146"/>
                  <a:pt x="16570" y="6176"/>
                </a:cubicBezTo>
                <a:cubicBezTo>
                  <a:pt x="16586" y="6119"/>
                  <a:pt x="16623" y="6067"/>
                  <a:pt x="16694" y="6052"/>
                </a:cubicBezTo>
                <a:cubicBezTo>
                  <a:pt x="16747" y="6041"/>
                  <a:pt x="16789" y="6056"/>
                  <a:pt x="16818" y="6102"/>
                </a:cubicBezTo>
                <a:cubicBezTo>
                  <a:pt x="16840" y="6137"/>
                  <a:pt x="16862" y="6216"/>
                  <a:pt x="16892" y="6226"/>
                </a:cubicBezTo>
                <a:cubicBezTo>
                  <a:pt x="16969" y="6252"/>
                  <a:pt x="17002" y="6199"/>
                  <a:pt x="17041" y="6152"/>
                </a:cubicBezTo>
                <a:cubicBezTo>
                  <a:pt x="17087" y="6097"/>
                  <a:pt x="17103" y="6070"/>
                  <a:pt x="17165" y="60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15080" y="1633680"/>
            <a:ext cx="1044720" cy="403200"/>
          </a:xfrm>
          <a:custGeom>
            <a:avLst/>
            <a:gdLst/>
            <a:ahLst/>
            <a:rect l="l" t="t" r="r" b="b"/>
            <a:pathLst>
              <a:path w="2903" h="1117">
                <a:moveTo>
                  <a:pt x="18678" y="4986"/>
                </a:moveTo>
                <a:cubicBezTo>
                  <a:pt x="18659" y="5005"/>
                  <a:pt x="18700" y="5072"/>
                  <a:pt x="18703" y="5135"/>
                </a:cubicBezTo>
                <a:cubicBezTo>
                  <a:pt x="18707" y="5244"/>
                  <a:pt x="18728" y="5347"/>
                  <a:pt x="18728" y="5457"/>
                </a:cubicBezTo>
                <a:cubicBezTo>
                  <a:pt x="18728" y="5491"/>
                  <a:pt x="18728" y="5703"/>
                  <a:pt x="18728" y="5581"/>
                </a:cubicBezTo>
                <a:cubicBezTo>
                  <a:pt x="18728" y="5512"/>
                  <a:pt x="18752" y="5453"/>
                  <a:pt x="18752" y="5383"/>
                </a:cubicBezTo>
                <a:cubicBezTo>
                  <a:pt x="18752" y="5281"/>
                  <a:pt x="18714" y="5089"/>
                  <a:pt x="18802" y="5035"/>
                </a:cubicBezTo>
                <a:cubicBezTo>
                  <a:pt x="18853" y="5004"/>
                  <a:pt x="18893" y="5011"/>
                  <a:pt x="18951" y="5011"/>
                </a:cubicBezTo>
                <a:cubicBezTo>
                  <a:pt x="19011" y="5011"/>
                  <a:pt x="19055" y="5044"/>
                  <a:pt x="19100" y="5085"/>
                </a:cubicBezTo>
                <a:cubicBezTo>
                  <a:pt x="19168" y="5148"/>
                  <a:pt x="19195" y="5198"/>
                  <a:pt x="19199" y="5283"/>
                </a:cubicBezTo>
                <a:cubicBezTo>
                  <a:pt x="19203" y="5368"/>
                  <a:pt x="19166" y="5592"/>
                  <a:pt x="19224" y="5631"/>
                </a:cubicBezTo>
              </a:path>
              <a:path w="2903" h="1117">
                <a:moveTo>
                  <a:pt x="19546" y="5110"/>
                </a:moveTo>
                <a:cubicBezTo>
                  <a:pt x="19546" y="5259"/>
                  <a:pt x="19546" y="5407"/>
                  <a:pt x="19546" y="5556"/>
                </a:cubicBezTo>
                <a:cubicBezTo>
                  <a:pt x="19546" y="5515"/>
                  <a:pt x="19546" y="5473"/>
                  <a:pt x="19546" y="5432"/>
                </a:cubicBezTo>
              </a:path>
              <a:path w="2903" h="1117">
                <a:moveTo>
                  <a:pt x="19422" y="4614"/>
                </a:moveTo>
                <a:cubicBezTo>
                  <a:pt x="19377" y="4614"/>
                  <a:pt x="19357" y="4610"/>
                  <a:pt x="19397" y="4638"/>
                </a:cubicBezTo>
              </a:path>
              <a:path w="2903" h="1117">
                <a:moveTo>
                  <a:pt x="20166" y="4589"/>
                </a:moveTo>
                <a:cubicBezTo>
                  <a:pt x="20166" y="4572"/>
                  <a:pt x="20166" y="4556"/>
                  <a:pt x="20166" y="4539"/>
                </a:cubicBezTo>
                <a:cubicBezTo>
                  <a:pt x="20178" y="4609"/>
                  <a:pt x="20191" y="4666"/>
                  <a:pt x="20191" y="4738"/>
                </a:cubicBezTo>
                <a:cubicBezTo>
                  <a:pt x="20191" y="5044"/>
                  <a:pt x="20191" y="5862"/>
                  <a:pt x="20191" y="5556"/>
                </a:cubicBezTo>
                <a:cubicBezTo>
                  <a:pt x="20191" y="5548"/>
                  <a:pt x="20191" y="5539"/>
                  <a:pt x="20191" y="5531"/>
                </a:cubicBezTo>
              </a:path>
              <a:path w="2903" h="1117">
                <a:moveTo>
                  <a:pt x="19968" y="5259"/>
                </a:moveTo>
                <a:cubicBezTo>
                  <a:pt x="20016" y="5230"/>
                  <a:pt x="20105" y="5218"/>
                  <a:pt x="20166" y="5209"/>
                </a:cubicBezTo>
                <a:cubicBezTo>
                  <a:pt x="20256" y="5196"/>
                  <a:pt x="20326" y="5157"/>
                  <a:pt x="20414" y="5135"/>
                </a:cubicBezTo>
                <a:cubicBezTo>
                  <a:pt x="20453" y="5125"/>
                  <a:pt x="20556" y="5128"/>
                  <a:pt x="20588" y="5110"/>
                </a:cubicBezTo>
                <a:cubicBezTo>
                  <a:pt x="20605" y="5093"/>
                  <a:pt x="20621" y="5077"/>
                  <a:pt x="20638" y="5060"/>
                </a:cubicBezTo>
              </a:path>
              <a:path w="2903" h="1117">
                <a:moveTo>
                  <a:pt x="20687" y="5035"/>
                </a:moveTo>
                <a:cubicBezTo>
                  <a:pt x="20687" y="5217"/>
                  <a:pt x="20687" y="5399"/>
                  <a:pt x="20687" y="5581"/>
                </a:cubicBezTo>
                <a:cubicBezTo>
                  <a:pt x="20687" y="5723"/>
                  <a:pt x="20667" y="5473"/>
                  <a:pt x="20662" y="5457"/>
                </a:cubicBezTo>
                <a:cubicBezTo>
                  <a:pt x="20634" y="5363"/>
                  <a:pt x="20632" y="5305"/>
                  <a:pt x="20662" y="5209"/>
                </a:cubicBezTo>
                <a:cubicBezTo>
                  <a:pt x="20681" y="5148"/>
                  <a:pt x="20737" y="5050"/>
                  <a:pt x="20786" y="5011"/>
                </a:cubicBezTo>
                <a:cubicBezTo>
                  <a:pt x="20803" y="4998"/>
                  <a:pt x="20885" y="4963"/>
                  <a:pt x="20910" y="4961"/>
                </a:cubicBezTo>
                <a:cubicBezTo>
                  <a:pt x="20953" y="4958"/>
                  <a:pt x="21023" y="4990"/>
                  <a:pt x="21059" y="5011"/>
                </a:cubicBezTo>
                <a:cubicBezTo>
                  <a:pt x="21067" y="5019"/>
                  <a:pt x="21076" y="5027"/>
                  <a:pt x="21084" y="5035"/>
                </a:cubicBezTo>
              </a:path>
              <a:path w="2903" h="1117">
                <a:moveTo>
                  <a:pt x="21357" y="5085"/>
                </a:moveTo>
                <a:cubicBezTo>
                  <a:pt x="21337" y="5044"/>
                  <a:pt x="21339" y="5028"/>
                  <a:pt x="21307" y="5035"/>
                </a:cubicBezTo>
                <a:cubicBezTo>
                  <a:pt x="21216" y="5062"/>
                  <a:pt x="21200" y="5140"/>
                  <a:pt x="21158" y="5234"/>
                </a:cubicBezTo>
                <a:cubicBezTo>
                  <a:pt x="21130" y="5296"/>
                  <a:pt x="21134" y="5338"/>
                  <a:pt x="21134" y="5407"/>
                </a:cubicBezTo>
                <a:cubicBezTo>
                  <a:pt x="21134" y="5465"/>
                  <a:pt x="21148" y="5478"/>
                  <a:pt x="21183" y="5507"/>
                </a:cubicBezTo>
                <a:cubicBezTo>
                  <a:pt x="21233" y="5549"/>
                  <a:pt x="21268" y="5609"/>
                  <a:pt x="21332" y="5631"/>
                </a:cubicBezTo>
                <a:cubicBezTo>
                  <a:pt x="21373" y="5645"/>
                  <a:pt x="21424" y="5677"/>
                  <a:pt x="21456" y="5631"/>
                </a:cubicBezTo>
                <a:cubicBezTo>
                  <a:pt x="21491" y="5581"/>
                  <a:pt x="21537" y="5516"/>
                  <a:pt x="21555" y="5457"/>
                </a:cubicBezTo>
                <a:cubicBezTo>
                  <a:pt x="21571" y="5405"/>
                  <a:pt x="21557" y="5320"/>
                  <a:pt x="21530" y="5283"/>
                </a:cubicBezTo>
                <a:cubicBezTo>
                  <a:pt x="21496" y="5236"/>
                  <a:pt x="21505" y="5171"/>
                  <a:pt x="21481" y="5135"/>
                </a:cubicBezTo>
                <a:cubicBezTo>
                  <a:pt x="21423" y="5049"/>
                  <a:pt x="21348" y="5060"/>
                  <a:pt x="21258" y="5060"/>
                </a:cubicBezTo>
                <a:cubicBezTo>
                  <a:pt x="21223" y="5060"/>
                  <a:pt x="21210" y="5069"/>
                  <a:pt x="21208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2760" y="2928960"/>
            <a:ext cx="179280" cy="19080"/>
          </a:xfrm>
          <a:custGeom>
            <a:avLst/>
            <a:gdLst/>
            <a:ahLst/>
            <a:rect l="l" t="t" r="r" b="b"/>
            <a:pathLst>
              <a:path w="498" h="51">
                <a:moveTo>
                  <a:pt x="1339" y="8161"/>
                </a:moveTo>
                <a:cubicBezTo>
                  <a:pt x="1409" y="8161"/>
                  <a:pt x="1454" y="8154"/>
                  <a:pt x="1513" y="8136"/>
                </a:cubicBezTo>
                <a:cubicBezTo>
                  <a:pt x="1601" y="8110"/>
                  <a:pt x="1743" y="8136"/>
                  <a:pt x="1836" y="8136"/>
                </a:cubicBezTo>
                <a:cubicBezTo>
                  <a:pt x="1792" y="8158"/>
                  <a:pt x="1780" y="8161"/>
                  <a:pt x="1761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82800" y="2678040"/>
            <a:ext cx="366480" cy="403200"/>
          </a:xfrm>
          <a:custGeom>
            <a:avLst/>
            <a:gdLst/>
            <a:ahLst/>
            <a:rect l="l" t="t" r="r" b="b"/>
            <a:pathLst>
              <a:path w="1018" h="1118">
                <a:moveTo>
                  <a:pt x="3225" y="7689"/>
                </a:moveTo>
                <a:cubicBezTo>
                  <a:pt x="3217" y="7634"/>
                  <a:pt x="3188" y="7592"/>
                  <a:pt x="3150" y="7565"/>
                </a:cubicBezTo>
                <a:cubicBezTo>
                  <a:pt x="3102" y="7531"/>
                  <a:pt x="3030" y="7447"/>
                  <a:pt x="2977" y="7441"/>
                </a:cubicBezTo>
                <a:cubicBezTo>
                  <a:pt x="2892" y="7431"/>
                  <a:pt x="2852" y="7530"/>
                  <a:pt x="2828" y="7590"/>
                </a:cubicBezTo>
                <a:cubicBezTo>
                  <a:pt x="2787" y="7694"/>
                  <a:pt x="2741" y="7775"/>
                  <a:pt x="2729" y="7888"/>
                </a:cubicBezTo>
                <a:cubicBezTo>
                  <a:pt x="2717" y="8003"/>
                  <a:pt x="2714" y="8152"/>
                  <a:pt x="2753" y="8260"/>
                </a:cubicBezTo>
                <a:cubicBezTo>
                  <a:pt x="2783" y="8345"/>
                  <a:pt x="2820" y="8437"/>
                  <a:pt x="2877" y="8508"/>
                </a:cubicBezTo>
                <a:cubicBezTo>
                  <a:pt x="2900" y="8537"/>
                  <a:pt x="2922" y="8570"/>
                  <a:pt x="2977" y="8558"/>
                </a:cubicBezTo>
                <a:cubicBezTo>
                  <a:pt x="3091" y="8532"/>
                  <a:pt x="3246" y="8440"/>
                  <a:pt x="3349" y="8384"/>
                </a:cubicBezTo>
                <a:cubicBezTo>
                  <a:pt x="3424" y="8343"/>
                  <a:pt x="3435" y="8326"/>
                  <a:pt x="3473" y="8260"/>
                </a:cubicBezTo>
              </a:path>
              <a:path w="1018" h="1118">
                <a:moveTo>
                  <a:pt x="3696" y="7615"/>
                </a:moveTo>
                <a:cubicBezTo>
                  <a:pt x="3696" y="7598"/>
                  <a:pt x="3696" y="7582"/>
                  <a:pt x="3696" y="7565"/>
                </a:cubicBezTo>
                <a:cubicBezTo>
                  <a:pt x="3696" y="7751"/>
                  <a:pt x="3696" y="7930"/>
                  <a:pt x="3721" y="8111"/>
                </a:cubicBezTo>
                <a:cubicBezTo>
                  <a:pt x="3731" y="8183"/>
                  <a:pt x="3686" y="8483"/>
                  <a:pt x="3746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16080" y="2660760"/>
            <a:ext cx="1214640" cy="366480"/>
          </a:xfrm>
          <a:custGeom>
            <a:avLst/>
            <a:gdLst/>
            <a:ahLst/>
            <a:rect l="l" t="t" r="r" b="b"/>
            <a:pathLst>
              <a:path w="3374" h="1018">
                <a:moveTo>
                  <a:pt x="6226" y="7913"/>
                </a:moveTo>
                <a:cubicBezTo>
                  <a:pt x="6206" y="7842"/>
                  <a:pt x="6182" y="7820"/>
                  <a:pt x="6102" y="7813"/>
                </a:cubicBezTo>
                <a:cubicBezTo>
                  <a:pt x="6043" y="7808"/>
                  <a:pt x="6009" y="7878"/>
                  <a:pt x="5978" y="7913"/>
                </a:cubicBezTo>
                <a:cubicBezTo>
                  <a:pt x="5930" y="7967"/>
                  <a:pt x="5891" y="8058"/>
                  <a:pt x="5879" y="8136"/>
                </a:cubicBezTo>
                <a:cubicBezTo>
                  <a:pt x="5870" y="8195"/>
                  <a:pt x="5866" y="8290"/>
                  <a:pt x="5904" y="8334"/>
                </a:cubicBezTo>
                <a:cubicBezTo>
                  <a:pt x="5960" y="8400"/>
                  <a:pt x="6043" y="8405"/>
                  <a:pt x="6127" y="8409"/>
                </a:cubicBezTo>
                <a:cubicBezTo>
                  <a:pt x="6236" y="8414"/>
                  <a:pt x="6265" y="8407"/>
                  <a:pt x="6350" y="8359"/>
                </a:cubicBezTo>
                <a:cubicBezTo>
                  <a:pt x="6472" y="8290"/>
                  <a:pt x="6464" y="8264"/>
                  <a:pt x="6524" y="8136"/>
                </a:cubicBezTo>
              </a:path>
              <a:path w="3374" h="1018">
                <a:moveTo>
                  <a:pt x="6772" y="7491"/>
                </a:moveTo>
                <a:cubicBezTo>
                  <a:pt x="6772" y="7747"/>
                  <a:pt x="6772" y="8004"/>
                  <a:pt x="6772" y="8260"/>
                </a:cubicBezTo>
                <a:cubicBezTo>
                  <a:pt x="6800" y="8182"/>
                  <a:pt x="6816" y="8112"/>
                  <a:pt x="6846" y="8037"/>
                </a:cubicBezTo>
                <a:cubicBezTo>
                  <a:pt x="6872" y="7973"/>
                  <a:pt x="6884" y="7943"/>
                  <a:pt x="6945" y="7938"/>
                </a:cubicBezTo>
                <a:cubicBezTo>
                  <a:pt x="7020" y="7931"/>
                  <a:pt x="7056" y="7991"/>
                  <a:pt x="7094" y="8037"/>
                </a:cubicBezTo>
                <a:cubicBezTo>
                  <a:pt x="7114" y="8061"/>
                  <a:pt x="7187" y="8131"/>
                  <a:pt x="7193" y="8161"/>
                </a:cubicBezTo>
                <a:cubicBezTo>
                  <a:pt x="7204" y="8216"/>
                  <a:pt x="7160" y="8407"/>
                  <a:pt x="7193" y="8310"/>
                </a:cubicBezTo>
                <a:cubicBezTo>
                  <a:pt x="7231" y="8196"/>
                  <a:pt x="7237" y="8172"/>
                  <a:pt x="7243" y="8037"/>
                </a:cubicBezTo>
              </a:path>
              <a:path w="3374" h="1018">
                <a:moveTo>
                  <a:pt x="7417" y="7392"/>
                </a:moveTo>
                <a:cubicBezTo>
                  <a:pt x="7417" y="7514"/>
                  <a:pt x="7419" y="8218"/>
                  <a:pt x="7441" y="8210"/>
                </a:cubicBezTo>
              </a:path>
              <a:path w="3374" h="1018">
                <a:moveTo>
                  <a:pt x="7863" y="7888"/>
                </a:moveTo>
                <a:cubicBezTo>
                  <a:pt x="7863" y="7871"/>
                  <a:pt x="7863" y="7855"/>
                  <a:pt x="7863" y="7838"/>
                </a:cubicBezTo>
                <a:cubicBezTo>
                  <a:pt x="7778" y="7838"/>
                  <a:pt x="7784" y="7849"/>
                  <a:pt x="7739" y="7913"/>
                </a:cubicBezTo>
                <a:cubicBezTo>
                  <a:pt x="7692" y="7981"/>
                  <a:pt x="7689" y="8030"/>
                  <a:pt x="7689" y="8111"/>
                </a:cubicBezTo>
                <a:cubicBezTo>
                  <a:pt x="7689" y="8166"/>
                  <a:pt x="7701" y="8228"/>
                  <a:pt x="7739" y="8260"/>
                </a:cubicBezTo>
                <a:cubicBezTo>
                  <a:pt x="7817" y="8325"/>
                  <a:pt x="7796" y="8332"/>
                  <a:pt x="7888" y="8310"/>
                </a:cubicBezTo>
                <a:cubicBezTo>
                  <a:pt x="7980" y="8288"/>
                  <a:pt x="7966" y="8226"/>
                  <a:pt x="8012" y="8161"/>
                </a:cubicBezTo>
                <a:cubicBezTo>
                  <a:pt x="8057" y="8098"/>
                  <a:pt x="8089" y="8089"/>
                  <a:pt x="8037" y="8012"/>
                </a:cubicBezTo>
                <a:cubicBezTo>
                  <a:pt x="8021" y="7988"/>
                  <a:pt x="7924" y="7881"/>
                  <a:pt x="7888" y="7913"/>
                </a:cubicBezTo>
                <a:cubicBezTo>
                  <a:pt x="7880" y="7929"/>
                  <a:pt x="7871" y="7946"/>
                  <a:pt x="7863" y="7962"/>
                </a:cubicBezTo>
              </a:path>
              <a:path w="3374" h="1018">
                <a:moveTo>
                  <a:pt x="8235" y="7838"/>
                </a:moveTo>
                <a:cubicBezTo>
                  <a:pt x="8254" y="7906"/>
                  <a:pt x="8285" y="7907"/>
                  <a:pt x="8285" y="7987"/>
                </a:cubicBezTo>
                <a:cubicBezTo>
                  <a:pt x="8285" y="8078"/>
                  <a:pt x="8287" y="8157"/>
                  <a:pt x="8310" y="8235"/>
                </a:cubicBezTo>
                <a:cubicBezTo>
                  <a:pt x="8310" y="8268"/>
                  <a:pt x="8310" y="8285"/>
                  <a:pt x="8310" y="8310"/>
                </a:cubicBezTo>
                <a:cubicBezTo>
                  <a:pt x="8310" y="8196"/>
                  <a:pt x="8281" y="8073"/>
                  <a:pt x="8359" y="7987"/>
                </a:cubicBezTo>
                <a:cubicBezTo>
                  <a:pt x="8400" y="7942"/>
                  <a:pt x="8467" y="7889"/>
                  <a:pt x="8508" y="7863"/>
                </a:cubicBezTo>
                <a:cubicBezTo>
                  <a:pt x="8548" y="7837"/>
                  <a:pt x="8603" y="7871"/>
                  <a:pt x="8632" y="7888"/>
                </a:cubicBezTo>
                <a:cubicBezTo>
                  <a:pt x="8673" y="7908"/>
                  <a:pt x="8689" y="7927"/>
                  <a:pt x="8682" y="7888"/>
                </a:cubicBezTo>
              </a:path>
              <a:path w="3374" h="1018">
                <a:moveTo>
                  <a:pt x="9004" y="7962"/>
                </a:moveTo>
                <a:cubicBezTo>
                  <a:pt x="8958" y="7943"/>
                  <a:pt x="8900" y="7914"/>
                  <a:pt x="8855" y="7962"/>
                </a:cubicBezTo>
                <a:cubicBezTo>
                  <a:pt x="8822" y="7998"/>
                  <a:pt x="8798" y="8071"/>
                  <a:pt x="8781" y="8111"/>
                </a:cubicBezTo>
                <a:cubicBezTo>
                  <a:pt x="8754" y="8174"/>
                  <a:pt x="8740" y="8223"/>
                  <a:pt x="8781" y="8285"/>
                </a:cubicBezTo>
                <a:cubicBezTo>
                  <a:pt x="8816" y="8338"/>
                  <a:pt x="8897" y="8356"/>
                  <a:pt x="8954" y="8359"/>
                </a:cubicBezTo>
                <a:cubicBezTo>
                  <a:pt x="9044" y="8364"/>
                  <a:pt x="9085" y="8347"/>
                  <a:pt x="9153" y="8285"/>
                </a:cubicBezTo>
                <a:cubicBezTo>
                  <a:pt x="9215" y="8229"/>
                  <a:pt x="9246" y="8193"/>
                  <a:pt x="9252" y="8111"/>
                </a:cubicBezTo>
                <a:cubicBezTo>
                  <a:pt x="9256" y="8060"/>
                  <a:pt x="9261" y="8024"/>
                  <a:pt x="9227" y="7987"/>
                </a:cubicBezTo>
                <a:cubicBezTo>
                  <a:pt x="9180" y="7936"/>
                  <a:pt x="9145" y="7905"/>
                  <a:pt x="9079" y="7888"/>
                </a:cubicBezTo>
                <a:cubicBezTo>
                  <a:pt x="9000" y="7868"/>
                  <a:pt x="8919" y="7900"/>
                  <a:pt x="8855" y="7913"/>
                </a:cubicBezTo>
                <a:cubicBezTo>
                  <a:pt x="8839" y="7913"/>
                  <a:pt x="8822" y="7913"/>
                  <a:pt x="8806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73760" y="2768760"/>
            <a:ext cx="196560" cy="27000"/>
          </a:xfrm>
          <a:custGeom>
            <a:avLst/>
            <a:gdLst/>
            <a:ahLst/>
            <a:rect l="l" t="t" r="r" b="b"/>
            <a:pathLst>
              <a:path w="547" h="76">
                <a:moveTo>
                  <a:pt x="13816" y="7764"/>
                </a:moveTo>
                <a:cubicBezTo>
                  <a:pt x="13898" y="7764"/>
                  <a:pt x="13963" y="7752"/>
                  <a:pt x="14039" y="7739"/>
                </a:cubicBezTo>
                <a:cubicBezTo>
                  <a:pt x="14100" y="7728"/>
                  <a:pt x="14154" y="7699"/>
                  <a:pt x="14213" y="7689"/>
                </a:cubicBezTo>
                <a:cubicBezTo>
                  <a:pt x="14232" y="7686"/>
                  <a:pt x="14413" y="7681"/>
                  <a:pt x="14337" y="7714"/>
                </a:cubicBezTo>
                <a:cubicBezTo>
                  <a:pt x="14329" y="7714"/>
                  <a:pt x="14320" y="7714"/>
                  <a:pt x="14312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0160" y="2500200"/>
            <a:ext cx="527040" cy="349200"/>
          </a:xfrm>
          <a:custGeom>
            <a:avLst/>
            <a:gdLst/>
            <a:ahLst/>
            <a:rect l="l" t="t" r="r" b="b"/>
            <a:pathLst>
              <a:path w="1465" h="969">
                <a:moveTo>
                  <a:pt x="15652" y="7020"/>
                </a:moveTo>
                <a:cubicBezTo>
                  <a:pt x="15633" y="6973"/>
                  <a:pt x="15595" y="6917"/>
                  <a:pt x="15528" y="6945"/>
                </a:cubicBezTo>
                <a:cubicBezTo>
                  <a:pt x="15495" y="6959"/>
                  <a:pt x="15413" y="7069"/>
                  <a:pt x="15404" y="7094"/>
                </a:cubicBezTo>
                <a:cubicBezTo>
                  <a:pt x="15370" y="7182"/>
                  <a:pt x="15357" y="7272"/>
                  <a:pt x="15329" y="7367"/>
                </a:cubicBezTo>
                <a:cubicBezTo>
                  <a:pt x="15308" y="7437"/>
                  <a:pt x="15283" y="7540"/>
                  <a:pt x="15304" y="7615"/>
                </a:cubicBezTo>
                <a:cubicBezTo>
                  <a:pt x="15327" y="7699"/>
                  <a:pt x="15393" y="7767"/>
                  <a:pt x="15429" y="7838"/>
                </a:cubicBezTo>
                <a:cubicBezTo>
                  <a:pt x="15456" y="7891"/>
                  <a:pt x="15464" y="7913"/>
                  <a:pt x="15528" y="7913"/>
                </a:cubicBezTo>
                <a:cubicBezTo>
                  <a:pt x="15606" y="7913"/>
                  <a:pt x="15640" y="7867"/>
                  <a:pt x="15701" y="7838"/>
                </a:cubicBezTo>
                <a:cubicBezTo>
                  <a:pt x="15755" y="7813"/>
                  <a:pt x="15816" y="7766"/>
                  <a:pt x="15850" y="7714"/>
                </a:cubicBezTo>
                <a:cubicBezTo>
                  <a:pt x="15897" y="7641"/>
                  <a:pt x="15875" y="7565"/>
                  <a:pt x="15850" y="7491"/>
                </a:cubicBezTo>
                <a:cubicBezTo>
                  <a:pt x="15817" y="7392"/>
                  <a:pt x="15788" y="7290"/>
                  <a:pt x="15751" y="7193"/>
                </a:cubicBezTo>
                <a:cubicBezTo>
                  <a:pt x="15724" y="7123"/>
                  <a:pt x="15701" y="7096"/>
                  <a:pt x="15701" y="7020"/>
                </a:cubicBezTo>
                <a:cubicBezTo>
                  <a:pt x="15701" y="7053"/>
                  <a:pt x="15701" y="7053"/>
                  <a:pt x="15701" y="6995"/>
                </a:cubicBezTo>
              </a:path>
              <a:path w="1465" h="969">
                <a:moveTo>
                  <a:pt x="16247" y="7094"/>
                </a:moveTo>
                <a:cubicBezTo>
                  <a:pt x="16260" y="7144"/>
                  <a:pt x="16272" y="7158"/>
                  <a:pt x="16272" y="7218"/>
                </a:cubicBezTo>
                <a:cubicBezTo>
                  <a:pt x="16272" y="7318"/>
                  <a:pt x="16303" y="7372"/>
                  <a:pt x="16321" y="7466"/>
                </a:cubicBezTo>
                <a:cubicBezTo>
                  <a:pt x="16335" y="7541"/>
                  <a:pt x="16330" y="7616"/>
                  <a:pt x="16346" y="7689"/>
                </a:cubicBezTo>
                <a:cubicBezTo>
                  <a:pt x="16359" y="7751"/>
                  <a:pt x="16309" y="7916"/>
                  <a:pt x="16371" y="7813"/>
                </a:cubicBezTo>
              </a:path>
              <a:path w="1465" h="969">
                <a:moveTo>
                  <a:pt x="16694" y="6945"/>
                </a:moveTo>
                <a:cubicBezTo>
                  <a:pt x="16702" y="7015"/>
                  <a:pt x="16738" y="7053"/>
                  <a:pt x="16743" y="7119"/>
                </a:cubicBezTo>
                <a:cubicBezTo>
                  <a:pt x="16760" y="7326"/>
                  <a:pt x="16718" y="7540"/>
                  <a:pt x="16768" y="7739"/>
                </a:cubicBezTo>
                <a:cubicBezTo>
                  <a:pt x="16768" y="7747"/>
                  <a:pt x="16768" y="7756"/>
                  <a:pt x="16768" y="7764"/>
                </a:cubicBezTo>
              </a:path>
              <a:path w="1465" h="969">
                <a:moveTo>
                  <a:pt x="16346" y="7541"/>
                </a:moveTo>
                <a:cubicBezTo>
                  <a:pt x="16406" y="7549"/>
                  <a:pt x="16431" y="7565"/>
                  <a:pt x="16495" y="7565"/>
                </a:cubicBezTo>
                <a:cubicBezTo>
                  <a:pt x="16570" y="7565"/>
                  <a:pt x="16625" y="7545"/>
                  <a:pt x="16694" y="7541"/>
                </a:cubicBezTo>
                <a:cubicBezTo>
                  <a:pt x="16710" y="7541"/>
                  <a:pt x="16727" y="7541"/>
                  <a:pt x="16743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27880" y="2401920"/>
            <a:ext cx="1482480" cy="804960"/>
          </a:xfrm>
          <a:custGeom>
            <a:avLst/>
            <a:gdLst/>
            <a:ahLst/>
            <a:rect l="l" t="t" r="r" b="b"/>
            <a:pathLst>
              <a:path w="4119" h="2234">
                <a:moveTo>
                  <a:pt x="18157" y="6772"/>
                </a:moveTo>
                <a:cubicBezTo>
                  <a:pt x="18129" y="6835"/>
                  <a:pt x="18132" y="6891"/>
                  <a:pt x="18132" y="6970"/>
                </a:cubicBezTo>
                <a:cubicBezTo>
                  <a:pt x="18132" y="7130"/>
                  <a:pt x="18153" y="7282"/>
                  <a:pt x="18157" y="7441"/>
                </a:cubicBezTo>
                <a:cubicBezTo>
                  <a:pt x="18162" y="7666"/>
                  <a:pt x="18118" y="7923"/>
                  <a:pt x="18182" y="8136"/>
                </a:cubicBezTo>
                <a:cubicBezTo>
                  <a:pt x="18182" y="7971"/>
                  <a:pt x="18148" y="7765"/>
                  <a:pt x="18207" y="7615"/>
                </a:cubicBezTo>
                <a:cubicBezTo>
                  <a:pt x="18229" y="7558"/>
                  <a:pt x="18279" y="7463"/>
                  <a:pt x="18355" y="7466"/>
                </a:cubicBezTo>
                <a:cubicBezTo>
                  <a:pt x="18456" y="7470"/>
                  <a:pt x="18463" y="7544"/>
                  <a:pt x="18504" y="7615"/>
                </a:cubicBezTo>
                <a:cubicBezTo>
                  <a:pt x="18558" y="7707"/>
                  <a:pt x="18579" y="7733"/>
                  <a:pt x="18579" y="7838"/>
                </a:cubicBezTo>
                <a:cubicBezTo>
                  <a:pt x="18579" y="7879"/>
                  <a:pt x="18567" y="8182"/>
                  <a:pt x="18628" y="8037"/>
                </a:cubicBezTo>
                <a:cubicBezTo>
                  <a:pt x="18628" y="8020"/>
                  <a:pt x="18628" y="8004"/>
                  <a:pt x="18628" y="7987"/>
                </a:cubicBezTo>
              </a:path>
              <a:path w="4119" h="2234">
                <a:moveTo>
                  <a:pt x="18728" y="7615"/>
                </a:moveTo>
                <a:cubicBezTo>
                  <a:pt x="18783" y="7680"/>
                  <a:pt x="18777" y="7683"/>
                  <a:pt x="18777" y="7789"/>
                </a:cubicBezTo>
                <a:cubicBezTo>
                  <a:pt x="18777" y="7882"/>
                  <a:pt x="18754" y="7949"/>
                  <a:pt x="18827" y="8012"/>
                </a:cubicBezTo>
                <a:cubicBezTo>
                  <a:pt x="18883" y="8050"/>
                  <a:pt x="18886" y="8067"/>
                  <a:pt x="18926" y="8062"/>
                </a:cubicBezTo>
                <a:cubicBezTo>
                  <a:pt x="18954" y="7988"/>
                  <a:pt x="18988" y="7894"/>
                  <a:pt x="19000" y="7813"/>
                </a:cubicBezTo>
                <a:cubicBezTo>
                  <a:pt x="19012" y="7729"/>
                  <a:pt x="18987" y="7489"/>
                  <a:pt x="19025" y="7565"/>
                </a:cubicBezTo>
                <a:cubicBezTo>
                  <a:pt x="19066" y="7647"/>
                  <a:pt x="19023" y="7816"/>
                  <a:pt x="19050" y="7913"/>
                </a:cubicBezTo>
                <a:cubicBezTo>
                  <a:pt x="19083" y="8031"/>
                  <a:pt x="19105" y="8141"/>
                  <a:pt x="19124" y="8260"/>
                </a:cubicBezTo>
                <a:cubicBezTo>
                  <a:pt x="19142" y="8375"/>
                  <a:pt x="19174" y="8521"/>
                  <a:pt x="19124" y="8632"/>
                </a:cubicBezTo>
                <a:cubicBezTo>
                  <a:pt x="19098" y="8689"/>
                  <a:pt x="19046" y="8789"/>
                  <a:pt x="18976" y="8806"/>
                </a:cubicBezTo>
                <a:cubicBezTo>
                  <a:pt x="18878" y="8829"/>
                  <a:pt x="18750" y="8635"/>
                  <a:pt x="18703" y="8582"/>
                </a:cubicBezTo>
              </a:path>
              <a:path w="4119" h="2234">
                <a:moveTo>
                  <a:pt x="19769" y="7590"/>
                </a:moveTo>
                <a:cubicBezTo>
                  <a:pt x="19747" y="7530"/>
                  <a:pt x="19737" y="7480"/>
                  <a:pt x="19720" y="7417"/>
                </a:cubicBezTo>
                <a:cubicBezTo>
                  <a:pt x="19625" y="7417"/>
                  <a:pt x="19652" y="7417"/>
                  <a:pt x="19571" y="7466"/>
                </a:cubicBezTo>
                <a:cubicBezTo>
                  <a:pt x="19518" y="7498"/>
                  <a:pt x="19437" y="7573"/>
                  <a:pt x="19422" y="7640"/>
                </a:cubicBezTo>
                <a:cubicBezTo>
                  <a:pt x="19404" y="7722"/>
                  <a:pt x="19415" y="7839"/>
                  <a:pt x="19447" y="7913"/>
                </a:cubicBezTo>
                <a:cubicBezTo>
                  <a:pt x="19482" y="7994"/>
                  <a:pt x="19526" y="8009"/>
                  <a:pt x="19596" y="8037"/>
                </a:cubicBezTo>
                <a:cubicBezTo>
                  <a:pt x="19612" y="8045"/>
                  <a:pt x="19629" y="8054"/>
                  <a:pt x="19645" y="8062"/>
                </a:cubicBezTo>
                <a:cubicBezTo>
                  <a:pt x="19687" y="8010"/>
                  <a:pt x="19745" y="7925"/>
                  <a:pt x="19769" y="7863"/>
                </a:cubicBezTo>
                <a:cubicBezTo>
                  <a:pt x="19836" y="7689"/>
                  <a:pt x="19856" y="7451"/>
                  <a:pt x="19844" y="7268"/>
                </a:cubicBezTo>
                <a:cubicBezTo>
                  <a:pt x="19832" y="7084"/>
                  <a:pt x="19776" y="6907"/>
                  <a:pt x="19769" y="6722"/>
                </a:cubicBezTo>
                <a:cubicBezTo>
                  <a:pt x="19769" y="6705"/>
                  <a:pt x="19769" y="6689"/>
                  <a:pt x="19769" y="6672"/>
                </a:cubicBezTo>
                <a:cubicBezTo>
                  <a:pt x="19769" y="6931"/>
                  <a:pt x="19776" y="7185"/>
                  <a:pt x="19794" y="7441"/>
                </a:cubicBezTo>
                <a:cubicBezTo>
                  <a:pt x="19800" y="7532"/>
                  <a:pt x="19807" y="7985"/>
                  <a:pt x="19819" y="7962"/>
                </a:cubicBezTo>
                <a:cubicBezTo>
                  <a:pt x="19819" y="7954"/>
                  <a:pt x="19819" y="7946"/>
                  <a:pt x="19819" y="7938"/>
                </a:cubicBezTo>
              </a:path>
              <a:path w="4119" h="2234">
                <a:moveTo>
                  <a:pt x="20117" y="7565"/>
                </a:moveTo>
                <a:cubicBezTo>
                  <a:pt x="20117" y="7697"/>
                  <a:pt x="20117" y="7830"/>
                  <a:pt x="20117" y="7962"/>
                </a:cubicBezTo>
                <a:cubicBezTo>
                  <a:pt x="20117" y="7877"/>
                  <a:pt x="20104" y="7822"/>
                  <a:pt x="20092" y="7739"/>
                </a:cubicBezTo>
                <a:cubicBezTo>
                  <a:pt x="20081" y="7659"/>
                  <a:pt x="20067" y="7503"/>
                  <a:pt x="20117" y="7441"/>
                </a:cubicBezTo>
                <a:cubicBezTo>
                  <a:pt x="20148" y="7402"/>
                  <a:pt x="20196" y="7417"/>
                  <a:pt x="20241" y="7417"/>
                </a:cubicBezTo>
                <a:cubicBezTo>
                  <a:pt x="20307" y="7417"/>
                  <a:pt x="20347" y="7400"/>
                  <a:pt x="20389" y="7466"/>
                </a:cubicBezTo>
                <a:cubicBezTo>
                  <a:pt x="20389" y="7474"/>
                  <a:pt x="20389" y="7483"/>
                  <a:pt x="20389" y="7491"/>
                </a:cubicBezTo>
              </a:path>
              <a:path w="4119" h="2234">
                <a:moveTo>
                  <a:pt x="20613" y="7590"/>
                </a:moveTo>
                <a:cubicBezTo>
                  <a:pt x="20590" y="7524"/>
                  <a:pt x="20545" y="7515"/>
                  <a:pt x="20489" y="7590"/>
                </a:cubicBezTo>
                <a:cubicBezTo>
                  <a:pt x="20429" y="7670"/>
                  <a:pt x="20434" y="7700"/>
                  <a:pt x="20414" y="7789"/>
                </a:cubicBezTo>
                <a:cubicBezTo>
                  <a:pt x="20402" y="7842"/>
                  <a:pt x="20356" y="7937"/>
                  <a:pt x="20414" y="7987"/>
                </a:cubicBezTo>
                <a:cubicBezTo>
                  <a:pt x="20443" y="8012"/>
                  <a:pt x="20539" y="7978"/>
                  <a:pt x="20563" y="7962"/>
                </a:cubicBezTo>
                <a:cubicBezTo>
                  <a:pt x="20620" y="7925"/>
                  <a:pt x="20671" y="7886"/>
                  <a:pt x="20687" y="7813"/>
                </a:cubicBezTo>
                <a:cubicBezTo>
                  <a:pt x="20699" y="7760"/>
                  <a:pt x="20656" y="7671"/>
                  <a:pt x="20613" y="7640"/>
                </a:cubicBezTo>
                <a:cubicBezTo>
                  <a:pt x="20572" y="7620"/>
                  <a:pt x="20566" y="7611"/>
                  <a:pt x="20538" y="7615"/>
                </a:cubicBezTo>
              </a:path>
              <a:path w="4119" h="2234">
                <a:moveTo>
                  <a:pt x="20935" y="7615"/>
                </a:moveTo>
                <a:cubicBezTo>
                  <a:pt x="20992" y="7671"/>
                  <a:pt x="21036" y="7728"/>
                  <a:pt x="21084" y="7789"/>
                </a:cubicBezTo>
                <a:cubicBezTo>
                  <a:pt x="21122" y="7838"/>
                  <a:pt x="21174" y="7866"/>
                  <a:pt x="21208" y="7913"/>
                </a:cubicBezTo>
                <a:cubicBezTo>
                  <a:pt x="21223" y="7933"/>
                  <a:pt x="21307" y="8024"/>
                  <a:pt x="21332" y="8037"/>
                </a:cubicBezTo>
                <a:cubicBezTo>
                  <a:pt x="21332" y="7997"/>
                  <a:pt x="21321" y="7978"/>
                  <a:pt x="21282" y="7962"/>
                </a:cubicBezTo>
              </a:path>
              <a:path w="4119" h="2234">
                <a:moveTo>
                  <a:pt x="21233" y="7590"/>
                </a:moveTo>
                <a:cubicBezTo>
                  <a:pt x="21197" y="7638"/>
                  <a:pt x="21185" y="7678"/>
                  <a:pt x="21158" y="7739"/>
                </a:cubicBezTo>
                <a:cubicBezTo>
                  <a:pt x="21133" y="7797"/>
                  <a:pt x="21121" y="7859"/>
                  <a:pt x="21084" y="7913"/>
                </a:cubicBezTo>
                <a:cubicBezTo>
                  <a:pt x="21062" y="7944"/>
                  <a:pt x="20970" y="8024"/>
                  <a:pt x="20985" y="8062"/>
                </a:cubicBezTo>
                <a:cubicBezTo>
                  <a:pt x="21018" y="8062"/>
                  <a:pt x="21027" y="8054"/>
                  <a:pt x="21010" y="8012"/>
                </a:cubicBezTo>
              </a:path>
              <a:path w="4119" h="2234">
                <a:moveTo>
                  <a:pt x="21630" y="7565"/>
                </a:moveTo>
                <a:cubicBezTo>
                  <a:pt x="21604" y="7617"/>
                  <a:pt x="21583" y="7659"/>
                  <a:pt x="21580" y="7714"/>
                </a:cubicBezTo>
                <a:cubicBezTo>
                  <a:pt x="21575" y="7809"/>
                  <a:pt x="21556" y="7922"/>
                  <a:pt x="21630" y="7987"/>
                </a:cubicBezTo>
                <a:cubicBezTo>
                  <a:pt x="21668" y="8020"/>
                  <a:pt x="21758" y="8023"/>
                  <a:pt x="21803" y="7987"/>
                </a:cubicBezTo>
                <a:cubicBezTo>
                  <a:pt x="21850" y="7949"/>
                  <a:pt x="21904" y="7920"/>
                  <a:pt x="21952" y="7863"/>
                </a:cubicBezTo>
                <a:cubicBezTo>
                  <a:pt x="22021" y="7780"/>
                  <a:pt x="21987" y="7684"/>
                  <a:pt x="22002" y="7590"/>
                </a:cubicBezTo>
                <a:cubicBezTo>
                  <a:pt x="22013" y="7523"/>
                  <a:pt x="22022" y="7481"/>
                  <a:pt x="22027" y="7417"/>
                </a:cubicBezTo>
                <a:cubicBezTo>
                  <a:pt x="22013" y="7477"/>
                  <a:pt x="22002" y="7516"/>
                  <a:pt x="22002" y="7590"/>
                </a:cubicBezTo>
                <a:cubicBezTo>
                  <a:pt x="22002" y="7702"/>
                  <a:pt x="22048" y="7805"/>
                  <a:pt x="22076" y="7913"/>
                </a:cubicBezTo>
                <a:cubicBezTo>
                  <a:pt x="22117" y="8071"/>
                  <a:pt x="22158" y="8227"/>
                  <a:pt x="22200" y="8384"/>
                </a:cubicBezTo>
                <a:cubicBezTo>
                  <a:pt x="22238" y="8526"/>
                  <a:pt x="22292" y="8684"/>
                  <a:pt x="22175" y="8806"/>
                </a:cubicBezTo>
                <a:cubicBezTo>
                  <a:pt x="22076" y="8909"/>
                  <a:pt x="21961" y="8902"/>
                  <a:pt x="21828" y="8905"/>
                </a:cubicBezTo>
                <a:cubicBezTo>
                  <a:pt x="21715" y="8908"/>
                  <a:pt x="21585" y="8924"/>
                  <a:pt x="21481" y="8880"/>
                </a:cubicBezTo>
                <a:cubicBezTo>
                  <a:pt x="21414" y="8852"/>
                  <a:pt x="21372" y="8812"/>
                  <a:pt x="21332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040" y="3554280"/>
            <a:ext cx="214200" cy="17640"/>
          </a:xfrm>
          <a:custGeom>
            <a:avLst/>
            <a:gdLst/>
            <a:ahLst/>
            <a:rect l="l" t="t" r="r" b="b"/>
            <a:pathLst>
              <a:path w="596" h="51">
                <a:moveTo>
                  <a:pt x="1389" y="9872"/>
                </a:moveTo>
                <a:cubicBezTo>
                  <a:pt x="1485" y="9872"/>
                  <a:pt x="1572" y="9879"/>
                  <a:pt x="1662" y="9897"/>
                </a:cubicBezTo>
                <a:cubicBezTo>
                  <a:pt x="1735" y="9912"/>
                  <a:pt x="1821" y="9908"/>
                  <a:pt x="1885" y="9922"/>
                </a:cubicBezTo>
                <a:cubicBezTo>
                  <a:pt x="1912" y="9928"/>
                  <a:pt x="1955" y="9922"/>
                  <a:pt x="1984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3080" y="3330720"/>
            <a:ext cx="196920" cy="447480"/>
          </a:xfrm>
          <a:custGeom>
            <a:avLst/>
            <a:gdLst/>
            <a:ahLst/>
            <a:rect l="l" t="t" r="r" b="b"/>
            <a:pathLst>
              <a:path w="546" h="1241">
                <a:moveTo>
                  <a:pt x="2952" y="9302"/>
                </a:moveTo>
                <a:cubicBezTo>
                  <a:pt x="2952" y="9641"/>
                  <a:pt x="2952" y="10559"/>
                  <a:pt x="2952" y="10220"/>
                </a:cubicBezTo>
              </a:path>
              <a:path w="546" h="1241">
                <a:moveTo>
                  <a:pt x="2729" y="10492"/>
                </a:moveTo>
                <a:cubicBezTo>
                  <a:pt x="2772" y="10460"/>
                  <a:pt x="2796" y="10468"/>
                  <a:pt x="2853" y="10468"/>
                </a:cubicBezTo>
                <a:cubicBezTo>
                  <a:pt x="2903" y="10468"/>
                  <a:pt x="3248" y="10489"/>
                  <a:pt x="3249" y="10443"/>
                </a:cubicBezTo>
                <a:cubicBezTo>
                  <a:pt x="3241" y="10443"/>
                  <a:pt x="3233" y="10443"/>
                  <a:pt x="3225" y="10443"/>
                </a:cubicBezTo>
              </a:path>
              <a:path w="546" h="1241">
                <a:moveTo>
                  <a:pt x="2704" y="9302"/>
                </a:moveTo>
                <a:cubicBezTo>
                  <a:pt x="2759" y="9302"/>
                  <a:pt x="2786" y="9286"/>
                  <a:pt x="2828" y="9277"/>
                </a:cubicBezTo>
                <a:cubicBezTo>
                  <a:pt x="2907" y="9260"/>
                  <a:pt x="3005" y="9267"/>
                  <a:pt x="3076" y="9252"/>
                </a:cubicBezTo>
                <a:cubicBezTo>
                  <a:pt x="3134" y="9239"/>
                  <a:pt x="3172" y="9269"/>
                  <a:pt x="3225" y="9277"/>
                </a:cubicBezTo>
                <a:cubicBezTo>
                  <a:pt x="3216" y="9314"/>
                  <a:pt x="3205" y="9322"/>
                  <a:pt x="3175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3456000"/>
            <a:ext cx="17640" cy="268200"/>
          </a:xfrm>
          <a:custGeom>
            <a:avLst/>
            <a:gdLst/>
            <a:ahLst/>
            <a:rect l="l" t="t" r="r" b="b"/>
            <a:pathLst>
              <a:path w="51" h="746">
                <a:moveTo>
                  <a:pt x="6350" y="9922"/>
                </a:moveTo>
                <a:cubicBezTo>
                  <a:pt x="6350" y="10009"/>
                  <a:pt x="6350" y="10381"/>
                  <a:pt x="6350" y="10294"/>
                </a:cubicBezTo>
                <a:cubicBezTo>
                  <a:pt x="6350" y="10286"/>
                  <a:pt x="6350" y="10277"/>
                  <a:pt x="6350" y="10269"/>
                </a:cubicBezTo>
              </a:path>
              <a:path w="51" h="746">
                <a:moveTo>
                  <a:pt x="6300" y="9599"/>
                </a:moveTo>
                <a:cubicBezTo>
                  <a:pt x="6308" y="9599"/>
                  <a:pt x="6317" y="9599"/>
                  <a:pt x="6325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73200" y="3375000"/>
            <a:ext cx="706680" cy="376200"/>
          </a:xfrm>
          <a:custGeom>
            <a:avLst/>
            <a:gdLst/>
            <a:ahLst/>
            <a:rect l="l" t="t" r="r" b="b"/>
            <a:pathLst>
              <a:path w="1960" h="1043">
                <a:moveTo>
                  <a:pt x="7045" y="9947"/>
                </a:moveTo>
                <a:cubicBezTo>
                  <a:pt x="7017" y="9919"/>
                  <a:pt x="7003" y="9910"/>
                  <a:pt x="6970" y="9922"/>
                </a:cubicBezTo>
                <a:cubicBezTo>
                  <a:pt x="6930" y="9991"/>
                  <a:pt x="6942" y="10002"/>
                  <a:pt x="6921" y="10071"/>
                </a:cubicBezTo>
                <a:cubicBezTo>
                  <a:pt x="6905" y="10126"/>
                  <a:pt x="6857" y="10183"/>
                  <a:pt x="6871" y="10244"/>
                </a:cubicBezTo>
                <a:cubicBezTo>
                  <a:pt x="6889" y="10323"/>
                  <a:pt x="6890" y="10348"/>
                  <a:pt x="6945" y="10393"/>
                </a:cubicBezTo>
                <a:cubicBezTo>
                  <a:pt x="6998" y="10436"/>
                  <a:pt x="7027" y="10397"/>
                  <a:pt x="7094" y="10393"/>
                </a:cubicBezTo>
                <a:cubicBezTo>
                  <a:pt x="7164" y="10389"/>
                  <a:pt x="7190" y="10367"/>
                  <a:pt x="7243" y="10319"/>
                </a:cubicBezTo>
                <a:cubicBezTo>
                  <a:pt x="7293" y="10274"/>
                  <a:pt x="7293" y="10262"/>
                  <a:pt x="7293" y="10195"/>
                </a:cubicBezTo>
                <a:cubicBezTo>
                  <a:pt x="7293" y="10114"/>
                  <a:pt x="7298" y="10082"/>
                  <a:pt x="7243" y="10021"/>
                </a:cubicBezTo>
                <a:cubicBezTo>
                  <a:pt x="7191" y="9963"/>
                  <a:pt x="7170" y="9947"/>
                  <a:pt x="7094" y="9947"/>
                </a:cubicBezTo>
                <a:cubicBezTo>
                  <a:pt x="7069" y="9947"/>
                  <a:pt x="7061" y="9947"/>
                  <a:pt x="7045" y="9947"/>
                </a:cubicBezTo>
              </a:path>
              <a:path w="1960" h="1043">
                <a:moveTo>
                  <a:pt x="7863" y="9947"/>
                </a:moveTo>
                <a:cubicBezTo>
                  <a:pt x="7834" y="9896"/>
                  <a:pt x="7804" y="9838"/>
                  <a:pt x="7739" y="9823"/>
                </a:cubicBezTo>
                <a:cubicBezTo>
                  <a:pt x="7676" y="9809"/>
                  <a:pt x="7642" y="9866"/>
                  <a:pt x="7615" y="9897"/>
                </a:cubicBezTo>
                <a:cubicBezTo>
                  <a:pt x="7552" y="9971"/>
                  <a:pt x="7545" y="10044"/>
                  <a:pt x="7541" y="10145"/>
                </a:cubicBezTo>
                <a:cubicBezTo>
                  <a:pt x="7538" y="10212"/>
                  <a:pt x="7563" y="10274"/>
                  <a:pt x="7615" y="10319"/>
                </a:cubicBezTo>
                <a:cubicBezTo>
                  <a:pt x="7655" y="10353"/>
                  <a:pt x="7764" y="10358"/>
                  <a:pt x="7813" y="10344"/>
                </a:cubicBezTo>
                <a:cubicBezTo>
                  <a:pt x="7897" y="10321"/>
                  <a:pt x="7958" y="10241"/>
                  <a:pt x="7987" y="10170"/>
                </a:cubicBezTo>
                <a:cubicBezTo>
                  <a:pt x="8032" y="10058"/>
                  <a:pt x="8059" y="9942"/>
                  <a:pt x="8062" y="9823"/>
                </a:cubicBezTo>
                <a:cubicBezTo>
                  <a:pt x="8066" y="9694"/>
                  <a:pt x="8043" y="9577"/>
                  <a:pt x="8037" y="9451"/>
                </a:cubicBezTo>
                <a:cubicBezTo>
                  <a:pt x="8037" y="9406"/>
                  <a:pt x="8040" y="9393"/>
                  <a:pt x="8012" y="9376"/>
                </a:cubicBezTo>
                <a:cubicBezTo>
                  <a:pt x="8012" y="9715"/>
                  <a:pt x="8012" y="10633"/>
                  <a:pt x="8012" y="10294"/>
                </a:cubicBezTo>
              </a:path>
              <a:path w="1960" h="1043">
                <a:moveTo>
                  <a:pt x="8558" y="9847"/>
                </a:moveTo>
                <a:cubicBezTo>
                  <a:pt x="8470" y="9811"/>
                  <a:pt x="8483" y="9827"/>
                  <a:pt x="8434" y="9897"/>
                </a:cubicBezTo>
                <a:cubicBezTo>
                  <a:pt x="8406" y="9937"/>
                  <a:pt x="8376" y="9980"/>
                  <a:pt x="8359" y="10021"/>
                </a:cubicBezTo>
                <a:cubicBezTo>
                  <a:pt x="8342" y="10062"/>
                  <a:pt x="8316" y="10147"/>
                  <a:pt x="8334" y="10195"/>
                </a:cubicBezTo>
                <a:cubicBezTo>
                  <a:pt x="8352" y="10245"/>
                  <a:pt x="8397" y="10300"/>
                  <a:pt x="8434" y="10319"/>
                </a:cubicBezTo>
                <a:cubicBezTo>
                  <a:pt x="8486" y="10346"/>
                  <a:pt x="8544" y="10386"/>
                  <a:pt x="8607" y="10368"/>
                </a:cubicBezTo>
                <a:cubicBezTo>
                  <a:pt x="8670" y="10350"/>
                  <a:pt x="8725" y="10296"/>
                  <a:pt x="8756" y="10244"/>
                </a:cubicBezTo>
                <a:cubicBezTo>
                  <a:pt x="8804" y="10164"/>
                  <a:pt x="8818" y="10128"/>
                  <a:pt x="8806" y="10046"/>
                </a:cubicBezTo>
                <a:cubicBezTo>
                  <a:pt x="8797" y="9988"/>
                  <a:pt x="8728" y="9952"/>
                  <a:pt x="8706" y="9897"/>
                </a:cubicBezTo>
                <a:cubicBezTo>
                  <a:pt x="8695" y="9869"/>
                  <a:pt x="8605" y="9811"/>
                  <a:pt x="8558" y="9823"/>
                </a:cubicBezTo>
                <a:cubicBezTo>
                  <a:pt x="8513" y="9835"/>
                  <a:pt x="8498" y="9862"/>
                  <a:pt x="8458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0160" y="3875040"/>
            <a:ext cx="17640" cy="367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2055" y="10864"/>
                </a:moveTo>
                <a:cubicBezTo>
                  <a:pt x="12068" y="10859"/>
                  <a:pt x="12128" y="10806"/>
                  <a:pt x="12105" y="10790"/>
                </a:cubicBezTo>
                <a:cubicBezTo>
                  <a:pt x="12032" y="10738"/>
                  <a:pt x="12055" y="10888"/>
                  <a:pt x="12055" y="10765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84840" y="3581280"/>
            <a:ext cx="231840" cy="27000"/>
          </a:xfrm>
          <a:custGeom>
            <a:avLst/>
            <a:gdLst/>
            <a:ahLst/>
            <a:rect l="l" t="t" r="r" b="b"/>
            <a:pathLst>
              <a:path w="646" h="75">
                <a:moveTo>
                  <a:pt x="13568" y="9947"/>
                </a:moveTo>
                <a:cubicBezTo>
                  <a:pt x="13568" y="9963"/>
                  <a:pt x="13568" y="9980"/>
                  <a:pt x="13568" y="9996"/>
                </a:cubicBezTo>
                <a:cubicBezTo>
                  <a:pt x="13652" y="9996"/>
                  <a:pt x="13722" y="10007"/>
                  <a:pt x="13791" y="10021"/>
                </a:cubicBezTo>
                <a:cubicBezTo>
                  <a:pt x="13875" y="10038"/>
                  <a:pt x="13962" y="10014"/>
                  <a:pt x="14039" y="9996"/>
                </a:cubicBezTo>
                <a:cubicBezTo>
                  <a:pt x="14092" y="9984"/>
                  <a:pt x="14158" y="9996"/>
                  <a:pt x="14213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6880" y="3438360"/>
            <a:ext cx="501480" cy="258840"/>
          </a:xfrm>
          <a:custGeom>
            <a:avLst/>
            <a:gdLst/>
            <a:ahLst/>
            <a:rect l="l" t="t" r="r" b="b"/>
            <a:pathLst>
              <a:path w="1390" h="720">
                <a:moveTo>
                  <a:pt x="14833" y="9599"/>
                </a:moveTo>
                <a:cubicBezTo>
                  <a:pt x="14833" y="9583"/>
                  <a:pt x="14833" y="9566"/>
                  <a:pt x="14833" y="9550"/>
                </a:cubicBezTo>
                <a:cubicBezTo>
                  <a:pt x="14782" y="9565"/>
                  <a:pt x="14727" y="9609"/>
                  <a:pt x="14709" y="9674"/>
                </a:cubicBezTo>
                <a:cubicBezTo>
                  <a:pt x="14692" y="9738"/>
                  <a:pt x="14674" y="9807"/>
                  <a:pt x="14660" y="9872"/>
                </a:cubicBezTo>
                <a:cubicBezTo>
                  <a:pt x="14646" y="9933"/>
                  <a:pt x="14657" y="9998"/>
                  <a:pt x="14684" y="10046"/>
                </a:cubicBezTo>
                <a:cubicBezTo>
                  <a:pt x="14712" y="10096"/>
                  <a:pt x="14715" y="10179"/>
                  <a:pt x="14759" y="10220"/>
                </a:cubicBezTo>
                <a:cubicBezTo>
                  <a:pt x="14796" y="10254"/>
                  <a:pt x="14881" y="10284"/>
                  <a:pt x="14932" y="10269"/>
                </a:cubicBezTo>
                <a:cubicBezTo>
                  <a:pt x="14975" y="10256"/>
                  <a:pt x="15112" y="10183"/>
                  <a:pt x="15131" y="10145"/>
                </a:cubicBezTo>
                <a:cubicBezTo>
                  <a:pt x="15157" y="10094"/>
                  <a:pt x="15156" y="10007"/>
                  <a:pt x="15156" y="9947"/>
                </a:cubicBezTo>
                <a:cubicBezTo>
                  <a:pt x="15156" y="9853"/>
                  <a:pt x="15155" y="9861"/>
                  <a:pt x="15106" y="9773"/>
                </a:cubicBezTo>
                <a:cubicBezTo>
                  <a:pt x="15082" y="9730"/>
                  <a:pt x="15035" y="9670"/>
                  <a:pt x="15007" y="9649"/>
                </a:cubicBezTo>
                <a:cubicBezTo>
                  <a:pt x="14958" y="9612"/>
                  <a:pt x="14923" y="9610"/>
                  <a:pt x="14908" y="9550"/>
                </a:cubicBezTo>
              </a:path>
              <a:path w="1390" h="720">
                <a:moveTo>
                  <a:pt x="15553" y="9947"/>
                </a:moveTo>
                <a:cubicBezTo>
                  <a:pt x="15605" y="9934"/>
                  <a:pt x="15638" y="9922"/>
                  <a:pt x="15701" y="9922"/>
                </a:cubicBezTo>
                <a:cubicBezTo>
                  <a:pt x="15809" y="9922"/>
                  <a:pt x="15916" y="9922"/>
                  <a:pt x="16024" y="9922"/>
                </a:cubicBezTo>
                <a:cubicBezTo>
                  <a:pt x="16094" y="9922"/>
                  <a:pt x="15935" y="9949"/>
                  <a:pt x="15925" y="9947"/>
                </a:cubicBezTo>
                <a:cubicBezTo>
                  <a:pt x="15908" y="9939"/>
                  <a:pt x="15892" y="9930"/>
                  <a:pt x="15875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21040" y="3652920"/>
            <a:ext cx="438120" cy="258840"/>
          </a:xfrm>
          <a:custGeom>
            <a:avLst/>
            <a:gdLst/>
            <a:ahLst/>
            <a:rect l="l" t="t" r="r" b="b"/>
            <a:pathLst>
              <a:path w="1217" h="720">
                <a:moveTo>
                  <a:pt x="10889" y="10220"/>
                </a:moveTo>
                <a:cubicBezTo>
                  <a:pt x="10889" y="10280"/>
                  <a:pt x="10877" y="10305"/>
                  <a:pt x="10864" y="10368"/>
                </a:cubicBezTo>
                <a:cubicBezTo>
                  <a:pt x="10861" y="10385"/>
                  <a:pt x="10804" y="10494"/>
                  <a:pt x="10790" y="10517"/>
                </a:cubicBezTo>
                <a:cubicBezTo>
                  <a:pt x="10758" y="10570"/>
                  <a:pt x="10683" y="10623"/>
                  <a:pt x="10666" y="10666"/>
                </a:cubicBezTo>
                <a:cubicBezTo>
                  <a:pt x="10666" y="10718"/>
                  <a:pt x="10664" y="10735"/>
                  <a:pt x="10616" y="10740"/>
                </a:cubicBezTo>
                <a:cubicBezTo>
                  <a:pt x="10668" y="10728"/>
                  <a:pt x="10688" y="10677"/>
                  <a:pt x="10740" y="10666"/>
                </a:cubicBezTo>
                <a:cubicBezTo>
                  <a:pt x="10766" y="10661"/>
                  <a:pt x="10851" y="10701"/>
                  <a:pt x="10864" y="10716"/>
                </a:cubicBezTo>
                <a:cubicBezTo>
                  <a:pt x="10913" y="10776"/>
                  <a:pt x="10952" y="10822"/>
                  <a:pt x="11038" y="10840"/>
                </a:cubicBezTo>
                <a:cubicBezTo>
                  <a:pt x="11078" y="10849"/>
                  <a:pt x="11100" y="10831"/>
                  <a:pt x="11137" y="10815"/>
                </a:cubicBezTo>
              </a:path>
              <a:path w="1217" h="720">
                <a:moveTo>
                  <a:pt x="10964" y="10517"/>
                </a:moveTo>
                <a:cubicBezTo>
                  <a:pt x="11036" y="10473"/>
                  <a:pt x="11083" y="10505"/>
                  <a:pt x="11162" y="10517"/>
                </a:cubicBezTo>
                <a:cubicBezTo>
                  <a:pt x="11250" y="10531"/>
                  <a:pt x="11364" y="10549"/>
                  <a:pt x="11336" y="10468"/>
                </a:cubicBezTo>
              </a:path>
              <a:path w="1217" h="720">
                <a:moveTo>
                  <a:pt x="11063" y="10244"/>
                </a:moveTo>
                <a:cubicBezTo>
                  <a:pt x="11063" y="10219"/>
                  <a:pt x="11063" y="10195"/>
                  <a:pt x="11063" y="10170"/>
                </a:cubicBezTo>
                <a:cubicBezTo>
                  <a:pt x="11139" y="10170"/>
                  <a:pt x="11190" y="10162"/>
                  <a:pt x="11261" y="10145"/>
                </a:cubicBezTo>
                <a:cubicBezTo>
                  <a:pt x="11309" y="10134"/>
                  <a:pt x="11342" y="10148"/>
                  <a:pt x="11361" y="10170"/>
                </a:cubicBezTo>
                <a:cubicBezTo>
                  <a:pt x="11369" y="10178"/>
                  <a:pt x="11377" y="10187"/>
                  <a:pt x="11385" y="10195"/>
                </a:cubicBezTo>
              </a:path>
              <a:path w="1217" h="720">
                <a:moveTo>
                  <a:pt x="11534" y="10567"/>
                </a:moveTo>
                <a:cubicBezTo>
                  <a:pt x="11583" y="10635"/>
                  <a:pt x="11628" y="10692"/>
                  <a:pt x="11683" y="10765"/>
                </a:cubicBezTo>
                <a:cubicBezTo>
                  <a:pt x="11703" y="10792"/>
                  <a:pt x="11734" y="10816"/>
                  <a:pt x="11757" y="10840"/>
                </a:cubicBezTo>
                <a:cubicBezTo>
                  <a:pt x="11785" y="10812"/>
                  <a:pt x="11794" y="10798"/>
                  <a:pt x="11782" y="10765"/>
                </a:cubicBezTo>
              </a:path>
              <a:path w="1217" h="720">
                <a:moveTo>
                  <a:pt x="11832" y="10567"/>
                </a:moveTo>
                <a:cubicBezTo>
                  <a:pt x="11767" y="10613"/>
                  <a:pt x="11733" y="10675"/>
                  <a:pt x="11658" y="10716"/>
                </a:cubicBezTo>
                <a:cubicBezTo>
                  <a:pt x="11597" y="10750"/>
                  <a:pt x="11571" y="10803"/>
                  <a:pt x="11509" y="10840"/>
                </a:cubicBezTo>
                <a:cubicBezTo>
                  <a:pt x="11469" y="10860"/>
                  <a:pt x="11443" y="10868"/>
                  <a:pt x="11485" y="1086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9760" y="4340160"/>
            <a:ext cx="268200" cy="27000"/>
          </a:xfrm>
          <a:custGeom>
            <a:avLst/>
            <a:gdLst/>
            <a:ahLst/>
            <a:rect l="l" t="t" r="r" b="b"/>
            <a:pathLst>
              <a:path w="745" h="75">
                <a:moveTo>
                  <a:pt x="1414" y="12129"/>
                </a:moveTo>
                <a:cubicBezTo>
                  <a:pt x="1606" y="12129"/>
                  <a:pt x="2039" y="12206"/>
                  <a:pt x="2158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54080" y="4143240"/>
            <a:ext cx="812880" cy="482760"/>
          </a:xfrm>
          <a:custGeom>
            <a:avLst/>
            <a:gdLst/>
            <a:ahLst/>
            <a:rect l="l" t="t" r="r" b="b"/>
            <a:pathLst>
              <a:path w="2258" h="1341">
                <a:moveTo>
                  <a:pt x="2977" y="11509"/>
                </a:moveTo>
                <a:cubicBezTo>
                  <a:pt x="2977" y="11767"/>
                  <a:pt x="3078" y="12267"/>
                  <a:pt x="2952" y="12477"/>
                </a:cubicBezTo>
                <a:cubicBezTo>
                  <a:pt x="2952" y="12535"/>
                  <a:pt x="2952" y="12411"/>
                  <a:pt x="2952" y="12353"/>
                </a:cubicBezTo>
                <a:cubicBezTo>
                  <a:pt x="2952" y="12328"/>
                  <a:pt x="2952" y="12303"/>
                  <a:pt x="2952" y="12278"/>
                </a:cubicBezTo>
              </a:path>
              <a:path w="2258" h="1341">
                <a:moveTo>
                  <a:pt x="2927" y="11683"/>
                </a:moveTo>
                <a:cubicBezTo>
                  <a:pt x="2963" y="11701"/>
                  <a:pt x="3012" y="11746"/>
                  <a:pt x="3051" y="11782"/>
                </a:cubicBezTo>
                <a:cubicBezTo>
                  <a:pt x="3123" y="11849"/>
                  <a:pt x="3131" y="11935"/>
                  <a:pt x="3175" y="12005"/>
                </a:cubicBezTo>
                <a:cubicBezTo>
                  <a:pt x="3211" y="12063"/>
                  <a:pt x="3286" y="12097"/>
                  <a:pt x="3324" y="12154"/>
                </a:cubicBezTo>
                <a:cubicBezTo>
                  <a:pt x="3357" y="12203"/>
                  <a:pt x="3392" y="12254"/>
                  <a:pt x="3423" y="12303"/>
                </a:cubicBezTo>
                <a:cubicBezTo>
                  <a:pt x="3467" y="12372"/>
                  <a:pt x="3459" y="12409"/>
                  <a:pt x="3522" y="12452"/>
                </a:cubicBezTo>
                <a:cubicBezTo>
                  <a:pt x="3515" y="12395"/>
                  <a:pt x="3509" y="12334"/>
                  <a:pt x="3497" y="12278"/>
                </a:cubicBezTo>
                <a:cubicBezTo>
                  <a:pt x="3479" y="12194"/>
                  <a:pt x="3437" y="12110"/>
                  <a:pt x="3423" y="12030"/>
                </a:cubicBezTo>
                <a:cubicBezTo>
                  <a:pt x="3394" y="11867"/>
                  <a:pt x="3522" y="11411"/>
                  <a:pt x="3448" y="11559"/>
                </a:cubicBezTo>
                <a:cubicBezTo>
                  <a:pt x="3440" y="11567"/>
                  <a:pt x="3431" y="11576"/>
                  <a:pt x="3423" y="11584"/>
                </a:cubicBezTo>
              </a:path>
              <a:path w="2258" h="1341">
                <a:moveTo>
                  <a:pt x="3919" y="11708"/>
                </a:moveTo>
                <a:cubicBezTo>
                  <a:pt x="3919" y="11795"/>
                  <a:pt x="3935" y="11872"/>
                  <a:pt x="3944" y="11956"/>
                </a:cubicBezTo>
                <a:cubicBezTo>
                  <a:pt x="3967" y="12157"/>
                  <a:pt x="3944" y="12373"/>
                  <a:pt x="3944" y="12576"/>
                </a:cubicBezTo>
                <a:cubicBezTo>
                  <a:pt x="3952" y="12464"/>
                  <a:pt x="3983" y="12386"/>
                  <a:pt x="4018" y="12278"/>
                </a:cubicBezTo>
              </a:path>
              <a:path w="2258" h="1341">
                <a:moveTo>
                  <a:pt x="4291" y="11509"/>
                </a:moveTo>
                <a:cubicBezTo>
                  <a:pt x="4298" y="11577"/>
                  <a:pt x="4301" y="11640"/>
                  <a:pt x="4316" y="11708"/>
                </a:cubicBezTo>
                <a:cubicBezTo>
                  <a:pt x="4344" y="11837"/>
                  <a:pt x="4362" y="11973"/>
                  <a:pt x="4366" y="12105"/>
                </a:cubicBezTo>
                <a:cubicBezTo>
                  <a:pt x="4368" y="12165"/>
                  <a:pt x="4366" y="12531"/>
                  <a:pt x="4366" y="12427"/>
                </a:cubicBezTo>
              </a:path>
              <a:path w="2258" h="1341">
                <a:moveTo>
                  <a:pt x="3969" y="12254"/>
                </a:moveTo>
                <a:cubicBezTo>
                  <a:pt x="3961" y="12237"/>
                  <a:pt x="3952" y="12221"/>
                  <a:pt x="3944" y="12204"/>
                </a:cubicBezTo>
                <a:cubicBezTo>
                  <a:pt x="4015" y="12204"/>
                  <a:pt x="4045" y="12183"/>
                  <a:pt x="4118" y="12179"/>
                </a:cubicBezTo>
                <a:cubicBezTo>
                  <a:pt x="4210" y="12174"/>
                  <a:pt x="4237" y="12170"/>
                  <a:pt x="4316" y="12129"/>
                </a:cubicBezTo>
                <a:cubicBezTo>
                  <a:pt x="4368" y="12102"/>
                  <a:pt x="4393" y="12114"/>
                  <a:pt x="4415" y="12080"/>
                </a:cubicBezTo>
              </a:path>
              <a:path w="2258" h="1341">
                <a:moveTo>
                  <a:pt x="4638" y="12402"/>
                </a:moveTo>
                <a:cubicBezTo>
                  <a:pt x="4662" y="12331"/>
                  <a:pt x="4677" y="12353"/>
                  <a:pt x="4762" y="12353"/>
                </a:cubicBezTo>
                <a:cubicBezTo>
                  <a:pt x="4802" y="12353"/>
                  <a:pt x="4870" y="12355"/>
                  <a:pt x="4887" y="12402"/>
                </a:cubicBezTo>
                <a:cubicBezTo>
                  <a:pt x="4915" y="12479"/>
                  <a:pt x="4870" y="12560"/>
                  <a:pt x="4837" y="12626"/>
                </a:cubicBezTo>
                <a:cubicBezTo>
                  <a:pt x="4805" y="12690"/>
                  <a:pt x="4803" y="12718"/>
                  <a:pt x="4762" y="12774"/>
                </a:cubicBezTo>
                <a:cubicBezTo>
                  <a:pt x="4725" y="12831"/>
                  <a:pt x="4730" y="12856"/>
                  <a:pt x="4688" y="12849"/>
                </a:cubicBezTo>
                <a:cubicBezTo>
                  <a:pt x="4707" y="12784"/>
                  <a:pt x="4737" y="12734"/>
                  <a:pt x="4812" y="12725"/>
                </a:cubicBezTo>
                <a:cubicBezTo>
                  <a:pt x="4899" y="12715"/>
                  <a:pt x="4932" y="12808"/>
                  <a:pt x="4986" y="12824"/>
                </a:cubicBezTo>
                <a:cubicBezTo>
                  <a:pt x="5074" y="12851"/>
                  <a:pt x="5120" y="12775"/>
                  <a:pt x="5184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7920" y="4089240"/>
            <a:ext cx="1189080" cy="358920"/>
          </a:xfrm>
          <a:custGeom>
            <a:avLst/>
            <a:gdLst/>
            <a:ahLst/>
            <a:rect l="l" t="t" r="r" b="b"/>
            <a:pathLst>
              <a:path w="3300" h="993">
                <a:moveTo>
                  <a:pt x="6945" y="11832"/>
                </a:moveTo>
                <a:cubicBezTo>
                  <a:pt x="6938" y="11779"/>
                  <a:pt x="6921" y="11719"/>
                  <a:pt x="6871" y="11683"/>
                </a:cubicBezTo>
                <a:cubicBezTo>
                  <a:pt x="6815" y="11643"/>
                  <a:pt x="6770" y="11650"/>
                  <a:pt x="6722" y="11683"/>
                </a:cubicBezTo>
                <a:cubicBezTo>
                  <a:pt x="6673" y="11717"/>
                  <a:pt x="6588" y="11782"/>
                  <a:pt x="6573" y="11832"/>
                </a:cubicBezTo>
                <a:cubicBezTo>
                  <a:pt x="6543" y="11935"/>
                  <a:pt x="6528" y="12048"/>
                  <a:pt x="6524" y="12154"/>
                </a:cubicBezTo>
                <a:cubicBezTo>
                  <a:pt x="6520" y="12253"/>
                  <a:pt x="6583" y="12268"/>
                  <a:pt x="6648" y="12328"/>
                </a:cubicBezTo>
                <a:cubicBezTo>
                  <a:pt x="6666" y="12345"/>
                  <a:pt x="6768" y="12378"/>
                  <a:pt x="6796" y="12353"/>
                </a:cubicBezTo>
                <a:cubicBezTo>
                  <a:pt x="6845" y="12309"/>
                  <a:pt x="6918" y="12188"/>
                  <a:pt x="6945" y="12129"/>
                </a:cubicBezTo>
                <a:cubicBezTo>
                  <a:pt x="6977" y="12060"/>
                  <a:pt x="7028" y="11955"/>
                  <a:pt x="7045" y="11881"/>
                </a:cubicBezTo>
                <a:cubicBezTo>
                  <a:pt x="7045" y="11840"/>
                  <a:pt x="7045" y="11816"/>
                  <a:pt x="7045" y="11857"/>
                </a:cubicBezTo>
                <a:cubicBezTo>
                  <a:pt x="7045" y="11964"/>
                  <a:pt x="7019" y="12115"/>
                  <a:pt x="7069" y="12204"/>
                </a:cubicBezTo>
                <a:cubicBezTo>
                  <a:pt x="7104" y="12267"/>
                  <a:pt x="7101" y="12250"/>
                  <a:pt x="7169" y="12278"/>
                </a:cubicBezTo>
              </a:path>
              <a:path w="3300" h="993">
                <a:moveTo>
                  <a:pt x="7342" y="11782"/>
                </a:moveTo>
                <a:cubicBezTo>
                  <a:pt x="7350" y="11844"/>
                  <a:pt x="7348" y="11946"/>
                  <a:pt x="7367" y="12005"/>
                </a:cubicBezTo>
                <a:cubicBezTo>
                  <a:pt x="7387" y="12068"/>
                  <a:pt x="7392" y="12102"/>
                  <a:pt x="7392" y="12179"/>
                </a:cubicBezTo>
                <a:cubicBezTo>
                  <a:pt x="7392" y="12203"/>
                  <a:pt x="7392" y="12321"/>
                  <a:pt x="7392" y="12204"/>
                </a:cubicBezTo>
                <a:cubicBezTo>
                  <a:pt x="7392" y="12091"/>
                  <a:pt x="7357" y="11907"/>
                  <a:pt x="7417" y="11807"/>
                </a:cubicBezTo>
                <a:cubicBezTo>
                  <a:pt x="7434" y="11779"/>
                  <a:pt x="7510" y="11759"/>
                  <a:pt x="7541" y="11757"/>
                </a:cubicBezTo>
                <a:cubicBezTo>
                  <a:pt x="7609" y="11752"/>
                  <a:pt x="7645" y="11799"/>
                  <a:pt x="7665" y="11857"/>
                </a:cubicBezTo>
                <a:cubicBezTo>
                  <a:pt x="7692" y="11935"/>
                  <a:pt x="7689" y="11999"/>
                  <a:pt x="7689" y="12080"/>
                </a:cubicBezTo>
                <a:cubicBezTo>
                  <a:pt x="7689" y="12121"/>
                  <a:pt x="7689" y="12146"/>
                  <a:pt x="7689" y="12179"/>
                </a:cubicBezTo>
                <a:cubicBezTo>
                  <a:pt x="7689" y="12315"/>
                  <a:pt x="7681" y="12135"/>
                  <a:pt x="7689" y="12105"/>
                </a:cubicBezTo>
                <a:cubicBezTo>
                  <a:pt x="7711" y="12021"/>
                  <a:pt x="7739" y="12014"/>
                  <a:pt x="7739" y="11931"/>
                </a:cubicBezTo>
                <a:cubicBezTo>
                  <a:pt x="7739" y="11867"/>
                  <a:pt x="7775" y="11808"/>
                  <a:pt x="7838" y="11782"/>
                </a:cubicBezTo>
                <a:cubicBezTo>
                  <a:pt x="7901" y="11755"/>
                  <a:pt x="7947" y="11885"/>
                  <a:pt x="7962" y="11906"/>
                </a:cubicBezTo>
                <a:cubicBezTo>
                  <a:pt x="8015" y="11979"/>
                  <a:pt x="8012" y="11989"/>
                  <a:pt x="8012" y="12080"/>
                </a:cubicBezTo>
                <a:cubicBezTo>
                  <a:pt x="8012" y="12124"/>
                  <a:pt x="7989" y="12206"/>
                  <a:pt x="8012" y="12179"/>
                </a:cubicBezTo>
                <a:cubicBezTo>
                  <a:pt x="8020" y="12171"/>
                  <a:pt x="8029" y="12162"/>
                  <a:pt x="8037" y="12154"/>
                </a:cubicBezTo>
              </a:path>
              <a:path w="3300" h="993">
                <a:moveTo>
                  <a:pt x="8334" y="11782"/>
                </a:moveTo>
                <a:cubicBezTo>
                  <a:pt x="8358" y="11846"/>
                  <a:pt x="8359" y="11887"/>
                  <a:pt x="8359" y="11956"/>
                </a:cubicBezTo>
                <a:cubicBezTo>
                  <a:pt x="8359" y="12022"/>
                  <a:pt x="8359" y="12088"/>
                  <a:pt x="8359" y="12154"/>
                </a:cubicBezTo>
                <a:cubicBezTo>
                  <a:pt x="8359" y="12080"/>
                  <a:pt x="8359" y="12055"/>
                  <a:pt x="8359" y="12005"/>
                </a:cubicBezTo>
              </a:path>
              <a:path w="3300" h="993">
                <a:moveTo>
                  <a:pt x="8260" y="11361"/>
                </a:moveTo>
                <a:cubicBezTo>
                  <a:pt x="8252" y="11361"/>
                  <a:pt x="8243" y="11361"/>
                  <a:pt x="8235" y="11361"/>
                </a:cubicBezTo>
              </a:path>
              <a:path w="3300" h="993">
                <a:moveTo>
                  <a:pt x="8731" y="11807"/>
                </a:moveTo>
                <a:cubicBezTo>
                  <a:pt x="8731" y="11939"/>
                  <a:pt x="8731" y="12072"/>
                  <a:pt x="8731" y="12204"/>
                </a:cubicBezTo>
                <a:cubicBezTo>
                  <a:pt x="8731" y="12267"/>
                  <a:pt x="8755" y="12124"/>
                  <a:pt x="8756" y="12105"/>
                </a:cubicBezTo>
                <a:cubicBezTo>
                  <a:pt x="8762" y="12016"/>
                  <a:pt x="8744" y="11939"/>
                  <a:pt x="8781" y="11857"/>
                </a:cubicBezTo>
                <a:cubicBezTo>
                  <a:pt x="8807" y="11798"/>
                  <a:pt x="8805" y="11761"/>
                  <a:pt x="8880" y="11757"/>
                </a:cubicBezTo>
                <a:cubicBezTo>
                  <a:pt x="8969" y="11752"/>
                  <a:pt x="8984" y="11789"/>
                  <a:pt x="9054" y="11832"/>
                </a:cubicBezTo>
                <a:cubicBezTo>
                  <a:pt x="9114" y="11868"/>
                  <a:pt x="9145" y="11849"/>
                  <a:pt x="9153" y="11931"/>
                </a:cubicBezTo>
                <a:cubicBezTo>
                  <a:pt x="9162" y="12018"/>
                  <a:pt x="9118" y="12250"/>
                  <a:pt x="9153" y="12179"/>
                </a:cubicBezTo>
                <a:cubicBezTo>
                  <a:pt x="9161" y="12171"/>
                  <a:pt x="9170" y="12162"/>
                  <a:pt x="9178" y="12154"/>
                </a:cubicBezTo>
              </a:path>
              <a:path w="3300" h="993">
                <a:moveTo>
                  <a:pt x="9575" y="11658"/>
                </a:moveTo>
                <a:cubicBezTo>
                  <a:pt x="9481" y="11658"/>
                  <a:pt x="9516" y="11664"/>
                  <a:pt x="9475" y="11733"/>
                </a:cubicBezTo>
                <a:cubicBezTo>
                  <a:pt x="9441" y="11790"/>
                  <a:pt x="9421" y="11824"/>
                  <a:pt x="9401" y="11881"/>
                </a:cubicBezTo>
                <a:cubicBezTo>
                  <a:pt x="9382" y="11934"/>
                  <a:pt x="9353" y="12021"/>
                  <a:pt x="9376" y="12080"/>
                </a:cubicBezTo>
                <a:cubicBezTo>
                  <a:pt x="9397" y="12135"/>
                  <a:pt x="9452" y="12165"/>
                  <a:pt x="9500" y="12179"/>
                </a:cubicBezTo>
                <a:cubicBezTo>
                  <a:pt x="9559" y="12197"/>
                  <a:pt x="9654" y="12178"/>
                  <a:pt x="9699" y="12154"/>
                </a:cubicBezTo>
                <a:cubicBezTo>
                  <a:pt x="9778" y="12111"/>
                  <a:pt x="9816" y="12108"/>
                  <a:pt x="9823" y="12005"/>
                </a:cubicBezTo>
                <a:cubicBezTo>
                  <a:pt x="9827" y="11937"/>
                  <a:pt x="9810" y="11886"/>
                  <a:pt x="9798" y="11832"/>
                </a:cubicBezTo>
                <a:cubicBezTo>
                  <a:pt x="9777" y="11734"/>
                  <a:pt x="9752" y="11792"/>
                  <a:pt x="9699" y="11733"/>
                </a:cubicBezTo>
                <a:cubicBezTo>
                  <a:pt x="9640" y="11668"/>
                  <a:pt x="9607" y="11667"/>
                  <a:pt x="9525" y="11733"/>
                </a:cubicBezTo>
                <a:cubicBezTo>
                  <a:pt x="9497" y="11760"/>
                  <a:pt x="9483" y="11768"/>
                  <a:pt x="9451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9040" y="3911760"/>
            <a:ext cx="1135080" cy="320400"/>
          </a:xfrm>
          <a:custGeom>
            <a:avLst/>
            <a:gdLst/>
            <a:ahLst/>
            <a:rect l="l" t="t" r="r" b="b"/>
            <a:pathLst>
              <a:path w="3151" h="894">
                <a:moveTo>
                  <a:pt x="11088" y="11162"/>
                </a:moveTo>
                <a:cubicBezTo>
                  <a:pt x="11076" y="11223"/>
                  <a:pt x="11027" y="11253"/>
                  <a:pt x="11013" y="11311"/>
                </a:cubicBezTo>
                <a:cubicBezTo>
                  <a:pt x="11000" y="11364"/>
                  <a:pt x="10987" y="11405"/>
                  <a:pt x="10964" y="11460"/>
                </a:cubicBezTo>
                <a:cubicBezTo>
                  <a:pt x="10942" y="11512"/>
                  <a:pt x="10918" y="11543"/>
                  <a:pt x="10914" y="11609"/>
                </a:cubicBezTo>
                <a:cubicBezTo>
                  <a:pt x="10911" y="11670"/>
                  <a:pt x="10915" y="11677"/>
                  <a:pt x="10939" y="11733"/>
                </a:cubicBezTo>
                <a:cubicBezTo>
                  <a:pt x="10983" y="11715"/>
                  <a:pt x="11019" y="11677"/>
                  <a:pt x="11063" y="11658"/>
                </a:cubicBezTo>
                <a:cubicBezTo>
                  <a:pt x="11124" y="11631"/>
                  <a:pt x="11199" y="11588"/>
                  <a:pt x="11237" y="11534"/>
                </a:cubicBezTo>
                <a:cubicBezTo>
                  <a:pt x="11278" y="11476"/>
                  <a:pt x="11292" y="11382"/>
                  <a:pt x="11361" y="11336"/>
                </a:cubicBezTo>
                <a:cubicBezTo>
                  <a:pt x="11369" y="11336"/>
                  <a:pt x="11377" y="11336"/>
                  <a:pt x="11385" y="11336"/>
                </a:cubicBezTo>
                <a:cubicBezTo>
                  <a:pt x="11353" y="11380"/>
                  <a:pt x="11361" y="11403"/>
                  <a:pt x="11361" y="11460"/>
                </a:cubicBezTo>
                <a:cubicBezTo>
                  <a:pt x="11361" y="11493"/>
                  <a:pt x="11361" y="11526"/>
                  <a:pt x="11361" y="11559"/>
                </a:cubicBezTo>
                <a:cubicBezTo>
                  <a:pt x="11418" y="11567"/>
                  <a:pt x="11448" y="11584"/>
                  <a:pt x="11509" y="11584"/>
                </a:cubicBezTo>
                <a:cubicBezTo>
                  <a:pt x="11591" y="11584"/>
                  <a:pt x="11584" y="11540"/>
                  <a:pt x="11633" y="11485"/>
                </a:cubicBezTo>
                <a:cubicBezTo>
                  <a:pt x="11677" y="11436"/>
                  <a:pt x="11704" y="11396"/>
                  <a:pt x="11733" y="11336"/>
                </a:cubicBezTo>
                <a:cubicBezTo>
                  <a:pt x="11766" y="11268"/>
                  <a:pt x="11782" y="11263"/>
                  <a:pt x="11782" y="11187"/>
                </a:cubicBezTo>
                <a:cubicBezTo>
                  <a:pt x="11782" y="11123"/>
                  <a:pt x="11785" y="11097"/>
                  <a:pt x="11807" y="11038"/>
                </a:cubicBezTo>
              </a:path>
              <a:path w="3151" h="894">
                <a:moveTo>
                  <a:pt x="12154" y="11212"/>
                </a:moveTo>
                <a:cubicBezTo>
                  <a:pt x="12137" y="11269"/>
                  <a:pt x="12146" y="11333"/>
                  <a:pt x="12129" y="11385"/>
                </a:cubicBezTo>
                <a:cubicBezTo>
                  <a:pt x="12109" y="11446"/>
                  <a:pt x="12085" y="11472"/>
                  <a:pt x="12080" y="11534"/>
                </a:cubicBezTo>
                <a:cubicBezTo>
                  <a:pt x="12080" y="11562"/>
                  <a:pt x="12078" y="11573"/>
                  <a:pt x="12055" y="11584"/>
                </a:cubicBezTo>
                <a:cubicBezTo>
                  <a:pt x="12055" y="11521"/>
                  <a:pt x="12044" y="11464"/>
                  <a:pt x="12080" y="11410"/>
                </a:cubicBezTo>
                <a:cubicBezTo>
                  <a:pt x="12097" y="11384"/>
                  <a:pt x="12147" y="11291"/>
                  <a:pt x="12154" y="11286"/>
                </a:cubicBezTo>
                <a:cubicBezTo>
                  <a:pt x="12192" y="11259"/>
                  <a:pt x="12253" y="11225"/>
                  <a:pt x="12303" y="11212"/>
                </a:cubicBezTo>
                <a:cubicBezTo>
                  <a:pt x="12378" y="11193"/>
                  <a:pt x="12384" y="11252"/>
                  <a:pt x="12452" y="11212"/>
                </a:cubicBezTo>
                <a:cubicBezTo>
                  <a:pt x="12460" y="11204"/>
                  <a:pt x="12469" y="11195"/>
                  <a:pt x="12477" y="11187"/>
                </a:cubicBezTo>
              </a:path>
              <a:path w="3151" h="894">
                <a:moveTo>
                  <a:pt x="12750" y="11261"/>
                </a:moveTo>
                <a:cubicBezTo>
                  <a:pt x="12750" y="11347"/>
                  <a:pt x="12744" y="11359"/>
                  <a:pt x="12725" y="11435"/>
                </a:cubicBezTo>
                <a:cubicBezTo>
                  <a:pt x="12713" y="11483"/>
                  <a:pt x="12700" y="11547"/>
                  <a:pt x="12675" y="11584"/>
                </a:cubicBezTo>
                <a:cubicBezTo>
                  <a:pt x="12675" y="11559"/>
                  <a:pt x="12675" y="11551"/>
                  <a:pt x="12675" y="11534"/>
                </a:cubicBezTo>
              </a:path>
              <a:path w="3151" h="894">
                <a:moveTo>
                  <a:pt x="12874" y="10914"/>
                </a:moveTo>
                <a:cubicBezTo>
                  <a:pt x="12874" y="10872"/>
                  <a:pt x="12874" y="10847"/>
                  <a:pt x="12874" y="10889"/>
                </a:cubicBezTo>
              </a:path>
              <a:path w="3151" h="894">
                <a:moveTo>
                  <a:pt x="13320" y="10939"/>
                </a:moveTo>
                <a:cubicBezTo>
                  <a:pt x="13342" y="11004"/>
                  <a:pt x="13320" y="11043"/>
                  <a:pt x="13295" y="11112"/>
                </a:cubicBezTo>
                <a:cubicBezTo>
                  <a:pt x="13254" y="11226"/>
                  <a:pt x="13235" y="11345"/>
                  <a:pt x="13196" y="11460"/>
                </a:cubicBezTo>
                <a:cubicBezTo>
                  <a:pt x="13176" y="11520"/>
                  <a:pt x="13168" y="11605"/>
                  <a:pt x="13146" y="11658"/>
                </a:cubicBezTo>
                <a:cubicBezTo>
                  <a:pt x="13122" y="11717"/>
                  <a:pt x="13109" y="11727"/>
                  <a:pt x="13097" y="11658"/>
                </a:cubicBezTo>
              </a:path>
              <a:path w="3151" h="894">
                <a:moveTo>
                  <a:pt x="13022" y="11385"/>
                </a:moveTo>
                <a:cubicBezTo>
                  <a:pt x="13086" y="11385"/>
                  <a:pt x="13133" y="11385"/>
                  <a:pt x="13196" y="11361"/>
                </a:cubicBezTo>
                <a:cubicBezTo>
                  <a:pt x="13265" y="11335"/>
                  <a:pt x="13321" y="11336"/>
                  <a:pt x="13395" y="11336"/>
                </a:cubicBezTo>
                <a:cubicBezTo>
                  <a:pt x="13428" y="11336"/>
                  <a:pt x="13444" y="11336"/>
                  <a:pt x="13469" y="11336"/>
                </a:cubicBezTo>
              </a:path>
              <a:path w="3151" h="894">
                <a:moveTo>
                  <a:pt x="13742" y="11361"/>
                </a:moveTo>
                <a:cubicBezTo>
                  <a:pt x="13843" y="11361"/>
                  <a:pt x="13906" y="11384"/>
                  <a:pt x="13965" y="11311"/>
                </a:cubicBezTo>
                <a:cubicBezTo>
                  <a:pt x="13994" y="11275"/>
                  <a:pt x="14023" y="11252"/>
                  <a:pt x="14039" y="11212"/>
                </a:cubicBezTo>
                <a:cubicBezTo>
                  <a:pt x="13995" y="11193"/>
                  <a:pt x="13942" y="11172"/>
                  <a:pt x="13891" y="11187"/>
                </a:cubicBezTo>
                <a:cubicBezTo>
                  <a:pt x="13829" y="11205"/>
                  <a:pt x="13786" y="11267"/>
                  <a:pt x="13742" y="11311"/>
                </a:cubicBezTo>
                <a:cubicBezTo>
                  <a:pt x="13702" y="11351"/>
                  <a:pt x="13656" y="11409"/>
                  <a:pt x="13643" y="11460"/>
                </a:cubicBezTo>
                <a:cubicBezTo>
                  <a:pt x="13627" y="11524"/>
                  <a:pt x="13638" y="11607"/>
                  <a:pt x="13667" y="11658"/>
                </a:cubicBezTo>
                <a:cubicBezTo>
                  <a:pt x="13690" y="11699"/>
                  <a:pt x="13764" y="11744"/>
                  <a:pt x="13816" y="11757"/>
                </a:cubicBezTo>
                <a:cubicBezTo>
                  <a:pt x="13905" y="11780"/>
                  <a:pt x="13930" y="11700"/>
                  <a:pt x="13990" y="11683"/>
                </a:cubicBezTo>
                <a:cubicBezTo>
                  <a:pt x="14034" y="11683"/>
                  <a:pt x="14048" y="11686"/>
                  <a:pt x="14064" y="11658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6120" y="4330800"/>
            <a:ext cx="519120" cy="214200"/>
          </a:xfrm>
          <a:custGeom>
            <a:avLst/>
            <a:gdLst/>
            <a:ahLst/>
            <a:rect l="l" t="t" r="r" b="b"/>
            <a:pathLst>
              <a:path w="1440" h="597">
                <a:moveTo>
                  <a:pt x="10815" y="12105"/>
                </a:moveTo>
                <a:cubicBezTo>
                  <a:pt x="10797" y="12165"/>
                  <a:pt x="10807" y="12222"/>
                  <a:pt x="10790" y="12278"/>
                </a:cubicBezTo>
                <a:cubicBezTo>
                  <a:pt x="10770" y="12345"/>
                  <a:pt x="10688" y="12380"/>
                  <a:pt x="10666" y="12427"/>
                </a:cubicBezTo>
                <a:cubicBezTo>
                  <a:pt x="10646" y="12470"/>
                  <a:pt x="10636" y="12487"/>
                  <a:pt x="10616" y="12526"/>
                </a:cubicBezTo>
              </a:path>
              <a:path w="1440" h="597">
                <a:moveTo>
                  <a:pt x="10517" y="12303"/>
                </a:moveTo>
                <a:cubicBezTo>
                  <a:pt x="10573" y="12303"/>
                  <a:pt x="10596" y="12341"/>
                  <a:pt x="10641" y="12353"/>
                </a:cubicBezTo>
                <a:cubicBezTo>
                  <a:pt x="10710" y="12371"/>
                  <a:pt x="10800" y="12348"/>
                  <a:pt x="10864" y="12328"/>
                </a:cubicBezTo>
                <a:cubicBezTo>
                  <a:pt x="10933" y="12307"/>
                  <a:pt x="11005" y="12287"/>
                  <a:pt x="11063" y="12254"/>
                </a:cubicBezTo>
                <a:cubicBezTo>
                  <a:pt x="11119" y="12222"/>
                  <a:pt x="11159" y="12179"/>
                  <a:pt x="11212" y="12129"/>
                </a:cubicBezTo>
                <a:cubicBezTo>
                  <a:pt x="11266" y="12078"/>
                  <a:pt x="11261" y="12088"/>
                  <a:pt x="11261" y="12030"/>
                </a:cubicBezTo>
                <a:cubicBezTo>
                  <a:pt x="11215" y="12113"/>
                  <a:pt x="11186" y="12164"/>
                  <a:pt x="11162" y="12254"/>
                </a:cubicBezTo>
                <a:cubicBezTo>
                  <a:pt x="11135" y="12358"/>
                  <a:pt x="11085" y="12449"/>
                  <a:pt x="11063" y="12551"/>
                </a:cubicBezTo>
                <a:cubicBezTo>
                  <a:pt x="11063" y="12591"/>
                  <a:pt x="11052" y="12610"/>
                  <a:pt x="11013" y="12626"/>
                </a:cubicBezTo>
                <a:cubicBezTo>
                  <a:pt x="11013" y="12558"/>
                  <a:pt x="11022" y="12510"/>
                  <a:pt x="11063" y="12452"/>
                </a:cubicBezTo>
                <a:cubicBezTo>
                  <a:pt x="11083" y="12423"/>
                  <a:pt x="11123" y="12339"/>
                  <a:pt x="11162" y="12328"/>
                </a:cubicBezTo>
                <a:cubicBezTo>
                  <a:pt x="11207" y="12315"/>
                  <a:pt x="11255" y="12326"/>
                  <a:pt x="11286" y="12353"/>
                </a:cubicBezTo>
                <a:cubicBezTo>
                  <a:pt x="11318" y="12382"/>
                  <a:pt x="11358" y="12436"/>
                  <a:pt x="11361" y="12477"/>
                </a:cubicBezTo>
                <a:cubicBezTo>
                  <a:pt x="11365" y="12533"/>
                  <a:pt x="11337" y="12583"/>
                  <a:pt x="11385" y="12502"/>
                </a:cubicBezTo>
              </a:path>
              <a:path w="1440" h="597">
                <a:moveTo>
                  <a:pt x="11633" y="12303"/>
                </a:moveTo>
                <a:cubicBezTo>
                  <a:pt x="11701" y="12303"/>
                  <a:pt x="11779" y="12319"/>
                  <a:pt x="11832" y="12278"/>
                </a:cubicBezTo>
                <a:cubicBezTo>
                  <a:pt x="11867" y="12251"/>
                  <a:pt x="11890" y="12237"/>
                  <a:pt x="11906" y="12204"/>
                </a:cubicBezTo>
                <a:cubicBezTo>
                  <a:pt x="11884" y="12170"/>
                  <a:pt x="11858" y="12179"/>
                  <a:pt x="11807" y="12179"/>
                </a:cubicBezTo>
                <a:cubicBezTo>
                  <a:pt x="11749" y="12179"/>
                  <a:pt x="11706" y="12219"/>
                  <a:pt x="11658" y="12254"/>
                </a:cubicBezTo>
                <a:cubicBezTo>
                  <a:pt x="11630" y="12275"/>
                  <a:pt x="11611" y="12345"/>
                  <a:pt x="11609" y="12378"/>
                </a:cubicBezTo>
                <a:cubicBezTo>
                  <a:pt x="11606" y="12427"/>
                  <a:pt x="11615" y="12493"/>
                  <a:pt x="11658" y="12526"/>
                </a:cubicBezTo>
                <a:cubicBezTo>
                  <a:pt x="11681" y="12544"/>
                  <a:pt x="11781" y="12598"/>
                  <a:pt x="11807" y="12601"/>
                </a:cubicBezTo>
                <a:cubicBezTo>
                  <a:pt x="11891" y="12612"/>
                  <a:pt x="11881" y="12581"/>
                  <a:pt x="11931" y="12526"/>
                </a:cubicBezTo>
                <a:cubicBezTo>
                  <a:pt x="11939" y="12518"/>
                  <a:pt x="11948" y="12510"/>
                  <a:pt x="11956" y="1250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10080" y="4357800"/>
            <a:ext cx="857160" cy="152280"/>
          </a:xfrm>
          <a:custGeom>
            <a:avLst/>
            <a:gdLst/>
            <a:ahLst/>
            <a:rect l="l" t="t" r="r" b="b"/>
            <a:pathLst>
              <a:path w="2383" h="422">
                <a:moveTo>
                  <a:pt x="12675" y="12105"/>
                </a:moveTo>
                <a:cubicBezTo>
                  <a:pt x="12654" y="12153"/>
                  <a:pt x="12647" y="12213"/>
                  <a:pt x="12626" y="12254"/>
                </a:cubicBezTo>
                <a:cubicBezTo>
                  <a:pt x="12598" y="12310"/>
                  <a:pt x="12572" y="12340"/>
                  <a:pt x="12551" y="12402"/>
                </a:cubicBezTo>
                <a:cubicBezTo>
                  <a:pt x="12507" y="12533"/>
                  <a:pt x="12581" y="12355"/>
                  <a:pt x="12601" y="12328"/>
                </a:cubicBezTo>
                <a:cubicBezTo>
                  <a:pt x="12644" y="12271"/>
                  <a:pt x="12700" y="12246"/>
                  <a:pt x="12750" y="12204"/>
                </a:cubicBezTo>
                <a:cubicBezTo>
                  <a:pt x="12818" y="12148"/>
                  <a:pt x="12863" y="12124"/>
                  <a:pt x="12948" y="12105"/>
                </a:cubicBezTo>
                <a:cubicBezTo>
                  <a:pt x="13018" y="12090"/>
                  <a:pt x="13085" y="12124"/>
                  <a:pt x="13072" y="12204"/>
                </a:cubicBezTo>
                <a:cubicBezTo>
                  <a:pt x="13070" y="12216"/>
                  <a:pt x="13001" y="12350"/>
                  <a:pt x="12998" y="12353"/>
                </a:cubicBezTo>
                <a:cubicBezTo>
                  <a:pt x="12968" y="12380"/>
                  <a:pt x="12904" y="12492"/>
                  <a:pt x="12948" y="12427"/>
                </a:cubicBezTo>
                <a:cubicBezTo>
                  <a:pt x="12956" y="12411"/>
                  <a:pt x="12965" y="12394"/>
                  <a:pt x="12973" y="12378"/>
                </a:cubicBezTo>
              </a:path>
              <a:path w="2383" h="422">
                <a:moveTo>
                  <a:pt x="13469" y="12154"/>
                </a:moveTo>
                <a:cubicBezTo>
                  <a:pt x="13412" y="12132"/>
                  <a:pt x="13323" y="12131"/>
                  <a:pt x="13295" y="12179"/>
                </a:cubicBezTo>
                <a:cubicBezTo>
                  <a:pt x="13281" y="12204"/>
                  <a:pt x="13249" y="12296"/>
                  <a:pt x="13246" y="12328"/>
                </a:cubicBezTo>
                <a:cubicBezTo>
                  <a:pt x="13241" y="12382"/>
                  <a:pt x="13246" y="12428"/>
                  <a:pt x="13271" y="12452"/>
                </a:cubicBezTo>
                <a:cubicBezTo>
                  <a:pt x="13336" y="12436"/>
                  <a:pt x="13391" y="12403"/>
                  <a:pt x="13444" y="12353"/>
                </a:cubicBezTo>
                <a:cubicBezTo>
                  <a:pt x="13502" y="12299"/>
                  <a:pt x="13489" y="12259"/>
                  <a:pt x="13543" y="12204"/>
                </a:cubicBezTo>
                <a:cubicBezTo>
                  <a:pt x="13551" y="12196"/>
                  <a:pt x="13560" y="12187"/>
                  <a:pt x="13568" y="12179"/>
                </a:cubicBezTo>
                <a:cubicBezTo>
                  <a:pt x="13556" y="12239"/>
                  <a:pt x="13524" y="12268"/>
                  <a:pt x="13519" y="12328"/>
                </a:cubicBezTo>
                <a:cubicBezTo>
                  <a:pt x="13518" y="12344"/>
                  <a:pt x="13508" y="12462"/>
                  <a:pt x="13543" y="12427"/>
                </a:cubicBezTo>
                <a:cubicBezTo>
                  <a:pt x="13551" y="12411"/>
                  <a:pt x="13560" y="12394"/>
                  <a:pt x="13568" y="12378"/>
                </a:cubicBezTo>
              </a:path>
              <a:path w="2383" h="422">
                <a:moveTo>
                  <a:pt x="13816" y="12154"/>
                </a:moveTo>
                <a:cubicBezTo>
                  <a:pt x="13851" y="12212"/>
                  <a:pt x="13847" y="12245"/>
                  <a:pt x="13816" y="12303"/>
                </a:cubicBezTo>
                <a:cubicBezTo>
                  <a:pt x="13793" y="12345"/>
                  <a:pt x="13776" y="12382"/>
                  <a:pt x="13767" y="12427"/>
                </a:cubicBezTo>
                <a:cubicBezTo>
                  <a:pt x="13774" y="12371"/>
                  <a:pt x="13794" y="12270"/>
                  <a:pt x="13841" y="12229"/>
                </a:cubicBezTo>
                <a:cubicBezTo>
                  <a:pt x="13874" y="12200"/>
                  <a:pt x="13939" y="12164"/>
                  <a:pt x="13990" y="12154"/>
                </a:cubicBezTo>
                <a:cubicBezTo>
                  <a:pt x="14023" y="12221"/>
                  <a:pt x="14039" y="12255"/>
                  <a:pt x="14039" y="12328"/>
                </a:cubicBezTo>
                <a:cubicBezTo>
                  <a:pt x="14039" y="12361"/>
                  <a:pt x="14039" y="12377"/>
                  <a:pt x="14039" y="12402"/>
                </a:cubicBezTo>
                <a:cubicBezTo>
                  <a:pt x="14039" y="12349"/>
                  <a:pt x="14055" y="12249"/>
                  <a:pt x="14089" y="12229"/>
                </a:cubicBezTo>
                <a:cubicBezTo>
                  <a:pt x="14153" y="12192"/>
                  <a:pt x="14174" y="12160"/>
                  <a:pt x="14263" y="12154"/>
                </a:cubicBezTo>
                <a:cubicBezTo>
                  <a:pt x="14288" y="12154"/>
                  <a:pt x="14296" y="12154"/>
                  <a:pt x="14312" y="12154"/>
                </a:cubicBezTo>
                <a:cubicBezTo>
                  <a:pt x="14312" y="12236"/>
                  <a:pt x="14303" y="12261"/>
                  <a:pt x="14263" y="12328"/>
                </a:cubicBezTo>
                <a:cubicBezTo>
                  <a:pt x="14243" y="12368"/>
                  <a:pt x="14234" y="12375"/>
                  <a:pt x="14238" y="12402"/>
                </a:cubicBezTo>
              </a:path>
              <a:path w="2383" h="422">
                <a:moveTo>
                  <a:pt x="14486" y="12303"/>
                </a:moveTo>
                <a:cubicBezTo>
                  <a:pt x="14558" y="12339"/>
                  <a:pt x="14578" y="12334"/>
                  <a:pt x="14635" y="12278"/>
                </a:cubicBezTo>
                <a:cubicBezTo>
                  <a:pt x="14666" y="12248"/>
                  <a:pt x="14683" y="12212"/>
                  <a:pt x="14709" y="12179"/>
                </a:cubicBezTo>
                <a:cubicBezTo>
                  <a:pt x="14684" y="12175"/>
                  <a:pt x="14588" y="12131"/>
                  <a:pt x="14560" y="12154"/>
                </a:cubicBezTo>
                <a:cubicBezTo>
                  <a:pt x="14528" y="12181"/>
                  <a:pt x="14450" y="12226"/>
                  <a:pt x="14436" y="12278"/>
                </a:cubicBezTo>
                <a:cubicBezTo>
                  <a:pt x="14417" y="12350"/>
                  <a:pt x="14430" y="12476"/>
                  <a:pt x="14486" y="12526"/>
                </a:cubicBezTo>
                <a:cubicBezTo>
                  <a:pt x="14515" y="12552"/>
                  <a:pt x="14590" y="12508"/>
                  <a:pt x="14610" y="12502"/>
                </a:cubicBezTo>
                <a:cubicBezTo>
                  <a:pt x="14618" y="12502"/>
                  <a:pt x="14627" y="12502"/>
                  <a:pt x="14635" y="12502"/>
                </a:cubicBezTo>
              </a:path>
              <a:path w="2383" h="422">
                <a:moveTo>
                  <a:pt x="14858" y="12154"/>
                </a:moveTo>
                <a:cubicBezTo>
                  <a:pt x="14891" y="12154"/>
                  <a:pt x="14899" y="12146"/>
                  <a:pt x="14883" y="12105"/>
                </a:cubicBezTo>
                <a:cubicBezTo>
                  <a:pt x="14883" y="12153"/>
                  <a:pt x="14863" y="12177"/>
                  <a:pt x="14908" y="12105"/>
                </a:cubicBezTo>
              </a:path>
              <a:path w="2383" h="422">
                <a:moveTo>
                  <a:pt x="14808" y="12502"/>
                </a:moveTo>
                <a:cubicBezTo>
                  <a:pt x="14840" y="12478"/>
                  <a:pt x="14851" y="12476"/>
                  <a:pt x="14883" y="1245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38960" y="3330720"/>
            <a:ext cx="660240" cy="581040"/>
          </a:xfrm>
          <a:custGeom>
            <a:avLst/>
            <a:gdLst/>
            <a:ahLst/>
            <a:rect l="l" t="t" r="r" b="b"/>
            <a:pathLst>
              <a:path w="1837" h="1613">
                <a:moveTo>
                  <a:pt x="18281" y="9376"/>
                </a:moveTo>
                <a:cubicBezTo>
                  <a:pt x="18247" y="9342"/>
                  <a:pt x="18181" y="9297"/>
                  <a:pt x="18132" y="9302"/>
                </a:cubicBezTo>
                <a:cubicBezTo>
                  <a:pt x="18076" y="9308"/>
                  <a:pt x="17988" y="9380"/>
                  <a:pt x="17959" y="9426"/>
                </a:cubicBezTo>
                <a:cubicBezTo>
                  <a:pt x="17895" y="9527"/>
                  <a:pt x="17884" y="9585"/>
                  <a:pt x="17884" y="9699"/>
                </a:cubicBezTo>
                <a:cubicBezTo>
                  <a:pt x="17884" y="9800"/>
                  <a:pt x="17870" y="9807"/>
                  <a:pt x="17934" y="9847"/>
                </a:cubicBezTo>
                <a:cubicBezTo>
                  <a:pt x="17977" y="9874"/>
                  <a:pt x="18051" y="9886"/>
                  <a:pt x="18107" y="9872"/>
                </a:cubicBezTo>
                <a:cubicBezTo>
                  <a:pt x="18165" y="9857"/>
                  <a:pt x="18246" y="9771"/>
                  <a:pt x="18281" y="9723"/>
                </a:cubicBezTo>
                <a:cubicBezTo>
                  <a:pt x="18330" y="9654"/>
                  <a:pt x="18293" y="9619"/>
                  <a:pt x="18281" y="9550"/>
                </a:cubicBezTo>
                <a:cubicBezTo>
                  <a:pt x="18271" y="9489"/>
                  <a:pt x="18235" y="9427"/>
                  <a:pt x="18207" y="9376"/>
                </a:cubicBezTo>
                <a:cubicBezTo>
                  <a:pt x="18173" y="9313"/>
                  <a:pt x="18190" y="9379"/>
                  <a:pt x="18207" y="9401"/>
                </a:cubicBezTo>
              </a:path>
              <a:path w="1837" h="1613">
                <a:moveTo>
                  <a:pt x="18529" y="9376"/>
                </a:moveTo>
                <a:cubicBezTo>
                  <a:pt x="18607" y="9402"/>
                  <a:pt x="18661" y="9434"/>
                  <a:pt x="18728" y="9475"/>
                </a:cubicBezTo>
                <a:cubicBezTo>
                  <a:pt x="18809" y="9524"/>
                  <a:pt x="18813" y="9535"/>
                  <a:pt x="18852" y="9624"/>
                </a:cubicBezTo>
                <a:cubicBezTo>
                  <a:pt x="18874" y="9673"/>
                  <a:pt x="18914" y="9796"/>
                  <a:pt x="18951" y="9823"/>
                </a:cubicBezTo>
                <a:cubicBezTo>
                  <a:pt x="19049" y="9896"/>
                  <a:pt x="19037" y="9787"/>
                  <a:pt x="19025" y="9723"/>
                </a:cubicBezTo>
              </a:path>
              <a:path w="1837" h="1613">
                <a:moveTo>
                  <a:pt x="18976" y="9327"/>
                </a:moveTo>
                <a:cubicBezTo>
                  <a:pt x="18952" y="9366"/>
                  <a:pt x="18944" y="9409"/>
                  <a:pt x="18926" y="9451"/>
                </a:cubicBezTo>
                <a:cubicBezTo>
                  <a:pt x="18878" y="9564"/>
                  <a:pt x="18828" y="9635"/>
                  <a:pt x="18777" y="9723"/>
                </a:cubicBezTo>
                <a:cubicBezTo>
                  <a:pt x="18738" y="9789"/>
                  <a:pt x="18691" y="9857"/>
                  <a:pt x="18653" y="9922"/>
                </a:cubicBezTo>
                <a:cubicBezTo>
                  <a:pt x="18653" y="9947"/>
                  <a:pt x="18653" y="9955"/>
                  <a:pt x="18678" y="9947"/>
                </a:cubicBezTo>
              </a:path>
              <a:path w="1837" h="1613">
                <a:moveTo>
                  <a:pt x="19348" y="9376"/>
                </a:moveTo>
                <a:cubicBezTo>
                  <a:pt x="19328" y="9409"/>
                  <a:pt x="19305" y="9458"/>
                  <a:pt x="19298" y="9500"/>
                </a:cubicBezTo>
                <a:cubicBezTo>
                  <a:pt x="19279" y="9615"/>
                  <a:pt x="19318" y="9698"/>
                  <a:pt x="19348" y="9773"/>
                </a:cubicBezTo>
                <a:cubicBezTo>
                  <a:pt x="19361" y="9806"/>
                  <a:pt x="19392" y="9856"/>
                  <a:pt x="19447" y="9872"/>
                </a:cubicBezTo>
                <a:cubicBezTo>
                  <a:pt x="19543" y="9899"/>
                  <a:pt x="19570" y="9734"/>
                  <a:pt x="19596" y="9674"/>
                </a:cubicBezTo>
                <a:cubicBezTo>
                  <a:pt x="19642" y="9568"/>
                  <a:pt x="19621" y="9443"/>
                  <a:pt x="19621" y="9327"/>
                </a:cubicBezTo>
                <a:cubicBezTo>
                  <a:pt x="19621" y="9310"/>
                  <a:pt x="19621" y="9294"/>
                  <a:pt x="19621" y="9277"/>
                </a:cubicBezTo>
                <a:cubicBezTo>
                  <a:pt x="19621" y="9335"/>
                  <a:pt x="19612" y="9344"/>
                  <a:pt x="19621" y="9401"/>
                </a:cubicBezTo>
                <a:cubicBezTo>
                  <a:pt x="19647" y="9566"/>
                  <a:pt x="19706" y="9730"/>
                  <a:pt x="19720" y="9897"/>
                </a:cubicBezTo>
                <a:cubicBezTo>
                  <a:pt x="19734" y="10064"/>
                  <a:pt x="19731" y="10254"/>
                  <a:pt x="19695" y="10418"/>
                </a:cubicBezTo>
                <a:cubicBezTo>
                  <a:pt x="19676" y="10507"/>
                  <a:pt x="19613" y="10680"/>
                  <a:pt x="19546" y="10740"/>
                </a:cubicBezTo>
                <a:cubicBezTo>
                  <a:pt x="19473" y="10805"/>
                  <a:pt x="19345" y="10859"/>
                  <a:pt x="19248" y="10864"/>
                </a:cubicBezTo>
                <a:cubicBezTo>
                  <a:pt x="19201" y="10866"/>
                  <a:pt x="19129" y="10853"/>
                  <a:pt x="19100" y="10815"/>
                </a:cubicBezTo>
                <a:cubicBezTo>
                  <a:pt x="19060" y="10763"/>
                  <a:pt x="19040" y="10724"/>
                  <a:pt x="19025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30800" y="4714920"/>
            <a:ext cx="581040" cy="482400"/>
          </a:xfrm>
          <a:custGeom>
            <a:avLst/>
            <a:gdLst/>
            <a:ahLst/>
            <a:rect l="l" t="t" r="r" b="b"/>
            <a:pathLst>
              <a:path w="1614" h="1340">
                <a:moveTo>
                  <a:pt x="12427" y="13295"/>
                </a:moveTo>
                <a:cubicBezTo>
                  <a:pt x="12387" y="13225"/>
                  <a:pt x="12381" y="13194"/>
                  <a:pt x="12328" y="13146"/>
                </a:cubicBezTo>
                <a:cubicBezTo>
                  <a:pt x="12256" y="13082"/>
                  <a:pt x="12286" y="13093"/>
                  <a:pt x="12204" y="13146"/>
                </a:cubicBezTo>
                <a:cubicBezTo>
                  <a:pt x="12156" y="13177"/>
                  <a:pt x="12077" y="13265"/>
                  <a:pt x="12055" y="13320"/>
                </a:cubicBezTo>
                <a:cubicBezTo>
                  <a:pt x="12038" y="13364"/>
                  <a:pt x="12038" y="13472"/>
                  <a:pt x="12030" y="13519"/>
                </a:cubicBezTo>
                <a:cubicBezTo>
                  <a:pt x="12018" y="13591"/>
                  <a:pt x="12026" y="13678"/>
                  <a:pt x="12055" y="13742"/>
                </a:cubicBezTo>
                <a:cubicBezTo>
                  <a:pt x="12087" y="13814"/>
                  <a:pt x="12154" y="13855"/>
                  <a:pt x="12204" y="13891"/>
                </a:cubicBezTo>
                <a:cubicBezTo>
                  <a:pt x="12253" y="13926"/>
                  <a:pt x="12304" y="13923"/>
                  <a:pt x="12353" y="13891"/>
                </a:cubicBezTo>
                <a:cubicBezTo>
                  <a:pt x="12392" y="13865"/>
                  <a:pt x="12481" y="13849"/>
                  <a:pt x="12502" y="13816"/>
                </a:cubicBezTo>
                <a:cubicBezTo>
                  <a:pt x="12502" y="13808"/>
                  <a:pt x="12502" y="13799"/>
                  <a:pt x="12502" y="13791"/>
                </a:cubicBezTo>
              </a:path>
              <a:path w="1614" h="1340">
                <a:moveTo>
                  <a:pt x="12824" y="13221"/>
                </a:moveTo>
                <a:cubicBezTo>
                  <a:pt x="12824" y="13438"/>
                  <a:pt x="12884" y="14066"/>
                  <a:pt x="12799" y="13866"/>
                </a:cubicBezTo>
                <a:cubicBezTo>
                  <a:pt x="12799" y="13808"/>
                  <a:pt x="12799" y="13800"/>
                  <a:pt x="12799" y="13767"/>
                </a:cubicBezTo>
              </a:path>
              <a:path w="1614" h="1340">
                <a:moveTo>
                  <a:pt x="13146" y="13146"/>
                </a:moveTo>
                <a:cubicBezTo>
                  <a:pt x="13146" y="13411"/>
                  <a:pt x="13146" y="14106"/>
                  <a:pt x="13146" y="13841"/>
                </a:cubicBezTo>
              </a:path>
              <a:path w="1614" h="1340">
                <a:moveTo>
                  <a:pt x="12874" y="13618"/>
                </a:moveTo>
                <a:cubicBezTo>
                  <a:pt x="12941" y="13618"/>
                  <a:pt x="12993" y="13624"/>
                  <a:pt x="13047" y="13593"/>
                </a:cubicBezTo>
                <a:cubicBezTo>
                  <a:pt x="13095" y="13569"/>
                  <a:pt x="13109" y="13561"/>
                  <a:pt x="13146" y="13568"/>
                </a:cubicBezTo>
              </a:path>
              <a:path w="1614" h="1340">
                <a:moveTo>
                  <a:pt x="13370" y="13940"/>
                </a:moveTo>
                <a:cubicBezTo>
                  <a:pt x="13414" y="13906"/>
                  <a:pt x="13441" y="13904"/>
                  <a:pt x="13494" y="13940"/>
                </a:cubicBezTo>
                <a:cubicBezTo>
                  <a:pt x="13523" y="13959"/>
                  <a:pt x="13613" y="14010"/>
                  <a:pt x="13568" y="14064"/>
                </a:cubicBezTo>
                <a:cubicBezTo>
                  <a:pt x="13512" y="14132"/>
                  <a:pt x="13508" y="14067"/>
                  <a:pt x="13494" y="14163"/>
                </a:cubicBezTo>
                <a:cubicBezTo>
                  <a:pt x="13535" y="14163"/>
                  <a:pt x="13621" y="14175"/>
                  <a:pt x="13643" y="14213"/>
                </a:cubicBezTo>
                <a:cubicBezTo>
                  <a:pt x="13671" y="14262"/>
                  <a:pt x="13621" y="14361"/>
                  <a:pt x="13593" y="14387"/>
                </a:cubicBezTo>
                <a:cubicBezTo>
                  <a:pt x="13546" y="14431"/>
                  <a:pt x="13479" y="14436"/>
                  <a:pt x="13419" y="14436"/>
                </a:cubicBezTo>
                <a:cubicBezTo>
                  <a:pt x="13343" y="14436"/>
                  <a:pt x="13325" y="14400"/>
                  <a:pt x="13320" y="14337"/>
                </a:cubicBezTo>
                <a:cubicBezTo>
                  <a:pt x="13320" y="14329"/>
                  <a:pt x="13320" y="14320"/>
                  <a:pt x="1332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1760" y="4884840"/>
            <a:ext cx="16956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14114" y="13593"/>
                </a:moveTo>
                <a:cubicBezTo>
                  <a:pt x="14190" y="13593"/>
                  <a:pt x="14243" y="13580"/>
                  <a:pt x="14312" y="13568"/>
                </a:cubicBezTo>
                <a:cubicBezTo>
                  <a:pt x="14396" y="13553"/>
                  <a:pt x="14499" y="13568"/>
                  <a:pt x="14585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46800" y="4170240"/>
            <a:ext cx="617400" cy="830520"/>
          </a:xfrm>
          <a:custGeom>
            <a:avLst/>
            <a:gdLst/>
            <a:ahLst/>
            <a:rect l="l" t="t" r="r" b="b"/>
            <a:pathLst>
              <a:path w="1712" h="2308">
                <a:moveTo>
                  <a:pt x="15429" y="13320"/>
                </a:moveTo>
                <a:cubicBezTo>
                  <a:pt x="15429" y="13250"/>
                  <a:pt x="15433" y="13229"/>
                  <a:pt x="15354" y="13221"/>
                </a:cubicBezTo>
                <a:cubicBezTo>
                  <a:pt x="15275" y="13213"/>
                  <a:pt x="15244" y="13296"/>
                  <a:pt x="15205" y="13345"/>
                </a:cubicBezTo>
                <a:cubicBezTo>
                  <a:pt x="15181" y="13375"/>
                  <a:pt x="15163" y="13452"/>
                  <a:pt x="15156" y="13494"/>
                </a:cubicBezTo>
                <a:cubicBezTo>
                  <a:pt x="15144" y="13562"/>
                  <a:pt x="15139" y="13711"/>
                  <a:pt x="15180" y="13767"/>
                </a:cubicBezTo>
                <a:cubicBezTo>
                  <a:pt x="15205" y="13802"/>
                  <a:pt x="15291" y="13881"/>
                  <a:pt x="15329" y="13891"/>
                </a:cubicBezTo>
                <a:cubicBezTo>
                  <a:pt x="15381" y="13904"/>
                  <a:pt x="15433" y="13887"/>
                  <a:pt x="15478" y="13866"/>
                </a:cubicBezTo>
                <a:cubicBezTo>
                  <a:pt x="15522" y="13844"/>
                  <a:pt x="15534" y="13841"/>
                  <a:pt x="15553" y="13816"/>
                </a:cubicBezTo>
              </a:path>
              <a:path w="1712" h="2308">
                <a:moveTo>
                  <a:pt x="15453" y="12526"/>
                </a:moveTo>
                <a:cubicBezTo>
                  <a:pt x="15445" y="12570"/>
                  <a:pt x="15429" y="12604"/>
                  <a:pt x="15429" y="12650"/>
                </a:cubicBezTo>
                <a:cubicBezTo>
                  <a:pt x="15429" y="12708"/>
                  <a:pt x="15403" y="12745"/>
                  <a:pt x="15379" y="12799"/>
                </a:cubicBezTo>
                <a:cubicBezTo>
                  <a:pt x="15379" y="12774"/>
                  <a:pt x="15379" y="12766"/>
                  <a:pt x="15379" y="12750"/>
                </a:cubicBezTo>
              </a:path>
              <a:path w="1712" h="2308">
                <a:moveTo>
                  <a:pt x="15230" y="11708"/>
                </a:moveTo>
                <a:cubicBezTo>
                  <a:pt x="15230" y="11798"/>
                  <a:pt x="15218" y="11869"/>
                  <a:pt x="15205" y="11956"/>
                </a:cubicBezTo>
                <a:cubicBezTo>
                  <a:pt x="15195" y="12026"/>
                  <a:pt x="15186" y="12090"/>
                  <a:pt x="15156" y="12154"/>
                </a:cubicBezTo>
                <a:cubicBezTo>
                  <a:pt x="15111" y="12250"/>
                  <a:pt x="15131" y="12174"/>
                  <a:pt x="15131" y="12129"/>
                </a:cubicBezTo>
              </a:path>
              <a:path w="1712" h="2308">
                <a:moveTo>
                  <a:pt x="15255" y="11733"/>
                </a:moveTo>
                <a:cubicBezTo>
                  <a:pt x="15292" y="11798"/>
                  <a:pt x="15340" y="11910"/>
                  <a:pt x="15404" y="11956"/>
                </a:cubicBezTo>
                <a:cubicBezTo>
                  <a:pt x="15474" y="12006"/>
                  <a:pt x="15474" y="12040"/>
                  <a:pt x="15528" y="12105"/>
                </a:cubicBezTo>
                <a:cubicBezTo>
                  <a:pt x="15561" y="12145"/>
                  <a:pt x="15586" y="12181"/>
                  <a:pt x="15602" y="12229"/>
                </a:cubicBezTo>
                <a:cubicBezTo>
                  <a:pt x="15602" y="12117"/>
                  <a:pt x="15594" y="12013"/>
                  <a:pt x="15627" y="11906"/>
                </a:cubicBezTo>
                <a:cubicBezTo>
                  <a:pt x="15653" y="11823"/>
                  <a:pt x="15667" y="11734"/>
                  <a:pt x="15701" y="11658"/>
                </a:cubicBezTo>
                <a:cubicBezTo>
                  <a:pt x="15729" y="11595"/>
                  <a:pt x="15710" y="11582"/>
                  <a:pt x="15751" y="11609"/>
                </a:cubicBezTo>
              </a:path>
              <a:path w="1712" h="2308">
                <a:moveTo>
                  <a:pt x="16049" y="11633"/>
                </a:moveTo>
                <a:cubicBezTo>
                  <a:pt x="16032" y="11705"/>
                  <a:pt x="16011" y="11787"/>
                  <a:pt x="15999" y="11857"/>
                </a:cubicBezTo>
                <a:cubicBezTo>
                  <a:pt x="15988" y="11922"/>
                  <a:pt x="15984" y="11992"/>
                  <a:pt x="15974" y="12055"/>
                </a:cubicBezTo>
                <a:cubicBezTo>
                  <a:pt x="15965" y="12107"/>
                  <a:pt x="15928" y="12164"/>
                  <a:pt x="15974" y="12179"/>
                </a:cubicBezTo>
              </a:path>
              <a:path w="1712" h="2308">
                <a:moveTo>
                  <a:pt x="16297" y="11584"/>
                </a:moveTo>
                <a:cubicBezTo>
                  <a:pt x="16297" y="11656"/>
                  <a:pt x="16277" y="11710"/>
                  <a:pt x="16272" y="11782"/>
                </a:cubicBezTo>
                <a:cubicBezTo>
                  <a:pt x="16263" y="11920"/>
                  <a:pt x="16280" y="12049"/>
                  <a:pt x="16247" y="12179"/>
                </a:cubicBezTo>
                <a:cubicBezTo>
                  <a:pt x="16232" y="12237"/>
                  <a:pt x="16228" y="12192"/>
                  <a:pt x="16222" y="12154"/>
                </a:cubicBezTo>
              </a:path>
              <a:path w="1712" h="2308">
                <a:moveTo>
                  <a:pt x="16049" y="11931"/>
                </a:moveTo>
                <a:cubicBezTo>
                  <a:pt x="16118" y="11917"/>
                  <a:pt x="16178" y="11874"/>
                  <a:pt x="16247" y="11857"/>
                </a:cubicBezTo>
                <a:cubicBezTo>
                  <a:pt x="16255" y="11857"/>
                  <a:pt x="16264" y="11857"/>
                  <a:pt x="16272" y="11857"/>
                </a:cubicBezTo>
              </a:path>
              <a:path w="1712" h="2308">
                <a:moveTo>
                  <a:pt x="16495" y="12005"/>
                </a:moveTo>
                <a:cubicBezTo>
                  <a:pt x="16587" y="12005"/>
                  <a:pt x="16583" y="12007"/>
                  <a:pt x="16644" y="12055"/>
                </a:cubicBezTo>
                <a:cubicBezTo>
                  <a:pt x="16708" y="12105"/>
                  <a:pt x="16724" y="12149"/>
                  <a:pt x="16644" y="12229"/>
                </a:cubicBezTo>
                <a:cubicBezTo>
                  <a:pt x="16609" y="12264"/>
                  <a:pt x="16525" y="12278"/>
                  <a:pt x="16545" y="12353"/>
                </a:cubicBezTo>
                <a:cubicBezTo>
                  <a:pt x="16565" y="12427"/>
                  <a:pt x="16633" y="12402"/>
                  <a:pt x="16694" y="12402"/>
                </a:cubicBezTo>
                <a:cubicBezTo>
                  <a:pt x="16743" y="12402"/>
                  <a:pt x="16793" y="12402"/>
                  <a:pt x="16842" y="12402"/>
                </a:cubicBezTo>
              </a:path>
              <a:path w="1712" h="2308">
                <a:moveTo>
                  <a:pt x="16148" y="13618"/>
                </a:moveTo>
                <a:cubicBezTo>
                  <a:pt x="16195" y="13583"/>
                  <a:pt x="16235" y="13593"/>
                  <a:pt x="16297" y="13593"/>
                </a:cubicBezTo>
                <a:cubicBezTo>
                  <a:pt x="16433" y="13593"/>
                  <a:pt x="16573" y="13593"/>
                  <a:pt x="16694" y="13568"/>
                </a:cubicBezTo>
                <a:cubicBezTo>
                  <a:pt x="16747" y="13557"/>
                  <a:pt x="16825" y="13604"/>
                  <a:pt x="16718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0880" y="5143680"/>
            <a:ext cx="465120" cy="473040"/>
          </a:xfrm>
          <a:custGeom>
            <a:avLst/>
            <a:gdLst/>
            <a:ahLst/>
            <a:rect l="l" t="t" r="r" b="b"/>
            <a:pathLst>
              <a:path w="1291" h="1315">
                <a:moveTo>
                  <a:pt x="15379" y="14288"/>
                </a:moveTo>
                <a:cubicBezTo>
                  <a:pt x="15368" y="14341"/>
                  <a:pt x="15354" y="14379"/>
                  <a:pt x="15354" y="14436"/>
                </a:cubicBezTo>
                <a:cubicBezTo>
                  <a:pt x="15354" y="14503"/>
                  <a:pt x="15353" y="14555"/>
                  <a:pt x="15329" y="14610"/>
                </a:cubicBezTo>
                <a:cubicBezTo>
                  <a:pt x="15304" y="14660"/>
                  <a:pt x="15296" y="14676"/>
                  <a:pt x="15280" y="14709"/>
                </a:cubicBezTo>
              </a:path>
              <a:path w="1291" h="1315">
                <a:moveTo>
                  <a:pt x="14982" y="15007"/>
                </a:moveTo>
                <a:cubicBezTo>
                  <a:pt x="14972" y="15059"/>
                  <a:pt x="14955" y="15107"/>
                  <a:pt x="14932" y="15156"/>
                </a:cubicBezTo>
                <a:cubicBezTo>
                  <a:pt x="14898" y="15229"/>
                  <a:pt x="14852" y="15300"/>
                  <a:pt x="14833" y="15379"/>
                </a:cubicBezTo>
                <a:cubicBezTo>
                  <a:pt x="14817" y="15446"/>
                  <a:pt x="14850" y="15497"/>
                  <a:pt x="14808" y="15553"/>
                </a:cubicBezTo>
                <a:cubicBezTo>
                  <a:pt x="14808" y="15508"/>
                  <a:pt x="14805" y="15495"/>
                  <a:pt x="14833" y="15478"/>
                </a:cubicBezTo>
              </a:path>
              <a:path w="1291" h="1315">
                <a:moveTo>
                  <a:pt x="14982" y="15106"/>
                </a:moveTo>
                <a:cubicBezTo>
                  <a:pt x="15029" y="15153"/>
                  <a:pt x="15082" y="15186"/>
                  <a:pt x="15131" y="15230"/>
                </a:cubicBezTo>
                <a:cubicBezTo>
                  <a:pt x="15200" y="15292"/>
                  <a:pt x="15204" y="15326"/>
                  <a:pt x="15230" y="15404"/>
                </a:cubicBezTo>
                <a:cubicBezTo>
                  <a:pt x="15249" y="15461"/>
                  <a:pt x="15277" y="15531"/>
                  <a:pt x="15304" y="15577"/>
                </a:cubicBezTo>
                <a:cubicBezTo>
                  <a:pt x="15396" y="15541"/>
                  <a:pt x="15357" y="15527"/>
                  <a:pt x="15379" y="15453"/>
                </a:cubicBezTo>
                <a:cubicBezTo>
                  <a:pt x="15399" y="15387"/>
                  <a:pt x="15404" y="15353"/>
                  <a:pt x="15404" y="15280"/>
                </a:cubicBezTo>
                <a:cubicBezTo>
                  <a:pt x="15404" y="15213"/>
                  <a:pt x="15406" y="15161"/>
                  <a:pt x="15429" y="15106"/>
                </a:cubicBezTo>
                <a:cubicBezTo>
                  <a:pt x="15454" y="15045"/>
                  <a:pt x="15451" y="15056"/>
                  <a:pt x="15503" y="15056"/>
                </a:cubicBezTo>
              </a:path>
              <a:path w="1291" h="1315">
                <a:moveTo>
                  <a:pt x="15875" y="15056"/>
                </a:moveTo>
                <a:cubicBezTo>
                  <a:pt x="15835" y="15089"/>
                  <a:pt x="15747" y="15128"/>
                  <a:pt x="15726" y="15180"/>
                </a:cubicBezTo>
                <a:cubicBezTo>
                  <a:pt x="15707" y="15226"/>
                  <a:pt x="15680" y="15327"/>
                  <a:pt x="15677" y="15379"/>
                </a:cubicBezTo>
                <a:cubicBezTo>
                  <a:pt x="15670" y="15484"/>
                  <a:pt x="15684" y="15482"/>
                  <a:pt x="15726" y="15528"/>
                </a:cubicBezTo>
                <a:cubicBezTo>
                  <a:pt x="15775" y="15581"/>
                  <a:pt x="15794" y="15583"/>
                  <a:pt x="15875" y="15602"/>
                </a:cubicBezTo>
                <a:cubicBezTo>
                  <a:pt x="15944" y="15618"/>
                  <a:pt x="15963" y="15571"/>
                  <a:pt x="15999" y="15528"/>
                </a:cubicBezTo>
                <a:cubicBezTo>
                  <a:pt x="16043" y="15476"/>
                  <a:pt x="16084" y="15396"/>
                  <a:pt x="16098" y="15329"/>
                </a:cubicBezTo>
                <a:cubicBezTo>
                  <a:pt x="16109" y="15275"/>
                  <a:pt x="16103" y="15202"/>
                  <a:pt x="16073" y="15156"/>
                </a:cubicBezTo>
                <a:cubicBezTo>
                  <a:pt x="16044" y="15112"/>
                  <a:pt x="15999" y="15086"/>
                  <a:pt x="15949" y="15081"/>
                </a:cubicBezTo>
                <a:cubicBezTo>
                  <a:pt x="15925" y="15081"/>
                  <a:pt x="15916" y="15081"/>
                  <a:pt x="15900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84920" y="5616720"/>
            <a:ext cx="1872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6346" y="15652"/>
                </a:moveTo>
                <a:cubicBezTo>
                  <a:pt x="16394" y="15595"/>
                  <a:pt x="16395" y="15602"/>
                  <a:pt x="16470" y="15602"/>
                </a:cubicBezTo>
                <a:cubicBezTo>
                  <a:pt x="16545" y="15602"/>
                  <a:pt x="16587" y="15643"/>
                  <a:pt x="16570" y="15726"/>
                </a:cubicBezTo>
                <a:cubicBezTo>
                  <a:pt x="16557" y="15789"/>
                  <a:pt x="16499" y="15845"/>
                  <a:pt x="16470" y="15900"/>
                </a:cubicBezTo>
                <a:cubicBezTo>
                  <a:pt x="16446" y="15946"/>
                  <a:pt x="16428" y="15984"/>
                  <a:pt x="16396" y="16024"/>
                </a:cubicBezTo>
                <a:cubicBezTo>
                  <a:pt x="16406" y="15923"/>
                  <a:pt x="16408" y="15908"/>
                  <a:pt x="16495" y="15974"/>
                </a:cubicBezTo>
                <a:cubicBezTo>
                  <a:pt x="16542" y="16010"/>
                  <a:pt x="16580" y="15999"/>
                  <a:pt x="16644" y="15999"/>
                </a:cubicBezTo>
                <a:cubicBezTo>
                  <a:pt x="16697" y="15999"/>
                  <a:pt x="16804" y="15967"/>
                  <a:pt x="16842" y="15925"/>
                </a:cubicBezTo>
                <a:cubicBezTo>
                  <a:pt x="16842" y="15890"/>
                  <a:pt x="16847" y="15872"/>
                  <a:pt x="16867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30960" y="4776840"/>
            <a:ext cx="536400" cy="947520"/>
          </a:xfrm>
          <a:custGeom>
            <a:avLst/>
            <a:gdLst/>
            <a:ahLst/>
            <a:rect l="l" t="t" r="r" b="b"/>
            <a:pathLst>
              <a:path w="1489" h="2630">
                <a:moveTo>
                  <a:pt x="18008" y="13370"/>
                </a:moveTo>
                <a:cubicBezTo>
                  <a:pt x="17996" y="13322"/>
                  <a:pt x="17962" y="13281"/>
                  <a:pt x="17909" y="13271"/>
                </a:cubicBezTo>
                <a:cubicBezTo>
                  <a:pt x="17840" y="13257"/>
                  <a:pt x="17817" y="13264"/>
                  <a:pt x="17785" y="13320"/>
                </a:cubicBezTo>
                <a:cubicBezTo>
                  <a:pt x="17751" y="13380"/>
                  <a:pt x="17698" y="13425"/>
                  <a:pt x="17686" y="13494"/>
                </a:cubicBezTo>
                <a:cubicBezTo>
                  <a:pt x="17676" y="13552"/>
                  <a:pt x="17652" y="13591"/>
                  <a:pt x="17636" y="13643"/>
                </a:cubicBezTo>
                <a:cubicBezTo>
                  <a:pt x="17614" y="13716"/>
                  <a:pt x="17642" y="13766"/>
                  <a:pt x="17686" y="13816"/>
                </a:cubicBezTo>
                <a:cubicBezTo>
                  <a:pt x="17731" y="13867"/>
                  <a:pt x="17779" y="13874"/>
                  <a:pt x="17835" y="13891"/>
                </a:cubicBezTo>
                <a:cubicBezTo>
                  <a:pt x="17909" y="13914"/>
                  <a:pt x="17959" y="13886"/>
                  <a:pt x="18008" y="13841"/>
                </a:cubicBezTo>
                <a:cubicBezTo>
                  <a:pt x="18016" y="13833"/>
                  <a:pt x="18025" y="13824"/>
                  <a:pt x="18033" y="13816"/>
                </a:cubicBezTo>
              </a:path>
              <a:path w="1489" h="2630">
                <a:moveTo>
                  <a:pt x="17959" y="14312"/>
                </a:moveTo>
                <a:cubicBezTo>
                  <a:pt x="17950" y="14356"/>
                  <a:pt x="17934" y="14389"/>
                  <a:pt x="17934" y="14436"/>
                </a:cubicBezTo>
                <a:cubicBezTo>
                  <a:pt x="17934" y="14511"/>
                  <a:pt x="17909" y="14560"/>
                  <a:pt x="17909" y="14635"/>
                </a:cubicBezTo>
                <a:cubicBezTo>
                  <a:pt x="17909" y="14689"/>
                  <a:pt x="17899" y="14780"/>
                  <a:pt x="17884" y="14833"/>
                </a:cubicBezTo>
                <a:cubicBezTo>
                  <a:pt x="17876" y="14861"/>
                  <a:pt x="17846" y="14996"/>
                  <a:pt x="17835" y="15007"/>
                </a:cubicBezTo>
                <a:cubicBezTo>
                  <a:pt x="17835" y="14974"/>
                  <a:pt x="17835" y="14957"/>
                  <a:pt x="17835" y="14932"/>
                </a:cubicBezTo>
              </a:path>
              <a:path w="1489" h="2630">
                <a:moveTo>
                  <a:pt x="17909" y="15329"/>
                </a:moveTo>
                <a:cubicBezTo>
                  <a:pt x="17850" y="15329"/>
                  <a:pt x="17831" y="15328"/>
                  <a:pt x="17785" y="15354"/>
                </a:cubicBezTo>
                <a:cubicBezTo>
                  <a:pt x="17724" y="15389"/>
                  <a:pt x="17703" y="15440"/>
                  <a:pt x="17661" y="15503"/>
                </a:cubicBezTo>
                <a:cubicBezTo>
                  <a:pt x="17619" y="15567"/>
                  <a:pt x="17587" y="15603"/>
                  <a:pt x="17587" y="15677"/>
                </a:cubicBezTo>
                <a:cubicBezTo>
                  <a:pt x="17587" y="15775"/>
                  <a:pt x="17643" y="15778"/>
                  <a:pt x="17711" y="15801"/>
                </a:cubicBezTo>
                <a:cubicBezTo>
                  <a:pt x="17796" y="15830"/>
                  <a:pt x="17774" y="15822"/>
                  <a:pt x="17859" y="15801"/>
                </a:cubicBezTo>
                <a:cubicBezTo>
                  <a:pt x="17933" y="15783"/>
                  <a:pt x="17931" y="15731"/>
                  <a:pt x="17959" y="15677"/>
                </a:cubicBezTo>
                <a:cubicBezTo>
                  <a:pt x="17995" y="15608"/>
                  <a:pt x="18008" y="15585"/>
                  <a:pt x="18008" y="15503"/>
                </a:cubicBezTo>
                <a:cubicBezTo>
                  <a:pt x="18008" y="15445"/>
                  <a:pt x="17957" y="15361"/>
                  <a:pt x="17909" y="15329"/>
                </a:cubicBezTo>
                <a:cubicBezTo>
                  <a:pt x="17874" y="15329"/>
                  <a:pt x="17875" y="15324"/>
                  <a:pt x="17934" y="15304"/>
                </a:cubicBezTo>
              </a:path>
              <a:path w="1489" h="2630">
                <a:moveTo>
                  <a:pt x="18306" y="15379"/>
                </a:moveTo>
                <a:cubicBezTo>
                  <a:pt x="18306" y="15444"/>
                  <a:pt x="18292" y="15500"/>
                  <a:pt x="18281" y="15553"/>
                </a:cubicBezTo>
                <a:cubicBezTo>
                  <a:pt x="18266" y="15625"/>
                  <a:pt x="18265" y="15679"/>
                  <a:pt x="18231" y="15751"/>
                </a:cubicBezTo>
                <a:cubicBezTo>
                  <a:pt x="18207" y="15804"/>
                  <a:pt x="18184" y="15852"/>
                  <a:pt x="18207" y="15875"/>
                </a:cubicBezTo>
              </a:path>
              <a:path w="1489" h="2630">
                <a:moveTo>
                  <a:pt x="18604" y="15329"/>
                </a:moveTo>
                <a:cubicBezTo>
                  <a:pt x="18604" y="15407"/>
                  <a:pt x="18606" y="15464"/>
                  <a:pt x="18579" y="15528"/>
                </a:cubicBezTo>
                <a:cubicBezTo>
                  <a:pt x="18553" y="15590"/>
                  <a:pt x="18554" y="15637"/>
                  <a:pt x="18554" y="15701"/>
                </a:cubicBezTo>
                <a:cubicBezTo>
                  <a:pt x="18554" y="15760"/>
                  <a:pt x="18538" y="15804"/>
                  <a:pt x="18529" y="15850"/>
                </a:cubicBezTo>
                <a:cubicBezTo>
                  <a:pt x="18529" y="15867"/>
                  <a:pt x="18529" y="15883"/>
                  <a:pt x="18529" y="15900"/>
                </a:cubicBezTo>
              </a:path>
              <a:path w="1489" h="2630">
                <a:moveTo>
                  <a:pt x="18306" y="15652"/>
                </a:moveTo>
                <a:cubicBezTo>
                  <a:pt x="18367" y="15662"/>
                  <a:pt x="18416" y="15677"/>
                  <a:pt x="18479" y="15677"/>
                </a:cubicBezTo>
                <a:cubicBezTo>
                  <a:pt x="18565" y="15677"/>
                  <a:pt x="18577" y="15690"/>
                  <a:pt x="18628" y="15627"/>
                </a:cubicBezTo>
              </a:path>
              <a:path w="1489" h="2630">
                <a:moveTo>
                  <a:pt x="18529" y="13692"/>
                </a:moveTo>
                <a:cubicBezTo>
                  <a:pt x="18634" y="13692"/>
                  <a:pt x="18736" y="13686"/>
                  <a:pt x="18827" y="13667"/>
                </a:cubicBezTo>
                <a:cubicBezTo>
                  <a:pt x="18890" y="13654"/>
                  <a:pt x="18995" y="13655"/>
                  <a:pt x="19050" y="13692"/>
                </a:cubicBezTo>
                <a:cubicBezTo>
                  <a:pt x="19058" y="13700"/>
                  <a:pt x="19067" y="13709"/>
                  <a:pt x="19075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65960" y="4125960"/>
            <a:ext cx="241200" cy="473040"/>
          </a:xfrm>
          <a:custGeom>
            <a:avLst/>
            <a:gdLst/>
            <a:ahLst/>
            <a:rect l="l" t="t" r="r" b="b"/>
            <a:pathLst>
              <a:path w="670" h="1315">
                <a:moveTo>
                  <a:pt x="18058" y="12477"/>
                </a:moveTo>
                <a:cubicBezTo>
                  <a:pt x="18058" y="12537"/>
                  <a:pt x="18060" y="12576"/>
                  <a:pt x="18033" y="12626"/>
                </a:cubicBezTo>
                <a:cubicBezTo>
                  <a:pt x="18005" y="12677"/>
                  <a:pt x="17991" y="12731"/>
                  <a:pt x="17959" y="12774"/>
                </a:cubicBezTo>
                <a:cubicBezTo>
                  <a:pt x="17959" y="12730"/>
                  <a:pt x="17956" y="12717"/>
                  <a:pt x="17983" y="12700"/>
                </a:cubicBezTo>
              </a:path>
              <a:path w="670" h="1315">
                <a:moveTo>
                  <a:pt x="18281" y="11584"/>
                </a:moveTo>
                <a:cubicBezTo>
                  <a:pt x="18281" y="11681"/>
                  <a:pt x="18279" y="11766"/>
                  <a:pt x="18256" y="11857"/>
                </a:cubicBezTo>
                <a:cubicBezTo>
                  <a:pt x="18248" y="11888"/>
                  <a:pt x="18231" y="12015"/>
                  <a:pt x="18231" y="11956"/>
                </a:cubicBezTo>
              </a:path>
              <a:path w="670" h="1315">
                <a:moveTo>
                  <a:pt x="18058" y="12030"/>
                </a:moveTo>
                <a:cubicBezTo>
                  <a:pt x="18066" y="12022"/>
                  <a:pt x="18075" y="12013"/>
                  <a:pt x="18083" y="12005"/>
                </a:cubicBezTo>
                <a:cubicBezTo>
                  <a:pt x="18129" y="12041"/>
                  <a:pt x="18170" y="12030"/>
                  <a:pt x="18231" y="12030"/>
                </a:cubicBezTo>
                <a:cubicBezTo>
                  <a:pt x="18323" y="12030"/>
                  <a:pt x="18534" y="12070"/>
                  <a:pt x="18504" y="11981"/>
                </a:cubicBezTo>
              </a:path>
              <a:path w="670" h="1315">
                <a:moveTo>
                  <a:pt x="18107" y="11584"/>
                </a:moveTo>
                <a:cubicBezTo>
                  <a:pt x="18129" y="11506"/>
                  <a:pt x="18144" y="11509"/>
                  <a:pt x="18231" y="11509"/>
                </a:cubicBezTo>
                <a:cubicBezTo>
                  <a:pt x="18297" y="11509"/>
                  <a:pt x="18344" y="11495"/>
                  <a:pt x="18405" y="11485"/>
                </a:cubicBezTo>
                <a:cubicBezTo>
                  <a:pt x="18469" y="11475"/>
                  <a:pt x="18508" y="11460"/>
                  <a:pt x="18579" y="11460"/>
                </a:cubicBezTo>
                <a:cubicBezTo>
                  <a:pt x="18666" y="11460"/>
                  <a:pt x="18602" y="11490"/>
                  <a:pt x="18554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1120" y="4143240"/>
            <a:ext cx="679680" cy="1598760"/>
          </a:xfrm>
          <a:custGeom>
            <a:avLst/>
            <a:gdLst/>
            <a:ahLst/>
            <a:rect l="l" t="t" r="r" b="b"/>
            <a:pathLst>
              <a:path w="1887" h="4441">
                <a:moveTo>
                  <a:pt x="20365" y="13469"/>
                </a:moveTo>
                <a:cubicBezTo>
                  <a:pt x="20357" y="13414"/>
                  <a:pt x="20342" y="13379"/>
                  <a:pt x="20290" y="13345"/>
                </a:cubicBezTo>
                <a:cubicBezTo>
                  <a:pt x="20232" y="13307"/>
                  <a:pt x="20163" y="13316"/>
                  <a:pt x="20117" y="13370"/>
                </a:cubicBezTo>
                <a:cubicBezTo>
                  <a:pt x="20065" y="13430"/>
                  <a:pt x="20026" y="13498"/>
                  <a:pt x="19993" y="13568"/>
                </a:cubicBezTo>
                <a:cubicBezTo>
                  <a:pt x="19958" y="13642"/>
                  <a:pt x="19904" y="13683"/>
                  <a:pt x="19893" y="13767"/>
                </a:cubicBezTo>
                <a:cubicBezTo>
                  <a:pt x="19886" y="13823"/>
                  <a:pt x="19894" y="13902"/>
                  <a:pt x="19943" y="13940"/>
                </a:cubicBezTo>
                <a:cubicBezTo>
                  <a:pt x="19980" y="13968"/>
                  <a:pt x="20069" y="13986"/>
                  <a:pt x="20117" y="13990"/>
                </a:cubicBezTo>
                <a:cubicBezTo>
                  <a:pt x="20188" y="13996"/>
                  <a:pt x="20361" y="14019"/>
                  <a:pt x="20414" y="13965"/>
                </a:cubicBezTo>
                <a:cubicBezTo>
                  <a:pt x="20422" y="13948"/>
                  <a:pt x="20431" y="13932"/>
                  <a:pt x="20439" y="13915"/>
                </a:cubicBezTo>
              </a:path>
              <a:path w="1887" h="4441">
                <a:moveTo>
                  <a:pt x="20389" y="12452"/>
                </a:moveTo>
                <a:cubicBezTo>
                  <a:pt x="20389" y="12523"/>
                  <a:pt x="20374" y="12578"/>
                  <a:pt x="20365" y="12650"/>
                </a:cubicBezTo>
                <a:cubicBezTo>
                  <a:pt x="20355" y="12735"/>
                  <a:pt x="20363" y="12800"/>
                  <a:pt x="20340" y="12874"/>
                </a:cubicBezTo>
                <a:cubicBezTo>
                  <a:pt x="20319" y="12942"/>
                  <a:pt x="20335" y="12973"/>
                  <a:pt x="20315" y="12874"/>
                </a:cubicBezTo>
              </a:path>
              <a:path w="1887" h="4441">
                <a:moveTo>
                  <a:pt x="20439" y="11534"/>
                </a:moveTo>
                <a:cubicBezTo>
                  <a:pt x="20403" y="11582"/>
                  <a:pt x="20404" y="11625"/>
                  <a:pt x="20389" y="11683"/>
                </a:cubicBezTo>
                <a:cubicBezTo>
                  <a:pt x="20368" y="11766"/>
                  <a:pt x="20360" y="11884"/>
                  <a:pt x="20315" y="11956"/>
                </a:cubicBezTo>
                <a:cubicBezTo>
                  <a:pt x="20282" y="12010"/>
                  <a:pt x="20268" y="12065"/>
                  <a:pt x="20290" y="11981"/>
                </a:cubicBezTo>
              </a:path>
              <a:path w="1887" h="4441">
                <a:moveTo>
                  <a:pt x="20464" y="11609"/>
                </a:moveTo>
                <a:cubicBezTo>
                  <a:pt x="20517" y="11609"/>
                  <a:pt x="20544" y="11598"/>
                  <a:pt x="20588" y="11584"/>
                </a:cubicBezTo>
                <a:cubicBezTo>
                  <a:pt x="20665" y="11560"/>
                  <a:pt x="20714" y="11533"/>
                  <a:pt x="20786" y="11509"/>
                </a:cubicBezTo>
                <a:cubicBezTo>
                  <a:pt x="20794" y="11509"/>
                  <a:pt x="20803" y="11509"/>
                  <a:pt x="20811" y="11509"/>
                </a:cubicBezTo>
              </a:path>
              <a:path w="1887" h="4441">
                <a:moveTo>
                  <a:pt x="20365" y="11782"/>
                </a:moveTo>
                <a:cubicBezTo>
                  <a:pt x="20489" y="11782"/>
                  <a:pt x="20613" y="11782"/>
                  <a:pt x="20737" y="11782"/>
                </a:cubicBezTo>
              </a:path>
              <a:path w="1887" h="4441">
                <a:moveTo>
                  <a:pt x="20365" y="14337"/>
                </a:moveTo>
                <a:cubicBezTo>
                  <a:pt x="20396" y="14381"/>
                  <a:pt x="20389" y="14404"/>
                  <a:pt x="20389" y="14461"/>
                </a:cubicBezTo>
                <a:cubicBezTo>
                  <a:pt x="20389" y="14559"/>
                  <a:pt x="20379" y="14642"/>
                  <a:pt x="20365" y="14734"/>
                </a:cubicBezTo>
                <a:cubicBezTo>
                  <a:pt x="20363" y="14748"/>
                  <a:pt x="20344" y="14887"/>
                  <a:pt x="20340" y="14883"/>
                </a:cubicBezTo>
                <a:cubicBezTo>
                  <a:pt x="20332" y="14866"/>
                  <a:pt x="20323" y="14850"/>
                  <a:pt x="20315" y="14833"/>
                </a:cubicBezTo>
              </a:path>
              <a:path w="1887" h="4441">
                <a:moveTo>
                  <a:pt x="20513" y="15304"/>
                </a:moveTo>
                <a:cubicBezTo>
                  <a:pt x="20466" y="15257"/>
                  <a:pt x="20455" y="15236"/>
                  <a:pt x="20389" y="15230"/>
                </a:cubicBezTo>
                <a:cubicBezTo>
                  <a:pt x="20336" y="15225"/>
                  <a:pt x="20304" y="15245"/>
                  <a:pt x="20265" y="15280"/>
                </a:cubicBezTo>
                <a:cubicBezTo>
                  <a:pt x="20209" y="15330"/>
                  <a:pt x="20216" y="15384"/>
                  <a:pt x="20216" y="15453"/>
                </a:cubicBezTo>
                <a:cubicBezTo>
                  <a:pt x="20216" y="15495"/>
                  <a:pt x="20191" y="15525"/>
                  <a:pt x="20191" y="15577"/>
                </a:cubicBezTo>
                <a:cubicBezTo>
                  <a:pt x="20191" y="15638"/>
                  <a:pt x="20261" y="15673"/>
                  <a:pt x="20315" y="15677"/>
                </a:cubicBezTo>
                <a:cubicBezTo>
                  <a:pt x="20390" y="15682"/>
                  <a:pt x="20447" y="15681"/>
                  <a:pt x="20513" y="15652"/>
                </a:cubicBezTo>
              </a:path>
              <a:path w="1887" h="4441">
                <a:moveTo>
                  <a:pt x="20910" y="15255"/>
                </a:moveTo>
                <a:cubicBezTo>
                  <a:pt x="20910" y="15315"/>
                  <a:pt x="20947" y="15404"/>
                  <a:pt x="20935" y="15453"/>
                </a:cubicBezTo>
                <a:cubicBezTo>
                  <a:pt x="20920" y="15516"/>
                  <a:pt x="20910" y="15559"/>
                  <a:pt x="20910" y="15627"/>
                </a:cubicBezTo>
                <a:cubicBezTo>
                  <a:pt x="20910" y="15654"/>
                  <a:pt x="20910" y="15835"/>
                  <a:pt x="20910" y="15776"/>
                </a:cubicBezTo>
              </a:path>
              <a:path w="1887" h="4441">
                <a:moveTo>
                  <a:pt x="21233" y="15280"/>
                </a:moveTo>
                <a:cubicBezTo>
                  <a:pt x="21233" y="15454"/>
                  <a:pt x="21233" y="15627"/>
                  <a:pt x="21233" y="15801"/>
                </a:cubicBezTo>
              </a:path>
              <a:path w="1887" h="4441">
                <a:moveTo>
                  <a:pt x="20985" y="15602"/>
                </a:moveTo>
                <a:cubicBezTo>
                  <a:pt x="21038" y="15602"/>
                  <a:pt x="21065" y="15591"/>
                  <a:pt x="21109" y="15577"/>
                </a:cubicBezTo>
                <a:cubicBezTo>
                  <a:pt x="21170" y="15557"/>
                  <a:pt x="21184" y="15559"/>
                  <a:pt x="21208" y="15528"/>
                </a:cubicBezTo>
              </a:path>
              <a:path w="1887" h="4441">
                <a:moveTo>
                  <a:pt x="21481" y="15577"/>
                </a:moveTo>
                <a:cubicBezTo>
                  <a:pt x="21522" y="15547"/>
                  <a:pt x="21539" y="15541"/>
                  <a:pt x="21580" y="15577"/>
                </a:cubicBezTo>
                <a:cubicBezTo>
                  <a:pt x="21638" y="15628"/>
                  <a:pt x="21590" y="15722"/>
                  <a:pt x="21555" y="15776"/>
                </a:cubicBezTo>
                <a:cubicBezTo>
                  <a:pt x="21529" y="15816"/>
                  <a:pt x="21484" y="15853"/>
                  <a:pt x="21481" y="15900"/>
                </a:cubicBezTo>
                <a:cubicBezTo>
                  <a:pt x="21481" y="15916"/>
                  <a:pt x="21481" y="15933"/>
                  <a:pt x="21481" y="15949"/>
                </a:cubicBezTo>
                <a:cubicBezTo>
                  <a:pt x="21580" y="15949"/>
                  <a:pt x="21680" y="15949"/>
                  <a:pt x="21779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6840" y="5759280"/>
            <a:ext cx="482400" cy="831960"/>
          </a:xfrm>
          <a:custGeom>
            <a:avLst/>
            <a:gdLst/>
            <a:ahLst/>
            <a:rect l="l" t="t" r="r" b="b"/>
            <a:pathLst>
              <a:path w="1341" h="2308">
                <a:moveTo>
                  <a:pt x="20340" y="16024"/>
                </a:moveTo>
                <a:cubicBezTo>
                  <a:pt x="20348" y="16016"/>
                  <a:pt x="20357" y="16007"/>
                  <a:pt x="20365" y="15999"/>
                </a:cubicBezTo>
                <a:cubicBezTo>
                  <a:pt x="20365" y="16147"/>
                  <a:pt x="20380" y="16315"/>
                  <a:pt x="20340" y="16446"/>
                </a:cubicBezTo>
                <a:cubicBezTo>
                  <a:pt x="20327" y="16490"/>
                  <a:pt x="20328" y="16501"/>
                  <a:pt x="20290" y="16520"/>
                </a:cubicBezTo>
              </a:path>
              <a:path w="1341" h="2308">
                <a:moveTo>
                  <a:pt x="20290" y="16570"/>
                </a:moveTo>
                <a:cubicBezTo>
                  <a:pt x="20245" y="16615"/>
                  <a:pt x="20209" y="16606"/>
                  <a:pt x="20166" y="16644"/>
                </a:cubicBezTo>
                <a:cubicBezTo>
                  <a:pt x="20154" y="16655"/>
                  <a:pt x="20021" y="16783"/>
                  <a:pt x="20017" y="16793"/>
                </a:cubicBezTo>
                <a:cubicBezTo>
                  <a:pt x="19979" y="16895"/>
                  <a:pt x="19954" y="16930"/>
                  <a:pt x="19869" y="17016"/>
                </a:cubicBezTo>
                <a:cubicBezTo>
                  <a:pt x="19832" y="17053"/>
                  <a:pt x="19785" y="17089"/>
                  <a:pt x="19794" y="17066"/>
                </a:cubicBezTo>
                <a:cubicBezTo>
                  <a:pt x="19794" y="17058"/>
                  <a:pt x="19794" y="17049"/>
                  <a:pt x="19794" y="17041"/>
                </a:cubicBezTo>
              </a:path>
              <a:path w="1341" h="2308">
                <a:moveTo>
                  <a:pt x="20365" y="16644"/>
                </a:moveTo>
                <a:cubicBezTo>
                  <a:pt x="20403" y="16664"/>
                  <a:pt x="20450" y="16687"/>
                  <a:pt x="20489" y="16718"/>
                </a:cubicBezTo>
                <a:cubicBezTo>
                  <a:pt x="20528" y="16749"/>
                  <a:pt x="20571" y="16791"/>
                  <a:pt x="20613" y="16818"/>
                </a:cubicBezTo>
                <a:cubicBezTo>
                  <a:pt x="20659" y="16847"/>
                  <a:pt x="20692" y="16888"/>
                  <a:pt x="20737" y="16917"/>
                </a:cubicBezTo>
                <a:cubicBezTo>
                  <a:pt x="20792" y="16953"/>
                  <a:pt x="20839" y="16969"/>
                  <a:pt x="20886" y="17016"/>
                </a:cubicBezTo>
                <a:cubicBezTo>
                  <a:pt x="20834" y="17016"/>
                  <a:pt x="20816" y="17014"/>
                  <a:pt x="20811" y="16966"/>
                </a:cubicBezTo>
              </a:path>
              <a:path w="1341" h="2308">
                <a:moveTo>
                  <a:pt x="19844" y="17115"/>
                </a:moveTo>
                <a:cubicBezTo>
                  <a:pt x="19897" y="17182"/>
                  <a:pt x="19893" y="17229"/>
                  <a:pt x="19893" y="17314"/>
                </a:cubicBezTo>
                <a:cubicBezTo>
                  <a:pt x="19893" y="17407"/>
                  <a:pt x="19890" y="17476"/>
                  <a:pt x="19869" y="17562"/>
                </a:cubicBezTo>
                <a:cubicBezTo>
                  <a:pt x="19848" y="17649"/>
                  <a:pt x="19865" y="17747"/>
                  <a:pt x="19844" y="17835"/>
                </a:cubicBezTo>
                <a:cubicBezTo>
                  <a:pt x="19844" y="17859"/>
                  <a:pt x="19844" y="17868"/>
                  <a:pt x="19844" y="17884"/>
                </a:cubicBezTo>
                <a:cubicBezTo>
                  <a:pt x="19844" y="17851"/>
                  <a:pt x="19844" y="17818"/>
                  <a:pt x="19844" y="17785"/>
                </a:cubicBezTo>
              </a:path>
              <a:path w="1341" h="2308">
                <a:moveTo>
                  <a:pt x="19993" y="17884"/>
                </a:moveTo>
                <a:cubicBezTo>
                  <a:pt x="20053" y="17928"/>
                  <a:pt x="20078" y="17967"/>
                  <a:pt x="20141" y="18008"/>
                </a:cubicBezTo>
                <a:cubicBezTo>
                  <a:pt x="20188" y="18038"/>
                  <a:pt x="20265" y="18088"/>
                  <a:pt x="20315" y="18107"/>
                </a:cubicBezTo>
                <a:cubicBezTo>
                  <a:pt x="20376" y="18131"/>
                  <a:pt x="20408" y="18171"/>
                  <a:pt x="20464" y="18207"/>
                </a:cubicBezTo>
                <a:cubicBezTo>
                  <a:pt x="20512" y="18230"/>
                  <a:pt x="20528" y="18237"/>
                  <a:pt x="20513" y="18281"/>
                </a:cubicBezTo>
                <a:cubicBezTo>
                  <a:pt x="20589" y="18292"/>
                  <a:pt x="20609" y="18311"/>
                  <a:pt x="20662" y="18231"/>
                </a:cubicBezTo>
                <a:cubicBezTo>
                  <a:pt x="20698" y="18178"/>
                  <a:pt x="20748" y="18142"/>
                  <a:pt x="20786" y="18107"/>
                </a:cubicBezTo>
                <a:cubicBezTo>
                  <a:pt x="20831" y="18066"/>
                  <a:pt x="20887" y="18044"/>
                  <a:pt x="20935" y="18008"/>
                </a:cubicBezTo>
                <a:cubicBezTo>
                  <a:pt x="20971" y="17981"/>
                  <a:pt x="21033" y="17920"/>
                  <a:pt x="21059" y="17884"/>
                </a:cubicBezTo>
                <a:cubicBezTo>
                  <a:pt x="21122" y="17797"/>
                  <a:pt x="21088" y="17872"/>
                  <a:pt x="21059" y="17785"/>
                </a:cubicBezTo>
              </a:path>
              <a:path w="1341" h="2308">
                <a:moveTo>
                  <a:pt x="20910" y="17165"/>
                </a:moveTo>
                <a:cubicBezTo>
                  <a:pt x="20918" y="17157"/>
                  <a:pt x="20927" y="17148"/>
                  <a:pt x="20935" y="17140"/>
                </a:cubicBezTo>
                <a:cubicBezTo>
                  <a:pt x="20964" y="17188"/>
                  <a:pt x="20980" y="17231"/>
                  <a:pt x="20985" y="17289"/>
                </a:cubicBezTo>
                <a:cubicBezTo>
                  <a:pt x="20996" y="17422"/>
                  <a:pt x="20929" y="17706"/>
                  <a:pt x="21010" y="17810"/>
                </a:cubicBezTo>
                <a:cubicBezTo>
                  <a:pt x="21032" y="17833"/>
                  <a:pt x="21040" y="17844"/>
                  <a:pt x="21034" y="17810"/>
                </a:cubicBezTo>
              </a:path>
              <a:path w="1341" h="2308">
                <a:moveTo>
                  <a:pt x="20464" y="17214"/>
                </a:moveTo>
                <a:cubicBezTo>
                  <a:pt x="20420" y="17214"/>
                  <a:pt x="20368" y="17198"/>
                  <a:pt x="20340" y="17239"/>
                </a:cubicBezTo>
                <a:cubicBezTo>
                  <a:pt x="20310" y="17283"/>
                  <a:pt x="20298" y="17373"/>
                  <a:pt x="20290" y="17413"/>
                </a:cubicBezTo>
                <a:cubicBezTo>
                  <a:pt x="20271" y="17512"/>
                  <a:pt x="20294" y="17586"/>
                  <a:pt x="20340" y="17661"/>
                </a:cubicBezTo>
                <a:cubicBezTo>
                  <a:pt x="20370" y="17711"/>
                  <a:pt x="20406" y="17729"/>
                  <a:pt x="20464" y="17735"/>
                </a:cubicBezTo>
                <a:cubicBezTo>
                  <a:pt x="20498" y="17739"/>
                  <a:pt x="20592" y="17688"/>
                  <a:pt x="20613" y="17661"/>
                </a:cubicBezTo>
                <a:cubicBezTo>
                  <a:pt x="20645" y="17620"/>
                  <a:pt x="20646" y="17534"/>
                  <a:pt x="20662" y="17487"/>
                </a:cubicBezTo>
                <a:cubicBezTo>
                  <a:pt x="20684" y="17420"/>
                  <a:pt x="20635" y="17356"/>
                  <a:pt x="20588" y="17289"/>
                </a:cubicBezTo>
                <a:cubicBezTo>
                  <a:pt x="20570" y="17263"/>
                  <a:pt x="20514" y="17174"/>
                  <a:pt x="20489" y="17165"/>
                </a:cubicBezTo>
                <a:cubicBezTo>
                  <a:pt x="20472" y="17165"/>
                  <a:pt x="20456" y="17165"/>
                  <a:pt x="20439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4960" y="4911840"/>
            <a:ext cx="204840" cy="44280"/>
          </a:xfrm>
          <a:custGeom>
            <a:avLst/>
            <a:gdLst/>
            <a:ahLst/>
            <a:rect l="l" t="t" r="r" b="b"/>
            <a:pathLst>
              <a:path w="571" h="125">
                <a:moveTo>
                  <a:pt x="20985" y="13767"/>
                </a:moveTo>
                <a:cubicBezTo>
                  <a:pt x="21060" y="13767"/>
                  <a:pt x="21114" y="13760"/>
                  <a:pt x="21183" y="13742"/>
                </a:cubicBezTo>
                <a:cubicBezTo>
                  <a:pt x="21222" y="13732"/>
                  <a:pt x="21271" y="13720"/>
                  <a:pt x="21307" y="13717"/>
                </a:cubicBezTo>
                <a:cubicBezTo>
                  <a:pt x="21388" y="13711"/>
                  <a:pt x="21449" y="13707"/>
                  <a:pt x="21530" y="13692"/>
                </a:cubicBezTo>
                <a:cubicBezTo>
                  <a:pt x="21556" y="13687"/>
                  <a:pt x="21541" y="13710"/>
                  <a:pt x="21530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20000" y="4786200"/>
            <a:ext cx="1216080" cy="500040"/>
          </a:xfrm>
          <a:custGeom>
            <a:avLst/>
            <a:gdLst/>
            <a:ahLst/>
            <a:rect l="l" t="t" r="r" b="b"/>
            <a:pathLst>
              <a:path w="3374" h="1390">
                <a:moveTo>
                  <a:pt x="22299" y="13444"/>
                </a:moveTo>
                <a:cubicBezTo>
                  <a:pt x="22289" y="13374"/>
                  <a:pt x="22274" y="13363"/>
                  <a:pt x="22200" y="13345"/>
                </a:cubicBezTo>
                <a:cubicBezTo>
                  <a:pt x="22165" y="13336"/>
                  <a:pt x="22097" y="13412"/>
                  <a:pt x="22076" y="13444"/>
                </a:cubicBezTo>
                <a:cubicBezTo>
                  <a:pt x="22047" y="13490"/>
                  <a:pt x="22007" y="13539"/>
                  <a:pt x="22002" y="13593"/>
                </a:cubicBezTo>
                <a:cubicBezTo>
                  <a:pt x="21996" y="13656"/>
                  <a:pt x="22015" y="13714"/>
                  <a:pt x="22051" y="13767"/>
                </a:cubicBezTo>
                <a:cubicBezTo>
                  <a:pt x="22076" y="13803"/>
                  <a:pt x="22117" y="13889"/>
                  <a:pt x="22151" y="13915"/>
                </a:cubicBezTo>
                <a:cubicBezTo>
                  <a:pt x="22185" y="13942"/>
                  <a:pt x="22224" y="13965"/>
                  <a:pt x="22275" y="13965"/>
                </a:cubicBezTo>
                <a:cubicBezTo>
                  <a:pt x="22346" y="13965"/>
                  <a:pt x="22417" y="13944"/>
                  <a:pt x="22473" y="13915"/>
                </a:cubicBezTo>
                <a:cubicBezTo>
                  <a:pt x="22519" y="13891"/>
                  <a:pt x="22537" y="13877"/>
                  <a:pt x="22572" y="13841"/>
                </a:cubicBezTo>
              </a:path>
              <a:path w="3374" h="1390">
                <a:moveTo>
                  <a:pt x="22696" y="13395"/>
                </a:moveTo>
                <a:cubicBezTo>
                  <a:pt x="22696" y="13468"/>
                  <a:pt x="22704" y="13501"/>
                  <a:pt x="22721" y="13568"/>
                </a:cubicBezTo>
                <a:cubicBezTo>
                  <a:pt x="22734" y="13621"/>
                  <a:pt x="22743" y="13687"/>
                  <a:pt x="22746" y="13742"/>
                </a:cubicBezTo>
                <a:cubicBezTo>
                  <a:pt x="22749" y="13798"/>
                  <a:pt x="22746" y="13995"/>
                  <a:pt x="22746" y="13965"/>
                </a:cubicBezTo>
              </a:path>
              <a:path w="3374" h="1390">
                <a:moveTo>
                  <a:pt x="23068" y="13295"/>
                </a:moveTo>
                <a:cubicBezTo>
                  <a:pt x="23068" y="13416"/>
                  <a:pt x="23078" y="13529"/>
                  <a:pt x="23093" y="13643"/>
                </a:cubicBezTo>
                <a:cubicBezTo>
                  <a:pt x="23109" y="13762"/>
                  <a:pt x="23093" y="13895"/>
                  <a:pt x="23093" y="14015"/>
                </a:cubicBezTo>
              </a:path>
              <a:path w="3374" h="1390">
                <a:moveTo>
                  <a:pt x="22796" y="13717"/>
                </a:moveTo>
                <a:cubicBezTo>
                  <a:pt x="22840" y="13706"/>
                  <a:pt x="22871" y="13679"/>
                  <a:pt x="22920" y="13667"/>
                </a:cubicBezTo>
                <a:cubicBezTo>
                  <a:pt x="22965" y="13655"/>
                  <a:pt x="23005" y="13624"/>
                  <a:pt x="23044" y="13593"/>
                </a:cubicBezTo>
              </a:path>
              <a:path w="3374" h="1390">
                <a:moveTo>
                  <a:pt x="23341" y="14188"/>
                </a:moveTo>
                <a:cubicBezTo>
                  <a:pt x="23325" y="14188"/>
                  <a:pt x="23308" y="14188"/>
                  <a:pt x="23292" y="14188"/>
                </a:cubicBezTo>
                <a:cubicBezTo>
                  <a:pt x="23302" y="14152"/>
                  <a:pt x="23349" y="14066"/>
                  <a:pt x="23416" y="14114"/>
                </a:cubicBezTo>
                <a:cubicBezTo>
                  <a:pt x="23436" y="14128"/>
                  <a:pt x="23463" y="14236"/>
                  <a:pt x="23465" y="14263"/>
                </a:cubicBezTo>
                <a:cubicBezTo>
                  <a:pt x="23468" y="14318"/>
                  <a:pt x="23423" y="14389"/>
                  <a:pt x="23391" y="14436"/>
                </a:cubicBezTo>
                <a:cubicBezTo>
                  <a:pt x="23345" y="14502"/>
                  <a:pt x="23313" y="14506"/>
                  <a:pt x="23267" y="14560"/>
                </a:cubicBezTo>
                <a:cubicBezTo>
                  <a:pt x="23286" y="14494"/>
                  <a:pt x="23292" y="14486"/>
                  <a:pt x="23366" y="14486"/>
                </a:cubicBezTo>
                <a:cubicBezTo>
                  <a:pt x="23437" y="14486"/>
                  <a:pt x="23445" y="14530"/>
                  <a:pt x="23515" y="14536"/>
                </a:cubicBezTo>
                <a:cubicBezTo>
                  <a:pt x="23574" y="14541"/>
                  <a:pt x="23589" y="14476"/>
                  <a:pt x="23614" y="14436"/>
                </a:cubicBezTo>
              </a:path>
              <a:path w="3374" h="1390">
                <a:moveTo>
                  <a:pt x="23639" y="13791"/>
                </a:moveTo>
                <a:cubicBezTo>
                  <a:pt x="23631" y="13791"/>
                  <a:pt x="23622" y="13791"/>
                  <a:pt x="23614" y="13791"/>
                </a:cubicBezTo>
                <a:cubicBezTo>
                  <a:pt x="23686" y="13791"/>
                  <a:pt x="23692" y="13793"/>
                  <a:pt x="23763" y="13742"/>
                </a:cubicBezTo>
                <a:cubicBezTo>
                  <a:pt x="23795" y="13719"/>
                  <a:pt x="23806" y="13716"/>
                  <a:pt x="23837" y="13692"/>
                </a:cubicBezTo>
              </a:path>
              <a:path w="3374" h="1390">
                <a:moveTo>
                  <a:pt x="24259" y="13494"/>
                </a:moveTo>
                <a:cubicBezTo>
                  <a:pt x="24259" y="13477"/>
                  <a:pt x="24259" y="13461"/>
                  <a:pt x="24259" y="13444"/>
                </a:cubicBezTo>
                <a:cubicBezTo>
                  <a:pt x="24194" y="13453"/>
                  <a:pt x="24139" y="13473"/>
                  <a:pt x="24110" y="13543"/>
                </a:cubicBezTo>
                <a:cubicBezTo>
                  <a:pt x="24090" y="13591"/>
                  <a:pt x="24085" y="13638"/>
                  <a:pt x="24085" y="13692"/>
                </a:cubicBezTo>
                <a:cubicBezTo>
                  <a:pt x="24085" y="13778"/>
                  <a:pt x="24058" y="13925"/>
                  <a:pt x="24110" y="13990"/>
                </a:cubicBezTo>
                <a:cubicBezTo>
                  <a:pt x="24152" y="14043"/>
                  <a:pt x="24215" y="14013"/>
                  <a:pt x="24259" y="13990"/>
                </a:cubicBezTo>
                <a:cubicBezTo>
                  <a:pt x="24305" y="13966"/>
                  <a:pt x="24343" y="13947"/>
                  <a:pt x="24383" y="13915"/>
                </a:cubicBezTo>
              </a:path>
              <a:path w="3374" h="1390">
                <a:moveTo>
                  <a:pt x="24532" y="13419"/>
                </a:moveTo>
                <a:cubicBezTo>
                  <a:pt x="24542" y="13478"/>
                  <a:pt x="24577" y="13535"/>
                  <a:pt x="24581" y="13593"/>
                </a:cubicBezTo>
                <a:cubicBezTo>
                  <a:pt x="24586" y="13670"/>
                  <a:pt x="24606" y="13734"/>
                  <a:pt x="24606" y="13816"/>
                </a:cubicBezTo>
                <a:cubicBezTo>
                  <a:pt x="24606" y="13867"/>
                  <a:pt x="24606" y="14146"/>
                  <a:pt x="24606" y="14039"/>
                </a:cubicBezTo>
              </a:path>
              <a:path w="3374" h="1390">
                <a:moveTo>
                  <a:pt x="24904" y="13370"/>
                </a:moveTo>
                <a:cubicBezTo>
                  <a:pt x="24922" y="13435"/>
                  <a:pt x="24929" y="13477"/>
                  <a:pt x="24929" y="13543"/>
                </a:cubicBezTo>
                <a:cubicBezTo>
                  <a:pt x="24929" y="13667"/>
                  <a:pt x="24937" y="14093"/>
                  <a:pt x="24904" y="14039"/>
                </a:cubicBezTo>
              </a:path>
              <a:path w="3374" h="1390">
                <a:moveTo>
                  <a:pt x="24581" y="13767"/>
                </a:moveTo>
                <a:cubicBezTo>
                  <a:pt x="24649" y="13767"/>
                  <a:pt x="24692" y="13758"/>
                  <a:pt x="24755" y="13742"/>
                </a:cubicBezTo>
                <a:cubicBezTo>
                  <a:pt x="24805" y="13729"/>
                  <a:pt x="24833" y="13711"/>
                  <a:pt x="24879" y="13692"/>
                </a:cubicBezTo>
              </a:path>
              <a:path w="3374" h="1390">
                <a:moveTo>
                  <a:pt x="25127" y="14139"/>
                </a:moveTo>
                <a:cubicBezTo>
                  <a:pt x="25182" y="14139"/>
                  <a:pt x="25221" y="14118"/>
                  <a:pt x="25276" y="14114"/>
                </a:cubicBezTo>
                <a:cubicBezTo>
                  <a:pt x="25341" y="14109"/>
                  <a:pt x="25326" y="14196"/>
                  <a:pt x="25326" y="14238"/>
                </a:cubicBezTo>
                <a:cubicBezTo>
                  <a:pt x="25326" y="14288"/>
                  <a:pt x="25205" y="14304"/>
                  <a:pt x="25177" y="14337"/>
                </a:cubicBezTo>
                <a:cubicBezTo>
                  <a:pt x="25169" y="14354"/>
                  <a:pt x="25160" y="14370"/>
                  <a:pt x="25152" y="14387"/>
                </a:cubicBezTo>
                <a:cubicBezTo>
                  <a:pt x="25217" y="14350"/>
                  <a:pt x="25226" y="14337"/>
                  <a:pt x="25301" y="14337"/>
                </a:cubicBezTo>
                <a:cubicBezTo>
                  <a:pt x="25367" y="14337"/>
                  <a:pt x="25371" y="14410"/>
                  <a:pt x="25375" y="14461"/>
                </a:cubicBezTo>
                <a:cubicBezTo>
                  <a:pt x="25381" y="14544"/>
                  <a:pt x="25382" y="14539"/>
                  <a:pt x="25326" y="14585"/>
                </a:cubicBezTo>
                <a:cubicBezTo>
                  <a:pt x="25253" y="14645"/>
                  <a:pt x="25248" y="14660"/>
                  <a:pt x="25152" y="14660"/>
                </a:cubicBezTo>
                <a:cubicBezTo>
                  <a:pt x="25022" y="14660"/>
                  <a:pt x="25071" y="14676"/>
                  <a:pt x="24978" y="14610"/>
                </a:cubicBezTo>
                <a:cubicBezTo>
                  <a:pt x="24970" y="14610"/>
                  <a:pt x="24962" y="14610"/>
                  <a:pt x="24954" y="146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3040" y="419040"/>
            <a:ext cx="25884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1315" y="1240"/>
                </a:moveTo>
                <a:lnTo>
                  <a:pt x="1315" y="1240"/>
                </a:lnTo>
              </a:path>
              <a:path w="720" h="894">
                <a:moveTo>
                  <a:pt x="1339" y="1984"/>
                </a:moveTo>
                <a:cubicBezTo>
                  <a:pt x="1339" y="1747"/>
                  <a:pt x="1362" y="1492"/>
                  <a:pt x="1315" y="1265"/>
                </a:cubicBezTo>
                <a:cubicBezTo>
                  <a:pt x="1303" y="1207"/>
                  <a:pt x="1312" y="1179"/>
                  <a:pt x="1364" y="1166"/>
                </a:cubicBezTo>
                <a:cubicBezTo>
                  <a:pt x="1414" y="1208"/>
                  <a:pt x="1416" y="1237"/>
                  <a:pt x="1463" y="1290"/>
                </a:cubicBezTo>
                <a:cubicBezTo>
                  <a:pt x="1499" y="1331"/>
                  <a:pt x="1567" y="1402"/>
                  <a:pt x="1588" y="1439"/>
                </a:cubicBezTo>
                <a:cubicBezTo>
                  <a:pt x="1621" y="1496"/>
                  <a:pt x="1660" y="1588"/>
                  <a:pt x="1712" y="1637"/>
                </a:cubicBezTo>
                <a:cubicBezTo>
                  <a:pt x="1750" y="1673"/>
                  <a:pt x="1842" y="1731"/>
                  <a:pt x="1860" y="1786"/>
                </a:cubicBezTo>
                <a:cubicBezTo>
                  <a:pt x="1878" y="1841"/>
                  <a:pt x="1891" y="1902"/>
                  <a:pt x="1910" y="1960"/>
                </a:cubicBezTo>
                <a:cubicBezTo>
                  <a:pt x="1923" y="2000"/>
                  <a:pt x="1928" y="2012"/>
                  <a:pt x="1935" y="2059"/>
                </a:cubicBezTo>
                <a:cubicBezTo>
                  <a:pt x="1935" y="1834"/>
                  <a:pt x="1872" y="1492"/>
                  <a:pt x="1960" y="1290"/>
                </a:cubicBezTo>
                <a:cubicBezTo>
                  <a:pt x="1984" y="1234"/>
                  <a:pt x="1984" y="1190"/>
                  <a:pt x="2034" y="11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561960"/>
            <a:ext cx="74124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2778" y="1687"/>
                </a:moveTo>
                <a:cubicBezTo>
                  <a:pt x="2741" y="1657"/>
                  <a:pt x="2699" y="1617"/>
                  <a:pt x="2654" y="1612"/>
                </a:cubicBezTo>
                <a:cubicBezTo>
                  <a:pt x="2581" y="1604"/>
                  <a:pt x="2541" y="1647"/>
                  <a:pt x="2505" y="1712"/>
                </a:cubicBezTo>
                <a:cubicBezTo>
                  <a:pt x="2481" y="1756"/>
                  <a:pt x="2511" y="1827"/>
                  <a:pt x="2530" y="1860"/>
                </a:cubicBezTo>
                <a:cubicBezTo>
                  <a:pt x="2563" y="1917"/>
                  <a:pt x="2582" y="1962"/>
                  <a:pt x="2629" y="2009"/>
                </a:cubicBezTo>
                <a:cubicBezTo>
                  <a:pt x="2649" y="2029"/>
                  <a:pt x="2753" y="2060"/>
                  <a:pt x="2778" y="2034"/>
                </a:cubicBezTo>
                <a:cubicBezTo>
                  <a:pt x="2845" y="1963"/>
                  <a:pt x="2828" y="1899"/>
                  <a:pt x="2828" y="1811"/>
                </a:cubicBezTo>
                <a:cubicBezTo>
                  <a:pt x="2828" y="1761"/>
                  <a:pt x="2828" y="1712"/>
                  <a:pt x="2828" y="1662"/>
                </a:cubicBezTo>
                <a:cubicBezTo>
                  <a:pt x="2873" y="1692"/>
                  <a:pt x="2837" y="1755"/>
                  <a:pt x="2877" y="1811"/>
                </a:cubicBezTo>
                <a:cubicBezTo>
                  <a:pt x="2911" y="1859"/>
                  <a:pt x="2910" y="1909"/>
                  <a:pt x="2952" y="1960"/>
                </a:cubicBezTo>
                <a:cubicBezTo>
                  <a:pt x="2996" y="2004"/>
                  <a:pt x="3006" y="2021"/>
                  <a:pt x="3051" y="2009"/>
                </a:cubicBezTo>
              </a:path>
              <a:path w="2060" h="571">
                <a:moveTo>
                  <a:pt x="3175" y="1687"/>
                </a:moveTo>
                <a:cubicBezTo>
                  <a:pt x="3197" y="1736"/>
                  <a:pt x="3211" y="1791"/>
                  <a:pt x="3225" y="1836"/>
                </a:cubicBezTo>
                <a:cubicBezTo>
                  <a:pt x="3242" y="1893"/>
                  <a:pt x="3225" y="1996"/>
                  <a:pt x="3225" y="2059"/>
                </a:cubicBezTo>
                <a:cubicBezTo>
                  <a:pt x="3244" y="1985"/>
                  <a:pt x="3249" y="1935"/>
                  <a:pt x="3249" y="1860"/>
                </a:cubicBezTo>
                <a:cubicBezTo>
                  <a:pt x="3249" y="1799"/>
                  <a:pt x="3236" y="1734"/>
                  <a:pt x="3274" y="1687"/>
                </a:cubicBezTo>
                <a:cubicBezTo>
                  <a:pt x="3323" y="1627"/>
                  <a:pt x="3279" y="1612"/>
                  <a:pt x="3373" y="1612"/>
                </a:cubicBezTo>
                <a:cubicBezTo>
                  <a:pt x="3447" y="1612"/>
                  <a:pt x="3490" y="1644"/>
                  <a:pt x="3522" y="1712"/>
                </a:cubicBezTo>
                <a:cubicBezTo>
                  <a:pt x="3544" y="1760"/>
                  <a:pt x="3522" y="1878"/>
                  <a:pt x="3522" y="1935"/>
                </a:cubicBezTo>
                <a:cubicBezTo>
                  <a:pt x="3522" y="2039"/>
                  <a:pt x="3505" y="1922"/>
                  <a:pt x="3522" y="1885"/>
                </a:cubicBezTo>
                <a:cubicBezTo>
                  <a:pt x="3549" y="1825"/>
                  <a:pt x="3574" y="1755"/>
                  <a:pt x="3597" y="1687"/>
                </a:cubicBezTo>
                <a:cubicBezTo>
                  <a:pt x="3615" y="1635"/>
                  <a:pt x="3656" y="1554"/>
                  <a:pt x="3721" y="1563"/>
                </a:cubicBezTo>
                <a:cubicBezTo>
                  <a:pt x="3787" y="1572"/>
                  <a:pt x="3821" y="1627"/>
                  <a:pt x="3845" y="1687"/>
                </a:cubicBezTo>
                <a:cubicBezTo>
                  <a:pt x="3873" y="1757"/>
                  <a:pt x="3845" y="1906"/>
                  <a:pt x="3845" y="1984"/>
                </a:cubicBezTo>
              </a:path>
              <a:path w="2060" h="571">
                <a:moveTo>
                  <a:pt x="4142" y="1811"/>
                </a:moveTo>
                <a:cubicBezTo>
                  <a:pt x="4198" y="1790"/>
                  <a:pt x="4232" y="1786"/>
                  <a:pt x="4291" y="1786"/>
                </a:cubicBezTo>
                <a:cubicBezTo>
                  <a:pt x="4347" y="1786"/>
                  <a:pt x="4396" y="1747"/>
                  <a:pt x="4366" y="1687"/>
                </a:cubicBezTo>
                <a:cubicBezTo>
                  <a:pt x="4349" y="1653"/>
                  <a:pt x="4288" y="1588"/>
                  <a:pt x="4242" y="1612"/>
                </a:cubicBezTo>
                <a:cubicBezTo>
                  <a:pt x="4154" y="1658"/>
                  <a:pt x="4156" y="1696"/>
                  <a:pt x="4118" y="1761"/>
                </a:cubicBezTo>
                <a:cubicBezTo>
                  <a:pt x="4091" y="1807"/>
                  <a:pt x="4093" y="1826"/>
                  <a:pt x="4093" y="1885"/>
                </a:cubicBezTo>
                <a:cubicBezTo>
                  <a:pt x="4093" y="1902"/>
                  <a:pt x="4134" y="2025"/>
                  <a:pt x="4142" y="2034"/>
                </a:cubicBezTo>
                <a:cubicBezTo>
                  <a:pt x="4172" y="2066"/>
                  <a:pt x="4273" y="2124"/>
                  <a:pt x="4316" y="2133"/>
                </a:cubicBezTo>
                <a:cubicBezTo>
                  <a:pt x="4377" y="2146"/>
                  <a:pt x="4459" y="2044"/>
                  <a:pt x="4514" y="2009"/>
                </a:cubicBezTo>
                <a:cubicBezTo>
                  <a:pt x="4531" y="2001"/>
                  <a:pt x="4547" y="1992"/>
                  <a:pt x="4564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63800" y="401760"/>
            <a:ext cx="679320" cy="411120"/>
          </a:xfrm>
          <a:custGeom>
            <a:avLst/>
            <a:gdLst/>
            <a:ahLst/>
            <a:rect l="l" t="t" r="r" b="b"/>
            <a:pathLst>
              <a:path w="1886" h="1142">
                <a:moveTo>
                  <a:pt x="5705" y="1290"/>
                </a:moveTo>
                <a:cubicBezTo>
                  <a:pt x="5718" y="1340"/>
                  <a:pt x="5720" y="1382"/>
                  <a:pt x="5730" y="1439"/>
                </a:cubicBezTo>
                <a:cubicBezTo>
                  <a:pt x="5749" y="1543"/>
                  <a:pt x="5779" y="1606"/>
                  <a:pt x="5779" y="1712"/>
                </a:cubicBezTo>
                <a:cubicBezTo>
                  <a:pt x="5779" y="1788"/>
                  <a:pt x="5814" y="2196"/>
                  <a:pt x="5755" y="2034"/>
                </a:cubicBezTo>
              </a:path>
              <a:path w="1886" h="1142">
                <a:moveTo>
                  <a:pt x="5457" y="1712"/>
                </a:moveTo>
                <a:cubicBezTo>
                  <a:pt x="5527" y="1686"/>
                  <a:pt x="5579" y="1687"/>
                  <a:pt x="5655" y="1687"/>
                </a:cubicBezTo>
                <a:cubicBezTo>
                  <a:pt x="5762" y="1687"/>
                  <a:pt x="5875" y="1683"/>
                  <a:pt x="5978" y="1662"/>
                </a:cubicBezTo>
                <a:cubicBezTo>
                  <a:pt x="6077" y="1642"/>
                  <a:pt x="6168" y="1595"/>
                  <a:pt x="6251" y="1563"/>
                </a:cubicBezTo>
                <a:cubicBezTo>
                  <a:pt x="6294" y="1541"/>
                  <a:pt x="6306" y="1537"/>
                  <a:pt x="6325" y="1513"/>
                </a:cubicBezTo>
              </a:path>
              <a:path w="1886" h="1142">
                <a:moveTo>
                  <a:pt x="6325" y="1116"/>
                </a:moveTo>
                <a:cubicBezTo>
                  <a:pt x="6302" y="1208"/>
                  <a:pt x="6282" y="1317"/>
                  <a:pt x="6300" y="1414"/>
                </a:cubicBezTo>
                <a:cubicBezTo>
                  <a:pt x="6323" y="1537"/>
                  <a:pt x="6372" y="1632"/>
                  <a:pt x="6375" y="1761"/>
                </a:cubicBezTo>
                <a:cubicBezTo>
                  <a:pt x="6378" y="1882"/>
                  <a:pt x="6386" y="1995"/>
                  <a:pt x="6400" y="2108"/>
                </a:cubicBezTo>
                <a:cubicBezTo>
                  <a:pt x="6405" y="2152"/>
                  <a:pt x="6400" y="2211"/>
                  <a:pt x="6400" y="2257"/>
                </a:cubicBezTo>
                <a:cubicBezTo>
                  <a:pt x="6400" y="2109"/>
                  <a:pt x="6351" y="1864"/>
                  <a:pt x="6424" y="1736"/>
                </a:cubicBezTo>
                <a:cubicBezTo>
                  <a:pt x="6442" y="1704"/>
                  <a:pt x="6532" y="1645"/>
                  <a:pt x="6573" y="1662"/>
                </a:cubicBezTo>
                <a:cubicBezTo>
                  <a:pt x="6655" y="1696"/>
                  <a:pt x="6689" y="1768"/>
                  <a:pt x="6747" y="1836"/>
                </a:cubicBezTo>
                <a:cubicBezTo>
                  <a:pt x="6781" y="1876"/>
                  <a:pt x="6832" y="1957"/>
                  <a:pt x="6846" y="2009"/>
                </a:cubicBezTo>
                <a:cubicBezTo>
                  <a:pt x="6851" y="2029"/>
                  <a:pt x="6846" y="2218"/>
                  <a:pt x="6846" y="2034"/>
                </a:cubicBezTo>
              </a:path>
              <a:path w="1886" h="1142">
                <a:moveTo>
                  <a:pt x="7020" y="1811"/>
                </a:moveTo>
                <a:cubicBezTo>
                  <a:pt x="7080" y="1811"/>
                  <a:pt x="7119" y="1801"/>
                  <a:pt x="7169" y="1786"/>
                </a:cubicBezTo>
                <a:cubicBezTo>
                  <a:pt x="7238" y="1765"/>
                  <a:pt x="7224" y="1778"/>
                  <a:pt x="7243" y="1712"/>
                </a:cubicBezTo>
                <a:cubicBezTo>
                  <a:pt x="7191" y="1670"/>
                  <a:pt x="7158" y="1642"/>
                  <a:pt x="7094" y="1637"/>
                </a:cubicBezTo>
                <a:cubicBezTo>
                  <a:pt x="7002" y="1629"/>
                  <a:pt x="7041" y="1656"/>
                  <a:pt x="6995" y="1712"/>
                </a:cubicBezTo>
                <a:cubicBezTo>
                  <a:pt x="6949" y="1768"/>
                  <a:pt x="6970" y="1862"/>
                  <a:pt x="6970" y="1935"/>
                </a:cubicBezTo>
                <a:cubicBezTo>
                  <a:pt x="6970" y="1989"/>
                  <a:pt x="7002" y="2071"/>
                  <a:pt x="7045" y="2108"/>
                </a:cubicBezTo>
                <a:cubicBezTo>
                  <a:pt x="7085" y="2142"/>
                  <a:pt x="7194" y="2147"/>
                  <a:pt x="7243" y="2133"/>
                </a:cubicBezTo>
                <a:cubicBezTo>
                  <a:pt x="7300" y="2117"/>
                  <a:pt x="7324" y="2080"/>
                  <a:pt x="7342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3240" y="276120"/>
            <a:ext cx="1974960" cy="795600"/>
          </a:xfrm>
          <a:custGeom>
            <a:avLst/>
            <a:gdLst/>
            <a:ahLst/>
            <a:rect l="l" t="t" r="r" b="b"/>
            <a:pathLst>
              <a:path w="5483" h="2209">
                <a:moveTo>
                  <a:pt x="8558" y="2158"/>
                </a:moveTo>
                <a:cubicBezTo>
                  <a:pt x="8558" y="2077"/>
                  <a:pt x="8542" y="2013"/>
                  <a:pt x="8533" y="1935"/>
                </a:cubicBezTo>
                <a:cubicBezTo>
                  <a:pt x="8518" y="1797"/>
                  <a:pt x="8478" y="1672"/>
                  <a:pt x="8434" y="1538"/>
                </a:cubicBezTo>
                <a:cubicBezTo>
                  <a:pt x="8378" y="1366"/>
                  <a:pt x="8285" y="1197"/>
                  <a:pt x="8260" y="1017"/>
                </a:cubicBezTo>
                <a:cubicBezTo>
                  <a:pt x="8247" y="923"/>
                  <a:pt x="8275" y="793"/>
                  <a:pt x="8384" y="769"/>
                </a:cubicBezTo>
                <a:cubicBezTo>
                  <a:pt x="8513" y="741"/>
                  <a:pt x="8622" y="786"/>
                  <a:pt x="8731" y="843"/>
                </a:cubicBezTo>
                <a:cubicBezTo>
                  <a:pt x="8827" y="893"/>
                  <a:pt x="8822" y="943"/>
                  <a:pt x="8756" y="1017"/>
                </a:cubicBezTo>
                <a:cubicBezTo>
                  <a:pt x="8739" y="1034"/>
                  <a:pt x="8723" y="1050"/>
                  <a:pt x="8706" y="1067"/>
                </a:cubicBezTo>
              </a:path>
              <a:path w="5483" h="2209">
                <a:moveTo>
                  <a:pt x="8285" y="1687"/>
                </a:moveTo>
                <a:cubicBezTo>
                  <a:pt x="8405" y="1687"/>
                  <a:pt x="8517" y="1672"/>
                  <a:pt x="8632" y="1662"/>
                </a:cubicBezTo>
                <a:cubicBezTo>
                  <a:pt x="8721" y="1655"/>
                  <a:pt x="8816" y="1662"/>
                  <a:pt x="8905" y="1662"/>
                </a:cubicBezTo>
              </a:path>
              <a:path w="5483" h="2209">
                <a:moveTo>
                  <a:pt x="9203" y="1612"/>
                </a:moveTo>
                <a:cubicBezTo>
                  <a:pt x="9128" y="1612"/>
                  <a:pt x="9103" y="1618"/>
                  <a:pt x="9054" y="1687"/>
                </a:cubicBezTo>
                <a:cubicBezTo>
                  <a:pt x="9035" y="1715"/>
                  <a:pt x="8996" y="1829"/>
                  <a:pt x="9004" y="1860"/>
                </a:cubicBezTo>
                <a:cubicBezTo>
                  <a:pt x="9020" y="1918"/>
                  <a:pt x="9058" y="1941"/>
                  <a:pt x="9103" y="1960"/>
                </a:cubicBezTo>
                <a:cubicBezTo>
                  <a:pt x="9115" y="1965"/>
                  <a:pt x="9206" y="2007"/>
                  <a:pt x="9227" y="1984"/>
                </a:cubicBezTo>
                <a:cubicBezTo>
                  <a:pt x="9280" y="1926"/>
                  <a:pt x="9302" y="1861"/>
                  <a:pt x="9302" y="1786"/>
                </a:cubicBezTo>
                <a:cubicBezTo>
                  <a:pt x="9302" y="1747"/>
                  <a:pt x="9184" y="1684"/>
                  <a:pt x="9153" y="1662"/>
                </a:cubicBezTo>
              </a:path>
              <a:path w="5483" h="2209">
                <a:moveTo>
                  <a:pt x="9649" y="1215"/>
                </a:moveTo>
                <a:cubicBezTo>
                  <a:pt x="9614" y="1262"/>
                  <a:pt x="9624" y="1302"/>
                  <a:pt x="9624" y="1364"/>
                </a:cubicBezTo>
                <a:cubicBezTo>
                  <a:pt x="9624" y="1482"/>
                  <a:pt x="9649" y="1593"/>
                  <a:pt x="9649" y="1712"/>
                </a:cubicBezTo>
                <a:cubicBezTo>
                  <a:pt x="9649" y="1795"/>
                  <a:pt x="9649" y="1877"/>
                  <a:pt x="9649" y="1960"/>
                </a:cubicBezTo>
                <a:cubicBezTo>
                  <a:pt x="9699" y="1960"/>
                  <a:pt x="9716" y="1960"/>
                  <a:pt x="9699" y="1910"/>
                </a:cubicBezTo>
              </a:path>
              <a:path w="5483" h="2209">
                <a:moveTo>
                  <a:pt x="10021" y="992"/>
                </a:moveTo>
                <a:cubicBezTo>
                  <a:pt x="10021" y="1099"/>
                  <a:pt x="10035" y="1188"/>
                  <a:pt x="10046" y="1290"/>
                </a:cubicBezTo>
                <a:cubicBezTo>
                  <a:pt x="10061" y="1426"/>
                  <a:pt x="10032" y="1555"/>
                  <a:pt x="10021" y="1687"/>
                </a:cubicBezTo>
                <a:cubicBezTo>
                  <a:pt x="10017" y="1738"/>
                  <a:pt x="10031" y="2033"/>
                  <a:pt x="10046" y="1984"/>
                </a:cubicBezTo>
                <a:cubicBezTo>
                  <a:pt x="10046" y="1968"/>
                  <a:pt x="10046" y="1951"/>
                  <a:pt x="10046" y="1935"/>
                </a:cubicBezTo>
              </a:path>
              <a:path w="5483" h="2209">
                <a:moveTo>
                  <a:pt x="10641" y="1612"/>
                </a:moveTo>
                <a:cubicBezTo>
                  <a:pt x="10580" y="1576"/>
                  <a:pt x="10547" y="1586"/>
                  <a:pt x="10492" y="1637"/>
                </a:cubicBezTo>
                <a:cubicBezTo>
                  <a:pt x="10437" y="1687"/>
                  <a:pt x="10417" y="1724"/>
                  <a:pt x="10393" y="1786"/>
                </a:cubicBezTo>
                <a:cubicBezTo>
                  <a:pt x="10366" y="1855"/>
                  <a:pt x="10358" y="1871"/>
                  <a:pt x="10393" y="1935"/>
                </a:cubicBezTo>
                <a:cubicBezTo>
                  <a:pt x="10429" y="2002"/>
                  <a:pt x="10535" y="2026"/>
                  <a:pt x="10616" y="2034"/>
                </a:cubicBezTo>
                <a:cubicBezTo>
                  <a:pt x="10707" y="2043"/>
                  <a:pt x="10705" y="2038"/>
                  <a:pt x="10740" y="1984"/>
                </a:cubicBezTo>
                <a:cubicBezTo>
                  <a:pt x="10778" y="1926"/>
                  <a:pt x="10765" y="1859"/>
                  <a:pt x="10765" y="1786"/>
                </a:cubicBezTo>
                <a:cubicBezTo>
                  <a:pt x="10765" y="1754"/>
                  <a:pt x="10743" y="1663"/>
                  <a:pt x="10716" y="1637"/>
                </a:cubicBezTo>
                <a:cubicBezTo>
                  <a:pt x="10699" y="1629"/>
                  <a:pt x="10683" y="1620"/>
                  <a:pt x="10666" y="1612"/>
                </a:cubicBezTo>
              </a:path>
              <a:path w="5483" h="2209">
                <a:moveTo>
                  <a:pt x="10939" y="1612"/>
                </a:moveTo>
                <a:cubicBezTo>
                  <a:pt x="10995" y="1669"/>
                  <a:pt x="10988" y="1675"/>
                  <a:pt x="10988" y="1761"/>
                </a:cubicBezTo>
                <a:cubicBezTo>
                  <a:pt x="10988" y="1866"/>
                  <a:pt x="10993" y="1968"/>
                  <a:pt x="11013" y="2059"/>
                </a:cubicBezTo>
                <a:cubicBezTo>
                  <a:pt x="11013" y="2075"/>
                  <a:pt x="11013" y="2092"/>
                  <a:pt x="11013" y="2108"/>
                </a:cubicBezTo>
                <a:cubicBezTo>
                  <a:pt x="11048" y="2039"/>
                  <a:pt x="11060" y="1981"/>
                  <a:pt x="11088" y="1910"/>
                </a:cubicBezTo>
                <a:cubicBezTo>
                  <a:pt x="11114" y="1843"/>
                  <a:pt x="11119" y="1790"/>
                  <a:pt x="11187" y="1811"/>
                </a:cubicBezTo>
                <a:cubicBezTo>
                  <a:pt x="11296" y="1844"/>
                  <a:pt x="11252" y="1902"/>
                  <a:pt x="11311" y="1960"/>
                </a:cubicBezTo>
                <a:cubicBezTo>
                  <a:pt x="11346" y="1995"/>
                  <a:pt x="11397" y="2021"/>
                  <a:pt x="11435" y="2059"/>
                </a:cubicBezTo>
                <a:cubicBezTo>
                  <a:pt x="11492" y="2018"/>
                  <a:pt x="11509" y="2007"/>
                  <a:pt x="11509" y="1935"/>
                </a:cubicBezTo>
                <a:cubicBezTo>
                  <a:pt x="11509" y="1844"/>
                  <a:pt x="11503" y="1772"/>
                  <a:pt x="11485" y="1687"/>
                </a:cubicBezTo>
                <a:cubicBezTo>
                  <a:pt x="11468" y="1605"/>
                  <a:pt x="11460" y="1654"/>
                  <a:pt x="11460" y="1712"/>
                </a:cubicBezTo>
              </a:path>
              <a:path w="5483" h="2209">
                <a:moveTo>
                  <a:pt x="11782" y="1860"/>
                </a:moveTo>
                <a:cubicBezTo>
                  <a:pt x="11829" y="1961"/>
                  <a:pt x="11832" y="1962"/>
                  <a:pt x="11832" y="2059"/>
                </a:cubicBezTo>
                <a:cubicBezTo>
                  <a:pt x="11832" y="2109"/>
                  <a:pt x="11832" y="2010"/>
                  <a:pt x="11832" y="1960"/>
                </a:cubicBezTo>
              </a:path>
              <a:path w="5483" h="2209">
                <a:moveTo>
                  <a:pt x="11807" y="1538"/>
                </a:moveTo>
                <a:cubicBezTo>
                  <a:pt x="11807" y="1513"/>
                  <a:pt x="11807" y="1505"/>
                  <a:pt x="11807" y="1538"/>
                </a:cubicBezTo>
              </a:path>
              <a:path w="5483" h="2209">
                <a:moveTo>
                  <a:pt x="12080" y="1687"/>
                </a:moveTo>
                <a:cubicBezTo>
                  <a:pt x="12091" y="1740"/>
                  <a:pt x="12092" y="1807"/>
                  <a:pt x="12105" y="1860"/>
                </a:cubicBezTo>
                <a:cubicBezTo>
                  <a:pt x="12121" y="1924"/>
                  <a:pt x="12129" y="1966"/>
                  <a:pt x="12129" y="2034"/>
                </a:cubicBezTo>
                <a:cubicBezTo>
                  <a:pt x="12129" y="2042"/>
                  <a:pt x="12129" y="2051"/>
                  <a:pt x="12129" y="2059"/>
                </a:cubicBezTo>
                <a:cubicBezTo>
                  <a:pt x="12181" y="1994"/>
                  <a:pt x="12214" y="1910"/>
                  <a:pt x="12254" y="1836"/>
                </a:cubicBezTo>
                <a:cubicBezTo>
                  <a:pt x="12293" y="1765"/>
                  <a:pt x="12317" y="1698"/>
                  <a:pt x="12378" y="1687"/>
                </a:cubicBezTo>
                <a:cubicBezTo>
                  <a:pt x="12451" y="1674"/>
                  <a:pt x="12475" y="1774"/>
                  <a:pt x="12502" y="1811"/>
                </a:cubicBezTo>
                <a:cubicBezTo>
                  <a:pt x="12556" y="1884"/>
                  <a:pt x="12557" y="1937"/>
                  <a:pt x="12601" y="2009"/>
                </a:cubicBezTo>
                <a:cubicBezTo>
                  <a:pt x="12623" y="2044"/>
                  <a:pt x="12626" y="2193"/>
                  <a:pt x="12626" y="2084"/>
                </a:cubicBezTo>
              </a:path>
              <a:path w="5483" h="2209">
                <a:moveTo>
                  <a:pt x="13122" y="1612"/>
                </a:moveTo>
                <a:cubicBezTo>
                  <a:pt x="13080" y="1597"/>
                  <a:pt x="13021" y="1570"/>
                  <a:pt x="12973" y="1588"/>
                </a:cubicBezTo>
                <a:cubicBezTo>
                  <a:pt x="12936" y="1602"/>
                  <a:pt x="12873" y="1651"/>
                  <a:pt x="12849" y="1687"/>
                </a:cubicBezTo>
                <a:cubicBezTo>
                  <a:pt x="12818" y="1734"/>
                  <a:pt x="12802" y="1807"/>
                  <a:pt x="12799" y="1860"/>
                </a:cubicBezTo>
                <a:cubicBezTo>
                  <a:pt x="12795" y="1919"/>
                  <a:pt x="12881" y="1999"/>
                  <a:pt x="12948" y="1984"/>
                </a:cubicBezTo>
                <a:cubicBezTo>
                  <a:pt x="12983" y="1976"/>
                  <a:pt x="13037" y="1892"/>
                  <a:pt x="13047" y="1860"/>
                </a:cubicBezTo>
                <a:cubicBezTo>
                  <a:pt x="13069" y="1790"/>
                  <a:pt x="13039" y="1727"/>
                  <a:pt x="13072" y="1662"/>
                </a:cubicBezTo>
                <a:cubicBezTo>
                  <a:pt x="13080" y="1758"/>
                  <a:pt x="13113" y="1797"/>
                  <a:pt x="13146" y="1885"/>
                </a:cubicBezTo>
                <a:cubicBezTo>
                  <a:pt x="13202" y="2033"/>
                  <a:pt x="13257" y="2178"/>
                  <a:pt x="13295" y="2332"/>
                </a:cubicBezTo>
                <a:cubicBezTo>
                  <a:pt x="13326" y="2457"/>
                  <a:pt x="13387" y="2598"/>
                  <a:pt x="13370" y="2729"/>
                </a:cubicBezTo>
                <a:cubicBezTo>
                  <a:pt x="13361" y="2795"/>
                  <a:pt x="13299" y="2865"/>
                  <a:pt x="13246" y="2902"/>
                </a:cubicBezTo>
                <a:cubicBezTo>
                  <a:pt x="13162" y="2961"/>
                  <a:pt x="13046" y="2973"/>
                  <a:pt x="12948" y="2977"/>
                </a:cubicBezTo>
                <a:cubicBezTo>
                  <a:pt x="12862" y="2980"/>
                  <a:pt x="12801" y="2961"/>
                  <a:pt x="12774" y="2877"/>
                </a:cubicBezTo>
                <a:cubicBezTo>
                  <a:pt x="12774" y="2809"/>
                  <a:pt x="12771" y="2790"/>
                  <a:pt x="12799" y="2753"/>
                </a:cubicBezTo>
              </a:path>
              <a:path w="5483" h="2209">
                <a:moveTo>
                  <a:pt x="13618" y="1637"/>
                </a:moveTo>
                <a:cubicBezTo>
                  <a:pt x="13618" y="1672"/>
                  <a:pt x="13623" y="1671"/>
                  <a:pt x="13643" y="1612"/>
                </a:cubicBezTo>
                <a:cubicBezTo>
                  <a:pt x="13632" y="1607"/>
                  <a:pt x="13507" y="1557"/>
                  <a:pt x="13543" y="1637"/>
                </a:cubicBezTo>
                <a:cubicBezTo>
                  <a:pt x="13559" y="1672"/>
                  <a:pt x="13589" y="1662"/>
                  <a:pt x="13618" y="1662"/>
                </a:cubicBezTo>
              </a:path>
              <a:path w="5483" h="2209">
                <a:moveTo>
                  <a:pt x="13692" y="2158"/>
                </a:moveTo>
                <a:cubicBezTo>
                  <a:pt x="13728" y="2140"/>
                  <a:pt x="13733" y="2130"/>
                  <a:pt x="13742" y="2084"/>
                </a:cubicBezTo>
                <a:cubicBezTo>
                  <a:pt x="13638" y="2039"/>
                  <a:pt x="13660" y="2080"/>
                  <a:pt x="13618" y="2158"/>
                </a:cubicBezTo>
                <a:cubicBezTo>
                  <a:pt x="13578" y="2233"/>
                  <a:pt x="13609" y="2195"/>
                  <a:pt x="13618" y="21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3640" y="1643040"/>
            <a:ext cx="223560" cy="24120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3398" y="4564"/>
                </a:moveTo>
                <a:cubicBezTo>
                  <a:pt x="3329" y="4564"/>
                  <a:pt x="3322" y="4566"/>
                  <a:pt x="3274" y="4614"/>
                </a:cubicBezTo>
                <a:cubicBezTo>
                  <a:pt x="3232" y="4656"/>
                  <a:pt x="3167" y="4752"/>
                  <a:pt x="3150" y="4812"/>
                </a:cubicBezTo>
                <a:cubicBezTo>
                  <a:pt x="3134" y="4870"/>
                  <a:pt x="3141" y="4994"/>
                  <a:pt x="3175" y="5035"/>
                </a:cubicBezTo>
                <a:cubicBezTo>
                  <a:pt x="3231" y="5104"/>
                  <a:pt x="3200" y="5156"/>
                  <a:pt x="3299" y="5209"/>
                </a:cubicBezTo>
                <a:cubicBezTo>
                  <a:pt x="3354" y="5238"/>
                  <a:pt x="3435" y="5234"/>
                  <a:pt x="3497" y="5234"/>
                </a:cubicBezTo>
                <a:cubicBezTo>
                  <a:pt x="3526" y="5234"/>
                  <a:pt x="3598" y="5198"/>
                  <a:pt x="3621" y="5184"/>
                </a:cubicBezTo>
                <a:cubicBezTo>
                  <a:pt x="3689" y="5143"/>
                  <a:pt x="3705" y="5071"/>
                  <a:pt x="3746" y="5011"/>
                </a:cubicBezTo>
                <a:cubicBezTo>
                  <a:pt x="3768" y="4978"/>
                  <a:pt x="3791" y="4905"/>
                  <a:pt x="3770" y="4862"/>
                </a:cubicBezTo>
                <a:cubicBezTo>
                  <a:pt x="3742" y="4804"/>
                  <a:pt x="3732" y="4769"/>
                  <a:pt x="3696" y="4713"/>
                </a:cubicBezTo>
                <a:cubicBezTo>
                  <a:pt x="3660" y="4657"/>
                  <a:pt x="3676" y="4605"/>
                  <a:pt x="3597" y="4589"/>
                </a:cubicBezTo>
                <a:cubicBezTo>
                  <a:pt x="3581" y="4586"/>
                  <a:pt x="3432" y="4563"/>
                  <a:pt x="3423" y="4564"/>
                </a:cubicBezTo>
                <a:cubicBezTo>
                  <a:pt x="3405" y="4567"/>
                  <a:pt x="3362" y="4625"/>
                  <a:pt x="3349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98760" y="1428840"/>
            <a:ext cx="893520" cy="428400"/>
          </a:xfrm>
          <a:custGeom>
            <a:avLst/>
            <a:gdLst/>
            <a:ahLst/>
            <a:rect l="l" t="t" r="r" b="b"/>
            <a:pathLst>
              <a:path w="2482" h="1191">
                <a:moveTo>
                  <a:pt x="4440" y="4490"/>
                </a:moveTo>
                <a:cubicBezTo>
                  <a:pt x="4545" y="4490"/>
                  <a:pt x="4639" y="4482"/>
                  <a:pt x="4738" y="4465"/>
                </a:cubicBezTo>
                <a:cubicBezTo>
                  <a:pt x="4803" y="4454"/>
                  <a:pt x="4872" y="4444"/>
                  <a:pt x="4936" y="4440"/>
                </a:cubicBezTo>
                <a:cubicBezTo>
                  <a:pt x="5018" y="4435"/>
                  <a:pt x="5102" y="4440"/>
                  <a:pt x="5184" y="4440"/>
                </a:cubicBezTo>
              </a:path>
              <a:path w="2482" h="1191">
                <a:moveTo>
                  <a:pt x="5854" y="4093"/>
                </a:moveTo>
                <a:cubicBezTo>
                  <a:pt x="5827" y="4045"/>
                  <a:pt x="5797" y="3952"/>
                  <a:pt x="5730" y="3969"/>
                </a:cubicBezTo>
                <a:cubicBezTo>
                  <a:pt x="5674" y="3983"/>
                  <a:pt x="5618" y="4062"/>
                  <a:pt x="5606" y="4118"/>
                </a:cubicBezTo>
                <a:cubicBezTo>
                  <a:pt x="5592" y="4181"/>
                  <a:pt x="5579" y="4254"/>
                  <a:pt x="5556" y="4316"/>
                </a:cubicBezTo>
                <a:cubicBezTo>
                  <a:pt x="5530" y="4386"/>
                  <a:pt x="5531" y="4438"/>
                  <a:pt x="5531" y="4514"/>
                </a:cubicBezTo>
                <a:cubicBezTo>
                  <a:pt x="5531" y="4556"/>
                  <a:pt x="5600" y="4610"/>
                  <a:pt x="5631" y="4638"/>
                </a:cubicBezTo>
                <a:cubicBezTo>
                  <a:pt x="5658" y="4663"/>
                  <a:pt x="5716" y="4683"/>
                  <a:pt x="5755" y="4663"/>
                </a:cubicBezTo>
                <a:cubicBezTo>
                  <a:pt x="5815" y="4632"/>
                  <a:pt x="5880" y="4589"/>
                  <a:pt x="5928" y="4539"/>
                </a:cubicBezTo>
              </a:path>
              <a:path w="2482" h="1191">
                <a:moveTo>
                  <a:pt x="6127" y="4142"/>
                </a:moveTo>
                <a:cubicBezTo>
                  <a:pt x="6188" y="4194"/>
                  <a:pt x="6176" y="4208"/>
                  <a:pt x="6176" y="4291"/>
                </a:cubicBezTo>
                <a:cubicBezTo>
                  <a:pt x="6176" y="4335"/>
                  <a:pt x="6174" y="4747"/>
                  <a:pt x="6201" y="4738"/>
                </a:cubicBezTo>
                <a:cubicBezTo>
                  <a:pt x="6201" y="4730"/>
                  <a:pt x="6201" y="4721"/>
                  <a:pt x="6201" y="4713"/>
                </a:cubicBezTo>
              </a:path>
              <a:path w="2482" h="1191">
                <a:moveTo>
                  <a:pt x="6400" y="4118"/>
                </a:moveTo>
                <a:cubicBezTo>
                  <a:pt x="6400" y="4226"/>
                  <a:pt x="6353" y="4615"/>
                  <a:pt x="6424" y="4663"/>
                </a:cubicBezTo>
              </a:path>
              <a:path w="2482" h="1191">
                <a:moveTo>
                  <a:pt x="6201" y="4465"/>
                </a:moveTo>
                <a:cubicBezTo>
                  <a:pt x="6274" y="4465"/>
                  <a:pt x="6328" y="4454"/>
                  <a:pt x="6400" y="4440"/>
                </a:cubicBezTo>
                <a:cubicBezTo>
                  <a:pt x="6442" y="4432"/>
                  <a:pt x="6451" y="4422"/>
                  <a:pt x="6499" y="4415"/>
                </a:cubicBezTo>
              </a:path>
              <a:path w="2482" h="1191">
                <a:moveTo>
                  <a:pt x="6672" y="4564"/>
                </a:moveTo>
                <a:cubicBezTo>
                  <a:pt x="6714" y="4533"/>
                  <a:pt x="6755" y="4541"/>
                  <a:pt x="6796" y="4589"/>
                </a:cubicBezTo>
                <a:cubicBezTo>
                  <a:pt x="6813" y="4608"/>
                  <a:pt x="6842" y="4712"/>
                  <a:pt x="6821" y="4738"/>
                </a:cubicBezTo>
                <a:cubicBezTo>
                  <a:pt x="6805" y="4746"/>
                  <a:pt x="6788" y="4754"/>
                  <a:pt x="6772" y="4762"/>
                </a:cubicBezTo>
                <a:cubicBezTo>
                  <a:pt x="6794" y="4808"/>
                  <a:pt x="6836" y="4809"/>
                  <a:pt x="6871" y="4837"/>
                </a:cubicBezTo>
                <a:cubicBezTo>
                  <a:pt x="6914" y="4871"/>
                  <a:pt x="6946" y="4952"/>
                  <a:pt x="6921" y="5011"/>
                </a:cubicBezTo>
                <a:cubicBezTo>
                  <a:pt x="6901" y="5059"/>
                  <a:pt x="6816" y="5116"/>
                  <a:pt x="6772" y="5135"/>
                </a:cubicBezTo>
                <a:cubicBezTo>
                  <a:pt x="6647" y="5188"/>
                  <a:pt x="6688" y="5123"/>
                  <a:pt x="6598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1200" y="1062000"/>
            <a:ext cx="40968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0889" y="3349"/>
                </a:moveTo>
                <a:cubicBezTo>
                  <a:pt x="10889" y="3332"/>
                  <a:pt x="10889" y="3316"/>
                  <a:pt x="10889" y="3299"/>
                </a:cubicBezTo>
                <a:cubicBezTo>
                  <a:pt x="10928" y="3299"/>
                  <a:pt x="11016" y="3280"/>
                  <a:pt x="11038" y="3324"/>
                </a:cubicBezTo>
                <a:cubicBezTo>
                  <a:pt x="11063" y="3374"/>
                  <a:pt x="11015" y="3458"/>
                  <a:pt x="10988" y="3497"/>
                </a:cubicBezTo>
                <a:cubicBezTo>
                  <a:pt x="10963" y="3534"/>
                  <a:pt x="10937" y="3592"/>
                  <a:pt x="10914" y="3621"/>
                </a:cubicBezTo>
                <a:cubicBezTo>
                  <a:pt x="10897" y="3638"/>
                  <a:pt x="10881" y="3654"/>
                  <a:pt x="10864" y="3671"/>
                </a:cubicBezTo>
                <a:cubicBezTo>
                  <a:pt x="10868" y="3644"/>
                  <a:pt x="10905" y="3571"/>
                  <a:pt x="10964" y="3621"/>
                </a:cubicBezTo>
                <a:cubicBezTo>
                  <a:pt x="11000" y="3652"/>
                  <a:pt x="11030" y="3705"/>
                  <a:pt x="11088" y="3721"/>
                </a:cubicBezTo>
                <a:cubicBezTo>
                  <a:pt x="11185" y="3747"/>
                  <a:pt x="11200" y="3695"/>
                  <a:pt x="11237" y="3621"/>
                </a:cubicBezTo>
              </a:path>
              <a:path w="1142" h="1142">
                <a:moveTo>
                  <a:pt x="11038" y="2977"/>
                </a:moveTo>
                <a:cubicBezTo>
                  <a:pt x="10976" y="2958"/>
                  <a:pt x="10968" y="2955"/>
                  <a:pt x="10889" y="2952"/>
                </a:cubicBezTo>
                <a:cubicBezTo>
                  <a:pt x="10824" y="2949"/>
                  <a:pt x="10771" y="2963"/>
                  <a:pt x="10716" y="3001"/>
                </a:cubicBezTo>
                <a:cubicBezTo>
                  <a:pt x="10666" y="3035"/>
                  <a:pt x="10580" y="3107"/>
                  <a:pt x="10542" y="3150"/>
                </a:cubicBezTo>
                <a:cubicBezTo>
                  <a:pt x="10496" y="3201"/>
                  <a:pt x="10434" y="3330"/>
                  <a:pt x="10418" y="3398"/>
                </a:cubicBezTo>
                <a:cubicBezTo>
                  <a:pt x="10395" y="3494"/>
                  <a:pt x="10414" y="3655"/>
                  <a:pt x="10443" y="3746"/>
                </a:cubicBezTo>
                <a:cubicBezTo>
                  <a:pt x="10465" y="3814"/>
                  <a:pt x="10563" y="3942"/>
                  <a:pt x="10616" y="3969"/>
                </a:cubicBezTo>
                <a:cubicBezTo>
                  <a:pt x="10717" y="4020"/>
                  <a:pt x="10852" y="4088"/>
                  <a:pt x="10964" y="4093"/>
                </a:cubicBezTo>
                <a:cubicBezTo>
                  <a:pt x="11043" y="4096"/>
                  <a:pt x="11142" y="4111"/>
                  <a:pt x="11212" y="4068"/>
                </a:cubicBezTo>
                <a:cubicBezTo>
                  <a:pt x="11249" y="4045"/>
                  <a:pt x="11304" y="3985"/>
                  <a:pt x="11336" y="3969"/>
                </a:cubicBezTo>
                <a:cubicBezTo>
                  <a:pt x="11382" y="3946"/>
                  <a:pt x="11427" y="3916"/>
                  <a:pt x="11460" y="3845"/>
                </a:cubicBezTo>
                <a:cubicBezTo>
                  <a:pt x="11489" y="3783"/>
                  <a:pt x="11508" y="3706"/>
                  <a:pt x="11534" y="3646"/>
                </a:cubicBezTo>
                <a:cubicBezTo>
                  <a:pt x="11557" y="3594"/>
                  <a:pt x="11573" y="3532"/>
                  <a:pt x="11559" y="3473"/>
                </a:cubicBezTo>
                <a:cubicBezTo>
                  <a:pt x="11543" y="3406"/>
                  <a:pt x="11502" y="3374"/>
                  <a:pt x="11460" y="3324"/>
                </a:cubicBezTo>
                <a:cubicBezTo>
                  <a:pt x="11415" y="3270"/>
                  <a:pt x="11389" y="3244"/>
                  <a:pt x="11336" y="3200"/>
                </a:cubicBezTo>
                <a:cubicBezTo>
                  <a:pt x="11310" y="3179"/>
                  <a:pt x="11230" y="3089"/>
                  <a:pt x="11187" y="3076"/>
                </a:cubicBezTo>
                <a:cubicBezTo>
                  <a:pt x="11090" y="3047"/>
                  <a:pt x="11011" y="3083"/>
                  <a:pt x="10939" y="3125"/>
                </a:cubicBezTo>
                <a:cubicBezTo>
                  <a:pt x="10873" y="3163"/>
                  <a:pt x="10935" y="3139"/>
                  <a:pt x="10864" y="31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3080" y="1366920"/>
            <a:ext cx="561960" cy="419040"/>
          </a:xfrm>
          <a:custGeom>
            <a:avLst/>
            <a:gdLst/>
            <a:ahLst/>
            <a:rect l="l" t="t" r="r" b="b"/>
            <a:pathLst>
              <a:path w="1564" h="1167">
                <a:moveTo>
                  <a:pt x="12799" y="3944"/>
                </a:moveTo>
                <a:cubicBezTo>
                  <a:pt x="12789" y="3920"/>
                  <a:pt x="12744" y="3836"/>
                  <a:pt x="12725" y="3820"/>
                </a:cubicBezTo>
                <a:cubicBezTo>
                  <a:pt x="12638" y="3749"/>
                  <a:pt x="12584" y="3836"/>
                  <a:pt x="12526" y="3894"/>
                </a:cubicBezTo>
                <a:cubicBezTo>
                  <a:pt x="12472" y="3948"/>
                  <a:pt x="12455" y="4023"/>
                  <a:pt x="12452" y="4093"/>
                </a:cubicBezTo>
                <a:cubicBezTo>
                  <a:pt x="12447" y="4205"/>
                  <a:pt x="12467" y="4284"/>
                  <a:pt x="12502" y="4390"/>
                </a:cubicBezTo>
                <a:cubicBezTo>
                  <a:pt x="12528" y="4469"/>
                  <a:pt x="12587" y="4520"/>
                  <a:pt x="12675" y="4539"/>
                </a:cubicBezTo>
                <a:cubicBezTo>
                  <a:pt x="12755" y="4557"/>
                  <a:pt x="12831" y="4531"/>
                  <a:pt x="12898" y="4490"/>
                </a:cubicBezTo>
                <a:cubicBezTo>
                  <a:pt x="12965" y="4449"/>
                  <a:pt x="13031" y="4408"/>
                  <a:pt x="13097" y="4366"/>
                </a:cubicBezTo>
              </a:path>
              <a:path w="1564" h="1167">
                <a:moveTo>
                  <a:pt x="13246" y="3969"/>
                </a:moveTo>
                <a:cubicBezTo>
                  <a:pt x="13262" y="3969"/>
                  <a:pt x="13279" y="3969"/>
                  <a:pt x="13295" y="3969"/>
                </a:cubicBezTo>
                <a:cubicBezTo>
                  <a:pt x="13295" y="4057"/>
                  <a:pt x="13244" y="4383"/>
                  <a:pt x="13345" y="4415"/>
                </a:cubicBezTo>
                <a:cubicBezTo>
                  <a:pt x="13345" y="4407"/>
                  <a:pt x="13345" y="4398"/>
                  <a:pt x="13345" y="4390"/>
                </a:cubicBezTo>
              </a:path>
              <a:path w="1564" h="1167">
                <a:moveTo>
                  <a:pt x="13618" y="3845"/>
                </a:moveTo>
                <a:cubicBezTo>
                  <a:pt x="13593" y="3894"/>
                  <a:pt x="13593" y="3936"/>
                  <a:pt x="13593" y="3994"/>
                </a:cubicBezTo>
                <a:cubicBezTo>
                  <a:pt x="13593" y="4151"/>
                  <a:pt x="13593" y="4308"/>
                  <a:pt x="13593" y="4465"/>
                </a:cubicBezTo>
              </a:path>
              <a:path w="1564" h="1167">
                <a:moveTo>
                  <a:pt x="13295" y="4266"/>
                </a:moveTo>
                <a:cubicBezTo>
                  <a:pt x="13330" y="4215"/>
                  <a:pt x="13350" y="4199"/>
                  <a:pt x="13419" y="4192"/>
                </a:cubicBezTo>
                <a:cubicBezTo>
                  <a:pt x="13472" y="4187"/>
                  <a:pt x="13498" y="4195"/>
                  <a:pt x="13543" y="4167"/>
                </a:cubicBezTo>
              </a:path>
              <a:path w="1564" h="1167">
                <a:moveTo>
                  <a:pt x="13791" y="4341"/>
                </a:moveTo>
                <a:cubicBezTo>
                  <a:pt x="13862" y="4341"/>
                  <a:pt x="13845" y="4334"/>
                  <a:pt x="13891" y="4390"/>
                </a:cubicBezTo>
                <a:cubicBezTo>
                  <a:pt x="13940" y="4450"/>
                  <a:pt x="13886" y="4473"/>
                  <a:pt x="13866" y="4539"/>
                </a:cubicBezTo>
                <a:cubicBezTo>
                  <a:pt x="13866" y="4547"/>
                  <a:pt x="13866" y="4556"/>
                  <a:pt x="13866" y="4564"/>
                </a:cubicBezTo>
                <a:cubicBezTo>
                  <a:pt x="13919" y="4609"/>
                  <a:pt x="13924" y="4655"/>
                  <a:pt x="13965" y="4713"/>
                </a:cubicBezTo>
                <a:cubicBezTo>
                  <a:pt x="13995" y="4743"/>
                  <a:pt x="14006" y="4757"/>
                  <a:pt x="14015" y="4787"/>
                </a:cubicBezTo>
                <a:cubicBezTo>
                  <a:pt x="13963" y="4828"/>
                  <a:pt x="13926" y="4878"/>
                  <a:pt x="13891" y="4911"/>
                </a:cubicBezTo>
                <a:cubicBezTo>
                  <a:pt x="13852" y="4950"/>
                  <a:pt x="13850" y="4967"/>
                  <a:pt x="13816" y="4961"/>
                </a:cubicBezTo>
                <a:cubicBezTo>
                  <a:pt x="13778" y="4927"/>
                  <a:pt x="13703" y="4886"/>
                  <a:pt x="13692" y="4837"/>
                </a:cubicBezTo>
                <a:cubicBezTo>
                  <a:pt x="13692" y="4820"/>
                  <a:pt x="13692" y="4804"/>
                  <a:pt x="13692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4960" y="150012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4486" y="4167"/>
                </a:moveTo>
                <a:cubicBezTo>
                  <a:pt x="14539" y="4178"/>
                  <a:pt x="14578" y="4192"/>
                  <a:pt x="14635" y="4192"/>
                </a:cubicBezTo>
                <a:cubicBezTo>
                  <a:pt x="14696" y="4192"/>
                  <a:pt x="14718" y="4167"/>
                  <a:pt x="14784" y="4167"/>
                </a:cubicBezTo>
                <a:cubicBezTo>
                  <a:pt x="14808" y="4167"/>
                  <a:pt x="14817" y="4167"/>
                  <a:pt x="14833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1080" y="1374840"/>
            <a:ext cx="787320" cy="366480"/>
          </a:xfrm>
          <a:custGeom>
            <a:avLst/>
            <a:gdLst/>
            <a:ahLst/>
            <a:rect l="l" t="t" r="r" b="b"/>
            <a:pathLst>
              <a:path w="2184" h="1018">
                <a:moveTo>
                  <a:pt x="15553" y="3919"/>
                </a:moveTo>
                <a:cubicBezTo>
                  <a:pt x="15531" y="3889"/>
                  <a:pt x="15478" y="3806"/>
                  <a:pt x="15429" y="3820"/>
                </a:cubicBezTo>
                <a:cubicBezTo>
                  <a:pt x="15389" y="3831"/>
                  <a:pt x="15326" y="3882"/>
                  <a:pt x="15304" y="3919"/>
                </a:cubicBezTo>
                <a:cubicBezTo>
                  <a:pt x="15250" y="4012"/>
                  <a:pt x="15255" y="4044"/>
                  <a:pt x="15255" y="4142"/>
                </a:cubicBezTo>
                <a:cubicBezTo>
                  <a:pt x="15255" y="4220"/>
                  <a:pt x="15253" y="4278"/>
                  <a:pt x="15304" y="4341"/>
                </a:cubicBezTo>
                <a:cubicBezTo>
                  <a:pt x="15369" y="4421"/>
                  <a:pt x="15405" y="4415"/>
                  <a:pt x="15503" y="4415"/>
                </a:cubicBezTo>
                <a:cubicBezTo>
                  <a:pt x="15551" y="4415"/>
                  <a:pt x="15614" y="4369"/>
                  <a:pt x="15652" y="4341"/>
                </a:cubicBezTo>
                <a:cubicBezTo>
                  <a:pt x="15660" y="4333"/>
                  <a:pt x="15669" y="4324"/>
                  <a:pt x="15677" y="4316"/>
                </a:cubicBezTo>
              </a:path>
              <a:path w="2184" h="1018">
                <a:moveTo>
                  <a:pt x="15974" y="3944"/>
                </a:moveTo>
                <a:cubicBezTo>
                  <a:pt x="15974" y="4081"/>
                  <a:pt x="15974" y="4208"/>
                  <a:pt x="15949" y="4341"/>
                </a:cubicBezTo>
                <a:cubicBezTo>
                  <a:pt x="15942" y="4380"/>
                  <a:pt x="15949" y="4425"/>
                  <a:pt x="15949" y="4465"/>
                </a:cubicBezTo>
              </a:path>
              <a:path w="2184" h="1018">
                <a:moveTo>
                  <a:pt x="16272" y="3820"/>
                </a:moveTo>
                <a:cubicBezTo>
                  <a:pt x="16281" y="3865"/>
                  <a:pt x="16284" y="3925"/>
                  <a:pt x="16297" y="3969"/>
                </a:cubicBezTo>
                <a:cubicBezTo>
                  <a:pt x="16319" y="4045"/>
                  <a:pt x="16339" y="4134"/>
                  <a:pt x="16321" y="4217"/>
                </a:cubicBezTo>
                <a:cubicBezTo>
                  <a:pt x="16307" y="4280"/>
                  <a:pt x="16297" y="4323"/>
                  <a:pt x="16297" y="4390"/>
                </a:cubicBezTo>
                <a:cubicBezTo>
                  <a:pt x="16297" y="4398"/>
                  <a:pt x="16297" y="4407"/>
                  <a:pt x="16297" y="4415"/>
                </a:cubicBezTo>
              </a:path>
              <a:path w="2184" h="1018">
                <a:moveTo>
                  <a:pt x="16049" y="4242"/>
                </a:moveTo>
                <a:cubicBezTo>
                  <a:pt x="16104" y="4242"/>
                  <a:pt x="16120" y="4231"/>
                  <a:pt x="16173" y="4217"/>
                </a:cubicBezTo>
                <a:cubicBezTo>
                  <a:pt x="16226" y="4203"/>
                  <a:pt x="16291" y="4196"/>
                  <a:pt x="16346" y="4192"/>
                </a:cubicBezTo>
                <a:cubicBezTo>
                  <a:pt x="16374" y="4192"/>
                  <a:pt x="16385" y="4194"/>
                  <a:pt x="16396" y="4217"/>
                </a:cubicBezTo>
              </a:path>
              <a:path w="2184" h="1018">
                <a:moveTo>
                  <a:pt x="16545" y="4465"/>
                </a:moveTo>
                <a:cubicBezTo>
                  <a:pt x="16614" y="4465"/>
                  <a:pt x="16610" y="4461"/>
                  <a:pt x="16669" y="4514"/>
                </a:cubicBezTo>
                <a:cubicBezTo>
                  <a:pt x="16739" y="4578"/>
                  <a:pt x="16637" y="4660"/>
                  <a:pt x="16594" y="4713"/>
                </a:cubicBezTo>
                <a:cubicBezTo>
                  <a:pt x="16563" y="4752"/>
                  <a:pt x="16531" y="4792"/>
                  <a:pt x="16520" y="4837"/>
                </a:cubicBezTo>
                <a:cubicBezTo>
                  <a:pt x="16611" y="4837"/>
                  <a:pt x="16702" y="4837"/>
                  <a:pt x="16793" y="4837"/>
                </a:cubicBezTo>
              </a:path>
              <a:path w="2184" h="1018">
                <a:moveTo>
                  <a:pt x="16991" y="4266"/>
                </a:moveTo>
                <a:cubicBezTo>
                  <a:pt x="17044" y="4253"/>
                  <a:pt x="17077" y="4242"/>
                  <a:pt x="17140" y="4242"/>
                </a:cubicBezTo>
                <a:cubicBezTo>
                  <a:pt x="17265" y="4242"/>
                  <a:pt x="17326" y="4244"/>
                  <a:pt x="17413" y="4192"/>
                </a:cubicBezTo>
                <a:cubicBezTo>
                  <a:pt x="17446" y="4192"/>
                  <a:pt x="17455" y="4184"/>
                  <a:pt x="17438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6880" y="1347840"/>
            <a:ext cx="34920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18281" y="3845"/>
                </a:moveTo>
                <a:cubicBezTo>
                  <a:pt x="18241" y="3795"/>
                  <a:pt x="18227" y="3758"/>
                  <a:pt x="18157" y="3746"/>
                </a:cubicBezTo>
                <a:cubicBezTo>
                  <a:pt x="18081" y="3733"/>
                  <a:pt x="18026" y="3754"/>
                  <a:pt x="17983" y="3820"/>
                </a:cubicBezTo>
                <a:cubicBezTo>
                  <a:pt x="17944" y="3879"/>
                  <a:pt x="17955" y="3955"/>
                  <a:pt x="17934" y="4018"/>
                </a:cubicBezTo>
                <a:cubicBezTo>
                  <a:pt x="17905" y="4104"/>
                  <a:pt x="17905" y="4158"/>
                  <a:pt x="17959" y="4242"/>
                </a:cubicBezTo>
                <a:cubicBezTo>
                  <a:pt x="17995" y="4298"/>
                  <a:pt x="18019" y="4363"/>
                  <a:pt x="18083" y="4390"/>
                </a:cubicBezTo>
                <a:cubicBezTo>
                  <a:pt x="18135" y="4411"/>
                  <a:pt x="18186" y="4377"/>
                  <a:pt x="18231" y="4366"/>
                </a:cubicBezTo>
                <a:cubicBezTo>
                  <a:pt x="18259" y="4366"/>
                  <a:pt x="18270" y="4364"/>
                  <a:pt x="18281" y="4341"/>
                </a:cubicBezTo>
              </a:path>
              <a:path w="968" h="670">
                <a:moveTo>
                  <a:pt x="18554" y="3845"/>
                </a:moveTo>
                <a:cubicBezTo>
                  <a:pt x="18593" y="3909"/>
                  <a:pt x="18558" y="3908"/>
                  <a:pt x="18554" y="3969"/>
                </a:cubicBezTo>
                <a:cubicBezTo>
                  <a:pt x="18547" y="4070"/>
                  <a:pt x="18559" y="4155"/>
                  <a:pt x="18529" y="4242"/>
                </a:cubicBezTo>
                <a:cubicBezTo>
                  <a:pt x="18521" y="4265"/>
                  <a:pt x="18514" y="4389"/>
                  <a:pt x="18554" y="4390"/>
                </a:cubicBezTo>
                <a:cubicBezTo>
                  <a:pt x="18554" y="4382"/>
                  <a:pt x="18554" y="4374"/>
                  <a:pt x="18554" y="4366"/>
                </a:cubicBezTo>
              </a:path>
              <a:path w="968" h="670">
                <a:moveTo>
                  <a:pt x="18852" y="3894"/>
                </a:moveTo>
                <a:cubicBezTo>
                  <a:pt x="18877" y="3937"/>
                  <a:pt x="18876" y="3966"/>
                  <a:pt x="18876" y="4018"/>
                </a:cubicBezTo>
                <a:cubicBezTo>
                  <a:pt x="18876" y="4097"/>
                  <a:pt x="18865" y="4417"/>
                  <a:pt x="18852" y="4390"/>
                </a:cubicBezTo>
                <a:cubicBezTo>
                  <a:pt x="18852" y="4382"/>
                  <a:pt x="18852" y="4374"/>
                  <a:pt x="18852" y="4366"/>
                </a:cubicBezTo>
              </a:path>
              <a:path w="968" h="670">
                <a:moveTo>
                  <a:pt x="18579" y="4142"/>
                </a:moveTo>
                <a:cubicBezTo>
                  <a:pt x="18639" y="4172"/>
                  <a:pt x="18619" y="4192"/>
                  <a:pt x="18703" y="4192"/>
                </a:cubicBezTo>
                <a:cubicBezTo>
                  <a:pt x="18757" y="4192"/>
                  <a:pt x="18799" y="4174"/>
                  <a:pt x="18852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9000" y="1490760"/>
            <a:ext cx="14292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9273" y="4167"/>
                </a:moveTo>
                <a:cubicBezTo>
                  <a:pt x="19317" y="4193"/>
                  <a:pt x="19344" y="4192"/>
                  <a:pt x="19397" y="4192"/>
                </a:cubicBezTo>
                <a:cubicBezTo>
                  <a:pt x="19471" y="4192"/>
                  <a:pt x="19525" y="4171"/>
                  <a:pt x="19596" y="4167"/>
                </a:cubicBezTo>
                <a:cubicBezTo>
                  <a:pt x="19643" y="4164"/>
                  <a:pt x="19713" y="4161"/>
                  <a:pt x="19621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77040" y="1347840"/>
            <a:ext cx="625680" cy="411120"/>
          </a:xfrm>
          <a:custGeom>
            <a:avLst/>
            <a:gdLst/>
            <a:ahLst/>
            <a:rect l="l" t="t" r="r" b="b"/>
            <a:pathLst>
              <a:path w="1737" h="1142">
                <a:moveTo>
                  <a:pt x="20464" y="3845"/>
                </a:moveTo>
                <a:cubicBezTo>
                  <a:pt x="20472" y="3828"/>
                  <a:pt x="20481" y="3812"/>
                  <a:pt x="20489" y="3795"/>
                </a:cubicBezTo>
                <a:cubicBezTo>
                  <a:pt x="20449" y="3772"/>
                  <a:pt x="20391" y="3721"/>
                  <a:pt x="20340" y="3746"/>
                </a:cubicBezTo>
                <a:cubicBezTo>
                  <a:pt x="20296" y="3767"/>
                  <a:pt x="20259" y="3803"/>
                  <a:pt x="20241" y="3845"/>
                </a:cubicBezTo>
                <a:cubicBezTo>
                  <a:pt x="20216" y="3904"/>
                  <a:pt x="20216" y="3936"/>
                  <a:pt x="20216" y="3994"/>
                </a:cubicBezTo>
                <a:cubicBezTo>
                  <a:pt x="20216" y="4094"/>
                  <a:pt x="20182" y="4249"/>
                  <a:pt x="20265" y="4316"/>
                </a:cubicBezTo>
                <a:cubicBezTo>
                  <a:pt x="20313" y="4355"/>
                  <a:pt x="20404" y="4360"/>
                  <a:pt x="20464" y="4390"/>
                </a:cubicBezTo>
                <a:cubicBezTo>
                  <a:pt x="20521" y="4418"/>
                  <a:pt x="20582" y="4385"/>
                  <a:pt x="20638" y="4341"/>
                </a:cubicBezTo>
                <a:cubicBezTo>
                  <a:pt x="20654" y="4324"/>
                  <a:pt x="20671" y="4308"/>
                  <a:pt x="20687" y="4291"/>
                </a:cubicBezTo>
              </a:path>
              <a:path w="1737" h="1142">
                <a:moveTo>
                  <a:pt x="21034" y="3820"/>
                </a:moveTo>
                <a:cubicBezTo>
                  <a:pt x="21034" y="4052"/>
                  <a:pt x="21034" y="4697"/>
                  <a:pt x="21034" y="4465"/>
                </a:cubicBezTo>
              </a:path>
              <a:path w="1737" h="1142">
                <a:moveTo>
                  <a:pt x="21158" y="3795"/>
                </a:moveTo>
                <a:cubicBezTo>
                  <a:pt x="21185" y="3868"/>
                  <a:pt x="21208" y="3917"/>
                  <a:pt x="21208" y="3994"/>
                </a:cubicBezTo>
                <a:cubicBezTo>
                  <a:pt x="21208" y="4121"/>
                  <a:pt x="21199" y="4254"/>
                  <a:pt x="21233" y="4366"/>
                </a:cubicBezTo>
                <a:cubicBezTo>
                  <a:pt x="21233" y="4374"/>
                  <a:pt x="21233" y="4382"/>
                  <a:pt x="21233" y="4390"/>
                </a:cubicBezTo>
              </a:path>
              <a:path w="1737" h="1142">
                <a:moveTo>
                  <a:pt x="21034" y="4242"/>
                </a:moveTo>
                <a:cubicBezTo>
                  <a:pt x="21089" y="4242"/>
                  <a:pt x="21117" y="4226"/>
                  <a:pt x="21158" y="4217"/>
                </a:cubicBezTo>
                <a:cubicBezTo>
                  <a:pt x="21210" y="4217"/>
                  <a:pt x="21228" y="4216"/>
                  <a:pt x="21258" y="4192"/>
                </a:cubicBezTo>
              </a:path>
              <a:path w="1737" h="1142">
                <a:moveTo>
                  <a:pt x="21555" y="4316"/>
                </a:moveTo>
                <a:cubicBezTo>
                  <a:pt x="21547" y="4308"/>
                  <a:pt x="21538" y="4299"/>
                  <a:pt x="21530" y="4291"/>
                </a:cubicBezTo>
                <a:cubicBezTo>
                  <a:pt x="21572" y="4259"/>
                  <a:pt x="21598" y="4266"/>
                  <a:pt x="21654" y="4266"/>
                </a:cubicBezTo>
                <a:cubicBezTo>
                  <a:pt x="21704" y="4266"/>
                  <a:pt x="21753" y="4266"/>
                  <a:pt x="21803" y="4266"/>
                </a:cubicBezTo>
                <a:cubicBezTo>
                  <a:pt x="21803" y="4373"/>
                  <a:pt x="21767" y="4323"/>
                  <a:pt x="21729" y="4415"/>
                </a:cubicBezTo>
                <a:cubicBezTo>
                  <a:pt x="21719" y="4439"/>
                  <a:pt x="21636" y="4586"/>
                  <a:pt x="21679" y="4514"/>
                </a:cubicBezTo>
                <a:cubicBezTo>
                  <a:pt x="21702" y="4474"/>
                  <a:pt x="21750" y="4437"/>
                  <a:pt x="21803" y="4465"/>
                </a:cubicBezTo>
                <a:cubicBezTo>
                  <a:pt x="21909" y="4520"/>
                  <a:pt x="21887" y="4534"/>
                  <a:pt x="21927" y="4614"/>
                </a:cubicBezTo>
                <a:cubicBezTo>
                  <a:pt x="21950" y="4659"/>
                  <a:pt x="21979" y="4710"/>
                  <a:pt x="21927" y="4762"/>
                </a:cubicBezTo>
                <a:cubicBezTo>
                  <a:pt x="21869" y="4820"/>
                  <a:pt x="21816" y="4865"/>
                  <a:pt x="21729" y="4887"/>
                </a:cubicBezTo>
                <a:cubicBezTo>
                  <a:pt x="21684" y="4898"/>
                  <a:pt x="21638" y="4888"/>
                  <a:pt x="21605" y="4862"/>
                </a:cubicBezTo>
                <a:cubicBezTo>
                  <a:pt x="21575" y="4832"/>
                  <a:pt x="21561" y="4821"/>
                  <a:pt x="2153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920" y="3116160"/>
            <a:ext cx="2992320" cy="1901880"/>
          </a:xfrm>
          <a:custGeom>
            <a:avLst/>
            <a:gdLst/>
            <a:ahLst/>
            <a:rect l="l" t="t" r="r" b="b"/>
            <a:pathLst>
              <a:path w="8311" h="5284">
                <a:moveTo>
                  <a:pt x="943" y="9178"/>
                </a:moveTo>
                <a:cubicBezTo>
                  <a:pt x="954" y="9140"/>
                  <a:pt x="988" y="9070"/>
                  <a:pt x="1042" y="9054"/>
                </a:cubicBezTo>
                <a:cubicBezTo>
                  <a:pt x="1115" y="9033"/>
                  <a:pt x="1159" y="9055"/>
                  <a:pt x="1166" y="9128"/>
                </a:cubicBezTo>
                <a:cubicBezTo>
                  <a:pt x="1170" y="9170"/>
                  <a:pt x="1142" y="9224"/>
                  <a:pt x="1116" y="9252"/>
                </a:cubicBezTo>
                <a:cubicBezTo>
                  <a:pt x="1049" y="9325"/>
                  <a:pt x="1093" y="9326"/>
                  <a:pt x="1017" y="9351"/>
                </a:cubicBezTo>
                <a:cubicBezTo>
                  <a:pt x="1046" y="9323"/>
                  <a:pt x="1094" y="9271"/>
                  <a:pt x="1141" y="9302"/>
                </a:cubicBezTo>
                <a:cubicBezTo>
                  <a:pt x="1216" y="9351"/>
                  <a:pt x="1234" y="9417"/>
                  <a:pt x="1240" y="9500"/>
                </a:cubicBezTo>
                <a:cubicBezTo>
                  <a:pt x="1247" y="9594"/>
                  <a:pt x="1223" y="9553"/>
                  <a:pt x="1166" y="9649"/>
                </a:cubicBezTo>
                <a:cubicBezTo>
                  <a:pt x="1148" y="9680"/>
                  <a:pt x="1114" y="9720"/>
                  <a:pt x="1067" y="9723"/>
                </a:cubicBezTo>
                <a:cubicBezTo>
                  <a:pt x="985" y="9729"/>
                  <a:pt x="957" y="9699"/>
                  <a:pt x="943" y="9624"/>
                </a:cubicBezTo>
              </a:path>
              <a:path w="8311" h="5284">
                <a:moveTo>
                  <a:pt x="893" y="8657"/>
                </a:moveTo>
                <a:cubicBezTo>
                  <a:pt x="828" y="8665"/>
                  <a:pt x="771" y="8687"/>
                  <a:pt x="719" y="8731"/>
                </a:cubicBezTo>
                <a:cubicBezTo>
                  <a:pt x="670" y="8772"/>
                  <a:pt x="600" y="8849"/>
                  <a:pt x="571" y="8905"/>
                </a:cubicBezTo>
                <a:cubicBezTo>
                  <a:pt x="527" y="8989"/>
                  <a:pt x="516" y="9067"/>
                  <a:pt x="496" y="9153"/>
                </a:cubicBezTo>
                <a:cubicBezTo>
                  <a:pt x="470" y="9263"/>
                  <a:pt x="471" y="9360"/>
                  <a:pt x="471" y="9475"/>
                </a:cubicBezTo>
                <a:cubicBezTo>
                  <a:pt x="471" y="9571"/>
                  <a:pt x="492" y="9654"/>
                  <a:pt x="496" y="9748"/>
                </a:cubicBezTo>
                <a:cubicBezTo>
                  <a:pt x="501" y="9859"/>
                  <a:pt x="551" y="9874"/>
                  <a:pt x="595" y="9947"/>
                </a:cubicBezTo>
                <a:cubicBezTo>
                  <a:pt x="638" y="10018"/>
                  <a:pt x="688" y="10083"/>
                  <a:pt x="769" y="10120"/>
                </a:cubicBezTo>
                <a:cubicBezTo>
                  <a:pt x="823" y="10145"/>
                  <a:pt x="907" y="10158"/>
                  <a:pt x="967" y="10145"/>
                </a:cubicBezTo>
                <a:cubicBezTo>
                  <a:pt x="1084" y="10120"/>
                  <a:pt x="1188" y="10076"/>
                  <a:pt x="1290" y="10046"/>
                </a:cubicBezTo>
                <a:cubicBezTo>
                  <a:pt x="1407" y="10012"/>
                  <a:pt x="1396" y="10049"/>
                  <a:pt x="1488" y="9971"/>
                </a:cubicBezTo>
                <a:cubicBezTo>
                  <a:pt x="1543" y="9924"/>
                  <a:pt x="1575" y="9898"/>
                  <a:pt x="1612" y="9847"/>
                </a:cubicBezTo>
                <a:cubicBezTo>
                  <a:pt x="1662" y="9779"/>
                  <a:pt x="1674" y="9677"/>
                  <a:pt x="1712" y="9599"/>
                </a:cubicBezTo>
                <a:cubicBezTo>
                  <a:pt x="1746" y="9531"/>
                  <a:pt x="1750" y="9427"/>
                  <a:pt x="1736" y="9351"/>
                </a:cubicBezTo>
                <a:cubicBezTo>
                  <a:pt x="1719" y="9257"/>
                  <a:pt x="1646" y="9190"/>
                  <a:pt x="1612" y="9103"/>
                </a:cubicBezTo>
                <a:cubicBezTo>
                  <a:pt x="1594" y="9057"/>
                  <a:pt x="1540" y="8920"/>
                  <a:pt x="1513" y="8905"/>
                </a:cubicBezTo>
                <a:cubicBezTo>
                  <a:pt x="1456" y="8872"/>
                  <a:pt x="1400" y="8848"/>
                  <a:pt x="1339" y="8806"/>
                </a:cubicBezTo>
                <a:cubicBezTo>
                  <a:pt x="1304" y="8782"/>
                  <a:pt x="1205" y="8738"/>
                  <a:pt x="1166" y="8731"/>
                </a:cubicBezTo>
                <a:cubicBezTo>
                  <a:pt x="1128" y="8724"/>
                  <a:pt x="1071" y="8710"/>
                  <a:pt x="1042" y="8706"/>
                </a:cubicBezTo>
                <a:cubicBezTo>
                  <a:pt x="972" y="8697"/>
                  <a:pt x="939" y="8700"/>
                  <a:pt x="893" y="8756"/>
                </a:cubicBezTo>
                <a:cubicBezTo>
                  <a:pt x="893" y="8764"/>
                  <a:pt x="893" y="8773"/>
                  <a:pt x="893" y="8781"/>
                </a:cubicBezTo>
              </a:path>
              <a:path w="8311" h="5284">
                <a:moveTo>
                  <a:pt x="3597" y="9674"/>
                </a:moveTo>
                <a:cubicBezTo>
                  <a:pt x="3470" y="9813"/>
                  <a:pt x="3374" y="9957"/>
                  <a:pt x="3249" y="10096"/>
                </a:cubicBezTo>
                <a:cubicBezTo>
                  <a:pt x="3170" y="10184"/>
                  <a:pt x="3074" y="10255"/>
                  <a:pt x="3001" y="10344"/>
                </a:cubicBezTo>
                <a:cubicBezTo>
                  <a:pt x="2987" y="10361"/>
                  <a:pt x="2811" y="10510"/>
                  <a:pt x="2828" y="10542"/>
                </a:cubicBezTo>
                <a:cubicBezTo>
                  <a:pt x="2836" y="10534"/>
                  <a:pt x="2845" y="10525"/>
                  <a:pt x="2853" y="10517"/>
                </a:cubicBezTo>
              </a:path>
              <a:path w="8311" h="5284">
                <a:moveTo>
                  <a:pt x="3646" y="9723"/>
                </a:moveTo>
                <a:cubicBezTo>
                  <a:pt x="3694" y="9771"/>
                  <a:pt x="3730" y="9820"/>
                  <a:pt x="3770" y="9872"/>
                </a:cubicBezTo>
                <a:cubicBezTo>
                  <a:pt x="3821" y="9939"/>
                  <a:pt x="3890" y="9964"/>
                  <a:pt x="3944" y="10021"/>
                </a:cubicBezTo>
                <a:cubicBezTo>
                  <a:pt x="4026" y="10107"/>
                  <a:pt x="4137" y="10128"/>
                  <a:pt x="4217" y="10220"/>
                </a:cubicBezTo>
                <a:cubicBezTo>
                  <a:pt x="4262" y="10271"/>
                  <a:pt x="4365" y="10380"/>
                  <a:pt x="4390" y="10443"/>
                </a:cubicBezTo>
                <a:cubicBezTo>
                  <a:pt x="4404" y="10478"/>
                  <a:pt x="4481" y="10546"/>
                  <a:pt x="4465" y="10592"/>
                </a:cubicBezTo>
                <a:cubicBezTo>
                  <a:pt x="4465" y="10625"/>
                  <a:pt x="4456" y="10633"/>
                  <a:pt x="4415" y="10616"/>
                </a:cubicBezTo>
              </a:path>
              <a:path w="8311" h="5284">
                <a:moveTo>
                  <a:pt x="2902" y="10616"/>
                </a:moveTo>
                <a:cubicBezTo>
                  <a:pt x="2935" y="10698"/>
                  <a:pt x="2952" y="10727"/>
                  <a:pt x="2952" y="10815"/>
                </a:cubicBezTo>
                <a:cubicBezTo>
                  <a:pt x="2952" y="11007"/>
                  <a:pt x="2956" y="11201"/>
                  <a:pt x="2927" y="11385"/>
                </a:cubicBezTo>
                <a:cubicBezTo>
                  <a:pt x="2912" y="11479"/>
                  <a:pt x="2927" y="11588"/>
                  <a:pt x="2927" y="11683"/>
                </a:cubicBezTo>
              </a:path>
              <a:path w="8311" h="5284">
                <a:moveTo>
                  <a:pt x="3001" y="11658"/>
                </a:moveTo>
                <a:cubicBezTo>
                  <a:pt x="3055" y="11665"/>
                  <a:pt x="3081" y="11668"/>
                  <a:pt x="3125" y="11708"/>
                </a:cubicBezTo>
                <a:cubicBezTo>
                  <a:pt x="3171" y="11750"/>
                  <a:pt x="3243" y="11806"/>
                  <a:pt x="3299" y="11832"/>
                </a:cubicBezTo>
                <a:cubicBezTo>
                  <a:pt x="3377" y="11868"/>
                  <a:pt x="3448" y="11952"/>
                  <a:pt x="3522" y="11981"/>
                </a:cubicBezTo>
                <a:cubicBezTo>
                  <a:pt x="3588" y="12007"/>
                  <a:pt x="3650" y="12023"/>
                  <a:pt x="3721" y="12055"/>
                </a:cubicBezTo>
                <a:cubicBezTo>
                  <a:pt x="3765" y="12075"/>
                  <a:pt x="3786" y="12096"/>
                  <a:pt x="3820" y="12129"/>
                </a:cubicBezTo>
                <a:cubicBezTo>
                  <a:pt x="3873" y="12064"/>
                  <a:pt x="3921" y="12027"/>
                  <a:pt x="3994" y="11981"/>
                </a:cubicBezTo>
                <a:cubicBezTo>
                  <a:pt x="4054" y="11943"/>
                  <a:pt x="4100" y="11884"/>
                  <a:pt x="4167" y="11857"/>
                </a:cubicBezTo>
                <a:cubicBezTo>
                  <a:pt x="4231" y="11831"/>
                  <a:pt x="4306" y="11808"/>
                  <a:pt x="4366" y="11782"/>
                </a:cubicBezTo>
                <a:cubicBezTo>
                  <a:pt x="4422" y="11758"/>
                  <a:pt x="4480" y="11720"/>
                  <a:pt x="4539" y="11708"/>
                </a:cubicBezTo>
                <a:cubicBezTo>
                  <a:pt x="4612" y="11693"/>
                  <a:pt x="4561" y="11698"/>
                  <a:pt x="4514" y="11633"/>
                </a:cubicBezTo>
              </a:path>
              <a:path w="8311" h="5284">
                <a:moveTo>
                  <a:pt x="4440" y="10716"/>
                </a:moveTo>
                <a:lnTo>
                  <a:pt x="4440" y="10716"/>
                </a:lnTo>
              </a:path>
              <a:path w="8311" h="5284">
                <a:moveTo>
                  <a:pt x="4539" y="10616"/>
                </a:moveTo>
                <a:cubicBezTo>
                  <a:pt x="4539" y="10930"/>
                  <a:pt x="4539" y="11245"/>
                  <a:pt x="4539" y="11559"/>
                </a:cubicBezTo>
                <a:cubicBezTo>
                  <a:pt x="4539" y="11590"/>
                  <a:pt x="4531" y="11544"/>
                  <a:pt x="4490" y="11509"/>
                </a:cubicBezTo>
              </a:path>
              <a:path w="8311" h="5284">
                <a:moveTo>
                  <a:pt x="3646" y="10740"/>
                </a:moveTo>
                <a:cubicBezTo>
                  <a:pt x="3615" y="10768"/>
                  <a:pt x="3516" y="10851"/>
                  <a:pt x="3497" y="10889"/>
                </a:cubicBezTo>
                <a:cubicBezTo>
                  <a:pt x="3476" y="10931"/>
                  <a:pt x="3473" y="11013"/>
                  <a:pt x="3473" y="11063"/>
                </a:cubicBezTo>
                <a:cubicBezTo>
                  <a:pt x="3473" y="11144"/>
                  <a:pt x="3465" y="11212"/>
                  <a:pt x="3497" y="11286"/>
                </a:cubicBezTo>
                <a:cubicBezTo>
                  <a:pt x="3519" y="11337"/>
                  <a:pt x="3589" y="11423"/>
                  <a:pt x="3646" y="11435"/>
                </a:cubicBezTo>
                <a:cubicBezTo>
                  <a:pt x="3764" y="11459"/>
                  <a:pt x="3753" y="11389"/>
                  <a:pt x="3845" y="11361"/>
                </a:cubicBezTo>
                <a:cubicBezTo>
                  <a:pt x="3918" y="11339"/>
                  <a:pt x="3975" y="11299"/>
                  <a:pt x="4018" y="11212"/>
                </a:cubicBezTo>
                <a:cubicBezTo>
                  <a:pt x="4042" y="11164"/>
                  <a:pt x="4058" y="11068"/>
                  <a:pt x="4043" y="11013"/>
                </a:cubicBezTo>
                <a:cubicBezTo>
                  <a:pt x="4024" y="10945"/>
                  <a:pt x="3991" y="10867"/>
                  <a:pt x="3944" y="10815"/>
                </a:cubicBezTo>
                <a:cubicBezTo>
                  <a:pt x="3906" y="10773"/>
                  <a:pt x="3841" y="10766"/>
                  <a:pt x="3795" y="10740"/>
                </a:cubicBezTo>
                <a:cubicBezTo>
                  <a:pt x="3737" y="10707"/>
                  <a:pt x="3746" y="10722"/>
                  <a:pt x="3746" y="10666"/>
                </a:cubicBezTo>
              </a:path>
              <a:path w="8311" h="5284">
                <a:moveTo>
                  <a:pt x="4589" y="10592"/>
                </a:moveTo>
                <a:cubicBezTo>
                  <a:pt x="4639" y="10560"/>
                  <a:pt x="4706" y="10502"/>
                  <a:pt x="4762" y="10468"/>
                </a:cubicBezTo>
                <a:cubicBezTo>
                  <a:pt x="4881" y="10396"/>
                  <a:pt x="4979" y="10327"/>
                  <a:pt x="5085" y="10244"/>
                </a:cubicBezTo>
                <a:cubicBezTo>
                  <a:pt x="5160" y="10185"/>
                  <a:pt x="5214" y="10103"/>
                  <a:pt x="5283" y="10046"/>
                </a:cubicBezTo>
                <a:cubicBezTo>
                  <a:pt x="5348" y="9992"/>
                  <a:pt x="5430" y="9935"/>
                  <a:pt x="5482" y="9872"/>
                </a:cubicBezTo>
                <a:cubicBezTo>
                  <a:pt x="5509" y="9819"/>
                  <a:pt x="5521" y="9799"/>
                  <a:pt x="5556" y="9773"/>
                </a:cubicBezTo>
                <a:cubicBezTo>
                  <a:pt x="5495" y="9782"/>
                  <a:pt x="5500" y="9780"/>
                  <a:pt x="5457" y="9823"/>
                </a:cubicBezTo>
              </a:path>
              <a:path w="8311" h="5284">
                <a:moveTo>
                  <a:pt x="5507" y="9823"/>
                </a:moveTo>
                <a:cubicBezTo>
                  <a:pt x="5540" y="9899"/>
                  <a:pt x="5569" y="9971"/>
                  <a:pt x="5631" y="10021"/>
                </a:cubicBezTo>
                <a:cubicBezTo>
                  <a:pt x="5685" y="10064"/>
                  <a:pt x="5751" y="10101"/>
                  <a:pt x="5804" y="10145"/>
                </a:cubicBezTo>
                <a:cubicBezTo>
                  <a:pt x="5860" y="10192"/>
                  <a:pt x="5954" y="10216"/>
                  <a:pt x="6003" y="10269"/>
                </a:cubicBezTo>
                <a:cubicBezTo>
                  <a:pt x="6084" y="10356"/>
                  <a:pt x="6131" y="10429"/>
                  <a:pt x="6226" y="10492"/>
                </a:cubicBezTo>
                <a:cubicBezTo>
                  <a:pt x="6262" y="10516"/>
                  <a:pt x="6357" y="10504"/>
                  <a:pt x="6325" y="10567"/>
                </a:cubicBezTo>
                <a:cubicBezTo>
                  <a:pt x="6317" y="10567"/>
                  <a:pt x="6308" y="10567"/>
                  <a:pt x="6300" y="10567"/>
                </a:cubicBezTo>
              </a:path>
              <a:path w="8311" h="5284">
                <a:moveTo>
                  <a:pt x="4638" y="11683"/>
                </a:moveTo>
                <a:cubicBezTo>
                  <a:pt x="4646" y="11675"/>
                  <a:pt x="4655" y="11666"/>
                  <a:pt x="4663" y="11658"/>
                </a:cubicBezTo>
                <a:cubicBezTo>
                  <a:pt x="4678" y="11719"/>
                  <a:pt x="4714" y="11742"/>
                  <a:pt x="4762" y="11782"/>
                </a:cubicBezTo>
                <a:cubicBezTo>
                  <a:pt x="4815" y="11826"/>
                  <a:pt x="4877" y="11845"/>
                  <a:pt x="4936" y="11881"/>
                </a:cubicBezTo>
                <a:cubicBezTo>
                  <a:pt x="5036" y="11942"/>
                  <a:pt x="5135" y="12007"/>
                  <a:pt x="5234" y="12055"/>
                </a:cubicBezTo>
                <a:cubicBezTo>
                  <a:pt x="5284" y="12079"/>
                  <a:pt x="5357" y="12117"/>
                  <a:pt x="5407" y="12129"/>
                </a:cubicBezTo>
              </a:path>
              <a:path w="8311" h="5284">
                <a:moveTo>
                  <a:pt x="5358" y="12179"/>
                </a:moveTo>
                <a:cubicBezTo>
                  <a:pt x="5402" y="12205"/>
                  <a:pt x="5429" y="12204"/>
                  <a:pt x="5482" y="12204"/>
                </a:cubicBezTo>
                <a:cubicBezTo>
                  <a:pt x="5533" y="12204"/>
                  <a:pt x="5565" y="12211"/>
                  <a:pt x="5606" y="12229"/>
                </a:cubicBezTo>
                <a:cubicBezTo>
                  <a:pt x="5622" y="12237"/>
                  <a:pt x="5639" y="12246"/>
                  <a:pt x="5655" y="12254"/>
                </a:cubicBezTo>
                <a:cubicBezTo>
                  <a:pt x="5574" y="12171"/>
                  <a:pt x="5647" y="12196"/>
                  <a:pt x="5705" y="12129"/>
                </a:cubicBezTo>
                <a:cubicBezTo>
                  <a:pt x="5754" y="12073"/>
                  <a:pt x="5793" y="12006"/>
                  <a:pt x="5854" y="11956"/>
                </a:cubicBezTo>
                <a:cubicBezTo>
                  <a:pt x="5920" y="11902"/>
                  <a:pt x="5984" y="11834"/>
                  <a:pt x="6052" y="11782"/>
                </a:cubicBezTo>
                <a:cubicBezTo>
                  <a:pt x="6091" y="11752"/>
                  <a:pt x="6139" y="11713"/>
                  <a:pt x="6176" y="11683"/>
                </a:cubicBezTo>
                <a:cubicBezTo>
                  <a:pt x="6233" y="11637"/>
                  <a:pt x="6285" y="11622"/>
                  <a:pt x="6350" y="11609"/>
                </a:cubicBezTo>
                <a:cubicBezTo>
                  <a:pt x="6362" y="11567"/>
                  <a:pt x="6353" y="11571"/>
                  <a:pt x="6375" y="11534"/>
                </a:cubicBezTo>
              </a:path>
              <a:path w="8311" h="5284">
                <a:moveTo>
                  <a:pt x="6325" y="10592"/>
                </a:moveTo>
                <a:cubicBezTo>
                  <a:pt x="6342" y="10567"/>
                  <a:pt x="6358" y="10542"/>
                  <a:pt x="6375" y="10517"/>
                </a:cubicBezTo>
                <a:cubicBezTo>
                  <a:pt x="6345" y="10567"/>
                  <a:pt x="6350" y="10604"/>
                  <a:pt x="6350" y="10666"/>
                </a:cubicBezTo>
                <a:cubicBezTo>
                  <a:pt x="6350" y="10798"/>
                  <a:pt x="6332" y="10941"/>
                  <a:pt x="6375" y="11063"/>
                </a:cubicBezTo>
                <a:cubicBezTo>
                  <a:pt x="6405" y="11147"/>
                  <a:pt x="6400" y="11223"/>
                  <a:pt x="6400" y="11311"/>
                </a:cubicBezTo>
                <a:cubicBezTo>
                  <a:pt x="6400" y="11377"/>
                  <a:pt x="6400" y="11443"/>
                  <a:pt x="6400" y="11509"/>
                </a:cubicBezTo>
                <a:cubicBezTo>
                  <a:pt x="6350" y="11509"/>
                  <a:pt x="6334" y="11509"/>
                  <a:pt x="6350" y="11460"/>
                </a:cubicBezTo>
              </a:path>
              <a:path w="8311" h="5284">
                <a:moveTo>
                  <a:pt x="5482" y="10790"/>
                </a:moveTo>
                <a:cubicBezTo>
                  <a:pt x="5437" y="10846"/>
                  <a:pt x="5411" y="10892"/>
                  <a:pt x="5407" y="10964"/>
                </a:cubicBezTo>
                <a:cubicBezTo>
                  <a:pt x="5403" y="11028"/>
                  <a:pt x="5383" y="11067"/>
                  <a:pt x="5383" y="11137"/>
                </a:cubicBezTo>
                <a:cubicBezTo>
                  <a:pt x="5383" y="11200"/>
                  <a:pt x="5372" y="11248"/>
                  <a:pt x="5432" y="11286"/>
                </a:cubicBezTo>
                <a:cubicBezTo>
                  <a:pt x="5467" y="11308"/>
                  <a:pt x="5566" y="11333"/>
                  <a:pt x="5606" y="11311"/>
                </a:cubicBezTo>
                <a:cubicBezTo>
                  <a:pt x="5662" y="11279"/>
                  <a:pt x="5724" y="11227"/>
                  <a:pt x="5730" y="11162"/>
                </a:cubicBezTo>
                <a:cubicBezTo>
                  <a:pt x="5738" y="11079"/>
                  <a:pt x="5723" y="11037"/>
                  <a:pt x="5705" y="10964"/>
                </a:cubicBezTo>
                <a:cubicBezTo>
                  <a:pt x="5699" y="10940"/>
                  <a:pt x="5694" y="10850"/>
                  <a:pt x="5680" y="10840"/>
                </a:cubicBezTo>
                <a:cubicBezTo>
                  <a:pt x="5637" y="10808"/>
                  <a:pt x="5565" y="10750"/>
                  <a:pt x="5507" y="10740"/>
                </a:cubicBezTo>
                <a:cubicBezTo>
                  <a:pt x="5456" y="10731"/>
                  <a:pt x="5389" y="10776"/>
                  <a:pt x="5383" y="10740"/>
                </a:cubicBezTo>
                <a:cubicBezTo>
                  <a:pt x="5383" y="10724"/>
                  <a:pt x="5383" y="10707"/>
                  <a:pt x="5383" y="10691"/>
                </a:cubicBezTo>
              </a:path>
              <a:path w="8311" h="5284">
                <a:moveTo>
                  <a:pt x="5507" y="9823"/>
                </a:moveTo>
                <a:cubicBezTo>
                  <a:pt x="5540" y="9809"/>
                  <a:pt x="5648" y="9747"/>
                  <a:pt x="5680" y="9723"/>
                </a:cubicBezTo>
                <a:cubicBezTo>
                  <a:pt x="5777" y="9650"/>
                  <a:pt x="5883" y="9577"/>
                  <a:pt x="5978" y="9500"/>
                </a:cubicBezTo>
                <a:cubicBezTo>
                  <a:pt x="6012" y="9472"/>
                  <a:pt x="6120" y="9417"/>
                  <a:pt x="6102" y="9426"/>
                </a:cubicBezTo>
                <a:cubicBezTo>
                  <a:pt x="6094" y="9426"/>
                  <a:pt x="6085" y="9426"/>
                  <a:pt x="6077" y="9426"/>
                </a:cubicBezTo>
              </a:path>
              <a:path w="8311" h="5284">
                <a:moveTo>
                  <a:pt x="6648" y="8880"/>
                </a:moveTo>
                <a:cubicBezTo>
                  <a:pt x="6625" y="8834"/>
                  <a:pt x="6605" y="8796"/>
                  <a:pt x="6573" y="8756"/>
                </a:cubicBezTo>
              </a:path>
              <a:path w="8311" h="5284">
                <a:moveTo>
                  <a:pt x="6573" y="8756"/>
                </a:moveTo>
                <a:cubicBezTo>
                  <a:pt x="6533" y="8817"/>
                  <a:pt x="6469" y="8886"/>
                  <a:pt x="6449" y="8954"/>
                </a:cubicBezTo>
                <a:cubicBezTo>
                  <a:pt x="6431" y="9015"/>
                  <a:pt x="6424" y="9087"/>
                  <a:pt x="6424" y="9153"/>
                </a:cubicBezTo>
                <a:cubicBezTo>
                  <a:pt x="6424" y="9221"/>
                  <a:pt x="6415" y="9280"/>
                  <a:pt x="6474" y="9327"/>
                </a:cubicBezTo>
                <a:cubicBezTo>
                  <a:pt x="6537" y="9369"/>
                  <a:pt x="6562" y="9372"/>
                  <a:pt x="6548" y="9426"/>
                </a:cubicBezTo>
                <a:cubicBezTo>
                  <a:pt x="6588" y="9437"/>
                  <a:pt x="6676" y="9543"/>
                  <a:pt x="6722" y="9475"/>
                </a:cubicBezTo>
                <a:cubicBezTo>
                  <a:pt x="6722" y="9413"/>
                  <a:pt x="6733" y="9389"/>
                  <a:pt x="6796" y="9376"/>
                </a:cubicBezTo>
              </a:path>
              <a:path w="8311" h="5284">
                <a:moveTo>
                  <a:pt x="6995" y="8781"/>
                </a:moveTo>
                <a:cubicBezTo>
                  <a:pt x="7025" y="8831"/>
                  <a:pt x="7020" y="8868"/>
                  <a:pt x="7020" y="8930"/>
                </a:cubicBezTo>
                <a:cubicBezTo>
                  <a:pt x="7020" y="9027"/>
                  <a:pt x="7029" y="9120"/>
                  <a:pt x="7045" y="9203"/>
                </a:cubicBezTo>
                <a:cubicBezTo>
                  <a:pt x="7055" y="9257"/>
                  <a:pt x="7055" y="9303"/>
                  <a:pt x="7069" y="9351"/>
                </a:cubicBezTo>
                <a:cubicBezTo>
                  <a:pt x="7069" y="9359"/>
                  <a:pt x="7069" y="9368"/>
                  <a:pt x="7069" y="9376"/>
                </a:cubicBezTo>
              </a:path>
              <a:path w="8311" h="5284">
                <a:moveTo>
                  <a:pt x="7243" y="8706"/>
                </a:moveTo>
                <a:cubicBezTo>
                  <a:pt x="7249" y="8805"/>
                  <a:pt x="7268" y="8882"/>
                  <a:pt x="7268" y="8979"/>
                </a:cubicBezTo>
                <a:cubicBezTo>
                  <a:pt x="7268" y="9120"/>
                  <a:pt x="7268" y="9260"/>
                  <a:pt x="7268" y="9401"/>
                </a:cubicBezTo>
              </a:path>
              <a:path w="8311" h="5284">
                <a:moveTo>
                  <a:pt x="7020" y="9178"/>
                </a:moveTo>
                <a:cubicBezTo>
                  <a:pt x="7073" y="9178"/>
                  <a:pt x="7121" y="9172"/>
                  <a:pt x="7169" y="9153"/>
                </a:cubicBezTo>
                <a:cubicBezTo>
                  <a:pt x="7237" y="9125"/>
                  <a:pt x="7286" y="9096"/>
                  <a:pt x="7342" y="9054"/>
                </a:cubicBezTo>
              </a:path>
              <a:path w="8311" h="5284">
                <a:moveTo>
                  <a:pt x="7541" y="9252"/>
                </a:moveTo>
                <a:cubicBezTo>
                  <a:pt x="7601" y="9252"/>
                  <a:pt x="7655" y="9233"/>
                  <a:pt x="7689" y="9302"/>
                </a:cubicBezTo>
                <a:cubicBezTo>
                  <a:pt x="7718" y="9361"/>
                  <a:pt x="7658" y="9447"/>
                  <a:pt x="7615" y="9475"/>
                </a:cubicBezTo>
                <a:cubicBezTo>
                  <a:pt x="7576" y="9500"/>
                  <a:pt x="7646" y="9461"/>
                  <a:pt x="7689" y="9475"/>
                </a:cubicBezTo>
                <a:cubicBezTo>
                  <a:pt x="7743" y="9493"/>
                  <a:pt x="7772" y="9568"/>
                  <a:pt x="7789" y="9624"/>
                </a:cubicBezTo>
                <a:cubicBezTo>
                  <a:pt x="7816" y="9711"/>
                  <a:pt x="7703" y="9727"/>
                  <a:pt x="7665" y="9748"/>
                </a:cubicBezTo>
                <a:cubicBezTo>
                  <a:pt x="7632" y="9766"/>
                  <a:pt x="7586" y="9796"/>
                  <a:pt x="7541" y="9773"/>
                </a:cubicBezTo>
                <a:cubicBezTo>
                  <a:pt x="7487" y="9746"/>
                  <a:pt x="7471" y="9745"/>
                  <a:pt x="7441" y="9699"/>
                </a:cubicBezTo>
                <a:cubicBezTo>
                  <a:pt x="7433" y="9691"/>
                  <a:pt x="7425" y="9682"/>
                  <a:pt x="7417" y="9674"/>
                </a:cubicBezTo>
              </a:path>
              <a:path w="8311" h="5284">
                <a:moveTo>
                  <a:pt x="6400" y="10517"/>
                </a:moveTo>
                <a:cubicBezTo>
                  <a:pt x="6466" y="10568"/>
                  <a:pt x="6488" y="10532"/>
                  <a:pt x="6573" y="10492"/>
                </a:cubicBezTo>
                <a:cubicBezTo>
                  <a:pt x="6660" y="10451"/>
                  <a:pt x="6726" y="10443"/>
                  <a:pt x="6821" y="10443"/>
                </a:cubicBezTo>
                <a:cubicBezTo>
                  <a:pt x="6879" y="10443"/>
                  <a:pt x="6937" y="10443"/>
                  <a:pt x="6995" y="10443"/>
                </a:cubicBezTo>
              </a:path>
              <a:path w="8311" h="5284">
                <a:moveTo>
                  <a:pt x="7466" y="10294"/>
                </a:moveTo>
                <a:cubicBezTo>
                  <a:pt x="7458" y="10236"/>
                  <a:pt x="7429" y="10177"/>
                  <a:pt x="7342" y="10220"/>
                </a:cubicBezTo>
                <a:cubicBezTo>
                  <a:pt x="7288" y="10247"/>
                  <a:pt x="7235" y="10339"/>
                  <a:pt x="7218" y="10393"/>
                </a:cubicBezTo>
                <a:cubicBezTo>
                  <a:pt x="7200" y="10451"/>
                  <a:pt x="7223" y="10540"/>
                  <a:pt x="7243" y="10592"/>
                </a:cubicBezTo>
                <a:cubicBezTo>
                  <a:pt x="7267" y="10655"/>
                  <a:pt x="7282" y="10681"/>
                  <a:pt x="7342" y="10716"/>
                </a:cubicBezTo>
                <a:cubicBezTo>
                  <a:pt x="7441" y="10774"/>
                  <a:pt x="7484" y="10717"/>
                  <a:pt x="7565" y="10666"/>
                </a:cubicBezTo>
              </a:path>
              <a:path w="8311" h="5284">
                <a:moveTo>
                  <a:pt x="7938" y="10145"/>
                </a:moveTo>
                <a:cubicBezTo>
                  <a:pt x="7938" y="10212"/>
                  <a:pt x="7952" y="10257"/>
                  <a:pt x="7962" y="10319"/>
                </a:cubicBezTo>
                <a:cubicBezTo>
                  <a:pt x="7988" y="10482"/>
                  <a:pt x="7929" y="10945"/>
                  <a:pt x="7987" y="10790"/>
                </a:cubicBezTo>
                <a:cubicBezTo>
                  <a:pt x="7987" y="10773"/>
                  <a:pt x="7987" y="10757"/>
                  <a:pt x="7987" y="10740"/>
                </a:cubicBezTo>
              </a:path>
              <a:path w="8311" h="5284">
                <a:moveTo>
                  <a:pt x="8111" y="10145"/>
                </a:moveTo>
                <a:cubicBezTo>
                  <a:pt x="8111" y="10385"/>
                  <a:pt x="8357" y="10935"/>
                  <a:pt x="8136" y="10840"/>
                </a:cubicBezTo>
                <a:cubicBezTo>
                  <a:pt x="8119" y="10832"/>
                  <a:pt x="8103" y="10823"/>
                  <a:pt x="8086" y="10815"/>
                </a:cubicBezTo>
              </a:path>
              <a:path w="8311" h="5284">
                <a:moveTo>
                  <a:pt x="7913" y="10567"/>
                </a:moveTo>
                <a:cubicBezTo>
                  <a:pt x="7966" y="10556"/>
                  <a:pt x="8016" y="10531"/>
                  <a:pt x="8062" y="10517"/>
                </a:cubicBezTo>
                <a:cubicBezTo>
                  <a:pt x="8110" y="10502"/>
                  <a:pt x="8160" y="10498"/>
                  <a:pt x="8210" y="10492"/>
                </a:cubicBezTo>
              </a:path>
              <a:path w="8311" h="5284">
                <a:moveTo>
                  <a:pt x="8508" y="10592"/>
                </a:moveTo>
                <a:cubicBezTo>
                  <a:pt x="8554" y="10592"/>
                  <a:pt x="8580" y="10599"/>
                  <a:pt x="8607" y="10641"/>
                </a:cubicBezTo>
                <a:cubicBezTo>
                  <a:pt x="8647" y="10703"/>
                  <a:pt x="8637" y="10782"/>
                  <a:pt x="8558" y="10815"/>
                </a:cubicBezTo>
                <a:cubicBezTo>
                  <a:pt x="8541" y="10815"/>
                  <a:pt x="8525" y="10815"/>
                  <a:pt x="8508" y="10815"/>
                </a:cubicBezTo>
                <a:cubicBezTo>
                  <a:pt x="8570" y="10815"/>
                  <a:pt x="8606" y="10813"/>
                  <a:pt x="8657" y="10840"/>
                </a:cubicBezTo>
                <a:cubicBezTo>
                  <a:pt x="8730" y="10878"/>
                  <a:pt x="8758" y="10904"/>
                  <a:pt x="8781" y="10988"/>
                </a:cubicBezTo>
                <a:cubicBezTo>
                  <a:pt x="8795" y="11041"/>
                  <a:pt x="8753" y="11115"/>
                  <a:pt x="8706" y="11137"/>
                </a:cubicBezTo>
                <a:cubicBezTo>
                  <a:pt x="8661" y="11158"/>
                  <a:pt x="8573" y="11127"/>
                  <a:pt x="8533" y="11112"/>
                </a:cubicBezTo>
                <a:cubicBezTo>
                  <a:pt x="8492" y="11092"/>
                  <a:pt x="8486" y="11084"/>
                  <a:pt x="8458" y="11088"/>
                </a:cubicBezTo>
              </a:path>
              <a:path w="8311" h="5284">
                <a:moveTo>
                  <a:pt x="3820" y="12179"/>
                </a:moveTo>
                <a:cubicBezTo>
                  <a:pt x="3850" y="12229"/>
                  <a:pt x="3845" y="12266"/>
                  <a:pt x="3845" y="12328"/>
                </a:cubicBezTo>
                <a:cubicBezTo>
                  <a:pt x="3845" y="12434"/>
                  <a:pt x="3843" y="12526"/>
                  <a:pt x="3820" y="12626"/>
                </a:cubicBezTo>
                <a:cubicBezTo>
                  <a:pt x="3820" y="12658"/>
                  <a:pt x="3820" y="12658"/>
                  <a:pt x="3820" y="12601"/>
                </a:cubicBezTo>
              </a:path>
              <a:path w="8311" h="5284">
                <a:moveTo>
                  <a:pt x="3746" y="13122"/>
                </a:moveTo>
                <a:cubicBezTo>
                  <a:pt x="3746" y="13053"/>
                  <a:pt x="3751" y="12994"/>
                  <a:pt x="3671" y="12973"/>
                </a:cubicBezTo>
                <a:cubicBezTo>
                  <a:pt x="3606" y="12956"/>
                  <a:pt x="3572" y="12992"/>
                  <a:pt x="3522" y="13022"/>
                </a:cubicBezTo>
                <a:cubicBezTo>
                  <a:pt x="3451" y="13064"/>
                  <a:pt x="3442" y="13090"/>
                  <a:pt x="3423" y="13171"/>
                </a:cubicBezTo>
                <a:cubicBezTo>
                  <a:pt x="3398" y="13277"/>
                  <a:pt x="3438" y="13331"/>
                  <a:pt x="3473" y="13419"/>
                </a:cubicBezTo>
                <a:cubicBezTo>
                  <a:pt x="3487" y="13454"/>
                  <a:pt x="3528" y="13491"/>
                  <a:pt x="3572" y="13494"/>
                </a:cubicBezTo>
                <a:cubicBezTo>
                  <a:pt x="3646" y="13499"/>
                  <a:pt x="3685" y="13451"/>
                  <a:pt x="3746" y="13419"/>
                </a:cubicBezTo>
                <a:cubicBezTo>
                  <a:pt x="3762" y="13411"/>
                  <a:pt x="3779" y="13403"/>
                  <a:pt x="3795" y="13395"/>
                </a:cubicBezTo>
              </a:path>
              <a:path w="8311" h="5284">
                <a:moveTo>
                  <a:pt x="4093" y="12998"/>
                </a:moveTo>
                <a:cubicBezTo>
                  <a:pt x="4119" y="13058"/>
                  <a:pt x="4118" y="13081"/>
                  <a:pt x="4118" y="13146"/>
                </a:cubicBezTo>
                <a:cubicBezTo>
                  <a:pt x="4118" y="13254"/>
                  <a:pt x="4118" y="13361"/>
                  <a:pt x="4118" y="13469"/>
                </a:cubicBezTo>
                <a:cubicBezTo>
                  <a:pt x="4145" y="13441"/>
                  <a:pt x="4153" y="13427"/>
                  <a:pt x="4142" y="13395"/>
                </a:cubicBezTo>
              </a:path>
              <a:path w="8311" h="5284">
                <a:moveTo>
                  <a:pt x="4316" y="12973"/>
                </a:moveTo>
                <a:cubicBezTo>
                  <a:pt x="4316" y="13147"/>
                  <a:pt x="4316" y="13320"/>
                  <a:pt x="4316" y="13494"/>
                </a:cubicBezTo>
              </a:path>
              <a:path w="8311" h="5284">
                <a:moveTo>
                  <a:pt x="4142" y="13370"/>
                </a:moveTo>
                <a:cubicBezTo>
                  <a:pt x="4186" y="13337"/>
                  <a:pt x="4208" y="13345"/>
                  <a:pt x="4266" y="13345"/>
                </a:cubicBezTo>
                <a:cubicBezTo>
                  <a:pt x="4324" y="13345"/>
                  <a:pt x="4345" y="13348"/>
                  <a:pt x="4390" y="13320"/>
                </a:cubicBezTo>
              </a:path>
              <a:path w="8311" h="5284">
                <a:moveTo>
                  <a:pt x="4589" y="13494"/>
                </a:moveTo>
                <a:cubicBezTo>
                  <a:pt x="4669" y="13463"/>
                  <a:pt x="4714" y="13442"/>
                  <a:pt x="4762" y="13519"/>
                </a:cubicBezTo>
                <a:cubicBezTo>
                  <a:pt x="4811" y="13597"/>
                  <a:pt x="4771" y="13609"/>
                  <a:pt x="4713" y="13667"/>
                </a:cubicBezTo>
                <a:cubicBezTo>
                  <a:pt x="4705" y="13675"/>
                  <a:pt x="4696" y="13684"/>
                  <a:pt x="4688" y="13692"/>
                </a:cubicBezTo>
                <a:cubicBezTo>
                  <a:pt x="4729" y="13669"/>
                  <a:pt x="4785" y="13618"/>
                  <a:pt x="4837" y="13643"/>
                </a:cubicBezTo>
                <a:cubicBezTo>
                  <a:pt x="4887" y="13667"/>
                  <a:pt x="4906" y="13742"/>
                  <a:pt x="4887" y="13791"/>
                </a:cubicBezTo>
                <a:cubicBezTo>
                  <a:pt x="4873" y="13827"/>
                  <a:pt x="4799" y="13875"/>
                  <a:pt x="4787" y="13891"/>
                </a:cubicBezTo>
                <a:cubicBezTo>
                  <a:pt x="4756" y="13932"/>
                  <a:pt x="4703" y="13967"/>
                  <a:pt x="4638" y="13940"/>
                </a:cubicBezTo>
                <a:cubicBezTo>
                  <a:pt x="4569" y="13911"/>
                  <a:pt x="4570" y="13885"/>
                  <a:pt x="4514" y="13841"/>
                </a:cubicBezTo>
                <a:cubicBezTo>
                  <a:pt x="4506" y="13841"/>
                  <a:pt x="4498" y="13841"/>
                  <a:pt x="4490" y="13841"/>
                </a:cubicBezTo>
              </a:path>
              <a:path w="8311" h="5284">
                <a:moveTo>
                  <a:pt x="5507" y="9401"/>
                </a:moveTo>
                <a:cubicBezTo>
                  <a:pt x="5482" y="9426"/>
                  <a:pt x="5474" y="9434"/>
                  <a:pt x="5457" y="9451"/>
                </a:cubicBezTo>
              </a:path>
              <a:path w="8311" h="5284">
                <a:moveTo>
                  <a:pt x="5457" y="9376"/>
                </a:moveTo>
                <a:cubicBezTo>
                  <a:pt x="5457" y="9492"/>
                  <a:pt x="5457" y="9607"/>
                  <a:pt x="5457" y="9723"/>
                </a:cubicBezTo>
                <a:cubicBezTo>
                  <a:pt x="5457" y="9674"/>
                  <a:pt x="5457" y="9657"/>
                  <a:pt x="5457" y="9624"/>
                </a:cubicBezTo>
              </a:path>
              <a:path w="8311" h="5284">
                <a:moveTo>
                  <a:pt x="5556" y="8979"/>
                </a:moveTo>
                <a:cubicBezTo>
                  <a:pt x="5450" y="8979"/>
                  <a:pt x="5423" y="8987"/>
                  <a:pt x="5333" y="9029"/>
                </a:cubicBezTo>
                <a:cubicBezTo>
                  <a:pt x="5271" y="9058"/>
                  <a:pt x="5257" y="9101"/>
                  <a:pt x="5209" y="9153"/>
                </a:cubicBezTo>
                <a:cubicBezTo>
                  <a:pt x="5158" y="9208"/>
                  <a:pt x="5209" y="9264"/>
                  <a:pt x="5184" y="9327"/>
                </a:cubicBezTo>
                <a:cubicBezTo>
                  <a:pt x="5160" y="9387"/>
                  <a:pt x="5159" y="9422"/>
                  <a:pt x="5159" y="9500"/>
                </a:cubicBezTo>
                <a:cubicBezTo>
                  <a:pt x="5159" y="9567"/>
                  <a:pt x="5182" y="9628"/>
                  <a:pt x="5234" y="9674"/>
                </a:cubicBezTo>
                <a:cubicBezTo>
                  <a:pt x="5289" y="9722"/>
                  <a:pt x="5339" y="9775"/>
                  <a:pt x="5407" y="9798"/>
                </a:cubicBezTo>
                <a:cubicBezTo>
                  <a:pt x="5459" y="9815"/>
                  <a:pt x="5511" y="9784"/>
                  <a:pt x="5556" y="9773"/>
                </a:cubicBezTo>
                <a:cubicBezTo>
                  <a:pt x="5589" y="9765"/>
                  <a:pt x="5658" y="9772"/>
                  <a:pt x="5680" y="9748"/>
                </a:cubicBezTo>
                <a:cubicBezTo>
                  <a:pt x="5719" y="9706"/>
                  <a:pt x="5755" y="9649"/>
                  <a:pt x="5779" y="9624"/>
                </a:cubicBezTo>
                <a:cubicBezTo>
                  <a:pt x="5804" y="9599"/>
                  <a:pt x="5804" y="9577"/>
                  <a:pt x="5804" y="9525"/>
                </a:cubicBezTo>
                <a:cubicBezTo>
                  <a:pt x="5804" y="9441"/>
                  <a:pt x="5798" y="9401"/>
                  <a:pt x="5779" y="9327"/>
                </a:cubicBezTo>
                <a:cubicBezTo>
                  <a:pt x="5761" y="9256"/>
                  <a:pt x="5744" y="9258"/>
                  <a:pt x="5705" y="9203"/>
                </a:cubicBezTo>
                <a:cubicBezTo>
                  <a:pt x="5672" y="9156"/>
                  <a:pt x="5713" y="9111"/>
                  <a:pt x="5631" y="9079"/>
                </a:cubicBezTo>
                <a:cubicBezTo>
                  <a:pt x="5623" y="9079"/>
                  <a:pt x="5614" y="9079"/>
                  <a:pt x="5606" y="9079"/>
                </a:cubicBezTo>
              </a:path>
              <a:path w="8311" h="5284">
                <a:moveTo>
                  <a:pt x="6623" y="10765"/>
                </a:moveTo>
                <a:cubicBezTo>
                  <a:pt x="6664" y="10765"/>
                  <a:pt x="6706" y="10765"/>
                  <a:pt x="6747" y="10765"/>
                </a:cubicBezTo>
                <a:cubicBezTo>
                  <a:pt x="6747" y="10862"/>
                  <a:pt x="6746" y="10826"/>
                  <a:pt x="6697" y="10889"/>
                </a:cubicBezTo>
                <a:cubicBezTo>
                  <a:pt x="6655" y="10943"/>
                  <a:pt x="6661" y="10932"/>
                  <a:pt x="6623" y="10988"/>
                </a:cubicBezTo>
                <a:cubicBezTo>
                  <a:pt x="6659" y="11015"/>
                  <a:pt x="6699" y="11033"/>
                  <a:pt x="6747" y="11038"/>
                </a:cubicBezTo>
                <a:cubicBezTo>
                  <a:pt x="6795" y="11043"/>
                  <a:pt x="6802" y="11042"/>
                  <a:pt x="6821" y="11013"/>
                </a:cubicBezTo>
              </a:path>
              <a:path w="8311" h="5284">
                <a:moveTo>
                  <a:pt x="6524" y="10666"/>
                </a:moveTo>
                <a:cubicBezTo>
                  <a:pt x="6461" y="10716"/>
                  <a:pt x="6443" y="10733"/>
                  <a:pt x="6424" y="10815"/>
                </a:cubicBezTo>
                <a:cubicBezTo>
                  <a:pt x="6409" y="10879"/>
                  <a:pt x="6436" y="10931"/>
                  <a:pt x="6449" y="10988"/>
                </a:cubicBezTo>
                <a:cubicBezTo>
                  <a:pt x="6465" y="11057"/>
                  <a:pt x="6550" y="11087"/>
                  <a:pt x="6573" y="11137"/>
                </a:cubicBezTo>
                <a:cubicBezTo>
                  <a:pt x="6606" y="11209"/>
                  <a:pt x="6603" y="11253"/>
                  <a:pt x="6697" y="11261"/>
                </a:cubicBezTo>
                <a:cubicBezTo>
                  <a:pt x="6750" y="11265"/>
                  <a:pt x="6807" y="11273"/>
                  <a:pt x="6846" y="11237"/>
                </a:cubicBezTo>
                <a:cubicBezTo>
                  <a:pt x="6892" y="11195"/>
                  <a:pt x="6961" y="11160"/>
                  <a:pt x="6995" y="11112"/>
                </a:cubicBezTo>
                <a:cubicBezTo>
                  <a:pt x="7028" y="11066"/>
                  <a:pt x="6977" y="10948"/>
                  <a:pt x="6970" y="10914"/>
                </a:cubicBezTo>
                <a:cubicBezTo>
                  <a:pt x="6957" y="10851"/>
                  <a:pt x="6962" y="10795"/>
                  <a:pt x="6945" y="10740"/>
                </a:cubicBezTo>
                <a:cubicBezTo>
                  <a:pt x="6930" y="10692"/>
                  <a:pt x="6882" y="10634"/>
                  <a:pt x="6871" y="10592"/>
                </a:cubicBezTo>
                <a:cubicBezTo>
                  <a:pt x="6843" y="10489"/>
                  <a:pt x="6827" y="10582"/>
                  <a:pt x="6747" y="10542"/>
                </a:cubicBezTo>
                <a:cubicBezTo>
                  <a:pt x="6647" y="10492"/>
                  <a:pt x="6693" y="10537"/>
                  <a:pt x="6623" y="10567"/>
                </a:cubicBezTo>
                <a:cubicBezTo>
                  <a:pt x="6566" y="10591"/>
                  <a:pt x="6515" y="10628"/>
                  <a:pt x="6474" y="10691"/>
                </a:cubicBezTo>
                <a:cubicBezTo>
                  <a:pt x="6439" y="10744"/>
                  <a:pt x="6432" y="10756"/>
                  <a:pt x="6424" y="10815"/>
                </a:cubicBezTo>
              </a:path>
              <a:path w="8311" h="5284">
                <a:moveTo>
                  <a:pt x="6548" y="11658"/>
                </a:moveTo>
                <a:cubicBezTo>
                  <a:pt x="6618" y="11658"/>
                  <a:pt x="6670" y="11633"/>
                  <a:pt x="6697" y="11708"/>
                </a:cubicBezTo>
                <a:cubicBezTo>
                  <a:pt x="6713" y="11753"/>
                  <a:pt x="6622" y="11759"/>
                  <a:pt x="6623" y="11807"/>
                </a:cubicBezTo>
                <a:cubicBezTo>
                  <a:pt x="6624" y="11854"/>
                  <a:pt x="6693" y="11845"/>
                  <a:pt x="6722" y="11881"/>
                </a:cubicBezTo>
                <a:cubicBezTo>
                  <a:pt x="6666" y="11937"/>
                  <a:pt x="6662" y="11970"/>
                  <a:pt x="6598" y="11981"/>
                </a:cubicBezTo>
              </a:path>
              <a:path w="8311" h="5284">
                <a:moveTo>
                  <a:pt x="6474" y="11509"/>
                </a:moveTo>
                <a:cubicBezTo>
                  <a:pt x="6452" y="11564"/>
                  <a:pt x="6406" y="11625"/>
                  <a:pt x="6400" y="11683"/>
                </a:cubicBezTo>
                <a:cubicBezTo>
                  <a:pt x="6395" y="11736"/>
                  <a:pt x="6375" y="11775"/>
                  <a:pt x="6375" y="11832"/>
                </a:cubicBezTo>
                <a:cubicBezTo>
                  <a:pt x="6375" y="11902"/>
                  <a:pt x="6369" y="11950"/>
                  <a:pt x="6400" y="12005"/>
                </a:cubicBezTo>
                <a:cubicBezTo>
                  <a:pt x="6433" y="12063"/>
                  <a:pt x="6423" y="12096"/>
                  <a:pt x="6474" y="12129"/>
                </a:cubicBezTo>
                <a:cubicBezTo>
                  <a:pt x="6551" y="12178"/>
                  <a:pt x="6547" y="12179"/>
                  <a:pt x="6623" y="12179"/>
                </a:cubicBezTo>
                <a:cubicBezTo>
                  <a:pt x="6679" y="12179"/>
                  <a:pt x="6723" y="12171"/>
                  <a:pt x="6772" y="12154"/>
                </a:cubicBezTo>
                <a:cubicBezTo>
                  <a:pt x="6804" y="12143"/>
                  <a:pt x="6884" y="12042"/>
                  <a:pt x="6896" y="12005"/>
                </a:cubicBezTo>
                <a:cubicBezTo>
                  <a:pt x="6909" y="11966"/>
                  <a:pt x="6932" y="11904"/>
                  <a:pt x="6921" y="11857"/>
                </a:cubicBezTo>
                <a:cubicBezTo>
                  <a:pt x="6910" y="11807"/>
                  <a:pt x="6866" y="11724"/>
                  <a:pt x="6846" y="11683"/>
                </a:cubicBezTo>
                <a:cubicBezTo>
                  <a:pt x="6818" y="11627"/>
                  <a:pt x="6747" y="11609"/>
                  <a:pt x="6722" y="11584"/>
                </a:cubicBezTo>
                <a:cubicBezTo>
                  <a:pt x="6665" y="11527"/>
                  <a:pt x="6668" y="11522"/>
                  <a:pt x="6598" y="11485"/>
                </a:cubicBezTo>
                <a:cubicBezTo>
                  <a:pt x="6538" y="11453"/>
                  <a:pt x="6545" y="11450"/>
                  <a:pt x="6499" y="11485"/>
                </a:cubicBezTo>
              </a:path>
              <a:path w="8311" h="5284">
                <a:moveTo>
                  <a:pt x="5606" y="12601"/>
                </a:moveTo>
                <a:cubicBezTo>
                  <a:pt x="5587" y="12665"/>
                  <a:pt x="5546" y="12676"/>
                  <a:pt x="5531" y="12750"/>
                </a:cubicBezTo>
                <a:cubicBezTo>
                  <a:pt x="5599" y="12769"/>
                  <a:pt x="5589" y="12750"/>
                  <a:pt x="5655" y="12750"/>
                </a:cubicBezTo>
                <a:cubicBezTo>
                  <a:pt x="5688" y="12750"/>
                  <a:pt x="5722" y="12750"/>
                  <a:pt x="5755" y="12750"/>
                </a:cubicBezTo>
              </a:path>
              <a:path w="8311" h="5284">
                <a:moveTo>
                  <a:pt x="5755" y="12551"/>
                </a:moveTo>
                <a:cubicBezTo>
                  <a:pt x="5778" y="12632"/>
                  <a:pt x="5779" y="12689"/>
                  <a:pt x="5779" y="12774"/>
                </a:cubicBezTo>
                <a:cubicBezTo>
                  <a:pt x="5779" y="12849"/>
                  <a:pt x="5779" y="12923"/>
                  <a:pt x="5779" y="12998"/>
                </a:cubicBezTo>
                <a:cubicBezTo>
                  <a:pt x="5735" y="12953"/>
                  <a:pt x="5718" y="12943"/>
                  <a:pt x="5730" y="12898"/>
                </a:cubicBezTo>
              </a:path>
              <a:path w="8311" h="5284">
                <a:moveTo>
                  <a:pt x="5556" y="12328"/>
                </a:moveTo>
                <a:cubicBezTo>
                  <a:pt x="5515" y="12369"/>
                  <a:pt x="5491" y="12407"/>
                  <a:pt x="5457" y="12452"/>
                </a:cubicBezTo>
                <a:cubicBezTo>
                  <a:pt x="5431" y="12487"/>
                  <a:pt x="5419" y="12555"/>
                  <a:pt x="5407" y="12601"/>
                </a:cubicBezTo>
                <a:cubicBezTo>
                  <a:pt x="5394" y="12652"/>
                  <a:pt x="5403" y="12731"/>
                  <a:pt x="5432" y="12774"/>
                </a:cubicBezTo>
                <a:cubicBezTo>
                  <a:pt x="5471" y="12832"/>
                  <a:pt x="5508" y="12895"/>
                  <a:pt x="5556" y="12948"/>
                </a:cubicBezTo>
                <a:cubicBezTo>
                  <a:pt x="5588" y="12983"/>
                  <a:pt x="5640" y="12975"/>
                  <a:pt x="5680" y="12998"/>
                </a:cubicBezTo>
                <a:cubicBezTo>
                  <a:pt x="5718" y="13019"/>
                  <a:pt x="5808" y="13040"/>
                  <a:pt x="5854" y="13022"/>
                </a:cubicBezTo>
                <a:cubicBezTo>
                  <a:pt x="5912" y="12999"/>
                  <a:pt x="5935" y="12959"/>
                  <a:pt x="6003" y="12948"/>
                </a:cubicBezTo>
                <a:cubicBezTo>
                  <a:pt x="6041" y="12942"/>
                  <a:pt x="6114" y="12845"/>
                  <a:pt x="6127" y="12799"/>
                </a:cubicBezTo>
                <a:cubicBezTo>
                  <a:pt x="6146" y="12732"/>
                  <a:pt x="6130" y="12636"/>
                  <a:pt x="6102" y="12576"/>
                </a:cubicBezTo>
                <a:cubicBezTo>
                  <a:pt x="6084" y="12537"/>
                  <a:pt x="6056" y="12449"/>
                  <a:pt x="6028" y="12427"/>
                </a:cubicBezTo>
                <a:cubicBezTo>
                  <a:pt x="5964" y="12377"/>
                  <a:pt x="5874" y="12376"/>
                  <a:pt x="5804" y="12353"/>
                </a:cubicBezTo>
                <a:cubicBezTo>
                  <a:pt x="5707" y="12320"/>
                  <a:pt x="5714" y="12269"/>
                  <a:pt x="5631" y="12353"/>
                </a:cubicBezTo>
                <a:cubicBezTo>
                  <a:pt x="5590" y="12394"/>
                  <a:pt x="5591" y="12367"/>
                  <a:pt x="5581" y="12328"/>
                </a:cubicBezTo>
              </a:path>
              <a:path w="8311" h="5284">
                <a:moveTo>
                  <a:pt x="4167" y="12179"/>
                </a:moveTo>
                <a:cubicBezTo>
                  <a:pt x="4134" y="12179"/>
                  <a:pt x="4101" y="12179"/>
                  <a:pt x="4068" y="12179"/>
                </a:cubicBezTo>
                <a:cubicBezTo>
                  <a:pt x="4068" y="12238"/>
                  <a:pt x="4063" y="12279"/>
                  <a:pt x="4093" y="12328"/>
                </a:cubicBezTo>
                <a:cubicBezTo>
                  <a:pt x="4121" y="12305"/>
                  <a:pt x="4174" y="12254"/>
                  <a:pt x="4217" y="12278"/>
                </a:cubicBezTo>
                <a:cubicBezTo>
                  <a:pt x="4283" y="12315"/>
                  <a:pt x="4285" y="12372"/>
                  <a:pt x="4217" y="12402"/>
                </a:cubicBezTo>
                <a:cubicBezTo>
                  <a:pt x="4189" y="12414"/>
                  <a:pt x="4149" y="12421"/>
                  <a:pt x="4118" y="12427"/>
                </a:cubicBezTo>
              </a:path>
              <a:path w="8311" h="5284">
                <a:moveTo>
                  <a:pt x="4167" y="11981"/>
                </a:moveTo>
                <a:cubicBezTo>
                  <a:pt x="4067" y="11938"/>
                  <a:pt x="4107" y="11961"/>
                  <a:pt x="4018" y="12005"/>
                </a:cubicBezTo>
                <a:cubicBezTo>
                  <a:pt x="3999" y="12014"/>
                  <a:pt x="3929" y="12101"/>
                  <a:pt x="3919" y="12129"/>
                </a:cubicBezTo>
                <a:cubicBezTo>
                  <a:pt x="3887" y="12219"/>
                  <a:pt x="3914" y="12360"/>
                  <a:pt x="3894" y="12452"/>
                </a:cubicBezTo>
                <a:cubicBezTo>
                  <a:pt x="3884" y="12498"/>
                  <a:pt x="3892" y="12542"/>
                  <a:pt x="3919" y="12576"/>
                </a:cubicBezTo>
                <a:cubicBezTo>
                  <a:pt x="3943" y="12605"/>
                  <a:pt x="4005" y="12626"/>
                  <a:pt x="4043" y="12650"/>
                </a:cubicBezTo>
                <a:cubicBezTo>
                  <a:pt x="4128" y="12704"/>
                  <a:pt x="4134" y="12690"/>
                  <a:pt x="4217" y="12675"/>
                </a:cubicBezTo>
                <a:cubicBezTo>
                  <a:pt x="4260" y="12667"/>
                  <a:pt x="4379" y="12610"/>
                  <a:pt x="4415" y="12576"/>
                </a:cubicBezTo>
                <a:cubicBezTo>
                  <a:pt x="4459" y="12535"/>
                  <a:pt x="4459" y="12475"/>
                  <a:pt x="4490" y="12427"/>
                </a:cubicBezTo>
                <a:cubicBezTo>
                  <a:pt x="4522" y="12378"/>
                  <a:pt x="4514" y="12341"/>
                  <a:pt x="4514" y="12278"/>
                </a:cubicBezTo>
                <a:cubicBezTo>
                  <a:pt x="4514" y="12230"/>
                  <a:pt x="4531" y="12143"/>
                  <a:pt x="4490" y="12105"/>
                </a:cubicBezTo>
                <a:cubicBezTo>
                  <a:pt x="4448" y="12066"/>
                  <a:pt x="4403" y="12037"/>
                  <a:pt x="4366" y="11981"/>
                </a:cubicBezTo>
                <a:cubicBezTo>
                  <a:pt x="4309" y="11895"/>
                  <a:pt x="4296" y="11933"/>
                  <a:pt x="4217" y="11981"/>
                </a:cubicBezTo>
                <a:cubicBezTo>
                  <a:pt x="4167" y="12005"/>
                  <a:pt x="4151" y="12013"/>
                  <a:pt x="4118" y="11981"/>
                </a:cubicBezTo>
              </a:path>
              <a:path w="8311" h="5284">
                <a:moveTo>
                  <a:pt x="2555" y="11559"/>
                </a:moveTo>
                <a:cubicBezTo>
                  <a:pt x="2546" y="11606"/>
                  <a:pt x="2508" y="11640"/>
                  <a:pt x="2505" y="11683"/>
                </a:cubicBezTo>
                <a:cubicBezTo>
                  <a:pt x="2501" y="11746"/>
                  <a:pt x="2480" y="11792"/>
                  <a:pt x="2480" y="11857"/>
                </a:cubicBezTo>
                <a:cubicBezTo>
                  <a:pt x="2480" y="11946"/>
                  <a:pt x="2493" y="11974"/>
                  <a:pt x="2580" y="11981"/>
                </a:cubicBezTo>
                <a:cubicBezTo>
                  <a:pt x="2627" y="11985"/>
                  <a:pt x="2679" y="11944"/>
                  <a:pt x="2704" y="11906"/>
                </a:cubicBezTo>
                <a:cubicBezTo>
                  <a:pt x="2724" y="11866"/>
                  <a:pt x="2733" y="11860"/>
                  <a:pt x="2729" y="11832"/>
                </a:cubicBezTo>
                <a:cubicBezTo>
                  <a:pt x="2667" y="11823"/>
                  <a:pt x="2634" y="11788"/>
                  <a:pt x="2580" y="11832"/>
                </a:cubicBezTo>
                <a:cubicBezTo>
                  <a:pt x="2563" y="11846"/>
                  <a:pt x="2499" y="11931"/>
                  <a:pt x="2530" y="11956"/>
                </a:cubicBezTo>
                <a:cubicBezTo>
                  <a:pt x="2555" y="11956"/>
                  <a:pt x="2563" y="11956"/>
                  <a:pt x="2580" y="11956"/>
                </a:cubicBezTo>
              </a:path>
              <a:path w="8311" h="5284">
                <a:moveTo>
                  <a:pt x="2381" y="11311"/>
                </a:moveTo>
                <a:cubicBezTo>
                  <a:pt x="2343" y="11343"/>
                  <a:pt x="2311" y="11378"/>
                  <a:pt x="2282" y="11410"/>
                </a:cubicBezTo>
                <a:cubicBezTo>
                  <a:pt x="2226" y="11472"/>
                  <a:pt x="2176" y="11497"/>
                  <a:pt x="2158" y="11584"/>
                </a:cubicBezTo>
                <a:cubicBezTo>
                  <a:pt x="2147" y="11640"/>
                  <a:pt x="2136" y="11699"/>
                  <a:pt x="2133" y="11757"/>
                </a:cubicBezTo>
                <a:cubicBezTo>
                  <a:pt x="2129" y="11837"/>
                  <a:pt x="2154" y="11903"/>
                  <a:pt x="2158" y="11981"/>
                </a:cubicBezTo>
                <a:cubicBezTo>
                  <a:pt x="2161" y="12045"/>
                  <a:pt x="2192" y="12108"/>
                  <a:pt x="2232" y="12154"/>
                </a:cubicBezTo>
                <a:cubicBezTo>
                  <a:pt x="2282" y="12211"/>
                  <a:pt x="2329" y="12263"/>
                  <a:pt x="2406" y="12278"/>
                </a:cubicBezTo>
                <a:cubicBezTo>
                  <a:pt x="2476" y="12292"/>
                  <a:pt x="2594" y="12290"/>
                  <a:pt x="2654" y="12254"/>
                </a:cubicBezTo>
                <a:cubicBezTo>
                  <a:pt x="2691" y="12232"/>
                  <a:pt x="2752" y="12165"/>
                  <a:pt x="2778" y="12154"/>
                </a:cubicBezTo>
                <a:cubicBezTo>
                  <a:pt x="2811" y="12140"/>
                  <a:pt x="2861" y="12111"/>
                  <a:pt x="2877" y="12055"/>
                </a:cubicBezTo>
                <a:cubicBezTo>
                  <a:pt x="2907" y="11946"/>
                  <a:pt x="2875" y="11826"/>
                  <a:pt x="2828" y="11757"/>
                </a:cubicBezTo>
                <a:cubicBezTo>
                  <a:pt x="2795" y="11709"/>
                  <a:pt x="2802" y="11656"/>
                  <a:pt x="2778" y="11609"/>
                </a:cubicBezTo>
                <a:cubicBezTo>
                  <a:pt x="2745" y="11544"/>
                  <a:pt x="2707" y="11478"/>
                  <a:pt x="2654" y="11435"/>
                </a:cubicBezTo>
                <a:cubicBezTo>
                  <a:pt x="2601" y="11393"/>
                  <a:pt x="2547" y="11365"/>
                  <a:pt x="2480" y="11361"/>
                </a:cubicBezTo>
                <a:cubicBezTo>
                  <a:pt x="2389" y="11356"/>
                  <a:pt x="2367" y="11377"/>
                  <a:pt x="2307" y="11311"/>
                </a:cubicBezTo>
                <a:cubicBezTo>
                  <a:pt x="2277" y="11281"/>
                  <a:pt x="2263" y="11270"/>
                  <a:pt x="2232" y="11261"/>
                </a:cubicBezTo>
              </a:path>
              <a:path w="8311" h="5284">
                <a:moveTo>
                  <a:pt x="2307" y="10096"/>
                </a:moveTo>
                <a:cubicBezTo>
                  <a:pt x="2365" y="10096"/>
                  <a:pt x="2401" y="10084"/>
                  <a:pt x="2456" y="10071"/>
                </a:cubicBezTo>
                <a:cubicBezTo>
                  <a:pt x="2483" y="10065"/>
                  <a:pt x="2657" y="10056"/>
                  <a:pt x="2654" y="10096"/>
                </a:cubicBezTo>
                <a:cubicBezTo>
                  <a:pt x="2649" y="10164"/>
                  <a:pt x="2594" y="10227"/>
                  <a:pt x="2580" y="10294"/>
                </a:cubicBezTo>
                <a:cubicBezTo>
                  <a:pt x="2567" y="10355"/>
                  <a:pt x="2545" y="10408"/>
                  <a:pt x="2530" y="10468"/>
                </a:cubicBezTo>
                <a:cubicBezTo>
                  <a:pt x="2525" y="10487"/>
                  <a:pt x="2530" y="10699"/>
                  <a:pt x="2530" y="10567"/>
                </a:cubicBezTo>
                <a:cubicBezTo>
                  <a:pt x="2530" y="10559"/>
                  <a:pt x="2530" y="10550"/>
                  <a:pt x="2530" y="10542"/>
                </a:cubicBezTo>
              </a:path>
              <a:path w="8311" h="5284">
                <a:moveTo>
                  <a:pt x="2381" y="10319"/>
                </a:moveTo>
                <a:cubicBezTo>
                  <a:pt x="2447" y="10319"/>
                  <a:pt x="2501" y="10306"/>
                  <a:pt x="2555" y="10294"/>
                </a:cubicBezTo>
                <a:cubicBezTo>
                  <a:pt x="2612" y="10282"/>
                  <a:pt x="2631" y="10282"/>
                  <a:pt x="2679" y="10244"/>
                </a:cubicBezTo>
              </a:path>
              <a:path w="8311" h="5284">
                <a:moveTo>
                  <a:pt x="2332" y="9748"/>
                </a:moveTo>
                <a:cubicBezTo>
                  <a:pt x="2291" y="9768"/>
                  <a:pt x="2247" y="9788"/>
                  <a:pt x="2208" y="9823"/>
                </a:cubicBezTo>
                <a:cubicBezTo>
                  <a:pt x="2169" y="9858"/>
                  <a:pt x="2092" y="9916"/>
                  <a:pt x="2084" y="9971"/>
                </a:cubicBezTo>
                <a:cubicBezTo>
                  <a:pt x="2064" y="10108"/>
                  <a:pt x="2045" y="10393"/>
                  <a:pt x="2133" y="10492"/>
                </a:cubicBezTo>
                <a:cubicBezTo>
                  <a:pt x="2173" y="10537"/>
                  <a:pt x="2205" y="10563"/>
                  <a:pt x="2257" y="10592"/>
                </a:cubicBezTo>
                <a:cubicBezTo>
                  <a:pt x="2315" y="10625"/>
                  <a:pt x="2359" y="10676"/>
                  <a:pt x="2431" y="10691"/>
                </a:cubicBezTo>
                <a:cubicBezTo>
                  <a:pt x="2485" y="10702"/>
                  <a:pt x="2557" y="10663"/>
                  <a:pt x="2604" y="10641"/>
                </a:cubicBezTo>
                <a:cubicBezTo>
                  <a:pt x="2675" y="10607"/>
                  <a:pt x="2707" y="10591"/>
                  <a:pt x="2753" y="10542"/>
                </a:cubicBezTo>
                <a:cubicBezTo>
                  <a:pt x="2778" y="10515"/>
                  <a:pt x="2837" y="10483"/>
                  <a:pt x="2853" y="10443"/>
                </a:cubicBezTo>
                <a:cubicBezTo>
                  <a:pt x="2886" y="10360"/>
                  <a:pt x="2841" y="10222"/>
                  <a:pt x="2828" y="10145"/>
                </a:cubicBezTo>
                <a:cubicBezTo>
                  <a:pt x="2811" y="10043"/>
                  <a:pt x="2776" y="9965"/>
                  <a:pt x="2729" y="9872"/>
                </a:cubicBezTo>
                <a:cubicBezTo>
                  <a:pt x="2688" y="9789"/>
                  <a:pt x="2642" y="9778"/>
                  <a:pt x="2555" y="9748"/>
                </a:cubicBezTo>
                <a:cubicBezTo>
                  <a:pt x="2514" y="9734"/>
                  <a:pt x="2443" y="9681"/>
                  <a:pt x="2406" y="9674"/>
                </a:cubicBezTo>
                <a:cubicBezTo>
                  <a:pt x="2351" y="9663"/>
                  <a:pt x="2315" y="9679"/>
                  <a:pt x="2282" y="9723"/>
                </a:cubicBezTo>
                <a:cubicBezTo>
                  <a:pt x="2236" y="9793"/>
                  <a:pt x="2214" y="9822"/>
                  <a:pt x="2282" y="9748"/>
                </a:cubicBezTo>
              </a:path>
              <a:path w="8311" h="5284">
                <a:moveTo>
                  <a:pt x="3696" y="9103"/>
                </a:moveTo>
                <a:cubicBezTo>
                  <a:pt x="3663" y="9077"/>
                  <a:pt x="3620" y="9037"/>
                  <a:pt x="3572" y="9054"/>
                </a:cubicBezTo>
                <a:cubicBezTo>
                  <a:pt x="3510" y="9076"/>
                  <a:pt x="3479" y="9113"/>
                  <a:pt x="3473" y="9178"/>
                </a:cubicBezTo>
                <a:cubicBezTo>
                  <a:pt x="3464" y="9269"/>
                  <a:pt x="3534" y="9252"/>
                  <a:pt x="3597" y="9252"/>
                </a:cubicBezTo>
                <a:cubicBezTo>
                  <a:pt x="3683" y="9252"/>
                  <a:pt x="3670" y="9240"/>
                  <a:pt x="3721" y="9302"/>
                </a:cubicBezTo>
                <a:cubicBezTo>
                  <a:pt x="3759" y="9349"/>
                  <a:pt x="3756" y="9396"/>
                  <a:pt x="3721" y="9451"/>
                </a:cubicBezTo>
                <a:cubicBezTo>
                  <a:pt x="3681" y="9516"/>
                  <a:pt x="3636" y="9442"/>
                  <a:pt x="3597" y="9426"/>
                </a:cubicBezTo>
                <a:cubicBezTo>
                  <a:pt x="3589" y="9426"/>
                  <a:pt x="3580" y="9426"/>
                  <a:pt x="3572" y="9426"/>
                </a:cubicBezTo>
                <a:cubicBezTo>
                  <a:pt x="3584" y="9344"/>
                  <a:pt x="3624" y="9322"/>
                  <a:pt x="3671" y="9252"/>
                </a:cubicBezTo>
                <a:cubicBezTo>
                  <a:pt x="3703" y="9205"/>
                  <a:pt x="3717" y="9147"/>
                  <a:pt x="3746" y="9128"/>
                </a:cubicBezTo>
              </a:path>
              <a:path w="8311" h="5284">
                <a:moveTo>
                  <a:pt x="3646" y="8830"/>
                </a:moveTo>
                <a:cubicBezTo>
                  <a:pt x="3557" y="8830"/>
                  <a:pt x="3506" y="8856"/>
                  <a:pt x="3423" y="8880"/>
                </a:cubicBezTo>
                <a:cubicBezTo>
                  <a:pt x="3366" y="8896"/>
                  <a:pt x="3329" y="8920"/>
                  <a:pt x="3299" y="8979"/>
                </a:cubicBezTo>
                <a:cubicBezTo>
                  <a:pt x="3274" y="9028"/>
                  <a:pt x="3245" y="9077"/>
                  <a:pt x="3225" y="9128"/>
                </a:cubicBezTo>
                <a:cubicBezTo>
                  <a:pt x="3194" y="9205"/>
                  <a:pt x="3200" y="9269"/>
                  <a:pt x="3200" y="9351"/>
                </a:cubicBezTo>
                <a:cubicBezTo>
                  <a:pt x="3200" y="9429"/>
                  <a:pt x="3252" y="9482"/>
                  <a:pt x="3299" y="9525"/>
                </a:cubicBezTo>
                <a:cubicBezTo>
                  <a:pt x="3339" y="9561"/>
                  <a:pt x="3359" y="9610"/>
                  <a:pt x="3398" y="9649"/>
                </a:cubicBezTo>
                <a:cubicBezTo>
                  <a:pt x="3434" y="9686"/>
                  <a:pt x="3474" y="9674"/>
                  <a:pt x="3522" y="9674"/>
                </a:cubicBezTo>
                <a:cubicBezTo>
                  <a:pt x="3606" y="9674"/>
                  <a:pt x="3609" y="9642"/>
                  <a:pt x="3671" y="9624"/>
                </a:cubicBezTo>
                <a:cubicBezTo>
                  <a:pt x="3731" y="9607"/>
                  <a:pt x="3766" y="9574"/>
                  <a:pt x="3820" y="9525"/>
                </a:cubicBezTo>
                <a:cubicBezTo>
                  <a:pt x="3871" y="9479"/>
                  <a:pt x="3865" y="9446"/>
                  <a:pt x="3894" y="9401"/>
                </a:cubicBezTo>
                <a:cubicBezTo>
                  <a:pt x="3954" y="9308"/>
                  <a:pt x="3945" y="9337"/>
                  <a:pt x="3919" y="9227"/>
                </a:cubicBezTo>
                <a:cubicBezTo>
                  <a:pt x="3907" y="9177"/>
                  <a:pt x="3918" y="9149"/>
                  <a:pt x="3894" y="9103"/>
                </a:cubicBezTo>
                <a:cubicBezTo>
                  <a:pt x="3862" y="9042"/>
                  <a:pt x="3824" y="8968"/>
                  <a:pt x="3770" y="8930"/>
                </a:cubicBezTo>
                <a:cubicBezTo>
                  <a:pt x="3744" y="8912"/>
                  <a:pt x="3669" y="8860"/>
                  <a:pt x="3646" y="8855"/>
                </a:cubicBezTo>
                <a:cubicBezTo>
                  <a:pt x="3606" y="8846"/>
                  <a:pt x="3621" y="8879"/>
                  <a:pt x="3621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6120" y="3027240"/>
            <a:ext cx="492120" cy="482760"/>
          </a:xfrm>
          <a:custGeom>
            <a:avLst/>
            <a:gdLst/>
            <a:ahLst/>
            <a:rect l="l" t="t" r="r" b="b"/>
            <a:pathLst>
              <a:path w="1365" h="1340">
                <a:moveTo>
                  <a:pt x="11038" y="8930"/>
                </a:moveTo>
                <a:cubicBezTo>
                  <a:pt x="11038" y="8987"/>
                  <a:pt x="11058" y="9026"/>
                  <a:pt x="11063" y="9079"/>
                </a:cubicBezTo>
                <a:cubicBezTo>
                  <a:pt x="11069" y="9137"/>
                  <a:pt x="11047" y="9161"/>
                  <a:pt x="11038" y="9203"/>
                </a:cubicBezTo>
                <a:cubicBezTo>
                  <a:pt x="11038" y="9219"/>
                  <a:pt x="11038" y="9236"/>
                  <a:pt x="11038" y="9252"/>
                </a:cubicBezTo>
                <a:cubicBezTo>
                  <a:pt x="11092" y="9252"/>
                  <a:pt x="11107" y="9230"/>
                  <a:pt x="11162" y="9227"/>
                </a:cubicBezTo>
                <a:cubicBezTo>
                  <a:pt x="11306" y="9218"/>
                  <a:pt x="11446" y="9236"/>
                  <a:pt x="11584" y="9203"/>
                </a:cubicBezTo>
                <a:cubicBezTo>
                  <a:pt x="11608" y="9197"/>
                  <a:pt x="11551" y="9195"/>
                  <a:pt x="11509" y="9153"/>
                </a:cubicBezTo>
              </a:path>
              <a:path w="1365" h="1340">
                <a:moveTo>
                  <a:pt x="11336" y="8930"/>
                </a:moveTo>
                <a:cubicBezTo>
                  <a:pt x="11336" y="9106"/>
                  <a:pt x="11337" y="9291"/>
                  <a:pt x="11311" y="9451"/>
                </a:cubicBezTo>
                <a:cubicBezTo>
                  <a:pt x="11286" y="9608"/>
                  <a:pt x="11311" y="9516"/>
                  <a:pt x="11311" y="9426"/>
                </a:cubicBezTo>
              </a:path>
              <a:path w="1365" h="1340">
                <a:moveTo>
                  <a:pt x="11460" y="8508"/>
                </a:moveTo>
                <a:cubicBezTo>
                  <a:pt x="11410" y="8450"/>
                  <a:pt x="11412" y="8463"/>
                  <a:pt x="11336" y="8434"/>
                </a:cubicBezTo>
                <a:cubicBezTo>
                  <a:pt x="11293" y="8417"/>
                  <a:pt x="11265" y="8409"/>
                  <a:pt x="11212" y="8409"/>
                </a:cubicBezTo>
                <a:cubicBezTo>
                  <a:pt x="11103" y="8409"/>
                  <a:pt x="11004" y="8389"/>
                  <a:pt x="10914" y="8458"/>
                </a:cubicBezTo>
                <a:cubicBezTo>
                  <a:pt x="10840" y="8514"/>
                  <a:pt x="10758" y="8568"/>
                  <a:pt x="10691" y="8632"/>
                </a:cubicBezTo>
                <a:cubicBezTo>
                  <a:pt x="10633" y="8687"/>
                  <a:pt x="10603" y="8735"/>
                  <a:pt x="10567" y="8806"/>
                </a:cubicBezTo>
                <a:cubicBezTo>
                  <a:pt x="10537" y="8866"/>
                  <a:pt x="10527" y="8962"/>
                  <a:pt x="10517" y="9029"/>
                </a:cubicBezTo>
                <a:cubicBezTo>
                  <a:pt x="10505" y="9111"/>
                  <a:pt x="10514" y="9201"/>
                  <a:pt x="10542" y="9277"/>
                </a:cubicBezTo>
                <a:cubicBezTo>
                  <a:pt x="10574" y="9365"/>
                  <a:pt x="10606" y="9388"/>
                  <a:pt x="10641" y="9475"/>
                </a:cubicBezTo>
                <a:cubicBezTo>
                  <a:pt x="10677" y="9566"/>
                  <a:pt x="10756" y="9616"/>
                  <a:pt x="10840" y="9674"/>
                </a:cubicBezTo>
                <a:cubicBezTo>
                  <a:pt x="10889" y="9708"/>
                  <a:pt x="11027" y="9738"/>
                  <a:pt x="11088" y="9748"/>
                </a:cubicBezTo>
                <a:cubicBezTo>
                  <a:pt x="11170" y="9762"/>
                  <a:pt x="11215" y="9734"/>
                  <a:pt x="11286" y="9723"/>
                </a:cubicBezTo>
                <a:cubicBezTo>
                  <a:pt x="11346" y="9714"/>
                  <a:pt x="11405" y="9727"/>
                  <a:pt x="11460" y="9699"/>
                </a:cubicBezTo>
                <a:cubicBezTo>
                  <a:pt x="11511" y="9673"/>
                  <a:pt x="11556" y="9627"/>
                  <a:pt x="11609" y="9599"/>
                </a:cubicBezTo>
                <a:cubicBezTo>
                  <a:pt x="11677" y="9563"/>
                  <a:pt x="11678" y="9521"/>
                  <a:pt x="11733" y="9475"/>
                </a:cubicBezTo>
                <a:cubicBezTo>
                  <a:pt x="11784" y="9432"/>
                  <a:pt x="11797" y="9419"/>
                  <a:pt x="11832" y="9351"/>
                </a:cubicBezTo>
                <a:cubicBezTo>
                  <a:pt x="11853" y="9310"/>
                  <a:pt x="11846" y="9274"/>
                  <a:pt x="11857" y="9227"/>
                </a:cubicBezTo>
                <a:cubicBezTo>
                  <a:pt x="11872" y="9159"/>
                  <a:pt x="11888" y="9154"/>
                  <a:pt x="11857" y="9079"/>
                </a:cubicBezTo>
                <a:cubicBezTo>
                  <a:pt x="11821" y="8994"/>
                  <a:pt x="11809" y="8998"/>
                  <a:pt x="11757" y="8930"/>
                </a:cubicBezTo>
                <a:cubicBezTo>
                  <a:pt x="11729" y="8893"/>
                  <a:pt x="11702" y="8842"/>
                  <a:pt x="11683" y="8806"/>
                </a:cubicBezTo>
                <a:cubicBezTo>
                  <a:pt x="11647" y="8738"/>
                  <a:pt x="11608" y="8766"/>
                  <a:pt x="11559" y="8706"/>
                </a:cubicBezTo>
                <a:cubicBezTo>
                  <a:pt x="11524" y="8664"/>
                  <a:pt x="11489" y="8615"/>
                  <a:pt x="11435" y="8582"/>
                </a:cubicBezTo>
                <a:cubicBezTo>
                  <a:pt x="11406" y="8564"/>
                  <a:pt x="11395" y="8586"/>
                  <a:pt x="11361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280" y="5249880"/>
            <a:ext cx="590760" cy="573120"/>
          </a:xfrm>
          <a:custGeom>
            <a:avLst/>
            <a:gdLst/>
            <a:ahLst/>
            <a:rect l="l" t="t" r="r" b="b"/>
            <a:pathLst>
              <a:path w="1639" h="1589">
                <a:moveTo>
                  <a:pt x="1315" y="15131"/>
                </a:moveTo>
                <a:cubicBezTo>
                  <a:pt x="1194" y="15131"/>
                  <a:pt x="899" y="15174"/>
                  <a:pt x="868" y="15081"/>
                </a:cubicBezTo>
                <a:cubicBezTo>
                  <a:pt x="855" y="15148"/>
                  <a:pt x="812" y="15187"/>
                  <a:pt x="794" y="15255"/>
                </a:cubicBezTo>
                <a:cubicBezTo>
                  <a:pt x="785" y="15290"/>
                  <a:pt x="755" y="15336"/>
                  <a:pt x="819" y="15354"/>
                </a:cubicBezTo>
                <a:cubicBezTo>
                  <a:pt x="884" y="15373"/>
                  <a:pt x="935" y="15343"/>
                  <a:pt x="992" y="15329"/>
                </a:cubicBezTo>
                <a:cubicBezTo>
                  <a:pt x="1044" y="15316"/>
                  <a:pt x="1087" y="15334"/>
                  <a:pt x="1116" y="15379"/>
                </a:cubicBezTo>
                <a:cubicBezTo>
                  <a:pt x="1165" y="15455"/>
                  <a:pt x="1171" y="15471"/>
                  <a:pt x="1215" y="15553"/>
                </a:cubicBezTo>
                <a:cubicBezTo>
                  <a:pt x="1253" y="15624"/>
                  <a:pt x="1229" y="15625"/>
                  <a:pt x="1166" y="15677"/>
                </a:cubicBezTo>
                <a:cubicBezTo>
                  <a:pt x="1124" y="15712"/>
                  <a:pt x="1090" y="15736"/>
                  <a:pt x="1042" y="15751"/>
                </a:cubicBezTo>
                <a:cubicBezTo>
                  <a:pt x="990" y="15767"/>
                  <a:pt x="932" y="15723"/>
                  <a:pt x="893" y="15701"/>
                </a:cubicBezTo>
                <a:cubicBezTo>
                  <a:pt x="849" y="15680"/>
                  <a:pt x="837" y="15677"/>
                  <a:pt x="819" y="15652"/>
                </a:cubicBezTo>
              </a:path>
              <a:path w="1639" h="1589">
                <a:moveTo>
                  <a:pt x="744" y="14585"/>
                </a:moveTo>
                <a:cubicBezTo>
                  <a:pt x="649" y="14623"/>
                  <a:pt x="584" y="14645"/>
                  <a:pt x="496" y="14684"/>
                </a:cubicBezTo>
                <a:cubicBezTo>
                  <a:pt x="454" y="14702"/>
                  <a:pt x="370" y="14790"/>
                  <a:pt x="347" y="14833"/>
                </a:cubicBezTo>
                <a:cubicBezTo>
                  <a:pt x="294" y="14930"/>
                  <a:pt x="250" y="15002"/>
                  <a:pt x="223" y="15106"/>
                </a:cubicBezTo>
                <a:cubicBezTo>
                  <a:pt x="194" y="15216"/>
                  <a:pt x="169" y="15390"/>
                  <a:pt x="198" y="15503"/>
                </a:cubicBezTo>
                <a:cubicBezTo>
                  <a:pt x="227" y="15613"/>
                  <a:pt x="281" y="15758"/>
                  <a:pt x="347" y="15850"/>
                </a:cubicBezTo>
                <a:cubicBezTo>
                  <a:pt x="405" y="15931"/>
                  <a:pt x="474" y="15986"/>
                  <a:pt x="546" y="16049"/>
                </a:cubicBezTo>
                <a:cubicBezTo>
                  <a:pt x="632" y="16124"/>
                  <a:pt x="726" y="16166"/>
                  <a:pt x="843" y="16173"/>
                </a:cubicBezTo>
                <a:cubicBezTo>
                  <a:pt x="984" y="16182"/>
                  <a:pt x="1130" y="16182"/>
                  <a:pt x="1265" y="16148"/>
                </a:cubicBezTo>
                <a:cubicBezTo>
                  <a:pt x="1372" y="16121"/>
                  <a:pt x="1427" y="16076"/>
                  <a:pt x="1513" y="16024"/>
                </a:cubicBezTo>
                <a:cubicBezTo>
                  <a:pt x="1583" y="15981"/>
                  <a:pt x="1646" y="15952"/>
                  <a:pt x="1687" y="15875"/>
                </a:cubicBezTo>
                <a:cubicBezTo>
                  <a:pt x="1737" y="15780"/>
                  <a:pt x="1776" y="15680"/>
                  <a:pt x="1811" y="15577"/>
                </a:cubicBezTo>
                <a:cubicBezTo>
                  <a:pt x="1844" y="15478"/>
                  <a:pt x="1836" y="15383"/>
                  <a:pt x="1836" y="15280"/>
                </a:cubicBezTo>
                <a:cubicBezTo>
                  <a:pt x="1836" y="15188"/>
                  <a:pt x="1808" y="15154"/>
                  <a:pt x="1761" y="15081"/>
                </a:cubicBezTo>
                <a:cubicBezTo>
                  <a:pt x="1716" y="15012"/>
                  <a:pt x="1672" y="14931"/>
                  <a:pt x="1612" y="14883"/>
                </a:cubicBezTo>
                <a:cubicBezTo>
                  <a:pt x="1547" y="14831"/>
                  <a:pt x="1476" y="14793"/>
                  <a:pt x="1414" y="14734"/>
                </a:cubicBezTo>
                <a:cubicBezTo>
                  <a:pt x="1355" y="14678"/>
                  <a:pt x="1343" y="14666"/>
                  <a:pt x="1265" y="14660"/>
                </a:cubicBezTo>
                <a:cubicBezTo>
                  <a:pt x="1195" y="14655"/>
                  <a:pt x="1153" y="14678"/>
                  <a:pt x="1091" y="14709"/>
                </a:cubicBezTo>
                <a:cubicBezTo>
                  <a:pt x="1014" y="14748"/>
                  <a:pt x="990" y="14805"/>
                  <a:pt x="893" y="14784"/>
                </a:cubicBezTo>
                <a:cubicBezTo>
                  <a:pt x="842" y="14773"/>
                  <a:pt x="898" y="14764"/>
                  <a:pt x="918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27080" y="5116680"/>
            <a:ext cx="1527120" cy="1223640"/>
          </a:xfrm>
          <a:custGeom>
            <a:avLst/>
            <a:gdLst/>
            <a:ahLst/>
            <a:rect l="l" t="t" r="r" b="b"/>
            <a:pathLst>
              <a:path w="4242" h="3399">
                <a:moveTo>
                  <a:pt x="4043" y="14833"/>
                </a:moveTo>
                <a:cubicBezTo>
                  <a:pt x="3959" y="14845"/>
                  <a:pt x="3969" y="14866"/>
                  <a:pt x="3919" y="14932"/>
                </a:cubicBezTo>
                <a:cubicBezTo>
                  <a:pt x="3856" y="15016"/>
                  <a:pt x="3762" y="15082"/>
                  <a:pt x="3696" y="15156"/>
                </a:cubicBezTo>
                <a:cubicBezTo>
                  <a:pt x="3635" y="15224"/>
                  <a:pt x="3543" y="15246"/>
                  <a:pt x="3473" y="15304"/>
                </a:cubicBezTo>
                <a:cubicBezTo>
                  <a:pt x="3402" y="15363"/>
                  <a:pt x="3326" y="15426"/>
                  <a:pt x="3249" y="15478"/>
                </a:cubicBezTo>
                <a:cubicBezTo>
                  <a:pt x="3184" y="15522"/>
                  <a:pt x="3171" y="15540"/>
                  <a:pt x="3125" y="15602"/>
                </a:cubicBezTo>
                <a:cubicBezTo>
                  <a:pt x="3067" y="15681"/>
                  <a:pt x="3157" y="15571"/>
                  <a:pt x="3175" y="15553"/>
                </a:cubicBezTo>
              </a:path>
              <a:path w="4242" h="3399">
                <a:moveTo>
                  <a:pt x="4068" y="14883"/>
                </a:moveTo>
                <a:cubicBezTo>
                  <a:pt x="4111" y="14904"/>
                  <a:pt x="4172" y="14926"/>
                  <a:pt x="4217" y="14957"/>
                </a:cubicBezTo>
                <a:cubicBezTo>
                  <a:pt x="4270" y="14993"/>
                  <a:pt x="4313" y="15046"/>
                  <a:pt x="4366" y="15081"/>
                </a:cubicBezTo>
                <a:cubicBezTo>
                  <a:pt x="4412" y="15112"/>
                  <a:pt x="4485" y="15134"/>
                  <a:pt x="4539" y="15156"/>
                </a:cubicBezTo>
                <a:cubicBezTo>
                  <a:pt x="4628" y="15192"/>
                  <a:pt x="4670" y="15236"/>
                  <a:pt x="4738" y="15304"/>
                </a:cubicBezTo>
                <a:cubicBezTo>
                  <a:pt x="4785" y="15351"/>
                  <a:pt x="4830" y="15395"/>
                  <a:pt x="4887" y="15429"/>
                </a:cubicBezTo>
                <a:cubicBezTo>
                  <a:pt x="4941" y="15461"/>
                  <a:pt x="5047" y="15525"/>
                  <a:pt x="5085" y="15577"/>
                </a:cubicBezTo>
                <a:cubicBezTo>
                  <a:pt x="5123" y="15630"/>
                  <a:pt x="5168" y="15651"/>
                  <a:pt x="5209" y="15701"/>
                </a:cubicBezTo>
                <a:cubicBezTo>
                  <a:pt x="5277" y="15786"/>
                  <a:pt x="5202" y="15740"/>
                  <a:pt x="5159" y="15751"/>
                </a:cubicBezTo>
              </a:path>
              <a:path w="4242" h="3399">
                <a:moveTo>
                  <a:pt x="3150" y="15503"/>
                </a:moveTo>
                <a:cubicBezTo>
                  <a:pt x="3112" y="15541"/>
                  <a:pt x="3111" y="15595"/>
                  <a:pt x="3076" y="15627"/>
                </a:cubicBezTo>
                <a:cubicBezTo>
                  <a:pt x="3027" y="15672"/>
                  <a:pt x="3003" y="15707"/>
                  <a:pt x="2952" y="15751"/>
                </a:cubicBezTo>
                <a:cubicBezTo>
                  <a:pt x="2996" y="15707"/>
                  <a:pt x="3045" y="15652"/>
                  <a:pt x="3101" y="15627"/>
                </a:cubicBezTo>
                <a:cubicBezTo>
                  <a:pt x="3167" y="15597"/>
                  <a:pt x="3238" y="15579"/>
                  <a:pt x="3299" y="15528"/>
                </a:cubicBezTo>
                <a:cubicBezTo>
                  <a:pt x="3332" y="15501"/>
                  <a:pt x="3404" y="15426"/>
                  <a:pt x="3423" y="15404"/>
                </a:cubicBezTo>
                <a:cubicBezTo>
                  <a:pt x="3471" y="15346"/>
                  <a:pt x="3532" y="15336"/>
                  <a:pt x="3597" y="15280"/>
                </a:cubicBezTo>
                <a:cubicBezTo>
                  <a:pt x="3664" y="15222"/>
                  <a:pt x="3697" y="15172"/>
                  <a:pt x="3746" y="15106"/>
                </a:cubicBezTo>
                <a:cubicBezTo>
                  <a:pt x="3773" y="15069"/>
                  <a:pt x="3881" y="14932"/>
                  <a:pt x="3919" y="14908"/>
                </a:cubicBezTo>
                <a:cubicBezTo>
                  <a:pt x="3950" y="14889"/>
                  <a:pt x="4011" y="14874"/>
                  <a:pt x="4043" y="14858"/>
                </a:cubicBezTo>
                <a:cubicBezTo>
                  <a:pt x="4002" y="14891"/>
                  <a:pt x="3951" y="14913"/>
                  <a:pt x="3919" y="14957"/>
                </a:cubicBezTo>
                <a:cubicBezTo>
                  <a:pt x="3869" y="15026"/>
                  <a:pt x="3831" y="15045"/>
                  <a:pt x="3770" y="15106"/>
                </a:cubicBezTo>
                <a:cubicBezTo>
                  <a:pt x="3683" y="15193"/>
                  <a:pt x="3581" y="15280"/>
                  <a:pt x="3497" y="15354"/>
                </a:cubicBezTo>
                <a:cubicBezTo>
                  <a:pt x="3434" y="15410"/>
                  <a:pt x="3389" y="15478"/>
                  <a:pt x="3324" y="15528"/>
                </a:cubicBezTo>
                <a:cubicBezTo>
                  <a:pt x="3267" y="15572"/>
                  <a:pt x="3227" y="15611"/>
                  <a:pt x="3175" y="15652"/>
                </a:cubicBezTo>
                <a:cubicBezTo>
                  <a:pt x="3128" y="15689"/>
                  <a:pt x="3026" y="15722"/>
                  <a:pt x="3001" y="15776"/>
                </a:cubicBezTo>
                <a:cubicBezTo>
                  <a:pt x="2967" y="15848"/>
                  <a:pt x="2947" y="15846"/>
                  <a:pt x="2877" y="15900"/>
                </a:cubicBezTo>
                <a:cubicBezTo>
                  <a:pt x="2853" y="15925"/>
                  <a:pt x="2845" y="15933"/>
                  <a:pt x="2877" y="15900"/>
                </a:cubicBezTo>
              </a:path>
              <a:path w="4242" h="3399">
                <a:moveTo>
                  <a:pt x="2952" y="15801"/>
                </a:moveTo>
                <a:cubicBezTo>
                  <a:pt x="2969" y="15807"/>
                  <a:pt x="3012" y="15872"/>
                  <a:pt x="3026" y="15900"/>
                </a:cubicBezTo>
                <a:cubicBezTo>
                  <a:pt x="3044" y="15936"/>
                  <a:pt x="3048" y="16009"/>
                  <a:pt x="3051" y="16049"/>
                </a:cubicBezTo>
                <a:cubicBezTo>
                  <a:pt x="3070" y="16287"/>
                  <a:pt x="3051" y="16926"/>
                  <a:pt x="3051" y="16917"/>
                </a:cubicBezTo>
              </a:path>
              <a:path w="4242" h="3399">
                <a:moveTo>
                  <a:pt x="3076" y="16892"/>
                </a:moveTo>
                <a:cubicBezTo>
                  <a:pt x="3120" y="16908"/>
                  <a:pt x="3160" y="16922"/>
                  <a:pt x="3200" y="16942"/>
                </a:cubicBezTo>
                <a:cubicBezTo>
                  <a:pt x="3283" y="16983"/>
                  <a:pt x="3311" y="17028"/>
                  <a:pt x="3398" y="17066"/>
                </a:cubicBezTo>
                <a:cubicBezTo>
                  <a:pt x="3445" y="17087"/>
                  <a:pt x="3494" y="17119"/>
                  <a:pt x="3547" y="17140"/>
                </a:cubicBezTo>
                <a:cubicBezTo>
                  <a:pt x="3596" y="17160"/>
                  <a:pt x="3624" y="17184"/>
                  <a:pt x="3671" y="17214"/>
                </a:cubicBezTo>
                <a:cubicBezTo>
                  <a:pt x="3726" y="17248"/>
                  <a:pt x="3772" y="17257"/>
                  <a:pt x="3820" y="17289"/>
                </a:cubicBezTo>
                <a:cubicBezTo>
                  <a:pt x="3883" y="17331"/>
                  <a:pt x="3920" y="17398"/>
                  <a:pt x="3969" y="17438"/>
                </a:cubicBezTo>
                <a:cubicBezTo>
                  <a:pt x="4016" y="17476"/>
                  <a:pt x="4102" y="17494"/>
                  <a:pt x="4142" y="17537"/>
                </a:cubicBezTo>
                <a:cubicBezTo>
                  <a:pt x="4186" y="17585"/>
                  <a:pt x="4184" y="17583"/>
                  <a:pt x="4242" y="17611"/>
                </a:cubicBezTo>
                <a:cubicBezTo>
                  <a:pt x="4290" y="17543"/>
                  <a:pt x="4318" y="17546"/>
                  <a:pt x="4390" y="17512"/>
                </a:cubicBezTo>
                <a:cubicBezTo>
                  <a:pt x="4440" y="17488"/>
                  <a:pt x="4501" y="17453"/>
                  <a:pt x="4539" y="17413"/>
                </a:cubicBezTo>
                <a:cubicBezTo>
                  <a:pt x="4595" y="17355"/>
                  <a:pt x="4643" y="17287"/>
                  <a:pt x="4713" y="17239"/>
                </a:cubicBezTo>
                <a:cubicBezTo>
                  <a:pt x="4776" y="17196"/>
                  <a:pt x="4853" y="17169"/>
                  <a:pt x="4911" y="17140"/>
                </a:cubicBezTo>
                <a:cubicBezTo>
                  <a:pt x="4983" y="17104"/>
                  <a:pt x="5064" y="17049"/>
                  <a:pt x="5135" y="17016"/>
                </a:cubicBezTo>
                <a:cubicBezTo>
                  <a:pt x="5185" y="16993"/>
                  <a:pt x="5229" y="16976"/>
                  <a:pt x="5283" y="16942"/>
                </a:cubicBezTo>
                <a:cubicBezTo>
                  <a:pt x="5326" y="16915"/>
                  <a:pt x="5383" y="16872"/>
                  <a:pt x="5432" y="16842"/>
                </a:cubicBezTo>
                <a:cubicBezTo>
                  <a:pt x="5503" y="16798"/>
                  <a:pt x="5454" y="16809"/>
                  <a:pt x="5407" y="16743"/>
                </a:cubicBezTo>
              </a:path>
              <a:path w="4242" h="3399">
                <a:moveTo>
                  <a:pt x="5234" y="15776"/>
                </a:moveTo>
                <a:cubicBezTo>
                  <a:pt x="5247" y="15829"/>
                  <a:pt x="5278" y="15862"/>
                  <a:pt x="5283" y="15925"/>
                </a:cubicBezTo>
                <a:cubicBezTo>
                  <a:pt x="5287" y="15975"/>
                  <a:pt x="5295" y="16007"/>
                  <a:pt x="5308" y="16049"/>
                </a:cubicBezTo>
                <a:cubicBezTo>
                  <a:pt x="5323" y="16099"/>
                  <a:pt x="5330" y="16194"/>
                  <a:pt x="5333" y="16247"/>
                </a:cubicBezTo>
                <a:cubicBezTo>
                  <a:pt x="5343" y="16407"/>
                  <a:pt x="5329" y="16572"/>
                  <a:pt x="5358" y="16718"/>
                </a:cubicBezTo>
                <a:cubicBezTo>
                  <a:pt x="5364" y="16746"/>
                  <a:pt x="5358" y="16788"/>
                  <a:pt x="5358" y="16818"/>
                </a:cubicBezTo>
                <a:cubicBezTo>
                  <a:pt x="5358" y="16858"/>
                  <a:pt x="5361" y="16762"/>
                  <a:pt x="5333" y="16743"/>
                </a:cubicBezTo>
              </a:path>
              <a:path w="4242" h="3399">
                <a:moveTo>
                  <a:pt x="4217" y="16049"/>
                </a:moveTo>
                <a:cubicBezTo>
                  <a:pt x="4150" y="16114"/>
                  <a:pt x="4144" y="16143"/>
                  <a:pt x="4118" y="16222"/>
                </a:cubicBezTo>
                <a:cubicBezTo>
                  <a:pt x="4095" y="16291"/>
                  <a:pt x="4093" y="16346"/>
                  <a:pt x="4093" y="16421"/>
                </a:cubicBezTo>
                <a:cubicBezTo>
                  <a:pt x="4093" y="16477"/>
                  <a:pt x="4090" y="16533"/>
                  <a:pt x="4142" y="16570"/>
                </a:cubicBezTo>
                <a:cubicBezTo>
                  <a:pt x="4189" y="16603"/>
                  <a:pt x="4237" y="16594"/>
                  <a:pt x="4291" y="16594"/>
                </a:cubicBezTo>
                <a:cubicBezTo>
                  <a:pt x="4356" y="16594"/>
                  <a:pt x="4392" y="16564"/>
                  <a:pt x="4440" y="16520"/>
                </a:cubicBezTo>
                <a:cubicBezTo>
                  <a:pt x="4483" y="16481"/>
                  <a:pt x="4512" y="16447"/>
                  <a:pt x="4539" y="16396"/>
                </a:cubicBezTo>
                <a:cubicBezTo>
                  <a:pt x="4564" y="16348"/>
                  <a:pt x="4577" y="16277"/>
                  <a:pt x="4564" y="16222"/>
                </a:cubicBezTo>
                <a:cubicBezTo>
                  <a:pt x="4550" y="16161"/>
                  <a:pt x="4502" y="16077"/>
                  <a:pt x="4465" y="16024"/>
                </a:cubicBezTo>
                <a:cubicBezTo>
                  <a:pt x="4422" y="15962"/>
                  <a:pt x="4348" y="15938"/>
                  <a:pt x="4291" y="15900"/>
                </a:cubicBezTo>
                <a:cubicBezTo>
                  <a:pt x="4253" y="15875"/>
                  <a:pt x="4199" y="15802"/>
                  <a:pt x="4142" y="15850"/>
                </a:cubicBezTo>
                <a:cubicBezTo>
                  <a:pt x="4108" y="15879"/>
                  <a:pt x="4078" y="15972"/>
                  <a:pt x="4068" y="15875"/>
                </a:cubicBezTo>
                <a:cubicBezTo>
                  <a:pt x="4068" y="15867"/>
                  <a:pt x="4068" y="15858"/>
                  <a:pt x="4068" y="15850"/>
                </a:cubicBezTo>
              </a:path>
              <a:path w="4242" h="3399">
                <a:moveTo>
                  <a:pt x="4068" y="14808"/>
                </a:moveTo>
                <a:cubicBezTo>
                  <a:pt x="4114" y="14854"/>
                  <a:pt x="4176" y="14867"/>
                  <a:pt x="4242" y="14833"/>
                </a:cubicBezTo>
                <a:cubicBezTo>
                  <a:pt x="4346" y="14779"/>
                  <a:pt x="4423" y="14760"/>
                  <a:pt x="4539" y="14734"/>
                </a:cubicBezTo>
                <a:cubicBezTo>
                  <a:pt x="4608" y="14719"/>
                  <a:pt x="4643" y="14709"/>
                  <a:pt x="4713" y="14709"/>
                </a:cubicBezTo>
              </a:path>
              <a:path w="4242" h="3399">
                <a:moveTo>
                  <a:pt x="5259" y="14362"/>
                </a:moveTo>
                <a:cubicBezTo>
                  <a:pt x="5193" y="14296"/>
                  <a:pt x="5171" y="14252"/>
                  <a:pt x="5110" y="14337"/>
                </a:cubicBezTo>
                <a:cubicBezTo>
                  <a:pt x="5064" y="14401"/>
                  <a:pt x="5038" y="14458"/>
                  <a:pt x="5035" y="14536"/>
                </a:cubicBezTo>
                <a:cubicBezTo>
                  <a:pt x="5032" y="14611"/>
                  <a:pt x="5028" y="14674"/>
                  <a:pt x="5060" y="14734"/>
                </a:cubicBezTo>
                <a:cubicBezTo>
                  <a:pt x="5088" y="14787"/>
                  <a:pt x="5123" y="14800"/>
                  <a:pt x="5184" y="14784"/>
                </a:cubicBezTo>
                <a:cubicBezTo>
                  <a:pt x="5286" y="14757"/>
                  <a:pt x="5272" y="14720"/>
                  <a:pt x="5358" y="14684"/>
                </a:cubicBezTo>
                <a:cubicBezTo>
                  <a:pt x="5374" y="14684"/>
                  <a:pt x="5391" y="14684"/>
                  <a:pt x="5407" y="14684"/>
                </a:cubicBezTo>
              </a:path>
              <a:path w="4242" h="3399">
                <a:moveTo>
                  <a:pt x="5581" y="14213"/>
                </a:moveTo>
                <a:cubicBezTo>
                  <a:pt x="5589" y="14271"/>
                  <a:pt x="5625" y="14303"/>
                  <a:pt x="5631" y="14362"/>
                </a:cubicBezTo>
                <a:cubicBezTo>
                  <a:pt x="5646" y="14510"/>
                  <a:pt x="5631" y="14908"/>
                  <a:pt x="5631" y="14759"/>
                </a:cubicBezTo>
              </a:path>
              <a:path w="4242" h="3399">
                <a:moveTo>
                  <a:pt x="5928" y="14213"/>
                </a:moveTo>
                <a:cubicBezTo>
                  <a:pt x="5961" y="14278"/>
                  <a:pt x="5978" y="14315"/>
                  <a:pt x="5978" y="14387"/>
                </a:cubicBezTo>
                <a:cubicBezTo>
                  <a:pt x="5978" y="14480"/>
                  <a:pt x="6007" y="14756"/>
                  <a:pt x="5953" y="14684"/>
                </a:cubicBezTo>
              </a:path>
              <a:path w="4242" h="3399">
                <a:moveTo>
                  <a:pt x="5730" y="14536"/>
                </a:moveTo>
                <a:cubicBezTo>
                  <a:pt x="5773" y="14561"/>
                  <a:pt x="5802" y="14560"/>
                  <a:pt x="5854" y="14560"/>
                </a:cubicBezTo>
                <a:cubicBezTo>
                  <a:pt x="5936" y="14560"/>
                  <a:pt x="5928" y="14529"/>
                  <a:pt x="6003" y="14511"/>
                </a:cubicBezTo>
                <a:cubicBezTo>
                  <a:pt x="6019" y="14511"/>
                  <a:pt x="6036" y="14511"/>
                  <a:pt x="6052" y="14511"/>
                </a:cubicBezTo>
              </a:path>
              <a:path w="4242" h="3399">
                <a:moveTo>
                  <a:pt x="6251" y="14635"/>
                </a:moveTo>
                <a:cubicBezTo>
                  <a:pt x="6300" y="14586"/>
                  <a:pt x="6305" y="14585"/>
                  <a:pt x="6375" y="14585"/>
                </a:cubicBezTo>
                <a:cubicBezTo>
                  <a:pt x="6416" y="14585"/>
                  <a:pt x="6489" y="14632"/>
                  <a:pt x="6474" y="14684"/>
                </a:cubicBezTo>
                <a:cubicBezTo>
                  <a:pt x="6458" y="14740"/>
                  <a:pt x="6416" y="14751"/>
                  <a:pt x="6375" y="14784"/>
                </a:cubicBezTo>
                <a:cubicBezTo>
                  <a:pt x="6458" y="14784"/>
                  <a:pt x="6616" y="14746"/>
                  <a:pt x="6648" y="14833"/>
                </a:cubicBezTo>
                <a:cubicBezTo>
                  <a:pt x="6667" y="14885"/>
                  <a:pt x="6601" y="14946"/>
                  <a:pt x="6573" y="14982"/>
                </a:cubicBezTo>
                <a:cubicBezTo>
                  <a:pt x="6518" y="15053"/>
                  <a:pt x="6451" y="15033"/>
                  <a:pt x="6375" y="15056"/>
                </a:cubicBezTo>
                <a:cubicBezTo>
                  <a:pt x="6300" y="15078"/>
                  <a:pt x="6292" y="15091"/>
                  <a:pt x="6226" y="15032"/>
                </a:cubicBezTo>
                <a:cubicBezTo>
                  <a:pt x="6193" y="14999"/>
                  <a:pt x="6176" y="14982"/>
                  <a:pt x="6152" y="14957"/>
                </a:cubicBezTo>
              </a:path>
              <a:path w="4242" h="3399">
                <a:moveTo>
                  <a:pt x="5283" y="15875"/>
                </a:moveTo>
                <a:cubicBezTo>
                  <a:pt x="5336" y="15795"/>
                  <a:pt x="5321" y="15844"/>
                  <a:pt x="5407" y="15825"/>
                </a:cubicBezTo>
                <a:cubicBezTo>
                  <a:pt x="5490" y="15807"/>
                  <a:pt x="5547" y="15756"/>
                  <a:pt x="5631" y="15751"/>
                </a:cubicBezTo>
                <a:cubicBezTo>
                  <a:pt x="5707" y="15747"/>
                  <a:pt x="5785" y="15731"/>
                  <a:pt x="5854" y="15701"/>
                </a:cubicBezTo>
                <a:cubicBezTo>
                  <a:pt x="5898" y="15682"/>
                  <a:pt x="6062" y="15652"/>
                  <a:pt x="5953" y="15652"/>
                </a:cubicBezTo>
              </a:path>
              <a:path w="4242" h="3399">
                <a:moveTo>
                  <a:pt x="6598" y="15404"/>
                </a:moveTo>
                <a:cubicBezTo>
                  <a:pt x="6610" y="15474"/>
                  <a:pt x="6644" y="15532"/>
                  <a:pt x="6648" y="15602"/>
                </a:cubicBezTo>
                <a:cubicBezTo>
                  <a:pt x="6652" y="15679"/>
                  <a:pt x="6672" y="15746"/>
                  <a:pt x="6672" y="15825"/>
                </a:cubicBezTo>
                <a:cubicBezTo>
                  <a:pt x="6672" y="15958"/>
                  <a:pt x="6667" y="15911"/>
                  <a:pt x="6697" y="15801"/>
                </a:cubicBezTo>
              </a:path>
              <a:path w="4242" h="3399">
                <a:moveTo>
                  <a:pt x="6672" y="15404"/>
                </a:moveTo>
                <a:cubicBezTo>
                  <a:pt x="6745" y="15404"/>
                  <a:pt x="6811" y="15391"/>
                  <a:pt x="6871" y="15379"/>
                </a:cubicBezTo>
                <a:cubicBezTo>
                  <a:pt x="6921" y="15369"/>
                  <a:pt x="6968" y="15354"/>
                  <a:pt x="7020" y="15354"/>
                </a:cubicBezTo>
                <a:cubicBezTo>
                  <a:pt x="7103" y="15354"/>
                  <a:pt x="7098" y="15323"/>
                  <a:pt x="7045" y="15404"/>
                </a:cubicBezTo>
              </a:path>
              <a:path w="4242" h="3399">
                <a:moveTo>
                  <a:pt x="6722" y="15751"/>
                </a:moveTo>
                <a:cubicBezTo>
                  <a:pt x="6814" y="15732"/>
                  <a:pt x="6784" y="15747"/>
                  <a:pt x="6871" y="15776"/>
                </a:cubicBezTo>
                <a:cubicBezTo>
                  <a:pt x="6934" y="15797"/>
                  <a:pt x="7021" y="15764"/>
                  <a:pt x="7069" y="15751"/>
                </a:cubicBezTo>
                <a:cubicBezTo>
                  <a:pt x="7104" y="15751"/>
                  <a:pt x="7103" y="15746"/>
                  <a:pt x="7045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9040" y="5143680"/>
            <a:ext cx="598680" cy="598320"/>
          </a:xfrm>
          <a:custGeom>
            <a:avLst/>
            <a:gdLst/>
            <a:ahLst/>
            <a:rect l="l" t="t" r="r" b="b"/>
            <a:pathLst>
              <a:path w="1663" h="1662">
                <a:moveTo>
                  <a:pt x="11584" y="14684"/>
                </a:moveTo>
                <a:cubicBezTo>
                  <a:pt x="11520" y="14684"/>
                  <a:pt x="11480" y="14711"/>
                  <a:pt x="11435" y="14759"/>
                </a:cubicBezTo>
                <a:cubicBezTo>
                  <a:pt x="11381" y="14817"/>
                  <a:pt x="11399" y="14895"/>
                  <a:pt x="11361" y="14957"/>
                </a:cubicBezTo>
                <a:cubicBezTo>
                  <a:pt x="11325" y="15016"/>
                  <a:pt x="11331" y="15042"/>
                  <a:pt x="11361" y="15106"/>
                </a:cubicBezTo>
                <a:cubicBezTo>
                  <a:pt x="11389" y="15167"/>
                  <a:pt x="11453" y="15183"/>
                  <a:pt x="11509" y="15230"/>
                </a:cubicBezTo>
                <a:cubicBezTo>
                  <a:pt x="11555" y="15269"/>
                  <a:pt x="11587" y="15319"/>
                  <a:pt x="11658" y="15304"/>
                </a:cubicBezTo>
                <a:cubicBezTo>
                  <a:pt x="11711" y="15293"/>
                  <a:pt x="11809" y="15299"/>
                  <a:pt x="11857" y="15280"/>
                </a:cubicBezTo>
                <a:cubicBezTo>
                  <a:pt x="11890" y="15267"/>
                  <a:pt x="11919" y="15215"/>
                  <a:pt x="11906" y="15180"/>
                </a:cubicBezTo>
                <a:cubicBezTo>
                  <a:pt x="11877" y="15099"/>
                  <a:pt x="11837" y="15037"/>
                  <a:pt x="11733" y="15056"/>
                </a:cubicBezTo>
                <a:cubicBezTo>
                  <a:pt x="11698" y="15062"/>
                  <a:pt x="11645" y="15122"/>
                  <a:pt x="11633" y="15131"/>
                </a:cubicBezTo>
                <a:cubicBezTo>
                  <a:pt x="11608" y="15150"/>
                  <a:pt x="11504" y="15200"/>
                  <a:pt x="11559" y="15255"/>
                </a:cubicBezTo>
                <a:cubicBezTo>
                  <a:pt x="11603" y="15277"/>
                  <a:pt x="11614" y="15290"/>
                  <a:pt x="11633" y="15255"/>
                </a:cubicBezTo>
              </a:path>
              <a:path w="1663" h="1662">
                <a:moveTo>
                  <a:pt x="11485" y="14288"/>
                </a:moveTo>
                <a:cubicBezTo>
                  <a:pt x="11410" y="14288"/>
                  <a:pt x="11409" y="14318"/>
                  <a:pt x="11361" y="14337"/>
                </a:cubicBezTo>
                <a:cubicBezTo>
                  <a:pt x="11284" y="14368"/>
                  <a:pt x="11206" y="14397"/>
                  <a:pt x="11137" y="14461"/>
                </a:cubicBezTo>
                <a:cubicBezTo>
                  <a:pt x="11082" y="14512"/>
                  <a:pt x="11022" y="14569"/>
                  <a:pt x="10988" y="14635"/>
                </a:cubicBezTo>
                <a:cubicBezTo>
                  <a:pt x="10936" y="14737"/>
                  <a:pt x="10924" y="14896"/>
                  <a:pt x="10914" y="15007"/>
                </a:cubicBezTo>
                <a:cubicBezTo>
                  <a:pt x="10901" y="15147"/>
                  <a:pt x="10877" y="15373"/>
                  <a:pt x="10939" y="15503"/>
                </a:cubicBezTo>
                <a:cubicBezTo>
                  <a:pt x="10993" y="15615"/>
                  <a:pt x="11052" y="15657"/>
                  <a:pt x="11137" y="15726"/>
                </a:cubicBezTo>
                <a:cubicBezTo>
                  <a:pt x="11242" y="15811"/>
                  <a:pt x="11283" y="15842"/>
                  <a:pt x="11410" y="15875"/>
                </a:cubicBezTo>
                <a:cubicBezTo>
                  <a:pt x="11510" y="15901"/>
                  <a:pt x="11577" y="15944"/>
                  <a:pt x="11683" y="15949"/>
                </a:cubicBezTo>
                <a:cubicBezTo>
                  <a:pt x="11803" y="15954"/>
                  <a:pt x="11835" y="15915"/>
                  <a:pt x="11931" y="15875"/>
                </a:cubicBezTo>
                <a:cubicBezTo>
                  <a:pt x="12046" y="15827"/>
                  <a:pt x="12098" y="15791"/>
                  <a:pt x="12204" y="15726"/>
                </a:cubicBezTo>
                <a:cubicBezTo>
                  <a:pt x="12252" y="15696"/>
                  <a:pt x="12376" y="15608"/>
                  <a:pt x="12402" y="15553"/>
                </a:cubicBezTo>
                <a:cubicBezTo>
                  <a:pt x="12450" y="15452"/>
                  <a:pt x="12494" y="15352"/>
                  <a:pt x="12526" y="15255"/>
                </a:cubicBezTo>
                <a:cubicBezTo>
                  <a:pt x="12555" y="15167"/>
                  <a:pt x="12588" y="15105"/>
                  <a:pt x="12576" y="15007"/>
                </a:cubicBezTo>
                <a:cubicBezTo>
                  <a:pt x="12565" y="14919"/>
                  <a:pt x="12514" y="14813"/>
                  <a:pt x="12477" y="14734"/>
                </a:cubicBezTo>
                <a:cubicBezTo>
                  <a:pt x="12444" y="14663"/>
                  <a:pt x="12418" y="14627"/>
                  <a:pt x="12353" y="14585"/>
                </a:cubicBezTo>
                <a:cubicBezTo>
                  <a:pt x="12286" y="14541"/>
                  <a:pt x="12242" y="14486"/>
                  <a:pt x="12179" y="14436"/>
                </a:cubicBezTo>
                <a:cubicBezTo>
                  <a:pt x="12163" y="14424"/>
                  <a:pt x="12053" y="14345"/>
                  <a:pt x="12030" y="14337"/>
                </a:cubicBezTo>
                <a:cubicBezTo>
                  <a:pt x="11966" y="14316"/>
                  <a:pt x="11882" y="14343"/>
                  <a:pt x="11832" y="14362"/>
                </a:cubicBezTo>
                <a:cubicBezTo>
                  <a:pt x="11781" y="14382"/>
                  <a:pt x="11741" y="14399"/>
                  <a:pt x="11683" y="14387"/>
                </a:cubicBezTo>
                <a:cubicBezTo>
                  <a:pt x="11643" y="14379"/>
                  <a:pt x="11608" y="14345"/>
                  <a:pt x="11559" y="14362"/>
                </a:cubicBezTo>
                <a:cubicBezTo>
                  <a:pt x="11510" y="14379"/>
                  <a:pt x="11475" y="14421"/>
                  <a:pt x="11435" y="14461"/>
                </a:cubicBezTo>
                <a:cubicBezTo>
                  <a:pt x="11435" y="14496"/>
                  <a:pt x="11426" y="14509"/>
                  <a:pt x="11385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5072040"/>
            <a:ext cx="365040" cy="25884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13246" y="14139"/>
                </a:moveTo>
                <a:cubicBezTo>
                  <a:pt x="13306" y="14198"/>
                  <a:pt x="13333" y="14235"/>
                  <a:pt x="13395" y="14288"/>
                </a:cubicBezTo>
                <a:cubicBezTo>
                  <a:pt x="13451" y="14336"/>
                  <a:pt x="13486" y="14356"/>
                  <a:pt x="13543" y="14387"/>
                </a:cubicBezTo>
                <a:cubicBezTo>
                  <a:pt x="13614" y="14425"/>
                  <a:pt x="13659" y="14454"/>
                  <a:pt x="13717" y="14511"/>
                </a:cubicBezTo>
                <a:cubicBezTo>
                  <a:pt x="13773" y="14566"/>
                  <a:pt x="13767" y="14564"/>
                  <a:pt x="13767" y="14635"/>
                </a:cubicBezTo>
              </a:path>
              <a:path w="1018" h="720">
                <a:moveTo>
                  <a:pt x="13767" y="14139"/>
                </a:moveTo>
                <a:cubicBezTo>
                  <a:pt x="13699" y="14199"/>
                  <a:pt x="13636" y="14231"/>
                  <a:pt x="13568" y="14288"/>
                </a:cubicBezTo>
                <a:cubicBezTo>
                  <a:pt x="13513" y="14334"/>
                  <a:pt x="13415" y="14388"/>
                  <a:pt x="13370" y="14436"/>
                </a:cubicBezTo>
                <a:cubicBezTo>
                  <a:pt x="13333" y="14476"/>
                  <a:pt x="13258" y="14519"/>
                  <a:pt x="13196" y="14536"/>
                </a:cubicBezTo>
                <a:cubicBezTo>
                  <a:pt x="13147" y="14549"/>
                  <a:pt x="13130" y="14536"/>
                  <a:pt x="13097" y="14511"/>
                </a:cubicBezTo>
              </a:path>
              <a:path w="1018" h="720">
                <a:moveTo>
                  <a:pt x="12998" y="14461"/>
                </a:moveTo>
                <a:cubicBezTo>
                  <a:pt x="13047" y="14392"/>
                  <a:pt x="13062" y="14387"/>
                  <a:pt x="13146" y="14387"/>
                </a:cubicBezTo>
                <a:cubicBezTo>
                  <a:pt x="13205" y="14387"/>
                  <a:pt x="13286" y="14400"/>
                  <a:pt x="13345" y="14412"/>
                </a:cubicBezTo>
                <a:cubicBezTo>
                  <a:pt x="13454" y="14435"/>
                  <a:pt x="13485" y="14424"/>
                  <a:pt x="13593" y="14412"/>
                </a:cubicBezTo>
                <a:cubicBezTo>
                  <a:pt x="13686" y="14402"/>
                  <a:pt x="13771" y="14387"/>
                  <a:pt x="13866" y="14387"/>
                </a:cubicBezTo>
                <a:cubicBezTo>
                  <a:pt x="13933" y="14387"/>
                  <a:pt x="14000" y="14402"/>
                  <a:pt x="13990" y="14387"/>
                </a:cubicBezTo>
                <a:cubicBezTo>
                  <a:pt x="13982" y="14370"/>
                  <a:pt x="13973" y="14354"/>
                  <a:pt x="13965" y="14337"/>
                </a:cubicBezTo>
              </a:path>
              <a:path w="1018" h="720">
                <a:moveTo>
                  <a:pt x="13643" y="14089"/>
                </a:moveTo>
                <a:cubicBezTo>
                  <a:pt x="13643" y="14171"/>
                  <a:pt x="13632" y="14243"/>
                  <a:pt x="13618" y="14312"/>
                </a:cubicBezTo>
                <a:cubicBezTo>
                  <a:pt x="13605" y="14374"/>
                  <a:pt x="13610" y="14450"/>
                  <a:pt x="13593" y="14511"/>
                </a:cubicBezTo>
                <a:cubicBezTo>
                  <a:pt x="13567" y="14603"/>
                  <a:pt x="13525" y="14662"/>
                  <a:pt x="13519" y="14759"/>
                </a:cubicBezTo>
                <a:cubicBezTo>
                  <a:pt x="13513" y="14865"/>
                  <a:pt x="13474" y="14752"/>
                  <a:pt x="13469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91080" y="4768920"/>
            <a:ext cx="1312920" cy="803160"/>
          </a:xfrm>
          <a:custGeom>
            <a:avLst/>
            <a:gdLst/>
            <a:ahLst/>
            <a:rect l="l" t="t" r="r" b="b"/>
            <a:pathLst>
              <a:path w="3647" h="2233">
                <a:moveTo>
                  <a:pt x="15255" y="14288"/>
                </a:moveTo>
                <a:cubicBezTo>
                  <a:pt x="15291" y="14270"/>
                  <a:pt x="15361" y="14222"/>
                  <a:pt x="15404" y="14188"/>
                </a:cubicBezTo>
                <a:cubicBezTo>
                  <a:pt x="15459" y="14145"/>
                  <a:pt x="15521" y="14125"/>
                  <a:pt x="15577" y="14089"/>
                </a:cubicBezTo>
                <a:cubicBezTo>
                  <a:pt x="15632" y="14053"/>
                  <a:pt x="15676" y="14032"/>
                  <a:pt x="15726" y="13990"/>
                </a:cubicBezTo>
              </a:path>
              <a:path w="3647" h="2233">
                <a:moveTo>
                  <a:pt x="16297" y="13444"/>
                </a:moveTo>
                <a:cubicBezTo>
                  <a:pt x="16254" y="13380"/>
                  <a:pt x="16242" y="13383"/>
                  <a:pt x="16173" y="13419"/>
                </a:cubicBezTo>
                <a:cubicBezTo>
                  <a:pt x="16125" y="13444"/>
                  <a:pt x="16073" y="13523"/>
                  <a:pt x="16049" y="13568"/>
                </a:cubicBezTo>
                <a:cubicBezTo>
                  <a:pt x="16029" y="13605"/>
                  <a:pt x="16004" y="13697"/>
                  <a:pt x="16024" y="13742"/>
                </a:cubicBezTo>
                <a:cubicBezTo>
                  <a:pt x="16062" y="13826"/>
                  <a:pt x="16112" y="13836"/>
                  <a:pt x="16173" y="13891"/>
                </a:cubicBezTo>
                <a:cubicBezTo>
                  <a:pt x="16211" y="13926"/>
                  <a:pt x="16310" y="13938"/>
                  <a:pt x="16346" y="13891"/>
                </a:cubicBezTo>
                <a:cubicBezTo>
                  <a:pt x="16399" y="13822"/>
                  <a:pt x="16445" y="13772"/>
                  <a:pt x="16495" y="13692"/>
                </a:cubicBezTo>
              </a:path>
              <a:path w="3647" h="2233">
                <a:moveTo>
                  <a:pt x="16694" y="13246"/>
                </a:moveTo>
                <a:cubicBezTo>
                  <a:pt x="16694" y="13375"/>
                  <a:pt x="16697" y="13496"/>
                  <a:pt x="16669" y="13618"/>
                </a:cubicBezTo>
                <a:cubicBezTo>
                  <a:pt x="16662" y="13648"/>
                  <a:pt x="16669" y="13720"/>
                  <a:pt x="16669" y="13742"/>
                </a:cubicBezTo>
                <a:cubicBezTo>
                  <a:pt x="16697" y="13687"/>
                  <a:pt x="16705" y="13664"/>
                  <a:pt x="16694" y="13618"/>
                </a:cubicBezTo>
              </a:path>
              <a:path w="3647" h="2233">
                <a:moveTo>
                  <a:pt x="16942" y="13271"/>
                </a:moveTo>
                <a:cubicBezTo>
                  <a:pt x="16942" y="13461"/>
                  <a:pt x="17066" y="13935"/>
                  <a:pt x="16942" y="13791"/>
                </a:cubicBezTo>
                <a:cubicBezTo>
                  <a:pt x="16934" y="13783"/>
                  <a:pt x="16925" y="13775"/>
                  <a:pt x="16917" y="13767"/>
                </a:cubicBezTo>
              </a:path>
              <a:path w="3647" h="2233">
                <a:moveTo>
                  <a:pt x="16718" y="13593"/>
                </a:moveTo>
                <a:cubicBezTo>
                  <a:pt x="16768" y="13553"/>
                  <a:pt x="16816" y="13553"/>
                  <a:pt x="16867" y="13519"/>
                </a:cubicBezTo>
                <a:cubicBezTo>
                  <a:pt x="16909" y="13491"/>
                  <a:pt x="16946" y="13499"/>
                  <a:pt x="16966" y="13469"/>
                </a:cubicBezTo>
              </a:path>
              <a:path w="3647" h="2233">
                <a:moveTo>
                  <a:pt x="17239" y="13543"/>
                </a:moveTo>
                <a:cubicBezTo>
                  <a:pt x="17239" y="13527"/>
                  <a:pt x="17239" y="13510"/>
                  <a:pt x="17239" y="13494"/>
                </a:cubicBezTo>
                <a:cubicBezTo>
                  <a:pt x="17305" y="13494"/>
                  <a:pt x="17342" y="13480"/>
                  <a:pt x="17388" y="13543"/>
                </a:cubicBezTo>
                <a:cubicBezTo>
                  <a:pt x="17436" y="13609"/>
                  <a:pt x="17380" y="13662"/>
                  <a:pt x="17338" y="13717"/>
                </a:cubicBezTo>
                <a:cubicBezTo>
                  <a:pt x="17314" y="13742"/>
                  <a:pt x="17306" y="13751"/>
                  <a:pt x="17289" y="13767"/>
                </a:cubicBezTo>
                <a:cubicBezTo>
                  <a:pt x="17333" y="13799"/>
                  <a:pt x="17371" y="13779"/>
                  <a:pt x="17413" y="13816"/>
                </a:cubicBezTo>
                <a:cubicBezTo>
                  <a:pt x="17451" y="13849"/>
                  <a:pt x="17534" y="13904"/>
                  <a:pt x="17512" y="13965"/>
                </a:cubicBezTo>
                <a:cubicBezTo>
                  <a:pt x="17501" y="13995"/>
                  <a:pt x="17437" y="14095"/>
                  <a:pt x="17413" y="14114"/>
                </a:cubicBezTo>
                <a:cubicBezTo>
                  <a:pt x="17375" y="14143"/>
                  <a:pt x="17249" y="14104"/>
                  <a:pt x="17214" y="14089"/>
                </a:cubicBezTo>
              </a:path>
              <a:path w="3647" h="2233">
                <a:moveTo>
                  <a:pt x="17562" y="14635"/>
                </a:moveTo>
                <a:cubicBezTo>
                  <a:pt x="17528" y="14585"/>
                  <a:pt x="17508" y="14565"/>
                  <a:pt x="17438" y="14560"/>
                </a:cubicBezTo>
                <a:cubicBezTo>
                  <a:pt x="17421" y="14560"/>
                  <a:pt x="17405" y="14560"/>
                  <a:pt x="17388" y="14560"/>
                </a:cubicBezTo>
                <a:cubicBezTo>
                  <a:pt x="17366" y="14635"/>
                  <a:pt x="17326" y="14657"/>
                  <a:pt x="17289" y="14734"/>
                </a:cubicBezTo>
                <a:cubicBezTo>
                  <a:pt x="17251" y="14813"/>
                  <a:pt x="17264" y="14898"/>
                  <a:pt x="17264" y="14982"/>
                </a:cubicBezTo>
                <a:cubicBezTo>
                  <a:pt x="17264" y="15062"/>
                  <a:pt x="17282" y="15100"/>
                  <a:pt x="17363" y="15131"/>
                </a:cubicBezTo>
                <a:cubicBezTo>
                  <a:pt x="17417" y="15152"/>
                  <a:pt x="17515" y="15124"/>
                  <a:pt x="17562" y="15106"/>
                </a:cubicBezTo>
                <a:cubicBezTo>
                  <a:pt x="17624" y="15082"/>
                  <a:pt x="17665" y="15028"/>
                  <a:pt x="17711" y="14982"/>
                </a:cubicBezTo>
              </a:path>
              <a:path w="3647" h="2233">
                <a:moveTo>
                  <a:pt x="17983" y="14511"/>
                </a:moveTo>
                <a:cubicBezTo>
                  <a:pt x="17983" y="14572"/>
                  <a:pt x="18004" y="14610"/>
                  <a:pt x="18008" y="14660"/>
                </a:cubicBezTo>
                <a:cubicBezTo>
                  <a:pt x="18013" y="14729"/>
                  <a:pt x="17970" y="14770"/>
                  <a:pt x="17959" y="14833"/>
                </a:cubicBezTo>
                <a:cubicBezTo>
                  <a:pt x="17950" y="14884"/>
                  <a:pt x="17927" y="15002"/>
                  <a:pt x="17983" y="14908"/>
                </a:cubicBezTo>
              </a:path>
              <a:path w="3647" h="2233">
                <a:moveTo>
                  <a:pt x="18331" y="14461"/>
                </a:moveTo>
                <a:cubicBezTo>
                  <a:pt x="18311" y="14494"/>
                  <a:pt x="18287" y="14567"/>
                  <a:pt x="18281" y="14610"/>
                </a:cubicBezTo>
                <a:cubicBezTo>
                  <a:pt x="18271" y="14685"/>
                  <a:pt x="18322" y="15059"/>
                  <a:pt x="18256" y="15081"/>
                </a:cubicBezTo>
              </a:path>
              <a:path w="3647" h="2233">
                <a:moveTo>
                  <a:pt x="18058" y="14883"/>
                </a:moveTo>
                <a:cubicBezTo>
                  <a:pt x="18073" y="14823"/>
                  <a:pt x="18097" y="14833"/>
                  <a:pt x="18157" y="14833"/>
                </a:cubicBezTo>
                <a:cubicBezTo>
                  <a:pt x="18212" y="14833"/>
                  <a:pt x="18266" y="14819"/>
                  <a:pt x="18306" y="14784"/>
                </a:cubicBezTo>
                <a:cubicBezTo>
                  <a:pt x="18331" y="14759"/>
                  <a:pt x="18339" y="14751"/>
                  <a:pt x="18355" y="14734"/>
                </a:cubicBezTo>
              </a:path>
              <a:path w="3647" h="2233">
                <a:moveTo>
                  <a:pt x="18579" y="14833"/>
                </a:moveTo>
                <a:cubicBezTo>
                  <a:pt x="18615" y="14806"/>
                  <a:pt x="18661" y="14787"/>
                  <a:pt x="18703" y="14833"/>
                </a:cubicBezTo>
                <a:cubicBezTo>
                  <a:pt x="18756" y="14891"/>
                  <a:pt x="18697" y="14960"/>
                  <a:pt x="18653" y="14982"/>
                </a:cubicBezTo>
                <a:cubicBezTo>
                  <a:pt x="18613" y="15002"/>
                  <a:pt x="18597" y="15001"/>
                  <a:pt x="18604" y="15032"/>
                </a:cubicBezTo>
                <a:cubicBezTo>
                  <a:pt x="18665" y="15032"/>
                  <a:pt x="18730" y="15018"/>
                  <a:pt x="18777" y="15056"/>
                </a:cubicBezTo>
                <a:cubicBezTo>
                  <a:pt x="18833" y="15100"/>
                  <a:pt x="18878" y="15127"/>
                  <a:pt x="18901" y="15205"/>
                </a:cubicBezTo>
                <a:cubicBezTo>
                  <a:pt x="18915" y="15251"/>
                  <a:pt x="18853" y="15341"/>
                  <a:pt x="18827" y="15379"/>
                </a:cubicBezTo>
                <a:cubicBezTo>
                  <a:pt x="18795" y="15426"/>
                  <a:pt x="18725" y="15461"/>
                  <a:pt x="18678" y="15478"/>
                </a:cubicBezTo>
                <a:cubicBezTo>
                  <a:pt x="18608" y="15503"/>
                  <a:pt x="18545" y="15420"/>
                  <a:pt x="18504" y="15379"/>
                </a:cubicBezTo>
                <a:cubicBezTo>
                  <a:pt x="18488" y="15362"/>
                  <a:pt x="18471" y="15346"/>
                  <a:pt x="1845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2786040"/>
            <a:ext cx="1357560" cy="3305160"/>
          </a:xfrm>
          <a:custGeom>
            <a:avLst/>
            <a:gdLst/>
            <a:ahLst/>
            <a:rect l="l" t="t" r="r" b="b"/>
            <a:pathLst>
              <a:path w="3771" h="9179">
                <a:moveTo>
                  <a:pt x="14089" y="8905"/>
                </a:moveTo>
                <a:cubicBezTo>
                  <a:pt x="14015" y="8923"/>
                  <a:pt x="14029" y="8949"/>
                  <a:pt x="13965" y="9004"/>
                </a:cubicBezTo>
                <a:cubicBezTo>
                  <a:pt x="13886" y="9072"/>
                  <a:pt x="13820" y="9136"/>
                  <a:pt x="13742" y="9203"/>
                </a:cubicBezTo>
                <a:cubicBezTo>
                  <a:pt x="13631" y="9298"/>
                  <a:pt x="13516" y="9371"/>
                  <a:pt x="13395" y="9451"/>
                </a:cubicBezTo>
                <a:cubicBezTo>
                  <a:pt x="13302" y="9513"/>
                  <a:pt x="13204" y="9576"/>
                  <a:pt x="13122" y="9649"/>
                </a:cubicBezTo>
                <a:cubicBezTo>
                  <a:pt x="13176" y="9594"/>
                  <a:pt x="13197" y="9574"/>
                  <a:pt x="13246" y="9550"/>
                </a:cubicBezTo>
              </a:path>
              <a:path w="3771" h="9179">
                <a:moveTo>
                  <a:pt x="14188" y="8905"/>
                </a:moveTo>
                <a:cubicBezTo>
                  <a:pt x="14212" y="8952"/>
                  <a:pt x="14268" y="8963"/>
                  <a:pt x="14312" y="9004"/>
                </a:cubicBezTo>
                <a:cubicBezTo>
                  <a:pt x="14376" y="9064"/>
                  <a:pt x="14458" y="9109"/>
                  <a:pt x="14536" y="9153"/>
                </a:cubicBezTo>
                <a:cubicBezTo>
                  <a:pt x="14624" y="9202"/>
                  <a:pt x="14708" y="9208"/>
                  <a:pt x="14784" y="9277"/>
                </a:cubicBezTo>
                <a:cubicBezTo>
                  <a:pt x="14857" y="9343"/>
                  <a:pt x="14911" y="9413"/>
                  <a:pt x="14957" y="9500"/>
                </a:cubicBezTo>
                <a:cubicBezTo>
                  <a:pt x="14981" y="9546"/>
                  <a:pt x="15094" y="9647"/>
                  <a:pt x="15056" y="9624"/>
                </a:cubicBezTo>
                <a:cubicBezTo>
                  <a:pt x="15040" y="9616"/>
                  <a:pt x="15023" y="9607"/>
                  <a:pt x="15007" y="9599"/>
                </a:cubicBezTo>
              </a:path>
              <a:path w="3771" h="9179">
                <a:moveTo>
                  <a:pt x="13246" y="9624"/>
                </a:moveTo>
                <a:cubicBezTo>
                  <a:pt x="13246" y="9687"/>
                  <a:pt x="13269" y="9714"/>
                  <a:pt x="13271" y="9773"/>
                </a:cubicBezTo>
                <a:cubicBezTo>
                  <a:pt x="13281" y="10033"/>
                  <a:pt x="13288" y="10317"/>
                  <a:pt x="13246" y="10567"/>
                </a:cubicBezTo>
                <a:cubicBezTo>
                  <a:pt x="13233" y="10641"/>
                  <a:pt x="13234" y="10718"/>
                  <a:pt x="13221" y="10790"/>
                </a:cubicBezTo>
                <a:cubicBezTo>
                  <a:pt x="13216" y="10818"/>
                  <a:pt x="13221" y="10995"/>
                  <a:pt x="13221" y="10815"/>
                </a:cubicBezTo>
              </a:path>
              <a:path w="3771" h="9179">
                <a:moveTo>
                  <a:pt x="13271" y="10840"/>
                </a:moveTo>
                <a:cubicBezTo>
                  <a:pt x="13321" y="10856"/>
                  <a:pt x="13373" y="10872"/>
                  <a:pt x="13419" y="10889"/>
                </a:cubicBezTo>
                <a:cubicBezTo>
                  <a:pt x="13493" y="10916"/>
                  <a:pt x="13539" y="10965"/>
                  <a:pt x="13593" y="11013"/>
                </a:cubicBezTo>
                <a:cubicBezTo>
                  <a:pt x="13659" y="11072"/>
                  <a:pt x="13715" y="11114"/>
                  <a:pt x="13791" y="11162"/>
                </a:cubicBezTo>
                <a:cubicBezTo>
                  <a:pt x="13864" y="11208"/>
                  <a:pt x="13934" y="11228"/>
                  <a:pt x="14015" y="11261"/>
                </a:cubicBezTo>
                <a:cubicBezTo>
                  <a:pt x="14092" y="11292"/>
                  <a:pt x="14138" y="11355"/>
                  <a:pt x="14188" y="11410"/>
                </a:cubicBezTo>
                <a:cubicBezTo>
                  <a:pt x="14220" y="11445"/>
                  <a:pt x="14256" y="11475"/>
                  <a:pt x="14288" y="11509"/>
                </a:cubicBezTo>
                <a:cubicBezTo>
                  <a:pt x="14317" y="11484"/>
                  <a:pt x="14366" y="11434"/>
                  <a:pt x="14412" y="11410"/>
                </a:cubicBezTo>
                <a:cubicBezTo>
                  <a:pt x="14468" y="11381"/>
                  <a:pt x="14503" y="11353"/>
                  <a:pt x="14560" y="11311"/>
                </a:cubicBezTo>
                <a:cubicBezTo>
                  <a:pt x="14640" y="11253"/>
                  <a:pt x="14726" y="11189"/>
                  <a:pt x="14808" y="11137"/>
                </a:cubicBezTo>
                <a:cubicBezTo>
                  <a:pt x="14852" y="11109"/>
                  <a:pt x="14975" y="11028"/>
                  <a:pt x="15032" y="11013"/>
                </a:cubicBezTo>
                <a:cubicBezTo>
                  <a:pt x="15079" y="11000"/>
                  <a:pt x="15119" y="11013"/>
                  <a:pt x="15156" y="10964"/>
                </a:cubicBezTo>
                <a:cubicBezTo>
                  <a:pt x="15199" y="10907"/>
                  <a:pt x="15175" y="10891"/>
                  <a:pt x="15156" y="10840"/>
                </a:cubicBezTo>
              </a:path>
              <a:path w="3771" h="9179">
                <a:moveTo>
                  <a:pt x="15106" y="9575"/>
                </a:moveTo>
                <a:cubicBezTo>
                  <a:pt x="15129" y="9552"/>
                  <a:pt x="15133" y="9544"/>
                  <a:pt x="15156" y="9550"/>
                </a:cubicBezTo>
                <a:cubicBezTo>
                  <a:pt x="15156" y="9897"/>
                  <a:pt x="15215" y="10309"/>
                  <a:pt x="15131" y="10641"/>
                </a:cubicBezTo>
                <a:cubicBezTo>
                  <a:pt x="15119" y="10690"/>
                  <a:pt x="15106" y="10738"/>
                  <a:pt x="15106" y="10790"/>
                </a:cubicBezTo>
                <a:cubicBezTo>
                  <a:pt x="15106" y="10851"/>
                  <a:pt x="15186" y="10934"/>
                  <a:pt x="15081" y="10840"/>
                </a:cubicBezTo>
                <a:cubicBezTo>
                  <a:pt x="15073" y="10832"/>
                  <a:pt x="15064" y="10823"/>
                  <a:pt x="15056" y="10815"/>
                </a:cubicBezTo>
              </a:path>
              <a:path w="3771" h="9179">
                <a:moveTo>
                  <a:pt x="14213" y="9996"/>
                </a:moveTo>
                <a:cubicBezTo>
                  <a:pt x="14165" y="10028"/>
                  <a:pt x="14107" y="10079"/>
                  <a:pt x="14089" y="10145"/>
                </a:cubicBezTo>
                <a:cubicBezTo>
                  <a:pt x="14075" y="10197"/>
                  <a:pt x="14064" y="10237"/>
                  <a:pt x="14064" y="10294"/>
                </a:cubicBezTo>
                <a:cubicBezTo>
                  <a:pt x="14064" y="10361"/>
                  <a:pt x="14061" y="10406"/>
                  <a:pt x="14089" y="10468"/>
                </a:cubicBezTo>
                <a:cubicBezTo>
                  <a:pt x="14118" y="10532"/>
                  <a:pt x="14149" y="10542"/>
                  <a:pt x="14213" y="10542"/>
                </a:cubicBezTo>
                <a:cubicBezTo>
                  <a:pt x="14273" y="10542"/>
                  <a:pt x="14316" y="10509"/>
                  <a:pt x="14362" y="10468"/>
                </a:cubicBezTo>
                <a:cubicBezTo>
                  <a:pt x="14402" y="10432"/>
                  <a:pt x="14493" y="10398"/>
                  <a:pt x="14511" y="10344"/>
                </a:cubicBezTo>
                <a:cubicBezTo>
                  <a:pt x="14523" y="10308"/>
                  <a:pt x="14549" y="10238"/>
                  <a:pt x="14536" y="10195"/>
                </a:cubicBezTo>
                <a:cubicBezTo>
                  <a:pt x="14528" y="10168"/>
                  <a:pt x="14474" y="10035"/>
                  <a:pt x="14461" y="10021"/>
                </a:cubicBezTo>
                <a:cubicBezTo>
                  <a:pt x="14423" y="9979"/>
                  <a:pt x="14330" y="9955"/>
                  <a:pt x="14288" y="9947"/>
                </a:cubicBezTo>
                <a:cubicBezTo>
                  <a:pt x="14208" y="9933"/>
                  <a:pt x="14213" y="9932"/>
                  <a:pt x="14213" y="9847"/>
                </a:cubicBezTo>
                <a:cubicBezTo>
                  <a:pt x="14213" y="9822"/>
                  <a:pt x="14213" y="9798"/>
                  <a:pt x="14213" y="9773"/>
                </a:cubicBezTo>
              </a:path>
              <a:path w="3771" h="9179">
                <a:moveTo>
                  <a:pt x="14114" y="8830"/>
                </a:moveTo>
                <a:cubicBezTo>
                  <a:pt x="14170" y="8752"/>
                  <a:pt x="14208" y="8730"/>
                  <a:pt x="14288" y="8682"/>
                </a:cubicBezTo>
                <a:cubicBezTo>
                  <a:pt x="14381" y="8626"/>
                  <a:pt x="14474" y="8549"/>
                  <a:pt x="14560" y="8483"/>
                </a:cubicBezTo>
                <a:cubicBezTo>
                  <a:pt x="14604" y="8449"/>
                  <a:pt x="14607" y="8430"/>
                  <a:pt x="14585" y="8409"/>
                </a:cubicBezTo>
              </a:path>
              <a:path w="3771" h="9179">
                <a:moveTo>
                  <a:pt x="14932" y="7789"/>
                </a:moveTo>
                <a:cubicBezTo>
                  <a:pt x="14932" y="7934"/>
                  <a:pt x="14929" y="8072"/>
                  <a:pt x="14908" y="8210"/>
                </a:cubicBezTo>
                <a:cubicBezTo>
                  <a:pt x="14905" y="8233"/>
                  <a:pt x="14916" y="8371"/>
                  <a:pt x="14883" y="8310"/>
                </a:cubicBezTo>
                <a:cubicBezTo>
                  <a:pt x="14875" y="8293"/>
                  <a:pt x="14866" y="8277"/>
                  <a:pt x="14858" y="8260"/>
                </a:cubicBezTo>
              </a:path>
              <a:path w="3771" h="9179">
                <a:moveTo>
                  <a:pt x="14908" y="7938"/>
                </a:moveTo>
                <a:cubicBezTo>
                  <a:pt x="14972" y="7989"/>
                  <a:pt x="14986" y="8019"/>
                  <a:pt x="15032" y="8086"/>
                </a:cubicBezTo>
                <a:cubicBezTo>
                  <a:pt x="15068" y="8139"/>
                  <a:pt x="15122" y="8162"/>
                  <a:pt x="15156" y="8210"/>
                </a:cubicBezTo>
                <a:cubicBezTo>
                  <a:pt x="15184" y="8250"/>
                  <a:pt x="15260" y="8301"/>
                  <a:pt x="15280" y="8334"/>
                </a:cubicBezTo>
                <a:cubicBezTo>
                  <a:pt x="15341" y="8432"/>
                  <a:pt x="15257" y="8418"/>
                  <a:pt x="15354" y="8434"/>
                </a:cubicBezTo>
                <a:cubicBezTo>
                  <a:pt x="15354" y="8257"/>
                  <a:pt x="15357" y="8081"/>
                  <a:pt x="15329" y="7913"/>
                </a:cubicBezTo>
                <a:cubicBezTo>
                  <a:pt x="15318" y="7846"/>
                  <a:pt x="15310" y="7749"/>
                  <a:pt x="15354" y="7764"/>
                </a:cubicBezTo>
              </a:path>
              <a:path w="3771" h="9179">
                <a:moveTo>
                  <a:pt x="15701" y="7813"/>
                </a:moveTo>
                <a:cubicBezTo>
                  <a:pt x="15670" y="7855"/>
                  <a:pt x="15677" y="7883"/>
                  <a:pt x="15677" y="7938"/>
                </a:cubicBezTo>
                <a:cubicBezTo>
                  <a:pt x="15677" y="8050"/>
                  <a:pt x="15667" y="8163"/>
                  <a:pt x="15652" y="8260"/>
                </a:cubicBezTo>
                <a:cubicBezTo>
                  <a:pt x="15644" y="8311"/>
                  <a:pt x="15617" y="8460"/>
                  <a:pt x="15677" y="8359"/>
                </a:cubicBezTo>
              </a:path>
              <a:path w="3771" h="9179">
                <a:moveTo>
                  <a:pt x="15974" y="7739"/>
                </a:moveTo>
                <a:cubicBezTo>
                  <a:pt x="15974" y="7936"/>
                  <a:pt x="15988" y="8154"/>
                  <a:pt x="15949" y="8334"/>
                </a:cubicBezTo>
                <a:cubicBezTo>
                  <a:pt x="15944" y="8358"/>
                  <a:pt x="15949" y="8562"/>
                  <a:pt x="15949" y="8434"/>
                </a:cubicBezTo>
                <a:cubicBezTo>
                  <a:pt x="15949" y="8426"/>
                  <a:pt x="15949" y="8417"/>
                  <a:pt x="15949" y="8409"/>
                </a:cubicBezTo>
              </a:path>
              <a:path w="3771" h="9179">
                <a:moveTo>
                  <a:pt x="15701" y="8210"/>
                </a:moveTo>
                <a:cubicBezTo>
                  <a:pt x="15773" y="8210"/>
                  <a:pt x="15809" y="8202"/>
                  <a:pt x="15875" y="8186"/>
                </a:cubicBezTo>
                <a:cubicBezTo>
                  <a:pt x="15905" y="8179"/>
                  <a:pt x="15943" y="8186"/>
                  <a:pt x="15974" y="8186"/>
                </a:cubicBezTo>
              </a:path>
              <a:path w="3771" h="9179">
                <a:moveTo>
                  <a:pt x="16222" y="8384"/>
                </a:moveTo>
                <a:cubicBezTo>
                  <a:pt x="16266" y="8351"/>
                  <a:pt x="16288" y="8359"/>
                  <a:pt x="16346" y="8359"/>
                </a:cubicBezTo>
                <a:cubicBezTo>
                  <a:pt x="16401" y="8359"/>
                  <a:pt x="16455" y="8363"/>
                  <a:pt x="16495" y="8409"/>
                </a:cubicBezTo>
                <a:cubicBezTo>
                  <a:pt x="16581" y="8508"/>
                  <a:pt x="16427" y="8505"/>
                  <a:pt x="16396" y="8533"/>
                </a:cubicBezTo>
                <a:cubicBezTo>
                  <a:pt x="16372" y="8581"/>
                  <a:pt x="16365" y="8597"/>
                  <a:pt x="16321" y="8582"/>
                </a:cubicBezTo>
                <a:cubicBezTo>
                  <a:pt x="16303" y="8645"/>
                  <a:pt x="16290" y="8643"/>
                  <a:pt x="16272" y="8706"/>
                </a:cubicBezTo>
                <a:cubicBezTo>
                  <a:pt x="16361" y="8706"/>
                  <a:pt x="16434" y="8694"/>
                  <a:pt x="16520" y="8682"/>
                </a:cubicBezTo>
                <a:cubicBezTo>
                  <a:pt x="16616" y="8669"/>
                  <a:pt x="16721" y="8682"/>
                  <a:pt x="16818" y="8682"/>
                </a:cubicBezTo>
              </a:path>
              <a:path w="3771" h="9179">
                <a:moveTo>
                  <a:pt x="14362" y="11559"/>
                </a:moveTo>
                <a:cubicBezTo>
                  <a:pt x="14362" y="11642"/>
                  <a:pt x="14350" y="11659"/>
                  <a:pt x="14337" y="11733"/>
                </a:cubicBezTo>
                <a:cubicBezTo>
                  <a:pt x="14325" y="11802"/>
                  <a:pt x="14330" y="11889"/>
                  <a:pt x="14312" y="11956"/>
                </a:cubicBezTo>
                <a:cubicBezTo>
                  <a:pt x="14298" y="12009"/>
                  <a:pt x="14305" y="12079"/>
                  <a:pt x="14288" y="12129"/>
                </a:cubicBezTo>
                <a:cubicBezTo>
                  <a:pt x="14260" y="12184"/>
                  <a:pt x="14252" y="12195"/>
                  <a:pt x="14263" y="12105"/>
                </a:cubicBezTo>
              </a:path>
              <a:path w="3771" h="9179">
                <a:moveTo>
                  <a:pt x="13891" y="12502"/>
                </a:moveTo>
                <a:cubicBezTo>
                  <a:pt x="13891" y="12441"/>
                  <a:pt x="13886" y="12396"/>
                  <a:pt x="13816" y="12378"/>
                </a:cubicBezTo>
                <a:cubicBezTo>
                  <a:pt x="13720" y="12353"/>
                  <a:pt x="13679" y="12416"/>
                  <a:pt x="13618" y="12477"/>
                </a:cubicBezTo>
                <a:cubicBezTo>
                  <a:pt x="13576" y="12519"/>
                  <a:pt x="13550" y="12594"/>
                  <a:pt x="13543" y="12650"/>
                </a:cubicBezTo>
                <a:cubicBezTo>
                  <a:pt x="13533" y="12726"/>
                  <a:pt x="13538" y="12806"/>
                  <a:pt x="13568" y="12874"/>
                </a:cubicBezTo>
                <a:cubicBezTo>
                  <a:pt x="13594" y="12931"/>
                  <a:pt x="13651" y="13007"/>
                  <a:pt x="13717" y="13022"/>
                </a:cubicBezTo>
                <a:cubicBezTo>
                  <a:pt x="13773" y="13035"/>
                  <a:pt x="13855" y="13064"/>
                  <a:pt x="13915" y="13047"/>
                </a:cubicBezTo>
                <a:cubicBezTo>
                  <a:pt x="13972" y="13019"/>
                  <a:pt x="13995" y="13008"/>
                  <a:pt x="14039" y="12998"/>
                </a:cubicBezTo>
              </a:path>
              <a:path w="3771" h="9179">
                <a:moveTo>
                  <a:pt x="14412" y="12502"/>
                </a:moveTo>
                <a:cubicBezTo>
                  <a:pt x="14426" y="12574"/>
                  <a:pt x="14416" y="12580"/>
                  <a:pt x="14412" y="12650"/>
                </a:cubicBezTo>
                <a:cubicBezTo>
                  <a:pt x="14404" y="12790"/>
                  <a:pt x="14392" y="13180"/>
                  <a:pt x="14436" y="13047"/>
                </a:cubicBezTo>
                <a:cubicBezTo>
                  <a:pt x="14436" y="13031"/>
                  <a:pt x="14436" y="13014"/>
                  <a:pt x="14436" y="12998"/>
                </a:cubicBezTo>
              </a:path>
              <a:path w="3771" h="9179">
                <a:moveTo>
                  <a:pt x="14684" y="12378"/>
                </a:moveTo>
                <a:cubicBezTo>
                  <a:pt x="14684" y="12592"/>
                  <a:pt x="14698" y="12824"/>
                  <a:pt x="14660" y="13022"/>
                </a:cubicBezTo>
                <a:cubicBezTo>
                  <a:pt x="14660" y="13039"/>
                  <a:pt x="14660" y="13055"/>
                  <a:pt x="14660" y="13072"/>
                </a:cubicBezTo>
              </a:path>
              <a:path w="3771" h="9179">
                <a:moveTo>
                  <a:pt x="14412" y="12824"/>
                </a:moveTo>
                <a:cubicBezTo>
                  <a:pt x="14479" y="12807"/>
                  <a:pt x="14549" y="12781"/>
                  <a:pt x="14610" y="12774"/>
                </a:cubicBezTo>
                <a:cubicBezTo>
                  <a:pt x="14654" y="12769"/>
                  <a:pt x="14678" y="12799"/>
                  <a:pt x="14709" y="12824"/>
                </a:cubicBezTo>
              </a:path>
              <a:path w="3771" h="9179">
                <a:moveTo>
                  <a:pt x="14908" y="12898"/>
                </a:moveTo>
                <a:cubicBezTo>
                  <a:pt x="14908" y="12882"/>
                  <a:pt x="14908" y="12865"/>
                  <a:pt x="14908" y="12849"/>
                </a:cubicBezTo>
                <a:cubicBezTo>
                  <a:pt x="14973" y="12849"/>
                  <a:pt x="15033" y="12823"/>
                  <a:pt x="15056" y="12898"/>
                </a:cubicBezTo>
                <a:cubicBezTo>
                  <a:pt x="15076" y="12963"/>
                  <a:pt x="15032" y="13013"/>
                  <a:pt x="14982" y="13047"/>
                </a:cubicBezTo>
                <a:cubicBezTo>
                  <a:pt x="14965" y="13055"/>
                  <a:pt x="14949" y="13064"/>
                  <a:pt x="14932" y="13072"/>
                </a:cubicBezTo>
                <a:cubicBezTo>
                  <a:pt x="15013" y="13072"/>
                  <a:pt x="15040" y="13104"/>
                  <a:pt x="15106" y="13122"/>
                </a:cubicBezTo>
                <a:cubicBezTo>
                  <a:pt x="15174" y="13140"/>
                  <a:pt x="15229" y="13168"/>
                  <a:pt x="15255" y="13246"/>
                </a:cubicBezTo>
                <a:cubicBezTo>
                  <a:pt x="15278" y="13314"/>
                  <a:pt x="15206" y="13348"/>
                  <a:pt x="15180" y="13395"/>
                </a:cubicBezTo>
                <a:cubicBezTo>
                  <a:pt x="15152" y="13446"/>
                  <a:pt x="15160" y="13505"/>
                  <a:pt x="15081" y="13519"/>
                </a:cubicBezTo>
                <a:cubicBezTo>
                  <a:pt x="14988" y="13536"/>
                  <a:pt x="14679" y="13556"/>
                  <a:pt x="14610" y="13494"/>
                </a:cubicBezTo>
                <a:cubicBezTo>
                  <a:pt x="14602" y="13486"/>
                  <a:pt x="14593" y="13477"/>
                  <a:pt x="14585" y="13469"/>
                </a:cubicBezTo>
              </a:path>
              <a:path w="3771" h="9179">
                <a:moveTo>
                  <a:pt x="15255" y="14362"/>
                </a:moveTo>
                <a:cubicBezTo>
                  <a:pt x="15200" y="14368"/>
                  <a:pt x="15146" y="14362"/>
                  <a:pt x="15106" y="14412"/>
                </a:cubicBezTo>
                <a:cubicBezTo>
                  <a:pt x="15052" y="14480"/>
                  <a:pt x="14974" y="14575"/>
                  <a:pt x="14908" y="14635"/>
                </a:cubicBezTo>
                <a:cubicBezTo>
                  <a:pt x="14819" y="14716"/>
                  <a:pt x="14736" y="14785"/>
                  <a:pt x="14660" y="14883"/>
                </a:cubicBezTo>
                <a:cubicBezTo>
                  <a:pt x="14596" y="14965"/>
                  <a:pt x="14525" y="15046"/>
                  <a:pt x="14461" y="15106"/>
                </a:cubicBezTo>
                <a:cubicBezTo>
                  <a:pt x="14446" y="15120"/>
                  <a:pt x="14324" y="15224"/>
                  <a:pt x="14312" y="15230"/>
                </a:cubicBezTo>
                <a:cubicBezTo>
                  <a:pt x="14312" y="15222"/>
                  <a:pt x="14312" y="15213"/>
                  <a:pt x="14312" y="15205"/>
                </a:cubicBezTo>
              </a:path>
              <a:path w="3771" h="9179">
                <a:moveTo>
                  <a:pt x="15304" y="14387"/>
                </a:moveTo>
                <a:cubicBezTo>
                  <a:pt x="15349" y="14420"/>
                  <a:pt x="15356" y="14434"/>
                  <a:pt x="15404" y="14486"/>
                </a:cubicBezTo>
                <a:cubicBezTo>
                  <a:pt x="15479" y="14567"/>
                  <a:pt x="15558" y="14650"/>
                  <a:pt x="15652" y="14709"/>
                </a:cubicBezTo>
                <a:cubicBezTo>
                  <a:pt x="15754" y="14772"/>
                  <a:pt x="15847" y="14850"/>
                  <a:pt x="15925" y="14932"/>
                </a:cubicBezTo>
                <a:cubicBezTo>
                  <a:pt x="15991" y="15002"/>
                  <a:pt x="16057" y="15062"/>
                  <a:pt x="16123" y="15131"/>
                </a:cubicBezTo>
                <a:cubicBezTo>
                  <a:pt x="16182" y="15193"/>
                  <a:pt x="16176" y="15210"/>
                  <a:pt x="16247" y="15230"/>
                </a:cubicBezTo>
                <a:cubicBezTo>
                  <a:pt x="16221" y="15309"/>
                  <a:pt x="16250" y="15263"/>
                  <a:pt x="16173" y="15280"/>
                </a:cubicBezTo>
              </a:path>
              <a:path w="3771" h="9179">
                <a:moveTo>
                  <a:pt x="14312" y="15230"/>
                </a:moveTo>
                <a:cubicBezTo>
                  <a:pt x="14312" y="15511"/>
                  <a:pt x="14315" y="15808"/>
                  <a:pt x="14288" y="16073"/>
                </a:cubicBezTo>
                <a:cubicBezTo>
                  <a:pt x="14282" y="16130"/>
                  <a:pt x="14279" y="16204"/>
                  <a:pt x="14312" y="16247"/>
                </a:cubicBezTo>
                <a:cubicBezTo>
                  <a:pt x="14344" y="16288"/>
                  <a:pt x="14404" y="16296"/>
                  <a:pt x="14436" y="16321"/>
                </a:cubicBezTo>
                <a:cubicBezTo>
                  <a:pt x="14504" y="16374"/>
                  <a:pt x="14567" y="16400"/>
                  <a:pt x="14635" y="16446"/>
                </a:cubicBezTo>
                <a:cubicBezTo>
                  <a:pt x="14708" y="16495"/>
                  <a:pt x="14785" y="16543"/>
                  <a:pt x="14858" y="16594"/>
                </a:cubicBezTo>
                <a:cubicBezTo>
                  <a:pt x="14931" y="16645"/>
                  <a:pt x="15003" y="16695"/>
                  <a:pt x="15081" y="16743"/>
                </a:cubicBezTo>
                <a:cubicBezTo>
                  <a:pt x="15107" y="16759"/>
                  <a:pt x="15175" y="16810"/>
                  <a:pt x="15205" y="16818"/>
                </a:cubicBezTo>
                <a:cubicBezTo>
                  <a:pt x="15265" y="16834"/>
                  <a:pt x="15301" y="16836"/>
                  <a:pt x="15354" y="16867"/>
                </a:cubicBezTo>
                <a:cubicBezTo>
                  <a:pt x="15394" y="16890"/>
                  <a:pt x="15452" y="16942"/>
                  <a:pt x="15503" y="16917"/>
                </a:cubicBezTo>
                <a:cubicBezTo>
                  <a:pt x="15569" y="16885"/>
                  <a:pt x="15610" y="16822"/>
                  <a:pt x="15677" y="16793"/>
                </a:cubicBezTo>
                <a:cubicBezTo>
                  <a:pt x="15746" y="16763"/>
                  <a:pt x="15807" y="16746"/>
                  <a:pt x="15875" y="16694"/>
                </a:cubicBezTo>
                <a:cubicBezTo>
                  <a:pt x="15948" y="16639"/>
                  <a:pt x="16023" y="16599"/>
                  <a:pt x="16098" y="16545"/>
                </a:cubicBezTo>
                <a:cubicBezTo>
                  <a:pt x="16145" y="16512"/>
                  <a:pt x="16192" y="16460"/>
                  <a:pt x="16247" y="16421"/>
                </a:cubicBezTo>
                <a:cubicBezTo>
                  <a:pt x="16306" y="16379"/>
                  <a:pt x="16370" y="16387"/>
                  <a:pt x="16396" y="16321"/>
                </a:cubicBezTo>
                <a:cubicBezTo>
                  <a:pt x="16396" y="16293"/>
                  <a:pt x="16393" y="16283"/>
                  <a:pt x="16371" y="16272"/>
                </a:cubicBezTo>
              </a:path>
              <a:path w="3771" h="9179">
                <a:moveTo>
                  <a:pt x="16321" y="15255"/>
                </a:moveTo>
                <a:cubicBezTo>
                  <a:pt x="16350" y="15293"/>
                  <a:pt x="16346" y="15306"/>
                  <a:pt x="16346" y="15354"/>
                </a:cubicBezTo>
                <a:cubicBezTo>
                  <a:pt x="16346" y="15438"/>
                  <a:pt x="16367" y="15498"/>
                  <a:pt x="16371" y="15577"/>
                </a:cubicBezTo>
                <a:cubicBezTo>
                  <a:pt x="16378" y="15700"/>
                  <a:pt x="16361" y="15811"/>
                  <a:pt x="16346" y="15925"/>
                </a:cubicBezTo>
                <a:cubicBezTo>
                  <a:pt x="16325" y="16084"/>
                  <a:pt x="16346" y="16260"/>
                  <a:pt x="16346" y="16421"/>
                </a:cubicBezTo>
                <a:cubicBezTo>
                  <a:pt x="16315" y="16348"/>
                  <a:pt x="16292" y="16293"/>
                  <a:pt x="16247" y="16222"/>
                </a:cubicBezTo>
              </a:path>
              <a:path w="3771" h="9179">
                <a:moveTo>
                  <a:pt x="16396" y="15230"/>
                </a:moveTo>
                <a:cubicBezTo>
                  <a:pt x="16414" y="15157"/>
                  <a:pt x="16441" y="15183"/>
                  <a:pt x="16495" y="15156"/>
                </a:cubicBezTo>
                <a:cubicBezTo>
                  <a:pt x="16582" y="15112"/>
                  <a:pt x="16663" y="15013"/>
                  <a:pt x="16743" y="14957"/>
                </a:cubicBezTo>
                <a:cubicBezTo>
                  <a:pt x="16788" y="14926"/>
                  <a:pt x="16844" y="14899"/>
                  <a:pt x="16892" y="14883"/>
                </a:cubicBezTo>
                <a:cubicBezTo>
                  <a:pt x="16862" y="14913"/>
                  <a:pt x="16848" y="14924"/>
                  <a:pt x="16818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2880" y="1295280"/>
            <a:ext cx="374400" cy="339840"/>
          </a:xfrm>
          <a:custGeom>
            <a:avLst/>
            <a:gdLst/>
            <a:ahLst/>
            <a:rect l="l" t="t" r="r" b="b"/>
            <a:pathLst>
              <a:path w="1043" h="943">
                <a:moveTo>
                  <a:pt x="3299" y="3597"/>
                </a:moveTo>
                <a:cubicBezTo>
                  <a:pt x="3248" y="3647"/>
                  <a:pt x="3210" y="3683"/>
                  <a:pt x="3150" y="3746"/>
                </a:cubicBezTo>
                <a:cubicBezTo>
                  <a:pt x="3056" y="3845"/>
                  <a:pt x="2953" y="3929"/>
                  <a:pt x="2853" y="4018"/>
                </a:cubicBezTo>
                <a:cubicBezTo>
                  <a:pt x="2762" y="4099"/>
                  <a:pt x="2675" y="4191"/>
                  <a:pt x="2580" y="4266"/>
                </a:cubicBezTo>
                <a:cubicBezTo>
                  <a:pt x="2490" y="4337"/>
                  <a:pt x="2401" y="4426"/>
                  <a:pt x="2307" y="4490"/>
                </a:cubicBezTo>
                <a:cubicBezTo>
                  <a:pt x="2206" y="4558"/>
                  <a:pt x="2280" y="4516"/>
                  <a:pt x="2332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04920" y="1276200"/>
            <a:ext cx="358920" cy="304920"/>
          </a:xfrm>
          <a:custGeom>
            <a:avLst/>
            <a:gdLst/>
            <a:ahLst/>
            <a:rect l="l" t="t" r="r" b="b"/>
            <a:pathLst>
              <a:path w="993" h="844">
                <a:moveTo>
                  <a:pt x="3349" y="3547"/>
                </a:moveTo>
                <a:cubicBezTo>
                  <a:pt x="3416" y="3602"/>
                  <a:pt x="3504" y="3624"/>
                  <a:pt x="3572" y="3671"/>
                </a:cubicBezTo>
                <a:cubicBezTo>
                  <a:pt x="3646" y="3722"/>
                  <a:pt x="3726" y="3786"/>
                  <a:pt x="3795" y="3845"/>
                </a:cubicBezTo>
                <a:cubicBezTo>
                  <a:pt x="3859" y="3899"/>
                  <a:pt x="3917" y="3957"/>
                  <a:pt x="3969" y="4018"/>
                </a:cubicBezTo>
                <a:cubicBezTo>
                  <a:pt x="4023" y="4082"/>
                  <a:pt x="4091" y="4112"/>
                  <a:pt x="4142" y="4167"/>
                </a:cubicBezTo>
                <a:cubicBezTo>
                  <a:pt x="4174" y="4201"/>
                  <a:pt x="4243" y="4265"/>
                  <a:pt x="4266" y="4291"/>
                </a:cubicBezTo>
                <a:cubicBezTo>
                  <a:pt x="4299" y="4329"/>
                  <a:pt x="4303" y="4341"/>
                  <a:pt x="4316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" y="1643040"/>
            <a:ext cx="9360" cy="420840"/>
          </a:xfrm>
          <a:custGeom>
            <a:avLst/>
            <a:gdLst/>
            <a:ahLst/>
            <a:rect l="l" t="t" r="r" b="b"/>
            <a:pathLst>
              <a:path w="26" h="1167">
                <a:moveTo>
                  <a:pt x="2282" y="4564"/>
                </a:moveTo>
                <a:cubicBezTo>
                  <a:pt x="2320" y="4577"/>
                  <a:pt x="2307" y="4593"/>
                  <a:pt x="2307" y="4638"/>
                </a:cubicBezTo>
                <a:cubicBezTo>
                  <a:pt x="2307" y="4881"/>
                  <a:pt x="2426" y="5538"/>
                  <a:pt x="2282" y="5730"/>
                </a:cubicBezTo>
                <a:cubicBezTo>
                  <a:pt x="2282" y="5680"/>
                  <a:pt x="2282" y="5664"/>
                  <a:pt x="2282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7800" y="2027160"/>
            <a:ext cx="430200" cy="169920"/>
          </a:xfrm>
          <a:custGeom>
            <a:avLst/>
            <a:gdLst/>
            <a:ahLst/>
            <a:rect l="l" t="t" r="r" b="b"/>
            <a:pathLst>
              <a:path w="1192" h="472">
                <a:moveTo>
                  <a:pt x="2356" y="5631"/>
                </a:moveTo>
                <a:cubicBezTo>
                  <a:pt x="2412" y="5662"/>
                  <a:pt x="2420" y="5671"/>
                  <a:pt x="2480" y="5680"/>
                </a:cubicBezTo>
                <a:cubicBezTo>
                  <a:pt x="2492" y="5724"/>
                  <a:pt x="2546" y="5788"/>
                  <a:pt x="2604" y="5804"/>
                </a:cubicBezTo>
                <a:cubicBezTo>
                  <a:pt x="2682" y="5825"/>
                  <a:pt x="2750" y="5802"/>
                  <a:pt x="2828" y="5829"/>
                </a:cubicBezTo>
                <a:cubicBezTo>
                  <a:pt x="2922" y="5862"/>
                  <a:pt x="2965" y="5875"/>
                  <a:pt x="3051" y="5928"/>
                </a:cubicBezTo>
                <a:cubicBezTo>
                  <a:pt x="3127" y="5975"/>
                  <a:pt x="3213" y="5999"/>
                  <a:pt x="3299" y="6003"/>
                </a:cubicBezTo>
                <a:cubicBezTo>
                  <a:pt x="3376" y="6007"/>
                  <a:pt x="3430" y="6005"/>
                  <a:pt x="3497" y="6052"/>
                </a:cubicBezTo>
                <a:cubicBezTo>
                  <a:pt x="3520" y="6068"/>
                  <a:pt x="3612" y="6167"/>
                  <a:pt x="3497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1920" y="196380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3423" y="6077"/>
                </a:moveTo>
                <a:cubicBezTo>
                  <a:pt x="3479" y="6040"/>
                  <a:pt x="3546" y="6026"/>
                  <a:pt x="3597" y="5978"/>
                </a:cubicBezTo>
                <a:cubicBezTo>
                  <a:pt x="3663" y="5915"/>
                  <a:pt x="3743" y="5880"/>
                  <a:pt x="3820" y="5829"/>
                </a:cubicBezTo>
                <a:cubicBezTo>
                  <a:pt x="3912" y="5768"/>
                  <a:pt x="4015" y="5752"/>
                  <a:pt x="4118" y="5705"/>
                </a:cubicBezTo>
                <a:cubicBezTo>
                  <a:pt x="4170" y="5681"/>
                  <a:pt x="4224" y="5644"/>
                  <a:pt x="4266" y="5606"/>
                </a:cubicBezTo>
                <a:cubicBezTo>
                  <a:pt x="4294" y="5578"/>
                  <a:pt x="4308" y="5569"/>
                  <a:pt x="4341" y="5581"/>
                </a:cubicBezTo>
                <a:cubicBezTo>
                  <a:pt x="4358" y="5521"/>
                  <a:pt x="4468" y="5512"/>
                  <a:pt x="4440" y="5457"/>
                </a:cubicBezTo>
                <a:cubicBezTo>
                  <a:pt x="4432" y="5457"/>
                  <a:pt x="4423" y="5457"/>
                  <a:pt x="441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81120" y="1598760"/>
            <a:ext cx="34920" cy="420480"/>
          </a:xfrm>
          <a:custGeom>
            <a:avLst/>
            <a:gdLst/>
            <a:ahLst/>
            <a:rect l="l" t="t" r="r" b="b"/>
            <a:pathLst>
              <a:path w="101" h="1167">
                <a:moveTo>
                  <a:pt x="4390" y="4514"/>
                </a:moveTo>
                <a:cubicBezTo>
                  <a:pt x="4390" y="4470"/>
                  <a:pt x="4387" y="4456"/>
                  <a:pt x="4415" y="4440"/>
                </a:cubicBezTo>
                <a:cubicBezTo>
                  <a:pt x="4470" y="4495"/>
                  <a:pt x="4484" y="4535"/>
                  <a:pt x="4490" y="4614"/>
                </a:cubicBezTo>
                <a:cubicBezTo>
                  <a:pt x="4505" y="4819"/>
                  <a:pt x="4521" y="5099"/>
                  <a:pt x="4465" y="5283"/>
                </a:cubicBezTo>
                <a:cubicBezTo>
                  <a:pt x="4440" y="5364"/>
                  <a:pt x="4465" y="5495"/>
                  <a:pt x="4465" y="5581"/>
                </a:cubicBezTo>
                <a:cubicBezTo>
                  <a:pt x="4465" y="5650"/>
                  <a:pt x="4445" y="5520"/>
                  <a:pt x="4440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04920" y="1143000"/>
            <a:ext cx="15228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3349" y="3522"/>
                </a:moveTo>
                <a:cubicBezTo>
                  <a:pt x="3390" y="3450"/>
                  <a:pt x="3432" y="3422"/>
                  <a:pt x="3497" y="3373"/>
                </a:cubicBezTo>
                <a:cubicBezTo>
                  <a:pt x="3546" y="3336"/>
                  <a:pt x="3596" y="3307"/>
                  <a:pt x="3646" y="3274"/>
                </a:cubicBezTo>
                <a:cubicBezTo>
                  <a:pt x="3694" y="3243"/>
                  <a:pt x="3729" y="3216"/>
                  <a:pt x="377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00120" y="955800"/>
            <a:ext cx="16200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4366" y="2654"/>
                </a:moveTo>
                <a:cubicBezTo>
                  <a:pt x="4319" y="2661"/>
                  <a:pt x="4266" y="2675"/>
                  <a:pt x="4242" y="2729"/>
                </a:cubicBezTo>
                <a:cubicBezTo>
                  <a:pt x="4221" y="2778"/>
                  <a:pt x="4182" y="2826"/>
                  <a:pt x="4167" y="2877"/>
                </a:cubicBezTo>
                <a:cubicBezTo>
                  <a:pt x="4139" y="2968"/>
                  <a:pt x="4176" y="3059"/>
                  <a:pt x="4217" y="3125"/>
                </a:cubicBezTo>
                <a:cubicBezTo>
                  <a:pt x="4267" y="3206"/>
                  <a:pt x="4309" y="3190"/>
                  <a:pt x="4390" y="3225"/>
                </a:cubicBezTo>
                <a:cubicBezTo>
                  <a:pt x="4479" y="3264"/>
                  <a:pt x="4482" y="3244"/>
                  <a:pt x="4539" y="3175"/>
                </a:cubicBezTo>
                <a:cubicBezTo>
                  <a:pt x="4581" y="3124"/>
                  <a:pt x="4609" y="3100"/>
                  <a:pt x="4614" y="3026"/>
                </a:cubicBezTo>
                <a:cubicBezTo>
                  <a:pt x="4620" y="2937"/>
                  <a:pt x="4571" y="2937"/>
                  <a:pt x="4539" y="2902"/>
                </a:cubicBezTo>
                <a:cubicBezTo>
                  <a:pt x="4490" y="2849"/>
                  <a:pt x="4480" y="2772"/>
                  <a:pt x="4415" y="2729"/>
                </a:cubicBezTo>
                <a:cubicBezTo>
                  <a:pt x="4390" y="2729"/>
                  <a:pt x="4382" y="2729"/>
                  <a:pt x="4390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76240" y="938160"/>
            <a:ext cx="367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4936" y="2679"/>
                </a:moveTo>
                <a:cubicBezTo>
                  <a:pt x="4936" y="2646"/>
                  <a:pt x="4936" y="2629"/>
                  <a:pt x="4936" y="2604"/>
                </a:cubicBezTo>
                <a:cubicBezTo>
                  <a:pt x="4944" y="2658"/>
                  <a:pt x="4947" y="2722"/>
                  <a:pt x="4961" y="2778"/>
                </a:cubicBezTo>
                <a:cubicBezTo>
                  <a:pt x="4978" y="2844"/>
                  <a:pt x="4986" y="2879"/>
                  <a:pt x="4986" y="2952"/>
                </a:cubicBezTo>
                <a:cubicBezTo>
                  <a:pt x="4986" y="2997"/>
                  <a:pt x="4961" y="3334"/>
                  <a:pt x="5035" y="3249"/>
                </a:cubicBezTo>
                <a:cubicBezTo>
                  <a:pt x="5035" y="3241"/>
                  <a:pt x="5035" y="3233"/>
                  <a:pt x="5035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93960" y="946080"/>
            <a:ext cx="27000" cy="216000"/>
          </a:xfrm>
          <a:custGeom>
            <a:avLst/>
            <a:gdLst/>
            <a:ahLst/>
            <a:rect l="l" t="t" r="r" b="b"/>
            <a:pathLst>
              <a:path w="75" h="597">
                <a:moveTo>
                  <a:pt x="5259" y="2629"/>
                </a:moveTo>
                <a:cubicBezTo>
                  <a:pt x="5259" y="2693"/>
                  <a:pt x="5278" y="2740"/>
                  <a:pt x="5283" y="2803"/>
                </a:cubicBezTo>
                <a:cubicBezTo>
                  <a:pt x="5287" y="2862"/>
                  <a:pt x="5298" y="2898"/>
                  <a:pt x="5308" y="2952"/>
                </a:cubicBezTo>
                <a:cubicBezTo>
                  <a:pt x="5318" y="3008"/>
                  <a:pt x="5328" y="3047"/>
                  <a:pt x="5333" y="3101"/>
                </a:cubicBezTo>
                <a:cubicBezTo>
                  <a:pt x="5336" y="3134"/>
                  <a:pt x="5333" y="3296"/>
                  <a:pt x="5333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0240" y="1054080"/>
            <a:ext cx="1350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5085" y="2927"/>
                </a:moveTo>
                <a:cubicBezTo>
                  <a:pt x="5148" y="2927"/>
                  <a:pt x="5175" y="2948"/>
                  <a:pt x="5234" y="2952"/>
                </a:cubicBezTo>
                <a:cubicBezTo>
                  <a:pt x="5335" y="2958"/>
                  <a:pt x="5347" y="2959"/>
                  <a:pt x="5432" y="3001"/>
                </a:cubicBezTo>
                <a:cubicBezTo>
                  <a:pt x="5474" y="3022"/>
                  <a:pt x="5422" y="2975"/>
                  <a:pt x="5407" y="29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62800" y="1697040"/>
            <a:ext cx="28440" cy="258840"/>
          </a:xfrm>
          <a:custGeom>
            <a:avLst/>
            <a:gdLst/>
            <a:ahLst/>
            <a:rect l="l" t="t" r="r" b="b"/>
            <a:pathLst>
              <a:path w="76" h="720">
                <a:moveTo>
                  <a:pt x="18231" y="4738"/>
                </a:moveTo>
                <a:cubicBezTo>
                  <a:pt x="18239" y="4730"/>
                  <a:pt x="18248" y="4721"/>
                  <a:pt x="18256" y="4713"/>
                </a:cubicBezTo>
                <a:cubicBezTo>
                  <a:pt x="18256" y="4776"/>
                  <a:pt x="18260" y="4811"/>
                  <a:pt x="18281" y="4862"/>
                </a:cubicBezTo>
                <a:cubicBezTo>
                  <a:pt x="18310" y="4933"/>
                  <a:pt x="18306" y="4985"/>
                  <a:pt x="18306" y="5060"/>
                </a:cubicBezTo>
                <a:cubicBezTo>
                  <a:pt x="18306" y="5184"/>
                  <a:pt x="18306" y="5308"/>
                  <a:pt x="18306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30960" y="1938240"/>
            <a:ext cx="277920" cy="276480"/>
          </a:xfrm>
          <a:custGeom>
            <a:avLst/>
            <a:gdLst/>
            <a:ahLst/>
            <a:rect l="l" t="t" r="r" b="b"/>
            <a:pathLst>
              <a:path w="769" h="770">
                <a:moveTo>
                  <a:pt x="18355" y="5383"/>
                </a:moveTo>
                <a:cubicBezTo>
                  <a:pt x="18300" y="5485"/>
                  <a:pt x="18230" y="5519"/>
                  <a:pt x="18157" y="5606"/>
                </a:cubicBezTo>
                <a:cubicBezTo>
                  <a:pt x="18108" y="5664"/>
                  <a:pt x="18064" y="5713"/>
                  <a:pt x="18008" y="5755"/>
                </a:cubicBezTo>
                <a:cubicBezTo>
                  <a:pt x="17939" y="5806"/>
                  <a:pt x="17895" y="5874"/>
                  <a:pt x="17835" y="5928"/>
                </a:cubicBezTo>
                <a:cubicBezTo>
                  <a:pt x="17759" y="5996"/>
                  <a:pt x="17686" y="6057"/>
                  <a:pt x="17611" y="6127"/>
                </a:cubicBezTo>
                <a:cubicBezTo>
                  <a:pt x="17543" y="6190"/>
                  <a:pt x="17618" y="6090"/>
                  <a:pt x="17636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43800" y="1990800"/>
            <a:ext cx="268200" cy="223920"/>
          </a:xfrm>
          <a:custGeom>
            <a:avLst/>
            <a:gdLst/>
            <a:ahLst/>
            <a:rect l="l" t="t" r="r" b="b"/>
            <a:pathLst>
              <a:path w="745" h="622">
                <a:moveTo>
                  <a:pt x="18455" y="5531"/>
                </a:moveTo>
                <a:cubicBezTo>
                  <a:pt x="18455" y="5601"/>
                  <a:pt x="18491" y="5579"/>
                  <a:pt x="18529" y="5631"/>
                </a:cubicBezTo>
                <a:cubicBezTo>
                  <a:pt x="18575" y="5694"/>
                  <a:pt x="18638" y="5734"/>
                  <a:pt x="18703" y="5779"/>
                </a:cubicBezTo>
                <a:cubicBezTo>
                  <a:pt x="18781" y="5832"/>
                  <a:pt x="18857" y="5890"/>
                  <a:pt x="18926" y="5953"/>
                </a:cubicBezTo>
                <a:cubicBezTo>
                  <a:pt x="18975" y="5998"/>
                  <a:pt x="19019" y="6043"/>
                  <a:pt x="19075" y="6077"/>
                </a:cubicBezTo>
                <a:cubicBezTo>
                  <a:pt x="19113" y="6100"/>
                  <a:pt x="19223" y="6127"/>
                  <a:pt x="19174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40320" y="2214720"/>
            <a:ext cx="9720" cy="303120"/>
          </a:xfrm>
          <a:custGeom>
            <a:avLst/>
            <a:gdLst/>
            <a:ahLst/>
            <a:rect l="l" t="t" r="r" b="b"/>
            <a:pathLst>
              <a:path w="26" h="844">
                <a:moveTo>
                  <a:pt x="17611" y="6152"/>
                </a:moveTo>
                <a:cubicBezTo>
                  <a:pt x="17611" y="6312"/>
                  <a:pt x="17620" y="6465"/>
                  <a:pt x="17636" y="6623"/>
                </a:cubicBezTo>
                <a:cubicBezTo>
                  <a:pt x="17643" y="6697"/>
                  <a:pt x="17636" y="7034"/>
                  <a:pt x="17636" y="6945"/>
                </a:cubicBezTo>
                <a:cubicBezTo>
                  <a:pt x="17636" y="6937"/>
                  <a:pt x="17636" y="6929"/>
                  <a:pt x="1763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67320" y="2490840"/>
            <a:ext cx="598680" cy="216000"/>
          </a:xfrm>
          <a:custGeom>
            <a:avLst/>
            <a:gdLst/>
            <a:ahLst/>
            <a:rect l="l" t="t" r="r" b="b"/>
            <a:pathLst>
              <a:path w="1663" h="596">
                <a:moveTo>
                  <a:pt x="17686" y="6921"/>
                </a:moveTo>
                <a:cubicBezTo>
                  <a:pt x="17744" y="6974"/>
                  <a:pt x="17806" y="7002"/>
                  <a:pt x="17859" y="7045"/>
                </a:cubicBezTo>
                <a:cubicBezTo>
                  <a:pt x="17945" y="7115"/>
                  <a:pt x="18060" y="7172"/>
                  <a:pt x="18132" y="7243"/>
                </a:cubicBezTo>
                <a:cubicBezTo>
                  <a:pt x="18207" y="7318"/>
                  <a:pt x="18282" y="7363"/>
                  <a:pt x="18380" y="7417"/>
                </a:cubicBezTo>
                <a:cubicBezTo>
                  <a:pt x="18463" y="7463"/>
                  <a:pt x="18553" y="7416"/>
                  <a:pt x="18628" y="7466"/>
                </a:cubicBezTo>
                <a:cubicBezTo>
                  <a:pt x="18658" y="7486"/>
                  <a:pt x="18706" y="7519"/>
                  <a:pt x="18728" y="7516"/>
                </a:cubicBezTo>
                <a:cubicBezTo>
                  <a:pt x="18768" y="7511"/>
                  <a:pt x="18867" y="7440"/>
                  <a:pt x="18901" y="7417"/>
                </a:cubicBezTo>
                <a:cubicBezTo>
                  <a:pt x="19002" y="7347"/>
                  <a:pt x="19045" y="7272"/>
                  <a:pt x="19124" y="7193"/>
                </a:cubicBezTo>
                <a:cubicBezTo>
                  <a:pt x="19142" y="7175"/>
                  <a:pt x="19269" y="7126"/>
                  <a:pt x="19298" y="7119"/>
                </a:cubicBezTo>
                <a:cubicBezTo>
                  <a:pt x="19360" y="7104"/>
                  <a:pt x="19362" y="7108"/>
                  <a:pt x="19323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12000" y="2251080"/>
            <a:ext cx="27000" cy="293760"/>
          </a:xfrm>
          <a:custGeom>
            <a:avLst/>
            <a:gdLst/>
            <a:ahLst/>
            <a:rect l="l" t="t" r="r" b="b"/>
            <a:pathLst>
              <a:path w="75" h="819">
                <a:moveTo>
                  <a:pt x="19273" y="6276"/>
                </a:moveTo>
                <a:cubicBezTo>
                  <a:pt x="19273" y="6206"/>
                  <a:pt x="19273" y="6358"/>
                  <a:pt x="19273" y="6375"/>
                </a:cubicBezTo>
                <a:cubicBezTo>
                  <a:pt x="19273" y="6582"/>
                  <a:pt x="19330" y="6881"/>
                  <a:pt x="19248" y="7069"/>
                </a:cubicBezTo>
                <a:cubicBezTo>
                  <a:pt x="19200" y="7046"/>
                  <a:pt x="19184" y="7039"/>
                  <a:pt x="19199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72160" y="2259000"/>
            <a:ext cx="1796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8455" y="6375"/>
                </a:moveTo>
                <a:cubicBezTo>
                  <a:pt x="18370" y="6375"/>
                  <a:pt x="18376" y="6385"/>
                  <a:pt x="18331" y="6449"/>
                </a:cubicBezTo>
                <a:cubicBezTo>
                  <a:pt x="18285" y="6515"/>
                  <a:pt x="18273" y="6595"/>
                  <a:pt x="18256" y="6672"/>
                </a:cubicBezTo>
                <a:cubicBezTo>
                  <a:pt x="18236" y="6765"/>
                  <a:pt x="18263" y="6763"/>
                  <a:pt x="18306" y="6796"/>
                </a:cubicBezTo>
                <a:cubicBezTo>
                  <a:pt x="18374" y="6848"/>
                  <a:pt x="18410" y="6866"/>
                  <a:pt x="18504" y="6871"/>
                </a:cubicBezTo>
                <a:cubicBezTo>
                  <a:pt x="18608" y="6877"/>
                  <a:pt x="18630" y="6845"/>
                  <a:pt x="18703" y="6772"/>
                </a:cubicBezTo>
                <a:cubicBezTo>
                  <a:pt x="18747" y="6728"/>
                  <a:pt x="18777" y="6667"/>
                  <a:pt x="18752" y="6598"/>
                </a:cubicBezTo>
                <a:cubicBezTo>
                  <a:pt x="18732" y="6543"/>
                  <a:pt x="18683" y="6516"/>
                  <a:pt x="18653" y="6474"/>
                </a:cubicBezTo>
                <a:cubicBezTo>
                  <a:pt x="18642" y="6458"/>
                  <a:pt x="18588" y="6385"/>
                  <a:pt x="18554" y="6375"/>
                </a:cubicBezTo>
                <a:cubicBezTo>
                  <a:pt x="18485" y="6355"/>
                  <a:pt x="18509" y="6354"/>
                  <a:pt x="1847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7760" y="1098720"/>
            <a:ext cx="1440" cy="115560"/>
          </a:xfrm>
          <a:custGeom>
            <a:avLst/>
            <a:gdLst/>
            <a:ahLst/>
            <a:rect l="l" t="t" r="r" b="b"/>
            <a:pathLst>
              <a:path w="1" h="323">
                <a:moveTo>
                  <a:pt x="967" y="3051"/>
                </a:moveTo>
                <a:cubicBezTo>
                  <a:pt x="967" y="3109"/>
                  <a:pt x="967" y="3423"/>
                  <a:pt x="967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4840" y="1009800"/>
            <a:ext cx="277920" cy="285480"/>
          </a:xfrm>
          <a:custGeom>
            <a:avLst/>
            <a:gdLst/>
            <a:ahLst/>
            <a:rect l="l" t="t" r="r" b="b"/>
            <a:pathLst>
              <a:path w="769" h="795">
                <a:moveTo>
                  <a:pt x="794" y="2803"/>
                </a:moveTo>
                <a:cubicBezTo>
                  <a:pt x="712" y="2872"/>
                  <a:pt x="673" y="2914"/>
                  <a:pt x="620" y="3001"/>
                </a:cubicBezTo>
                <a:cubicBezTo>
                  <a:pt x="583" y="3063"/>
                  <a:pt x="571" y="3105"/>
                  <a:pt x="571" y="3175"/>
                </a:cubicBezTo>
                <a:cubicBezTo>
                  <a:pt x="571" y="3251"/>
                  <a:pt x="604" y="3279"/>
                  <a:pt x="620" y="3349"/>
                </a:cubicBezTo>
                <a:cubicBezTo>
                  <a:pt x="633" y="3408"/>
                  <a:pt x="677" y="3441"/>
                  <a:pt x="719" y="3497"/>
                </a:cubicBezTo>
                <a:cubicBezTo>
                  <a:pt x="743" y="3529"/>
                  <a:pt x="806" y="3569"/>
                  <a:pt x="843" y="3572"/>
                </a:cubicBezTo>
                <a:cubicBezTo>
                  <a:pt x="883" y="3575"/>
                  <a:pt x="960" y="3608"/>
                  <a:pt x="992" y="3597"/>
                </a:cubicBezTo>
                <a:cubicBezTo>
                  <a:pt x="1049" y="3578"/>
                  <a:pt x="1117" y="3535"/>
                  <a:pt x="1166" y="3497"/>
                </a:cubicBezTo>
                <a:cubicBezTo>
                  <a:pt x="1202" y="3469"/>
                  <a:pt x="1288" y="3407"/>
                  <a:pt x="1315" y="3373"/>
                </a:cubicBezTo>
                <a:cubicBezTo>
                  <a:pt x="1357" y="3320"/>
                  <a:pt x="1329" y="3269"/>
                  <a:pt x="1315" y="3225"/>
                </a:cubicBezTo>
                <a:cubicBezTo>
                  <a:pt x="1292" y="3154"/>
                  <a:pt x="1293" y="3133"/>
                  <a:pt x="1240" y="3076"/>
                </a:cubicBezTo>
                <a:cubicBezTo>
                  <a:pt x="1207" y="3040"/>
                  <a:pt x="1183" y="3017"/>
                  <a:pt x="1166" y="2977"/>
                </a:cubicBezTo>
                <a:cubicBezTo>
                  <a:pt x="1136" y="2907"/>
                  <a:pt x="1112" y="2927"/>
                  <a:pt x="1042" y="2927"/>
                </a:cubicBezTo>
                <a:cubicBezTo>
                  <a:pt x="997" y="2927"/>
                  <a:pt x="965" y="2902"/>
                  <a:pt x="918" y="2902"/>
                </a:cubicBezTo>
                <a:cubicBezTo>
                  <a:pt x="893" y="2902"/>
                  <a:pt x="885" y="2902"/>
                  <a:pt x="893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4840" y="419040"/>
            <a:ext cx="260280" cy="322200"/>
          </a:xfrm>
          <a:custGeom>
            <a:avLst/>
            <a:gdLst/>
            <a:ahLst/>
            <a:rect l="l" t="t" r="r" b="b"/>
            <a:pathLst>
              <a:path w="720" h="894">
                <a:moveTo>
                  <a:pt x="695" y="1364"/>
                </a:moveTo>
                <a:cubicBezTo>
                  <a:pt x="695" y="1348"/>
                  <a:pt x="695" y="1331"/>
                  <a:pt x="695" y="1315"/>
                </a:cubicBezTo>
                <a:cubicBezTo>
                  <a:pt x="695" y="1377"/>
                  <a:pt x="716" y="1405"/>
                  <a:pt x="719" y="1463"/>
                </a:cubicBezTo>
                <a:cubicBezTo>
                  <a:pt x="728" y="1615"/>
                  <a:pt x="654" y="1939"/>
                  <a:pt x="744" y="2059"/>
                </a:cubicBezTo>
              </a:path>
              <a:path w="720" h="894">
                <a:moveTo>
                  <a:pt x="571" y="1290"/>
                </a:moveTo>
                <a:cubicBezTo>
                  <a:pt x="597" y="1197"/>
                  <a:pt x="620" y="1241"/>
                  <a:pt x="695" y="1191"/>
                </a:cubicBezTo>
                <a:cubicBezTo>
                  <a:pt x="747" y="1156"/>
                  <a:pt x="803" y="1166"/>
                  <a:pt x="868" y="1166"/>
                </a:cubicBezTo>
                <a:cubicBezTo>
                  <a:pt x="964" y="1166"/>
                  <a:pt x="1108" y="1136"/>
                  <a:pt x="1191" y="1191"/>
                </a:cubicBezTo>
                <a:cubicBezTo>
                  <a:pt x="1243" y="1225"/>
                  <a:pt x="1287" y="1334"/>
                  <a:pt x="1290" y="1389"/>
                </a:cubicBezTo>
                <a:cubicBezTo>
                  <a:pt x="1290" y="1406"/>
                  <a:pt x="1290" y="1422"/>
                  <a:pt x="1290" y="1439"/>
                </a:cubicBezTo>
                <a:cubicBezTo>
                  <a:pt x="1224" y="1448"/>
                  <a:pt x="1186" y="1483"/>
                  <a:pt x="1116" y="1488"/>
                </a:cubicBezTo>
                <a:cubicBezTo>
                  <a:pt x="1004" y="1497"/>
                  <a:pt x="984" y="1506"/>
                  <a:pt x="893" y="1538"/>
                </a:cubicBezTo>
                <a:cubicBezTo>
                  <a:pt x="851" y="1538"/>
                  <a:pt x="835" y="1546"/>
                  <a:pt x="843" y="15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2960" y="366840"/>
            <a:ext cx="731880" cy="241200"/>
          </a:xfrm>
          <a:custGeom>
            <a:avLst/>
            <a:gdLst/>
            <a:ahLst/>
            <a:rect l="l" t="t" r="r" b="b"/>
            <a:pathLst>
              <a:path w="2035" h="671">
                <a:moveTo>
                  <a:pt x="1786" y="1091"/>
                </a:moveTo>
                <a:cubicBezTo>
                  <a:pt x="1832" y="1058"/>
                  <a:pt x="1887" y="1064"/>
                  <a:pt x="1935" y="1042"/>
                </a:cubicBezTo>
                <a:cubicBezTo>
                  <a:pt x="1971" y="1025"/>
                  <a:pt x="2046" y="981"/>
                  <a:pt x="2084" y="1042"/>
                </a:cubicBezTo>
                <a:cubicBezTo>
                  <a:pt x="2121" y="1102"/>
                  <a:pt x="2064" y="1164"/>
                  <a:pt x="2034" y="1191"/>
                </a:cubicBezTo>
                <a:cubicBezTo>
                  <a:pt x="2024" y="1200"/>
                  <a:pt x="1909" y="1290"/>
                  <a:pt x="1910" y="1290"/>
                </a:cubicBezTo>
                <a:cubicBezTo>
                  <a:pt x="1939" y="1290"/>
                  <a:pt x="1982" y="1240"/>
                  <a:pt x="2034" y="1240"/>
                </a:cubicBezTo>
                <a:cubicBezTo>
                  <a:pt x="2090" y="1240"/>
                  <a:pt x="2151" y="1305"/>
                  <a:pt x="2183" y="1339"/>
                </a:cubicBezTo>
                <a:cubicBezTo>
                  <a:pt x="2234" y="1395"/>
                  <a:pt x="2202" y="1460"/>
                  <a:pt x="2158" y="1513"/>
                </a:cubicBezTo>
                <a:cubicBezTo>
                  <a:pt x="2117" y="1563"/>
                  <a:pt x="2105" y="1600"/>
                  <a:pt x="2034" y="1612"/>
                </a:cubicBezTo>
                <a:cubicBezTo>
                  <a:pt x="1984" y="1621"/>
                  <a:pt x="1873" y="1625"/>
                  <a:pt x="1860" y="1588"/>
                </a:cubicBezTo>
              </a:path>
              <a:path w="2035" h="671">
                <a:moveTo>
                  <a:pt x="2654" y="1191"/>
                </a:moveTo>
                <a:cubicBezTo>
                  <a:pt x="2630" y="1143"/>
                  <a:pt x="2624" y="1126"/>
                  <a:pt x="2580" y="1141"/>
                </a:cubicBezTo>
                <a:cubicBezTo>
                  <a:pt x="2538" y="1162"/>
                  <a:pt x="2524" y="1197"/>
                  <a:pt x="2505" y="1240"/>
                </a:cubicBezTo>
                <a:cubicBezTo>
                  <a:pt x="2481" y="1295"/>
                  <a:pt x="2456" y="1329"/>
                  <a:pt x="2456" y="1389"/>
                </a:cubicBezTo>
                <a:cubicBezTo>
                  <a:pt x="2456" y="1419"/>
                  <a:pt x="2508" y="1547"/>
                  <a:pt x="2530" y="1563"/>
                </a:cubicBezTo>
                <a:cubicBezTo>
                  <a:pt x="2557" y="1582"/>
                  <a:pt x="2668" y="1609"/>
                  <a:pt x="2704" y="1612"/>
                </a:cubicBezTo>
                <a:cubicBezTo>
                  <a:pt x="2753" y="1616"/>
                  <a:pt x="2829" y="1547"/>
                  <a:pt x="2853" y="1513"/>
                </a:cubicBezTo>
                <a:cubicBezTo>
                  <a:pt x="2897" y="1450"/>
                  <a:pt x="2822" y="1354"/>
                  <a:pt x="2803" y="1315"/>
                </a:cubicBezTo>
                <a:cubicBezTo>
                  <a:pt x="2763" y="1232"/>
                  <a:pt x="2736" y="1204"/>
                  <a:pt x="2654" y="1166"/>
                </a:cubicBezTo>
                <a:cubicBezTo>
                  <a:pt x="2637" y="1158"/>
                  <a:pt x="2621" y="1149"/>
                  <a:pt x="2604" y="1141"/>
                </a:cubicBezTo>
              </a:path>
              <a:path w="2035" h="671">
                <a:moveTo>
                  <a:pt x="3249" y="1116"/>
                </a:moveTo>
                <a:cubicBezTo>
                  <a:pt x="3249" y="1067"/>
                  <a:pt x="3249" y="1051"/>
                  <a:pt x="3200" y="1067"/>
                </a:cubicBezTo>
                <a:cubicBezTo>
                  <a:pt x="3266" y="1067"/>
                  <a:pt x="3311" y="1056"/>
                  <a:pt x="3373" y="1042"/>
                </a:cubicBezTo>
                <a:cubicBezTo>
                  <a:pt x="3441" y="1026"/>
                  <a:pt x="3569" y="1027"/>
                  <a:pt x="3621" y="1067"/>
                </a:cubicBezTo>
                <a:cubicBezTo>
                  <a:pt x="3610" y="1122"/>
                  <a:pt x="3597" y="1157"/>
                  <a:pt x="3597" y="1215"/>
                </a:cubicBezTo>
                <a:cubicBezTo>
                  <a:pt x="3597" y="1287"/>
                  <a:pt x="3555" y="1366"/>
                  <a:pt x="3547" y="1439"/>
                </a:cubicBezTo>
                <a:cubicBezTo>
                  <a:pt x="3540" y="1505"/>
                  <a:pt x="3533" y="1559"/>
                  <a:pt x="3522" y="1612"/>
                </a:cubicBezTo>
                <a:cubicBezTo>
                  <a:pt x="3492" y="1751"/>
                  <a:pt x="3532" y="1617"/>
                  <a:pt x="3547" y="1563"/>
                </a:cubicBezTo>
              </a:path>
              <a:path w="2035" h="671">
                <a:moveTo>
                  <a:pt x="3299" y="1364"/>
                </a:moveTo>
                <a:cubicBezTo>
                  <a:pt x="3346" y="1329"/>
                  <a:pt x="3386" y="1339"/>
                  <a:pt x="3448" y="1339"/>
                </a:cubicBezTo>
                <a:cubicBezTo>
                  <a:pt x="3524" y="1339"/>
                  <a:pt x="3575" y="1331"/>
                  <a:pt x="3646" y="1315"/>
                </a:cubicBezTo>
                <a:cubicBezTo>
                  <a:pt x="3703" y="1302"/>
                  <a:pt x="3777" y="1308"/>
                  <a:pt x="3820" y="1339"/>
                </a:cubicBezTo>
                <a:cubicBezTo>
                  <a:pt x="3770" y="1339"/>
                  <a:pt x="3754" y="1339"/>
                  <a:pt x="3770" y="12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3160" y="347760"/>
            <a:ext cx="384120" cy="411120"/>
          </a:xfrm>
          <a:custGeom>
            <a:avLst/>
            <a:gdLst/>
            <a:ahLst/>
            <a:rect l="l" t="t" r="r" b="b"/>
            <a:pathLst>
              <a:path w="1067" h="1142">
                <a:moveTo>
                  <a:pt x="5928" y="1067"/>
                </a:moveTo>
                <a:cubicBezTo>
                  <a:pt x="5903" y="1028"/>
                  <a:pt x="5855" y="981"/>
                  <a:pt x="5804" y="967"/>
                </a:cubicBezTo>
                <a:cubicBezTo>
                  <a:pt x="5749" y="952"/>
                  <a:pt x="5650" y="964"/>
                  <a:pt x="5606" y="992"/>
                </a:cubicBezTo>
                <a:cubicBezTo>
                  <a:pt x="5572" y="1013"/>
                  <a:pt x="5500" y="1051"/>
                  <a:pt x="5482" y="1091"/>
                </a:cubicBezTo>
                <a:cubicBezTo>
                  <a:pt x="5460" y="1139"/>
                  <a:pt x="5552" y="1197"/>
                  <a:pt x="5581" y="1215"/>
                </a:cubicBezTo>
                <a:cubicBezTo>
                  <a:pt x="5632" y="1248"/>
                  <a:pt x="5713" y="1284"/>
                  <a:pt x="5755" y="1315"/>
                </a:cubicBezTo>
                <a:cubicBezTo>
                  <a:pt x="5814" y="1359"/>
                  <a:pt x="5848" y="1423"/>
                  <a:pt x="5904" y="1463"/>
                </a:cubicBezTo>
                <a:cubicBezTo>
                  <a:pt x="5934" y="1484"/>
                  <a:pt x="6031" y="1570"/>
                  <a:pt x="6028" y="1612"/>
                </a:cubicBezTo>
                <a:cubicBezTo>
                  <a:pt x="6024" y="1674"/>
                  <a:pt x="5975" y="1708"/>
                  <a:pt x="5928" y="1736"/>
                </a:cubicBezTo>
                <a:cubicBezTo>
                  <a:pt x="5888" y="1760"/>
                  <a:pt x="5827" y="1774"/>
                  <a:pt x="5779" y="1761"/>
                </a:cubicBezTo>
                <a:cubicBezTo>
                  <a:pt x="5716" y="1744"/>
                  <a:pt x="5641" y="1716"/>
                  <a:pt x="5655" y="1637"/>
                </a:cubicBezTo>
                <a:cubicBezTo>
                  <a:pt x="5666" y="1576"/>
                  <a:pt x="5757" y="1480"/>
                  <a:pt x="5804" y="1439"/>
                </a:cubicBezTo>
                <a:cubicBezTo>
                  <a:pt x="5854" y="1396"/>
                  <a:pt x="5879" y="1374"/>
                  <a:pt x="5904" y="1315"/>
                </a:cubicBezTo>
                <a:cubicBezTo>
                  <a:pt x="5917" y="1284"/>
                  <a:pt x="5996" y="1151"/>
                  <a:pt x="5953" y="1116"/>
                </a:cubicBezTo>
                <a:cubicBezTo>
                  <a:pt x="5912" y="1116"/>
                  <a:pt x="5896" y="1108"/>
                  <a:pt x="5904" y="1141"/>
                </a:cubicBezTo>
              </a:path>
              <a:path w="1067" h="1142">
                <a:moveTo>
                  <a:pt x="6424" y="1712"/>
                </a:moveTo>
                <a:cubicBezTo>
                  <a:pt x="6432" y="1704"/>
                  <a:pt x="6441" y="1695"/>
                  <a:pt x="6449" y="1687"/>
                </a:cubicBezTo>
                <a:cubicBezTo>
                  <a:pt x="6503" y="1730"/>
                  <a:pt x="6531" y="1739"/>
                  <a:pt x="6548" y="1811"/>
                </a:cubicBezTo>
                <a:cubicBezTo>
                  <a:pt x="6564" y="1876"/>
                  <a:pt x="6534" y="1913"/>
                  <a:pt x="6524" y="1960"/>
                </a:cubicBezTo>
                <a:cubicBezTo>
                  <a:pt x="6510" y="2026"/>
                  <a:pt x="6485" y="2046"/>
                  <a:pt x="6449" y="2108"/>
                </a:cubicBezTo>
                <a:cubicBezTo>
                  <a:pt x="6479" y="2079"/>
                  <a:pt x="6491" y="2065"/>
                  <a:pt x="6499" y="20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27200" y="295200"/>
            <a:ext cx="179640" cy="27648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7466" y="918"/>
                </a:moveTo>
                <a:cubicBezTo>
                  <a:pt x="7416" y="855"/>
                  <a:pt x="7400" y="838"/>
                  <a:pt x="7317" y="819"/>
                </a:cubicBezTo>
                <a:cubicBezTo>
                  <a:pt x="7248" y="803"/>
                  <a:pt x="7176" y="829"/>
                  <a:pt x="7119" y="868"/>
                </a:cubicBezTo>
                <a:cubicBezTo>
                  <a:pt x="7100" y="881"/>
                  <a:pt x="7027" y="968"/>
                  <a:pt x="7020" y="992"/>
                </a:cubicBezTo>
                <a:cubicBezTo>
                  <a:pt x="7004" y="1048"/>
                  <a:pt x="7016" y="1143"/>
                  <a:pt x="7045" y="1191"/>
                </a:cubicBezTo>
                <a:cubicBezTo>
                  <a:pt x="7080" y="1249"/>
                  <a:pt x="7131" y="1286"/>
                  <a:pt x="7193" y="1290"/>
                </a:cubicBezTo>
                <a:cubicBezTo>
                  <a:pt x="7273" y="1295"/>
                  <a:pt x="7303" y="1270"/>
                  <a:pt x="7367" y="1215"/>
                </a:cubicBezTo>
                <a:cubicBezTo>
                  <a:pt x="7428" y="1163"/>
                  <a:pt x="7474" y="1084"/>
                  <a:pt x="7516" y="1017"/>
                </a:cubicBezTo>
                <a:cubicBezTo>
                  <a:pt x="7516" y="1106"/>
                  <a:pt x="7505" y="1181"/>
                  <a:pt x="7491" y="1265"/>
                </a:cubicBezTo>
                <a:cubicBezTo>
                  <a:pt x="7481" y="1328"/>
                  <a:pt x="7488" y="1430"/>
                  <a:pt x="7466" y="1488"/>
                </a:cubicBezTo>
                <a:cubicBezTo>
                  <a:pt x="7440" y="1554"/>
                  <a:pt x="7368" y="1571"/>
                  <a:pt x="7466" y="15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55960" y="554040"/>
            <a:ext cx="81000" cy="196920"/>
          </a:xfrm>
          <a:custGeom>
            <a:avLst/>
            <a:gdLst/>
            <a:ahLst/>
            <a:rect l="l" t="t" r="r" b="b"/>
            <a:pathLst>
              <a:path w="225" h="547">
                <a:moveTo>
                  <a:pt x="8210" y="1538"/>
                </a:moveTo>
                <a:cubicBezTo>
                  <a:pt x="8268" y="1577"/>
                  <a:pt x="8344" y="1575"/>
                  <a:pt x="8384" y="1637"/>
                </a:cubicBezTo>
                <a:cubicBezTo>
                  <a:pt x="8428" y="1706"/>
                  <a:pt x="8434" y="1757"/>
                  <a:pt x="8434" y="1836"/>
                </a:cubicBezTo>
                <a:cubicBezTo>
                  <a:pt x="8434" y="1923"/>
                  <a:pt x="8387" y="1964"/>
                  <a:pt x="8359" y="2034"/>
                </a:cubicBezTo>
                <a:cubicBezTo>
                  <a:pt x="8349" y="2059"/>
                  <a:pt x="8281" y="2127"/>
                  <a:pt x="8260" y="2059"/>
                </a:cubicBezTo>
                <a:cubicBezTo>
                  <a:pt x="8260" y="2042"/>
                  <a:pt x="8260" y="2026"/>
                  <a:pt x="8260" y="20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1800" y="330120"/>
            <a:ext cx="357120" cy="25884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9029" y="918"/>
                </a:moveTo>
                <a:cubicBezTo>
                  <a:pt x="9029" y="1111"/>
                  <a:pt x="8956" y="1470"/>
                  <a:pt x="9004" y="1637"/>
                </a:cubicBezTo>
                <a:cubicBezTo>
                  <a:pt x="9037" y="1637"/>
                  <a:pt x="9045" y="1629"/>
                  <a:pt x="9029" y="1588"/>
                </a:cubicBezTo>
              </a:path>
              <a:path w="993" h="720">
                <a:moveTo>
                  <a:pt x="9674" y="1017"/>
                </a:moveTo>
                <a:cubicBezTo>
                  <a:pt x="9639" y="1008"/>
                  <a:pt x="9593" y="971"/>
                  <a:pt x="9550" y="992"/>
                </a:cubicBezTo>
                <a:cubicBezTo>
                  <a:pt x="9471" y="1031"/>
                  <a:pt x="9487" y="1075"/>
                  <a:pt x="9451" y="1141"/>
                </a:cubicBezTo>
                <a:cubicBezTo>
                  <a:pt x="9429" y="1181"/>
                  <a:pt x="9408" y="1238"/>
                  <a:pt x="9426" y="1290"/>
                </a:cubicBezTo>
                <a:cubicBezTo>
                  <a:pt x="9449" y="1358"/>
                  <a:pt x="9479" y="1413"/>
                  <a:pt x="9525" y="1463"/>
                </a:cubicBezTo>
                <a:cubicBezTo>
                  <a:pt x="9572" y="1514"/>
                  <a:pt x="9633" y="1533"/>
                  <a:pt x="9699" y="1538"/>
                </a:cubicBezTo>
                <a:cubicBezTo>
                  <a:pt x="9764" y="1543"/>
                  <a:pt x="9799" y="1531"/>
                  <a:pt x="9847" y="1488"/>
                </a:cubicBezTo>
                <a:cubicBezTo>
                  <a:pt x="9890" y="1449"/>
                  <a:pt x="9935" y="1471"/>
                  <a:pt x="9971" y="1414"/>
                </a:cubicBezTo>
                <a:cubicBezTo>
                  <a:pt x="10020" y="1337"/>
                  <a:pt x="9984" y="1313"/>
                  <a:pt x="9971" y="1240"/>
                </a:cubicBezTo>
                <a:cubicBezTo>
                  <a:pt x="9956" y="1158"/>
                  <a:pt x="9910" y="1130"/>
                  <a:pt x="9847" y="1067"/>
                </a:cubicBezTo>
                <a:cubicBezTo>
                  <a:pt x="9798" y="1017"/>
                  <a:pt x="9741" y="997"/>
                  <a:pt x="9674" y="992"/>
                </a:cubicBezTo>
                <a:cubicBezTo>
                  <a:pt x="9645" y="990"/>
                  <a:pt x="9636" y="967"/>
                  <a:pt x="9599" y="9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1760" y="1108080"/>
            <a:ext cx="822240" cy="357120"/>
          </a:xfrm>
          <a:custGeom>
            <a:avLst/>
            <a:gdLst/>
            <a:ahLst/>
            <a:rect l="l" t="t" r="r" b="b"/>
            <a:pathLst>
              <a:path w="2283" h="993">
                <a:moveTo>
                  <a:pt x="1538" y="3125"/>
                </a:moveTo>
                <a:cubicBezTo>
                  <a:pt x="1503" y="3196"/>
                  <a:pt x="1456" y="3295"/>
                  <a:pt x="1414" y="3349"/>
                </a:cubicBezTo>
                <a:cubicBezTo>
                  <a:pt x="1359" y="3420"/>
                  <a:pt x="1315" y="3482"/>
                  <a:pt x="1290" y="3572"/>
                </a:cubicBezTo>
                <a:cubicBezTo>
                  <a:pt x="1261" y="3675"/>
                  <a:pt x="1299" y="3623"/>
                  <a:pt x="1339" y="3572"/>
                </a:cubicBezTo>
              </a:path>
              <a:path w="2283" h="993">
                <a:moveTo>
                  <a:pt x="1910" y="3076"/>
                </a:moveTo>
                <a:cubicBezTo>
                  <a:pt x="1899" y="3120"/>
                  <a:pt x="1872" y="3151"/>
                  <a:pt x="1860" y="3200"/>
                </a:cubicBezTo>
                <a:cubicBezTo>
                  <a:pt x="1844" y="3263"/>
                  <a:pt x="1798" y="3345"/>
                  <a:pt x="1761" y="3398"/>
                </a:cubicBezTo>
                <a:cubicBezTo>
                  <a:pt x="1725" y="3448"/>
                  <a:pt x="1666" y="3565"/>
                  <a:pt x="1637" y="3597"/>
                </a:cubicBezTo>
                <a:cubicBezTo>
                  <a:pt x="1578" y="3661"/>
                  <a:pt x="1538" y="3633"/>
                  <a:pt x="1513" y="3721"/>
                </a:cubicBezTo>
                <a:cubicBezTo>
                  <a:pt x="1463" y="3721"/>
                  <a:pt x="1446" y="3721"/>
                  <a:pt x="1463" y="3671"/>
                </a:cubicBezTo>
              </a:path>
              <a:path w="2283" h="993">
                <a:moveTo>
                  <a:pt x="1265" y="3225"/>
                </a:moveTo>
                <a:cubicBezTo>
                  <a:pt x="1257" y="3233"/>
                  <a:pt x="1248" y="3241"/>
                  <a:pt x="1240" y="3249"/>
                </a:cubicBezTo>
                <a:cubicBezTo>
                  <a:pt x="1424" y="3249"/>
                  <a:pt x="1603" y="3236"/>
                  <a:pt x="1786" y="3225"/>
                </a:cubicBezTo>
                <a:cubicBezTo>
                  <a:pt x="1898" y="3218"/>
                  <a:pt x="2107" y="3191"/>
                  <a:pt x="2208" y="3249"/>
                </a:cubicBezTo>
                <a:cubicBezTo>
                  <a:pt x="2216" y="3257"/>
                  <a:pt x="2224" y="3266"/>
                  <a:pt x="2232" y="3274"/>
                </a:cubicBezTo>
              </a:path>
              <a:path w="2283" h="993">
                <a:moveTo>
                  <a:pt x="1116" y="3324"/>
                </a:moveTo>
                <a:cubicBezTo>
                  <a:pt x="1206" y="3324"/>
                  <a:pt x="1305" y="3310"/>
                  <a:pt x="1389" y="3349"/>
                </a:cubicBezTo>
                <a:cubicBezTo>
                  <a:pt x="1471" y="3387"/>
                  <a:pt x="1513" y="3419"/>
                  <a:pt x="1612" y="3423"/>
                </a:cubicBezTo>
                <a:cubicBezTo>
                  <a:pt x="1730" y="3427"/>
                  <a:pt x="1840" y="3448"/>
                  <a:pt x="1960" y="3448"/>
                </a:cubicBezTo>
                <a:cubicBezTo>
                  <a:pt x="1988" y="3448"/>
                  <a:pt x="2146" y="3478"/>
                  <a:pt x="2133" y="3497"/>
                </a:cubicBezTo>
                <a:cubicBezTo>
                  <a:pt x="2093" y="3517"/>
                  <a:pt x="2077" y="3516"/>
                  <a:pt x="2084" y="3547"/>
                </a:cubicBezTo>
              </a:path>
              <a:path w="2283" h="993">
                <a:moveTo>
                  <a:pt x="2828" y="3150"/>
                </a:moveTo>
                <a:cubicBezTo>
                  <a:pt x="2795" y="3130"/>
                  <a:pt x="2748" y="3109"/>
                  <a:pt x="2704" y="3125"/>
                </a:cubicBezTo>
                <a:cubicBezTo>
                  <a:pt x="2623" y="3154"/>
                  <a:pt x="2545" y="3195"/>
                  <a:pt x="2480" y="3249"/>
                </a:cubicBezTo>
                <a:cubicBezTo>
                  <a:pt x="2406" y="3311"/>
                  <a:pt x="2423" y="3341"/>
                  <a:pt x="2480" y="3398"/>
                </a:cubicBezTo>
                <a:cubicBezTo>
                  <a:pt x="2542" y="3461"/>
                  <a:pt x="2625" y="3493"/>
                  <a:pt x="2679" y="3547"/>
                </a:cubicBezTo>
                <a:cubicBezTo>
                  <a:pt x="2740" y="3608"/>
                  <a:pt x="2823" y="3655"/>
                  <a:pt x="2877" y="3721"/>
                </a:cubicBezTo>
                <a:cubicBezTo>
                  <a:pt x="2939" y="3796"/>
                  <a:pt x="2971" y="3846"/>
                  <a:pt x="2977" y="3944"/>
                </a:cubicBezTo>
                <a:cubicBezTo>
                  <a:pt x="2982" y="4026"/>
                  <a:pt x="2954" y="4013"/>
                  <a:pt x="2902" y="4043"/>
                </a:cubicBezTo>
                <a:cubicBezTo>
                  <a:pt x="2855" y="4070"/>
                  <a:pt x="2789" y="4081"/>
                  <a:pt x="2729" y="4068"/>
                </a:cubicBezTo>
                <a:cubicBezTo>
                  <a:pt x="2620" y="4044"/>
                  <a:pt x="2584" y="4024"/>
                  <a:pt x="2580" y="3919"/>
                </a:cubicBezTo>
                <a:cubicBezTo>
                  <a:pt x="2576" y="3825"/>
                  <a:pt x="2631" y="3724"/>
                  <a:pt x="2679" y="3646"/>
                </a:cubicBezTo>
                <a:cubicBezTo>
                  <a:pt x="2738" y="3551"/>
                  <a:pt x="2824" y="3477"/>
                  <a:pt x="2902" y="3398"/>
                </a:cubicBezTo>
                <a:cubicBezTo>
                  <a:pt x="2925" y="3375"/>
                  <a:pt x="2962" y="3307"/>
                  <a:pt x="2977" y="3274"/>
                </a:cubicBezTo>
                <a:cubicBezTo>
                  <a:pt x="2977" y="3266"/>
                  <a:pt x="2977" y="3257"/>
                  <a:pt x="2977" y="3249"/>
                </a:cubicBezTo>
              </a:path>
              <a:path w="2283" h="993">
                <a:moveTo>
                  <a:pt x="3373" y="3919"/>
                </a:moveTo>
                <a:cubicBezTo>
                  <a:pt x="3450" y="3945"/>
                  <a:pt x="3379" y="3895"/>
                  <a:pt x="3349" y="3870"/>
                </a:cubicBezTo>
                <a:cubicBezTo>
                  <a:pt x="3325" y="3900"/>
                  <a:pt x="3277" y="3974"/>
                  <a:pt x="3299" y="4018"/>
                </a:cubicBezTo>
                <a:cubicBezTo>
                  <a:pt x="3327" y="4018"/>
                  <a:pt x="3338" y="4016"/>
                  <a:pt x="3349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09840" y="1116000"/>
            <a:ext cx="365040" cy="4032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4589" y="3547"/>
                </a:moveTo>
                <a:cubicBezTo>
                  <a:pt x="4575" y="3506"/>
                  <a:pt x="4525" y="3458"/>
                  <a:pt x="4465" y="3423"/>
                </a:cubicBezTo>
                <a:cubicBezTo>
                  <a:pt x="4414" y="3393"/>
                  <a:pt x="4372" y="3443"/>
                  <a:pt x="4341" y="3473"/>
                </a:cubicBezTo>
                <a:cubicBezTo>
                  <a:pt x="4273" y="3540"/>
                  <a:pt x="4252" y="3601"/>
                  <a:pt x="4217" y="3671"/>
                </a:cubicBezTo>
                <a:cubicBezTo>
                  <a:pt x="4191" y="3723"/>
                  <a:pt x="4192" y="3752"/>
                  <a:pt x="4192" y="3820"/>
                </a:cubicBezTo>
                <a:cubicBezTo>
                  <a:pt x="4192" y="3888"/>
                  <a:pt x="4253" y="3930"/>
                  <a:pt x="4316" y="3944"/>
                </a:cubicBezTo>
                <a:cubicBezTo>
                  <a:pt x="4384" y="3959"/>
                  <a:pt x="4473" y="3950"/>
                  <a:pt x="4514" y="3894"/>
                </a:cubicBezTo>
                <a:cubicBezTo>
                  <a:pt x="4557" y="3835"/>
                  <a:pt x="4596" y="3774"/>
                  <a:pt x="4614" y="3696"/>
                </a:cubicBezTo>
                <a:cubicBezTo>
                  <a:pt x="4614" y="3655"/>
                  <a:pt x="4614" y="3630"/>
                  <a:pt x="4614" y="3597"/>
                </a:cubicBezTo>
                <a:cubicBezTo>
                  <a:pt x="4614" y="3702"/>
                  <a:pt x="4591" y="3805"/>
                  <a:pt x="4663" y="3870"/>
                </a:cubicBezTo>
                <a:cubicBezTo>
                  <a:pt x="4694" y="3898"/>
                  <a:pt x="4698" y="3894"/>
                  <a:pt x="4738" y="3894"/>
                </a:cubicBezTo>
              </a:path>
              <a:path w="1018" h="1117">
                <a:moveTo>
                  <a:pt x="4589" y="3101"/>
                </a:moveTo>
                <a:cubicBezTo>
                  <a:pt x="4636" y="3123"/>
                  <a:pt x="4690" y="3133"/>
                  <a:pt x="4738" y="3150"/>
                </a:cubicBezTo>
                <a:cubicBezTo>
                  <a:pt x="4811" y="3177"/>
                  <a:pt x="4905" y="3263"/>
                  <a:pt x="4961" y="3324"/>
                </a:cubicBezTo>
                <a:cubicBezTo>
                  <a:pt x="5028" y="3397"/>
                  <a:pt x="5106" y="3487"/>
                  <a:pt x="5159" y="3572"/>
                </a:cubicBezTo>
                <a:cubicBezTo>
                  <a:pt x="5204" y="3645"/>
                  <a:pt x="5209" y="3713"/>
                  <a:pt x="5209" y="3795"/>
                </a:cubicBezTo>
                <a:cubicBezTo>
                  <a:pt x="5209" y="3846"/>
                  <a:pt x="5191" y="3926"/>
                  <a:pt x="5159" y="3969"/>
                </a:cubicBezTo>
                <a:cubicBezTo>
                  <a:pt x="5115" y="4029"/>
                  <a:pt x="5053" y="4107"/>
                  <a:pt x="4986" y="4142"/>
                </a:cubicBezTo>
                <a:cubicBezTo>
                  <a:pt x="4938" y="4167"/>
                  <a:pt x="4900" y="4255"/>
                  <a:pt x="4862" y="4217"/>
                </a:cubicBezTo>
                <a:cubicBezTo>
                  <a:pt x="4862" y="4192"/>
                  <a:pt x="4862" y="4167"/>
                  <a:pt x="4862" y="41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57280" y="1224000"/>
            <a:ext cx="947880" cy="249120"/>
          </a:xfrm>
          <a:custGeom>
            <a:avLst/>
            <a:gdLst/>
            <a:ahLst/>
            <a:rect l="l" t="t" r="r" b="b"/>
            <a:pathLst>
              <a:path w="2631" h="696">
                <a:moveTo>
                  <a:pt x="6871" y="3547"/>
                </a:moveTo>
                <a:cubicBezTo>
                  <a:pt x="6838" y="3514"/>
                  <a:pt x="6791" y="3457"/>
                  <a:pt x="6747" y="3448"/>
                </a:cubicBezTo>
                <a:cubicBezTo>
                  <a:pt x="6687" y="3435"/>
                  <a:pt x="6626" y="3524"/>
                  <a:pt x="6598" y="3572"/>
                </a:cubicBezTo>
                <a:cubicBezTo>
                  <a:pt x="6569" y="3621"/>
                  <a:pt x="6552" y="3668"/>
                  <a:pt x="6548" y="3721"/>
                </a:cubicBezTo>
                <a:cubicBezTo>
                  <a:pt x="6540" y="3816"/>
                  <a:pt x="6573" y="3857"/>
                  <a:pt x="6598" y="3919"/>
                </a:cubicBezTo>
                <a:cubicBezTo>
                  <a:pt x="6598" y="3936"/>
                  <a:pt x="6598" y="3952"/>
                  <a:pt x="6598" y="3969"/>
                </a:cubicBezTo>
                <a:cubicBezTo>
                  <a:pt x="6671" y="3987"/>
                  <a:pt x="6721" y="4034"/>
                  <a:pt x="6796" y="4068"/>
                </a:cubicBezTo>
                <a:cubicBezTo>
                  <a:pt x="6854" y="4094"/>
                  <a:pt x="6882" y="4093"/>
                  <a:pt x="6945" y="4093"/>
                </a:cubicBezTo>
                <a:cubicBezTo>
                  <a:pt x="7003" y="4093"/>
                  <a:pt x="7061" y="4093"/>
                  <a:pt x="7119" y="4093"/>
                </a:cubicBezTo>
              </a:path>
              <a:path w="2631" h="696">
                <a:moveTo>
                  <a:pt x="7466" y="3770"/>
                </a:moveTo>
                <a:cubicBezTo>
                  <a:pt x="7466" y="3754"/>
                  <a:pt x="7466" y="3737"/>
                  <a:pt x="7466" y="3721"/>
                </a:cubicBezTo>
                <a:cubicBezTo>
                  <a:pt x="7579" y="3721"/>
                  <a:pt x="7740" y="3758"/>
                  <a:pt x="7838" y="3746"/>
                </a:cubicBezTo>
                <a:cubicBezTo>
                  <a:pt x="7879" y="3726"/>
                  <a:pt x="7885" y="3717"/>
                  <a:pt x="7913" y="3721"/>
                </a:cubicBezTo>
              </a:path>
              <a:path w="2631" h="696">
                <a:moveTo>
                  <a:pt x="7541" y="3994"/>
                </a:moveTo>
                <a:cubicBezTo>
                  <a:pt x="7593" y="3971"/>
                  <a:pt x="7611" y="3969"/>
                  <a:pt x="7665" y="3969"/>
                </a:cubicBezTo>
                <a:cubicBezTo>
                  <a:pt x="7737" y="3969"/>
                  <a:pt x="7780" y="3990"/>
                  <a:pt x="7838" y="3994"/>
                </a:cubicBezTo>
                <a:cubicBezTo>
                  <a:pt x="7871" y="3996"/>
                  <a:pt x="7905" y="3994"/>
                  <a:pt x="7938" y="3994"/>
                </a:cubicBezTo>
              </a:path>
              <a:path w="2631" h="696">
                <a:moveTo>
                  <a:pt x="8905" y="3497"/>
                </a:moveTo>
                <a:cubicBezTo>
                  <a:pt x="8857" y="3438"/>
                  <a:pt x="8859" y="3405"/>
                  <a:pt x="8781" y="3398"/>
                </a:cubicBezTo>
                <a:cubicBezTo>
                  <a:pt x="8727" y="3393"/>
                  <a:pt x="8696" y="3412"/>
                  <a:pt x="8657" y="3448"/>
                </a:cubicBezTo>
                <a:cubicBezTo>
                  <a:pt x="8592" y="3506"/>
                  <a:pt x="8614" y="3505"/>
                  <a:pt x="8582" y="3572"/>
                </a:cubicBezTo>
                <a:cubicBezTo>
                  <a:pt x="8561" y="3616"/>
                  <a:pt x="8558" y="3644"/>
                  <a:pt x="8558" y="3696"/>
                </a:cubicBezTo>
                <a:cubicBezTo>
                  <a:pt x="8558" y="3759"/>
                  <a:pt x="8555" y="3787"/>
                  <a:pt x="8582" y="3845"/>
                </a:cubicBezTo>
                <a:cubicBezTo>
                  <a:pt x="8610" y="3906"/>
                  <a:pt x="8674" y="3983"/>
                  <a:pt x="8731" y="4018"/>
                </a:cubicBezTo>
                <a:cubicBezTo>
                  <a:pt x="8795" y="4057"/>
                  <a:pt x="9057" y="4027"/>
                  <a:pt x="9128" y="3994"/>
                </a:cubicBezTo>
                <a:cubicBezTo>
                  <a:pt x="9176" y="3970"/>
                  <a:pt x="9193" y="3964"/>
                  <a:pt x="9178" y="39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89200" y="1224000"/>
            <a:ext cx="590760" cy="222120"/>
          </a:xfrm>
          <a:custGeom>
            <a:avLst/>
            <a:gdLst/>
            <a:ahLst/>
            <a:rect l="l" t="t" r="r" b="b"/>
            <a:pathLst>
              <a:path w="1639" h="621">
                <a:moveTo>
                  <a:pt x="9971" y="3746"/>
                </a:moveTo>
                <a:cubicBezTo>
                  <a:pt x="10106" y="3746"/>
                  <a:pt x="10422" y="3804"/>
                  <a:pt x="10492" y="3696"/>
                </a:cubicBezTo>
              </a:path>
              <a:path w="1639" h="621">
                <a:moveTo>
                  <a:pt x="11385" y="3473"/>
                </a:moveTo>
                <a:cubicBezTo>
                  <a:pt x="11356" y="3399"/>
                  <a:pt x="11336" y="3398"/>
                  <a:pt x="11261" y="3398"/>
                </a:cubicBezTo>
                <a:cubicBezTo>
                  <a:pt x="11174" y="3398"/>
                  <a:pt x="11152" y="3443"/>
                  <a:pt x="11088" y="3497"/>
                </a:cubicBezTo>
                <a:cubicBezTo>
                  <a:pt x="11048" y="3531"/>
                  <a:pt x="11016" y="3595"/>
                  <a:pt x="11013" y="3646"/>
                </a:cubicBezTo>
                <a:cubicBezTo>
                  <a:pt x="11009" y="3705"/>
                  <a:pt x="11002" y="3776"/>
                  <a:pt x="11038" y="3820"/>
                </a:cubicBezTo>
                <a:cubicBezTo>
                  <a:pt x="11076" y="3868"/>
                  <a:pt x="11105" y="3916"/>
                  <a:pt x="11162" y="3944"/>
                </a:cubicBezTo>
                <a:cubicBezTo>
                  <a:pt x="11201" y="3963"/>
                  <a:pt x="11239" y="4015"/>
                  <a:pt x="11286" y="4018"/>
                </a:cubicBezTo>
                <a:cubicBezTo>
                  <a:pt x="11360" y="4023"/>
                  <a:pt x="11503" y="4038"/>
                  <a:pt x="11559" y="3994"/>
                </a:cubicBezTo>
                <a:cubicBezTo>
                  <a:pt x="11582" y="3971"/>
                  <a:pt x="11586" y="3963"/>
                  <a:pt x="11609" y="39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56080" y="1214280"/>
            <a:ext cx="554040" cy="206640"/>
          </a:xfrm>
          <a:custGeom>
            <a:avLst/>
            <a:gdLst/>
            <a:ahLst/>
            <a:rect l="l" t="t" r="r" b="b"/>
            <a:pathLst>
              <a:path w="1538" h="572">
                <a:moveTo>
                  <a:pt x="12378" y="3671"/>
                </a:moveTo>
                <a:cubicBezTo>
                  <a:pt x="12438" y="3662"/>
                  <a:pt x="12461" y="3646"/>
                  <a:pt x="12526" y="3646"/>
                </a:cubicBezTo>
                <a:cubicBezTo>
                  <a:pt x="12614" y="3646"/>
                  <a:pt x="12630" y="3683"/>
                  <a:pt x="12725" y="3671"/>
                </a:cubicBezTo>
                <a:cubicBezTo>
                  <a:pt x="12779" y="3664"/>
                  <a:pt x="12950" y="3671"/>
                  <a:pt x="12923" y="3671"/>
                </a:cubicBezTo>
              </a:path>
              <a:path w="1538" h="572">
                <a:moveTo>
                  <a:pt x="13717" y="3473"/>
                </a:moveTo>
                <a:cubicBezTo>
                  <a:pt x="13704" y="3408"/>
                  <a:pt x="13685" y="3390"/>
                  <a:pt x="13618" y="3373"/>
                </a:cubicBezTo>
                <a:cubicBezTo>
                  <a:pt x="13573" y="3362"/>
                  <a:pt x="13515" y="3417"/>
                  <a:pt x="13494" y="3448"/>
                </a:cubicBezTo>
                <a:cubicBezTo>
                  <a:pt x="13458" y="3500"/>
                  <a:pt x="13444" y="3555"/>
                  <a:pt x="13444" y="3621"/>
                </a:cubicBezTo>
                <a:cubicBezTo>
                  <a:pt x="13444" y="3694"/>
                  <a:pt x="13427" y="3782"/>
                  <a:pt x="13469" y="3845"/>
                </a:cubicBezTo>
                <a:cubicBezTo>
                  <a:pt x="13492" y="3880"/>
                  <a:pt x="13554" y="3936"/>
                  <a:pt x="13593" y="3944"/>
                </a:cubicBezTo>
                <a:cubicBezTo>
                  <a:pt x="13690" y="3965"/>
                  <a:pt x="13816" y="3944"/>
                  <a:pt x="13915" y="39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1258920"/>
            <a:ext cx="507960" cy="268200"/>
          </a:xfrm>
          <a:custGeom>
            <a:avLst/>
            <a:gdLst/>
            <a:ahLst/>
            <a:rect l="l" t="t" r="r" b="b"/>
            <a:pathLst>
              <a:path w="1415" h="746">
                <a:moveTo>
                  <a:pt x="15304" y="3820"/>
                </a:moveTo>
                <a:cubicBezTo>
                  <a:pt x="15368" y="3820"/>
                  <a:pt x="15380" y="3780"/>
                  <a:pt x="15453" y="3795"/>
                </a:cubicBezTo>
                <a:cubicBezTo>
                  <a:pt x="15505" y="3805"/>
                  <a:pt x="15543" y="3838"/>
                  <a:pt x="15602" y="3820"/>
                </a:cubicBezTo>
                <a:cubicBezTo>
                  <a:pt x="15666" y="3801"/>
                  <a:pt x="15707" y="3795"/>
                  <a:pt x="15776" y="3795"/>
                </a:cubicBezTo>
                <a:cubicBezTo>
                  <a:pt x="15876" y="3795"/>
                  <a:pt x="16181" y="3847"/>
                  <a:pt x="16247" y="3820"/>
                </a:cubicBezTo>
                <a:cubicBezTo>
                  <a:pt x="16247" y="3795"/>
                  <a:pt x="16247" y="3787"/>
                  <a:pt x="16247" y="3770"/>
                </a:cubicBezTo>
              </a:path>
              <a:path w="1415" h="746">
                <a:moveTo>
                  <a:pt x="16123" y="3497"/>
                </a:moveTo>
                <a:cubicBezTo>
                  <a:pt x="16176" y="3550"/>
                  <a:pt x="16210" y="3534"/>
                  <a:pt x="16272" y="3572"/>
                </a:cubicBezTo>
                <a:cubicBezTo>
                  <a:pt x="16314" y="3598"/>
                  <a:pt x="16400" y="3653"/>
                  <a:pt x="16446" y="3671"/>
                </a:cubicBezTo>
                <a:cubicBezTo>
                  <a:pt x="16507" y="3695"/>
                  <a:pt x="16559" y="3710"/>
                  <a:pt x="16619" y="3746"/>
                </a:cubicBezTo>
                <a:cubicBezTo>
                  <a:pt x="16655" y="3767"/>
                  <a:pt x="16683" y="3786"/>
                  <a:pt x="16718" y="3795"/>
                </a:cubicBezTo>
                <a:cubicBezTo>
                  <a:pt x="16689" y="3825"/>
                  <a:pt x="16606" y="3894"/>
                  <a:pt x="16594" y="3919"/>
                </a:cubicBezTo>
                <a:cubicBezTo>
                  <a:pt x="16563" y="3986"/>
                  <a:pt x="16501" y="3995"/>
                  <a:pt x="16446" y="4043"/>
                </a:cubicBezTo>
                <a:cubicBezTo>
                  <a:pt x="16397" y="4085"/>
                  <a:pt x="16353" y="4109"/>
                  <a:pt x="16297" y="4142"/>
                </a:cubicBezTo>
                <a:cubicBezTo>
                  <a:pt x="16252" y="4169"/>
                  <a:pt x="16129" y="4220"/>
                  <a:pt x="16173" y="4242"/>
                </a:cubicBezTo>
                <a:cubicBezTo>
                  <a:pt x="16181" y="4242"/>
                  <a:pt x="16189" y="4242"/>
                  <a:pt x="16197" y="42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57960" y="1224000"/>
            <a:ext cx="920880" cy="276120"/>
          </a:xfrm>
          <a:custGeom>
            <a:avLst/>
            <a:gdLst/>
            <a:ahLst/>
            <a:rect l="l" t="t" r="r" b="b"/>
            <a:pathLst>
              <a:path w="2556" h="770">
                <a:moveTo>
                  <a:pt x="18083" y="3522"/>
                </a:moveTo>
                <a:cubicBezTo>
                  <a:pt x="18045" y="3475"/>
                  <a:pt x="18045" y="3448"/>
                  <a:pt x="17983" y="3448"/>
                </a:cubicBezTo>
                <a:cubicBezTo>
                  <a:pt x="17923" y="3448"/>
                  <a:pt x="17858" y="3507"/>
                  <a:pt x="17810" y="3547"/>
                </a:cubicBezTo>
                <a:cubicBezTo>
                  <a:pt x="17749" y="3598"/>
                  <a:pt x="17706" y="3654"/>
                  <a:pt x="17686" y="3721"/>
                </a:cubicBezTo>
                <a:cubicBezTo>
                  <a:pt x="17673" y="3763"/>
                  <a:pt x="17661" y="3799"/>
                  <a:pt x="17661" y="3845"/>
                </a:cubicBezTo>
                <a:cubicBezTo>
                  <a:pt x="17661" y="3938"/>
                  <a:pt x="17710" y="3911"/>
                  <a:pt x="17760" y="3969"/>
                </a:cubicBezTo>
                <a:cubicBezTo>
                  <a:pt x="17801" y="4017"/>
                  <a:pt x="17842" y="4043"/>
                  <a:pt x="17909" y="4068"/>
                </a:cubicBezTo>
                <a:cubicBezTo>
                  <a:pt x="17951" y="4083"/>
                  <a:pt x="18016" y="4115"/>
                  <a:pt x="18058" y="4118"/>
                </a:cubicBezTo>
                <a:cubicBezTo>
                  <a:pt x="18141" y="4124"/>
                  <a:pt x="18212" y="4114"/>
                  <a:pt x="18281" y="4093"/>
                </a:cubicBezTo>
                <a:cubicBezTo>
                  <a:pt x="18289" y="4093"/>
                  <a:pt x="18298" y="4093"/>
                  <a:pt x="18306" y="4093"/>
                </a:cubicBezTo>
              </a:path>
              <a:path w="2556" h="770">
                <a:moveTo>
                  <a:pt x="18777" y="3621"/>
                </a:moveTo>
                <a:cubicBezTo>
                  <a:pt x="18827" y="3634"/>
                  <a:pt x="18841" y="3646"/>
                  <a:pt x="18901" y="3646"/>
                </a:cubicBezTo>
                <a:cubicBezTo>
                  <a:pt x="18973" y="3646"/>
                  <a:pt x="19057" y="3640"/>
                  <a:pt x="19124" y="3621"/>
                </a:cubicBezTo>
                <a:cubicBezTo>
                  <a:pt x="19182" y="3605"/>
                  <a:pt x="19210" y="3597"/>
                  <a:pt x="19273" y="3597"/>
                </a:cubicBezTo>
              </a:path>
              <a:path w="2556" h="770">
                <a:moveTo>
                  <a:pt x="18777" y="3894"/>
                </a:moveTo>
                <a:cubicBezTo>
                  <a:pt x="18842" y="3858"/>
                  <a:pt x="18852" y="3845"/>
                  <a:pt x="18926" y="3845"/>
                </a:cubicBezTo>
                <a:cubicBezTo>
                  <a:pt x="19007" y="3845"/>
                  <a:pt x="19073" y="3833"/>
                  <a:pt x="19149" y="3820"/>
                </a:cubicBezTo>
                <a:cubicBezTo>
                  <a:pt x="19189" y="3813"/>
                  <a:pt x="19282" y="3848"/>
                  <a:pt x="19298" y="3845"/>
                </a:cubicBezTo>
                <a:cubicBezTo>
                  <a:pt x="19306" y="3837"/>
                  <a:pt x="19315" y="3828"/>
                  <a:pt x="19323" y="3820"/>
                </a:cubicBezTo>
              </a:path>
              <a:path w="2556" h="770">
                <a:moveTo>
                  <a:pt x="18802" y="4142"/>
                </a:moveTo>
                <a:cubicBezTo>
                  <a:pt x="18864" y="4106"/>
                  <a:pt x="18884" y="4118"/>
                  <a:pt x="18951" y="4142"/>
                </a:cubicBezTo>
                <a:cubicBezTo>
                  <a:pt x="19045" y="4176"/>
                  <a:pt x="19053" y="4157"/>
                  <a:pt x="19124" y="4142"/>
                </a:cubicBezTo>
                <a:cubicBezTo>
                  <a:pt x="19153" y="4136"/>
                  <a:pt x="19250" y="4114"/>
                  <a:pt x="19273" y="4118"/>
                </a:cubicBezTo>
                <a:cubicBezTo>
                  <a:pt x="19386" y="4140"/>
                  <a:pt x="19362" y="4223"/>
                  <a:pt x="19348" y="4093"/>
                </a:cubicBezTo>
              </a:path>
              <a:path w="2556" h="770">
                <a:moveTo>
                  <a:pt x="20216" y="3473"/>
                </a:moveTo>
                <a:cubicBezTo>
                  <a:pt x="20181" y="3421"/>
                  <a:pt x="20162" y="3405"/>
                  <a:pt x="20092" y="3398"/>
                </a:cubicBezTo>
                <a:cubicBezTo>
                  <a:pt x="20041" y="3393"/>
                  <a:pt x="19969" y="3422"/>
                  <a:pt x="19943" y="3448"/>
                </a:cubicBezTo>
                <a:cubicBezTo>
                  <a:pt x="19900" y="3491"/>
                  <a:pt x="19849" y="3565"/>
                  <a:pt x="19819" y="3621"/>
                </a:cubicBezTo>
                <a:cubicBezTo>
                  <a:pt x="19792" y="3672"/>
                  <a:pt x="19751" y="3711"/>
                  <a:pt x="19745" y="3770"/>
                </a:cubicBezTo>
                <a:cubicBezTo>
                  <a:pt x="19736" y="3865"/>
                  <a:pt x="19767" y="3842"/>
                  <a:pt x="19794" y="3919"/>
                </a:cubicBezTo>
                <a:cubicBezTo>
                  <a:pt x="19821" y="3997"/>
                  <a:pt x="19848" y="3990"/>
                  <a:pt x="19918" y="4043"/>
                </a:cubicBezTo>
                <a:cubicBezTo>
                  <a:pt x="19969" y="4081"/>
                  <a:pt x="20037" y="4138"/>
                  <a:pt x="20092" y="4167"/>
                </a:cubicBezTo>
                <a:cubicBezTo>
                  <a:pt x="20132" y="4188"/>
                  <a:pt x="20206" y="4171"/>
                  <a:pt x="20216" y="41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81960" y="1258920"/>
            <a:ext cx="1071360" cy="277920"/>
          </a:xfrm>
          <a:custGeom>
            <a:avLst/>
            <a:gdLst/>
            <a:ahLst/>
            <a:rect l="l" t="t" r="r" b="b"/>
            <a:pathLst>
              <a:path w="2978" h="770">
                <a:moveTo>
                  <a:pt x="21332" y="3572"/>
                </a:moveTo>
                <a:cubicBezTo>
                  <a:pt x="21332" y="3790"/>
                  <a:pt x="21405" y="4412"/>
                  <a:pt x="21307" y="4217"/>
                </a:cubicBezTo>
                <a:cubicBezTo>
                  <a:pt x="21307" y="4200"/>
                  <a:pt x="21307" y="4184"/>
                  <a:pt x="21307" y="4167"/>
                </a:cubicBezTo>
              </a:path>
              <a:path w="2978" h="770">
                <a:moveTo>
                  <a:pt x="21059" y="3894"/>
                </a:moveTo>
                <a:cubicBezTo>
                  <a:pt x="21106" y="3894"/>
                  <a:pt x="21138" y="3914"/>
                  <a:pt x="21183" y="3919"/>
                </a:cubicBezTo>
                <a:cubicBezTo>
                  <a:pt x="21296" y="3930"/>
                  <a:pt x="21508" y="3953"/>
                  <a:pt x="21605" y="3894"/>
                </a:cubicBezTo>
                <a:cubicBezTo>
                  <a:pt x="21665" y="3858"/>
                  <a:pt x="21721" y="3861"/>
                  <a:pt x="21779" y="3894"/>
                </a:cubicBezTo>
                <a:cubicBezTo>
                  <a:pt x="21725" y="3921"/>
                  <a:pt x="21705" y="3926"/>
                  <a:pt x="21679" y="3870"/>
                </a:cubicBezTo>
              </a:path>
              <a:path w="2978" h="770">
                <a:moveTo>
                  <a:pt x="22671" y="3597"/>
                </a:moveTo>
                <a:cubicBezTo>
                  <a:pt x="22658" y="3531"/>
                  <a:pt x="22640" y="3514"/>
                  <a:pt x="22572" y="3497"/>
                </a:cubicBezTo>
                <a:cubicBezTo>
                  <a:pt x="22503" y="3480"/>
                  <a:pt x="22483" y="3530"/>
                  <a:pt x="22448" y="3572"/>
                </a:cubicBezTo>
                <a:cubicBezTo>
                  <a:pt x="22400" y="3629"/>
                  <a:pt x="22404" y="3680"/>
                  <a:pt x="22374" y="3746"/>
                </a:cubicBezTo>
                <a:cubicBezTo>
                  <a:pt x="22358" y="3782"/>
                  <a:pt x="22305" y="3862"/>
                  <a:pt x="22299" y="3894"/>
                </a:cubicBezTo>
                <a:cubicBezTo>
                  <a:pt x="22282" y="3978"/>
                  <a:pt x="22297" y="4011"/>
                  <a:pt x="22349" y="4068"/>
                </a:cubicBezTo>
                <a:cubicBezTo>
                  <a:pt x="22410" y="4135"/>
                  <a:pt x="22483" y="4237"/>
                  <a:pt x="22572" y="4242"/>
                </a:cubicBezTo>
                <a:cubicBezTo>
                  <a:pt x="22589" y="4242"/>
                  <a:pt x="22605" y="4242"/>
                  <a:pt x="22622" y="4242"/>
                </a:cubicBezTo>
              </a:path>
              <a:path w="2978" h="770">
                <a:moveTo>
                  <a:pt x="22920" y="4068"/>
                </a:moveTo>
                <a:cubicBezTo>
                  <a:pt x="22976" y="4068"/>
                  <a:pt x="23016" y="4090"/>
                  <a:pt x="23068" y="4093"/>
                </a:cubicBezTo>
                <a:cubicBezTo>
                  <a:pt x="23126" y="4093"/>
                  <a:pt x="23135" y="4093"/>
                  <a:pt x="23168" y="4093"/>
                </a:cubicBezTo>
              </a:path>
              <a:path w="2978" h="770">
                <a:moveTo>
                  <a:pt x="23763" y="3746"/>
                </a:moveTo>
                <a:cubicBezTo>
                  <a:pt x="23757" y="3706"/>
                  <a:pt x="23737" y="3617"/>
                  <a:pt x="23664" y="3646"/>
                </a:cubicBezTo>
                <a:cubicBezTo>
                  <a:pt x="23631" y="3659"/>
                  <a:pt x="23527" y="3744"/>
                  <a:pt x="23515" y="3770"/>
                </a:cubicBezTo>
                <a:cubicBezTo>
                  <a:pt x="23490" y="3825"/>
                  <a:pt x="23488" y="3888"/>
                  <a:pt x="23465" y="3944"/>
                </a:cubicBezTo>
                <a:cubicBezTo>
                  <a:pt x="23448" y="3986"/>
                  <a:pt x="23421" y="4016"/>
                  <a:pt x="23416" y="4068"/>
                </a:cubicBezTo>
                <a:cubicBezTo>
                  <a:pt x="23409" y="4140"/>
                  <a:pt x="23431" y="4156"/>
                  <a:pt x="23490" y="4192"/>
                </a:cubicBezTo>
                <a:cubicBezTo>
                  <a:pt x="23543" y="4224"/>
                  <a:pt x="23588" y="4224"/>
                  <a:pt x="23639" y="4242"/>
                </a:cubicBezTo>
                <a:cubicBezTo>
                  <a:pt x="23701" y="4264"/>
                  <a:pt x="23721" y="4266"/>
                  <a:pt x="23788" y="4266"/>
                </a:cubicBezTo>
                <a:cubicBezTo>
                  <a:pt x="23859" y="4266"/>
                  <a:pt x="23957" y="4285"/>
                  <a:pt x="24011" y="4242"/>
                </a:cubicBezTo>
                <a:cubicBezTo>
                  <a:pt x="24019" y="4234"/>
                  <a:pt x="24028" y="4225"/>
                  <a:pt x="24036" y="42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9760" y="1643040"/>
            <a:ext cx="222120" cy="554040"/>
          </a:xfrm>
          <a:custGeom>
            <a:avLst/>
            <a:gdLst/>
            <a:ahLst/>
            <a:rect l="l" t="t" r="r" b="b"/>
            <a:pathLst>
              <a:path w="621" h="1539">
                <a:moveTo>
                  <a:pt x="1761" y="4663"/>
                </a:moveTo>
                <a:cubicBezTo>
                  <a:pt x="1761" y="4616"/>
                  <a:pt x="1737" y="4577"/>
                  <a:pt x="1687" y="4564"/>
                </a:cubicBezTo>
                <a:cubicBezTo>
                  <a:pt x="1622" y="4547"/>
                  <a:pt x="1578" y="4598"/>
                  <a:pt x="1538" y="4638"/>
                </a:cubicBezTo>
                <a:cubicBezTo>
                  <a:pt x="1486" y="4689"/>
                  <a:pt x="1463" y="4727"/>
                  <a:pt x="1439" y="4787"/>
                </a:cubicBezTo>
                <a:cubicBezTo>
                  <a:pt x="1410" y="4860"/>
                  <a:pt x="1393" y="4982"/>
                  <a:pt x="1414" y="5060"/>
                </a:cubicBezTo>
                <a:cubicBezTo>
                  <a:pt x="1430" y="5122"/>
                  <a:pt x="1486" y="5208"/>
                  <a:pt x="1538" y="5234"/>
                </a:cubicBezTo>
                <a:cubicBezTo>
                  <a:pt x="1612" y="5271"/>
                  <a:pt x="1727" y="5302"/>
                  <a:pt x="1811" y="5283"/>
                </a:cubicBezTo>
                <a:cubicBezTo>
                  <a:pt x="1839" y="5276"/>
                  <a:pt x="1948" y="5249"/>
                  <a:pt x="1935" y="5209"/>
                </a:cubicBezTo>
                <a:cubicBezTo>
                  <a:pt x="1927" y="5201"/>
                  <a:pt x="1918" y="5192"/>
                  <a:pt x="1910" y="5184"/>
                </a:cubicBezTo>
              </a:path>
              <a:path w="621" h="1539">
                <a:moveTo>
                  <a:pt x="1612" y="5730"/>
                </a:moveTo>
                <a:cubicBezTo>
                  <a:pt x="1612" y="5854"/>
                  <a:pt x="1612" y="5978"/>
                  <a:pt x="1612" y="6102"/>
                </a:cubicBezTo>
                <a:cubicBezTo>
                  <a:pt x="1580" y="6048"/>
                  <a:pt x="1549" y="5990"/>
                  <a:pt x="1538" y="5928"/>
                </a:cubicBezTo>
                <a:cubicBezTo>
                  <a:pt x="1526" y="5859"/>
                  <a:pt x="1523" y="5730"/>
                  <a:pt x="1563" y="5680"/>
                </a:cubicBezTo>
                <a:cubicBezTo>
                  <a:pt x="1622" y="5606"/>
                  <a:pt x="1597" y="5623"/>
                  <a:pt x="1687" y="5581"/>
                </a:cubicBezTo>
                <a:cubicBezTo>
                  <a:pt x="1735" y="5559"/>
                  <a:pt x="1753" y="5531"/>
                  <a:pt x="1811" y="5531"/>
                </a:cubicBezTo>
                <a:cubicBezTo>
                  <a:pt x="1927" y="5531"/>
                  <a:pt x="1910" y="5615"/>
                  <a:pt x="1910" y="5705"/>
                </a:cubicBezTo>
                <a:cubicBezTo>
                  <a:pt x="1910" y="5754"/>
                  <a:pt x="1855" y="5795"/>
                  <a:pt x="1811" y="5804"/>
                </a:cubicBezTo>
                <a:cubicBezTo>
                  <a:pt x="1749" y="5816"/>
                  <a:pt x="1761" y="5800"/>
                  <a:pt x="1761" y="5879"/>
                </a:cubicBezTo>
                <a:cubicBezTo>
                  <a:pt x="1761" y="5946"/>
                  <a:pt x="1782" y="5970"/>
                  <a:pt x="1836" y="6003"/>
                </a:cubicBezTo>
                <a:cubicBezTo>
                  <a:pt x="1877" y="6028"/>
                  <a:pt x="1977" y="5968"/>
                  <a:pt x="2009" y="6028"/>
                </a:cubicBezTo>
                <a:cubicBezTo>
                  <a:pt x="2009" y="6072"/>
                  <a:pt x="2006" y="6086"/>
                  <a:pt x="2034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81120" y="2098800"/>
            <a:ext cx="357120" cy="419040"/>
          </a:xfrm>
          <a:custGeom>
            <a:avLst/>
            <a:gdLst/>
            <a:ahLst/>
            <a:rect l="l" t="t" r="r" b="b"/>
            <a:pathLst>
              <a:path w="994" h="1167">
                <a:moveTo>
                  <a:pt x="4490" y="5829"/>
                </a:moveTo>
                <a:cubicBezTo>
                  <a:pt x="4490" y="6007"/>
                  <a:pt x="4485" y="6177"/>
                  <a:pt x="4465" y="6350"/>
                </a:cubicBezTo>
                <a:cubicBezTo>
                  <a:pt x="4453" y="6451"/>
                  <a:pt x="4457" y="6558"/>
                  <a:pt x="4440" y="6648"/>
                </a:cubicBezTo>
                <a:cubicBezTo>
                  <a:pt x="4430" y="6700"/>
                  <a:pt x="4397" y="6799"/>
                  <a:pt x="4440" y="6722"/>
                </a:cubicBezTo>
                <a:cubicBezTo>
                  <a:pt x="4469" y="6671"/>
                  <a:pt x="4465" y="6636"/>
                  <a:pt x="4465" y="6573"/>
                </a:cubicBezTo>
                <a:cubicBezTo>
                  <a:pt x="4465" y="6483"/>
                  <a:pt x="4452" y="6443"/>
                  <a:pt x="4514" y="6375"/>
                </a:cubicBezTo>
                <a:cubicBezTo>
                  <a:pt x="4564" y="6321"/>
                  <a:pt x="4588" y="6325"/>
                  <a:pt x="4663" y="6325"/>
                </a:cubicBezTo>
                <a:cubicBezTo>
                  <a:pt x="4722" y="6325"/>
                  <a:pt x="4741" y="6324"/>
                  <a:pt x="4787" y="6350"/>
                </a:cubicBezTo>
                <a:cubicBezTo>
                  <a:pt x="4823" y="6371"/>
                  <a:pt x="4912" y="6386"/>
                  <a:pt x="4936" y="6424"/>
                </a:cubicBezTo>
                <a:cubicBezTo>
                  <a:pt x="4978" y="6491"/>
                  <a:pt x="4986" y="6547"/>
                  <a:pt x="4986" y="6623"/>
                </a:cubicBezTo>
                <a:cubicBezTo>
                  <a:pt x="4986" y="6643"/>
                  <a:pt x="4952" y="6732"/>
                  <a:pt x="4936" y="6747"/>
                </a:cubicBezTo>
                <a:cubicBezTo>
                  <a:pt x="4880" y="6800"/>
                  <a:pt x="4812" y="6821"/>
                  <a:pt x="4738" y="6821"/>
                </a:cubicBezTo>
                <a:cubicBezTo>
                  <a:pt x="4676" y="6821"/>
                  <a:pt x="4639" y="6802"/>
                  <a:pt x="4589" y="6796"/>
                </a:cubicBezTo>
                <a:cubicBezTo>
                  <a:pt x="4526" y="6789"/>
                  <a:pt x="4492" y="6761"/>
                  <a:pt x="4440" y="6747"/>
                </a:cubicBezTo>
                <a:cubicBezTo>
                  <a:pt x="4340" y="6721"/>
                  <a:pt x="4424" y="6747"/>
                  <a:pt x="4465" y="6747"/>
                </a:cubicBezTo>
              </a:path>
              <a:path w="994" h="1167">
                <a:moveTo>
                  <a:pt x="5011" y="6226"/>
                </a:moveTo>
                <a:cubicBezTo>
                  <a:pt x="5083" y="6226"/>
                  <a:pt x="5109" y="6275"/>
                  <a:pt x="5159" y="6325"/>
                </a:cubicBezTo>
                <a:cubicBezTo>
                  <a:pt x="5208" y="6374"/>
                  <a:pt x="5251" y="6413"/>
                  <a:pt x="5283" y="6474"/>
                </a:cubicBezTo>
                <a:cubicBezTo>
                  <a:pt x="5325" y="6554"/>
                  <a:pt x="5352" y="6576"/>
                  <a:pt x="5358" y="6672"/>
                </a:cubicBezTo>
                <a:cubicBezTo>
                  <a:pt x="5360" y="6704"/>
                  <a:pt x="5395" y="6777"/>
                  <a:pt x="5383" y="6796"/>
                </a:cubicBezTo>
                <a:cubicBezTo>
                  <a:pt x="5345" y="6859"/>
                  <a:pt x="5274" y="6912"/>
                  <a:pt x="5209" y="6921"/>
                </a:cubicBezTo>
                <a:cubicBezTo>
                  <a:pt x="5195" y="6970"/>
                  <a:pt x="5059" y="6995"/>
                  <a:pt x="5110" y="6995"/>
                </a:cubicBezTo>
                <a:cubicBezTo>
                  <a:pt x="5118" y="6995"/>
                  <a:pt x="5127" y="6995"/>
                  <a:pt x="5135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47920" y="2178000"/>
            <a:ext cx="1890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6871" y="6152"/>
                </a:moveTo>
                <a:cubicBezTo>
                  <a:pt x="6846" y="6108"/>
                  <a:pt x="6814" y="6029"/>
                  <a:pt x="6747" y="6052"/>
                </a:cubicBezTo>
                <a:cubicBezTo>
                  <a:pt x="6676" y="6076"/>
                  <a:pt x="6685" y="6130"/>
                  <a:pt x="6648" y="6176"/>
                </a:cubicBezTo>
                <a:cubicBezTo>
                  <a:pt x="6615" y="6217"/>
                  <a:pt x="6603" y="6275"/>
                  <a:pt x="6573" y="6325"/>
                </a:cubicBezTo>
                <a:cubicBezTo>
                  <a:pt x="6528" y="6400"/>
                  <a:pt x="6524" y="6407"/>
                  <a:pt x="6524" y="6499"/>
                </a:cubicBezTo>
                <a:cubicBezTo>
                  <a:pt x="6524" y="6564"/>
                  <a:pt x="6528" y="6598"/>
                  <a:pt x="6573" y="6648"/>
                </a:cubicBezTo>
                <a:cubicBezTo>
                  <a:pt x="6603" y="6680"/>
                  <a:pt x="6627" y="6740"/>
                  <a:pt x="6672" y="6747"/>
                </a:cubicBezTo>
                <a:cubicBezTo>
                  <a:pt x="6789" y="6766"/>
                  <a:pt x="6926" y="6747"/>
                  <a:pt x="704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14760" y="231300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7541" y="6449"/>
                </a:moveTo>
                <a:cubicBezTo>
                  <a:pt x="7584" y="6422"/>
                  <a:pt x="7612" y="6424"/>
                  <a:pt x="7665" y="6424"/>
                </a:cubicBezTo>
                <a:cubicBezTo>
                  <a:pt x="7706" y="6424"/>
                  <a:pt x="7731" y="6424"/>
                  <a:pt x="7764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90880" y="2187720"/>
            <a:ext cx="358920" cy="19656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8607" y="6176"/>
                </a:moveTo>
                <a:cubicBezTo>
                  <a:pt x="8593" y="6142"/>
                  <a:pt x="8538" y="6068"/>
                  <a:pt x="8483" y="6077"/>
                </a:cubicBezTo>
                <a:cubicBezTo>
                  <a:pt x="8450" y="6083"/>
                  <a:pt x="8398" y="6177"/>
                  <a:pt x="8384" y="6201"/>
                </a:cubicBezTo>
                <a:cubicBezTo>
                  <a:pt x="8352" y="6254"/>
                  <a:pt x="8351" y="6299"/>
                  <a:pt x="8334" y="6350"/>
                </a:cubicBezTo>
                <a:cubicBezTo>
                  <a:pt x="8313" y="6413"/>
                  <a:pt x="8310" y="6432"/>
                  <a:pt x="8310" y="6499"/>
                </a:cubicBezTo>
                <a:cubicBezTo>
                  <a:pt x="8310" y="6563"/>
                  <a:pt x="8343" y="6604"/>
                  <a:pt x="8409" y="6623"/>
                </a:cubicBezTo>
                <a:cubicBezTo>
                  <a:pt x="8498" y="6648"/>
                  <a:pt x="8638" y="6623"/>
                  <a:pt x="8731" y="6623"/>
                </a:cubicBezTo>
              </a:path>
              <a:path w="993" h="547">
                <a:moveTo>
                  <a:pt x="9103" y="6350"/>
                </a:moveTo>
                <a:cubicBezTo>
                  <a:pt x="9163" y="6350"/>
                  <a:pt x="9286" y="6374"/>
                  <a:pt x="9302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89200" y="2214720"/>
            <a:ext cx="403200" cy="206280"/>
          </a:xfrm>
          <a:custGeom>
            <a:avLst/>
            <a:gdLst/>
            <a:ahLst/>
            <a:rect l="l" t="t" r="r" b="b"/>
            <a:pathLst>
              <a:path w="1118" h="571">
                <a:moveTo>
                  <a:pt x="10220" y="6176"/>
                </a:moveTo>
                <a:cubicBezTo>
                  <a:pt x="10137" y="6142"/>
                  <a:pt x="10147" y="6138"/>
                  <a:pt x="10096" y="6201"/>
                </a:cubicBezTo>
                <a:cubicBezTo>
                  <a:pt x="10058" y="6247"/>
                  <a:pt x="10010" y="6287"/>
                  <a:pt x="9996" y="6350"/>
                </a:cubicBezTo>
                <a:cubicBezTo>
                  <a:pt x="9982" y="6412"/>
                  <a:pt x="9971" y="6454"/>
                  <a:pt x="9971" y="6524"/>
                </a:cubicBezTo>
                <a:cubicBezTo>
                  <a:pt x="9971" y="6533"/>
                  <a:pt x="10055" y="6666"/>
                  <a:pt x="10071" y="6672"/>
                </a:cubicBezTo>
                <a:cubicBezTo>
                  <a:pt x="10118" y="6689"/>
                  <a:pt x="10218" y="6720"/>
                  <a:pt x="10269" y="6722"/>
                </a:cubicBezTo>
                <a:cubicBezTo>
                  <a:pt x="10352" y="6726"/>
                  <a:pt x="10413" y="6722"/>
                  <a:pt x="10492" y="6697"/>
                </a:cubicBezTo>
                <a:cubicBezTo>
                  <a:pt x="10559" y="6675"/>
                  <a:pt x="10577" y="6670"/>
                  <a:pt x="10616" y="6648"/>
                </a:cubicBezTo>
              </a:path>
              <a:path w="1118" h="571">
                <a:moveTo>
                  <a:pt x="10889" y="6499"/>
                </a:moveTo>
                <a:cubicBezTo>
                  <a:pt x="10955" y="6499"/>
                  <a:pt x="11022" y="6499"/>
                  <a:pt x="11088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7240" y="2197080"/>
            <a:ext cx="16056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1906" y="6152"/>
                </a:moveTo>
                <a:cubicBezTo>
                  <a:pt x="11906" y="6135"/>
                  <a:pt x="11906" y="6119"/>
                  <a:pt x="11906" y="6102"/>
                </a:cubicBezTo>
                <a:cubicBezTo>
                  <a:pt x="11846" y="6111"/>
                  <a:pt x="11805" y="6131"/>
                  <a:pt x="11757" y="6176"/>
                </a:cubicBezTo>
                <a:cubicBezTo>
                  <a:pt x="11725" y="6206"/>
                  <a:pt x="11662" y="6294"/>
                  <a:pt x="11658" y="6325"/>
                </a:cubicBezTo>
                <a:cubicBezTo>
                  <a:pt x="11649" y="6387"/>
                  <a:pt x="11656" y="6427"/>
                  <a:pt x="11683" y="6474"/>
                </a:cubicBezTo>
                <a:cubicBezTo>
                  <a:pt x="11724" y="6545"/>
                  <a:pt x="11746" y="6569"/>
                  <a:pt x="11832" y="6573"/>
                </a:cubicBezTo>
                <a:cubicBezTo>
                  <a:pt x="11907" y="6576"/>
                  <a:pt x="11938" y="6553"/>
                  <a:pt x="12005" y="6548"/>
                </a:cubicBezTo>
                <a:cubicBezTo>
                  <a:pt x="12056" y="6545"/>
                  <a:pt x="12062" y="6534"/>
                  <a:pt x="12105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54360" y="22766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2650" y="6350"/>
                </a:moveTo>
                <a:cubicBezTo>
                  <a:pt x="12727" y="6350"/>
                  <a:pt x="12839" y="6371"/>
                  <a:pt x="12898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22920" y="219708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3593" y="6127"/>
                </a:moveTo>
                <a:cubicBezTo>
                  <a:pt x="13515" y="6080"/>
                  <a:pt x="13523" y="6117"/>
                  <a:pt x="13469" y="6176"/>
                </a:cubicBezTo>
                <a:cubicBezTo>
                  <a:pt x="13424" y="6225"/>
                  <a:pt x="13401" y="6232"/>
                  <a:pt x="13395" y="6300"/>
                </a:cubicBezTo>
                <a:cubicBezTo>
                  <a:pt x="13390" y="6363"/>
                  <a:pt x="13383" y="6444"/>
                  <a:pt x="13419" y="6499"/>
                </a:cubicBezTo>
                <a:cubicBezTo>
                  <a:pt x="13459" y="6560"/>
                  <a:pt x="13532" y="6548"/>
                  <a:pt x="13593" y="6548"/>
                </a:cubicBezTo>
                <a:cubicBezTo>
                  <a:pt x="13663" y="6548"/>
                  <a:pt x="13717" y="6573"/>
                  <a:pt x="13791" y="6573"/>
                </a:cubicBezTo>
                <a:cubicBezTo>
                  <a:pt x="13826" y="6573"/>
                  <a:pt x="13844" y="6568"/>
                  <a:pt x="13866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80040" y="2160720"/>
            <a:ext cx="1062000" cy="233280"/>
          </a:xfrm>
          <a:custGeom>
            <a:avLst/>
            <a:gdLst/>
            <a:ahLst/>
            <a:rect l="l" t="t" r="r" b="b"/>
            <a:pathLst>
              <a:path w="2952" h="646">
                <a:moveTo>
                  <a:pt x="14387" y="6375"/>
                </a:moveTo>
                <a:cubicBezTo>
                  <a:pt x="14445" y="6375"/>
                  <a:pt x="14481" y="6376"/>
                  <a:pt x="14536" y="6400"/>
                </a:cubicBezTo>
                <a:cubicBezTo>
                  <a:pt x="14595" y="6426"/>
                  <a:pt x="14620" y="6424"/>
                  <a:pt x="14684" y="6424"/>
                </a:cubicBezTo>
              </a:path>
              <a:path w="2952" h="646">
                <a:moveTo>
                  <a:pt x="15354" y="6176"/>
                </a:moveTo>
                <a:cubicBezTo>
                  <a:pt x="15290" y="6167"/>
                  <a:pt x="15268" y="6134"/>
                  <a:pt x="15205" y="6176"/>
                </a:cubicBezTo>
                <a:cubicBezTo>
                  <a:pt x="15177" y="6204"/>
                  <a:pt x="15164" y="6213"/>
                  <a:pt x="15131" y="6201"/>
                </a:cubicBezTo>
                <a:cubicBezTo>
                  <a:pt x="15121" y="6268"/>
                  <a:pt x="15087" y="6282"/>
                  <a:pt x="15081" y="6350"/>
                </a:cubicBezTo>
                <a:cubicBezTo>
                  <a:pt x="15076" y="6406"/>
                  <a:pt x="15074" y="6455"/>
                  <a:pt x="15106" y="6499"/>
                </a:cubicBezTo>
                <a:cubicBezTo>
                  <a:pt x="15140" y="6545"/>
                  <a:pt x="15204" y="6600"/>
                  <a:pt x="15255" y="6623"/>
                </a:cubicBezTo>
                <a:cubicBezTo>
                  <a:pt x="15315" y="6650"/>
                  <a:pt x="15412" y="6662"/>
                  <a:pt x="15478" y="6648"/>
                </a:cubicBezTo>
                <a:cubicBezTo>
                  <a:pt x="15541" y="6634"/>
                  <a:pt x="15594" y="6620"/>
                  <a:pt x="15652" y="6598"/>
                </a:cubicBezTo>
              </a:path>
              <a:path w="2952" h="646">
                <a:moveTo>
                  <a:pt x="15925" y="6350"/>
                </a:moveTo>
                <a:cubicBezTo>
                  <a:pt x="16023" y="6265"/>
                  <a:pt x="15975" y="6324"/>
                  <a:pt x="16073" y="6350"/>
                </a:cubicBezTo>
                <a:cubicBezTo>
                  <a:pt x="16135" y="6367"/>
                  <a:pt x="16275" y="6366"/>
                  <a:pt x="16321" y="6325"/>
                </a:cubicBezTo>
                <a:cubicBezTo>
                  <a:pt x="16329" y="6317"/>
                  <a:pt x="16338" y="6308"/>
                  <a:pt x="16346" y="6300"/>
                </a:cubicBezTo>
              </a:path>
              <a:path w="2952" h="646">
                <a:moveTo>
                  <a:pt x="16966" y="6052"/>
                </a:moveTo>
                <a:cubicBezTo>
                  <a:pt x="16966" y="6036"/>
                  <a:pt x="16966" y="6019"/>
                  <a:pt x="16966" y="6003"/>
                </a:cubicBezTo>
                <a:cubicBezTo>
                  <a:pt x="16885" y="6003"/>
                  <a:pt x="16892" y="6028"/>
                  <a:pt x="16818" y="6052"/>
                </a:cubicBezTo>
                <a:cubicBezTo>
                  <a:pt x="16774" y="6066"/>
                  <a:pt x="16742" y="6129"/>
                  <a:pt x="16718" y="6176"/>
                </a:cubicBezTo>
                <a:cubicBezTo>
                  <a:pt x="16696" y="6218"/>
                  <a:pt x="16672" y="6279"/>
                  <a:pt x="16669" y="6325"/>
                </a:cubicBezTo>
                <a:cubicBezTo>
                  <a:pt x="16663" y="6421"/>
                  <a:pt x="16679" y="6416"/>
                  <a:pt x="16743" y="6474"/>
                </a:cubicBezTo>
                <a:cubicBezTo>
                  <a:pt x="16804" y="6529"/>
                  <a:pt x="16911" y="6545"/>
                  <a:pt x="16991" y="6548"/>
                </a:cubicBezTo>
                <a:cubicBezTo>
                  <a:pt x="17065" y="6551"/>
                  <a:pt x="17146" y="6547"/>
                  <a:pt x="17214" y="6524"/>
                </a:cubicBezTo>
                <a:cubicBezTo>
                  <a:pt x="17265" y="6507"/>
                  <a:pt x="17284" y="6499"/>
                  <a:pt x="17338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040" y="2973240"/>
            <a:ext cx="169920" cy="625680"/>
          </a:xfrm>
          <a:custGeom>
            <a:avLst/>
            <a:gdLst/>
            <a:ahLst/>
            <a:rect l="l" t="t" r="r" b="b"/>
            <a:pathLst>
              <a:path w="472" h="1737">
                <a:moveTo>
                  <a:pt x="1588" y="8434"/>
                </a:moveTo>
                <a:cubicBezTo>
                  <a:pt x="1588" y="8538"/>
                  <a:pt x="1582" y="8642"/>
                  <a:pt x="1563" y="8731"/>
                </a:cubicBezTo>
                <a:cubicBezTo>
                  <a:pt x="1556" y="8765"/>
                  <a:pt x="1517" y="8893"/>
                  <a:pt x="1563" y="8781"/>
                </a:cubicBezTo>
              </a:path>
              <a:path w="472" h="1737">
                <a:moveTo>
                  <a:pt x="1910" y="8260"/>
                </a:moveTo>
                <a:cubicBezTo>
                  <a:pt x="1910" y="8320"/>
                  <a:pt x="1927" y="8389"/>
                  <a:pt x="1885" y="8434"/>
                </a:cubicBezTo>
                <a:cubicBezTo>
                  <a:pt x="1848" y="8474"/>
                  <a:pt x="1763" y="8534"/>
                  <a:pt x="1712" y="8558"/>
                </a:cubicBezTo>
                <a:cubicBezTo>
                  <a:pt x="1679" y="8574"/>
                  <a:pt x="1665" y="8598"/>
                  <a:pt x="1637" y="8632"/>
                </a:cubicBezTo>
                <a:cubicBezTo>
                  <a:pt x="1702" y="8648"/>
                  <a:pt x="1690" y="8690"/>
                  <a:pt x="1736" y="8731"/>
                </a:cubicBezTo>
                <a:cubicBezTo>
                  <a:pt x="1780" y="8770"/>
                  <a:pt x="1843" y="8802"/>
                  <a:pt x="1885" y="8830"/>
                </a:cubicBezTo>
                <a:cubicBezTo>
                  <a:pt x="1967" y="8884"/>
                  <a:pt x="1951" y="8939"/>
                  <a:pt x="2009" y="8880"/>
                </a:cubicBezTo>
              </a:path>
              <a:path w="472" h="1737">
                <a:moveTo>
                  <a:pt x="1612" y="9500"/>
                </a:moveTo>
                <a:cubicBezTo>
                  <a:pt x="1612" y="9642"/>
                  <a:pt x="1624" y="9795"/>
                  <a:pt x="1588" y="9922"/>
                </a:cubicBezTo>
                <a:cubicBezTo>
                  <a:pt x="1581" y="9946"/>
                  <a:pt x="1588" y="10065"/>
                  <a:pt x="1588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71920" y="2527200"/>
            <a:ext cx="268200" cy="490680"/>
          </a:xfrm>
          <a:custGeom>
            <a:avLst/>
            <a:gdLst/>
            <a:ahLst/>
            <a:rect l="l" t="t" r="r" b="b"/>
            <a:pathLst>
              <a:path w="745" h="1365">
                <a:moveTo>
                  <a:pt x="10244" y="7020"/>
                </a:moveTo>
                <a:cubicBezTo>
                  <a:pt x="10244" y="7112"/>
                  <a:pt x="10227" y="7430"/>
                  <a:pt x="10269" y="7417"/>
                </a:cubicBezTo>
              </a:path>
              <a:path w="745" h="1365">
                <a:moveTo>
                  <a:pt x="10344" y="7888"/>
                </a:moveTo>
                <a:cubicBezTo>
                  <a:pt x="10272" y="7834"/>
                  <a:pt x="10260" y="7838"/>
                  <a:pt x="10170" y="7838"/>
                </a:cubicBezTo>
                <a:cubicBezTo>
                  <a:pt x="10100" y="7838"/>
                  <a:pt x="10095" y="7839"/>
                  <a:pt x="10046" y="7888"/>
                </a:cubicBezTo>
                <a:cubicBezTo>
                  <a:pt x="9988" y="7946"/>
                  <a:pt x="9975" y="7967"/>
                  <a:pt x="9947" y="8037"/>
                </a:cubicBezTo>
                <a:cubicBezTo>
                  <a:pt x="9916" y="8113"/>
                  <a:pt x="9913" y="8145"/>
                  <a:pt x="9971" y="8210"/>
                </a:cubicBezTo>
                <a:cubicBezTo>
                  <a:pt x="10011" y="8254"/>
                  <a:pt x="10069" y="8291"/>
                  <a:pt x="10120" y="8310"/>
                </a:cubicBezTo>
                <a:cubicBezTo>
                  <a:pt x="10180" y="8332"/>
                  <a:pt x="10281" y="8373"/>
                  <a:pt x="10344" y="8384"/>
                </a:cubicBezTo>
                <a:cubicBezTo>
                  <a:pt x="10399" y="8393"/>
                  <a:pt x="10601" y="8410"/>
                  <a:pt x="10641" y="8359"/>
                </a:cubicBezTo>
                <a:cubicBezTo>
                  <a:pt x="10674" y="8317"/>
                  <a:pt x="10666" y="8284"/>
                  <a:pt x="10666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30760" y="4483080"/>
            <a:ext cx="179280" cy="411120"/>
          </a:xfrm>
          <a:custGeom>
            <a:avLst/>
            <a:gdLst/>
            <a:ahLst/>
            <a:rect l="l" t="t" r="r" b="b"/>
            <a:pathLst>
              <a:path w="497" h="1142">
                <a:moveTo>
                  <a:pt x="10914" y="12452"/>
                </a:moveTo>
                <a:cubicBezTo>
                  <a:pt x="10914" y="12503"/>
                  <a:pt x="10907" y="12535"/>
                  <a:pt x="10889" y="12576"/>
                </a:cubicBezTo>
                <a:cubicBezTo>
                  <a:pt x="10865" y="12631"/>
                  <a:pt x="10840" y="12665"/>
                  <a:pt x="10840" y="12725"/>
                </a:cubicBezTo>
              </a:path>
              <a:path w="497" h="1142">
                <a:moveTo>
                  <a:pt x="10988" y="13022"/>
                </a:moveTo>
                <a:cubicBezTo>
                  <a:pt x="10957" y="12975"/>
                  <a:pt x="10933" y="12950"/>
                  <a:pt x="10864" y="12973"/>
                </a:cubicBezTo>
                <a:cubicBezTo>
                  <a:pt x="10822" y="12987"/>
                  <a:pt x="10764" y="13033"/>
                  <a:pt x="10740" y="13072"/>
                </a:cubicBezTo>
                <a:cubicBezTo>
                  <a:pt x="10709" y="13121"/>
                  <a:pt x="10659" y="13192"/>
                  <a:pt x="10641" y="13246"/>
                </a:cubicBezTo>
                <a:cubicBezTo>
                  <a:pt x="10607" y="13349"/>
                  <a:pt x="10665" y="13409"/>
                  <a:pt x="10691" y="13469"/>
                </a:cubicBezTo>
                <a:cubicBezTo>
                  <a:pt x="10715" y="13526"/>
                  <a:pt x="10727" y="13541"/>
                  <a:pt x="10790" y="13568"/>
                </a:cubicBezTo>
                <a:cubicBezTo>
                  <a:pt x="10888" y="13610"/>
                  <a:pt x="10941" y="13586"/>
                  <a:pt x="11038" y="13568"/>
                </a:cubicBezTo>
                <a:cubicBezTo>
                  <a:pt x="11091" y="13558"/>
                  <a:pt x="11111" y="13570"/>
                  <a:pt x="11137" y="135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4960" y="2347920"/>
            <a:ext cx="189000" cy="527040"/>
          </a:xfrm>
          <a:custGeom>
            <a:avLst/>
            <a:gdLst/>
            <a:ahLst/>
            <a:rect l="l" t="t" r="r" b="b"/>
            <a:pathLst>
              <a:path w="522" h="1464">
                <a:moveTo>
                  <a:pt x="1488" y="7094"/>
                </a:moveTo>
                <a:cubicBezTo>
                  <a:pt x="1488" y="6995"/>
                  <a:pt x="1496" y="6906"/>
                  <a:pt x="1513" y="6821"/>
                </a:cubicBezTo>
                <a:cubicBezTo>
                  <a:pt x="1530" y="6739"/>
                  <a:pt x="1511" y="6689"/>
                  <a:pt x="1563" y="6623"/>
                </a:cubicBezTo>
                <a:cubicBezTo>
                  <a:pt x="1612" y="6561"/>
                  <a:pt x="1660" y="6507"/>
                  <a:pt x="1736" y="6548"/>
                </a:cubicBezTo>
                <a:cubicBezTo>
                  <a:pt x="1793" y="6579"/>
                  <a:pt x="1825" y="6613"/>
                  <a:pt x="1885" y="6648"/>
                </a:cubicBezTo>
                <a:cubicBezTo>
                  <a:pt x="1950" y="6686"/>
                  <a:pt x="1980" y="6655"/>
                  <a:pt x="1984" y="6747"/>
                </a:cubicBezTo>
                <a:cubicBezTo>
                  <a:pt x="1987" y="6819"/>
                  <a:pt x="1984" y="7236"/>
                  <a:pt x="1984" y="7069"/>
                </a:cubicBezTo>
                <a:cubicBezTo>
                  <a:pt x="1984" y="7061"/>
                  <a:pt x="1984" y="7053"/>
                  <a:pt x="1984" y="7045"/>
                </a:cubicBezTo>
              </a:path>
              <a:path w="522" h="1464">
                <a:moveTo>
                  <a:pt x="1563" y="6871"/>
                </a:moveTo>
                <a:cubicBezTo>
                  <a:pt x="1617" y="6885"/>
                  <a:pt x="1647" y="6918"/>
                  <a:pt x="1712" y="6921"/>
                </a:cubicBezTo>
                <a:cubicBezTo>
                  <a:pt x="1811" y="6925"/>
                  <a:pt x="1831" y="6867"/>
                  <a:pt x="1910" y="6846"/>
                </a:cubicBezTo>
                <a:cubicBezTo>
                  <a:pt x="1957" y="6833"/>
                  <a:pt x="1971" y="6861"/>
                  <a:pt x="2009" y="6871"/>
                </a:cubicBezTo>
              </a:path>
              <a:path w="522" h="1464">
                <a:moveTo>
                  <a:pt x="1836" y="7565"/>
                </a:moveTo>
                <a:cubicBezTo>
                  <a:pt x="1734" y="7523"/>
                  <a:pt x="1768" y="7548"/>
                  <a:pt x="1662" y="7590"/>
                </a:cubicBezTo>
                <a:cubicBezTo>
                  <a:pt x="1577" y="7623"/>
                  <a:pt x="1580" y="7630"/>
                  <a:pt x="1538" y="7689"/>
                </a:cubicBezTo>
                <a:cubicBezTo>
                  <a:pt x="1486" y="7762"/>
                  <a:pt x="1488" y="7748"/>
                  <a:pt x="1488" y="7838"/>
                </a:cubicBezTo>
                <a:cubicBezTo>
                  <a:pt x="1488" y="7898"/>
                  <a:pt x="1496" y="7944"/>
                  <a:pt x="1563" y="7962"/>
                </a:cubicBezTo>
                <a:cubicBezTo>
                  <a:pt x="1655" y="7986"/>
                  <a:pt x="1720" y="7990"/>
                  <a:pt x="1811" y="7962"/>
                </a:cubicBezTo>
                <a:cubicBezTo>
                  <a:pt x="1873" y="7943"/>
                  <a:pt x="1920" y="7913"/>
                  <a:pt x="1984" y="7913"/>
                </a:cubicBezTo>
                <a:cubicBezTo>
                  <a:pt x="1992" y="7913"/>
                  <a:pt x="2001" y="7913"/>
                  <a:pt x="2009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62080" y="3276720"/>
            <a:ext cx="482760" cy="30456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5730" y="9451"/>
                </a:moveTo>
                <a:cubicBezTo>
                  <a:pt x="5811" y="9451"/>
                  <a:pt x="5879" y="9436"/>
                  <a:pt x="5953" y="9426"/>
                </a:cubicBezTo>
                <a:cubicBezTo>
                  <a:pt x="6211" y="9392"/>
                  <a:pt x="6759" y="9708"/>
                  <a:pt x="6722" y="9451"/>
                </a:cubicBezTo>
                <a:cubicBezTo>
                  <a:pt x="6714" y="9434"/>
                  <a:pt x="6705" y="9418"/>
                  <a:pt x="6697" y="9401"/>
                </a:cubicBezTo>
              </a:path>
              <a:path w="1340" h="845">
                <a:moveTo>
                  <a:pt x="6598" y="9103"/>
                </a:moveTo>
                <a:cubicBezTo>
                  <a:pt x="6612" y="9131"/>
                  <a:pt x="6708" y="9212"/>
                  <a:pt x="6747" y="9227"/>
                </a:cubicBezTo>
                <a:cubicBezTo>
                  <a:pt x="6818" y="9254"/>
                  <a:pt x="6907" y="9273"/>
                  <a:pt x="6970" y="9327"/>
                </a:cubicBezTo>
                <a:cubicBezTo>
                  <a:pt x="7040" y="9388"/>
                  <a:pt x="7069" y="9385"/>
                  <a:pt x="7069" y="9475"/>
                </a:cubicBezTo>
                <a:cubicBezTo>
                  <a:pt x="7069" y="9537"/>
                  <a:pt x="7076" y="9591"/>
                  <a:pt x="7045" y="9649"/>
                </a:cubicBezTo>
                <a:cubicBezTo>
                  <a:pt x="7016" y="9704"/>
                  <a:pt x="6929" y="9755"/>
                  <a:pt x="6871" y="9773"/>
                </a:cubicBezTo>
                <a:cubicBezTo>
                  <a:pt x="6849" y="9780"/>
                  <a:pt x="6710" y="9834"/>
                  <a:pt x="6697" y="9847"/>
                </a:cubicBezTo>
                <a:cubicBezTo>
                  <a:pt x="6652" y="9892"/>
                  <a:pt x="6585" y="9910"/>
                  <a:pt x="6548" y="9947"/>
                </a:cubicBezTo>
                <a:cubicBezTo>
                  <a:pt x="6556" y="9947"/>
                  <a:pt x="6565" y="9947"/>
                  <a:pt x="6573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90880" y="3375000"/>
            <a:ext cx="2251080" cy="250920"/>
          </a:xfrm>
          <a:custGeom>
            <a:avLst/>
            <a:gdLst/>
            <a:ahLst/>
            <a:rect l="l" t="t" r="r" b="b"/>
            <a:pathLst>
              <a:path w="6251" h="696">
                <a:moveTo>
                  <a:pt x="8706" y="9475"/>
                </a:moveTo>
                <a:cubicBezTo>
                  <a:pt x="8683" y="9417"/>
                  <a:pt x="8646" y="9392"/>
                  <a:pt x="8582" y="9376"/>
                </a:cubicBezTo>
                <a:cubicBezTo>
                  <a:pt x="8514" y="9359"/>
                  <a:pt x="8497" y="9383"/>
                  <a:pt x="8458" y="9426"/>
                </a:cubicBezTo>
                <a:cubicBezTo>
                  <a:pt x="8397" y="9494"/>
                  <a:pt x="8374" y="9463"/>
                  <a:pt x="8334" y="9550"/>
                </a:cubicBezTo>
                <a:cubicBezTo>
                  <a:pt x="8300" y="9623"/>
                  <a:pt x="8310" y="9693"/>
                  <a:pt x="8310" y="9773"/>
                </a:cubicBezTo>
                <a:cubicBezTo>
                  <a:pt x="8310" y="9866"/>
                  <a:pt x="8299" y="9900"/>
                  <a:pt x="8359" y="9971"/>
                </a:cubicBezTo>
                <a:cubicBezTo>
                  <a:pt x="8421" y="10045"/>
                  <a:pt x="8571" y="10032"/>
                  <a:pt x="8657" y="10021"/>
                </a:cubicBezTo>
                <a:cubicBezTo>
                  <a:pt x="8808" y="10002"/>
                  <a:pt x="8954" y="9971"/>
                  <a:pt x="9103" y="9947"/>
                </a:cubicBezTo>
                <a:cubicBezTo>
                  <a:pt x="9120" y="9947"/>
                  <a:pt x="9136" y="9947"/>
                  <a:pt x="9153" y="9947"/>
                </a:cubicBezTo>
              </a:path>
              <a:path w="6251" h="696">
                <a:moveTo>
                  <a:pt x="9451" y="9699"/>
                </a:moveTo>
                <a:cubicBezTo>
                  <a:pt x="9527" y="9652"/>
                  <a:pt x="9545" y="9699"/>
                  <a:pt x="9624" y="9723"/>
                </a:cubicBezTo>
                <a:cubicBezTo>
                  <a:pt x="9680" y="9740"/>
                  <a:pt x="9755" y="9722"/>
                  <a:pt x="9798" y="9699"/>
                </a:cubicBezTo>
                <a:cubicBezTo>
                  <a:pt x="9814" y="9691"/>
                  <a:pt x="9831" y="9682"/>
                  <a:pt x="9847" y="9674"/>
                </a:cubicBezTo>
              </a:path>
              <a:path w="6251" h="696">
                <a:moveTo>
                  <a:pt x="10641" y="9451"/>
                </a:moveTo>
                <a:cubicBezTo>
                  <a:pt x="10593" y="9395"/>
                  <a:pt x="10571" y="9376"/>
                  <a:pt x="10492" y="9376"/>
                </a:cubicBezTo>
                <a:cubicBezTo>
                  <a:pt x="10414" y="9376"/>
                  <a:pt x="10381" y="9438"/>
                  <a:pt x="10344" y="9500"/>
                </a:cubicBezTo>
                <a:cubicBezTo>
                  <a:pt x="10305" y="9565"/>
                  <a:pt x="10298" y="9673"/>
                  <a:pt x="10294" y="9748"/>
                </a:cubicBezTo>
                <a:cubicBezTo>
                  <a:pt x="10290" y="9828"/>
                  <a:pt x="10328" y="9884"/>
                  <a:pt x="10393" y="9922"/>
                </a:cubicBezTo>
                <a:cubicBezTo>
                  <a:pt x="10473" y="9969"/>
                  <a:pt x="10525" y="9971"/>
                  <a:pt x="10616" y="9971"/>
                </a:cubicBezTo>
                <a:cubicBezTo>
                  <a:pt x="10712" y="9971"/>
                  <a:pt x="10812" y="10001"/>
                  <a:pt x="10864" y="9922"/>
                </a:cubicBezTo>
              </a:path>
              <a:path w="6251" h="696">
                <a:moveTo>
                  <a:pt x="11187" y="9575"/>
                </a:moveTo>
                <a:cubicBezTo>
                  <a:pt x="11332" y="9575"/>
                  <a:pt x="11468" y="9569"/>
                  <a:pt x="11609" y="9550"/>
                </a:cubicBezTo>
                <a:cubicBezTo>
                  <a:pt x="11656" y="9544"/>
                  <a:pt x="11710" y="9550"/>
                  <a:pt x="11757" y="9550"/>
                </a:cubicBezTo>
              </a:path>
              <a:path w="6251" h="696">
                <a:moveTo>
                  <a:pt x="11286" y="9847"/>
                </a:moveTo>
                <a:cubicBezTo>
                  <a:pt x="11350" y="9810"/>
                  <a:pt x="11374" y="9829"/>
                  <a:pt x="11435" y="9847"/>
                </a:cubicBezTo>
                <a:cubicBezTo>
                  <a:pt x="11541" y="9878"/>
                  <a:pt x="11652" y="9822"/>
                  <a:pt x="11757" y="9872"/>
                </a:cubicBezTo>
                <a:cubicBezTo>
                  <a:pt x="11839" y="9911"/>
                  <a:pt x="11824" y="9899"/>
                  <a:pt x="11857" y="9823"/>
                </a:cubicBezTo>
              </a:path>
              <a:path w="6251" h="696">
                <a:moveTo>
                  <a:pt x="12452" y="9475"/>
                </a:moveTo>
                <a:cubicBezTo>
                  <a:pt x="12452" y="9442"/>
                  <a:pt x="12452" y="9426"/>
                  <a:pt x="12452" y="9401"/>
                </a:cubicBezTo>
                <a:cubicBezTo>
                  <a:pt x="12356" y="9401"/>
                  <a:pt x="12345" y="9416"/>
                  <a:pt x="12254" y="9451"/>
                </a:cubicBezTo>
                <a:cubicBezTo>
                  <a:pt x="12220" y="9464"/>
                  <a:pt x="12165" y="9528"/>
                  <a:pt x="12154" y="9575"/>
                </a:cubicBezTo>
                <a:cubicBezTo>
                  <a:pt x="12137" y="9648"/>
                  <a:pt x="12152" y="9755"/>
                  <a:pt x="12179" y="9823"/>
                </a:cubicBezTo>
                <a:cubicBezTo>
                  <a:pt x="12204" y="9885"/>
                  <a:pt x="12263" y="9944"/>
                  <a:pt x="12303" y="9996"/>
                </a:cubicBezTo>
                <a:cubicBezTo>
                  <a:pt x="12362" y="10072"/>
                  <a:pt x="12386" y="10071"/>
                  <a:pt x="12477" y="10071"/>
                </a:cubicBezTo>
                <a:cubicBezTo>
                  <a:pt x="12590" y="10071"/>
                  <a:pt x="12667" y="10057"/>
                  <a:pt x="12774" y="10021"/>
                </a:cubicBezTo>
              </a:path>
              <a:path w="6251" h="696">
                <a:moveTo>
                  <a:pt x="13221" y="9674"/>
                </a:moveTo>
                <a:cubicBezTo>
                  <a:pt x="13270" y="9637"/>
                  <a:pt x="13307" y="9640"/>
                  <a:pt x="13370" y="9674"/>
                </a:cubicBezTo>
                <a:cubicBezTo>
                  <a:pt x="13437" y="9710"/>
                  <a:pt x="13442" y="9687"/>
                  <a:pt x="13519" y="9674"/>
                </a:cubicBezTo>
                <a:cubicBezTo>
                  <a:pt x="13580" y="9664"/>
                  <a:pt x="13608" y="9672"/>
                  <a:pt x="13667" y="9649"/>
                </a:cubicBezTo>
              </a:path>
              <a:path w="6251" h="696">
                <a:moveTo>
                  <a:pt x="14312" y="9426"/>
                </a:moveTo>
                <a:cubicBezTo>
                  <a:pt x="14257" y="9378"/>
                  <a:pt x="14228" y="9348"/>
                  <a:pt x="14163" y="9401"/>
                </a:cubicBezTo>
                <a:cubicBezTo>
                  <a:pt x="14116" y="9439"/>
                  <a:pt x="14047" y="9469"/>
                  <a:pt x="14015" y="9525"/>
                </a:cubicBezTo>
                <a:cubicBezTo>
                  <a:pt x="13989" y="9570"/>
                  <a:pt x="13965" y="9643"/>
                  <a:pt x="13965" y="9699"/>
                </a:cubicBezTo>
                <a:cubicBezTo>
                  <a:pt x="13965" y="9759"/>
                  <a:pt x="13991" y="9822"/>
                  <a:pt x="14015" y="9872"/>
                </a:cubicBezTo>
                <a:cubicBezTo>
                  <a:pt x="14049" y="9942"/>
                  <a:pt x="14143" y="9963"/>
                  <a:pt x="14213" y="9971"/>
                </a:cubicBezTo>
                <a:cubicBezTo>
                  <a:pt x="14291" y="9980"/>
                  <a:pt x="14390" y="9946"/>
                  <a:pt x="14461" y="9922"/>
                </a:cubicBezTo>
                <a:cubicBezTo>
                  <a:pt x="14509" y="9898"/>
                  <a:pt x="14523" y="9890"/>
                  <a:pt x="14560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13280" y="3330720"/>
            <a:ext cx="322560" cy="2584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6520" y="9302"/>
                </a:moveTo>
                <a:cubicBezTo>
                  <a:pt x="16520" y="9285"/>
                  <a:pt x="16520" y="9269"/>
                  <a:pt x="16520" y="9252"/>
                </a:cubicBezTo>
                <a:cubicBezTo>
                  <a:pt x="16520" y="9492"/>
                  <a:pt x="16520" y="9731"/>
                  <a:pt x="16520" y="9971"/>
                </a:cubicBezTo>
                <a:cubicBezTo>
                  <a:pt x="16520" y="9922"/>
                  <a:pt x="16520" y="9905"/>
                  <a:pt x="16520" y="9872"/>
                </a:cubicBezTo>
              </a:path>
              <a:path w="894" h="720">
                <a:moveTo>
                  <a:pt x="16148" y="9649"/>
                </a:moveTo>
                <a:cubicBezTo>
                  <a:pt x="16258" y="9649"/>
                  <a:pt x="16986" y="9569"/>
                  <a:pt x="17041" y="9624"/>
                </a:cubicBezTo>
                <a:cubicBezTo>
                  <a:pt x="17018" y="9647"/>
                  <a:pt x="17014" y="9655"/>
                  <a:pt x="16991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9240" y="3348000"/>
            <a:ext cx="492120" cy="189000"/>
          </a:xfrm>
          <a:custGeom>
            <a:avLst/>
            <a:gdLst/>
            <a:ahLst/>
            <a:rect l="l" t="t" r="r" b="b"/>
            <a:pathLst>
              <a:path w="1366" h="522">
                <a:moveTo>
                  <a:pt x="18231" y="9302"/>
                </a:moveTo>
                <a:cubicBezTo>
                  <a:pt x="18150" y="9302"/>
                  <a:pt x="18020" y="9279"/>
                  <a:pt x="17959" y="9327"/>
                </a:cubicBezTo>
                <a:cubicBezTo>
                  <a:pt x="17911" y="9365"/>
                  <a:pt x="17884" y="9391"/>
                  <a:pt x="17884" y="9451"/>
                </a:cubicBezTo>
                <a:cubicBezTo>
                  <a:pt x="17884" y="9520"/>
                  <a:pt x="17859" y="9579"/>
                  <a:pt x="17859" y="9649"/>
                </a:cubicBezTo>
                <a:cubicBezTo>
                  <a:pt x="17859" y="9730"/>
                  <a:pt x="17871" y="9788"/>
                  <a:pt x="17959" y="9823"/>
                </a:cubicBezTo>
                <a:cubicBezTo>
                  <a:pt x="18114" y="9884"/>
                  <a:pt x="18532" y="9858"/>
                  <a:pt x="18653" y="9748"/>
                </a:cubicBezTo>
              </a:path>
              <a:path w="1366" h="522">
                <a:moveTo>
                  <a:pt x="18901" y="9624"/>
                </a:moveTo>
                <a:cubicBezTo>
                  <a:pt x="19009" y="9624"/>
                  <a:pt x="19116" y="9624"/>
                  <a:pt x="1922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2760" y="3348000"/>
            <a:ext cx="1536480" cy="268200"/>
          </a:xfrm>
          <a:custGeom>
            <a:avLst/>
            <a:gdLst/>
            <a:ahLst/>
            <a:rect l="l" t="t" r="r" b="b"/>
            <a:pathLst>
              <a:path w="4267" h="745">
                <a:moveTo>
                  <a:pt x="20439" y="9327"/>
                </a:moveTo>
                <a:cubicBezTo>
                  <a:pt x="20382" y="9305"/>
                  <a:pt x="20305" y="9284"/>
                  <a:pt x="20241" y="9302"/>
                </a:cubicBezTo>
                <a:cubicBezTo>
                  <a:pt x="20182" y="9319"/>
                  <a:pt x="20119" y="9402"/>
                  <a:pt x="20092" y="9451"/>
                </a:cubicBezTo>
                <a:cubicBezTo>
                  <a:pt x="20054" y="9521"/>
                  <a:pt x="20112" y="9627"/>
                  <a:pt x="20141" y="9674"/>
                </a:cubicBezTo>
                <a:cubicBezTo>
                  <a:pt x="20184" y="9744"/>
                  <a:pt x="20242" y="9761"/>
                  <a:pt x="20315" y="9798"/>
                </a:cubicBezTo>
                <a:cubicBezTo>
                  <a:pt x="20392" y="9837"/>
                  <a:pt x="20478" y="9823"/>
                  <a:pt x="20563" y="9823"/>
                </a:cubicBezTo>
                <a:cubicBezTo>
                  <a:pt x="20640" y="9823"/>
                  <a:pt x="20669" y="9824"/>
                  <a:pt x="20737" y="9798"/>
                </a:cubicBezTo>
              </a:path>
              <a:path w="4267" h="745">
                <a:moveTo>
                  <a:pt x="21010" y="9575"/>
                </a:moveTo>
                <a:cubicBezTo>
                  <a:pt x="21116" y="9575"/>
                  <a:pt x="21216" y="9580"/>
                  <a:pt x="21307" y="9550"/>
                </a:cubicBezTo>
                <a:cubicBezTo>
                  <a:pt x="21347" y="9537"/>
                  <a:pt x="21372" y="9528"/>
                  <a:pt x="21406" y="9500"/>
                </a:cubicBezTo>
              </a:path>
              <a:path w="4267" h="745">
                <a:moveTo>
                  <a:pt x="22349" y="9351"/>
                </a:moveTo>
                <a:cubicBezTo>
                  <a:pt x="22315" y="9318"/>
                  <a:pt x="22281" y="9279"/>
                  <a:pt x="22225" y="9302"/>
                </a:cubicBezTo>
                <a:cubicBezTo>
                  <a:pt x="22184" y="9319"/>
                  <a:pt x="22141" y="9377"/>
                  <a:pt x="22101" y="9401"/>
                </a:cubicBezTo>
                <a:cubicBezTo>
                  <a:pt x="22021" y="9449"/>
                  <a:pt x="22051" y="9489"/>
                  <a:pt x="22002" y="9550"/>
                </a:cubicBezTo>
                <a:cubicBezTo>
                  <a:pt x="21957" y="9606"/>
                  <a:pt x="21972" y="9648"/>
                  <a:pt x="22002" y="9699"/>
                </a:cubicBezTo>
                <a:cubicBezTo>
                  <a:pt x="22044" y="9772"/>
                  <a:pt x="22164" y="9810"/>
                  <a:pt x="22250" y="9823"/>
                </a:cubicBezTo>
                <a:cubicBezTo>
                  <a:pt x="22345" y="9837"/>
                  <a:pt x="22436" y="9817"/>
                  <a:pt x="22523" y="9798"/>
                </a:cubicBezTo>
                <a:cubicBezTo>
                  <a:pt x="22558" y="9798"/>
                  <a:pt x="22575" y="9793"/>
                  <a:pt x="22597" y="9773"/>
                </a:cubicBezTo>
              </a:path>
              <a:path w="4267" h="745">
                <a:moveTo>
                  <a:pt x="22845" y="9550"/>
                </a:moveTo>
                <a:cubicBezTo>
                  <a:pt x="22900" y="9550"/>
                  <a:pt x="22939" y="9571"/>
                  <a:pt x="22994" y="9575"/>
                </a:cubicBezTo>
                <a:cubicBezTo>
                  <a:pt x="23025" y="9577"/>
                  <a:pt x="23123" y="9568"/>
                  <a:pt x="23143" y="9550"/>
                </a:cubicBezTo>
                <a:cubicBezTo>
                  <a:pt x="23151" y="9533"/>
                  <a:pt x="23160" y="9517"/>
                  <a:pt x="23168" y="9500"/>
                </a:cubicBezTo>
              </a:path>
              <a:path w="4267" h="745">
                <a:moveTo>
                  <a:pt x="23986" y="9376"/>
                </a:moveTo>
                <a:cubicBezTo>
                  <a:pt x="23958" y="9355"/>
                  <a:pt x="23873" y="9324"/>
                  <a:pt x="23837" y="9351"/>
                </a:cubicBezTo>
                <a:cubicBezTo>
                  <a:pt x="23788" y="9389"/>
                  <a:pt x="23765" y="9444"/>
                  <a:pt x="23738" y="9500"/>
                </a:cubicBezTo>
                <a:cubicBezTo>
                  <a:pt x="23705" y="9570"/>
                  <a:pt x="23676" y="9621"/>
                  <a:pt x="23664" y="9699"/>
                </a:cubicBezTo>
                <a:cubicBezTo>
                  <a:pt x="23658" y="9740"/>
                  <a:pt x="23687" y="9890"/>
                  <a:pt x="23713" y="9922"/>
                </a:cubicBezTo>
                <a:cubicBezTo>
                  <a:pt x="23755" y="9974"/>
                  <a:pt x="23879" y="9993"/>
                  <a:pt x="23937" y="10021"/>
                </a:cubicBezTo>
                <a:cubicBezTo>
                  <a:pt x="23998" y="10050"/>
                  <a:pt x="24101" y="10056"/>
                  <a:pt x="24160" y="10021"/>
                </a:cubicBezTo>
                <a:cubicBezTo>
                  <a:pt x="24235" y="9977"/>
                  <a:pt x="24276" y="9953"/>
                  <a:pt x="24358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9760" y="3687840"/>
            <a:ext cx="249120" cy="23328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1414" y="10790"/>
                </a:moveTo>
                <a:cubicBezTo>
                  <a:pt x="1414" y="10683"/>
                  <a:pt x="1414" y="10575"/>
                  <a:pt x="1414" y="10468"/>
                </a:cubicBezTo>
                <a:cubicBezTo>
                  <a:pt x="1481" y="10479"/>
                  <a:pt x="1538" y="10494"/>
                  <a:pt x="1588" y="10542"/>
                </a:cubicBezTo>
                <a:cubicBezTo>
                  <a:pt x="1657" y="10607"/>
                  <a:pt x="1684" y="10647"/>
                  <a:pt x="1736" y="10716"/>
                </a:cubicBezTo>
                <a:cubicBezTo>
                  <a:pt x="1784" y="10780"/>
                  <a:pt x="1832" y="10810"/>
                  <a:pt x="1885" y="10840"/>
                </a:cubicBezTo>
                <a:cubicBezTo>
                  <a:pt x="1945" y="10875"/>
                  <a:pt x="1970" y="10914"/>
                  <a:pt x="2034" y="10864"/>
                </a:cubicBezTo>
                <a:cubicBezTo>
                  <a:pt x="2084" y="10825"/>
                  <a:pt x="2084" y="10802"/>
                  <a:pt x="2084" y="10740"/>
                </a:cubicBezTo>
                <a:cubicBezTo>
                  <a:pt x="2084" y="10690"/>
                  <a:pt x="2087" y="10237"/>
                  <a:pt x="2108" y="10244"/>
                </a:cubicBezTo>
                <a:cubicBezTo>
                  <a:pt x="2108" y="10252"/>
                  <a:pt x="2108" y="10261"/>
                  <a:pt x="2108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9040" y="4062240"/>
            <a:ext cx="438120" cy="492120"/>
          </a:xfrm>
          <a:custGeom>
            <a:avLst/>
            <a:gdLst/>
            <a:ahLst/>
            <a:rect l="l" t="t" r="r" b="b"/>
            <a:pathLst>
              <a:path w="1217" h="1365">
                <a:moveTo>
                  <a:pt x="4440" y="11782"/>
                </a:moveTo>
                <a:lnTo>
                  <a:pt x="4440" y="11782"/>
                </a:lnTo>
              </a:path>
              <a:path w="1217" h="1365">
                <a:moveTo>
                  <a:pt x="4936" y="11683"/>
                </a:moveTo>
                <a:cubicBezTo>
                  <a:pt x="4979" y="11769"/>
                  <a:pt x="4866" y="11638"/>
                  <a:pt x="4862" y="11633"/>
                </a:cubicBezTo>
                <a:cubicBezTo>
                  <a:pt x="4828" y="11588"/>
                  <a:pt x="4797" y="11566"/>
                  <a:pt x="4738" y="11559"/>
                </a:cubicBezTo>
                <a:cubicBezTo>
                  <a:pt x="4667" y="11551"/>
                  <a:pt x="4602" y="11554"/>
                  <a:pt x="4539" y="11584"/>
                </a:cubicBezTo>
                <a:cubicBezTo>
                  <a:pt x="4454" y="11625"/>
                  <a:pt x="4474" y="11640"/>
                  <a:pt x="4440" y="11708"/>
                </a:cubicBezTo>
                <a:cubicBezTo>
                  <a:pt x="4417" y="11754"/>
                  <a:pt x="4415" y="11772"/>
                  <a:pt x="4415" y="11832"/>
                </a:cubicBezTo>
                <a:cubicBezTo>
                  <a:pt x="4415" y="11891"/>
                  <a:pt x="4414" y="11910"/>
                  <a:pt x="4440" y="11956"/>
                </a:cubicBezTo>
                <a:cubicBezTo>
                  <a:pt x="4483" y="12031"/>
                  <a:pt x="4552" y="12077"/>
                  <a:pt x="4614" y="12129"/>
                </a:cubicBezTo>
                <a:cubicBezTo>
                  <a:pt x="4665" y="12172"/>
                  <a:pt x="4745" y="12154"/>
                  <a:pt x="4812" y="12154"/>
                </a:cubicBezTo>
                <a:cubicBezTo>
                  <a:pt x="4909" y="12154"/>
                  <a:pt x="4993" y="12111"/>
                  <a:pt x="5085" y="12080"/>
                </a:cubicBezTo>
                <a:cubicBezTo>
                  <a:pt x="5150" y="12058"/>
                  <a:pt x="5165" y="12050"/>
                  <a:pt x="5209" y="12055"/>
                </a:cubicBezTo>
              </a:path>
              <a:path w="1217" h="1365">
                <a:moveTo>
                  <a:pt x="5159" y="11286"/>
                </a:moveTo>
                <a:cubicBezTo>
                  <a:pt x="5198" y="11317"/>
                  <a:pt x="5239" y="11329"/>
                  <a:pt x="5283" y="11361"/>
                </a:cubicBezTo>
                <a:cubicBezTo>
                  <a:pt x="5350" y="11411"/>
                  <a:pt x="5412" y="11443"/>
                  <a:pt x="5457" y="11509"/>
                </a:cubicBezTo>
                <a:cubicBezTo>
                  <a:pt x="5509" y="11585"/>
                  <a:pt x="5557" y="11654"/>
                  <a:pt x="5581" y="11733"/>
                </a:cubicBezTo>
                <a:cubicBezTo>
                  <a:pt x="5614" y="11841"/>
                  <a:pt x="5631" y="11916"/>
                  <a:pt x="5631" y="12030"/>
                </a:cubicBezTo>
                <a:cubicBezTo>
                  <a:pt x="5631" y="12097"/>
                  <a:pt x="5617" y="12150"/>
                  <a:pt x="5606" y="12204"/>
                </a:cubicBezTo>
                <a:cubicBezTo>
                  <a:pt x="5587" y="12300"/>
                  <a:pt x="5547" y="12323"/>
                  <a:pt x="5507" y="12402"/>
                </a:cubicBezTo>
                <a:cubicBezTo>
                  <a:pt x="5480" y="12457"/>
                  <a:pt x="5438" y="12544"/>
                  <a:pt x="5407" y="12576"/>
                </a:cubicBezTo>
                <a:cubicBezTo>
                  <a:pt x="5358" y="12601"/>
                  <a:pt x="5342" y="12609"/>
                  <a:pt x="5333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0200" y="4116240"/>
            <a:ext cx="4340160" cy="304920"/>
          </a:xfrm>
          <a:custGeom>
            <a:avLst/>
            <a:gdLst/>
            <a:ahLst/>
            <a:rect l="l" t="t" r="r" b="b"/>
            <a:pathLst>
              <a:path w="12056" h="844">
                <a:moveTo>
                  <a:pt x="7268" y="11658"/>
                </a:moveTo>
                <a:cubicBezTo>
                  <a:pt x="7233" y="11607"/>
                  <a:pt x="7213" y="11591"/>
                  <a:pt x="7144" y="11584"/>
                </a:cubicBezTo>
                <a:cubicBezTo>
                  <a:pt x="7099" y="11579"/>
                  <a:pt x="7034" y="11645"/>
                  <a:pt x="7020" y="11683"/>
                </a:cubicBezTo>
                <a:cubicBezTo>
                  <a:pt x="7001" y="11737"/>
                  <a:pt x="6952" y="11750"/>
                  <a:pt x="6945" y="11832"/>
                </a:cubicBezTo>
                <a:cubicBezTo>
                  <a:pt x="6938" y="11910"/>
                  <a:pt x="6942" y="11982"/>
                  <a:pt x="6970" y="12055"/>
                </a:cubicBezTo>
                <a:cubicBezTo>
                  <a:pt x="7002" y="12139"/>
                  <a:pt x="7078" y="12175"/>
                  <a:pt x="7144" y="12229"/>
                </a:cubicBezTo>
                <a:cubicBezTo>
                  <a:pt x="7198" y="12273"/>
                  <a:pt x="7250" y="12255"/>
                  <a:pt x="7317" y="12229"/>
                </a:cubicBezTo>
                <a:cubicBezTo>
                  <a:pt x="7394" y="12200"/>
                  <a:pt x="7463" y="12157"/>
                  <a:pt x="7541" y="12129"/>
                </a:cubicBezTo>
              </a:path>
              <a:path w="12056" h="844">
                <a:moveTo>
                  <a:pt x="7888" y="11857"/>
                </a:moveTo>
                <a:cubicBezTo>
                  <a:pt x="8004" y="11857"/>
                  <a:pt x="8128" y="11873"/>
                  <a:pt x="8235" y="11832"/>
                </a:cubicBezTo>
              </a:path>
              <a:path w="12056" h="844">
                <a:moveTo>
                  <a:pt x="8930" y="11708"/>
                </a:moveTo>
                <a:cubicBezTo>
                  <a:pt x="8930" y="11691"/>
                  <a:pt x="8930" y="11675"/>
                  <a:pt x="8930" y="11658"/>
                </a:cubicBezTo>
                <a:cubicBezTo>
                  <a:pt x="8854" y="11658"/>
                  <a:pt x="8772" y="11664"/>
                  <a:pt x="8706" y="11708"/>
                </a:cubicBezTo>
                <a:cubicBezTo>
                  <a:pt x="8637" y="11754"/>
                  <a:pt x="8650" y="11839"/>
                  <a:pt x="8607" y="11906"/>
                </a:cubicBezTo>
                <a:cubicBezTo>
                  <a:pt x="8589" y="11934"/>
                  <a:pt x="8554" y="12044"/>
                  <a:pt x="8582" y="12080"/>
                </a:cubicBezTo>
                <a:cubicBezTo>
                  <a:pt x="8631" y="12143"/>
                  <a:pt x="8682" y="12149"/>
                  <a:pt x="8756" y="12179"/>
                </a:cubicBezTo>
                <a:cubicBezTo>
                  <a:pt x="8829" y="12208"/>
                  <a:pt x="8878" y="12258"/>
                  <a:pt x="8954" y="12278"/>
                </a:cubicBezTo>
                <a:cubicBezTo>
                  <a:pt x="9002" y="12290"/>
                  <a:pt x="9037" y="12269"/>
                  <a:pt x="9079" y="12254"/>
                </a:cubicBezTo>
              </a:path>
              <a:path w="12056" h="844">
                <a:moveTo>
                  <a:pt x="9699" y="11832"/>
                </a:moveTo>
                <a:cubicBezTo>
                  <a:pt x="9820" y="11832"/>
                  <a:pt x="10000" y="11868"/>
                  <a:pt x="10071" y="11782"/>
                </a:cubicBezTo>
              </a:path>
              <a:path w="12056" h="844">
                <a:moveTo>
                  <a:pt x="10889" y="11584"/>
                </a:moveTo>
                <a:cubicBezTo>
                  <a:pt x="10813" y="11592"/>
                  <a:pt x="10777" y="11607"/>
                  <a:pt x="10716" y="11658"/>
                </a:cubicBezTo>
                <a:cubicBezTo>
                  <a:pt x="10675" y="11692"/>
                  <a:pt x="10605" y="11799"/>
                  <a:pt x="10592" y="11832"/>
                </a:cubicBezTo>
                <a:cubicBezTo>
                  <a:pt x="10571" y="11886"/>
                  <a:pt x="10599" y="11940"/>
                  <a:pt x="10616" y="11981"/>
                </a:cubicBezTo>
                <a:cubicBezTo>
                  <a:pt x="10650" y="12062"/>
                  <a:pt x="10697" y="12121"/>
                  <a:pt x="10790" y="12129"/>
                </a:cubicBezTo>
                <a:cubicBezTo>
                  <a:pt x="10920" y="12140"/>
                  <a:pt x="11091" y="12149"/>
                  <a:pt x="11212" y="12105"/>
                </a:cubicBezTo>
              </a:path>
              <a:path w="12056" h="844">
                <a:moveTo>
                  <a:pt x="11733" y="11857"/>
                </a:moveTo>
                <a:cubicBezTo>
                  <a:pt x="11837" y="11857"/>
                  <a:pt x="11940" y="11859"/>
                  <a:pt x="12030" y="11832"/>
                </a:cubicBezTo>
                <a:cubicBezTo>
                  <a:pt x="12058" y="11832"/>
                  <a:pt x="12069" y="11830"/>
                  <a:pt x="12080" y="11807"/>
                </a:cubicBezTo>
              </a:path>
              <a:path w="12056" h="844">
                <a:moveTo>
                  <a:pt x="12774" y="11633"/>
                </a:moveTo>
                <a:cubicBezTo>
                  <a:pt x="12715" y="11574"/>
                  <a:pt x="12718" y="11569"/>
                  <a:pt x="12650" y="11633"/>
                </a:cubicBezTo>
                <a:cubicBezTo>
                  <a:pt x="12615" y="11666"/>
                  <a:pt x="12539" y="11722"/>
                  <a:pt x="12526" y="11757"/>
                </a:cubicBezTo>
                <a:cubicBezTo>
                  <a:pt x="12496" y="11840"/>
                  <a:pt x="12477" y="11868"/>
                  <a:pt x="12477" y="11956"/>
                </a:cubicBezTo>
                <a:cubicBezTo>
                  <a:pt x="12477" y="12016"/>
                  <a:pt x="12544" y="12098"/>
                  <a:pt x="12601" y="12129"/>
                </a:cubicBezTo>
                <a:cubicBezTo>
                  <a:pt x="12674" y="12169"/>
                  <a:pt x="12820" y="12167"/>
                  <a:pt x="12898" y="12154"/>
                </a:cubicBezTo>
                <a:cubicBezTo>
                  <a:pt x="12993" y="12138"/>
                  <a:pt x="13082" y="12120"/>
                  <a:pt x="13171" y="12080"/>
                </a:cubicBezTo>
              </a:path>
              <a:path w="12056" h="844">
                <a:moveTo>
                  <a:pt x="13692" y="11832"/>
                </a:moveTo>
                <a:cubicBezTo>
                  <a:pt x="13692" y="11815"/>
                  <a:pt x="13692" y="11799"/>
                  <a:pt x="13692" y="11782"/>
                </a:cubicBezTo>
                <a:cubicBezTo>
                  <a:pt x="13797" y="11782"/>
                  <a:pt x="13774" y="11803"/>
                  <a:pt x="13841" y="11832"/>
                </a:cubicBezTo>
                <a:cubicBezTo>
                  <a:pt x="13866" y="11843"/>
                  <a:pt x="13977" y="11818"/>
                  <a:pt x="13990" y="11807"/>
                </a:cubicBezTo>
                <a:cubicBezTo>
                  <a:pt x="13990" y="11799"/>
                  <a:pt x="13990" y="11790"/>
                  <a:pt x="13990" y="11782"/>
                </a:cubicBezTo>
              </a:path>
              <a:path w="12056" h="844">
                <a:moveTo>
                  <a:pt x="14858" y="11534"/>
                </a:moveTo>
                <a:cubicBezTo>
                  <a:pt x="14814" y="11470"/>
                  <a:pt x="14813" y="11485"/>
                  <a:pt x="14734" y="11485"/>
                </a:cubicBezTo>
                <a:cubicBezTo>
                  <a:pt x="14684" y="11485"/>
                  <a:pt x="14640" y="11546"/>
                  <a:pt x="14610" y="11584"/>
                </a:cubicBezTo>
                <a:cubicBezTo>
                  <a:pt x="14577" y="11625"/>
                  <a:pt x="14548" y="11706"/>
                  <a:pt x="14536" y="11757"/>
                </a:cubicBezTo>
                <a:cubicBezTo>
                  <a:pt x="14522" y="11815"/>
                  <a:pt x="14643" y="11883"/>
                  <a:pt x="14684" y="11906"/>
                </a:cubicBezTo>
                <a:cubicBezTo>
                  <a:pt x="14775" y="11957"/>
                  <a:pt x="14899" y="11940"/>
                  <a:pt x="14982" y="11981"/>
                </a:cubicBezTo>
                <a:cubicBezTo>
                  <a:pt x="15077" y="12028"/>
                  <a:pt x="15090" y="12042"/>
                  <a:pt x="15205" y="12005"/>
                </a:cubicBezTo>
                <a:cubicBezTo>
                  <a:pt x="15230" y="11997"/>
                  <a:pt x="15255" y="11989"/>
                  <a:pt x="15280" y="11981"/>
                </a:cubicBezTo>
              </a:path>
              <a:path w="12056" h="844">
                <a:moveTo>
                  <a:pt x="15677" y="11807"/>
                </a:moveTo>
                <a:cubicBezTo>
                  <a:pt x="15719" y="11786"/>
                  <a:pt x="15794" y="11766"/>
                  <a:pt x="15850" y="11782"/>
                </a:cubicBezTo>
                <a:cubicBezTo>
                  <a:pt x="15926" y="11804"/>
                  <a:pt x="15916" y="11832"/>
                  <a:pt x="15999" y="11832"/>
                </a:cubicBezTo>
                <a:cubicBezTo>
                  <a:pt x="16007" y="11832"/>
                  <a:pt x="16016" y="11832"/>
                  <a:pt x="16024" y="11832"/>
                </a:cubicBezTo>
              </a:path>
              <a:path w="12056" h="844">
                <a:moveTo>
                  <a:pt x="16718" y="11559"/>
                </a:moveTo>
                <a:cubicBezTo>
                  <a:pt x="16661" y="11513"/>
                  <a:pt x="16652" y="11501"/>
                  <a:pt x="16594" y="11534"/>
                </a:cubicBezTo>
                <a:cubicBezTo>
                  <a:pt x="16564" y="11551"/>
                  <a:pt x="16480" y="11644"/>
                  <a:pt x="16470" y="11683"/>
                </a:cubicBezTo>
                <a:cubicBezTo>
                  <a:pt x="16447" y="11774"/>
                  <a:pt x="16465" y="11881"/>
                  <a:pt x="16520" y="11931"/>
                </a:cubicBezTo>
                <a:cubicBezTo>
                  <a:pt x="16595" y="11999"/>
                  <a:pt x="16645" y="12026"/>
                  <a:pt x="16743" y="12030"/>
                </a:cubicBezTo>
                <a:cubicBezTo>
                  <a:pt x="16815" y="12033"/>
                  <a:pt x="16910" y="12048"/>
                  <a:pt x="16966" y="12005"/>
                </a:cubicBezTo>
              </a:path>
              <a:path w="12056" h="844">
                <a:moveTo>
                  <a:pt x="17413" y="11733"/>
                </a:moveTo>
                <a:cubicBezTo>
                  <a:pt x="17485" y="11733"/>
                  <a:pt x="17521" y="11741"/>
                  <a:pt x="17587" y="11757"/>
                </a:cubicBezTo>
                <a:cubicBezTo>
                  <a:pt x="17662" y="11775"/>
                  <a:pt x="17713" y="11763"/>
                  <a:pt x="17785" y="11757"/>
                </a:cubicBezTo>
                <a:cubicBezTo>
                  <a:pt x="17852" y="11752"/>
                  <a:pt x="17970" y="11757"/>
                  <a:pt x="18033" y="11733"/>
                </a:cubicBezTo>
                <a:cubicBezTo>
                  <a:pt x="18041" y="11725"/>
                  <a:pt x="18050" y="11716"/>
                  <a:pt x="18058" y="11708"/>
                </a:cubicBezTo>
              </a:path>
              <a:path w="12056" h="844">
                <a:moveTo>
                  <a:pt x="18554" y="11460"/>
                </a:moveTo>
                <a:cubicBezTo>
                  <a:pt x="18535" y="11456"/>
                  <a:pt x="18450" y="11413"/>
                  <a:pt x="18430" y="11435"/>
                </a:cubicBezTo>
                <a:cubicBezTo>
                  <a:pt x="18387" y="11483"/>
                  <a:pt x="18350" y="11527"/>
                  <a:pt x="18306" y="11584"/>
                </a:cubicBezTo>
                <a:cubicBezTo>
                  <a:pt x="18262" y="11641"/>
                  <a:pt x="18240" y="11716"/>
                  <a:pt x="18207" y="11782"/>
                </a:cubicBezTo>
                <a:cubicBezTo>
                  <a:pt x="18160" y="11876"/>
                  <a:pt x="18168" y="11917"/>
                  <a:pt x="18256" y="11981"/>
                </a:cubicBezTo>
                <a:cubicBezTo>
                  <a:pt x="18364" y="12060"/>
                  <a:pt x="18523" y="12094"/>
                  <a:pt x="18653" y="12105"/>
                </a:cubicBezTo>
                <a:cubicBezTo>
                  <a:pt x="18698" y="12109"/>
                  <a:pt x="18970" y="12127"/>
                  <a:pt x="19000" y="12080"/>
                </a:cubicBezTo>
                <a:cubicBezTo>
                  <a:pt x="19000" y="12063"/>
                  <a:pt x="19000" y="12047"/>
                  <a:pt x="19000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4680" y="4054320"/>
            <a:ext cx="196560" cy="347760"/>
          </a:xfrm>
          <a:custGeom>
            <a:avLst/>
            <a:gdLst/>
            <a:ahLst/>
            <a:rect l="l" t="t" r="r" b="b"/>
            <a:pathLst>
              <a:path w="547" h="969">
                <a:moveTo>
                  <a:pt x="1860" y="11410"/>
                </a:moveTo>
                <a:cubicBezTo>
                  <a:pt x="1832" y="11375"/>
                  <a:pt x="1764" y="11276"/>
                  <a:pt x="1712" y="11261"/>
                </a:cubicBezTo>
                <a:cubicBezTo>
                  <a:pt x="1650" y="11243"/>
                  <a:pt x="1588" y="11255"/>
                  <a:pt x="1563" y="11311"/>
                </a:cubicBezTo>
                <a:cubicBezTo>
                  <a:pt x="1535" y="11373"/>
                  <a:pt x="1521" y="11491"/>
                  <a:pt x="1513" y="11559"/>
                </a:cubicBezTo>
                <a:cubicBezTo>
                  <a:pt x="1500" y="11677"/>
                  <a:pt x="1473" y="11949"/>
                  <a:pt x="1538" y="12055"/>
                </a:cubicBezTo>
                <a:cubicBezTo>
                  <a:pt x="1580" y="12122"/>
                  <a:pt x="1623" y="12118"/>
                  <a:pt x="1662" y="12154"/>
                </a:cubicBezTo>
                <a:cubicBezTo>
                  <a:pt x="1703" y="12192"/>
                  <a:pt x="1723" y="12224"/>
                  <a:pt x="1786" y="12229"/>
                </a:cubicBezTo>
                <a:cubicBezTo>
                  <a:pt x="1829" y="12232"/>
                  <a:pt x="1938" y="12174"/>
                  <a:pt x="1960" y="12154"/>
                </a:cubicBezTo>
                <a:cubicBezTo>
                  <a:pt x="2001" y="12117"/>
                  <a:pt x="2045" y="12037"/>
                  <a:pt x="2059" y="11981"/>
                </a:cubicBezTo>
                <a:cubicBezTo>
                  <a:pt x="2059" y="11973"/>
                  <a:pt x="2059" y="11964"/>
                  <a:pt x="2059" y="11956"/>
                </a:cubicBezTo>
                <a:cubicBezTo>
                  <a:pt x="2010" y="11956"/>
                  <a:pt x="1923" y="11921"/>
                  <a:pt x="1885" y="11931"/>
                </a:cubicBezTo>
                <a:cubicBezTo>
                  <a:pt x="1830" y="11946"/>
                  <a:pt x="1803" y="12009"/>
                  <a:pt x="1736" y="11981"/>
                </a:cubicBezTo>
                <a:cubicBezTo>
                  <a:pt x="1658" y="11948"/>
                  <a:pt x="1714" y="11959"/>
                  <a:pt x="1761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57240" y="5081760"/>
            <a:ext cx="652680" cy="320400"/>
          </a:xfrm>
          <a:custGeom>
            <a:avLst/>
            <a:gdLst/>
            <a:ahLst/>
            <a:rect l="l" t="t" r="r" b="b"/>
            <a:pathLst>
              <a:path w="1812" h="894">
                <a:moveTo>
                  <a:pt x="5159" y="14536"/>
                </a:moveTo>
                <a:cubicBezTo>
                  <a:pt x="5221" y="14548"/>
                  <a:pt x="5267" y="14560"/>
                  <a:pt x="5333" y="14560"/>
                </a:cubicBezTo>
                <a:cubicBezTo>
                  <a:pt x="5614" y="14560"/>
                  <a:pt x="5932" y="14522"/>
                  <a:pt x="6201" y="14585"/>
                </a:cubicBezTo>
                <a:cubicBezTo>
                  <a:pt x="6292" y="14606"/>
                  <a:pt x="6390" y="14581"/>
                  <a:pt x="6474" y="14560"/>
                </a:cubicBezTo>
                <a:cubicBezTo>
                  <a:pt x="6500" y="14554"/>
                  <a:pt x="6549" y="14560"/>
                  <a:pt x="6573" y="14560"/>
                </a:cubicBezTo>
                <a:cubicBezTo>
                  <a:pt x="6548" y="14536"/>
                  <a:pt x="6540" y="14528"/>
                  <a:pt x="6524" y="14511"/>
                </a:cubicBezTo>
              </a:path>
              <a:path w="1812" h="894">
                <a:moveTo>
                  <a:pt x="6350" y="14114"/>
                </a:moveTo>
                <a:cubicBezTo>
                  <a:pt x="6354" y="14120"/>
                  <a:pt x="6422" y="14180"/>
                  <a:pt x="6449" y="14188"/>
                </a:cubicBezTo>
                <a:cubicBezTo>
                  <a:pt x="6509" y="14205"/>
                  <a:pt x="6565" y="14223"/>
                  <a:pt x="6623" y="14263"/>
                </a:cubicBezTo>
                <a:cubicBezTo>
                  <a:pt x="6661" y="14290"/>
                  <a:pt x="6706" y="14342"/>
                  <a:pt x="6747" y="14362"/>
                </a:cubicBezTo>
                <a:cubicBezTo>
                  <a:pt x="6821" y="14397"/>
                  <a:pt x="6883" y="14430"/>
                  <a:pt x="6945" y="14486"/>
                </a:cubicBezTo>
                <a:cubicBezTo>
                  <a:pt x="7002" y="14538"/>
                  <a:pt x="6903" y="14575"/>
                  <a:pt x="6871" y="14610"/>
                </a:cubicBezTo>
                <a:cubicBezTo>
                  <a:pt x="6824" y="14662"/>
                  <a:pt x="6761" y="14711"/>
                  <a:pt x="6722" y="14759"/>
                </a:cubicBezTo>
                <a:cubicBezTo>
                  <a:pt x="6684" y="14806"/>
                  <a:pt x="6648" y="14833"/>
                  <a:pt x="6598" y="14858"/>
                </a:cubicBezTo>
                <a:cubicBezTo>
                  <a:pt x="6535" y="14890"/>
                  <a:pt x="6531" y="14945"/>
                  <a:pt x="6474" y="14982"/>
                </a:cubicBezTo>
                <a:cubicBezTo>
                  <a:pt x="6430" y="15004"/>
                  <a:pt x="6409" y="15017"/>
                  <a:pt x="6449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76680" y="509904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8111" y="14263"/>
                </a:moveTo>
                <a:cubicBezTo>
                  <a:pt x="8096" y="14190"/>
                  <a:pt x="8080" y="14189"/>
                  <a:pt x="8012" y="14163"/>
                </a:cubicBezTo>
                <a:cubicBezTo>
                  <a:pt x="7965" y="14145"/>
                  <a:pt x="7891" y="14177"/>
                  <a:pt x="7863" y="14213"/>
                </a:cubicBezTo>
                <a:cubicBezTo>
                  <a:pt x="7833" y="14251"/>
                  <a:pt x="7749" y="14313"/>
                  <a:pt x="7739" y="14362"/>
                </a:cubicBezTo>
                <a:cubicBezTo>
                  <a:pt x="7722" y="14445"/>
                  <a:pt x="7714" y="14523"/>
                  <a:pt x="7714" y="14610"/>
                </a:cubicBezTo>
                <a:cubicBezTo>
                  <a:pt x="7714" y="14711"/>
                  <a:pt x="7697" y="14802"/>
                  <a:pt x="7764" y="14883"/>
                </a:cubicBezTo>
                <a:cubicBezTo>
                  <a:pt x="7834" y="14968"/>
                  <a:pt x="7962" y="14977"/>
                  <a:pt x="8062" y="14982"/>
                </a:cubicBezTo>
                <a:cubicBezTo>
                  <a:pt x="8183" y="14988"/>
                  <a:pt x="8395" y="14974"/>
                  <a:pt x="8508" y="14932"/>
                </a:cubicBezTo>
                <a:cubicBezTo>
                  <a:pt x="8516" y="14924"/>
                  <a:pt x="8525" y="14916"/>
                  <a:pt x="8533" y="14908"/>
                </a:cubicBezTo>
              </a:path>
              <a:path w="4913" h="820">
                <a:moveTo>
                  <a:pt x="8781" y="14461"/>
                </a:moveTo>
                <a:cubicBezTo>
                  <a:pt x="8996" y="14461"/>
                  <a:pt x="9211" y="14461"/>
                  <a:pt x="9426" y="14461"/>
                </a:cubicBezTo>
              </a:path>
              <a:path w="4913" h="820">
                <a:moveTo>
                  <a:pt x="8979" y="14808"/>
                </a:moveTo>
                <a:cubicBezTo>
                  <a:pt x="9043" y="14782"/>
                  <a:pt x="9081" y="14784"/>
                  <a:pt x="9153" y="14784"/>
                </a:cubicBezTo>
                <a:cubicBezTo>
                  <a:pt x="9251" y="14784"/>
                  <a:pt x="9334" y="14793"/>
                  <a:pt x="9426" y="14808"/>
                </a:cubicBezTo>
                <a:cubicBezTo>
                  <a:pt x="9467" y="14808"/>
                  <a:pt x="9475" y="14808"/>
                  <a:pt x="9500" y="14808"/>
                </a:cubicBezTo>
              </a:path>
              <a:path w="4913" h="820">
                <a:moveTo>
                  <a:pt x="10319" y="14387"/>
                </a:moveTo>
                <a:cubicBezTo>
                  <a:pt x="10299" y="14326"/>
                  <a:pt x="10301" y="14311"/>
                  <a:pt x="10269" y="14288"/>
                </a:cubicBezTo>
                <a:cubicBezTo>
                  <a:pt x="10211" y="14311"/>
                  <a:pt x="10155" y="14372"/>
                  <a:pt x="10120" y="14412"/>
                </a:cubicBezTo>
                <a:cubicBezTo>
                  <a:pt x="10055" y="14487"/>
                  <a:pt x="10046" y="14484"/>
                  <a:pt x="10046" y="14585"/>
                </a:cubicBezTo>
                <a:cubicBezTo>
                  <a:pt x="10046" y="14669"/>
                  <a:pt x="10042" y="14738"/>
                  <a:pt x="10096" y="14808"/>
                </a:cubicBezTo>
                <a:cubicBezTo>
                  <a:pt x="10162" y="14894"/>
                  <a:pt x="10225" y="14916"/>
                  <a:pt x="10319" y="14957"/>
                </a:cubicBezTo>
                <a:cubicBezTo>
                  <a:pt x="10387" y="14987"/>
                  <a:pt x="10442" y="14982"/>
                  <a:pt x="10517" y="14982"/>
                </a:cubicBezTo>
                <a:cubicBezTo>
                  <a:pt x="10577" y="14982"/>
                  <a:pt x="10596" y="14968"/>
                  <a:pt x="10641" y="14932"/>
                </a:cubicBezTo>
              </a:path>
              <a:path w="4913" h="820">
                <a:moveTo>
                  <a:pt x="11038" y="14610"/>
                </a:moveTo>
                <a:cubicBezTo>
                  <a:pt x="11111" y="14610"/>
                  <a:pt x="11166" y="14595"/>
                  <a:pt x="11237" y="14585"/>
                </a:cubicBezTo>
                <a:cubicBezTo>
                  <a:pt x="11308" y="14575"/>
                  <a:pt x="11388" y="14585"/>
                  <a:pt x="11460" y="14585"/>
                </a:cubicBezTo>
              </a:path>
              <a:path w="4913" h="820">
                <a:moveTo>
                  <a:pt x="12254" y="14312"/>
                </a:moveTo>
                <a:cubicBezTo>
                  <a:pt x="12197" y="14312"/>
                  <a:pt x="12155" y="14304"/>
                  <a:pt x="12105" y="14337"/>
                </a:cubicBezTo>
                <a:cubicBezTo>
                  <a:pt x="12064" y="14365"/>
                  <a:pt x="12027" y="14443"/>
                  <a:pt x="12005" y="14486"/>
                </a:cubicBezTo>
                <a:cubicBezTo>
                  <a:pt x="11978" y="14539"/>
                  <a:pt x="11945" y="14626"/>
                  <a:pt x="11931" y="14684"/>
                </a:cubicBezTo>
                <a:cubicBezTo>
                  <a:pt x="11910" y="14773"/>
                  <a:pt x="11990" y="14859"/>
                  <a:pt x="12055" y="14883"/>
                </a:cubicBezTo>
                <a:cubicBezTo>
                  <a:pt x="12124" y="14908"/>
                  <a:pt x="12227" y="14908"/>
                  <a:pt x="12303" y="14908"/>
                </a:cubicBezTo>
                <a:cubicBezTo>
                  <a:pt x="12411" y="14908"/>
                  <a:pt x="12518" y="14908"/>
                  <a:pt x="12626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41960" y="5126040"/>
            <a:ext cx="339840" cy="2318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14808" y="14263"/>
                </a:moveTo>
                <a:cubicBezTo>
                  <a:pt x="14800" y="14255"/>
                  <a:pt x="14792" y="14246"/>
                  <a:pt x="14784" y="14238"/>
                </a:cubicBezTo>
                <a:cubicBezTo>
                  <a:pt x="14791" y="14291"/>
                  <a:pt x="14821" y="14329"/>
                  <a:pt x="14808" y="14387"/>
                </a:cubicBezTo>
                <a:cubicBezTo>
                  <a:pt x="14787" y="14482"/>
                  <a:pt x="14784" y="14562"/>
                  <a:pt x="14784" y="14660"/>
                </a:cubicBezTo>
                <a:cubicBezTo>
                  <a:pt x="14784" y="14692"/>
                  <a:pt x="14789" y="14928"/>
                  <a:pt x="14759" y="14858"/>
                </a:cubicBezTo>
                <a:cubicBezTo>
                  <a:pt x="14759" y="14850"/>
                  <a:pt x="14759" y="14841"/>
                  <a:pt x="14759" y="14833"/>
                </a:cubicBezTo>
              </a:path>
              <a:path w="944" h="646">
                <a:moveTo>
                  <a:pt x="14560" y="14610"/>
                </a:moveTo>
                <a:cubicBezTo>
                  <a:pt x="14610" y="14580"/>
                  <a:pt x="14647" y="14585"/>
                  <a:pt x="14709" y="14585"/>
                </a:cubicBezTo>
                <a:cubicBezTo>
                  <a:pt x="14814" y="14585"/>
                  <a:pt x="15438" y="14660"/>
                  <a:pt x="15503" y="14560"/>
                </a:cubicBezTo>
                <a:cubicBezTo>
                  <a:pt x="15468" y="14560"/>
                  <a:pt x="15455" y="14551"/>
                  <a:pt x="1545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9120" y="5081760"/>
            <a:ext cx="2946600" cy="704520"/>
          </a:xfrm>
          <a:custGeom>
            <a:avLst/>
            <a:gdLst/>
            <a:ahLst/>
            <a:rect l="l" t="t" r="r" b="b"/>
            <a:pathLst>
              <a:path w="8186" h="1960">
                <a:moveTo>
                  <a:pt x="17512" y="14213"/>
                </a:moveTo>
                <a:cubicBezTo>
                  <a:pt x="17477" y="14160"/>
                  <a:pt x="17433" y="14135"/>
                  <a:pt x="17363" y="14114"/>
                </a:cubicBezTo>
                <a:cubicBezTo>
                  <a:pt x="17309" y="14097"/>
                  <a:pt x="17232" y="14130"/>
                  <a:pt x="17190" y="14163"/>
                </a:cubicBezTo>
                <a:cubicBezTo>
                  <a:pt x="17128" y="14211"/>
                  <a:pt x="17046" y="14289"/>
                  <a:pt x="17016" y="14362"/>
                </a:cubicBezTo>
                <a:cubicBezTo>
                  <a:pt x="16984" y="14441"/>
                  <a:pt x="16960" y="14530"/>
                  <a:pt x="16942" y="14610"/>
                </a:cubicBezTo>
                <a:cubicBezTo>
                  <a:pt x="16924" y="14691"/>
                  <a:pt x="16974" y="14707"/>
                  <a:pt x="17041" y="14734"/>
                </a:cubicBezTo>
                <a:cubicBezTo>
                  <a:pt x="17153" y="14778"/>
                  <a:pt x="17274" y="14765"/>
                  <a:pt x="17388" y="14734"/>
                </a:cubicBezTo>
                <a:cubicBezTo>
                  <a:pt x="17441" y="14720"/>
                  <a:pt x="17486" y="14694"/>
                  <a:pt x="17537" y="14684"/>
                </a:cubicBezTo>
              </a:path>
              <a:path w="8186" h="1960">
                <a:moveTo>
                  <a:pt x="18058" y="14362"/>
                </a:moveTo>
                <a:cubicBezTo>
                  <a:pt x="18136" y="14362"/>
                  <a:pt x="18204" y="14344"/>
                  <a:pt x="18281" y="14337"/>
                </a:cubicBezTo>
                <a:cubicBezTo>
                  <a:pt x="18397" y="14327"/>
                  <a:pt x="18511" y="14312"/>
                  <a:pt x="18628" y="14312"/>
                </a:cubicBezTo>
                <a:cubicBezTo>
                  <a:pt x="18653" y="14312"/>
                  <a:pt x="18661" y="14312"/>
                  <a:pt x="18678" y="14312"/>
                </a:cubicBezTo>
              </a:path>
              <a:path w="8186" h="1960">
                <a:moveTo>
                  <a:pt x="18083" y="14585"/>
                </a:moveTo>
                <a:cubicBezTo>
                  <a:pt x="18129" y="14621"/>
                  <a:pt x="18170" y="14610"/>
                  <a:pt x="18231" y="14610"/>
                </a:cubicBezTo>
                <a:cubicBezTo>
                  <a:pt x="18313" y="14610"/>
                  <a:pt x="18376" y="14594"/>
                  <a:pt x="18455" y="14585"/>
                </a:cubicBezTo>
                <a:cubicBezTo>
                  <a:pt x="18527" y="14577"/>
                  <a:pt x="18605" y="14585"/>
                  <a:pt x="18678" y="14585"/>
                </a:cubicBezTo>
              </a:path>
              <a:path w="8186" h="1960">
                <a:moveTo>
                  <a:pt x="19447" y="14238"/>
                </a:moveTo>
                <a:cubicBezTo>
                  <a:pt x="19408" y="14183"/>
                  <a:pt x="19356" y="14125"/>
                  <a:pt x="19273" y="14163"/>
                </a:cubicBezTo>
                <a:cubicBezTo>
                  <a:pt x="19224" y="14186"/>
                  <a:pt x="19111" y="14246"/>
                  <a:pt x="19075" y="14288"/>
                </a:cubicBezTo>
                <a:cubicBezTo>
                  <a:pt x="19032" y="14338"/>
                  <a:pt x="19025" y="14373"/>
                  <a:pt x="19025" y="14436"/>
                </a:cubicBezTo>
                <a:cubicBezTo>
                  <a:pt x="19025" y="14548"/>
                  <a:pt x="19085" y="14520"/>
                  <a:pt x="19149" y="14560"/>
                </a:cubicBezTo>
                <a:cubicBezTo>
                  <a:pt x="19238" y="14615"/>
                  <a:pt x="19303" y="14621"/>
                  <a:pt x="19397" y="14660"/>
                </a:cubicBezTo>
                <a:cubicBezTo>
                  <a:pt x="19460" y="14686"/>
                  <a:pt x="19493" y="14698"/>
                  <a:pt x="19546" y="14660"/>
                </a:cubicBezTo>
              </a:path>
              <a:path w="8186" h="1960">
                <a:moveTo>
                  <a:pt x="19844" y="14387"/>
                </a:moveTo>
                <a:cubicBezTo>
                  <a:pt x="19927" y="14387"/>
                  <a:pt x="19986" y="14378"/>
                  <a:pt x="20067" y="14362"/>
                </a:cubicBezTo>
                <a:cubicBezTo>
                  <a:pt x="20159" y="14343"/>
                  <a:pt x="20183" y="14374"/>
                  <a:pt x="20265" y="14312"/>
                </a:cubicBezTo>
              </a:path>
              <a:path w="8186" h="1960">
                <a:moveTo>
                  <a:pt x="20811" y="14213"/>
                </a:moveTo>
                <a:cubicBezTo>
                  <a:pt x="20730" y="14213"/>
                  <a:pt x="20689" y="14224"/>
                  <a:pt x="20638" y="14288"/>
                </a:cubicBezTo>
                <a:cubicBezTo>
                  <a:pt x="20595" y="14342"/>
                  <a:pt x="20583" y="14405"/>
                  <a:pt x="20563" y="14461"/>
                </a:cubicBezTo>
                <a:cubicBezTo>
                  <a:pt x="20541" y="14524"/>
                  <a:pt x="20538" y="14542"/>
                  <a:pt x="20538" y="14610"/>
                </a:cubicBezTo>
                <a:cubicBezTo>
                  <a:pt x="20538" y="14697"/>
                  <a:pt x="20614" y="14705"/>
                  <a:pt x="20687" y="14709"/>
                </a:cubicBezTo>
                <a:cubicBezTo>
                  <a:pt x="20751" y="14712"/>
                  <a:pt x="20886" y="14733"/>
                  <a:pt x="20935" y="14684"/>
                </a:cubicBezTo>
                <a:cubicBezTo>
                  <a:pt x="20943" y="14668"/>
                  <a:pt x="20952" y="14651"/>
                  <a:pt x="20960" y="14635"/>
                </a:cubicBezTo>
              </a:path>
              <a:path w="8186" h="1960">
                <a:moveTo>
                  <a:pt x="21208" y="14486"/>
                </a:moveTo>
                <a:cubicBezTo>
                  <a:pt x="21297" y="14486"/>
                  <a:pt x="21374" y="14492"/>
                  <a:pt x="21456" y="14461"/>
                </a:cubicBezTo>
              </a:path>
              <a:path w="8186" h="1960">
                <a:moveTo>
                  <a:pt x="22200" y="14238"/>
                </a:moveTo>
                <a:cubicBezTo>
                  <a:pt x="22200" y="14196"/>
                  <a:pt x="22200" y="14188"/>
                  <a:pt x="22200" y="14163"/>
                </a:cubicBezTo>
                <a:cubicBezTo>
                  <a:pt x="22133" y="14163"/>
                  <a:pt x="22080" y="14153"/>
                  <a:pt x="22027" y="14188"/>
                </a:cubicBezTo>
                <a:cubicBezTo>
                  <a:pt x="21950" y="14238"/>
                  <a:pt x="21938" y="14286"/>
                  <a:pt x="21878" y="14337"/>
                </a:cubicBezTo>
                <a:cubicBezTo>
                  <a:pt x="21823" y="14384"/>
                  <a:pt x="21811" y="14396"/>
                  <a:pt x="21803" y="14486"/>
                </a:cubicBezTo>
                <a:cubicBezTo>
                  <a:pt x="21796" y="14558"/>
                  <a:pt x="21868" y="14585"/>
                  <a:pt x="21903" y="14635"/>
                </a:cubicBezTo>
                <a:cubicBezTo>
                  <a:pt x="21941" y="14689"/>
                  <a:pt x="21977" y="14730"/>
                  <a:pt x="22051" y="14734"/>
                </a:cubicBezTo>
                <a:cubicBezTo>
                  <a:pt x="22138" y="14738"/>
                  <a:pt x="22195" y="14692"/>
                  <a:pt x="22275" y="14660"/>
                </a:cubicBezTo>
              </a:path>
              <a:path w="8186" h="1960">
                <a:moveTo>
                  <a:pt x="22969" y="14238"/>
                </a:moveTo>
                <a:cubicBezTo>
                  <a:pt x="22981" y="14300"/>
                  <a:pt x="22994" y="14345"/>
                  <a:pt x="22994" y="14412"/>
                </a:cubicBezTo>
                <a:cubicBezTo>
                  <a:pt x="22994" y="14536"/>
                  <a:pt x="22994" y="14660"/>
                  <a:pt x="22994" y="14784"/>
                </a:cubicBezTo>
              </a:path>
              <a:path w="8186" h="1960">
                <a:moveTo>
                  <a:pt x="22796" y="14436"/>
                </a:moveTo>
                <a:cubicBezTo>
                  <a:pt x="22886" y="14436"/>
                  <a:pt x="22960" y="14447"/>
                  <a:pt x="23044" y="14461"/>
                </a:cubicBezTo>
                <a:cubicBezTo>
                  <a:pt x="23117" y="14473"/>
                  <a:pt x="23172" y="14495"/>
                  <a:pt x="23242" y="14511"/>
                </a:cubicBezTo>
                <a:cubicBezTo>
                  <a:pt x="23293" y="14522"/>
                  <a:pt x="23348" y="14513"/>
                  <a:pt x="23366" y="14486"/>
                </a:cubicBezTo>
              </a:path>
              <a:path w="8186" h="1960">
                <a:moveTo>
                  <a:pt x="23912" y="14213"/>
                </a:moveTo>
                <a:cubicBezTo>
                  <a:pt x="23895" y="14205"/>
                  <a:pt x="23879" y="14196"/>
                  <a:pt x="23862" y="14188"/>
                </a:cubicBezTo>
                <a:cubicBezTo>
                  <a:pt x="23862" y="14402"/>
                  <a:pt x="23876" y="14636"/>
                  <a:pt x="23837" y="14833"/>
                </a:cubicBezTo>
                <a:cubicBezTo>
                  <a:pt x="23827" y="14882"/>
                  <a:pt x="23795" y="14919"/>
                  <a:pt x="23837" y="14932"/>
                </a:cubicBezTo>
              </a:path>
              <a:path w="8186" h="1960">
                <a:moveTo>
                  <a:pt x="24284" y="14263"/>
                </a:moveTo>
                <a:cubicBezTo>
                  <a:pt x="24265" y="14294"/>
                  <a:pt x="24241" y="14353"/>
                  <a:pt x="24234" y="14387"/>
                </a:cubicBezTo>
                <a:cubicBezTo>
                  <a:pt x="24214" y="14480"/>
                  <a:pt x="24223" y="14593"/>
                  <a:pt x="24209" y="14684"/>
                </a:cubicBezTo>
                <a:cubicBezTo>
                  <a:pt x="24194" y="14778"/>
                  <a:pt x="24210" y="14878"/>
                  <a:pt x="24234" y="14957"/>
                </a:cubicBezTo>
                <a:cubicBezTo>
                  <a:pt x="24234" y="14965"/>
                  <a:pt x="24234" y="14974"/>
                  <a:pt x="24234" y="14982"/>
                </a:cubicBezTo>
              </a:path>
              <a:path w="8186" h="1960">
                <a:moveTo>
                  <a:pt x="23837" y="14610"/>
                </a:moveTo>
                <a:cubicBezTo>
                  <a:pt x="23928" y="14610"/>
                  <a:pt x="24019" y="14610"/>
                  <a:pt x="24110" y="14610"/>
                </a:cubicBezTo>
              </a:path>
              <a:path w="8186" h="1960">
                <a:moveTo>
                  <a:pt x="24408" y="14684"/>
                </a:moveTo>
                <a:cubicBezTo>
                  <a:pt x="24452" y="14652"/>
                  <a:pt x="24475" y="14660"/>
                  <a:pt x="24532" y="14660"/>
                </a:cubicBezTo>
                <a:cubicBezTo>
                  <a:pt x="24565" y="14660"/>
                  <a:pt x="24598" y="14660"/>
                  <a:pt x="24631" y="14660"/>
                </a:cubicBezTo>
              </a:path>
              <a:path w="8186" h="1960">
                <a:moveTo>
                  <a:pt x="24879" y="14163"/>
                </a:moveTo>
                <a:cubicBezTo>
                  <a:pt x="24854" y="14221"/>
                  <a:pt x="24854" y="14248"/>
                  <a:pt x="24854" y="14312"/>
                </a:cubicBezTo>
                <a:cubicBezTo>
                  <a:pt x="24854" y="14392"/>
                  <a:pt x="24861" y="14462"/>
                  <a:pt x="24829" y="14536"/>
                </a:cubicBezTo>
                <a:cubicBezTo>
                  <a:pt x="24797" y="14610"/>
                  <a:pt x="24805" y="14678"/>
                  <a:pt x="24805" y="14759"/>
                </a:cubicBezTo>
                <a:cubicBezTo>
                  <a:pt x="24805" y="14828"/>
                  <a:pt x="24812" y="14874"/>
                  <a:pt x="24829" y="14932"/>
                </a:cubicBezTo>
                <a:cubicBezTo>
                  <a:pt x="24829" y="14940"/>
                  <a:pt x="24829" y="14949"/>
                  <a:pt x="24829" y="14957"/>
                </a:cubicBezTo>
              </a:path>
              <a:path w="8186" h="1960">
                <a:moveTo>
                  <a:pt x="25127" y="14263"/>
                </a:moveTo>
                <a:cubicBezTo>
                  <a:pt x="25127" y="14338"/>
                  <a:pt x="25117" y="14388"/>
                  <a:pt x="25102" y="14461"/>
                </a:cubicBezTo>
                <a:cubicBezTo>
                  <a:pt x="25066" y="14639"/>
                  <a:pt x="25168" y="15140"/>
                  <a:pt x="25078" y="14982"/>
                </a:cubicBezTo>
                <a:cubicBezTo>
                  <a:pt x="25070" y="14957"/>
                  <a:pt x="25061" y="14933"/>
                  <a:pt x="25053" y="14908"/>
                </a:cubicBezTo>
              </a:path>
              <a:path w="8186" h="1960">
                <a:moveTo>
                  <a:pt x="24879" y="14660"/>
                </a:moveTo>
                <a:cubicBezTo>
                  <a:pt x="24962" y="14660"/>
                  <a:pt x="25044" y="14660"/>
                  <a:pt x="25127" y="14660"/>
                </a:cubicBezTo>
              </a:path>
              <a:path w="8186" h="1960">
                <a:moveTo>
                  <a:pt x="19372" y="14908"/>
                </a:moveTo>
                <a:cubicBezTo>
                  <a:pt x="19372" y="14964"/>
                  <a:pt x="19353" y="15004"/>
                  <a:pt x="19348" y="15056"/>
                </a:cubicBezTo>
                <a:cubicBezTo>
                  <a:pt x="19345" y="15090"/>
                  <a:pt x="19377" y="15371"/>
                  <a:pt x="19298" y="15280"/>
                </a:cubicBezTo>
                <a:cubicBezTo>
                  <a:pt x="19298" y="15272"/>
                  <a:pt x="19298" y="15263"/>
                  <a:pt x="19298" y="15255"/>
                </a:cubicBezTo>
              </a:path>
              <a:path w="8186" h="1960">
                <a:moveTo>
                  <a:pt x="19720" y="15602"/>
                </a:moveTo>
                <a:cubicBezTo>
                  <a:pt x="19695" y="15565"/>
                  <a:pt x="19646" y="15516"/>
                  <a:pt x="19596" y="15503"/>
                </a:cubicBezTo>
                <a:cubicBezTo>
                  <a:pt x="19531" y="15486"/>
                  <a:pt x="19500" y="15525"/>
                  <a:pt x="19447" y="15553"/>
                </a:cubicBezTo>
                <a:cubicBezTo>
                  <a:pt x="19395" y="15580"/>
                  <a:pt x="19308" y="15628"/>
                  <a:pt x="19273" y="15677"/>
                </a:cubicBezTo>
                <a:cubicBezTo>
                  <a:pt x="19247" y="15712"/>
                  <a:pt x="19228" y="15784"/>
                  <a:pt x="19224" y="15825"/>
                </a:cubicBezTo>
                <a:cubicBezTo>
                  <a:pt x="19218" y="15886"/>
                  <a:pt x="19255" y="15925"/>
                  <a:pt x="19273" y="15974"/>
                </a:cubicBezTo>
                <a:cubicBezTo>
                  <a:pt x="19304" y="16059"/>
                  <a:pt x="19390" y="16069"/>
                  <a:pt x="19472" y="16073"/>
                </a:cubicBezTo>
                <a:cubicBezTo>
                  <a:pt x="19547" y="16076"/>
                  <a:pt x="19617" y="16049"/>
                  <a:pt x="19695" y="16049"/>
                </a:cubicBezTo>
                <a:cubicBezTo>
                  <a:pt x="19743" y="16049"/>
                  <a:pt x="19808" y="16047"/>
                  <a:pt x="19720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4200" y="5456160"/>
            <a:ext cx="42876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091" y="15751"/>
                </a:moveTo>
                <a:cubicBezTo>
                  <a:pt x="1033" y="15710"/>
                  <a:pt x="1014" y="15672"/>
                  <a:pt x="943" y="15652"/>
                </a:cubicBezTo>
                <a:cubicBezTo>
                  <a:pt x="899" y="15640"/>
                  <a:pt x="851" y="15652"/>
                  <a:pt x="819" y="15677"/>
                </a:cubicBezTo>
                <a:cubicBezTo>
                  <a:pt x="760" y="15723"/>
                  <a:pt x="709" y="15803"/>
                  <a:pt x="670" y="15850"/>
                </a:cubicBezTo>
                <a:cubicBezTo>
                  <a:pt x="646" y="15879"/>
                  <a:pt x="602" y="15940"/>
                  <a:pt x="595" y="15974"/>
                </a:cubicBezTo>
                <a:cubicBezTo>
                  <a:pt x="587" y="16013"/>
                  <a:pt x="586" y="16167"/>
                  <a:pt x="620" y="16197"/>
                </a:cubicBezTo>
                <a:cubicBezTo>
                  <a:pt x="656" y="16229"/>
                  <a:pt x="746" y="16222"/>
                  <a:pt x="794" y="16222"/>
                </a:cubicBezTo>
                <a:cubicBezTo>
                  <a:pt x="855" y="16222"/>
                  <a:pt x="903" y="16198"/>
                  <a:pt x="943" y="16148"/>
                </a:cubicBezTo>
                <a:cubicBezTo>
                  <a:pt x="999" y="16077"/>
                  <a:pt x="1026" y="16029"/>
                  <a:pt x="1091" y="15974"/>
                </a:cubicBezTo>
                <a:cubicBezTo>
                  <a:pt x="1116" y="15953"/>
                  <a:pt x="1160" y="15874"/>
                  <a:pt x="1166" y="15850"/>
                </a:cubicBezTo>
                <a:cubicBezTo>
                  <a:pt x="1211" y="15679"/>
                  <a:pt x="1203" y="15319"/>
                  <a:pt x="1141" y="15156"/>
                </a:cubicBezTo>
                <a:cubicBezTo>
                  <a:pt x="1157" y="15199"/>
                  <a:pt x="1163" y="15228"/>
                  <a:pt x="1166" y="15280"/>
                </a:cubicBezTo>
                <a:cubicBezTo>
                  <a:pt x="1176" y="15484"/>
                  <a:pt x="1099" y="15822"/>
                  <a:pt x="1191" y="15999"/>
                </a:cubicBezTo>
                <a:cubicBezTo>
                  <a:pt x="1210" y="16040"/>
                  <a:pt x="1218" y="16046"/>
                  <a:pt x="1215" y="16073"/>
                </a:cubicBezTo>
              </a:path>
              <a:path w="1192" h="1142">
                <a:moveTo>
                  <a:pt x="1563" y="15553"/>
                </a:moveTo>
                <a:cubicBezTo>
                  <a:pt x="1579" y="15616"/>
                  <a:pt x="1609" y="15591"/>
                  <a:pt x="1662" y="15627"/>
                </a:cubicBezTo>
                <a:cubicBezTo>
                  <a:pt x="1702" y="15653"/>
                  <a:pt x="1774" y="15731"/>
                  <a:pt x="1786" y="15776"/>
                </a:cubicBezTo>
                <a:cubicBezTo>
                  <a:pt x="1806" y="15850"/>
                  <a:pt x="1777" y="15932"/>
                  <a:pt x="1761" y="15999"/>
                </a:cubicBezTo>
                <a:cubicBezTo>
                  <a:pt x="1753" y="16033"/>
                  <a:pt x="1706" y="16107"/>
                  <a:pt x="1687" y="16123"/>
                </a:cubicBezTo>
                <a:cubicBezTo>
                  <a:pt x="1636" y="16166"/>
                  <a:pt x="1580" y="16188"/>
                  <a:pt x="1538" y="16247"/>
                </a:cubicBezTo>
                <a:cubicBezTo>
                  <a:pt x="1518" y="16288"/>
                  <a:pt x="1499" y="16304"/>
                  <a:pt x="1538" y="162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4720" y="5527800"/>
            <a:ext cx="5876640" cy="1116000"/>
          </a:xfrm>
          <a:custGeom>
            <a:avLst/>
            <a:gdLst/>
            <a:ahLst/>
            <a:rect l="l" t="t" r="r" b="b"/>
            <a:pathLst>
              <a:path w="16323" h="3102">
                <a:moveTo>
                  <a:pt x="3473" y="15503"/>
                </a:moveTo>
                <a:cubicBezTo>
                  <a:pt x="3390" y="15554"/>
                  <a:pt x="3372" y="15626"/>
                  <a:pt x="3324" y="15677"/>
                </a:cubicBezTo>
                <a:cubicBezTo>
                  <a:pt x="3268" y="15737"/>
                  <a:pt x="3213" y="15820"/>
                  <a:pt x="3150" y="15875"/>
                </a:cubicBezTo>
                <a:cubicBezTo>
                  <a:pt x="3082" y="15934"/>
                  <a:pt x="3016" y="16018"/>
                  <a:pt x="2952" y="16073"/>
                </a:cubicBezTo>
                <a:cubicBezTo>
                  <a:pt x="2851" y="16160"/>
                  <a:pt x="2943" y="16040"/>
                  <a:pt x="2952" y="16024"/>
                </a:cubicBezTo>
              </a:path>
              <a:path w="16323" h="3102">
                <a:moveTo>
                  <a:pt x="3671" y="15453"/>
                </a:moveTo>
                <a:cubicBezTo>
                  <a:pt x="3630" y="15473"/>
                  <a:pt x="3614" y="15492"/>
                  <a:pt x="3621" y="15453"/>
                </a:cubicBezTo>
              </a:path>
              <a:path w="16323" h="3102">
                <a:moveTo>
                  <a:pt x="3547" y="15503"/>
                </a:moveTo>
                <a:cubicBezTo>
                  <a:pt x="3565" y="15576"/>
                  <a:pt x="3613" y="15601"/>
                  <a:pt x="3671" y="15652"/>
                </a:cubicBezTo>
                <a:cubicBezTo>
                  <a:pt x="3720" y="15694"/>
                  <a:pt x="3801" y="15717"/>
                  <a:pt x="3845" y="15751"/>
                </a:cubicBezTo>
                <a:cubicBezTo>
                  <a:pt x="3916" y="15805"/>
                  <a:pt x="3958" y="15837"/>
                  <a:pt x="4018" y="15900"/>
                </a:cubicBezTo>
                <a:cubicBezTo>
                  <a:pt x="4066" y="15950"/>
                  <a:pt x="4117" y="16000"/>
                  <a:pt x="4167" y="16049"/>
                </a:cubicBezTo>
                <a:cubicBezTo>
                  <a:pt x="4281" y="16162"/>
                  <a:pt x="4173" y="16046"/>
                  <a:pt x="4142" y="16024"/>
                </a:cubicBezTo>
              </a:path>
              <a:path w="16323" h="3102">
                <a:moveTo>
                  <a:pt x="2927" y="16123"/>
                </a:moveTo>
                <a:cubicBezTo>
                  <a:pt x="2927" y="16421"/>
                  <a:pt x="2927" y="16718"/>
                  <a:pt x="2927" y="17016"/>
                </a:cubicBezTo>
                <a:cubicBezTo>
                  <a:pt x="2927" y="16983"/>
                  <a:pt x="2927" y="16950"/>
                  <a:pt x="2927" y="16917"/>
                </a:cubicBezTo>
              </a:path>
              <a:path w="16323" h="3102">
                <a:moveTo>
                  <a:pt x="2927" y="16892"/>
                </a:moveTo>
                <a:cubicBezTo>
                  <a:pt x="2967" y="16924"/>
                  <a:pt x="3006" y="16952"/>
                  <a:pt x="3051" y="16966"/>
                </a:cubicBezTo>
                <a:cubicBezTo>
                  <a:pt x="3129" y="16991"/>
                  <a:pt x="3226" y="17028"/>
                  <a:pt x="3299" y="17066"/>
                </a:cubicBezTo>
                <a:cubicBezTo>
                  <a:pt x="3375" y="17105"/>
                  <a:pt x="3425" y="17137"/>
                  <a:pt x="3497" y="17165"/>
                </a:cubicBezTo>
                <a:cubicBezTo>
                  <a:pt x="3526" y="17176"/>
                  <a:pt x="3658" y="17228"/>
                  <a:pt x="3671" y="17239"/>
                </a:cubicBezTo>
                <a:cubicBezTo>
                  <a:pt x="3693" y="17283"/>
                  <a:pt x="3696" y="17304"/>
                  <a:pt x="3721" y="17264"/>
                </a:cubicBezTo>
              </a:path>
              <a:path w="16323" h="3102">
                <a:moveTo>
                  <a:pt x="3721" y="17239"/>
                </a:moveTo>
                <a:cubicBezTo>
                  <a:pt x="3759" y="17194"/>
                  <a:pt x="3790" y="17176"/>
                  <a:pt x="3845" y="17140"/>
                </a:cubicBezTo>
                <a:cubicBezTo>
                  <a:pt x="3933" y="17083"/>
                  <a:pt x="4013" y="17015"/>
                  <a:pt x="4093" y="16942"/>
                </a:cubicBezTo>
                <a:cubicBezTo>
                  <a:pt x="4145" y="16895"/>
                  <a:pt x="4194" y="16877"/>
                  <a:pt x="4242" y="16842"/>
                </a:cubicBezTo>
                <a:cubicBezTo>
                  <a:pt x="4288" y="16796"/>
                  <a:pt x="4308" y="16782"/>
                  <a:pt x="4242" y="16768"/>
                </a:cubicBezTo>
              </a:path>
              <a:path w="16323" h="3102">
                <a:moveTo>
                  <a:pt x="4217" y="16148"/>
                </a:moveTo>
                <a:cubicBezTo>
                  <a:pt x="4225" y="16131"/>
                  <a:pt x="4234" y="16115"/>
                  <a:pt x="4242" y="16098"/>
                </a:cubicBezTo>
                <a:cubicBezTo>
                  <a:pt x="4242" y="16155"/>
                  <a:pt x="4257" y="16201"/>
                  <a:pt x="4266" y="16247"/>
                </a:cubicBezTo>
                <a:cubicBezTo>
                  <a:pt x="4297" y="16408"/>
                  <a:pt x="4266" y="16603"/>
                  <a:pt x="4266" y="16768"/>
                </a:cubicBezTo>
                <a:cubicBezTo>
                  <a:pt x="4266" y="16723"/>
                  <a:pt x="4270" y="16710"/>
                  <a:pt x="4242" y="16694"/>
                </a:cubicBezTo>
              </a:path>
              <a:path w="16323" h="3102">
                <a:moveTo>
                  <a:pt x="3547" y="16247"/>
                </a:moveTo>
                <a:cubicBezTo>
                  <a:pt x="3511" y="16265"/>
                  <a:pt x="3465" y="16321"/>
                  <a:pt x="3448" y="16371"/>
                </a:cubicBezTo>
                <a:cubicBezTo>
                  <a:pt x="3430" y="16426"/>
                  <a:pt x="3401" y="16463"/>
                  <a:pt x="3398" y="16520"/>
                </a:cubicBezTo>
                <a:cubicBezTo>
                  <a:pt x="3395" y="16570"/>
                  <a:pt x="3405" y="16635"/>
                  <a:pt x="3448" y="16669"/>
                </a:cubicBezTo>
                <a:cubicBezTo>
                  <a:pt x="3467" y="16684"/>
                  <a:pt x="3589" y="16725"/>
                  <a:pt x="3621" y="16718"/>
                </a:cubicBezTo>
                <a:cubicBezTo>
                  <a:pt x="3672" y="16706"/>
                  <a:pt x="3741" y="16691"/>
                  <a:pt x="3770" y="16644"/>
                </a:cubicBezTo>
                <a:cubicBezTo>
                  <a:pt x="3790" y="16612"/>
                  <a:pt x="3842" y="16564"/>
                  <a:pt x="3845" y="16520"/>
                </a:cubicBezTo>
                <a:cubicBezTo>
                  <a:pt x="3851" y="16429"/>
                  <a:pt x="3833" y="16409"/>
                  <a:pt x="3770" y="16346"/>
                </a:cubicBezTo>
                <a:cubicBezTo>
                  <a:pt x="3729" y="16305"/>
                  <a:pt x="3675" y="16244"/>
                  <a:pt x="3621" y="16222"/>
                </a:cubicBezTo>
                <a:cubicBezTo>
                  <a:pt x="3572" y="16202"/>
                  <a:pt x="3475" y="16300"/>
                  <a:pt x="3473" y="16247"/>
                </a:cubicBezTo>
                <a:cubicBezTo>
                  <a:pt x="3471" y="16209"/>
                  <a:pt x="3548" y="16165"/>
                  <a:pt x="3572" y="16148"/>
                </a:cubicBezTo>
              </a:path>
              <a:path w="16323" h="3102">
                <a:moveTo>
                  <a:pt x="4291" y="16073"/>
                </a:moveTo>
                <a:cubicBezTo>
                  <a:pt x="4335" y="16062"/>
                  <a:pt x="4365" y="16029"/>
                  <a:pt x="4415" y="16024"/>
                </a:cubicBezTo>
                <a:cubicBezTo>
                  <a:pt x="4465" y="16019"/>
                  <a:pt x="4498" y="16011"/>
                  <a:pt x="4539" y="15999"/>
                </a:cubicBezTo>
                <a:cubicBezTo>
                  <a:pt x="4608" y="15978"/>
                  <a:pt x="4606" y="15950"/>
                  <a:pt x="4589" y="15900"/>
                </a:cubicBezTo>
              </a:path>
              <a:path w="16323" h="3102">
                <a:moveTo>
                  <a:pt x="5159" y="15602"/>
                </a:moveTo>
                <a:cubicBezTo>
                  <a:pt x="5152" y="15550"/>
                  <a:pt x="5135" y="15488"/>
                  <a:pt x="5085" y="15453"/>
                </a:cubicBezTo>
                <a:cubicBezTo>
                  <a:pt x="5013" y="15403"/>
                  <a:pt x="4990" y="15467"/>
                  <a:pt x="4986" y="15528"/>
                </a:cubicBezTo>
                <a:cubicBezTo>
                  <a:pt x="4982" y="15590"/>
                  <a:pt x="4961" y="15610"/>
                  <a:pt x="4961" y="15677"/>
                </a:cubicBezTo>
                <a:cubicBezTo>
                  <a:pt x="4961" y="15761"/>
                  <a:pt x="4958" y="15824"/>
                  <a:pt x="4986" y="15900"/>
                </a:cubicBezTo>
                <a:cubicBezTo>
                  <a:pt x="5005" y="15953"/>
                  <a:pt x="5033" y="16015"/>
                  <a:pt x="5110" y="15999"/>
                </a:cubicBezTo>
                <a:cubicBezTo>
                  <a:pt x="5151" y="15991"/>
                  <a:pt x="5229" y="15949"/>
                  <a:pt x="5259" y="15925"/>
                </a:cubicBezTo>
                <a:cubicBezTo>
                  <a:pt x="5275" y="15908"/>
                  <a:pt x="5292" y="15892"/>
                  <a:pt x="5308" y="15875"/>
                </a:cubicBezTo>
              </a:path>
              <a:path w="16323" h="3102">
                <a:moveTo>
                  <a:pt x="5507" y="15875"/>
                </a:moveTo>
                <a:cubicBezTo>
                  <a:pt x="5562" y="15830"/>
                  <a:pt x="5589" y="15806"/>
                  <a:pt x="5655" y="15850"/>
                </a:cubicBezTo>
                <a:cubicBezTo>
                  <a:pt x="5663" y="15858"/>
                  <a:pt x="5672" y="15867"/>
                  <a:pt x="5680" y="15875"/>
                </a:cubicBezTo>
                <a:cubicBezTo>
                  <a:pt x="5650" y="15929"/>
                  <a:pt x="5620" y="15977"/>
                  <a:pt x="5581" y="16024"/>
                </a:cubicBezTo>
                <a:cubicBezTo>
                  <a:pt x="5647" y="16024"/>
                  <a:pt x="5688" y="16008"/>
                  <a:pt x="5730" y="16073"/>
                </a:cubicBezTo>
                <a:cubicBezTo>
                  <a:pt x="5751" y="16106"/>
                  <a:pt x="5724" y="16196"/>
                  <a:pt x="5705" y="16222"/>
                </a:cubicBezTo>
                <a:cubicBezTo>
                  <a:pt x="5674" y="16265"/>
                  <a:pt x="5568" y="16362"/>
                  <a:pt x="5507" y="16346"/>
                </a:cubicBezTo>
                <a:cubicBezTo>
                  <a:pt x="5459" y="16322"/>
                  <a:pt x="5442" y="16316"/>
                  <a:pt x="5457" y="16272"/>
                </a:cubicBezTo>
              </a:path>
              <a:path w="16323" h="3102">
                <a:moveTo>
                  <a:pt x="5953" y="15379"/>
                </a:moveTo>
                <a:cubicBezTo>
                  <a:pt x="5953" y="15577"/>
                  <a:pt x="5953" y="15776"/>
                  <a:pt x="5953" y="15974"/>
                </a:cubicBezTo>
                <a:cubicBezTo>
                  <a:pt x="5953" y="15910"/>
                  <a:pt x="5952" y="15910"/>
                  <a:pt x="5978" y="15850"/>
                </a:cubicBezTo>
              </a:path>
              <a:path w="16323" h="3102">
                <a:moveTo>
                  <a:pt x="6276" y="15354"/>
                </a:moveTo>
                <a:cubicBezTo>
                  <a:pt x="6276" y="15536"/>
                  <a:pt x="6276" y="15718"/>
                  <a:pt x="6276" y="15900"/>
                </a:cubicBezTo>
                <a:cubicBezTo>
                  <a:pt x="6276" y="15969"/>
                  <a:pt x="6256" y="15837"/>
                  <a:pt x="6251" y="15825"/>
                </a:cubicBezTo>
              </a:path>
              <a:path w="16323" h="3102">
                <a:moveTo>
                  <a:pt x="5978" y="15677"/>
                </a:moveTo>
                <a:cubicBezTo>
                  <a:pt x="6020" y="15645"/>
                  <a:pt x="6097" y="15635"/>
                  <a:pt x="6152" y="15627"/>
                </a:cubicBezTo>
                <a:cubicBezTo>
                  <a:pt x="6217" y="15618"/>
                  <a:pt x="6256" y="15586"/>
                  <a:pt x="6325" y="15577"/>
                </a:cubicBezTo>
              </a:path>
              <a:path w="16323" h="3102">
                <a:moveTo>
                  <a:pt x="6573" y="15875"/>
                </a:moveTo>
                <a:cubicBezTo>
                  <a:pt x="6565" y="15858"/>
                  <a:pt x="6556" y="15842"/>
                  <a:pt x="6548" y="15825"/>
                </a:cubicBezTo>
                <a:cubicBezTo>
                  <a:pt x="6583" y="15818"/>
                  <a:pt x="6665" y="15815"/>
                  <a:pt x="6697" y="15801"/>
                </a:cubicBezTo>
                <a:cubicBezTo>
                  <a:pt x="6728" y="15788"/>
                  <a:pt x="6794" y="15742"/>
                  <a:pt x="6821" y="15726"/>
                </a:cubicBezTo>
                <a:cubicBezTo>
                  <a:pt x="6858" y="15704"/>
                  <a:pt x="6884" y="15699"/>
                  <a:pt x="6921" y="15677"/>
                </a:cubicBezTo>
                <a:cubicBezTo>
                  <a:pt x="6912" y="15710"/>
                  <a:pt x="6888" y="15773"/>
                  <a:pt x="6871" y="15801"/>
                </a:cubicBezTo>
                <a:cubicBezTo>
                  <a:pt x="6834" y="15862"/>
                  <a:pt x="6824" y="15909"/>
                  <a:pt x="6796" y="15974"/>
                </a:cubicBezTo>
                <a:cubicBezTo>
                  <a:pt x="6768" y="16039"/>
                  <a:pt x="6762" y="16112"/>
                  <a:pt x="6722" y="16173"/>
                </a:cubicBezTo>
                <a:cubicBezTo>
                  <a:pt x="6688" y="16224"/>
                  <a:pt x="6697" y="16407"/>
                  <a:pt x="6697" y="16346"/>
                </a:cubicBezTo>
                <a:cubicBezTo>
                  <a:pt x="6697" y="16285"/>
                  <a:pt x="6706" y="16269"/>
                  <a:pt x="6672" y="16247"/>
                </a:cubicBezTo>
              </a:path>
              <a:path w="16323" h="3102">
                <a:moveTo>
                  <a:pt x="6499" y="16173"/>
                </a:moveTo>
                <a:cubicBezTo>
                  <a:pt x="6569" y="16103"/>
                  <a:pt x="6555" y="16154"/>
                  <a:pt x="6648" y="16123"/>
                </a:cubicBezTo>
                <a:cubicBezTo>
                  <a:pt x="6700" y="16105"/>
                  <a:pt x="6779" y="16035"/>
                  <a:pt x="6821" y="15999"/>
                </a:cubicBezTo>
                <a:cubicBezTo>
                  <a:pt x="6854" y="15970"/>
                  <a:pt x="6899" y="15954"/>
                  <a:pt x="6945" y="15949"/>
                </a:cubicBezTo>
                <a:cubicBezTo>
                  <a:pt x="6989" y="15945"/>
                  <a:pt x="7113" y="15932"/>
                  <a:pt x="7069" y="15925"/>
                </a:cubicBezTo>
                <a:cubicBezTo>
                  <a:pt x="7053" y="15925"/>
                  <a:pt x="7036" y="15925"/>
                  <a:pt x="7020" y="15925"/>
                </a:cubicBezTo>
              </a:path>
              <a:path w="16323" h="3102">
                <a:moveTo>
                  <a:pt x="7615" y="16421"/>
                </a:moveTo>
                <a:cubicBezTo>
                  <a:pt x="7544" y="16421"/>
                  <a:pt x="7531" y="16441"/>
                  <a:pt x="7491" y="16495"/>
                </a:cubicBezTo>
                <a:cubicBezTo>
                  <a:pt x="7459" y="16539"/>
                  <a:pt x="7426" y="16624"/>
                  <a:pt x="7417" y="16669"/>
                </a:cubicBezTo>
                <a:cubicBezTo>
                  <a:pt x="7404" y="16738"/>
                  <a:pt x="7405" y="16857"/>
                  <a:pt x="7441" y="16917"/>
                </a:cubicBezTo>
                <a:cubicBezTo>
                  <a:pt x="7476" y="16974"/>
                  <a:pt x="7516" y="16996"/>
                  <a:pt x="7565" y="17016"/>
                </a:cubicBezTo>
                <a:cubicBezTo>
                  <a:pt x="7632" y="17044"/>
                  <a:pt x="7639" y="17066"/>
                  <a:pt x="7714" y="17066"/>
                </a:cubicBezTo>
                <a:cubicBezTo>
                  <a:pt x="7782" y="17066"/>
                  <a:pt x="7804" y="16987"/>
                  <a:pt x="7838" y="16942"/>
                </a:cubicBezTo>
                <a:cubicBezTo>
                  <a:pt x="7877" y="16890"/>
                  <a:pt x="7907" y="16838"/>
                  <a:pt x="7888" y="16768"/>
                </a:cubicBezTo>
                <a:cubicBezTo>
                  <a:pt x="7872" y="16712"/>
                  <a:pt x="7835" y="16619"/>
                  <a:pt x="7813" y="16570"/>
                </a:cubicBezTo>
                <a:cubicBezTo>
                  <a:pt x="7789" y="16517"/>
                  <a:pt x="7726" y="16518"/>
                  <a:pt x="7689" y="16495"/>
                </a:cubicBezTo>
                <a:cubicBezTo>
                  <a:pt x="7667" y="16482"/>
                  <a:pt x="7589" y="16406"/>
                  <a:pt x="7665" y="16446"/>
                </a:cubicBezTo>
              </a:path>
              <a:path w="16323" h="3102">
                <a:moveTo>
                  <a:pt x="8186" y="16545"/>
                </a:moveTo>
                <a:cubicBezTo>
                  <a:pt x="8186" y="16710"/>
                  <a:pt x="8186" y="16876"/>
                  <a:pt x="8186" y="17041"/>
                </a:cubicBezTo>
                <a:cubicBezTo>
                  <a:pt x="8121" y="16998"/>
                  <a:pt x="8136" y="16997"/>
                  <a:pt x="8136" y="16917"/>
                </a:cubicBezTo>
                <a:cubicBezTo>
                  <a:pt x="8136" y="16772"/>
                  <a:pt x="8124" y="16648"/>
                  <a:pt x="8186" y="16545"/>
                </a:cubicBezTo>
                <a:cubicBezTo>
                  <a:pt x="8217" y="16493"/>
                  <a:pt x="8253" y="16458"/>
                  <a:pt x="8310" y="16421"/>
                </a:cubicBezTo>
                <a:cubicBezTo>
                  <a:pt x="8373" y="16380"/>
                  <a:pt x="8440" y="16379"/>
                  <a:pt x="8483" y="16446"/>
                </a:cubicBezTo>
                <a:cubicBezTo>
                  <a:pt x="8508" y="16485"/>
                  <a:pt x="8480" y="16590"/>
                  <a:pt x="8458" y="16619"/>
                </a:cubicBezTo>
                <a:cubicBezTo>
                  <a:pt x="8413" y="16677"/>
                  <a:pt x="8363" y="16690"/>
                  <a:pt x="8310" y="16718"/>
                </a:cubicBezTo>
                <a:cubicBezTo>
                  <a:pt x="8280" y="16748"/>
                  <a:pt x="8266" y="16759"/>
                  <a:pt x="8235" y="16768"/>
                </a:cubicBezTo>
                <a:cubicBezTo>
                  <a:pt x="8314" y="16757"/>
                  <a:pt x="8332" y="16712"/>
                  <a:pt x="8409" y="16793"/>
                </a:cubicBezTo>
                <a:cubicBezTo>
                  <a:pt x="8465" y="16852"/>
                  <a:pt x="8503" y="16907"/>
                  <a:pt x="8558" y="16966"/>
                </a:cubicBezTo>
                <a:cubicBezTo>
                  <a:pt x="8616" y="17029"/>
                  <a:pt x="8610" y="17046"/>
                  <a:pt x="8682" y="17066"/>
                </a:cubicBezTo>
                <a:cubicBezTo>
                  <a:pt x="8718" y="17029"/>
                  <a:pt x="8762" y="17003"/>
                  <a:pt x="8781" y="16966"/>
                </a:cubicBezTo>
              </a:path>
              <a:path w="16323" h="3102">
                <a:moveTo>
                  <a:pt x="9773" y="15801"/>
                </a:moveTo>
                <a:cubicBezTo>
                  <a:pt x="9694" y="15823"/>
                  <a:pt x="9678" y="15854"/>
                  <a:pt x="9649" y="15925"/>
                </a:cubicBezTo>
                <a:cubicBezTo>
                  <a:pt x="9622" y="15990"/>
                  <a:pt x="9524" y="16066"/>
                  <a:pt x="9475" y="16123"/>
                </a:cubicBezTo>
                <a:cubicBezTo>
                  <a:pt x="9421" y="16187"/>
                  <a:pt x="9328" y="16213"/>
                  <a:pt x="9277" y="16272"/>
                </a:cubicBezTo>
                <a:cubicBezTo>
                  <a:pt x="9249" y="16304"/>
                  <a:pt x="9224" y="16359"/>
                  <a:pt x="9203" y="16396"/>
                </a:cubicBezTo>
                <a:cubicBezTo>
                  <a:pt x="9227" y="16371"/>
                  <a:pt x="9235" y="16362"/>
                  <a:pt x="9252" y="16346"/>
                </a:cubicBezTo>
              </a:path>
              <a:path w="16323" h="3102">
                <a:moveTo>
                  <a:pt x="9823" y="15850"/>
                </a:moveTo>
                <a:cubicBezTo>
                  <a:pt x="9865" y="15865"/>
                  <a:pt x="9853" y="15916"/>
                  <a:pt x="9897" y="15949"/>
                </a:cubicBezTo>
                <a:cubicBezTo>
                  <a:pt x="9950" y="15989"/>
                  <a:pt x="10037" y="16006"/>
                  <a:pt x="10096" y="16049"/>
                </a:cubicBezTo>
                <a:cubicBezTo>
                  <a:pt x="10164" y="16099"/>
                  <a:pt x="10226" y="16111"/>
                  <a:pt x="10294" y="16148"/>
                </a:cubicBezTo>
                <a:cubicBezTo>
                  <a:pt x="10347" y="16177"/>
                  <a:pt x="10417" y="16188"/>
                  <a:pt x="10468" y="16222"/>
                </a:cubicBezTo>
                <a:cubicBezTo>
                  <a:pt x="10557" y="16282"/>
                  <a:pt x="10395" y="16198"/>
                  <a:pt x="10393" y="16197"/>
                </a:cubicBezTo>
              </a:path>
              <a:path w="16323" h="3102">
                <a:moveTo>
                  <a:pt x="9252" y="16371"/>
                </a:moveTo>
                <a:cubicBezTo>
                  <a:pt x="9252" y="16435"/>
                  <a:pt x="9264" y="16485"/>
                  <a:pt x="9277" y="16545"/>
                </a:cubicBezTo>
                <a:cubicBezTo>
                  <a:pt x="9312" y="16710"/>
                  <a:pt x="9275" y="16941"/>
                  <a:pt x="9252" y="17090"/>
                </a:cubicBezTo>
                <a:cubicBezTo>
                  <a:pt x="9244" y="17141"/>
                  <a:pt x="9194" y="17261"/>
                  <a:pt x="9252" y="17165"/>
                </a:cubicBezTo>
              </a:path>
              <a:path w="16323" h="3102">
                <a:moveTo>
                  <a:pt x="9277" y="17090"/>
                </a:moveTo>
                <a:cubicBezTo>
                  <a:pt x="9320" y="17125"/>
                  <a:pt x="9373" y="17158"/>
                  <a:pt x="9426" y="17190"/>
                </a:cubicBezTo>
                <a:cubicBezTo>
                  <a:pt x="9486" y="17226"/>
                  <a:pt x="9565" y="17292"/>
                  <a:pt x="9624" y="17314"/>
                </a:cubicBezTo>
                <a:cubicBezTo>
                  <a:pt x="9675" y="17333"/>
                  <a:pt x="9778" y="17365"/>
                  <a:pt x="9823" y="17413"/>
                </a:cubicBezTo>
                <a:cubicBezTo>
                  <a:pt x="9871" y="17464"/>
                  <a:pt x="9926" y="17513"/>
                  <a:pt x="9971" y="17562"/>
                </a:cubicBezTo>
                <a:cubicBezTo>
                  <a:pt x="9979" y="17570"/>
                  <a:pt x="9988" y="17579"/>
                  <a:pt x="9996" y="17587"/>
                </a:cubicBezTo>
                <a:cubicBezTo>
                  <a:pt x="9987" y="17510"/>
                  <a:pt x="9958" y="17509"/>
                  <a:pt x="10021" y="17438"/>
                </a:cubicBezTo>
                <a:cubicBezTo>
                  <a:pt x="10069" y="17384"/>
                  <a:pt x="10164" y="17335"/>
                  <a:pt x="10220" y="17289"/>
                </a:cubicBezTo>
                <a:cubicBezTo>
                  <a:pt x="10271" y="17248"/>
                  <a:pt x="10312" y="17199"/>
                  <a:pt x="10368" y="17165"/>
                </a:cubicBezTo>
                <a:cubicBezTo>
                  <a:pt x="10368" y="17165"/>
                  <a:pt x="10537" y="17104"/>
                  <a:pt x="10517" y="17090"/>
                </a:cubicBezTo>
                <a:cubicBezTo>
                  <a:pt x="10476" y="17090"/>
                  <a:pt x="10460" y="17098"/>
                  <a:pt x="10468" y="17066"/>
                </a:cubicBezTo>
              </a:path>
              <a:path w="16323" h="3102">
                <a:moveTo>
                  <a:pt x="10468" y="16396"/>
                </a:moveTo>
                <a:cubicBezTo>
                  <a:pt x="10468" y="16379"/>
                  <a:pt x="10468" y="16363"/>
                  <a:pt x="10468" y="16346"/>
                </a:cubicBezTo>
                <a:cubicBezTo>
                  <a:pt x="10468" y="16523"/>
                  <a:pt x="10470" y="16698"/>
                  <a:pt x="10443" y="16867"/>
                </a:cubicBezTo>
                <a:cubicBezTo>
                  <a:pt x="10432" y="16936"/>
                  <a:pt x="10443" y="17020"/>
                  <a:pt x="10443" y="17090"/>
                </a:cubicBezTo>
                <a:cubicBezTo>
                  <a:pt x="10443" y="17143"/>
                  <a:pt x="10430" y="17017"/>
                  <a:pt x="10418" y="16991"/>
                </a:cubicBezTo>
                <a:cubicBezTo>
                  <a:pt x="10410" y="16975"/>
                  <a:pt x="10401" y="16958"/>
                  <a:pt x="10393" y="16942"/>
                </a:cubicBezTo>
              </a:path>
              <a:path w="16323" h="3102">
                <a:moveTo>
                  <a:pt x="9823" y="16446"/>
                </a:moveTo>
                <a:cubicBezTo>
                  <a:pt x="9787" y="16469"/>
                  <a:pt x="9715" y="16522"/>
                  <a:pt x="9699" y="16570"/>
                </a:cubicBezTo>
                <a:cubicBezTo>
                  <a:pt x="9686" y="16610"/>
                  <a:pt x="9652" y="16679"/>
                  <a:pt x="9649" y="16718"/>
                </a:cubicBezTo>
                <a:cubicBezTo>
                  <a:pt x="9644" y="16784"/>
                  <a:pt x="9643" y="16847"/>
                  <a:pt x="9699" y="16892"/>
                </a:cubicBezTo>
                <a:cubicBezTo>
                  <a:pt x="9772" y="16950"/>
                  <a:pt x="9790" y="16942"/>
                  <a:pt x="9872" y="16942"/>
                </a:cubicBezTo>
                <a:cubicBezTo>
                  <a:pt x="9934" y="16942"/>
                  <a:pt x="10020" y="16948"/>
                  <a:pt x="10046" y="16867"/>
                </a:cubicBezTo>
                <a:cubicBezTo>
                  <a:pt x="10062" y="16816"/>
                  <a:pt x="10071" y="16749"/>
                  <a:pt x="10071" y="16694"/>
                </a:cubicBezTo>
                <a:cubicBezTo>
                  <a:pt x="10071" y="16624"/>
                  <a:pt x="9982" y="16556"/>
                  <a:pt x="9922" y="16520"/>
                </a:cubicBezTo>
                <a:cubicBezTo>
                  <a:pt x="9898" y="16506"/>
                  <a:pt x="9784" y="16459"/>
                  <a:pt x="9773" y="16446"/>
                </a:cubicBezTo>
                <a:cubicBezTo>
                  <a:pt x="9773" y="16421"/>
                  <a:pt x="9773" y="16413"/>
                  <a:pt x="9773" y="16396"/>
                </a:cubicBezTo>
              </a:path>
              <a:path w="16323" h="3102">
                <a:moveTo>
                  <a:pt x="10468" y="16173"/>
                </a:moveTo>
                <a:cubicBezTo>
                  <a:pt x="10468" y="16156"/>
                  <a:pt x="10468" y="16140"/>
                  <a:pt x="10468" y="16123"/>
                </a:cubicBezTo>
                <a:cubicBezTo>
                  <a:pt x="10526" y="16123"/>
                  <a:pt x="10548" y="16128"/>
                  <a:pt x="10592" y="16098"/>
                </a:cubicBezTo>
                <a:cubicBezTo>
                  <a:pt x="10664" y="16049"/>
                  <a:pt x="10701" y="16056"/>
                  <a:pt x="10765" y="16024"/>
                </a:cubicBezTo>
                <a:cubicBezTo>
                  <a:pt x="10816" y="15998"/>
                  <a:pt x="10796" y="15999"/>
                  <a:pt x="10864" y="15999"/>
                </a:cubicBezTo>
              </a:path>
              <a:path w="16323" h="3102">
                <a:moveTo>
                  <a:pt x="11311" y="15652"/>
                </a:moveTo>
                <a:cubicBezTo>
                  <a:pt x="11301" y="15633"/>
                  <a:pt x="11231" y="15544"/>
                  <a:pt x="11187" y="15577"/>
                </a:cubicBezTo>
                <a:cubicBezTo>
                  <a:pt x="11150" y="15605"/>
                  <a:pt x="11105" y="15708"/>
                  <a:pt x="11088" y="15751"/>
                </a:cubicBezTo>
                <a:cubicBezTo>
                  <a:pt x="11062" y="15818"/>
                  <a:pt x="11063" y="15856"/>
                  <a:pt x="11063" y="15925"/>
                </a:cubicBezTo>
                <a:cubicBezTo>
                  <a:pt x="11063" y="16024"/>
                  <a:pt x="11092" y="16040"/>
                  <a:pt x="11162" y="16098"/>
                </a:cubicBezTo>
                <a:cubicBezTo>
                  <a:pt x="11210" y="16138"/>
                  <a:pt x="11238" y="16119"/>
                  <a:pt x="11286" y="16098"/>
                </a:cubicBezTo>
                <a:cubicBezTo>
                  <a:pt x="11336" y="16073"/>
                  <a:pt x="11352" y="16065"/>
                  <a:pt x="11361" y="16024"/>
                </a:cubicBezTo>
              </a:path>
              <a:path w="16323" h="3102">
                <a:moveTo>
                  <a:pt x="11584" y="15627"/>
                </a:moveTo>
                <a:cubicBezTo>
                  <a:pt x="11612" y="15691"/>
                  <a:pt x="11609" y="15730"/>
                  <a:pt x="11609" y="15801"/>
                </a:cubicBezTo>
                <a:cubicBezTo>
                  <a:pt x="11609" y="15892"/>
                  <a:pt x="11609" y="15982"/>
                  <a:pt x="11609" y="16073"/>
                </a:cubicBezTo>
              </a:path>
              <a:path w="16323" h="3102">
                <a:moveTo>
                  <a:pt x="11857" y="15528"/>
                </a:moveTo>
                <a:cubicBezTo>
                  <a:pt x="11857" y="15622"/>
                  <a:pt x="11845" y="16036"/>
                  <a:pt x="11881" y="16024"/>
                </a:cubicBezTo>
              </a:path>
              <a:path w="16323" h="3102">
                <a:moveTo>
                  <a:pt x="11609" y="15850"/>
                </a:moveTo>
                <a:cubicBezTo>
                  <a:pt x="11661" y="15824"/>
                  <a:pt x="11708" y="15819"/>
                  <a:pt x="11757" y="15801"/>
                </a:cubicBezTo>
                <a:cubicBezTo>
                  <a:pt x="11801" y="15779"/>
                  <a:pt x="11813" y="15776"/>
                  <a:pt x="11832" y="15751"/>
                </a:cubicBezTo>
              </a:path>
              <a:path w="16323" h="3102">
                <a:moveTo>
                  <a:pt x="12030" y="15949"/>
                </a:moveTo>
                <a:cubicBezTo>
                  <a:pt x="12109" y="15983"/>
                  <a:pt x="12103" y="15962"/>
                  <a:pt x="12154" y="16024"/>
                </a:cubicBezTo>
                <a:cubicBezTo>
                  <a:pt x="12199" y="16079"/>
                  <a:pt x="12159" y="16112"/>
                  <a:pt x="12129" y="16173"/>
                </a:cubicBezTo>
                <a:cubicBezTo>
                  <a:pt x="12096" y="16240"/>
                  <a:pt x="12066" y="16250"/>
                  <a:pt x="12030" y="16321"/>
                </a:cubicBezTo>
                <a:cubicBezTo>
                  <a:pt x="12080" y="16351"/>
                  <a:pt x="12117" y="16346"/>
                  <a:pt x="12179" y="16346"/>
                </a:cubicBezTo>
                <a:cubicBezTo>
                  <a:pt x="12240" y="16346"/>
                  <a:pt x="12268" y="16309"/>
                  <a:pt x="12328" y="16297"/>
                </a:cubicBezTo>
              </a:path>
              <a:path w="16323" h="3102">
                <a:moveTo>
                  <a:pt x="12303" y="15776"/>
                </a:moveTo>
                <a:cubicBezTo>
                  <a:pt x="12359" y="15748"/>
                  <a:pt x="12410" y="15751"/>
                  <a:pt x="12477" y="15751"/>
                </a:cubicBezTo>
                <a:cubicBezTo>
                  <a:pt x="12510" y="15751"/>
                  <a:pt x="12526" y="15751"/>
                  <a:pt x="12551" y="15751"/>
                </a:cubicBezTo>
              </a:path>
              <a:path w="16323" h="3102">
                <a:moveTo>
                  <a:pt x="13022" y="15528"/>
                </a:moveTo>
                <a:cubicBezTo>
                  <a:pt x="12971" y="15488"/>
                  <a:pt x="12948" y="15509"/>
                  <a:pt x="12898" y="15553"/>
                </a:cubicBezTo>
                <a:cubicBezTo>
                  <a:pt x="12872" y="15576"/>
                  <a:pt x="12837" y="15645"/>
                  <a:pt x="12824" y="15677"/>
                </a:cubicBezTo>
                <a:cubicBezTo>
                  <a:pt x="12807" y="15719"/>
                  <a:pt x="12788" y="15785"/>
                  <a:pt x="12774" y="15825"/>
                </a:cubicBezTo>
                <a:cubicBezTo>
                  <a:pt x="12759" y="15870"/>
                  <a:pt x="12789" y="15945"/>
                  <a:pt x="12824" y="15974"/>
                </a:cubicBezTo>
                <a:cubicBezTo>
                  <a:pt x="12884" y="16025"/>
                  <a:pt x="12913" y="15989"/>
                  <a:pt x="12973" y="15974"/>
                </a:cubicBezTo>
                <a:cubicBezTo>
                  <a:pt x="13034" y="15959"/>
                  <a:pt x="13047" y="15944"/>
                  <a:pt x="13097" y="15900"/>
                </a:cubicBezTo>
              </a:path>
              <a:path w="16323" h="3102">
                <a:moveTo>
                  <a:pt x="13271" y="15429"/>
                </a:moveTo>
                <a:cubicBezTo>
                  <a:pt x="13285" y="15502"/>
                  <a:pt x="13315" y="15548"/>
                  <a:pt x="13320" y="15627"/>
                </a:cubicBezTo>
                <a:cubicBezTo>
                  <a:pt x="13325" y="15711"/>
                  <a:pt x="13289" y="15913"/>
                  <a:pt x="13345" y="15949"/>
                </a:cubicBezTo>
              </a:path>
              <a:path w="16323" h="3102">
                <a:moveTo>
                  <a:pt x="13593" y="15379"/>
                </a:moveTo>
                <a:cubicBezTo>
                  <a:pt x="13593" y="15495"/>
                  <a:pt x="13546" y="15786"/>
                  <a:pt x="13618" y="15875"/>
                </a:cubicBezTo>
                <a:cubicBezTo>
                  <a:pt x="13626" y="15883"/>
                  <a:pt x="13635" y="15892"/>
                  <a:pt x="13643" y="15900"/>
                </a:cubicBezTo>
              </a:path>
              <a:path w="16323" h="3102">
                <a:moveTo>
                  <a:pt x="13271" y="15627"/>
                </a:moveTo>
                <a:cubicBezTo>
                  <a:pt x="13335" y="15627"/>
                  <a:pt x="13381" y="15611"/>
                  <a:pt x="13444" y="15602"/>
                </a:cubicBezTo>
                <a:cubicBezTo>
                  <a:pt x="13519" y="15591"/>
                  <a:pt x="13509" y="15587"/>
                  <a:pt x="13568" y="15528"/>
                </a:cubicBezTo>
              </a:path>
              <a:path w="16323" h="3102">
                <a:moveTo>
                  <a:pt x="13767" y="16073"/>
                </a:moveTo>
                <a:cubicBezTo>
                  <a:pt x="13818" y="16012"/>
                  <a:pt x="13830" y="16024"/>
                  <a:pt x="13915" y="16024"/>
                </a:cubicBezTo>
                <a:cubicBezTo>
                  <a:pt x="13923" y="16024"/>
                  <a:pt x="13932" y="16024"/>
                  <a:pt x="13940" y="16024"/>
                </a:cubicBezTo>
                <a:cubicBezTo>
                  <a:pt x="13928" y="16094"/>
                  <a:pt x="13901" y="16132"/>
                  <a:pt x="13866" y="16173"/>
                </a:cubicBezTo>
                <a:cubicBezTo>
                  <a:pt x="13803" y="16246"/>
                  <a:pt x="13790" y="16270"/>
                  <a:pt x="13866" y="16321"/>
                </a:cubicBezTo>
                <a:cubicBezTo>
                  <a:pt x="13930" y="16364"/>
                  <a:pt x="13980" y="16397"/>
                  <a:pt x="14039" y="16321"/>
                </a:cubicBezTo>
                <a:cubicBezTo>
                  <a:pt x="14039" y="16275"/>
                  <a:pt x="14057" y="16255"/>
                  <a:pt x="14114" y="16247"/>
                </a:cubicBezTo>
              </a:path>
              <a:path w="16323" h="3102">
                <a:moveTo>
                  <a:pt x="13990" y="15652"/>
                </a:moveTo>
                <a:cubicBezTo>
                  <a:pt x="14062" y="15652"/>
                  <a:pt x="14267" y="15686"/>
                  <a:pt x="14312" y="15627"/>
                </a:cubicBezTo>
                <a:cubicBezTo>
                  <a:pt x="14320" y="15610"/>
                  <a:pt x="14329" y="15594"/>
                  <a:pt x="14337" y="15577"/>
                </a:cubicBezTo>
              </a:path>
              <a:path w="16323" h="3102">
                <a:moveTo>
                  <a:pt x="14734" y="15453"/>
                </a:moveTo>
                <a:cubicBezTo>
                  <a:pt x="14644" y="15498"/>
                  <a:pt x="14659" y="15504"/>
                  <a:pt x="14610" y="15577"/>
                </a:cubicBezTo>
                <a:cubicBezTo>
                  <a:pt x="14580" y="15621"/>
                  <a:pt x="14587" y="15680"/>
                  <a:pt x="14560" y="15726"/>
                </a:cubicBezTo>
                <a:cubicBezTo>
                  <a:pt x="14550" y="15743"/>
                  <a:pt x="14510" y="15826"/>
                  <a:pt x="14536" y="15850"/>
                </a:cubicBezTo>
                <a:cubicBezTo>
                  <a:pt x="14578" y="15888"/>
                  <a:pt x="14656" y="15916"/>
                  <a:pt x="14709" y="15925"/>
                </a:cubicBezTo>
                <a:cubicBezTo>
                  <a:pt x="14766" y="15935"/>
                  <a:pt x="14809" y="15899"/>
                  <a:pt x="14858" y="15875"/>
                </a:cubicBezTo>
              </a:path>
              <a:path w="16323" h="3102">
                <a:moveTo>
                  <a:pt x="15081" y="15429"/>
                </a:moveTo>
                <a:cubicBezTo>
                  <a:pt x="15081" y="15511"/>
                  <a:pt x="15043" y="15953"/>
                  <a:pt x="15106" y="15974"/>
                </a:cubicBezTo>
              </a:path>
              <a:path w="16323" h="3102">
                <a:moveTo>
                  <a:pt x="15304" y="15404"/>
                </a:moveTo>
                <a:cubicBezTo>
                  <a:pt x="15316" y="15462"/>
                  <a:pt x="15348" y="15515"/>
                  <a:pt x="15354" y="15577"/>
                </a:cubicBezTo>
                <a:cubicBezTo>
                  <a:pt x="15363" y="15678"/>
                  <a:pt x="15321" y="15812"/>
                  <a:pt x="15379" y="15900"/>
                </a:cubicBezTo>
                <a:cubicBezTo>
                  <a:pt x="15404" y="15937"/>
                  <a:pt x="15404" y="15929"/>
                  <a:pt x="15404" y="15974"/>
                </a:cubicBezTo>
              </a:path>
              <a:path w="16323" h="3102">
                <a:moveTo>
                  <a:pt x="15131" y="15726"/>
                </a:moveTo>
                <a:cubicBezTo>
                  <a:pt x="15175" y="15717"/>
                  <a:pt x="15218" y="15685"/>
                  <a:pt x="15255" y="15677"/>
                </a:cubicBezTo>
                <a:cubicBezTo>
                  <a:pt x="15349" y="15657"/>
                  <a:pt x="15320" y="15699"/>
                  <a:pt x="15404" y="15627"/>
                </a:cubicBezTo>
              </a:path>
              <a:path w="16323" h="3102">
                <a:moveTo>
                  <a:pt x="15652" y="15801"/>
                </a:moveTo>
                <a:cubicBezTo>
                  <a:pt x="15702" y="15771"/>
                  <a:pt x="15739" y="15776"/>
                  <a:pt x="15801" y="15776"/>
                </a:cubicBezTo>
                <a:cubicBezTo>
                  <a:pt x="15868" y="15776"/>
                  <a:pt x="15863" y="15791"/>
                  <a:pt x="15875" y="15850"/>
                </a:cubicBezTo>
                <a:cubicBezTo>
                  <a:pt x="15823" y="15888"/>
                  <a:pt x="15814" y="15884"/>
                  <a:pt x="15801" y="15949"/>
                </a:cubicBezTo>
                <a:cubicBezTo>
                  <a:pt x="15878" y="15949"/>
                  <a:pt x="15882" y="15993"/>
                  <a:pt x="15925" y="16049"/>
                </a:cubicBezTo>
                <a:cubicBezTo>
                  <a:pt x="15943" y="16072"/>
                  <a:pt x="15978" y="16171"/>
                  <a:pt x="15949" y="16197"/>
                </a:cubicBezTo>
                <a:cubicBezTo>
                  <a:pt x="15892" y="16247"/>
                  <a:pt x="15808" y="16223"/>
                  <a:pt x="15751" y="16197"/>
                </a:cubicBezTo>
                <a:cubicBezTo>
                  <a:pt x="15694" y="16171"/>
                  <a:pt x="15640" y="16152"/>
                  <a:pt x="15577" y="16148"/>
                </a:cubicBezTo>
                <a:cubicBezTo>
                  <a:pt x="15528" y="16148"/>
                  <a:pt x="15511" y="16148"/>
                  <a:pt x="15478" y="16148"/>
                </a:cubicBezTo>
              </a:path>
              <a:path w="16323" h="3102">
                <a:moveTo>
                  <a:pt x="13221" y="17214"/>
                </a:moveTo>
                <a:cubicBezTo>
                  <a:pt x="13204" y="17214"/>
                  <a:pt x="13188" y="17214"/>
                  <a:pt x="13171" y="17214"/>
                </a:cubicBezTo>
                <a:cubicBezTo>
                  <a:pt x="13227" y="17256"/>
                  <a:pt x="13297" y="17239"/>
                  <a:pt x="13370" y="17239"/>
                </a:cubicBezTo>
                <a:cubicBezTo>
                  <a:pt x="13519" y="17239"/>
                  <a:pt x="13674" y="17222"/>
                  <a:pt x="13816" y="17264"/>
                </a:cubicBezTo>
                <a:cubicBezTo>
                  <a:pt x="13890" y="17286"/>
                  <a:pt x="13939" y="17289"/>
                  <a:pt x="14015" y="17289"/>
                </a:cubicBezTo>
                <a:cubicBezTo>
                  <a:pt x="14092" y="17289"/>
                  <a:pt x="14239" y="17292"/>
                  <a:pt x="14238" y="17289"/>
                </a:cubicBezTo>
                <a:cubicBezTo>
                  <a:pt x="14238" y="17272"/>
                  <a:pt x="14238" y="17256"/>
                  <a:pt x="14238" y="17239"/>
                </a:cubicBezTo>
              </a:path>
              <a:path w="16323" h="3102">
                <a:moveTo>
                  <a:pt x="14089" y="16966"/>
                </a:moveTo>
                <a:cubicBezTo>
                  <a:pt x="14099" y="16997"/>
                  <a:pt x="14144" y="17000"/>
                  <a:pt x="14188" y="17016"/>
                </a:cubicBezTo>
                <a:cubicBezTo>
                  <a:pt x="14250" y="17039"/>
                  <a:pt x="14341" y="17036"/>
                  <a:pt x="14387" y="17090"/>
                </a:cubicBezTo>
                <a:cubicBezTo>
                  <a:pt x="14423" y="17132"/>
                  <a:pt x="14465" y="17204"/>
                  <a:pt x="14486" y="17239"/>
                </a:cubicBezTo>
                <a:cubicBezTo>
                  <a:pt x="14523" y="17301"/>
                  <a:pt x="14427" y="17364"/>
                  <a:pt x="14387" y="17388"/>
                </a:cubicBezTo>
                <a:cubicBezTo>
                  <a:pt x="14332" y="17421"/>
                  <a:pt x="14289" y="17470"/>
                  <a:pt x="14238" y="17512"/>
                </a:cubicBezTo>
                <a:cubicBezTo>
                  <a:pt x="14174" y="17564"/>
                  <a:pt x="14154" y="17577"/>
                  <a:pt x="14089" y="17611"/>
                </a:cubicBezTo>
                <a:cubicBezTo>
                  <a:pt x="14010" y="17653"/>
                  <a:pt x="14039" y="17623"/>
                  <a:pt x="14039" y="17562"/>
                </a:cubicBezTo>
              </a:path>
              <a:path w="16323" h="3102">
                <a:moveTo>
                  <a:pt x="16520" y="16371"/>
                </a:moveTo>
                <a:cubicBezTo>
                  <a:pt x="16450" y="16411"/>
                  <a:pt x="16445" y="16436"/>
                  <a:pt x="16396" y="16495"/>
                </a:cubicBezTo>
                <a:cubicBezTo>
                  <a:pt x="16301" y="16609"/>
                  <a:pt x="16205" y="16739"/>
                  <a:pt x="16098" y="16842"/>
                </a:cubicBezTo>
                <a:cubicBezTo>
                  <a:pt x="15979" y="16955"/>
                  <a:pt x="15845" y="17052"/>
                  <a:pt x="15726" y="17165"/>
                </a:cubicBezTo>
                <a:cubicBezTo>
                  <a:pt x="15707" y="17183"/>
                  <a:pt x="15563" y="17293"/>
                  <a:pt x="15677" y="17214"/>
                </a:cubicBezTo>
                <a:cubicBezTo>
                  <a:pt x="15685" y="17206"/>
                  <a:pt x="15693" y="17198"/>
                  <a:pt x="15701" y="17190"/>
                </a:cubicBezTo>
              </a:path>
              <a:path w="16323" h="3102">
                <a:moveTo>
                  <a:pt x="16495" y="16520"/>
                </a:moveTo>
                <a:cubicBezTo>
                  <a:pt x="16510" y="16595"/>
                  <a:pt x="16546" y="16634"/>
                  <a:pt x="16619" y="16669"/>
                </a:cubicBezTo>
                <a:cubicBezTo>
                  <a:pt x="16708" y="16712"/>
                  <a:pt x="16805" y="16745"/>
                  <a:pt x="16892" y="16793"/>
                </a:cubicBezTo>
                <a:cubicBezTo>
                  <a:pt x="16956" y="16828"/>
                  <a:pt x="17015" y="16865"/>
                  <a:pt x="17066" y="16917"/>
                </a:cubicBezTo>
                <a:cubicBezTo>
                  <a:pt x="17107" y="16959"/>
                  <a:pt x="17139" y="16987"/>
                  <a:pt x="17190" y="17016"/>
                </a:cubicBezTo>
              </a:path>
              <a:path w="16323" h="3102">
                <a:moveTo>
                  <a:pt x="15726" y="17388"/>
                </a:moveTo>
                <a:cubicBezTo>
                  <a:pt x="15726" y="17474"/>
                  <a:pt x="15724" y="17533"/>
                  <a:pt x="15751" y="17611"/>
                </a:cubicBezTo>
                <a:cubicBezTo>
                  <a:pt x="15782" y="17701"/>
                  <a:pt x="15785" y="17754"/>
                  <a:pt x="15776" y="17835"/>
                </a:cubicBezTo>
                <a:cubicBezTo>
                  <a:pt x="15774" y="17853"/>
                  <a:pt x="15769" y="18034"/>
                  <a:pt x="15801" y="17959"/>
                </a:cubicBezTo>
                <a:cubicBezTo>
                  <a:pt x="15801" y="17951"/>
                  <a:pt x="15801" y="17942"/>
                  <a:pt x="15801" y="17934"/>
                </a:cubicBezTo>
              </a:path>
              <a:path w="16323" h="3102">
                <a:moveTo>
                  <a:pt x="15825" y="17983"/>
                </a:moveTo>
                <a:cubicBezTo>
                  <a:pt x="15865" y="17994"/>
                  <a:pt x="15925" y="18009"/>
                  <a:pt x="15949" y="18033"/>
                </a:cubicBezTo>
                <a:cubicBezTo>
                  <a:pt x="16002" y="18087"/>
                  <a:pt x="16049" y="18148"/>
                  <a:pt x="16098" y="18207"/>
                </a:cubicBezTo>
                <a:cubicBezTo>
                  <a:pt x="16130" y="18245"/>
                  <a:pt x="16200" y="18267"/>
                  <a:pt x="16247" y="18306"/>
                </a:cubicBezTo>
                <a:cubicBezTo>
                  <a:pt x="16303" y="18352"/>
                  <a:pt x="16347" y="18376"/>
                  <a:pt x="16396" y="18405"/>
                </a:cubicBezTo>
                <a:cubicBezTo>
                  <a:pt x="16493" y="18461"/>
                  <a:pt x="16440" y="18435"/>
                  <a:pt x="16545" y="18380"/>
                </a:cubicBezTo>
                <a:cubicBezTo>
                  <a:pt x="16590" y="18356"/>
                  <a:pt x="16650" y="18342"/>
                  <a:pt x="16694" y="18306"/>
                </a:cubicBezTo>
                <a:cubicBezTo>
                  <a:pt x="16766" y="18246"/>
                  <a:pt x="16844" y="18204"/>
                  <a:pt x="16942" y="18182"/>
                </a:cubicBezTo>
                <a:cubicBezTo>
                  <a:pt x="17091" y="18148"/>
                  <a:pt x="17244" y="18162"/>
                  <a:pt x="17388" y="18132"/>
                </a:cubicBezTo>
                <a:cubicBezTo>
                  <a:pt x="17438" y="18107"/>
                  <a:pt x="17454" y="18099"/>
                  <a:pt x="17462" y="18058"/>
                </a:cubicBezTo>
                <a:cubicBezTo>
                  <a:pt x="17408" y="18014"/>
                  <a:pt x="17380" y="18007"/>
                  <a:pt x="17338" y="17959"/>
                </a:cubicBezTo>
              </a:path>
              <a:path w="16323" h="3102">
                <a:moveTo>
                  <a:pt x="17264" y="17214"/>
                </a:moveTo>
                <a:cubicBezTo>
                  <a:pt x="17264" y="17181"/>
                  <a:pt x="17264" y="17148"/>
                  <a:pt x="17264" y="17115"/>
                </a:cubicBezTo>
                <a:cubicBezTo>
                  <a:pt x="17299" y="17185"/>
                  <a:pt x="17299" y="17219"/>
                  <a:pt x="17314" y="17289"/>
                </a:cubicBezTo>
                <a:cubicBezTo>
                  <a:pt x="17338" y="17399"/>
                  <a:pt x="17352" y="17399"/>
                  <a:pt x="17338" y="17512"/>
                </a:cubicBezTo>
                <a:cubicBezTo>
                  <a:pt x="17330" y="17580"/>
                  <a:pt x="17288" y="17961"/>
                  <a:pt x="17363" y="18008"/>
                </a:cubicBezTo>
                <a:cubicBezTo>
                  <a:pt x="17363" y="17983"/>
                  <a:pt x="17363" y="17975"/>
                  <a:pt x="17363" y="17959"/>
                </a:cubicBezTo>
              </a:path>
              <a:path w="16323" h="3102">
                <a:moveTo>
                  <a:pt x="16644" y="17338"/>
                </a:moveTo>
                <a:cubicBezTo>
                  <a:pt x="16619" y="17334"/>
                  <a:pt x="16523" y="17291"/>
                  <a:pt x="16495" y="17314"/>
                </a:cubicBezTo>
                <a:cubicBezTo>
                  <a:pt x="16423" y="17373"/>
                  <a:pt x="16429" y="17426"/>
                  <a:pt x="16396" y="17512"/>
                </a:cubicBezTo>
                <a:cubicBezTo>
                  <a:pt x="16367" y="17588"/>
                  <a:pt x="16371" y="17652"/>
                  <a:pt x="16371" y="17735"/>
                </a:cubicBezTo>
                <a:cubicBezTo>
                  <a:pt x="16371" y="17809"/>
                  <a:pt x="16424" y="17847"/>
                  <a:pt x="16495" y="17859"/>
                </a:cubicBezTo>
                <a:cubicBezTo>
                  <a:pt x="16547" y="17868"/>
                  <a:pt x="16704" y="17846"/>
                  <a:pt x="16743" y="17810"/>
                </a:cubicBezTo>
                <a:cubicBezTo>
                  <a:pt x="16818" y="17740"/>
                  <a:pt x="16818" y="17736"/>
                  <a:pt x="16818" y="17611"/>
                </a:cubicBezTo>
                <a:cubicBezTo>
                  <a:pt x="16818" y="17526"/>
                  <a:pt x="16780" y="17462"/>
                  <a:pt x="16743" y="17388"/>
                </a:cubicBezTo>
                <a:cubicBezTo>
                  <a:pt x="16713" y="17328"/>
                  <a:pt x="16639" y="17273"/>
                  <a:pt x="16570" y="17264"/>
                </a:cubicBezTo>
                <a:cubicBezTo>
                  <a:pt x="16505" y="17256"/>
                  <a:pt x="16475" y="17278"/>
                  <a:pt x="16446" y="17239"/>
                </a:cubicBezTo>
                <a:cubicBezTo>
                  <a:pt x="16438" y="17231"/>
                  <a:pt x="16429" y="17222"/>
                  <a:pt x="16421" y="17214"/>
                </a:cubicBezTo>
              </a:path>
              <a:path w="16323" h="3102">
                <a:moveTo>
                  <a:pt x="17264" y="17016"/>
                </a:moveTo>
                <a:cubicBezTo>
                  <a:pt x="17229" y="16998"/>
                  <a:pt x="17321" y="16925"/>
                  <a:pt x="17363" y="16892"/>
                </a:cubicBezTo>
                <a:cubicBezTo>
                  <a:pt x="17420" y="16848"/>
                  <a:pt x="17530" y="16712"/>
                  <a:pt x="17562" y="16694"/>
                </a:cubicBezTo>
                <a:cubicBezTo>
                  <a:pt x="17578" y="16694"/>
                  <a:pt x="17595" y="16694"/>
                  <a:pt x="17611" y="16694"/>
                </a:cubicBezTo>
              </a:path>
              <a:path w="16323" h="3102">
                <a:moveTo>
                  <a:pt x="18107" y="16371"/>
                </a:moveTo>
                <a:cubicBezTo>
                  <a:pt x="18058" y="16333"/>
                  <a:pt x="18036" y="16342"/>
                  <a:pt x="17983" y="16371"/>
                </a:cubicBezTo>
                <a:cubicBezTo>
                  <a:pt x="17930" y="16400"/>
                  <a:pt x="17906" y="16444"/>
                  <a:pt x="17884" y="16495"/>
                </a:cubicBezTo>
                <a:cubicBezTo>
                  <a:pt x="17845" y="16586"/>
                  <a:pt x="17835" y="16645"/>
                  <a:pt x="17835" y="16743"/>
                </a:cubicBezTo>
                <a:cubicBezTo>
                  <a:pt x="17835" y="16819"/>
                  <a:pt x="17872" y="16856"/>
                  <a:pt x="17909" y="16917"/>
                </a:cubicBezTo>
                <a:cubicBezTo>
                  <a:pt x="17930" y="16951"/>
                  <a:pt x="18031" y="17019"/>
                  <a:pt x="18083" y="17016"/>
                </a:cubicBezTo>
                <a:cubicBezTo>
                  <a:pt x="18126" y="16994"/>
                  <a:pt x="18138" y="16990"/>
                  <a:pt x="18157" y="16966"/>
                </a:cubicBezTo>
              </a:path>
              <a:path w="16323" h="3102">
                <a:moveTo>
                  <a:pt x="18405" y="16371"/>
                </a:moveTo>
                <a:cubicBezTo>
                  <a:pt x="18414" y="16437"/>
                  <a:pt x="18450" y="16474"/>
                  <a:pt x="18455" y="16545"/>
                </a:cubicBezTo>
                <a:cubicBezTo>
                  <a:pt x="18461" y="16620"/>
                  <a:pt x="18425" y="16935"/>
                  <a:pt x="18479" y="16842"/>
                </a:cubicBezTo>
              </a:path>
              <a:path w="16323" h="3102">
                <a:moveTo>
                  <a:pt x="18628" y="16297"/>
                </a:moveTo>
                <a:cubicBezTo>
                  <a:pt x="18628" y="16380"/>
                  <a:pt x="18638" y="16439"/>
                  <a:pt x="18653" y="16520"/>
                </a:cubicBezTo>
                <a:cubicBezTo>
                  <a:pt x="18662" y="16569"/>
                  <a:pt x="18687" y="16624"/>
                  <a:pt x="18703" y="16669"/>
                </a:cubicBezTo>
                <a:cubicBezTo>
                  <a:pt x="18723" y="16725"/>
                  <a:pt x="18728" y="16902"/>
                  <a:pt x="18728" y="16842"/>
                </a:cubicBezTo>
                <a:cubicBezTo>
                  <a:pt x="18728" y="16826"/>
                  <a:pt x="18728" y="16809"/>
                  <a:pt x="18728" y="16793"/>
                </a:cubicBezTo>
              </a:path>
              <a:path w="16323" h="3102">
                <a:moveTo>
                  <a:pt x="18504" y="16694"/>
                </a:moveTo>
                <a:cubicBezTo>
                  <a:pt x="18564" y="16680"/>
                  <a:pt x="18643" y="16655"/>
                  <a:pt x="18703" y="16644"/>
                </a:cubicBezTo>
                <a:cubicBezTo>
                  <a:pt x="18744" y="16644"/>
                  <a:pt x="18752" y="16644"/>
                  <a:pt x="18777" y="16644"/>
                </a:cubicBezTo>
              </a:path>
              <a:path w="16323" h="3102">
                <a:moveTo>
                  <a:pt x="18976" y="16768"/>
                </a:moveTo>
                <a:cubicBezTo>
                  <a:pt x="19051" y="16753"/>
                  <a:pt x="19050" y="16736"/>
                  <a:pt x="19124" y="16768"/>
                </a:cubicBezTo>
                <a:cubicBezTo>
                  <a:pt x="19111" y="16836"/>
                  <a:pt x="19087" y="16867"/>
                  <a:pt x="19025" y="16892"/>
                </a:cubicBezTo>
                <a:cubicBezTo>
                  <a:pt x="19068" y="16924"/>
                  <a:pt x="19100" y="16910"/>
                  <a:pt x="19149" y="16942"/>
                </a:cubicBezTo>
                <a:cubicBezTo>
                  <a:pt x="19188" y="16967"/>
                  <a:pt x="19243" y="17013"/>
                  <a:pt x="19224" y="17066"/>
                </a:cubicBezTo>
                <a:cubicBezTo>
                  <a:pt x="19202" y="17127"/>
                  <a:pt x="19130" y="17184"/>
                  <a:pt x="19075" y="17190"/>
                </a:cubicBezTo>
                <a:cubicBezTo>
                  <a:pt x="19015" y="17197"/>
                  <a:pt x="18982" y="17211"/>
                  <a:pt x="18926" y="17214"/>
                </a:cubicBezTo>
                <a:cubicBezTo>
                  <a:pt x="18852" y="17218"/>
                  <a:pt x="18847" y="17167"/>
                  <a:pt x="18802" y="171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88120" y="6188040"/>
            <a:ext cx="241560" cy="285840"/>
          </a:xfrm>
          <a:custGeom>
            <a:avLst/>
            <a:gdLst/>
            <a:ahLst/>
            <a:rect l="l" t="t" r="r" b="b"/>
            <a:pathLst>
              <a:path w="671" h="794">
                <a:moveTo>
                  <a:pt x="20365" y="17190"/>
                </a:moveTo>
                <a:cubicBezTo>
                  <a:pt x="20332" y="17244"/>
                  <a:pt x="20340" y="17295"/>
                  <a:pt x="20340" y="17363"/>
                </a:cubicBezTo>
                <a:cubicBezTo>
                  <a:pt x="20340" y="17456"/>
                  <a:pt x="20302" y="17545"/>
                  <a:pt x="20290" y="17636"/>
                </a:cubicBezTo>
                <a:cubicBezTo>
                  <a:pt x="20280" y="17711"/>
                  <a:pt x="20322" y="18028"/>
                  <a:pt x="20265" y="17934"/>
                </a:cubicBezTo>
              </a:path>
              <a:path w="671" h="794">
                <a:moveTo>
                  <a:pt x="19968" y="17735"/>
                </a:moveTo>
                <a:cubicBezTo>
                  <a:pt x="20032" y="17735"/>
                  <a:pt x="20081" y="17721"/>
                  <a:pt x="20141" y="17711"/>
                </a:cubicBezTo>
                <a:cubicBezTo>
                  <a:pt x="20227" y="17697"/>
                  <a:pt x="20597" y="17676"/>
                  <a:pt x="20638" y="177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42160" y="6161040"/>
            <a:ext cx="830520" cy="241200"/>
          </a:xfrm>
          <a:custGeom>
            <a:avLst/>
            <a:gdLst/>
            <a:ahLst/>
            <a:rect l="l" t="t" r="r" b="b"/>
            <a:pathLst>
              <a:path w="2307" h="671">
                <a:moveTo>
                  <a:pt x="22002" y="17165"/>
                </a:moveTo>
                <a:cubicBezTo>
                  <a:pt x="21942" y="17117"/>
                  <a:pt x="21879" y="17111"/>
                  <a:pt x="21803" y="17140"/>
                </a:cubicBezTo>
                <a:cubicBezTo>
                  <a:pt x="21748" y="17161"/>
                  <a:pt x="21694" y="17234"/>
                  <a:pt x="21654" y="17264"/>
                </a:cubicBezTo>
                <a:cubicBezTo>
                  <a:pt x="21590" y="17313"/>
                  <a:pt x="21525" y="17349"/>
                  <a:pt x="21506" y="17438"/>
                </a:cubicBezTo>
                <a:cubicBezTo>
                  <a:pt x="21486" y="17530"/>
                  <a:pt x="21548" y="17560"/>
                  <a:pt x="21605" y="17611"/>
                </a:cubicBezTo>
                <a:cubicBezTo>
                  <a:pt x="21660" y="17660"/>
                  <a:pt x="21750" y="17695"/>
                  <a:pt x="21828" y="17711"/>
                </a:cubicBezTo>
                <a:cubicBezTo>
                  <a:pt x="21919" y="17730"/>
                  <a:pt x="22023" y="17666"/>
                  <a:pt x="22101" y="17636"/>
                </a:cubicBezTo>
              </a:path>
              <a:path w="2307" h="671">
                <a:moveTo>
                  <a:pt x="22523" y="17338"/>
                </a:moveTo>
                <a:cubicBezTo>
                  <a:pt x="22635" y="17338"/>
                  <a:pt x="22739" y="17330"/>
                  <a:pt x="22845" y="17314"/>
                </a:cubicBezTo>
                <a:cubicBezTo>
                  <a:pt x="22900" y="17306"/>
                  <a:pt x="22963" y="17314"/>
                  <a:pt x="23019" y="17314"/>
                </a:cubicBezTo>
              </a:path>
              <a:path w="2307" h="671">
                <a:moveTo>
                  <a:pt x="22498" y="17636"/>
                </a:moveTo>
                <a:cubicBezTo>
                  <a:pt x="22490" y="17644"/>
                  <a:pt x="22481" y="17653"/>
                  <a:pt x="22473" y="17661"/>
                </a:cubicBezTo>
                <a:cubicBezTo>
                  <a:pt x="22540" y="17661"/>
                  <a:pt x="22560" y="17647"/>
                  <a:pt x="22622" y="17636"/>
                </a:cubicBezTo>
                <a:cubicBezTo>
                  <a:pt x="22730" y="17617"/>
                  <a:pt x="22838" y="17636"/>
                  <a:pt x="22944" y="17611"/>
                </a:cubicBezTo>
                <a:cubicBezTo>
                  <a:pt x="22972" y="17611"/>
                  <a:pt x="22983" y="17609"/>
                  <a:pt x="22994" y="17587"/>
                </a:cubicBezTo>
              </a:path>
              <a:path w="2307" h="671">
                <a:moveTo>
                  <a:pt x="23688" y="17214"/>
                </a:moveTo>
                <a:cubicBezTo>
                  <a:pt x="23662" y="17174"/>
                  <a:pt x="23627" y="17133"/>
                  <a:pt x="23564" y="17165"/>
                </a:cubicBezTo>
                <a:cubicBezTo>
                  <a:pt x="23492" y="17202"/>
                  <a:pt x="23463" y="17258"/>
                  <a:pt x="23416" y="17314"/>
                </a:cubicBezTo>
                <a:cubicBezTo>
                  <a:pt x="23372" y="17367"/>
                  <a:pt x="23328" y="17417"/>
                  <a:pt x="23316" y="17487"/>
                </a:cubicBezTo>
                <a:cubicBezTo>
                  <a:pt x="23300" y="17578"/>
                  <a:pt x="23274" y="17569"/>
                  <a:pt x="23341" y="17661"/>
                </a:cubicBezTo>
                <a:cubicBezTo>
                  <a:pt x="23378" y="17712"/>
                  <a:pt x="23436" y="17733"/>
                  <a:pt x="23490" y="17760"/>
                </a:cubicBezTo>
                <a:cubicBezTo>
                  <a:pt x="23562" y="17796"/>
                  <a:pt x="23633" y="17785"/>
                  <a:pt x="23713" y="17785"/>
                </a:cubicBezTo>
                <a:cubicBezTo>
                  <a:pt x="23747" y="17785"/>
                  <a:pt x="23781" y="17753"/>
                  <a:pt x="23812" y="177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120" y="295200"/>
            <a:ext cx="1000080" cy="482760"/>
          </a:xfrm>
          <a:custGeom>
            <a:avLst/>
            <a:gdLst/>
            <a:ahLst/>
            <a:rect l="l" t="t" r="r" b="b"/>
            <a:pathLst>
              <a:path w="2779" h="1340">
                <a:moveTo>
                  <a:pt x="1588" y="1067"/>
                </a:moveTo>
                <a:cubicBezTo>
                  <a:pt x="1539" y="1025"/>
                  <a:pt x="1503" y="983"/>
                  <a:pt x="1463" y="918"/>
                </a:cubicBezTo>
                <a:cubicBezTo>
                  <a:pt x="1424" y="855"/>
                  <a:pt x="1389" y="833"/>
                  <a:pt x="1315" y="819"/>
                </a:cubicBezTo>
                <a:cubicBezTo>
                  <a:pt x="1225" y="802"/>
                  <a:pt x="1208" y="862"/>
                  <a:pt x="1166" y="918"/>
                </a:cubicBezTo>
                <a:cubicBezTo>
                  <a:pt x="1121" y="979"/>
                  <a:pt x="1113" y="1024"/>
                  <a:pt x="1091" y="1091"/>
                </a:cubicBezTo>
                <a:cubicBezTo>
                  <a:pt x="1068" y="1162"/>
                  <a:pt x="1067" y="1212"/>
                  <a:pt x="1067" y="1290"/>
                </a:cubicBezTo>
                <a:cubicBezTo>
                  <a:pt x="1067" y="1357"/>
                  <a:pt x="1076" y="1446"/>
                  <a:pt x="1141" y="1488"/>
                </a:cubicBezTo>
                <a:cubicBezTo>
                  <a:pt x="1174" y="1509"/>
                  <a:pt x="1247" y="1511"/>
                  <a:pt x="1290" y="1513"/>
                </a:cubicBezTo>
                <a:cubicBezTo>
                  <a:pt x="1346" y="1516"/>
                  <a:pt x="1436" y="1491"/>
                  <a:pt x="1463" y="1439"/>
                </a:cubicBezTo>
                <a:cubicBezTo>
                  <a:pt x="1484" y="1400"/>
                  <a:pt x="1531" y="1338"/>
                  <a:pt x="1538" y="1290"/>
                </a:cubicBezTo>
                <a:cubicBezTo>
                  <a:pt x="1542" y="1262"/>
                  <a:pt x="1589" y="1174"/>
                  <a:pt x="1588" y="1166"/>
                </a:cubicBezTo>
                <a:cubicBezTo>
                  <a:pt x="1580" y="1149"/>
                  <a:pt x="1571" y="1133"/>
                  <a:pt x="1563" y="1116"/>
                </a:cubicBezTo>
                <a:cubicBezTo>
                  <a:pt x="1563" y="1430"/>
                  <a:pt x="1457" y="2256"/>
                  <a:pt x="1563" y="1960"/>
                </a:cubicBezTo>
                <a:cubicBezTo>
                  <a:pt x="1571" y="1943"/>
                  <a:pt x="1580" y="1927"/>
                  <a:pt x="1588" y="1910"/>
                </a:cubicBezTo>
              </a:path>
              <a:path w="2779" h="1340">
                <a:moveTo>
                  <a:pt x="1935" y="1860"/>
                </a:moveTo>
                <a:cubicBezTo>
                  <a:pt x="1927" y="1868"/>
                  <a:pt x="1918" y="1877"/>
                  <a:pt x="1910" y="1885"/>
                </a:cubicBezTo>
                <a:cubicBezTo>
                  <a:pt x="1972" y="1931"/>
                  <a:pt x="2002" y="1846"/>
                  <a:pt x="1984" y="1836"/>
                </a:cubicBezTo>
                <a:cubicBezTo>
                  <a:pt x="1942" y="1813"/>
                  <a:pt x="1841" y="1901"/>
                  <a:pt x="1885" y="1935"/>
                </a:cubicBezTo>
                <a:cubicBezTo>
                  <a:pt x="1944" y="1981"/>
                  <a:pt x="1940" y="1905"/>
                  <a:pt x="1910" y="1885"/>
                </a:cubicBezTo>
              </a:path>
              <a:path w="2779" h="1340">
                <a:moveTo>
                  <a:pt x="3026" y="1513"/>
                </a:moveTo>
                <a:cubicBezTo>
                  <a:pt x="3015" y="1456"/>
                  <a:pt x="2984" y="1412"/>
                  <a:pt x="2927" y="1389"/>
                </a:cubicBezTo>
                <a:cubicBezTo>
                  <a:pt x="2863" y="1363"/>
                  <a:pt x="2841" y="1359"/>
                  <a:pt x="2778" y="1389"/>
                </a:cubicBezTo>
                <a:cubicBezTo>
                  <a:pt x="2697" y="1427"/>
                  <a:pt x="2688" y="1466"/>
                  <a:pt x="2654" y="1538"/>
                </a:cubicBezTo>
                <a:cubicBezTo>
                  <a:pt x="2627" y="1595"/>
                  <a:pt x="2608" y="1652"/>
                  <a:pt x="2604" y="1712"/>
                </a:cubicBezTo>
                <a:cubicBezTo>
                  <a:pt x="2600" y="1783"/>
                  <a:pt x="2632" y="1814"/>
                  <a:pt x="2679" y="1860"/>
                </a:cubicBezTo>
                <a:cubicBezTo>
                  <a:pt x="2733" y="1913"/>
                  <a:pt x="2749" y="1864"/>
                  <a:pt x="2803" y="1860"/>
                </a:cubicBezTo>
                <a:cubicBezTo>
                  <a:pt x="2892" y="1854"/>
                  <a:pt x="2879" y="1780"/>
                  <a:pt x="2927" y="1712"/>
                </a:cubicBezTo>
                <a:cubicBezTo>
                  <a:pt x="2972" y="1648"/>
                  <a:pt x="2969" y="1670"/>
                  <a:pt x="2952" y="1588"/>
                </a:cubicBezTo>
                <a:cubicBezTo>
                  <a:pt x="2952" y="1665"/>
                  <a:pt x="2950" y="1722"/>
                  <a:pt x="2977" y="1786"/>
                </a:cubicBezTo>
                <a:cubicBezTo>
                  <a:pt x="3015" y="1878"/>
                  <a:pt x="3021" y="1902"/>
                  <a:pt x="3125" y="1910"/>
                </a:cubicBezTo>
                <a:cubicBezTo>
                  <a:pt x="3153" y="1910"/>
                  <a:pt x="3164" y="1908"/>
                  <a:pt x="3175" y="1885"/>
                </a:cubicBezTo>
              </a:path>
              <a:path w="2779" h="1340">
                <a:moveTo>
                  <a:pt x="3051" y="1116"/>
                </a:moveTo>
                <a:cubicBezTo>
                  <a:pt x="3102" y="1131"/>
                  <a:pt x="3131" y="1140"/>
                  <a:pt x="3175" y="1166"/>
                </a:cubicBezTo>
                <a:cubicBezTo>
                  <a:pt x="3240" y="1204"/>
                  <a:pt x="3308" y="1249"/>
                  <a:pt x="3373" y="1290"/>
                </a:cubicBezTo>
                <a:cubicBezTo>
                  <a:pt x="3476" y="1354"/>
                  <a:pt x="3572" y="1426"/>
                  <a:pt x="3671" y="1488"/>
                </a:cubicBezTo>
                <a:cubicBezTo>
                  <a:pt x="3733" y="1527"/>
                  <a:pt x="3825" y="1555"/>
                  <a:pt x="3845" y="1637"/>
                </a:cubicBezTo>
                <a:cubicBezTo>
                  <a:pt x="3863" y="1715"/>
                  <a:pt x="3779" y="1799"/>
                  <a:pt x="3746" y="1860"/>
                </a:cubicBezTo>
                <a:cubicBezTo>
                  <a:pt x="3695" y="1953"/>
                  <a:pt x="3644" y="2007"/>
                  <a:pt x="3572" y="2084"/>
                </a:cubicBezTo>
                <a:cubicBezTo>
                  <a:pt x="3542" y="2113"/>
                  <a:pt x="3530" y="2127"/>
                  <a:pt x="352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00160" y="384120"/>
            <a:ext cx="563760" cy="322200"/>
          </a:xfrm>
          <a:custGeom>
            <a:avLst/>
            <a:gdLst/>
            <a:ahLst/>
            <a:rect l="l" t="t" r="r" b="b"/>
            <a:pathLst>
              <a:path w="1564" h="894">
                <a:moveTo>
                  <a:pt x="6052" y="1215"/>
                </a:moveTo>
                <a:cubicBezTo>
                  <a:pt x="6052" y="1199"/>
                  <a:pt x="6052" y="1182"/>
                  <a:pt x="6052" y="1166"/>
                </a:cubicBezTo>
                <a:cubicBezTo>
                  <a:pt x="5991" y="1148"/>
                  <a:pt x="5985" y="1115"/>
                  <a:pt x="5928" y="1091"/>
                </a:cubicBezTo>
                <a:cubicBezTo>
                  <a:pt x="5841" y="1055"/>
                  <a:pt x="5787" y="1056"/>
                  <a:pt x="5730" y="1141"/>
                </a:cubicBezTo>
                <a:cubicBezTo>
                  <a:pt x="5691" y="1200"/>
                  <a:pt x="5622" y="1268"/>
                  <a:pt x="5606" y="1339"/>
                </a:cubicBezTo>
                <a:cubicBezTo>
                  <a:pt x="5590" y="1410"/>
                  <a:pt x="5565" y="1492"/>
                  <a:pt x="5556" y="1563"/>
                </a:cubicBezTo>
                <a:cubicBezTo>
                  <a:pt x="5545" y="1654"/>
                  <a:pt x="5590" y="1691"/>
                  <a:pt x="5631" y="1761"/>
                </a:cubicBezTo>
                <a:cubicBezTo>
                  <a:pt x="5667" y="1821"/>
                  <a:pt x="5705" y="1859"/>
                  <a:pt x="5755" y="1910"/>
                </a:cubicBezTo>
                <a:cubicBezTo>
                  <a:pt x="5798" y="1953"/>
                  <a:pt x="5846" y="1960"/>
                  <a:pt x="5904" y="1960"/>
                </a:cubicBezTo>
                <a:cubicBezTo>
                  <a:pt x="5974" y="1960"/>
                  <a:pt x="6020" y="1952"/>
                  <a:pt x="6077" y="1935"/>
                </a:cubicBezTo>
                <a:cubicBezTo>
                  <a:pt x="6110" y="1935"/>
                  <a:pt x="6127" y="1935"/>
                  <a:pt x="6152" y="1935"/>
                </a:cubicBezTo>
              </a:path>
              <a:path w="1564" h="894">
                <a:moveTo>
                  <a:pt x="6548" y="1463"/>
                </a:moveTo>
                <a:cubicBezTo>
                  <a:pt x="6490" y="1493"/>
                  <a:pt x="6597" y="1488"/>
                  <a:pt x="6623" y="1488"/>
                </a:cubicBezTo>
                <a:cubicBezTo>
                  <a:pt x="6689" y="1488"/>
                  <a:pt x="6710" y="1468"/>
                  <a:pt x="6772" y="1463"/>
                </a:cubicBezTo>
                <a:cubicBezTo>
                  <a:pt x="6862" y="1455"/>
                  <a:pt x="6937" y="1474"/>
                  <a:pt x="7020" y="1488"/>
                </a:cubicBezTo>
                <a:cubicBezTo>
                  <a:pt x="7120" y="1505"/>
                  <a:pt x="7118" y="1415"/>
                  <a:pt x="7069" y="1488"/>
                </a:cubicBezTo>
              </a:path>
              <a:path w="1564" h="894">
                <a:moveTo>
                  <a:pt x="6474" y="1910"/>
                </a:moveTo>
                <a:cubicBezTo>
                  <a:pt x="6575" y="1910"/>
                  <a:pt x="6604" y="1923"/>
                  <a:pt x="6697" y="1960"/>
                </a:cubicBezTo>
                <a:cubicBezTo>
                  <a:pt x="6773" y="1991"/>
                  <a:pt x="6934" y="1960"/>
                  <a:pt x="7020" y="19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20960" y="357120"/>
            <a:ext cx="2448000" cy="366840"/>
          </a:xfrm>
          <a:custGeom>
            <a:avLst/>
            <a:gdLst/>
            <a:ahLst/>
            <a:rect l="l" t="t" r="r" b="b"/>
            <a:pathLst>
              <a:path w="6798" h="1018">
                <a:moveTo>
                  <a:pt x="8310" y="1191"/>
                </a:moveTo>
                <a:cubicBezTo>
                  <a:pt x="8276" y="1134"/>
                  <a:pt x="8276" y="1106"/>
                  <a:pt x="8210" y="1067"/>
                </a:cubicBezTo>
                <a:cubicBezTo>
                  <a:pt x="8147" y="1029"/>
                  <a:pt x="8063" y="1032"/>
                  <a:pt x="8012" y="1091"/>
                </a:cubicBezTo>
                <a:cubicBezTo>
                  <a:pt x="7977" y="1132"/>
                  <a:pt x="7887" y="1170"/>
                  <a:pt x="7863" y="1215"/>
                </a:cubicBezTo>
                <a:cubicBezTo>
                  <a:pt x="7820" y="1295"/>
                  <a:pt x="7838" y="1400"/>
                  <a:pt x="7838" y="1488"/>
                </a:cubicBezTo>
                <a:cubicBezTo>
                  <a:pt x="7838" y="1578"/>
                  <a:pt x="7829" y="1660"/>
                  <a:pt x="7888" y="1736"/>
                </a:cubicBezTo>
                <a:cubicBezTo>
                  <a:pt x="7943" y="1807"/>
                  <a:pt x="7967" y="1861"/>
                  <a:pt x="8012" y="1935"/>
                </a:cubicBezTo>
                <a:cubicBezTo>
                  <a:pt x="8040" y="1981"/>
                  <a:pt x="8140" y="2001"/>
                  <a:pt x="8186" y="2009"/>
                </a:cubicBezTo>
                <a:cubicBezTo>
                  <a:pt x="8264" y="2022"/>
                  <a:pt x="8418" y="2031"/>
                  <a:pt x="8483" y="1984"/>
                </a:cubicBezTo>
                <a:cubicBezTo>
                  <a:pt x="8500" y="1968"/>
                  <a:pt x="8516" y="1951"/>
                  <a:pt x="8533" y="1935"/>
                </a:cubicBezTo>
              </a:path>
              <a:path w="6798" h="1018">
                <a:moveTo>
                  <a:pt x="9054" y="1563"/>
                </a:moveTo>
                <a:cubicBezTo>
                  <a:pt x="9133" y="1563"/>
                  <a:pt x="9201" y="1548"/>
                  <a:pt x="9277" y="1538"/>
                </a:cubicBezTo>
                <a:cubicBezTo>
                  <a:pt x="9361" y="1526"/>
                  <a:pt x="9420" y="1544"/>
                  <a:pt x="9500" y="1513"/>
                </a:cubicBezTo>
              </a:path>
              <a:path w="6798" h="1018">
                <a:moveTo>
                  <a:pt x="10517" y="1067"/>
                </a:moveTo>
                <a:cubicBezTo>
                  <a:pt x="10398" y="1077"/>
                  <a:pt x="10399" y="1102"/>
                  <a:pt x="10319" y="1166"/>
                </a:cubicBezTo>
                <a:cubicBezTo>
                  <a:pt x="10259" y="1214"/>
                  <a:pt x="10234" y="1275"/>
                  <a:pt x="10195" y="1339"/>
                </a:cubicBezTo>
                <a:cubicBezTo>
                  <a:pt x="10141" y="1429"/>
                  <a:pt x="10117" y="1489"/>
                  <a:pt x="10096" y="1588"/>
                </a:cubicBezTo>
                <a:cubicBezTo>
                  <a:pt x="10084" y="1647"/>
                  <a:pt x="10202" y="1713"/>
                  <a:pt x="10244" y="1736"/>
                </a:cubicBezTo>
                <a:cubicBezTo>
                  <a:pt x="10304" y="1769"/>
                  <a:pt x="10389" y="1778"/>
                  <a:pt x="10443" y="1811"/>
                </a:cubicBezTo>
                <a:cubicBezTo>
                  <a:pt x="10507" y="1849"/>
                  <a:pt x="10567" y="1842"/>
                  <a:pt x="10641" y="1811"/>
                </a:cubicBezTo>
                <a:cubicBezTo>
                  <a:pt x="10674" y="1794"/>
                  <a:pt x="10707" y="1778"/>
                  <a:pt x="10740" y="1761"/>
                </a:cubicBezTo>
              </a:path>
              <a:path w="6798" h="1018">
                <a:moveTo>
                  <a:pt x="11237" y="1463"/>
                </a:moveTo>
                <a:cubicBezTo>
                  <a:pt x="11279" y="1495"/>
                  <a:pt x="11304" y="1510"/>
                  <a:pt x="11361" y="1513"/>
                </a:cubicBezTo>
                <a:cubicBezTo>
                  <a:pt x="11436" y="1517"/>
                  <a:pt x="11488" y="1491"/>
                  <a:pt x="11559" y="1488"/>
                </a:cubicBezTo>
                <a:cubicBezTo>
                  <a:pt x="11600" y="1486"/>
                  <a:pt x="11642" y="1488"/>
                  <a:pt x="11683" y="1488"/>
                </a:cubicBezTo>
              </a:path>
              <a:path w="6798" h="1018">
                <a:moveTo>
                  <a:pt x="12601" y="1141"/>
                </a:moveTo>
                <a:cubicBezTo>
                  <a:pt x="12523" y="1063"/>
                  <a:pt x="12538" y="1064"/>
                  <a:pt x="12452" y="1116"/>
                </a:cubicBezTo>
                <a:cubicBezTo>
                  <a:pt x="12406" y="1144"/>
                  <a:pt x="12299" y="1221"/>
                  <a:pt x="12278" y="1265"/>
                </a:cubicBezTo>
                <a:cubicBezTo>
                  <a:pt x="12254" y="1316"/>
                  <a:pt x="12232" y="1429"/>
                  <a:pt x="12229" y="1488"/>
                </a:cubicBezTo>
                <a:cubicBezTo>
                  <a:pt x="12225" y="1581"/>
                  <a:pt x="12222" y="1629"/>
                  <a:pt x="12303" y="1687"/>
                </a:cubicBezTo>
                <a:cubicBezTo>
                  <a:pt x="12360" y="1728"/>
                  <a:pt x="12439" y="1779"/>
                  <a:pt x="12502" y="1786"/>
                </a:cubicBezTo>
                <a:cubicBezTo>
                  <a:pt x="12597" y="1797"/>
                  <a:pt x="12682" y="1781"/>
                  <a:pt x="12774" y="1761"/>
                </a:cubicBezTo>
              </a:path>
              <a:path w="6798" h="1018">
                <a:moveTo>
                  <a:pt x="13146" y="1463"/>
                </a:moveTo>
                <a:cubicBezTo>
                  <a:pt x="13261" y="1463"/>
                  <a:pt x="13538" y="1505"/>
                  <a:pt x="13568" y="1414"/>
                </a:cubicBezTo>
              </a:path>
              <a:path w="6798" h="1018">
                <a:moveTo>
                  <a:pt x="14312" y="1042"/>
                </a:moveTo>
                <a:cubicBezTo>
                  <a:pt x="14335" y="1019"/>
                  <a:pt x="14343" y="1015"/>
                  <a:pt x="14337" y="992"/>
                </a:cubicBezTo>
                <a:cubicBezTo>
                  <a:pt x="14248" y="992"/>
                  <a:pt x="14209" y="1009"/>
                  <a:pt x="14139" y="1067"/>
                </a:cubicBezTo>
                <a:cubicBezTo>
                  <a:pt x="14076" y="1119"/>
                  <a:pt x="14034" y="1198"/>
                  <a:pt x="13990" y="1265"/>
                </a:cubicBezTo>
                <a:cubicBezTo>
                  <a:pt x="13937" y="1346"/>
                  <a:pt x="13888" y="1436"/>
                  <a:pt x="13915" y="1538"/>
                </a:cubicBezTo>
                <a:cubicBezTo>
                  <a:pt x="13938" y="1624"/>
                  <a:pt x="14001" y="1695"/>
                  <a:pt x="14089" y="1712"/>
                </a:cubicBezTo>
                <a:cubicBezTo>
                  <a:pt x="14195" y="1733"/>
                  <a:pt x="14302" y="1736"/>
                  <a:pt x="14412" y="1736"/>
                </a:cubicBezTo>
                <a:cubicBezTo>
                  <a:pt x="14511" y="1736"/>
                  <a:pt x="14580" y="1728"/>
                  <a:pt x="14635" y="16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6000" y="446040"/>
            <a:ext cx="687240" cy="331920"/>
          </a:xfrm>
          <a:custGeom>
            <a:avLst/>
            <a:gdLst/>
            <a:ahLst/>
            <a:rect l="l" t="t" r="r" b="b"/>
            <a:pathLst>
              <a:path w="1911" h="919">
                <a:moveTo>
                  <a:pt x="16098" y="1786"/>
                </a:moveTo>
                <a:cubicBezTo>
                  <a:pt x="16185" y="1786"/>
                  <a:pt x="16266" y="1795"/>
                  <a:pt x="16346" y="1761"/>
                </a:cubicBezTo>
                <a:cubicBezTo>
                  <a:pt x="16421" y="1729"/>
                  <a:pt x="16487" y="1736"/>
                  <a:pt x="16570" y="1736"/>
                </a:cubicBezTo>
                <a:cubicBezTo>
                  <a:pt x="16689" y="1736"/>
                  <a:pt x="16776" y="1702"/>
                  <a:pt x="16892" y="1687"/>
                </a:cubicBezTo>
                <a:cubicBezTo>
                  <a:pt x="17033" y="1668"/>
                  <a:pt x="17181" y="1691"/>
                  <a:pt x="17314" y="1712"/>
                </a:cubicBezTo>
                <a:cubicBezTo>
                  <a:pt x="17363" y="1720"/>
                  <a:pt x="17419" y="1681"/>
                  <a:pt x="17462" y="1662"/>
                </a:cubicBezTo>
                <a:cubicBezTo>
                  <a:pt x="17547" y="1624"/>
                  <a:pt x="17568" y="1685"/>
                  <a:pt x="17636" y="1662"/>
                </a:cubicBezTo>
                <a:cubicBezTo>
                  <a:pt x="17669" y="1651"/>
                  <a:pt x="17623" y="1670"/>
                  <a:pt x="17636" y="1637"/>
                </a:cubicBezTo>
              </a:path>
              <a:path w="1911" h="919">
                <a:moveTo>
                  <a:pt x="17388" y="1240"/>
                </a:moveTo>
                <a:cubicBezTo>
                  <a:pt x="17441" y="1251"/>
                  <a:pt x="17492" y="1282"/>
                  <a:pt x="17537" y="1315"/>
                </a:cubicBezTo>
                <a:cubicBezTo>
                  <a:pt x="17576" y="1344"/>
                  <a:pt x="17636" y="1368"/>
                  <a:pt x="17686" y="1389"/>
                </a:cubicBezTo>
                <a:cubicBezTo>
                  <a:pt x="17766" y="1422"/>
                  <a:pt x="17837" y="1445"/>
                  <a:pt x="17909" y="1488"/>
                </a:cubicBezTo>
                <a:cubicBezTo>
                  <a:pt x="17967" y="1523"/>
                  <a:pt x="18001" y="1538"/>
                  <a:pt x="18008" y="1612"/>
                </a:cubicBezTo>
                <a:cubicBezTo>
                  <a:pt x="18014" y="1676"/>
                  <a:pt x="17995" y="1733"/>
                  <a:pt x="17959" y="1786"/>
                </a:cubicBezTo>
                <a:cubicBezTo>
                  <a:pt x="17907" y="1861"/>
                  <a:pt x="17879" y="1896"/>
                  <a:pt x="17810" y="1960"/>
                </a:cubicBezTo>
                <a:cubicBezTo>
                  <a:pt x="17748" y="2019"/>
                  <a:pt x="17706" y="2092"/>
                  <a:pt x="17636" y="2133"/>
                </a:cubicBezTo>
                <a:cubicBezTo>
                  <a:pt x="17610" y="2148"/>
                  <a:pt x="17511" y="2158"/>
                  <a:pt x="17562" y="21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6720" y="482760"/>
            <a:ext cx="2224080" cy="946080"/>
          </a:xfrm>
          <a:custGeom>
            <a:avLst/>
            <a:gdLst/>
            <a:ahLst/>
            <a:rect l="l" t="t" r="r" b="b"/>
            <a:pathLst>
              <a:path w="6177" h="2631">
                <a:moveTo>
                  <a:pt x="19372" y="1414"/>
                </a:moveTo>
                <a:cubicBezTo>
                  <a:pt x="19360" y="1323"/>
                  <a:pt x="19337" y="1339"/>
                  <a:pt x="19248" y="1339"/>
                </a:cubicBezTo>
                <a:cubicBezTo>
                  <a:pt x="19181" y="1339"/>
                  <a:pt x="19137" y="1336"/>
                  <a:pt x="19075" y="1364"/>
                </a:cubicBezTo>
                <a:cubicBezTo>
                  <a:pt x="18992" y="1401"/>
                  <a:pt x="18971" y="1470"/>
                  <a:pt x="18926" y="1538"/>
                </a:cubicBezTo>
                <a:cubicBezTo>
                  <a:pt x="18886" y="1598"/>
                  <a:pt x="18855" y="1636"/>
                  <a:pt x="18852" y="1712"/>
                </a:cubicBezTo>
                <a:cubicBezTo>
                  <a:pt x="18848" y="1804"/>
                  <a:pt x="18891" y="1865"/>
                  <a:pt x="18976" y="1910"/>
                </a:cubicBezTo>
                <a:cubicBezTo>
                  <a:pt x="19039" y="1943"/>
                  <a:pt x="19178" y="1973"/>
                  <a:pt x="19248" y="1984"/>
                </a:cubicBezTo>
                <a:cubicBezTo>
                  <a:pt x="19293" y="1991"/>
                  <a:pt x="19350" y="1984"/>
                  <a:pt x="19397" y="1984"/>
                </a:cubicBezTo>
              </a:path>
              <a:path w="6177" h="2631">
                <a:moveTo>
                  <a:pt x="19968" y="1687"/>
                </a:moveTo>
                <a:cubicBezTo>
                  <a:pt x="20070" y="1687"/>
                  <a:pt x="20171" y="1698"/>
                  <a:pt x="20265" y="1662"/>
                </a:cubicBezTo>
              </a:path>
              <a:path w="6177" h="2631">
                <a:moveTo>
                  <a:pt x="21332" y="1414"/>
                </a:moveTo>
                <a:cubicBezTo>
                  <a:pt x="21236" y="1426"/>
                  <a:pt x="21201" y="1463"/>
                  <a:pt x="21134" y="1513"/>
                </a:cubicBezTo>
                <a:cubicBezTo>
                  <a:pt x="21092" y="1545"/>
                  <a:pt x="21042" y="1604"/>
                  <a:pt x="21034" y="1662"/>
                </a:cubicBezTo>
                <a:cubicBezTo>
                  <a:pt x="21024" y="1733"/>
                  <a:pt x="21001" y="1777"/>
                  <a:pt x="21034" y="1836"/>
                </a:cubicBezTo>
                <a:cubicBezTo>
                  <a:pt x="21076" y="1909"/>
                  <a:pt x="21195" y="1971"/>
                  <a:pt x="21282" y="1984"/>
                </a:cubicBezTo>
                <a:cubicBezTo>
                  <a:pt x="21392" y="2000"/>
                  <a:pt x="21510" y="1980"/>
                  <a:pt x="21605" y="1960"/>
                </a:cubicBezTo>
                <a:cubicBezTo>
                  <a:pt x="21621" y="1960"/>
                  <a:pt x="21638" y="1960"/>
                  <a:pt x="21654" y="1960"/>
                </a:cubicBezTo>
              </a:path>
              <a:path w="6177" h="2631">
                <a:moveTo>
                  <a:pt x="21977" y="1637"/>
                </a:moveTo>
                <a:cubicBezTo>
                  <a:pt x="22080" y="1637"/>
                  <a:pt x="22180" y="1626"/>
                  <a:pt x="22275" y="1662"/>
                </a:cubicBezTo>
              </a:path>
              <a:path w="6177" h="2631">
                <a:moveTo>
                  <a:pt x="23267" y="1389"/>
                </a:moveTo>
                <a:cubicBezTo>
                  <a:pt x="23191" y="1389"/>
                  <a:pt x="23181" y="1386"/>
                  <a:pt x="23118" y="1439"/>
                </a:cubicBezTo>
                <a:cubicBezTo>
                  <a:pt x="23057" y="1490"/>
                  <a:pt x="23053" y="1492"/>
                  <a:pt x="23019" y="1563"/>
                </a:cubicBezTo>
                <a:cubicBezTo>
                  <a:pt x="22988" y="1628"/>
                  <a:pt x="22969" y="1663"/>
                  <a:pt x="22969" y="1736"/>
                </a:cubicBezTo>
                <a:cubicBezTo>
                  <a:pt x="22969" y="1794"/>
                  <a:pt x="22958" y="1896"/>
                  <a:pt x="23019" y="1935"/>
                </a:cubicBezTo>
                <a:cubicBezTo>
                  <a:pt x="23091" y="1981"/>
                  <a:pt x="23261" y="1972"/>
                  <a:pt x="23341" y="1960"/>
                </a:cubicBezTo>
                <a:cubicBezTo>
                  <a:pt x="23423" y="1939"/>
                  <a:pt x="23439" y="1931"/>
                  <a:pt x="23490" y="1935"/>
                </a:cubicBezTo>
              </a:path>
              <a:path w="6177" h="2631">
                <a:moveTo>
                  <a:pt x="23862" y="1712"/>
                </a:moveTo>
                <a:cubicBezTo>
                  <a:pt x="23978" y="1712"/>
                  <a:pt x="24093" y="1712"/>
                  <a:pt x="24209" y="1712"/>
                </a:cubicBezTo>
              </a:path>
              <a:path w="6177" h="2631">
                <a:moveTo>
                  <a:pt x="24879" y="1414"/>
                </a:moveTo>
                <a:cubicBezTo>
                  <a:pt x="24809" y="1384"/>
                  <a:pt x="24758" y="1398"/>
                  <a:pt x="24705" y="1463"/>
                </a:cubicBezTo>
                <a:cubicBezTo>
                  <a:pt x="24668" y="1508"/>
                  <a:pt x="24650" y="1585"/>
                  <a:pt x="24631" y="1637"/>
                </a:cubicBezTo>
                <a:cubicBezTo>
                  <a:pt x="24608" y="1702"/>
                  <a:pt x="24566" y="1815"/>
                  <a:pt x="24581" y="1885"/>
                </a:cubicBezTo>
                <a:cubicBezTo>
                  <a:pt x="24594" y="1948"/>
                  <a:pt x="24644" y="1999"/>
                  <a:pt x="24681" y="2034"/>
                </a:cubicBezTo>
                <a:cubicBezTo>
                  <a:pt x="24722" y="2072"/>
                  <a:pt x="24773" y="2103"/>
                  <a:pt x="24829" y="2108"/>
                </a:cubicBezTo>
                <a:cubicBezTo>
                  <a:pt x="24899" y="2115"/>
                  <a:pt x="24972" y="2116"/>
                  <a:pt x="25028" y="2084"/>
                </a:cubicBezTo>
              </a:path>
              <a:path w="6177" h="2631">
                <a:moveTo>
                  <a:pt x="21183" y="2480"/>
                </a:moveTo>
                <a:cubicBezTo>
                  <a:pt x="21191" y="2480"/>
                  <a:pt x="21200" y="2480"/>
                  <a:pt x="21208" y="2480"/>
                </a:cubicBezTo>
                <a:cubicBezTo>
                  <a:pt x="21195" y="2533"/>
                  <a:pt x="21183" y="2566"/>
                  <a:pt x="21183" y="2629"/>
                </a:cubicBezTo>
                <a:cubicBezTo>
                  <a:pt x="21183" y="2686"/>
                  <a:pt x="21267" y="2757"/>
                  <a:pt x="21258" y="2803"/>
                </a:cubicBezTo>
                <a:cubicBezTo>
                  <a:pt x="21250" y="2811"/>
                  <a:pt x="21241" y="2820"/>
                  <a:pt x="21233" y="2828"/>
                </a:cubicBezTo>
              </a:path>
              <a:path w="6177" h="2631">
                <a:moveTo>
                  <a:pt x="21382" y="3200"/>
                </a:moveTo>
                <a:cubicBezTo>
                  <a:pt x="21342" y="3177"/>
                  <a:pt x="21284" y="3124"/>
                  <a:pt x="21233" y="3150"/>
                </a:cubicBezTo>
                <a:cubicBezTo>
                  <a:pt x="21176" y="3179"/>
                  <a:pt x="21150" y="3217"/>
                  <a:pt x="21109" y="3249"/>
                </a:cubicBezTo>
                <a:cubicBezTo>
                  <a:pt x="21057" y="3289"/>
                  <a:pt x="20999" y="3339"/>
                  <a:pt x="20960" y="3398"/>
                </a:cubicBezTo>
                <a:cubicBezTo>
                  <a:pt x="20931" y="3442"/>
                  <a:pt x="20913" y="3499"/>
                  <a:pt x="20910" y="3547"/>
                </a:cubicBezTo>
                <a:cubicBezTo>
                  <a:pt x="20906" y="3607"/>
                  <a:pt x="20910" y="3678"/>
                  <a:pt x="20960" y="3721"/>
                </a:cubicBezTo>
                <a:cubicBezTo>
                  <a:pt x="21020" y="3772"/>
                  <a:pt x="21109" y="3792"/>
                  <a:pt x="21183" y="3795"/>
                </a:cubicBezTo>
                <a:cubicBezTo>
                  <a:pt x="21279" y="3799"/>
                  <a:pt x="21363" y="3763"/>
                  <a:pt x="21456" y="3746"/>
                </a:cubicBezTo>
                <a:cubicBezTo>
                  <a:pt x="21464" y="3746"/>
                  <a:pt x="21473" y="3746"/>
                  <a:pt x="21481" y="3746"/>
                </a:cubicBezTo>
              </a:path>
              <a:path w="6177" h="2631">
                <a:moveTo>
                  <a:pt x="23168" y="2480"/>
                </a:moveTo>
                <a:cubicBezTo>
                  <a:pt x="23155" y="2530"/>
                  <a:pt x="23143" y="2544"/>
                  <a:pt x="23143" y="2604"/>
                </a:cubicBezTo>
                <a:cubicBezTo>
                  <a:pt x="23143" y="2698"/>
                  <a:pt x="23131" y="2792"/>
                  <a:pt x="23168" y="2877"/>
                </a:cubicBezTo>
                <a:cubicBezTo>
                  <a:pt x="23196" y="2940"/>
                  <a:pt x="23206" y="2970"/>
                  <a:pt x="23143" y="3001"/>
                </a:cubicBezTo>
              </a:path>
              <a:path w="6177" h="2631">
                <a:moveTo>
                  <a:pt x="23217" y="3473"/>
                </a:moveTo>
                <a:cubicBezTo>
                  <a:pt x="23181" y="3421"/>
                  <a:pt x="23130" y="3325"/>
                  <a:pt x="23044" y="3373"/>
                </a:cubicBezTo>
                <a:cubicBezTo>
                  <a:pt x="22982" y="3408"/>
                  <a:pt x="22899" y="3476"/>
                  <a:pt x="22845" y="3522"/>
                </a:cubicBezTo>
                <a:cubicBezTo>
                  <a:pt x="22788" y="3570"/>
                  <a:pt x="22744" y="3673"/>
                  <a:pt x="22721" y="3746"/>
                </a:cubicBezTo>
                <a:cubicBezTo>
                  <a:pt x="22692" y="3838"/>
                  <a:pt x="22742" y="3839"/>
                  <a:pt x="22771" y="3870"/>
                </a:cubicBezTo>
                <a:cubicBezTo>
                  <a:pt x="22834" y="3937"/>
                  <a:pt x="22834" y="3963"/>
                  <a:pt x="22944" y="3969"/>
                </a:cubicBezTo>
                <a:cubicBezTo>
                  <a:pt x="23051" y="3975"/>
                  <a:pt x="23160" y="3969"/>
                  <a:pt x="23267" y="3969"/>
                </a:cubicBezTo>
              </a:path>
              <a:path w="6177" h="2631">
                <a:moveTo>
                  <a:pt x="19819" y="2084"/>
                </a:moveTo>
                <a:cubicBezTo>
                  <a:pt x="19878" y="2084"/>
                  <a:pt x="19897" y="2074"/>
                  <a:pt x="19943" y="2059"/>
                </a:cubicBezTo>
                <a:cubicBezTo>
                  <a:pt x="20082" y="2013"/>
                  <a:pt x="20270" y="2070"/>
                  <a:pt x="20414" y="2034"/>
                </a:cubicBezTo>
                <a:cubicBezTo>
                  <a:pt x="20457" y="2023"/>
                  <a:pt x="20583" y="2009"/>
                  <a:pt x="20538" y="2009"/>
                </a:cubicBezTo>
                <a:cubicBezTo>
                  <a:pt x="20497" y="2009"/>
                  <a:pt x="20489" y="2009"/>
                  <a:pt x="20464" y="2009"/>
                </a:cubicBezTo>
              </a:path>
              <a:path w="6177" h="2631">
                <a:moveTo>
                  <a:pt x="19844" y="1712"/>
                </a:moveTo>
                <a:cubicBezTo>
                  <a:pt x="19886" y="1680"/>
                  <a:pt x="19912" y="1687"/>
                  <a:pt x="19968" y="1687"/>
                </a:cubicBezTo>
                <a:cubicBezTo>
                  <a:pt x="20025" y="1687"/>
                  <a:pt x="20071" y="1675"/>
                  <a:pt x="20117" y="1662"/>
                </a:cubicBezTo>
                <a:cubicBezTo>
                  <a:pt x="20172" y="1647"/>
                  <a:pt x="20256" y="1707"/>
                  <a:pt x="20315" y="1712"/>
                </a:cubicBezTo>
                <a:cubicBezTo>
                  <a:pt x="20364" y="1716"/>
                  <a:pt x="20415" y="1712"/>
                  <a:pt x="20464" y="1712"/>
                </a:cubicBezTo>
                <a:cubicBezTo>
                  <a:pt x="20404" y="1686"/>
                  <a:pt x="20355" y="1667"/>
                  <a:pt x="20290" y="1662"/>
                </a:cubicBezTo>
                <a:cubicBezTo>
                  <a:pt x="20240" y="1658"/>
                  <a:pt x="20203" y="1637"/>
                  <a:pt x="20141" y="1637"/>
                </a:cubicBezTo>
                <a:cubicBezTo>
                  <a:pt x="20063" y="1637"/>
                  <a:pt x="19918" y="1740"/>
                  <a:pt x="19918" y="1662"/>
                </a:cubicBezTo>
                <a:cubicBezTo>
                  <a:pt x="19926" y="1654"/>
                  <a:pt x="19935" y="1645"/>
                  <a:pt x="19943" y="16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30680" y="866880"/>
            <a:ext cx="233280" cy="482400"/>
          </a:xfrm>
          <a:custGeom>
            <a:avLst/>
            <a:gdLst/>
            <a:ahLst/>
            <a:rect l="l" t="t" r="r" b="b"/>
            <a:pathLst>
              <a:path w="646" h="1341">
                <a:moveTo>
                  <a:pt x="8285" y="2406"/>
                </a:moveTo>
                <a:cubicBezTo>
                  <a:pt x="8310" y="2439"/>
                  <a:pt x="8324" y="2483"/>
                  <a:pt x="8310" y="2530"/>
                </a:cubicBezTo>
                <a:cubicBezTo>
                  <a:pt x="8288" y="2606"/>
                  <a:pt x="8260" y="2596"/>
                  <a:pt x="8260" y="2679"/>
                </a:cubicBezTo>
                <a:cubicBezTo>
                  <a:pt x="8260" y="2687"/>
                  <a:pt x="8260" y="2696"/>
                  <a:pt x="8260" y="2704"/>
                </a:cubicBezTo>
              </a:path>
              <a:path w="646" h="1341">
                <a:moveTo>
                  <a:pt x="8334" y="3101"/>
                </a:moveTo>
                <a:cubicBezTo>
                  <a:pt x="8334" y="3084"/>
                  <a:pt x="8334" y="3068"/>
                  <a:pt x="8334" y="3051"/>
                </a:cubicBezTo>
                <a:cubicBezTo>
                  <a:pt x="8267" y="3051"/>
                  <a:pt x="8187" y="3035"/>
                  <a:pt x="8136" y="3076"/>
                </a:cubicBezTo>
                <a:cubicBezTo>
                  <a:pt x="8085" y="3117"/>
                  <a:pt x="8043" y="3128"/>
                  <a:pt x="7987" y="3175"/>
                </a:cubicBezTo>
                <a:cubicBezTo>
                  <a:pt x="7915" y="3234"/>
                  <a:pt x="7915" y="3270"/>
                  <a:pt x="7888" y="3349"/>
                </a:cubicBezTo>
                <a:cubicBezTo>
                  <a:pt x="7858" y="3437"/>
                  <a:pt x="7881" y="3489"/>
                  <a:pt x="7938" y="3547"/>
                </a:cubicBezTo>
                <a:cubicBezTo>
                  <a:pt x="8007" y="3617"/>
                  <a:pt x="8136" y="3722"/>
                  <a:pt x="8235" y="3746"/>
                </a:cubicBezTo>
                <a:cubicBezTo>
                  <a:pt x="8316" y="3766"/>
                  <a:pt x="8416" y="3739"/>
                  <a:pt x="8483" y="3721"/>
                </a:cubicBezTo>
                <a:cubicBezTo>
                  <a:pt x="8525" y="3709"/>
                  <a:pt x="8508" y="3690"/>
                  <a:pt x="8508" y="36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90760" y="2732040"/>
            <a:ext cx="1339920" cy="1509840"/>
          </a:xfrm>
          <a:custGeom>
            <a:avLst/>
            <a:gdLst/>
            <a:ahLst/>
            <a:rect l="l" t="t" r="r" b="b"/>
            <a:pathLst>
              <a:path w="3722" h="4193">
                <a:moveTo>
                  <a:pt x="5531" y="9153"/>
                </a:moveTo>
                <a:cubicBezTo>
                  <a:pt x="5588" y="9210"/>
                  <a:pt x="5643" y="9252"/>
                  <a:pt x="5705" y="9302"/>
                </a:cubicBezTo>
                <a:cubicBezTo>
                  <a:pt x="5773" y="9357"/>
                  <a:pt x="5870" y="9414"/>
                  <a:pt x="5928" y="9475"/>
                </a:cubicBezTo>
                <a:cubicBezTo>
                  <a:pt x="6029" y="9580"/>
                  <a:pt x="6113" y="9683"/>
                  <a:pt x="6201" y="9798"/>
                </a:cubicBezTo>
                <a:cubicBezTo>
                  <a:pt x="6259" y="9874"/>
                  <a:pt x="6356" y="9935"/>
                  <a:pt x="6424" y="9996"/>
                </a:cubicBezTo>
                <a:cubicBezTo>
                  <a:pt x="6538" y="10098"/>
                  <a:pt x="6444" y="10046"/>
                  <a:pt x="6375" y="10046"/>
                </a:cubicBezTo>
              </a:path>
              <a:path w="3722" h="4193">
                <a:moveTo>
                  <a:pt x="4142" y="10096"/>
                </a:moveTo>
                <a:cubicBezTo>
                  <a:pt x="4174" y="10197"/>
                  <a:pt x="4204" y="10281"/>
                  <a:pt x="4217" y="10393"/>
                </a:cubicBezTo>
                <a:cubicBezTo>
                  <a:pt x="4245" y="10633"/>
                  <a:pt x="4217" y="10894"/>
                  <a:pt x="4217" y="11137"/>
                </a:cubicBezTo>
                <a:cubicBezTo>
                  <a:pt x="4248" y="11105"/>
                  <a:pt x="4235" y="11104"/>
                  <a:pt x="4266" y="11137"/>
                </a:cubicBezTo>
                <a:cubicBezTo>
                  <a:pt x="4314" y="11161"/>
                  <a:pt x="4331" y="11167"/>
                  <a:pt x="4316" y="11212"/>
                </a:cubicBezTo>
                <a:cubicBezTo>
                  <a:pt x="4375" y="11244"/>
                  <a:pt x="4416" y="11250"/>
                  <a:pt x="4490" y="11286"/>
                </a:cubicBezTo>
                <a:cubicBezTo>
                  <a:pt x="4660" y="11369"/>
                  <a:pt x="4902" y="11458"/>
                  <a:pt x="5035" y="11584"/>
                </a:cubicBezTo>
                <a:cubicBezTo>
                  <a:pt x="5102" y="11648"/>
                  <a:pt x="5137" y="11650"/>
                  <a:pt x="5209" y="11708"/>
                </a:cubicBezTo>
                <a:cubicBezTo>
                  <a:pt x="5260" y="11749"/>
                  <a:pt x="5269" y="11776"/>
                  <a:pt x="5333" y="11782"/>
                </a:cubicBezTo>
                <a:cubicBezTo>
                  <a:pt x="5394" y="11788"/>
                  <a:pt x="5473" y="11713"/>
                  <a:pt x="5507" y="11683"/>
                </a:cubicBezTo>
                <a:cubicBezTo>
                  <a:pt x="5556" y="11640"/>
                  <a:pt x="5602" y="11617"/>
                  <a:pt x="5655" y="11584"/>
                </a:cubicBezTo>
                <a:cubicBezTo>
                  <a:pt x="5704" y="11554"/>
                  <a:pt x="5779" y="11479"/>
                  <a:pt x="5854" y="11460"/>
                </a:cubicBezTo>
                <a:cubicBezTo>
                  <a:pt x="5944" y="11438"/>
                  <a:pt x="6014" y="11404"/>
                  <a:pt x="6102" y="11361"/>
                </a:cubicBezTo>
                <a:cubicBezTo>
                  <a:pt x="6160" y="11333"/>
                  <a:pt x="6195" y="11305"/>
                  <a:pt x="6251" y="11261"/>
                </a:cubicBezTo>
                <a:cubicBezTo>
                  <a:pt x="6300" y="11223"/>
                  <a:pt x="6296" y="11225"/>
                  <a:pt x="6325" y="11187"/>
                </a:cubicBezTo>
              </a:path>
              <a:path w="3722" h="4193">
                <a:moveTo>
                  <a:pt x="6449" y="9971"/>
                </a:moveTo>
                <a:cubicBezTo>
                  <a:pt x="6449" y="10091"/>
                  <a:pt x="6459" y="10206"/>
                  <a:pt x="6474" y="10319"/>
                </a:cubicBezTo>
                <a:cubicBezTo>
                  <a:pt x="6503" y="10542"/>
                  <a:pt x="6474" y="10787"/>
                  <a:pt x="6474" y="11013"/>
                </a:cubicBezTo>
                <a:cubicBezTo>
                  <a:pt x="6452" y="10970"/>
                  <a:pt x="6448" y="10958"/>
                  <a:pt x="6424" y="10939"/>
                </a:cubicBezTo>
              </a:path>
              <a:path w="3722" h="4193">
                <a:moveTo>
                  <a:pt x="5308" y="10195"/>
                </a:moveTo>
                <a:cubicBezTo>
                  <a:pt x="5254" y="10249"/>
                  <a:pt x="5248" y="10287"/>
                  <a:pt x="5209" y="10344"/>
                </a:cubicBezTo>
                <a:cubicBezTo>
                  <a:pt x="5174" y="10396"/>
                  <a:pt x="5162" y="10474"/>
                  <a:pt x="5159" y="10542"/>
                </a:cubicBezTo>
                <a:cubicBezTo>
                  <a:pt x="5154" y="10651"/>
                  <a:pt x="5168" y="10665"/>
                  <a:pt x="5234" y="10740"/>
                </a:cubicBezTo>
                <a:cubicBezTo>
                  <a:pt x="5289" y="10802"/>
                  <a:pt x="5324" y="10835"/>
                  <a:pt x="5407" y="10840"/>
                </a:cubicBezTo>
                <a:cubicBezTo>
                  <a:pt x="5477" y="10844"/>
                  <a:pt x="5538" y="10822"/>
                  <a:pt x="5581" y="10765"/>
                </a:cubicBezTo>
                <a:cubicBezTo>
                  <a:pt x="5646" y="10677"/>
                  <a:pt x="5664" y="10591"/>
                  <a:pt x="5705" y="10492"/>
                </a:cubicBezTo>
                <a:cubicBezTo>
                  <a:pt x="5739" y="10410"/>
                  <a:pt x="5724" y="10417"/>
                  <a:pt x="5680" y="10344"/>
                </a:cubicBezTo>
                <a:cubicBezTo>
                  <a:pt x="5642" y="10281"/>
                  <a:pt x="5537" y="10246"/>
                  <a:pt x="5457" y="10220"/>
                </a:cubicBezTo>
                <a:cubicBezTo>
                  <a:pt x="5408" y="10204"/>
                  <a:pt x="5383" y="10158"/>
                  <a:pt x="5333" y="10145"/>
                </a:cubicBezTo>
              </a:path>
              <a:path w="3722" h="4193">
                <a:moveTo>
                  <a:pt x="5457" y="9004"/>
                </a:moveTo>
                <a:cubicBezTo>
                  <a:pt x="5505" y="8909"/>
                  <a:pt x="5559" y="8881"/>
                  <a:pt x="5631" y="8806"/>
                </a:cubicBezTo>
                <a:cubicBezTo>
                  <a:pt x="5768" y="8663"/>
                  <a:pt x="5894" y="8581"/>
                  <a:pt x="6052" y="8483"/>
                </a:cubicBezTo>
                <a:cubicBezTo>
                  <a:pt x="6105" y="8450"/>
                  <a:pt x="6098" y="8422"/>
                  <a:pt x="6152" y="8409"/>
                </a:cubicBezTo>
              </a:path>
              <a:path w="3722" h="4193">
                <a:moveTo>
                  <a:pt x="6548" y="10096"/>
                </a:moveTo>
                <a:cubicBezTo>
                  <a:pt x="6604" y="10040"/>
                  <a:pt x="6620" y="10055"/>
                  <a:pt x="6697" y="10021"/>
                </a:cubicBezTo>
                <a:cubicBezTo>
                  <a:pt x="6832" y="9962"/>
                  <a:pt x="6960" y="9908"/>
                  <a:pt x="7094" y="9847"/>
                </a:cubicBezTo>
                <a:cubicBezTo>
                  <a:pt x="7197" y="9800"/>
                  <a:pt x="7228" y="9779"/>
                  <a:pt x="7293" y="9699"/>
                </a:cubicBezTo>
              </a:path>
              <a:path w="3722" h="4193">
                <a:moveTo>
                  <a:pt x="6623" y="7764"/>
                </a:moveTo>
                <a:cubicBezTo>
                  <a:pt x="6590" y="7687"/>
                  <a:pt x="6598" y="7695"/>
                  <a:pt x="6524" y="7665"/>
                </a:cubicBezTo>
                <a:cubicBezTo>
                  <a:pt x="6460" y="7640"/>
                  <a:pt x="6419" y="7622"/>
                  <a:pt x="6375" y="7689"/>
                </a:cubicBezTo>
                <a:cubicBezTo>
                  <a:pt x="6341" y="7741"/>
                  <a:pt x="6308" y="7802"/>
                  <a:pt x="6300" y="7863"/>
                </a:cubicBezTo>
                <a:cubicBezTo>
                  <a:pt x="6285" y="7979"/>
                  <a:pt x="6300" y="8062"/>
                  <a:pt x="6350" y="8161"/>
                </a:cubicBezTo>
                <a:cubicBezTo>
                  <a:pt x="6387" y="8235"/>
                  <a:pt x="6470" y="8301"/>
                  <a:pt x="6548" y="8310"/>
                </a:cubicBezTo>
                <a:cubicBezTo>
                  <a:pt x="6668" y="8323"/>
                  <a:pt x="6719" y="8269"/>
                  <a:pt x="6821" y="8210"/>
                </a:cubicBezTo>
              </a:path>
              <a:path w="3722" h="4193">
                <a:moveTo>
                  <a:pt x="7069" y="7615"/>
                </a:moveTo>
                <a:cubicBezTo>
                  <a:pt x="7087" y="7714"/>
                  <a:pt x="7094" y="7790"/>
                  <a:pt x="7094" y="7888"/>
                </a:cubicBezTo>
                <a:cubicBezTo>
                  <a:pt x="7094" y="7950"/>
                  <a:pt x="7085" y="8182"/>
                  <a:pt x="7094" y="8161"/>
                </a:cubicBezTo>
                <a:cubicBezTo>
                  <a:pt x="7102" y="8144"/>
                  <a:pt x="7111" y="8128"/>
                  <a:pt x="7119" y="8111"/>
                </a:cubicBezTo>
              </a:path>
              <a:path w="3722" h="4193">
                <a:moveTo>
                  <a:pt x="7342" y="7590"/>
                </a:moveTo>
                <a:cubicBezTo>
                  <a:pt x="7342" y="7727"/>
                  <a:pt x="7341" y="7857"/>
                  <a:pt x="7367" y="7987"/>
                </a:cubicBezTo>
                <a:cubicBezTo>
                  <a:pt x="7381" y="8056"/>
                  <a:pt x="7364" y="8072"/>
                  <a:pt x="7317" y="8111"/>
                </a:cubicBezTo>
              </a:path>
              <a:path w="3722" h="4193">
                <a:moveTo>
                  <a:pt x="7144" y="7938"/>
                </a:moveTo>
                <a:cubicBezTo>
                  <a:pt x="7202" y="7913"/>
                  <a:pt x="7253" y="7891"/>
                  <a:pt x="7317" y="7888"/>
                </a:cubicBezTo>
                <a:cubicBezTo>
                  <a:pt x="7375" y="7888"/>
                  <a:pt x="7384" y="7888"/>
                  <a:pt x="7417" y="7888"/>
                </a:cubicBezTo>
              </a:path>
              <a:path w="3722" h="4193">
                <a:moveTo>
                  <a:pt x="7689" y="7938"/>
                </a:moveTo>
                <a:cubicBezTo>
                  <a:pt x="7689" y="7921"/>
                  <a:pt x="7689" y="7905"/>
                  <a:pt x="7689" y="7888"/>
                </a:cubicBezTo>
                <a:cubicBezTo>
                  <a:pt x="7733" y="7888"/>
                  <a:pt x="7847" y="7874"/>
                  <a:pt x="7813" y="7962"/>
                </a:cubicBezTo>
                <a:cubicBezTo>
                  <a:pt x="7794" y="8010"/>
                  <a:pt x="7727" y="8055"/>
                  <a:pt x="7714" y="8086"/>
                </a:cubicBezTo>
                <a:cubicBezTo>
                  <a:pt x="7684" y="8156"/>
                  <a:pt x="7776" y="8182"/>
                  <a:pt x="7813" y="8210"/>
                </a:cubicBezTo>
                <a:cubicBezTo>
                  <a:pt x="7859" y="8244"/>
                  <a:pt x="7884" y="8330"/>
                  <a:pt x="7863" y="8384"/>
                </a:cubicBezTo>
                <a:cubicBezTo>
                  <a:pt x="7858" y="8397"/>
                  <a:pt x="7755" y="8480"/>
                  <a:pt x="7739" y="8483"/>
                </a:cubicBezTo>
                <a:cubicBezTo>
                  <a:pt x="7667" y="8498"/>
                  <a:pt x="7623" y="8472"/>
                  <a:pt x="7565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8200" y="911160"/>
            <a:ext cx="214560" cy="830160"/>
          </a:xfrm>
          <a:custGeom>
            <a:avLst/>
            <a:gdLst/>
            <a:ahLst/>
            <a:rect l="l" t="t" r="r" b="b"/>
            <a:pathLst>
              <a:path w="596" h="2308">
                <a:moveTo>
                  <a:pt x="819" y="2828"/>
                </a:moveTo>
                <a:cubicBezTo>
                  <a:pt x="819" y="2906"/>
                  <a:pt x="831" y="2955"/>
                  <a:pt x="843" y="3026"/>
                </a:cubicBezTo>
                <a:cubicBezTo>
                  <a:pt x="871" y="3190"/>
                  <a:pt x="843" y="3380"/>
                  <a:pt x="843" y="3547"/>
                </a:cubicBezTo>
                <a:cubicBezTo>
                  <a:pt x="817" y="3475"/>
                  <a:pt x="819" y="3454"/>
                  <a:pt x="819" y="3373"/>
                </a:cubicBezTo>
                <a:cubicBezTo>
                  <a:pt x="819" y="3283"/>
                  <a:pt x="819" y="3214"/>
                  <a:pt x="794" y="3125"/>
                </a:cubicBezTo>
                <a:cubicBezTo>
                  <a:pt x="768" y="3032"/>
                  <a:pt x="732" y="2901"/>
                  <a:pt x="744" y="2803"/>
                </a:cubicBezTo>
                <a:cubicBezTo>
                  <a:pt x="756" y="2711"/>
                  <a:pt x="815" y="2650"/>
                  <a:pt x="868" y="2580"/>
                </a:cubicBezTo>
                <a:cubicBezTo>
                  <a:pt x="905" y="2531"/>
                  <a:pt x="984" y="2514"/>
                  <a:pt x="1042" y="2530"/>
                </a:cubicBezTo>
                <a:cubicBezTo>
                  <a:pt x="1099" y="2546"/>
                  <a:pt x="1168" y="2603"/>
                  <a:pt x="1191" y="2654"/>
                </a:cubicBezTo>
                <a:cubicBezTo>
                  <a:pt x="1217" y="2712"/>
                  <a:pt x="1207" y="2797"/>
                  <a:pt x="1166" y="2853"/>
                </a:cubicBezTo>
                <a:cubicBezTo>
                  <a:pt x="1132" y="2900"/>
                  <a:pt x="1085" y="2967"/>
                  <a:pt x="1042" y="3001"/>
                </a:cubicBezTo>
                <a:cubicBezTo>
                  <a:pt x="981" y="3049"/>
                  <a:pt x="933" y="3066"/>
                  <a:pt x="893" y="3125"/>
                </a:cubicBezTo>
                <a:cubicBezTo>
                  <a:pt x="937" y="3158"/>
                  <a:pt x="974" y="3140"/>
                  <a:pt x="1017" y="3175"/>
                </a:cubicBezTo>
                <a:cubicBezTo>
                  <a:pt x="1102" y="3243"/>
                  <a:pt x="1140" y="3311"/>
                  <a:pt x="1191" y="3398"/>
                </a:cubicBezTo>
                <a:cubicBezTo>
                  <a:pt x="1215" y="3439"/>
                  <a:pt x="1264" y="3507"/>
                  <a:pt x="1290" y="3522"/>
                </a:cubicBezTo>
                <a:cubicBezTo>
                  <a:pt x="1338" y="3546"/>
                  <a:pt x="1354" y="3556"/>
                  <a:pt x="1339" y="3497"/>
                </a:cubicBezTo>
              </a:path>
              <a:path w="596" h="2308">
                <a:moveTo>
                  <a:pt x="843" y="4192"/>
                </a:moveTo>
                <a:cubicBezTo>
                  <a:pt x="843" y="4321"/>
                  <a:pt x="834" y="4442"/>
                  <a:pt x="819" y="4564"/>
                </a:cubicBezTo>
                <a:cubicBezTo>
                  <a:pt x="813" y="4614"/>
                  <a:pt x="788" y="4809"/>
                  <a:pt x="843" y="4837"/>
                </a:cubicBezTo>
                <a:cubicBezTo>
                  <a:pt x="910" y="4871"/>
                  <a:pt x="1092" y="4837"/>
                  <a:pt x="1166" y="4837"/>
                </a:cubicBezTo>
              </a:path>
              <a:path w="596" h="2308">
                <a:moveTo>
                  <a:pt x="967" y="4564"/>
                </a:moveTo>
                <a:cubicBezTo>
                  <a:pt x="1021" y="4555"/>
                  <a:pt x="1069" y="4517"/>
                  <a:pt x="1116" y="4514"/>
                </a:cubicBezTo>
                <a:cubicBezTo>
                  <a:pt x="1139" y="4512"/>
                  <a:pt x="1233" y="4485"/>
                  <a:pt x="1240" y="4465"/>
                </a:cubicBezTo>
                <a:cubicBezTo>
                  <a:pt x="1240" y="4448"/>
                  <a:pt x="1240" y="4432"/>
                  <a:pt x="1240" y="4415"/>
                </a:cubicBezTo>
              </a:path>
              <a:path w="596" h="2308">
                <a:moveTo>
                  <a:pt x="893" y="4266"/>
                </a:moveTo>
                <a:cubicBezTo>
                  <a:pt x="939" y="4221"/>
                  <a:pt x="965" y="4227"/>
                  <a:pt x="1017" y="4192"/>
                </a:cubicBezTo>
                <a:cubicBezTo>
                  <a:pt x="1080" y="4150"/>
                  <a:pt x="1152" y="4134"/>
                  <a:pt x="1215" y="4093"/>
                </a:cubicBezTo>
                <a:cubicBezTo>
                  <a:pt x="1223" y="4085"/>
                  <a:pt x="1232" y="4076"/>
                  <a:pt x="1240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0120" y="1990800"/>
            <a:ext cx="331920" cy="1741320"/>
          </a:xfrm>
          <a:custGeom>
            <a:avLst/>
            <a:gdLst/>
            <a:ahLst/>
            <a:rect l="l" t="t" r="r" b="b"/>
            <a:pathLst>
              <a:path w="919" h="4838">
                <a:moveTo>
                  <a:pt x="943" y="5730"/>
                </a:moveTo>
                <a:cubicBezTo>
                  <a:pt x="910" y="5795"/>
                  <a:pt x="905" y="5898"/>
                  <a:pt x="918" y="5978"/>
                </a:cubicBezTo>
                <a:cubicBezTo>
                  <a:pt x="936" y="6095"/>
                  <a:pt x="967" y="6180"/>
                  <a:pt x="967" y="6300"/>
                </a:cubicBezTo>
                <a:cubicBezTo>
                  <a:pt x="967" y="6350"/>
                  <a:pt x="967" y="6399"/>
                  <a:pt x="967" y="6449"/>
                </a:cubicBezTo>
                <a:cubicBezTo>
                  <a:pt x="992" y="6375"/>
                  <a:pt x="1001" y="6350"/>
                  <a:pt x="1017" y="6300"/>
                </a:cubicBezTo>
              </a:path>
              <a:path w="919" h="4838">
                <a:moveTo>
                  <a:pt x="918" y="5755"/>
                </a:moveTo>
                <a:cubicBezTo>
                  <a:pt x="947" y="5682"/>
                  <a:pt x="997" y="5666"/>
                  <a:pt x="1067" y="5631"/>
                </a:cubicBezTo>
                <a:cubicBezTo>
                  <a:pt x="1141" y="5594"/>
                  <a:pt x="1258" y="5545"/>
                  <a:pt x="1339" y="5531"/>
                </a:cubicBezTo>
                <a:cubicBezTo>
                  <a:pt x="1374" y="5525"/>
                  <a:pt x="1425" y="5531"/>
                  <a:pt x="1463" y="5531"/>
                </a:cubicBezTo>
              </a:path>
              <a:path w="919" h="4838">
                <a:moveTo>
                  <a:pt x="1042" y="5978"/>
                </a:moveTo>
                <a:cubicBezTo>
                  <a:pt x="1089" y="6013"/>
                  <a:pt x="1129" y="6003"/>
                  <a:pt x="1191" y="6003"/>
                </a:cubicBezTo>
                <a:cubicBezTo>
                  <a:pt x="1259" y="6003"/>
                  <a:pt x="1298" y="6005"/>
                  <a:pt x="1364" y="5978"/>
                </a:cubicBezTo>
                <a:cubicBezTo>
                  <a:pt x="1381" y="5970"/>
                  <a:pt x="1397" y="5961"/>
                  <a:pt x="1414" y="5953"/>
                </a:cubicBezTo>
              </a:path>
              <a:path w="919" h="4838">
                <a:moveTo>
                  <a:pt x="1091" y="6896"/>
                </a:moveTo>
                <a:cubicBezTo>
                  <a:pt x="1013" y="6918"/>
                  <a:pt x="977" y="6976"/>
                  <a:pt x="967" y="7069"/>
                </a:cubicBezTo>
                <a:cubicBezTo>
                  <a:pt x="958" y="7155"/>
                  <a:pt x="943" y="7229"/>
                  <a:pt x="943" y="7317"/>
                </a:cubicBezTo>
                <a:cubicBezTo>
                  <a:pt x="943" y="7411"/>
                  <a:pt x="932" y="7509"/>
                  <a:pt x="992" y="7590"/>
                </a:cubicBezTo>
                <a:cubicBezTo>
                  <a:pt x="1062" y="7685"/>
                  <a:pt x="1134" y="7689"/>
                  <a:pt x="1240" y="7689"/>
                </a:cubicBezTo>
                <a:cubicBezTo>
                  <a:pt x="1321" y="7689"/>
                  <a:pt x="1416" y="7686"/>
                  <a:pt x="1439" y="7590"/>
                </a:cubicBezTo>
                <a:cubicBezTo>
                  <a:pt x="1460" y="7500"/>
                  <a:pt x="1463" y="7412"/>
                  <a:pt x="1463" y="7317"/>
                </a:cubicBezTo>
                <a:cubicBezTo>
                  <a:pt x="1463" y="7216"/>
                  <a:pt x="1474" y="7132"/>
                  <a:pt x="1414" y="7045"/>
                </a:cubicBezTo>
                <a:cubicBezTo>
                  <a:pt x="1380" y="6996"/>
                  <a:pt x="1320" y="6983"/>
                  <a:pt x="1265" y="6970"/>
                </a:cubicBezTo>
                <a:cubicBezTo>
                  <a:pt x="1237" y="6970"/>
                  <a:pt x="1226" y="6968"/>
                  <a:pt x="1215" y="6945"/>
                </a:cubicBezTo>
              </a:path>
              <a:path w="919" h="4838">
                <a:moveTo>
                  <a:pt x="1265" y="8483"/>
                </a:moveTo>
                <a:cubicBezTo>
                  <a:pt x="1259" y="8583"/>
                  <a:pt x="1240" y="8617"/>
                  <a:pt x="1240" y="8706"/>
                </a:cubicBezTo>
                <a:cubicBezTo>
                  <a:pt x="1240" y="8781"/>
                  <a:pt x="1231" y="8888"/>
                  <a:pt x="1191" y="8954"/>
                </a:cubicBezTo>
                <a:cubicBezTo>
                  <a:pt x="1183" y="8962"/>
                  <a:pt x="1174" y="8971"/>
                  <a:pt x="1166" y="8979"/>
                </a:cubicBezTo>
                <a:cubicBezTo>
                  <a:pt x="1177" y="8907"/>
                  <a:pt x="1191" y="8863"/>
                  <a:pt x="1191" y="8781"/>
                </a:cubicBezTo>
                <a:cubicBezTo>
                  <a:pt x="1191" y="8629"/>
                  <a:pt x="1130" y="8311"/>
                  <a:pt x="1215" y="8186"/>
                </a:cubicBezTo>
                <a:cubicBezTo>
                  <a:pt x="1256" y="8125"/>
                  <a:pt x="1311" y="8042"/>
                  <a:pt x="1389" y="8037"/>
                </a:cubicBezTo>
                <a:cubicBezTo>
                  <a:pt x="1456" y="8033"/>
                  <a:pt x="1559" y="8065"/>
                  <a:pt x="1588" y="8136"/>
                </a:cubicBezTo>
                <a:cubicBezTo>
                  <a:pt x="1610" y="8190"/>
                  <a:pt x="1625" y="8260"/>
                  <a:pt x="1588" y="8310"/>
                </a:cubicBezTo>
                <a:cubicBezTo>
                  <a:pt x="1549" y="8364"/>
                  <a:pt x="1500" y="8425"/>
                  <a:pt x="1439" y="8458"/>
                </a:cubicBezTo>
                <a:cubicBezTo>
                  <a:pt x="1400" y="8479"/>
                  <a:pt x="1343" y="8431"/>
                  <a:pt x="1364" y="8508"/>
                </a:cubicBezTo>
                <a:cubicBezTo>
                  <a:pt x="1387" y="8595"/>
                  <a:pt x="1435" y="8681"/>
                  <a:pt x="1513" y="8731"/>
                </a:cubicBezTo>
                <a:cubicBezTo>
                  <a:pt x="1573" y="8769"/>
                  <a:pt x="1778" y="8836"/>
                  <a:pt x="1811" y="8880"/>
                </a:cubicBezTo>
                <a:cubicBezTo>
                  <a:pt x="1819" y="8905"/>
                  <a:pt x="1828" y="8929"/>
                  <a:pt x="1836" y="8954"/>
                </a:cubicBezTo>
              </a:path>
              <a:path w="919" h="4838">
                <a:moveTo>
                  <a:pt x="1042" y="10368"/>
                </a:moveTo>
                <a:cubicBezTo>
                  <a:pt x="1014" y="10305"/>
                  <a:pt x="1017" y="10266"/>
                  <a:pt x="1017" y="10195"/>
                </a:cubicBezTo>
                <a:cubicBezTo>
                  <a:pt x="1017" y="9996"/>
                  <a:pt x="1017" y="9798"/>
                  <a:pt x="1017" y="9599"/>
                </a:cubicBezTo>
                <a:cubicBezTo>
                  <a:pt x="1027" y="9676"/>
                  <a:pt x="1062" y="9725"/>
                  <a:pt x="1091" y="9798"/>
                </a:cubicBezTo>
                <a:cubicBezTo>
                  <a:pt x="1126" y="9887"/>
                  <a:pt x="1131" y="9927"/>
                  <a:pt x="1215" y="9971"/>
                </a:cubicBezTo>
                <a:cubicBezTo>
                  <a:pt x="1297" y="10014"/>
                  <a:pt x="1336" y="9986"/>
                  <a:pt x="1414" y="9947"/>
                </a:cubicBezTo>
                <a:cubicBezTo>
                  <a:pt x="1495" y="9906"/>
                  <a:pt x="1509" y="9797"/>
                  <a:pt x="1563" y="9723"/>
                </a:cubicBezTo>
                <a:cubicBezTo>
                  <a:pt x="1602" y="9670"/>
                  <a:pt x="1613" y="9641"/>
                  <a:pt x="1662" y="9599"/>
                </a:cubicBezTo>
                <a:cubicBezTo>
                  <a:pt x="1662" y="9711"/>
                  <a:pt x="1675" y="9814"/>
                  <a:pt x="1687" y="9922"/>
                </a:cubicBezTo>
                <a:cubicBezTo>
                  <a:pt x="1701" y="10043"/>
                  <a:pt x="1687" y="10172"/>
                  <a:pt x="168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8840" y="4010040"/>
            <a:ext cx="330120" cy="1224000"/>
          </a:xfrm>
          <a:custGeom>
            <a:avLst/>
            <a:gdLst/>
            <a:ahLst/>
            <a:rect l="l" t="t" r="r" b="b"/>
            <a:pathLst>
              <a:path w="919" h="3400">
                <a:moveTo>
                  <a:pt x="1240" y="11137"/>
                </a:moveTo>
                <a:cubicBezTo>
                  <a:pt x="1255" y="11199"/>
                  <a:pt x="1265" y="11235"/>
                  <a:pt x="1265" y="11311"/>
                </a:cubicBezTo>
                <a:cubicBezTo>
                  <a:pt x="1265" y="11378"/>
                  <a:pt x="1261" y="11448"/>
                  <a:pt x="1240" y="11509"/>
                </a:cubicBezTo>
                <a:cubicBezTo>
                  <a:pt x="1217" y="11579"/>
                  <a:pt x="1192" y="11622"/>
                  <a:pt x="1265" y="11658"/>
                </a:cubicBezTo>
              </a:path>
              <a:path w="919" h="3400">
                <a:moveTo>
                  <a:pt x="744" y="12700"/>
                </a:moveTo>
                <a:cubicBezTo>
                  <a:pt x="718" y="12630"/>
                  <a:pt x="719" y="12578"/>
                  <a:pt x="719" y="12502"/>
                </a:cubicBezTo>
                <a:cubicBezTo>
                  <a:pt x="719" y="12387"/>
                  <a:pt x="699" y="12260"/>
                  <a:pt x="744" y="12154"/>
                </a:cubicBezTo>
                <a:cubicBezTo>
                  <a:pt x="812" y="12222"/>
                  <a:pt x="818" y="12279"/>
                  <a:pt x="868" y="12353"/>
                </a:cubicBezTo>
                <a:cubicBezTo>
                  <a:pt x="940" y="12460"/>
                  <a:pt x="1058" y="12518"/>
                  <a:pt x="1141" y="12601"/>
                </a:cubicBezTo>
                <a:cubicBezTo>
                  <a:pt x="1226" y="12685"/>
                  <a:pt x="1288" y="12686"/>
                  <a:pt x="1389" y="12750"/>
                </a:cubicBezTo>
                <a:cubicBezTo>
                  <a:pt x="1472" y="12802"/>
                  <a:pt x="1462" y="12770"/>
                  <a:pt x="1513" y="12700"/>
                </a:cubicBezTo>
                <a:cubicBezTo>
                  <a:pt x="1569" y="12623"/>
                  <a:pt x="1563" y="12574"/>
                  <a:pt x="1563" y="12477"/>
                </a:cubicBezTo>
                <a:cubicBezTo>
                  <a:pt x="1563" y="12378"/>
                  <a:pt x="1563" y="12278"/>
                  <a:pt x="1563" y="12179"/>
                </a:cubicBezTo>
              </a:path>
              <a:path w="919" h="3400">
                <a:moveTo>
                  <a:pt x="1215" y="13618"/>
                </a:moveTo>
                <a:cubicBezTo>
                  <a:pt x="1190" y="13529"/>
                  <a:pt x="1142" y="13535"/>
                  <a:pt x="1067" y="13494"/>
                </a:cubicBezTo>
                <a:cubicBezTo>
                  <a:pt x="1032" y="13475"/>
                  <a:pt x="997" y="13406"/>
                  <a:pt x="943" y="13444"/>
                </a:cubicBezTo>
                <a:cubicBezTo>
                  <a:pt x="873" y="13493"/>
                  <a:pt x="883" y="13620"/>
                  <a:pt x="868" y="13692"/>
                </a:cubicBezTo>
                <a:cubicBezTo>
                  <a:pt x="847" y="13792"/>
                  <a:pt x="824" y="13911"/>
                  <a:pt x="843" y="14015"/>
                </a:cubicBezTo>
                <a:cubicBezTo>
                  <a:pt x="866" y="14139"/>
                  <a:pt x="910" y="14230"/>
                  <a:pt x="992" y="14312"/>
                </a:cubicBezTo>
                <a:cubicBezTo>
                  <a:pt x="1065" y="14385"/>
                  <a:pt x="1156" y="14454"/>
                  <a:pt x="1240" y="14511"/>
                </a:cubicBezTo>
                <a:cubicBezTo>
                  <a:pt x="1336" y="14575"/>
                  <a:pt x="1371" y="14504"/>
                  <a:pt x="1439" y="14436"/>
                </a:cubicBezTo>
                <a:cubicBezTo>
                  <a:pt x="1499" y="14376"/>
                  <a:pt x="1547" y="14289"/>
                  <a:pt x="1588" y="14213"/>
                </a:cubicBezTo>
                <a:cubicBezTo>
                  <a:pt x="1607" y="14178"/>
                  <a:pt x="1622" y="14144"/>
                  <a:pt x="1637" y="14114"/>
                </a:cubicBezTo>
                <a:cubicBezTo>
                  <a:pt x="1583" y="14120"/>
                  <a:pt x="1540" y="14132"/>
                  <a:pt x="1488" y="14139"/>
                </a:cubicBezTo>
                <a:cubicBezTo>
                  <a:pt x="1416" y="14149"/>
                  <a:pt x="1365" y="14160"/>
                  <a:pt x="1290" y="14163"/>
                </a:cubicBezTo>
                <a:cubicBezTo>
                  <a:pt x="1233" y="14166"/>
                  <a:pt x="1199" y="14169"/>
                  <a:pt x="1215" y="14114"/>
                </a:cubicBezTo>
                <a:cubicBezTo>
                  <a:pt x="1223" y="14106"/>
                  <a:pt x="1232" y="14097"/>
                  <a:pt x="1240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44720" y="1677960"/>
            <a:ext cx="384120" cy="366840"/>
          </a:xfrm>
          <a:custGeom>
            <a:avLst/>
            <a:gdLst/>
            <a:ahLst/>
            <a:rect l="l" t="t" r="r" b="b"/>
            <a:pathLst>
              <a:path w="1068" h="1018">
                <a:moveTo>
                  <a:pt x="2977" y="4688"/>
                </a:moveTo>
                <a:cubicBezTo>
                  <a:pt x="2977" y="4625"/>
                  <a:pt x="2977" y="4742"/>
                  <a:pt x="2977" y="4762"/>
                </a:cubicBezTo>
                <a:cubicBezTo>
                  <a:pt x="2977" y="4929"/>
                  <a:pt x="2989" y="5100"/>
                  <a:pt x="2952" y="5259"/>
                </a:cubicBezTo>
                <a:cubicBezTo>
                  <a:pt x="2936" y="5328"/>
                  <a:pt x="2940" y="5420"/>
                  <a:pt x="2927" y="5482"/>
                </a:cubicBezTo>
                <a:cubicBezTo>
                  <a:pt x="2913" y="5549"/>
                  <a:pt x="2931" y="5539"/>
                  <a:pt x="2902" y="5606"/>
                </a:cubicBezTo>
                <a:cubicBezTo>
                  <a:pt x="2902" y="5482"/>
                  <a:pt x="2874" y="5321"/>
                  <a:pt x="2927" y="5209"/>
                </a:cubicBezTo>
                <a:cubicBezTo>
                  <a:pt x="2953" y="5153"/>
                  <a:pt x="3038" y="5032"/>
                  <a:pt x="3101" y="5011"/>
                </a:cubicBezTo>
                <a:cubicBezTo>
                  <a:pt x="3155" y="4993"/>
                  <a:pt x="3199" y="5031"/>
                  <a:pt x="3249" y="5035"/>
                </a:cubicBezTo>
                <a:cubicBezTo>
                  <a:pt x="3314" y="5040"/>
                  <a:pt x="3340" y="5095"/>
                  <a:pt x="3373" y="5135"/>
                </a:cubicBezTo>
                <a:cubicBezTo>
                  <a:pt x="3403" y="5171"/>
                  <a:pt x="3443" y="5214"/>
                  <a:pt x="3448" y="5259"/>
                </a:cubicBezTo>
                <a:cubicBezTo>
                  <a:pt x="3457" y="5343"/>
                  <a:pt x="3434" y="5365"/>
                  <a:pt x="3398" y="5432"/>
                </a:cubicBezTo>
                <a:cubicBezTo>
                  <a:pt x="3358" y="5506"/>
                  <a:pt x="3274" y="5542"/>
                  <a:pt x="3200" y="5581"/>
                </a:cubicBezTo>
                <a:cubicBezTo>
                  <a:pt x="3169" y="5598"/>
                  <a:pt x="3029" y="5657"/>
                  <a:pt x="3001" y="5655"/>
                </a:cubicBezTo>
                <a:cubicBezTo>
                  <a:pt x="2926" y="5650"/>
                  <a:pt x="2911" y="5594"/>
                  <a:pt x="3001" y="5581"/>
                </a:cubicBezTo>
              </a:path>
              <a:path w="1068" h="1018">
                <a:moveTo>
                  <a:pt x="3572" y="4936"/>
                </a:moveTo>
                <a:cubicBezTo>
                  <a:pt x="3646" y="4936"/>
                  <a:pt x="3710" y="4927"/>
                  <a:pt x="3770" y="4961"/>
                </a:cubicBezTo>
                <a:cubicBezTo>
                  <a:pt x="3839" y="5001"/>
                  <a:pt x="3839" y="5001"/>
                  <a:pt x="3894" y="5060"/>
                </a:cubicBezTo>
                <a:cubicBezTo>
                  <a:pt x="3948" y="5118"/>
                  <a:pt x="3963" y="5154"/>
                  <a:pt x="3969" y="5234"/>
                </a:cubicBezTo>
                <a:cubicBezTo>
                  <a:pt x="3977" y="5338"/>
                  <a:pt x="3968" y="5331"/>
                  <a:pt x="3919" y="5407"/>
                </a:cubicBezTo>
                <a:cubicBezTo>
                  <a:pt x="3878" y="5470"/>
                  <a:pt x="3850" y="5482"/>
                  <a:pt x="3795" y="5531"/>
                </a:cubicBezTo>
                <a:cubicBezTo>
                  <a:pt x="3743" y="5577"/>
                  <a:pt x="3705" y="5622"/>
                  <a:pt x="3671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58960" y="1820880"/>
            <a:ext cx="1125360" cy="509400"/>
          </a:xfrm>
          <a:custGeom>
            <a:avLst/>
            <a:gdLst/>
            <a:ahLst/>
            <a:rect l="l" t="t" r="r" b="b"/>
            <a:pathLst>
              <a:path w="3126" h="1415">
                <a:moveTo>
                  <a:pt x="5011" y="5581"/>
                </a:moveTo>
                <a:cubicBezTo>
                  <a:pt x="5054" y="5614"/>
                  <a:pt x="5077" y="5606"/>
                  <a:pt x="5135" y="5606"/>
                </a:cubicBezTo>
                <a:cubicBezTo>
                  <a:pt x="5225" y="5606"/>
                  <a:pt x="5307" y="5598"/>
                  <a:pt x="5383" y="5581"/>
                </a:cubicBezTo>
                <a:cubicBezTo>
                  <a:pt x="5424" y="5581"/>
                  <a:pt x="5432" y="5581"/>
                  <a:pt x="5457" y="5581"/>
                </a:cubicBezTo>
                <a:cubicBezTo>
                  <a:pt x="5436" y="5508"/>
                  <a:pt x="5396" y="5485"/>
                  <a:pt x="5333" y="5432"/>
                </a:cubicBezTo>
                <a:cubicBezTo>
                  <a:pt x="5300" y="5404"/>
                  <a:pt x="5225" y="5366"/>
                  <a:pt x="5184" y="5358"/>
                </a:cubicBezTo>
                <a:cubicBezTo>
                  <a:pt x="5127" y="5347"/>
                  <a:pt x="5080" y="5364"/>
                  <a:pt x="5035" y="5383"/>
                </a:cubicBezTo>
                <a:cubicBezTo>
                  <a:pt x="4951" y="5418"/>
                  <a:pt x="4949" y="5467"/>
                  <a:pt x="4911" y="5531"/>
                </a:cubicBezTo>
                <a:cubicBezTo>
                  <a:pt x="4882" y="5581"/>
                  <a:pt x="4887" y="5619"/>
                  <a:pt x="4887" y="5680"/>
                </a:cubicBezTo>
                <a:cubicBezTo>
                  <a:pt x="4887" y="5725"/>
                  <a:pt x="4911" y="5798"/>
                  <a:pt x="4936" y="5829"/>
                </a:cubicBezTo>
                <a:cubicBezTo>
                  <a:pt x="4983" y="5889"/>
                  <a:pt x="5038" y="5945"/>
                  <a:pt x="5110" y="5953"/>
                </a:cubicBezTo>
                <a:cubicBezTo>
                  <a:pt x="5201" y="5963"/>
                  <a:pt x="5375" y="5977"/>
                  <a:pt x="5457" y="5928"/>
                </a:cubicBezTo>
                <a:cubicBezTo>
                  <a:pt x="5465" y="5920"/>
                  <a:pt x="5474" y="5912"/>
                  <a:pt x="5482" y="5904"/>
                </a:cubicBezTo>
              </a:path>
              <a:path w="3126" h="1415">
                <a:moveTo>
                  <a:pt x="6028" y="5234"/>
                </a:moveTo>
                <a:cubicBezTo>
                  <a:pt x="6028" y="5474"/>
                  <a:pt x="6028" y="5713"/>
                  <a:pt x="6028" y="5953"/>
                </a:cubicBezTo>
              </a:path>
              <a:path w="3126" h="1415">
                <a:moveTo>
                  <a:pt x="5655" y="5556"/>
                </a:moveTo>
                <a:cubicBezTo>
                  <a:pt x="5739" y="5578"/>
                  <a:pt x="5816" y="5603"/>
                  <a:pt x="5904" y="5606"/>
                </a:cubicBezTo>
                <a:cubicBezTo>
                  <a:pt x="6025" y="5611"/>
                  <a:pt x="6189" y="5635"/>
                  <a:pt x="6300" y="5581"/>
                </a:cubicBezTo>
                <a:cubicBezTo>
                  <a:pt x="6390" y="5537"/>
                  <a:pt x="6492" y="5493"/>
                  <a:pt x="6573" y="5432"/>
                </a:cubicBezTo>
                <a:cubicBezTo>
                  <a:pt x="6618" y="5398"/>
                  <a:pt x="6656" y="5366"/>
                  <a:pt x="6648" y="5308"/>
                </a:cubicBezTo>
                <a:cubicBezTo>
                  <a:pt x="6642" y="5264"/>
                  <a:pt x="6585" y="5168"/>
                  <a:pt x="6524" y="5184"/>
                </a:cubicBezTo>
                <a:cubicBezTo>
                  <a:pt x="6421" y="5211"/>
                  <a:pt x="6470" y="5258"/>
                  <a:pt x="6449" y="5333"/>
                </a:cubicBezTo>
                <a:cubicBezTo>
                  <a:pt x="6427" y="5411"/>
                  <a:pt x="6424" y="5471"/>
                  <a:pt x="6424" y="5556"/>
                </a:cubicBezTo>
                <a:cubicBezTo>
                  <a:pt x="6424" y="5680"/>
                  <a:pt x="6424" y="5804"/>
                  <a:pt x="6424" y="5928"/>
                </a:cubicBezTo>
                <a:cubicBezTo>
                  <a:pt x="6438" y="5875"/>
                  <a:pt x="6461" y="5883"/>
                  <a:pt x="6474" y="5829"/>
                </a:cubicBezTo>
                <a:cubicBezTo>
                  <a:pt x="6487" y="5775"/>
                  <a:pt x="6500" y="5696"/>
                  <a:pt x="6548" y="5655"/>
                </a:cubicBezTo>
                <a:cubicBezTo>
                  <a:pt x="6586" y="5622"/>
                  <a:pt x="6674" y="5620"/>
                  <a:pt x="6722" y="5631"/>
                </a:cubicBezTo>
                <a:cubicBezTo>
                  <a:pt x="6772" y="5643"/>
                  <a:pt x="6875" y="5704"/>
                  <a:pt x="6896" y="5755"/>
                </a:cubicBezTo>
                <a:cubicBezTo>
                  <a:pt x="6915" y="5801"/>
                  <a:pt x="6895" y="5922"/>
                  <a:pt x="6921" y="5879"/>
                </a:cubicBezTo>
                <a:cubicBezTo>
                  <a:pt x="6921" y="5862"/>
                  <a:pt x="6921" y="5846"/>
                  <a:pt x="6921" y="5829"/>
                </a:cubicBezTo>
              </a:path>
              <a:path w="3126" h="1415">
                <a:moveTo>
                  <a:pt x="7218" y="5581"/>
                </a:moveTo>
                <a:cubicBezTo>
                  <a:pt x="7218" y="5666"/>
                  <a:pt x="7207" y="5727"/>
                  <a:pt x="7193" y="5804"/>
                </a:cubicBezTo>
                <a:cubicBezTo>
                  <a:pt x="7180" y="5875"/>
                  <a:pt x="7257" y="5930"/>
                  <a:pt x="7317" y="5953"/>
                </a:cubicBezTo>
                <a:cubicBezTo>
                  <a:pt x="7375" y="5975"/>
                  <a:pt x="7414" y="5853"/>
                  <a:pt x="7441" y="5829"/>
                </a:cubicBezTo>
                <a:cubicBezTo>
                  <a:pt x="7495" y="5782"/>
                  <a:pt x="7517" y="5714"/>
                  <a:pt x="7541" y="5631"/>
                </a:cubicBezTo>
                <a:cubicBezTo>
                  <a:pt x="7543" y="5624"/>
                  <a:pt x="7541" y="5538"/>
                  <a:pt x="7541" y="5606"/>
                </a:cubicBezTo>
                <a:cubicBezTo>
                  <a:pt x="7541" y="5682"/>
                  <a:pt x="7534" y="5756"/>
                  <a:pt x="7565" y="5829"/>
                </a:cubicBezTo>
                <a:cubicBezTo>
                  <a:pt x="7589" y="5887"/>
                  <a:pt x="7619" y="5960"/>
                  <a:pt x="7640" y="6028"/>
                </a:cubicBezTo>
                <a:cubicBezTo>
                  <a:pt x="7673" y="6133"/>
                  <a:pt x="7692" y="6247"/>
                  <a:pt x="7714" y="6350"/>
                </a:cubicBezTo>
                <a:cubicBezTo>
                  <a:pt x="7726" y="6407"/>
                  <a:pt x="7696" y="6457"/>
                  <a:pt x="7640" y="6474"/>
                </a:cubicBezTo>
                <a:cubicBezTo>
                  <a:pt x="7565" y="6496"/>
                  <a:pt x="7485" y="6466"/>
                  <a:pt x="7417" y="6449"/>
                </a:cubicBezTo>
                <a:cubicBezTo>
                  <a:pt x="7384" y="6441"/>
                  <a:pt x="7327" y="6393"/>
                  <a:pt x="7317" y="6375"/>
                </a:cubicBezTo>
                <a:cubicBezTo>
                  <a:pt x="7317" y="6367"/>
                  <a:pt x="7317" y="6358"/>
                  <a:pt x="7317" y="6350"/>
                </a:cubicBezTo>
              </a:path>
              <a:path w="3126" h="1415">
                <a:moveTo>
                  <a:pt x="8012" y="5060"/>
                </a:moveTo>
                <a:cubicBezTo>
                  <a:pt x="7986" y="5104"/>
                  <a:pt x="7972" y="5177"/>
                  <a:pt x="7987" y="5234"/>
                </a:cubicBezTo>
                <a:cubicBezTo>
                  <a:pt x="8014" y="5340"/>
                  <a:pt x="8012" y="5442"/>
                  <a:pt x="8012" y="5556"/>
                </a:cubicBezTo>
                <a:cubicBezTo>
                  <a:pt x="8012" y="5666"/>
                  <a:pt x="8012" y="6052"/>
                  <a:pt x="8012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14800" y="1812960"/>
            <a:ext cx="1554120" cy="374760"/>
          </a:xfrm>
          <a:custGeom>
            <a:avLst/>
            <a:gdLst/>
            <a:ahLst/>
            <a:rect l="l" t="t" r="r" b="b"/>
            <a:pathLst>
              <a:path w="4317" h="1043">
                <a:moveTo>
                  <a:pt x="8930" y="5035"/>
                </a:moveTo>
                <a:cubicBezTo>
                  <a:pt x="8930" y="5171"/>
                  <a:pt x="8940" y="5300"/>
                  <a:pt x="8954" y="5432"/>
                </a:cubicBezTo>
                <a:cubicBezTo>
                  <a:pt x="8970" y="5586"/>
                  <a:pt x="8954" y="5749"/>
                  <a:pt x="8954" y="5904"/>
                </a:cubicBezTo>
                <a:cubicBezTo>
                  <a:pt x="8954" y="5820"/>
                  <a:pt x="8916" y="5583"/>
                  <a:pt x="8979" y="5531"/>
                </a:cubicBezTo>
                <a:cubicBezTo>
                  <a:pt x="9036" y="5484"/>
                  <a:pt x="9083" y="5514"/>
                  <a:pt x="9128" y="5556"/>
                </a:cubicBezTo>
                <a:cubicBezTo>
                  <a:pt x="9168" y="5593"/>
                  <a:pt x="9245" y="5652"/>
                  <a:pt x="9252" y="5705"/>
                </a:cubicBezTo>
                <a:cubicBezTo>
                  <a:pt x="9260" y="5765"/>
                  <a:pt x="9251" y="5860"/>
                  <a:pt x="9203" y="5904"/>
                </a:cubicBezTo>
                <a:cubicBezTo>
                  <a:pt x="9140" y="5962"/>
                  <a:pt x="9089" y="5946"/>
                  <a:pt x="9029" y="5928"/>
                </a:cubicBezTo>
                <a:cubicBezTo>
                  <a:pt x="8985" y="5915"/>
                  <a:pt x="8973" y="5917"/>
                  <a:pt x="8954" y="5879"/>
                </a:cubicBezTo>
              </a:path>
              <a:path w="4317" h="1043">
                <a:moveTo>
                  <a:pt x="9575" y="5631"/>
                </a:moveTo>
                <a:cubicBezTo>
                  <a:pt x="9656" y="5631"/>
                  <a:pt x="9722" y="5624"/>
                  <a:pt x="9798" y="5606"/>
                </a:cubicBezTo>
                <a:cubicBezTo>
                  <a:pt x="9838" y="5606"/>
                  <a:pt x="9857" y="5595"/>
                  <a:pt x="9872" y="5556"/>
                </a:cubicBezTo>
                <a:cubicBezTo>
                  <a:pt x="9822" y="5496"/>
                  <a:pt x="9777" y="5427"/>
                  <a:pt x="9699" y="5407"/>
                </a:cubicBezTo>
                <a:cubicBezTo>
                  <a:pt x="9634" y="5391"/>
                  <a:pt x="9575" y="5407"/>
                  <a:pt x="9550" y="5457"/>
                </a:cubicBezTo>
                <a:cubicBezTo>
                  <a:pt x="9516" y="5525"/>
                  <a:pt x="9479" y="5580"/>
                  <a:pt x="9475" y="5655"/>
                </a:cubicBezTo>
                <a:cubicBezTo>
                  <a:pt x="9470" y="5751"/>
                  <a:pt x="9466" y="5805"/>
                  <a:pt x="9525" y="5879"/>
                </a:cubicBezTo>
                <a:cubicBezTo>
                  <a:pt x="9563" y="5927"/>
                  <a:pt x="9666" y="5966"/>
                  <a:pt x="9723" y="5978"/>
                </a:cubicBezTo>
                <a:cubicBezTo>
                  <a:pt x="9831" y="6001"/>
                  <a:pt x="9868" y="5957"/>
                  <a:pt x="9947" y="5904"/>
                </a:cubicBezTo>
                <a:cubicBezTo>
                  <a:pt x="9963" y="5896"/>
                  <a:pt x="9980" y="5887"/>
                  <a:pt x="9996" y="5879"/>
                </a:cubicBezTo>
              </a:path>
              <a:path w="4317" h="1043">
                <a:moveTo>
                  <a:pt x="10220" y="5383"/>
                </a:moveTo>
                <a:cubicBezTo>
                  <a:pt x="10220" y="5464"/>
                  <a:pt x="10231" y="5537"/>
                  <a:pt x="10244" y="5606"/>
                </a:cubicBezTo>
                <a:cubicBezTo>
                  <a:pt x="10259" y="5681"/>
                  <a:pt x="10215" y="5936"/>
                  <a:pt x="10244" y="5854"/>
                </a:cubicBezTo>
                <a:cubicBezTo>
                  <a:pt x="10269" y="5785"/>
                  <a:pt x="10294" y="5755"/>
                  <a:pt x="10294" y="5680"/>
                </a:cubicBezTo>
                <a:cubicBezTo>
                  <a:pt x="10294" y="5580"/>
                  <a:pt x="10277" y="5531"/>
                  <a:pt x="10344" y="5457"/>
                </a:cubicBezTo>
                <a:cubicBezTo>
                  <a:pt x="10379" y="5418"/>
                  <a:pt x="10440" y="5410"/>
                  <a:pt x="10492" y="5407"/>
                </a:cubicBezTo>
                <a:cubicBezTo>
                  <a:pt x="10556" y="5403"/>
                  <a:pt x="10606" y="5406"/>
                  <a:pt x="10616" y="5482"/>
                </a:cubicBezTo>
                <a:cubicBezTo>
                  <a:pt x="10628" y="5573"/>
                  <a:pt x="10651" y="5957"/>
                  <a:pt x="10641" y="5879"/>
                </a:cubicBezTo>
                <a:cubicBezTo>
                  <a:pt x="10633" y="5862"/>
                  <a:pt x="10624" y="5846"/>
                  <a:pt x="10616" y="5829"/>
                </a:cubicBezTo>
              </a:path>
              <a:path w="4317" h="1043">
                <a:moveTo>
                  <a:pt x="10939" y="5407"/>
                </a:moveTo>
                <a:cubicBezTo>
                  <a:pt x="11022" y="5407"/>
                  <a:pt x="11104" y="5407"/>
                  <a:pt x="11187" y="5407"/>
                </a:cubicBezTo>
                <a:cubicBezTo>
                  <a:pt x="11187" y="5479"/>
                  <a:pt x="11172" y="5498"/>
                  <a:pt x="11137" y="5556"/>
                </a:cubicBezTo>
                <a:cubicBezTo>
                  <a:pt x="11101" y="5615"/>
                  <a:pt x="11073" y="5668"/>
                  <a:pt x="11038" y="5730"/>
                </a:cubicBezTo>
                <a:cubicBezTo>
                  <a:pt x="11005" y="5788"/>
                  <a:pt x="10966" y="5849"/>
                  <a:pt x="10939" y="5904"/>
                </a:cubicBezTo>
                <a:cubicBezTo>
                  <a:pt x="10939" y="5937"/>
                  <a:pt x="10939" y="5953"/>
                  <a:pt x="10939" y="5978"/>
                </a:cubicBezTo>
                <a:cubicBezTo>
                  <a:pt x="10994" y="5978"/>
                  <a:pt x="11033" y="5957"/>
                  <a:pt x="11088" y="5953"/>
                </a:cubicBezTo>
                <a:cubicBezTo>
                  <a:pt x="11145" y="5949"/>
                  <a:pt x="11204" y="5953"/>
                  <a:pt x="11261" y="5953"/>
                </a:cubicBezTo>
              </a:path>
              <a:path w="4317" h="1043">
                <a:moveTo>
                  <a:pt x="11509" y="5606"/>
                </a:moveTo>
                <a:cubicBezTo>
                  <a:pt x="11584" y="5606"/>
                  <a:pt x="11647" y="5593"/>
                  <a:pt x="11708" y="5581"/>
                </a:cubicBezTo>
                <a:cubicBezTo>
                  <a:pt x="11763" y="5570"/>
                  <a:pt x="11828" y="5568"/>
                  <a:pt x="11857" y="5507"/>
                </a:cubicBezTo>
                <a:cubicBezTo>
                  <a:pt x="11857" y="5490"/>
                  <a:pt x="11857" y="5474"/>
                  <a:pt x="11857" y="5457"/>
                </a:cubicBezTo>
                <a:cubicBezTo>
                  <a:pt x="11805" y="5405"/>
                  <a:pt x="11797" y="5378"/>
                  <a:pt x="11733" y="5358"/>
                </a:cubicBezTo>
                <a:cubicBezTo>
                  <a:pt x="11627" y="5324"/>
                  <a:pt x="11625" y="5335"/>
                  <a:pt x="11534" y="5407"/>
                </a:cubicBezTo>
                <a:cubicBezTo>
                  <a:pt x="11488" y="5443"/>
                  <a:pt x="11469" y="5501"/>
                  <a:pt x="11460" y="5556"/>
                </a:cubicBezTo>
                <a:cubicBezTo>
                  <a:pt x="11446" y="5642"/>
                  <a:pt x="11450" y="5752"/>
                  <a:pt x="11485" y="5829"/>
                </a:cubicBezTo>
                <a:cubicBezTo>
                  <a:pt x="11523" y="5912"/>
                  <a:pt x="11516" y="5927"/>
                  <a:pt x="11584" y="5978"/>
                </a:cubicBezTo>
                <a:cubicBezTo>
                  <a:pt x="11633" y="6015"/>
                  <a:pt x="11700" y="6049"/>
                  <a:pt x="11757" y="6052"/>
                </a:cubicBezTo>
                <a:cubicBezTo>
                  <a:pt x="11847" y="6057"/>
                  <a:pt x="11895" y="5963"/>
                  <a:pt x="11956" y="5928"/>
                </a:cubicBezTo>
                <a:cubicBezTo>
                  <a:pt x="11981" y="5920"/>
                  <a:pt x="12005" y="5912"/>
                  <a:pt x="12030" y="5904"/>
                </a:cubicBezTo>
              </a:path>
              <a:path w="4317" h="1043">
                <a:moveTo>
                  <a:pt x="12154" y="5507"/>
                </a:moveTo>
                <a:cubicBezTo>
                  <a:pt x="12126" y="5562"/>
                  <a:pt x="12129" y="5613"/>
                  <a:pt x="12129" y="5680"/>
                </a:cubicBezTo>
                <a:cubicBezTo>
                  <a:pt x="12129" y="5779"/>
                  <a:pt x="12129" y="5879"/>
                  <a:pt x="12129" y="5978"/>
                </a:cubicBezTo>
                <a:cubicBezTo>
                  <a:pt x="12160" y="5957"/>
                  <a:pt x="12176" y="5907"/>
                  <a:pt x="12179" y="5854"/>
                </a:cubicBezTo>
                <a:cubicBezTo>
                  <a:pt x="12185" y="5757"/>
                  <a:pt x="12139" y="5579"/>
                  <a:pt x="12204" y="5507"/>
                </a:cubicBezTo>
                <a:cubicBezTo>
                  <a:pt x="12260" y="5444"/>
                  <a:pt x="12325" y="5457"/>
                  <a:pt x="12402" y="5457"/>
                </a:cubicBezTo>
                <a:cubicBezTo>
                  <a:pt x="12448" y="5457"/>
                  <a:pt x="12494" y="5453"/>
                  <a:pt x="12502" y="5507"/>
                </a:cubicBezTo>
                <a:cubicBezTo>
                  <a:pt x="12521" y="5635"/>
                  <a:pt x="12495" y="5761"/>
                  <a:pt x="12526" y="5879"/>
                </a:cubicBezTo>
                <a:cubicBezTo>
                  <a:pt x="12537" y="5922"/>
                  <a:pt x="12490" y="6030"/>
                  <a:pt x="12551" y="5978"/>
                </a:cubicBezTo>
                <a:cubicBezTo>
                  <a:pt x="12568" y="5961"/>
                  <a:pt x="12584" y="5945"/>
                  <a:pt x="12601" y="5928"/>
                </a:cubicBezTo>
              </a:path>
              <a:path w="4317" h="1043">
                <a:moveTo>
                  <a:pt x="12874" y="5655"/>
                </a:moveTo>
                <a:cubicBezTo>
                  <a:pt x="12920" y="5691"/>
                  <a:pt x="12961" y="5680"/>
                  <a:pt x="13022" y="5680"/>
                </a:cubicBezTo>
                <a:cubicBezTo>
                  <a:pt x="13086" y="5680"/>
                  <a:pt x="13119" y="5671"/>
                  <a:pt x="13146" y="5606"/>
                </a:cubicBezTo>
                <a:cubicBezTo>
                  <a:pt x="13171" y="5546"/>
                  <a:pt x="13113" y="5506"/>
                  <a:pt x="13072" y="5482"/>
                </a:cubicBezTo>
                <a:cubicBezTo>
                  <a:pt x="13006" y="5443"/>
                  <a:pt x="12948" y="5440"/>
                  <a:pt x="12898" y="5507"/>
                </a:cubicBezTo>
                <a:cubicBezTo>
                  <a:pt x="12872" y="5542"/>
                  <a:pt x="12828" y="5602"/>
                  <a:pt x="12824" y="5655"/>
                </a:cubicBezTo>
                <a:cubicBezTo>
                  <a:pt x="12818" y="5746"/>
                  <a:pt x="12814" y="5846"/>
                  <a:pt x="12849" y="5928"/>
                </a:cubicBezTo>
                <a:cubicBezTo>
                  <a:pt x="12873" y="5984"/>
                  <a:pt x="12942" y="6024"/>
                  <a:pt x="12998" y="6028"/>
                </a:cubicBezTo>
                <a:cubicBezTo>
                  <a:pt x="13074" y="6034"/>
                  <a:pt x="13099" y="6108"/>
                  <a:pt x="13171" y="6052"/>
                </a:cubicBezTo>
                <a:cubicBezTo>
                  <a:pt x="13215" y="6017"/>
                  <a:pt x="13235" y="5982"/>
                  <a:pt x="13246" y="59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89680" y="1938240"/>
            <a:ext cx="428400" cy="276480"/>
          </a:xfrm>
          <a:custGeom>
            <a:avLst/>
            <a:gdLst/>
            <a:ahLst/>
            <a:rect l="l" t="t" r="r" b="b"/>
            <a:pathLst>
              <a:path w="1191" h="770">
                <a:moveTo>
                  <a:pt x="14139" y="5730"/>
                </a:moveTo>
                <a:cubicBezTo>
                  <a:pt x="14189" y="5769"/>
                  <a:pt x="14201" y="5741"/>
                  <a:pt x="14263" y="5755"/>
                </a:cubicBezTo>
                <a:cubicBezTo>
                  <a:pt x="14339" y="5772"/>
                  <a:pt x="14383" y="5779"/>
                  <a:pt x="14461" y="5779"/>
                </a:cubicBezTo>
                <a:cubicBezTo>
                  <a:pt x="14514" y="5779"/>
                  <a:pt x="15046" y="5810"/>
                  <a:pt x="15032" y="5730"/>
                </a:cubicBezTo>
                <a:cubicBezTo>
                  <a:pt x="14999" y="5730"/>
                  <a:pt x="14990" y="5722"/>
                  <a:pt x="15007" y="5680"/>
                </a:cubicBezTo>
              </a:path>
              <a:path w="1191" h="770">
                <a:moveTo>
                  <a:pt x="14883" y="5383"/>
                </a:moveTo>
                <a:cubicBezTo>
                  <a:pt x="14901" y="5418"/>
                  <a:pt x="14937" y="5466"/>
                  <a:pt x="14982" y="5482"/>
                </a:cubicBezTo>
                <a:cubicBezTo>
                  <a:pt x="15045" y="5505"/>
                  <a:pt x="15126" y="5560"/>
                  <a:pt x="15180" y="5606"/>
                </a:cubicBezTo>
                <a:cubicBezTo>
                  <a:pt x="15220" y="5640"/>
                  <a:pt x="15276" y="5642"/>
                  <a:pt x="15304" y="5680"/>
                </a:cubicBezTo>
                <a:cubicBezTo>
                  <a:pt x="15352" y="5745"/>
                  <a:pt x="15277" y="5804"/>
                  <a:pt x="15230" y="5854"/>
                </a:cubicBezTo>
                <a:cubicBezTo>
                  <a:pt x="15172" y="5916"/>
                  <a:pt x="15139" y="5989"/>
                  <a:pt x="15081" y="6052"/>
                </a:cubicBezTo>
                <a:cubicBezTo>
                  <a:pt x="15030" y="6107"/>
                  <a:pt x="14997" y="6124"/>
                  <a:pt x="14932" y="6152"/>
                </a:cubicBezTo>
                <a:cubicBezTo>
                  <a:pt x="14982" y="6127"/>
                  <a:pt x="14999" y="6119"/>
                  <a:pt x="15007" y="60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86280" y="1884240"/>
            <a:ext cx="660600" cy="366840"/>
          </a:xfrm>
          <a:custGeom>
            <a:avLst/>
            <a:gdLst/>
            <a:ahLst/>
            <a:rect l="l" t="t" r="r" b="b"/>
            <a:pathLst>
              <a:path w="1837" h="1018">
                <a:moveTo>
                  <a:pt x="16123" y="5259"/>
                </a:moveTo>
                <a:cubicBezTo>
                  <a:pt x="16107" y="5321"/>
                  <a:pt x="16098" y="5327"/>
                  <a:pt x="16098" y="5407"/>
                </a:cubicBezTo>
                <a:cubicBezTo>
                  <a:pt x="16098" y="5495"/>
                  <a:pt x="16118" y="5570"/>
                  <a:pt x="16123" y="5655"/>
                </a:cubicBezTo>
                <a:cubicBezTo>
                  <a:pt x="16127" y="5739"/>
                  <a:pt x="16113" y="5799"/>
                  <a:pt x="16098" y="5879"/>
                </a:cubicBezTo>
                <a:cubicBezTo>
                  <a:pt x="16092" y="5912"/>
                  <a:pt x="16087" y="6049"/>
                  <a:pt x="16073" y="5928"/>
                </a:cubicBezTo>
                <a:cubicBezTo>
                  <a:pt x="16073" y="5920"/>
                  <a:pt x="16073" y="5912"/>
                  <a:pt x="16073" y="5904"/>
                </a:cubicBezTo>
              </a:path>
              <a:path w="1837" h="1018">
                <a:moveTo>
                  <a:pt x="16470" y="5755"/>
                </a:moveTo>
                <a:cubicBezTo>
                  <a:pt x="16522" y="5805"/>
                  <a:pt x="16549" y="5806"/>
                  <a:pt x="16594" y="5854"/>
                </a:cubicBezTo>
                <a:cubicBezTo>
                  <a:pt x="16665" y="5931"/>
                  <a:pt x="16669" y="5950"/>
                  <a:pt x="16669" y="6052"/>
                </a:cubicBezTo>
                <a:cubicBezTo>
                  <a:pt x="16669" y="6123"/>
                  <a:pt x="16615" y="6157"/>
                  <a:pt x="16594" y="6226"/>
                </a:cubicBezTo>
                <a:cubicBezTo>
                  <a:pt x="16571" y="6299"/>
                  <a:pt x="16610" y="6171"/>
                  <a:pt x="16619" y="6152"/>
                </a:cubicBezTo>
              </a:path>
              <a:path w="1837" h="1018">
                <a:moveTo>
                  <a:pt x="17090" y="5234"/>
                </a:moveTo>
                <a:cubicBezTo>
                  <a:pt x="17153" y="5234"/>
                  <a:pt x="17188" y="5233"/>
                  <a:pt x="17239" y="5259"/>
                </a:cubicBezTo>
                <a:cubicBezTo>
                  <a:pt x="17302" y="5292"/>
                  <a:pt x="17314" y="5315"/>
                  <a:pt x="17314" y="5383"/>
                </a:cubicBezTo>
                <a:cubicBezTo>
                  <a:pt x="17314" y="5457"/>
                  <a:pt x="17272" y="5515"/>
                  <a:pt x="17239" y="5581"/>
                </a:cubicBezTo>
                <a:cubicBezTo>
                  <a:pt x="17206" y="5648"/>
                  <a:pt x="17142" y="5685"/>
                  <a:pt x="17115" y="5755"/>
                </a:cubicBezTo>
                <a:cubicBezTo>
                  <a:pt x="17099" y="5796"/>
                  <a:pt x="17071" y="5844"/>
                  <a:pt x="17140" y="5854"/>
                </a:cubicBezTo>
                <a:cubicBezTo>
                  <a:pt x="17208" y="5864"/>
                  <a:pt x="17469" y="5884"/>
                  <a:pt x="17512" y="5829"/>
                </a:cubicBezTo>
                <a:cubicBezTo>
                  <a:pt x="17520" y="5812"/>
                  <a:pt x="17529" y="5796"/>
                  <a:pt x="17537" y="5779"/>
                </a:cubicBezTo>
              </a:path>
              <a:path w="1837" h="1018">
                <a:moveTo>
                  <a:pt x="17636" y="5606"/>
                </a:moveTo>
                <a:cubicBezTo>
                  <a:pt x="17726" y="5606"/>
                  <a:pt x="17778" y="5602"/>
                  <a:pt x="17859" y="5581"/>
                </a:cubicBezTo>
                <a:cubicBezTo>
                  <a:pt x="17884" y="5581"/>
                  <a:pt x="17892" y="5581"/>
                  <a:pt x="17909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70800" y="1751040"/>
            <a:ext cx="1706400" cy="527040"/>
          </a:xfrm>
          <a:custGeom>
            <a:avLst/>
            <a:gdLst/>
            <a:ahLst/>
            <a:rect l="l" t="t" r="r" b="b"/>
            <a:pathLst>
              <a:path w="4739" h="1464">
                <a:moveTo>
                  <a:pt x="18827" y="5407"/>
                </a:moveTo>
                <a:cubicBezTo>
                  <a:pt x="18735" y="5339"/>
                  <a:pt x="18733" y="5351"/>
                  <a:pt x="18653" y="5432"/>
                </a:cubicBezTo>
                <a:cubicBezTo>
                  <a:pt x="18615" y="5470"/>
                  <a:pt x="18543" y="5555"/>
                  <a:pt x="18529" y="5606"/>
                </a:cubicBezTo>
                <a:cubicBezTo>
                  <a:pt x="18505" y="5696"/>
                  <a:pt x="18529" y="5816"/>
                  <a:pt x="18579" y="5879"/>
                </a:cubicBezTo>
                <a:cubicBezTo>
                  <a:pt x="18611" y="5919"/>
                  <a:pt x="18679" y="5950"/>
                  <a:pt x="18728" y="5953"/>
                </a:cubicBezTo>
                <a:cubicBezTo>
                  <a:pt x="18827" y="5960"/>
                  <a:pt x="18868" y="5937"/>
                  <a:pt x="18926" y="5854"/>
                </a:cubicBezTo>
                <a:cubicBezTo>
                  <a:pt x="18979" y="5778"/>
                  <a:pt x="19036" y="5703"/>
                  <a:pt x="19050" y="5606"/>
                </a:cubicBezTo>
                <a:cubicBezTo>
                  <a:pt x="19073" y="5451"/>
                  <a:pt x="19041" y="5288"/>
                  <a:pt x="19025" y="5135"/>
                </a:cubicBezTo>
                <a:cubicBezTo>
                  <a:pt x="19019" y="5075"/>
                  <a:pt x="19000" y="5021"/>
                  <a:pt x="19000" y="4961"/>
                </a:cubicBezTo>
                <a:cubicBezTo>
                  <a:pt x="19035" y="5031"/>
                  <a:pt x="19050" y="5003"/>
                  <a:pt x="19025" y="5085"/>
                </a:cubicBezTo>
                <a:cubicBezTo>
                  <a:pt x="19025" y="5093"/>
                  <a:pt x="19025" y="5102"/>
                  <a:pt x="19025" y="5110"/>
                </a:cubicBezTo>
              </a:path>
              <a:path w="4739" h="1464">
                <a:moveTo>
                  <a:pt x="19397" y="5531"/>
                </a:moveTo>
                <a:lnTo>
                  <a:pt x="19372" y="5581"/>
                </a:lnTo>
                <a:lnTo>
                  <a:pt x="19372" y="5631"/>
                </a:lnTo>
                <a:lnTo>
                  <a:pt x="19372" y="5655"/>
                </a:lnTo>
                <a:lnTo>
                  <a:pt x="19372" y="5705"/>
                </a:lnTo>
                <a:lnTo>
                  <a:pt x="19372" y="5755"/>
                </a:lnTo>
                <a:lnTo>
                  <a:pt x="19372" y="5779"/>
                </a:lnTo>
                <a:lnTo>
                  <a:pt x="19372" y="5804"/>
                </a:lnTo>
                <a:lnTo>
                  <a:pt x="19372" y="5854"/>
                </a:lnTo>
                <a:lnTo>
                  <a:pt x="19372" y="5879"/>
                </a:lnTo>
                <a:lnTo>
                  <a:pt x="19372" y="5804"/>
                </a:lnTo>
                <a:lnTo>
                  <a:pt x="19372" y="5755"/>
                </a:lnTo>
              </a:path>
              <a:path w="4739" h="1464">
                <a:moveTo>
                  <a:pt x="19397" y="5184"/>
                </a:moveTo>
                <a:cubicBezTo>
                  <a:pt x="19440" y="5152"/>
                  <a:pt x="19437" y="5159"/>
                  <a:pt x="19496" y="5159"/>
                </a:cubicBezTo>
              </a:path>
              <a:path w="4739" h="1464">
                <a:moveTo>
                  <a:pt x="19794" y="5606"/>
                </a:moveTo>
                <a:cubicBezTo>
                  <a:pt x="19802" y="5598"/>
                  <a:pt x="19811" y="5589"/>
                  <a:pt x="19819" y="5581"/>
                </a:cubicBezTo>
                <a:cubicBezTo>
                  <a:pt x="19852" y="5636"/>
                  <a:pt x="19844" y="5687"/>
                  <a:pt x="19844" y="5755"/>
                </a:cubicBezTo>
                <a:cubicBezTo>
                  <a:pt x="19844" y="5846"/>
                  <a:pt x="19844" y="5937"/>
                  <a:pt x="19844" y="6028"/>
                </a:cubicBezTo>
                <a:cubicBezTo>
                  <a:pt x="19768" y="6126"/>
                  <a:pt x="19859" y="6002"/>
                  <a:pt x="19869" y="5953"/>
                </a:cubicBezTo>
                <a:cubicBezTo>
                  <a:pt x="19887" y="5867"/>
                  <a:pt x="19892" y="5787"/>
                  <a:pt x="19918" y="5705"/>
                </a:cubicBezTo>
                <a:cubicBezTo>
                  <a:pt x="19933" y="5658"/>
                  <a:pt x="20020" y="5570"/>
                  <a:pt x="20067" y="5556"/>
                </a:cubicBezTo>
                <a:cubicBezTo>
                  <a:pt x="20118" y="5541"/>
                  <a:pt x="20186" y="5564"/>
                  <a:pt x="20216" y="5606"/>
                </a:cubicBezTo>
                <a:cubicBezTo>
                  <a:pt x="20247" y="5649"/>
                  <a:pt x="20285" y="5703"/>
                  <a:pt x="20290" y="5755"/>
                </a:cubicBezTo>
                <a:cubicBezTo>
                  <a:pt x="20295" y="5807"/>
                  <a:pt x="20277" y="5838"/>
                  <a:pt x="20265" y="5879"/>
                </a:cubicBezTo>
                <a:cubicBezTo>
                  <a:pt x="20265" y="5887"/>
                  <a:pt x="20265" y="5896"/>
                  <a:pt x="20265" y="5904"/>
                </a:cubicBezTo>
                <a:cubicBezTo>
                  <a:pt x="20313" y="5845"/>
                  <a:pt x="20354" y="5773"/>
                  <a:pt x="20389" y="5705"/>
                </a:cubicBezTo>
                <a:cubicBezTo>
                  <a:pt x="20429" y="5629"/>
                  <a:pt x="20461" y="5549"/>
                  <a:pt x="20513" y="5482"/>
                </a:cubicBezTo>
                <a:cubicBezTo>
                  <a:pt x="20557" y="5540"/>
                  <a:pt x="20519" y="5555"/>
                  <a:pt x="20538" y="5631"/>
                </a:cubicBezTo>
                <a:cubicBezTo>
                  <a:pt x="20555" y="5696"/>
                  <a:pt x="20563" y="5732"/>
                  <a:pt x="20563" y="5804"/>
                </a:cubicBezTo>
                <a:cubicBezTo>
                  <a:pt x="20563" y="5865"/>
                  <a:pt x="20528" y="5966"/>
                  <a:pt x="20588" y="5978"/>
                </a:cubicBezTo>
                <a:cubicBezTo>
                  <a:pt x="20642" y="5951"/>
                  <a:pt x="20662" y="5940"/>
                  <a:pt x="20687" y="5904"/>
                </a:cubicBezTo>
              </a:path>
              <a:path w="4739" h="1464">
                <a:moveTo>
                  <a:pt x="20985" y="5705"/>
                </a:moveTo>
                <a:cubicBezTo>
                  <a:pt x="21047" y="5705"/>
                  <a:pt x="21111" y="5720"/>
                  <a:pt x="21158" y="5680"/>
                </a:cubicBezTo>
                <a:cubicBezTo>
                  <a:pt x="21222" y="5625"/>
                  <a:pt x="21252" y="5590"/>
                  <a:pt x="21258" y="5507"/>
                </a:cubicBezTo>
                <a:cubicBezTo>
                  <a:pt x="21262" y="5454"/>
                  <a:pt x="21202" y="5435"/>
                  <a:pt x="21158" y="5432"/>
                </a:cubicBezTo>
                <a:cubicBezTo>
                  <a:pt x="21096" y="5428"/>
                  <a:pt x="20999" y="5505"/>
                  <a:pt x="20960" y="5556"/>
                </a:cubicBezTo>
                <a:cubicBezTo>
                  <a:pt x="20904" y="5628"/>
                  <a:pt x="20886" y="5664"/>
                  <a:pt x="20886" y="5755"/>
                </a:cubicBezTo>
                <a:cubicBezTo>
                  <a:pt x="20886" y="5857"/>
                  <a:pt x="20921" y="5875"/>
                  <a:pt x="21010" y="5928"/>
                </a:cubicBezTo>
                <a:cubicBezTo>
                  <a:pt x="21077" y="5968"/>
                  <a:pt x="21153" y="5997"/>
                  <a:pt x="21233" y="5978"/>
                </a:cubicBezTo>
                <a:cubicBezTo>
                  <a:pt x="21318" y="5957"/>
                  <a:pt x="21384" y="5920"/>
                  <a:pt x="21431" y="5854"/>
                </a:cubicBezTo>
              </a:path>
              <a:path w="4739" h="1464">
                <a:moveTo>
                  <a:pt x="21630" y="5234"/>
                </a:moveTo>
                <a:cubicBezTo>
                  <a:pt x="21630" y="5314"/>
                  <a:pt x="21616" y="5356"/>
                  <a:pt x="21605" y="5432"/>
                </a:cubicBezTo>
                <a:cubicBezTo>
                  <a:pt x="21585" y="5568"/>
                  <a:pt x="21600" y="5726"/>
                  <a:pt x="21630" y="5854"/>
                </a:cubicBezTo>
                <a:cubicBezTo>
                  <a:pt x="21642" y="5906"/>
                  <a:pt x="21615" y="5936"/>
                  <a:pt x="21605" y="5978"/>
                </a:cubicBezTo>
              </a:path>
              <a:path w="4739" h="1464">
                <a:moveTo>
                  <a:pt x="21406" y="5631"/>
                </a:moveTo>
                <a:cubicBezTo>
                  <a:pt x="21519" y="5631"/>
                  <a:pt x="21623" y="5631"/>
                  <a:pt x="21729" y="5606"/>
                </a:cubicBezTo>
                <a:cubicBezTo>
                  <a:pt x="21796" y="5591"/>
                  <a:pt x="21872" y="5550"/>
                  <a:pt x="21927" y="5507"/>
                </a:cubicBezTo>
                <a:cubicBezTo>
                  <a:pt x="22003" y="5447"/>
                  <a:pt x="22031" y="5399"/>
                  <a:pt x="22051" y="5308"/>
                </a:cubicBezTo>
                <a:cubicBezTo>
                  <a:pt x="22060" y="5267"/>
                  <a:pt x="22051" y="5201"/>
                  <a:pt x="22051" y="5159"/>
                </a:cubicBezTo>
                <a:cubicBezTo>
                  <a:pt x="21928" y="5170"/>
                  <a:pt x="21927" y="5174"/>
                  <a:pt x="21878" y="5283"/>
                </a:cubicBezTo>
                <a:cubicBezTo>
                  <a:pt x="21836" y="5377"/>
                  <a:pt x="21850" y="5435"/>
                  <a:pt x="21828" y="5531"/>
                </a:cubicBezTo>
                <a:cubicBezTo>
                  <a:pt x="21812" y="5602"/>
                  <a:pt x="21803" y="5652"/>
                  <a:pt x="21803" y="5730"/>
                </a:cubicBezTo>
                <a:cubicBezTo>
                  <a:pt x="21803" y="5771"/>
                  <a:pt x="21803" y="5779"/>
                  <a:pt x="21803" y="5804"/>
                </a:cubicBezTo>
                <a:cubicBezTo>
                  <a:pt x="21844" y="5734"/>
                  <a:pt x="21871" y="5682"/>
                  <a:pt x="21927" y="5631"/>
                </a:cubicBezTo>
                <a:cubicBezTo>
                  <a:pt x="21950" y="5610"/>
                  <a:pt x="22017" y="5569"/>
                  <a:pt x="22051" y="5581"/>
                </a:cubicBezTo>
                <a:cubicBezTo>
                  <a:pt x="22078" y="5590"/>
                  <a:pt x="22204" y="5713"/>
                  <a:pt x="22225" y="5730"/>
                </a:cubicBezTo>
                <a:cubicBezTo>
                  <a:pt x="22261" y="5759"/>
                  <a:pt x="22309" y="5835"/>
                  <a:pt x="22324" y="5879"/>
                </a:cubicBezTo>
                <a:cubicBezTo>
                  <a:pt x="22345" y="5943"/>
                  <a:pt x="22283" y="5870"/>
                  <a:pt x="22275" y="5854"/>
                </a:cubicBezTo>
              </a:path>
              <a:path w="4739" h="1464">
                <a:moveTo>
                  <a:pt x="22523" y="5556"/>
                </a:moveTo>
                <a:cubicBezTo>
                  <a:pt x="22542" y="5596"/>
                  <a:pt x="22523" y="5641"/>
                  <a:pt x="22523" y="5705"/>
                </a:cubicBezTo>
                <a:cubicBezTo>
                  <a:pt x="22523" y="5774"/>
                  <a:pt x="22488" y="5883"/>
                  <a:pt x="22572" y="5904"/>
                </a:cubicBezTo>
                <a:cubicBezTo>
                  <a:pt x="22630" y="5918"/>
                  <a:pt x="22678" y="5887"/>
                  <a:pt x="22721" y="5854"/>
                </a:cubicBezTo>
                <a:cubicBezTo>
                  <a:pt x="22800" y="5795"/>
                  <a:pt x="22783" y="5799"/>
                  <a:pt x="22820" y="5705"/>
                </a:cubicBezTo>
                <a:cubicBezTo>
                  <a:pt x="22850" y="5629"/>
                  <a:pt x="22852" y="5605"/>
                  <a:pt x="22820" y="5531"/>
                </a:cubicBezTo>
                <a:cubicBezTo>
                  <a:pt x="22829" y="5595"/>
                  <a:pt x="22845" y="5634"/>
                  <a:pt x="22845" y="5705"/>
                </a:cubicBezTo>
                <a:cubicBezTo>
                  <a:pt x="22845" y="5815"/>
                  <a:pt x="22870" y="5915"/>
                  <a:pt x="22870" y="6028"/>
                </a:cubicBezTo>
                <a:cubicBezTo>
                  <a:pt x="22870" y="6112"/>
                  <a:pt x="22863" y="6174"/>
                  <a:pt x="22845" y="6251"/>
                </a:cubicBezTo>
                <a:cubicBezTo>
                  <a:pt x="22828" y="6326"/>
                  <a:pt x="22821" y="6325"/>
                  <a:pt x="22746" y="6325"/>
                </a:cubicBezTo>
                <a:cubicBezTo>
                  <a:pt x="22666" y="6325"/>
                  <a:pt x="22621" y="6274"/>
                  <a:pt x="22547" y="6251"/>
                </a:cubicBezTo>
                <a:cubicBezTo>
                  <a:pt x="22519" y="6251"/>
                  <a:pt x="22509" y="6248"/>
                  <a:pt x="22498" y="6226"/>
                </a:cubicBezTo>
              </a:path>
              <a:path w="4739" h="1464">
                <a:moveTo>
                  <a:pt x="23267" y="4862"/>
                </a:moveTo>
                <a:cubicBezTo>
                  <a:pt x="23237" y="4912"/>
                  <a:pt x="23242" y="4949"/>
                  <a:pt x="23242" y="5011"/>
                </a:cubicBezTo>
                <a:cubicBezTo>
                  <a:pt x="23242" y="5325"/>
                  <a:pt x="23242" y="6168"/>
                  <a:pt x="23242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32640" y="2303640"/>
            <a:ext cx="1635120" cy="358560"/>
          </a:xfrm>
          <a:custGeom>
            <a:avLst/>
            <a:gdLst/>
            <a:ahLst/>
            <a:rect l="l" t="t" r="r" b="b"/>
            <a:pathLst>
              <a:path w="4540" h="993">
                <a:moveTo>
                  <a:pt x="15999" y="6400"/>
                </a:moveTo>
                <a:cubicBezTo>
                  <a:pt x="15999" y="6560"/>
                  <a:pt x="15993" y="6718"/>
                  <a:pt x="15974" y="6871"/>
                </a:cubicBezTo>
                <a:cubicBezTo>
                  <a:pt x="15966" y="6933"/>
                  <a:pt x="15973" y="7036"/>
                  <a:pt x="15949" y="7094"/>
                </a:cubicBezTo>
                <a:cubicBezTo>
                  <a:pt x="15934" y="7131"/>
                  <a:pt x="15925" y="7146"/>
                  <a:pt x="15925" y="7193"/>
                </a:cubicBezTo>
                <a:cubicBezTo>
                  <a:pt x="15925" y="7137"/>
                  <a:pt x="15914" y="7089"/>
                  <a:pt x="15949" y="7045"/>
                </a:cubicBezTo>
                <a:cubicBezTo>
                  <a:pt x="15967" y="7023"/>
                  <a:pt x="16016" y="6949"/>
                  <a:pt x="16024" y="6921"/>
                </a:cubicBezTo>
                <a:cubicBezTo>
                  <a:pt x="16049" y="6835"/>
                  <a:pt x="16102" y="6801"/>
                  <a:pt x="16197" y="6796"/>
                </a:cubicBezTo>
                <a:cubicBezTo>
                  <a:pt x="16272" y="6792"/>
                  <a:pt x="16319" y="6856"/>
                  <a:pt x="16346" y="6921"/>
                </a:cubicBezTo>
                <a:cubicBezTo>
                  <a:pt x="16369" y="6977"/>
                  <a:pt x="16417" y="7059"/>
                  <a:pt x="16421" y="7119"/>
                </a:cubicBezTo>
                <a:cubicBezTo>
                  <a:pt x="16427" y="7207"/>
                  <a:pt x="16352" y="7266"/>
                  <a:pt x="16272" y="7293"/>
                </a:cubicBezTo>
                <a:cubicBezTo>
                  <a:pt x="16207" y="7315"/>
                  <a:pt x="16081" y="7301"/>
                  <a:pt x="16024" y="7268"/>
                </a:cubicBezTo>
                <a:cubicBezTo>
                  <a:pt x="15988" y="7247"/>
                  <a:pt x="15879" y="7256"/>
                  <a:pt x="15949" y="7193"/>
                </a:cubicBezTo>
                <a:cubicBezTo>
                  <a:pt x="15966" y="7185"/>
                  <a:pt x="15982" y="7177"/>
                  <a:pt x="15999" y="7169"/>
                </a:cubicBezTo>
              </a:path>
              <a:path w="4540" h="993">
                <a:moveTo>
                  <a:pt x="16669" y="6995"/>
                </a:moveTo>
                <a:cubicBezTo>
                  <a:pt x="16751" y="6995"/>
                  <a:pt x="16822" y="6991"/>
                  <a:pt x="16892" y="6970"/>
                </a:cubicBezTo>
                <a:cubicBezTo>
                  <a:pt x="16961" y="6949"/>
                  <a:pt x="16986" y="6986"/>
                  <a:pt x="17016" y="6896"/>
                </a:cubicBezTo>
                <a:cubicBezTo>
                  <a:pt x="17033" y="6845"/>
                  <a:pt x="16978" y="6797"/>
                  <a:pt x="16942" y="6772"/>
                </a:cubicBezTo>
                <a:cubicBezTo>
                  <a:pt x="16887" y="6733"/>
                  <a:pt x="16826" y="6741"/>
                  <a:pt x="16768" y="6772"/>
                </a:cubicBezTo>
                <a:cubicBezTo>
                  <a:pt x="16731" y="6792"/>
                  <a:pt x="16671" y="6808"/>
                  <a:pt x="16644" y="6846"/>
                </a:cubicBezTo>
                <a:cubicBezTo>
                  <a:pt x="16619" y="6882"/>
                  <a:pt x="16579" y="6978"/>
                  <a:pt x="16570" y="7020"/>
                </a:cubicBezTo>
                <a:cubicBezTo>
                  <a:pt x="16553" y="7099"/>
                  <a:pt x="16571" y="7148"/>
                  <a:pt x="16619" y="7193"/>
                </a:cubicBezTo>
                <a:cubicBezTo>
                  <a:pt x="16678" y="7249"/>
                  <a:pt x="16804" y="7284"/>
                  <a:pt x="16892" y="7268"/>
                </a:cubicBezTo>
                <a:cubicBezTo>
                  <a:pt x="16942" y="7259"/>
                  <a:pt x="17018" y="7211"/>
                  <a:pt x="17066" y="7193"/>
                </a:cubicBezTo>
              </a:path>
              <a:path w="4540" h="993">
                <a:moveTo>
                  <a:pt x="17264" y="6821"/>
                </a:moveTo>
                <a:cubicBezTo>
                  <a:pt x="17264" y="6949"/>
                  <a:pt x="17256" y="7080"/>
                  <a:pt x="17239" y="7193"/>
                </a:cubicBezTo>
                <a:cubicBezTo>
                  <a:pt x="17239" y="7259"/>
                  <a:pt x="17239" y="7276"/>
                  <a:pt x="17239" y="7317"/>
                </a:cubicBezTo>
                <a:cubicBezTo>
                  <a:pt x="17294" y="7276"/>
                  <a:pt x="17289" y="7220"/>
                  <a:pt x="17289" y="7144"/>
                </a:cubicBezTo>
                <a:cubicBezTo>
                  <a:pt x="17289" y="7088"/>
                  <a:pt x="17305" y="7061"/>
                  <a:pt x="17314" y="7020"/>
                </a:cubicBezTo>
                <a:cubicBezTo>
                  <a:pt x="17328" y="6954"/>
                  <a:pt x="17326" y="6895"/>
                  <a:pt x="17388" y="6846"/>
                </a:cubicBezTo>
                <a:cubicBezTo>
                  <a:pt x="17405" y="6832"/>
                  <a:pt x="17486" y="6798"/>
                  <a:pt x="17512" y="6796"/>
                </a:cubicBezTo>
                <a:cubicBezTo>
                  <a:pt x="17621" y="6788"/>
                  <a:pt x="17558" y="6862"/>
                  <a:pt x="17587" y="6921"/>
                </a:cubicBezTo>
                <a:cubicBezTo>
                  <a:pt x="17612" y="6972"/>
                  <a:pt x="17611" y="7007"/>
                  <a:pt x="17611" y="7069"/>
                </a:cubicBezTo>
                <a:cubicBezTo>
                  <a:pt x="17611" y="7134"/>
                  <a:pt x="17597" y="7158"/>
                  <a:pt x="17587" y="7218"/>
                </a:cubicBezTo>
                <a:cubicBezTo>
                  <a:pt x="17578" y="7270"/>
                  <a:pt x="17595" y="7345"/>
                  <a:pt x="17611" y="7243"/>
                </a:cubicBezTo>
              </a:path>
              <a:path w="4540" h="993">
                <a:moveTo>
                  <a:pt x="18008" y="6772"/>
                </a:moveTo>
                <a:cubicBezTo>
                  <a:pt x="18086" y="6772"/>
                  <a:pt x="18223" y="6745"/>
                  <a:pt x="18281" y="6796"/>
                </a:cubicBezTo>
                <a:cubicBezTo>
                  <a:pt x="18326" y="6835"/>
                  <a:pt x="18257" y="6934"/>
                  <a:pt x="18231" y="6970"/>
                </a:cubicBezTo>
                <a:cubicBezTo>
                  <a:pt x="18182" y="7037"/>
                  <a:pt x="18108" y="7040"/>
                  <a:pt x="18058" y="7094"/>
                </a:cubicBezTo>
                <a:cubicBezTo>
                  <a:pt x="18008" y="7148"/>
                  <a:pt x="17977" y="7179"/>
                  <a:pt x="17909" y="7218"/>
                </a:cubicBezTo>
                <a:cubicBezTo>
                  <a:pt x="17948" y="7316"/>
                  <a:pt x="17971" y="7273"/>
                  <a:pt x="18058" y="7268"/>
                </a:cubicBezTo>
                <a:cubicBezTo>
                  <a:pt x="18146" y="7263"/>
                  <a:pt x="18287" y="7241"/>
                  <a:pt x="18355" y="7293"/>
                </a:cubicBezTo>
              </a:path>
              <a:path w="4540" h="993">
                <a:moveTo>
                  <a:pt x="18653" y="6896"/>
                </a:moveTo>
                <a:cubicBezTo>
                  <a:pt x="18746" y="6896"/>
                  <a:pt x="18841" y="6909"/>
                  <a:pt x="18926" y="6871"/>
                </a:cubicBezTo>
                <a:cubicBezTo>
                  <a:pt x="18970" y="6849"/>
                  <a:pt x="18981" y="6846"/>
                  <a:pt x="19000" y="6821"/>
                </a:cubicBezTo>
                <a:cubicBezTo>
                  <a:pt x="18979" y="6749"/>
                  <a:pt x="18932" y="6728"/>
                  <a:pt x="18852" y="6697"/>
                </a:cubicBezTo>
                <a:cubicBezTo>
                  <a:pt x="18751" y="6657"/>
                  <a:pt x="18767" y="6690"/>
                  <a:pt x="18678" y="6697"/>
                </a:cubicBezTo>
                <a:cubicBezTo>
                  <a:pt x="18592" y="6704"/>
                  <a:pt x="18582" y="6794"/>
                  <a:pt x="18554" y="6846"/>
                </a:cubicBezTo>
                <a:cubicBezTo>
                  <a:pt x="18526" y="6898"/>
                  <a:pt x="18509" y="6959"/>
                  <a:pt x="18504" y="7020"/>
                </a:cubicBezTo>
                <a:cubicBezTo>
                  <a:pt x="18496" y="7112"/>
                  <a:pt x="18550" y="7145"/>
                  <a:pt x="18604" y="7193"/>
                </a:cubicBezTo>
                <a:cubicBezTo>
                  <a:pt x="18676" y="7257"/>
                  <a:pt x="18727" y="7288"/>
                  <a:pt x="18827" y="7293"/>
                </a:cubicBezTo>
                <a:cubicBezTo>
                  <a:pt x="18882" y="7296"/>
                  <a:pt x="18990" y="7314"/>
                  <a:pt x="19025" y="7268"/>
                </a:cubicBezTo>
                <a:cubicBezTo>
                  <a:pt x="19033" y="7251"/>
                  <a:pt x="19042" y="7235"/>
                  <a:pt x="19050" y="7218"/>
                </a:cubicBezTo>
              </a:path>
              <a:path w="4540" h="993">
                <a:moveTo>
                  <a:pt x="19224" y="6772"/>
                </a:moveTo>
                <a:cubicBezTo>
                  <a:pt x="19188" y="6818"/>
                  <a:pt x="19199" y="6859"/>
                  <a:pt x="19199" y="6921"/>
                </a:cubicBezTo>
                <a:cubicBezTo>
                  <a:pt x="19199" y="6997"/>
                  <a:pt x="19190" y="7048"/>
                  <a:pt x="19174" y="7119"/>
                </a:cubicBezTo>
                <a:cubicBezTo>
                  <a:pt x="19158" y="7187"/>
                  <a:pt x="19173" y="7257"/>
                  <a:pt x="19199" y="7317"/>
                </a:cubicBezTo>
                <a:cubicBezTo>
                  <a:pt x="19220" y="7261"/>
                  <a:pt x="19260" y="7201"/>
                  <a:pt x="19273" y="7144"/>
                </a:cubicBezTo>
                <a:cubicBezTo>
                  <a:pt x="19296" y="7047"/>
                  <a:pt x="19239" y="6935"/>
                  <a:pt x="19298" y="6846"/>
                </a:cubicBezTo>
                <a:cubicBezTo>
                  <a:pt x="19331" y="6797"/>
                  <a:pt x="19399" y="6755"/>
                  <a:pt x="19447" y="6747"/>
                </a:cubicBezTo>
                <a:cubicBezTo>
                  <a:pt x="19474" y="6743"/>
                  <a:pt x="19631" y="6874"/>
                  <a:pt x="19645" y="6896"/>
                </a:cubicBezTo>
                <a:cubicBezTo>
                  <a:pt x="19678" y="6951"/>
                  <a:pt x="19650" y="7007"/>
                  <a:pt x="19645" y="7069"/>
                </a:cubicBezTo>
                <a:cubicBezTo>
                  <a:pt x="19641" y="7124"/>
                  <a:pt x="19621" y="7160"/>
                  <a:pt x="19621" y="7218"/>
                </a:cubicBezTo>
                <a:cubicBezTo>
                  <a:pt x="19621" y="7227"/>
                  <a:pt x="19575" y="7342"/>
                  <a:pt x="19596" y="7342"/>
                </a:cubicBezTo>
                <a:cubicBezTo>
                  <a:pt x="19618" y="7320"/>
                  <a:pt x="19627" y="7315"/>
                  <a:pt x="19621" y="7293"/>
                </a:cubicBezTo>
              </a:path>
              <a:path w="4540" h="993">
                <a:moveTo>
                  <a:pt x="19869" y="7069"/>
                </a:moveTo>
                <a:cubicBezTo>
                  <a:pt x="19950" y="7069"/>
                  <a:pt x="19977" y="7075"/>
                  <a:pt x="20042" y="7020"/>
                </a:cubicBezTo>
                <a:cubicBezTo>
                  <a:pt x="20091" y="6978"/>
                  <a:pt x="20154" y="6957"/>
                  <a:pt x="20216" y="6921"/>
                </a:cubicBezTo>
                <a:cubicBezTo>
                  <a:pt x="20260" y="6895"/>
                  <a:pt x="20305" y="6844"/>
                  <a:pt x="20241" y="6796"/>
                </a:cubicBezTo>
                <a:cubicBezTo>
                  <a:pt x="20201" y="6765"/>
                  <a:pt x="20163" y="6772"/>
                  <a:pt x="20117" y="6772"/>
                </a:cubicBezTo>
                <a:cubicBezTo>
                  <a:pt x="20033" y="6772"/>
                  <a:pt x="20019" y="6765"/>
                  <a:pt x="19943" y="6821"/>
                </a:cubicBezTo>
                <a:cubicBezTo>
                  <a:pt x="19881" y="6866"/>
                  <a:pt x="19860" y="6925"/>
                  <a:pt x="19844" y="6995"/>
                </a:cubicBezTo>
                <a:cubicBezTo>
                  <a:pt x="19829" y="7059"/>
                  <a:pt x="19835" y="7171"/>
                  <a:pt x="19869" y="7218"/>
                </a:cubicBezTo>
                <a:cubicBezTo>
                  <a:pt x="19894" y="7254"/>
                  <a:pt x="19956" y="7290"/>
                  <a:pt x="19993" y="7317"/>
                </a:cubicBezTo>
                <a:cubicBezTo>
                  <a:pt x="20060" y="7366"/>
                  <a:pt x="20134" y="7387"/>
                  <a:pt x="20216" y="7392"/>
                </a:cubicBezTo>
                <a:cubicBezTo>
                  <a:pt x="20314" y="7397"/>
                  <a:pt x="20334" y="7404"/>
                  <a:pt x="20389" y="7342"/>
                </a:cubicBezTo>
                <a:cubicBezTo>
                  <a:pt x="20429" y="7296"/>
                  <a:pt x="20451" y="7294"/>
                  <a:pt x="20464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33840" y="2678040"/>
            <a:ext cx="19080" cy="223920"/>
          </a:xfrm>
          <a:custGeom>
            <a:avLst/>
            <a:gdLst/>
            <a:ahLst/>
            <a:rect l="l" t="t" r="r" b="b"/>
            <a:pathLst>
              <a:path w="50" h="622">
                <a:moveTo>
                  <a:pt x="10145" y="7441"/>
                </a:moveTo>
                <a:cubicBezTo>
                  <a:pt x="10145" y="7520"/>
                  <a:pt x="10133" y="7568"/>
                  <a:pt x="10120" y="7640"/>
                </a:cubicBezTo>
                <a:cubicBezTo>
                  <a:pt x="10101" y="7748"/>
                  <a:pt x="10122" y="7856"/>
                  <a:pt x="10096" y="7962"/>
                </a:cubicBezTo>
                <a:cubicBezTo>
                  <a:pt x="10087" y="8000"/>
                  <a:pt x="10073" y="8070"/>
                  <a:pt x="10096" y="8037"/>
                </a:cubicBezTo>
                <a:cubicBezTo>
                  <a:pt x="10104" y="8029"/>
                  <a:pt x="10112" y="8020"/>
                  <a:pt x="10120" y="80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76760" y="2741760"/>
            <a:ext cx="430200" cy="28548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0492" y="7987"/>
                </a:moveTo>
                <a:cubicBezTo>
                  <a:pt x="10561" y="8045"/>
                  <a:pt x="10572" y="8069"/>
                  <a:pt x="10616" y="8136"/>
                </a:cubicBezTo>
                <a:cubicBezTo>
                  <a:pt x="10648" y="8184"/>
                  <a:pt x="10641" y="8224"/>
                  <a:pt x="10641" y="8285"/>
                </a:cubicBezTo>
                <a:cubicBezTo>
                  <a:pt x="10641" y="8320"/>
                  <a:pt x="10608" y="8397"/>
                  <a:pt x="10567" y="8409"/>
                </a:cubicBezTo>
                <a:cubicBezTo>
                  <a:pt x="10484" y="8433"/>
                  <a:pt x="10533" y="8393"/>
                  <a:pt x="10542" y="8359"/>
                </a:cubicBezTo>
              </a:path>
              <a:path w="1192" h="795">
                <a:moveTo>
                  <a:pt x="11013" y="7615"/>
                </a:moveTo>
                <a:cubicBezTo>
                  <a:pt x="11053" y="7615"/>
                  <a:pt x="11145" y="7595"/>
                  <a:pt x="11162" y="7640"/>
                </a:cubicBezTo>
                <a:cubicBezTo>
                  <a:pt x="11183" y="7695"/>
                  <a:pt x="11145" y="7752"/>
                  <a:pt x="11112" y="7789"/>
                </a:cubicBezTo>
                <a:cubicBezTo>
                  <a:pt x="11067" y="7839"/>
                  <a:pt x="11037" y="7889"/>
                  <a:pt x="10988" y="7938"/>
                </a:cubicBezTo>
                <a:cubicBezTo>
                  <a:pt x="10960" y="7966"/>
                  <a:pt x="10925" y="8047"/>
                  <a:pt x="10939" y="8086"/>
                </a:cubicBezTo>
                <a:cubicBezTo>
                  <a:pt x="10962" y="8149"/>
                  <a:pt x="11055" y="8094"/>
                  <a:pt x="11088" y="8086"/>
                </a:cubicBezTo>
                <a:cubicBezTo>
                  <a:pt x="11142" y="8073"/>
                  <a:pt x="11215" y="8082"/>
                  <a:pt x="11261" y="8111"/>
                </a:cubicBezTo>
                <a:cubicBezTo>
                  <a:pt x="11308" y="8140"/>
                  <a:pt x="11289" y="8146"/>
                  <a:pt x="11336" y="8111"/>
                </a:cubicBezTo>
              </a:path>
              <a:path w="1192" h="795">
                <a:moveTo>
                  <a:pt x="11509" y="7938"/>
                </a:moveTo>
                <a:cubicBezTo>
                  <a:pt x="11590" y="7878"/>
                  <a:pt x="11586" y="7956"/>
                  <a:pt x="11658" y="7962"/>
                </a:cubicBezTo>
                <a:cubicBezTo>
                  <a:pt x="11681" y="7940"/>
                  <a:pt x="11689" y="7935"/>
                  <a:pt x="11683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40160" y="2554200"/>
            <a:ext cx="1258920" cy="677880"/>
          </a:xfrm>
          <a:custGeom>
            <a:avLst/>
            <a:gdLst/>
            <a:ahLst/>
            <a:rect l="l" t="t" r="r" b="b"/>
            <a:pathLst>
              <a:path w="3499" h="1886">
                <a:moveTo>
                  <a:pt x="12254" y="7764"/>
                </a:moveTo>
                <a:cubicBezTo>
                  <a:pt x="12215" y="7772"/>
                  <a:pt x="12159" y="7793"/>
                  <a:pt x="12129" y="7813"/>
                </a:cubicBezTo>
                <a:cubicBezTo>
                  <a:pt x="12049" y="7867"/>
                  <a:pt x="12055" y="7890"/>
                  <a:pt x="12055" y="7987"/>
                </a:cubicBezTo>
                <a:cubicBezTo>
                  <a:pt x="12055" y="8043"/>
                  <a:pt x="12043" y="8093"/>
                  <a:pt x="12080" y="8136"/>
                </a:cubicBezTo>
                <a:cubicBezTo>
                  <a:pt x="12134" y="8199"/>
                  <a:pt x="12209" y="8208"/>
                  <a:pt x="12278" y="8161"/>
                </a:cubicBezTo>
                <a:cubicBezTo>
                  <a:pt x="12342" y="8118"/>
                  <a:pt x="12388" y="8082"/>
                  <a:pt x="12427" y="8012"/>
                </a:cubicBezTo>
                <a:cubicBezTo>
                  <a:pt x="12489" y="7900"/>
                  <a:pt x="12485" y="7810"/>
                  <a:pt x="12502" y="7689"/>
                </a:cubicBezTo>
                <a:cubicBezTo>
                  <a:pt x="12524" y="7528"/>
                  <a:pt x="12551" y="7382"/>
                  <a:pt x="12551" y="7218"/>
                </a:cubicBezTo>
                <a:cubicBezTo>
                  <a:pt x="12551" y="7162"/>
                  <a:pt x="12521" y="7055"/>
                  <a:pt x="12551" y="7144"/>
                </a:cubicBezTo>
                <a:cubicBezTo>
                  <a:pt x="12559" y="7160"/>
                  <a:pt x="12568" y="7177"/>
                  <a:pt x="12576" y="7193"/>
                </a:cubicBezTo>
              </a:path>
              <a:path w="3499" h="1886">
                <a:moveTo>
                  <a:pt x="12774" y="8012"/>
                </a:moveTo>
                <a:cubicBezTo>
                  <a:pt x="12774" y="8038"/>
                  <a:pt x="12774" y="8233"/>
                  <a:pt x="12774" y="8186"/>
                </a:cubicBezTo>
                <a:cubicBezTo>
                  <a:pt x="12774" y="8178"/>
                  <a:pt x="12774" y="8169"/>
                  <a:pt x="12774" y="8161"/>
                </a:cubicBezTo>
              </a:path>
              <a:path w="3499" h="1886">
                <a:moveTo>
                  <a:pt x="12799" y="7565"/>
                </a:moveTo>
                <a:cubicBezTo>
                  <a:pt x="12799" y="7519"/>
                  <a:pt x="12782" y="7542"/>
                  <a:pt x="12774" y="7565"/>
                </a:cubicBezTo>
              </a:path>
              <a:path w="3499" h="1886">
                <a:moveTo>
                  <a:pt x="12973" y="7962"/>
                </a:moveTo>
                <a:cubicBezTo>
                  <a:pt x="12973" y="8061"/>
                  <a:pt x="12973" y="8161"/>
                  <a:pt x="12973" y="8260"/>
                </a:cubicBezTo>
                <a:cubicBezTo>
                  <a:pt x="13005" y="8172"/>
                  <a:pt x="13026" y="8133"/>
                  <a:pt x="13072" y="8062"/>
                </a:cubicBezTo>
                <a:cubicBezTo>
                  <a:pt x="13120" y="7989"/>
                  <a:pt x="13128" y="7962"/>
                  <a:pt x="13221" y="7938"/>
                </a:cubicBezTo>
                <a:cubicBezTo>
                  <a:pt x="13290" y="7920"/>
                  <a:pt x="13317" y="7988"/>
                  <a:pt x="13345" y="8037"/>
                </a:cubicBezTo>
                <a:cubicBezTo>
                  <a:pt x="13390" y="8117"/>
                  <a:pt x="13395" y="8169"/>
                  <a:pt x="13395" y="8260"/>
                </a:cubicBezTo>
                <a:cubicBezTo>
                  <a:pt x="13395" y="8268"/>
                  <a:pt x="13395" y="8277"/>
                  <a:pt x="13395" y="8285"/>
                </a:cubicBezTo>
                <a:cubicBezTo>
                  <a:pt x="13422" y="8266"/>
                  <a:pt x="13444" y="8186"/>
                  <a:pt x="13469" y="8136"/>
                </a:cubicBezTo>
                <a:cubicBezTo>
                  <a:pt x="13506" y="8062"/>
                  <a:pt x="13509" y="8019"/>
                  <a:pt x="13593" y="8012"/>
                </a:cubicBezTo>
                <a:cubicBezTo>
                  <a:pt x="13633" y="8009"/>
                  <a:pt x="13687" y="8060"/>
                  <a:pt x="13717" y="8086"/>
                </a:cubicBezTo>
                <a:cubicBezTo>
                  <a:pt x="13758" y="8123"/>
                  <a:pt x="13712" y="8235"/>
                  <a:pt x="13767" y="8235"/>
                </a:cubicBezTo>
                <a:cubicBezTo>
                  <a:pt x="13775" y="8227"/>
                  <a:pt x="13783" y="8218"/>
                  <a:pt x="13791" y="8210"/>
                </a:cubicBezTo>
              </a:path>
              <a:path w="3499" h="1886">
                <a:moveTo>
                  <a:pt x="13965" y="8062"/>
                </a:moveTo>
                <a:cubicBezTo>
                  <a:pt x="14019" y="8062"/>
                  <a:pt x="14129" y="8087"/>
                  <a:pt x="14163" y="8037"/>
                </a:cubicBezTo>
                <a:cubicBezTo>
                  <a:pt x="14214" y="7962"/>
                  <a:pt x="14162" y="7927"/>
                  <a:pt x="14114" y="7888"/>
                </a:cubicBezTo>
                <a:cubicBezTo>
                  <a:pt x="14071" y="7852"/>
                  <a:pt x="14031" y="7850"/>
                  <a:pt x="13990" y="7888"/>
                </a:cubicBezTo>
                <a:cubicBezTo>
                  <a:pt x="13946" y="7929"/>
                  <a:pt x="13877" y="8008"/>
                  <a:pt x="13866" y="8062"/>
                </a:cubicBezTo>
                <a:cubicBezTo>
                  <a:pt x="13852" y="8130"/>
                  <a:pt x="13945" y="8204"/>
                  <a:pt x="13990" y="8235"/>
                </a:cubicBezTo>
                <a:cubicBezTo>
                  <a:pt x="14053" y="8278"/>
                  <a:pt x="14114" y="8320"/>
                  <a:pt x="14188" y="8334"/>
                </a:cubicBezTo>
              </a:path>
              <a:path w="3499" h="1886">
                <a:moveTo>
                  <a:pt x="14511" y="7789"/>
                </a:moveTo>
                <a:cubicBezTo>
                  <a:pt x="14480" y="7859"/>
                  <a:pt x="14465" y="7908"/>
                  <a:pt x="14461" y="7987"/>
                </a:cubicBezTo>
                <a:cubicBezTo>
                  <a:pt x="14457" y="8068"/>
                  <a:pt x="14446" y="8169"/>
                  <a:pt x="14486" y="8235"/>
                </a:cubicBezTo>
              </a:path>
              <a:path w="3499" h="1886">
                <a:moveTo>
                  <a:pt x="14288" y="7962"/>
                </a:moveTo>
                <a:cubicBezTo>
                  <a:pt x="14342" y="8040"/>
                  <a:pt x="14366" y="8037"/>
                  <a:pt x="14461" y="8037"/>
                </a:cubicBezTo>
                <a:cubicBezTo>
                  <a:pt x="14540" y="8037"/>
                  <a:pt x="14589" y="7990"/>
                  <a:pt x="14660" y="7962"/>
                </a:cubicBezTo>
                <a:cubicBezTo>
                  <a:pt x="14745" y="7929"/>
                  <a:pt x="14781" y="7867"/>
                  <a:pt x="14833" y="7789"/>
                </a:cubicBezTo>
                <a:cubicBezTo>
                  <a:pt x="14861" y="7746"/>
                  <a:pt x="14897" y="7685"/>
                  <a:pt x="14908" y="7640"/>
                </a:cubicBezTo>
                <a:cubicBezTo>
                  <a:pt x="14841" y="7621"/>
                  <a:pt x="14779" y="7646"/>
                  <a:pt x="14759" y="7739"/>
                </a:cubicBezTo>
                <a:cubicBezTo>
                  <a:pt x="14738" y="7837"/>
                  <a:pt x="14723" y="7962"/>
                  <a:pt x="14709" y="8062"/>
                </a:cubicBezTo>
                <a:cubicBezTo>
                  <a:pt x="14697" y="8145"/>
                  <a:pt x="14684" y="8225"/>
                  <a:pt x="14684" y="8310"/>
                </a:cubicBezTo>
                <a:cubicBezTo>
                  <a:pt x="14730" y="8253"/>
                  <a:pt x="14757" y="8191"/>
                  <a:pt x="14808" y="8136"/>
                </a:cubicBezTo>
                <a:cubicBezTo>
                  <a:pt x="14856" y="8084"/>
                  <a:pt x="14842" y="8080"/>
                  <a:pt x="14908" y="8062"/>
                </a:cubicBezTo>
                <a:cubicBezTo>
                  <a:pt x="14953" y="8077"/>
                  <a:pt x="14932" y="8130"/>
                  <a:pt x="14932" y="8186"/>
                </a:cubicBezTo>
                <a:cubicBezTo>
                  <a:pt x="14932" y="8245"/>
                  <a:pt x="14888" y="8288"/>
                  <a:pt x="14957" y="8235"/>
                </a:cubicBezTo>
              </a:path>
              <a:path w="3499" h="1886">
                <a:moveTo>
                  <a:pt x="15156" y="8136"/>
                </a:moveTo>
                <a:cubicBezTo>
                  <a:pt x="15148" y="8178"/>
                  <a:pt x="15111" y="8238"/>
                  <a:pt x="15131" y="8285"/>
                </a:cubicBezTo>
                <a:cubicBezTo>
                  <a:pt x="15139" y="8293"/>
                  <a:pt x="15148" y="8302"/>
                  <a:pt x="15156" y="8310"/>
                </a:cubicBezTo>
                <a:cubicBezTo>
                  <a:pt x="15220" y="8309"/>
                  <a:pt x="15302" y="8257"/>
                  <a:pt x="15329" y="8161"/>
                </a:cubicBezTo>
                <a:cubicBezTo>
                  <a:pt x="15329" y="8119"/>
                  <a:pt x="15321" y="8103"/>
                  <a:pt x="15354" y="8111"/>
                </a:cubicBezTo>
                <a:cubicBezTo>
                  <a:pt x="15354" y="8322"/>
                  <a:pt x="15437" y="8722"/>
                  <a:pt x="15329" y="8905"/>
                </a:cubicBezTo>
                <a:cubicBezTo>
                  <a:pt x="15267" y="9010"/>
                  <a:pt x="15231" y="8973"/>
                  <a:pt x="15156" y="8930"/>
                </a:cubicBezTo>
                <a:cubicBezTo>
                  <a:pt x="15024" y="8855"/>
                  <a:pt x="15001" y="8780"/>
                  <a:pt x="14908" y="8682"/>
                </a:cubicBezTo>
                <a:cubicBezTo>
                  <a:pt x="14860" y="8658"/>
                  <a:pt x="14843" y="8652"/>
                  <a:pt x="14858" y="8607"/>
                </a:cubicBezTo>
              </a:path>
              <a:path w="3499" h="1886">
                <a:moveTo>
                  <a:pt x="15553" y="7640"/>
                </a:moveTo>
                <a:cubicBezTo>
                  <a:pt x="15523" y="7690"/>
                  <a:pt x="15528" y="7727"/>
                  <a:pt x="15528" y="7789"/>
                </a:cubicBezTo>
                <a:cubicBezTo>
                  <a:pt x="15528" y="7873"/>
                  <a:pt x="15507" y="7933"/>
                  <a:pt x="15503" y="8012"/>
                </a:cubicBezTo>
                <a:cubicBezTo>
                  <a:pt x="15498" y="8093"/>
                  <a:pt x="15491" y="8160"/>
                  <a:pt x="15478" y="8235"/>
                </a:cubicBezTo>
                <a:cubicBezTo>
                  <a:pt x="15470" y="8282"/>
                  <a:pt x="15478" y="8336"/>
                  <a:pt x="15478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70000" y="2768760"/>
            <a:ext cx="776160" cy="857160"/>
          </a:xfrm>
          <a:custGeom>
            <a:avLst/>
            <a:gdLst/>
            <a:ahLst/>
            <a:rect l="l" t="t" r="r" b="b"/>
            <a:pathLst>
              <a:path w="2159" h="2383">
                <a:moveTo>
                  <a:pt x="3746" y="8235"/>
                </a:moveTo>
                <a:cubicBezTo>
                  <a:pt x="3684" y="8158"/>
                  <a:pt x="3692" y="8174"/>
                  <a:pt x="3597" y="8136"/>
                </a:cubicBezTo>
                <a:cubicBezTo>
                  <a:pt x="3537" y="8112"/>
                  <a:pt x="3503" y="8092"/>
                  <a:pt x="3448" y="8136"/>
                </a:cubicBezTo>
                <a:cubicBezTo>
                  <a:pt x="3395" y="8179"/>
                  <a:pt x="3355" y="8226"/>
                  <a:pt x="3324" y="8285"/>
                </a:cubicBezTo>
                <a:cubicBezTo>
                  <a:pt x="3272" y="8383"/>
                  <a:pt x="3249" y="8355"/>
                  <a:pt x="3249" y="8483"/>
                </a:cubicBezTo>
                <a:cubicBezTo>
                  <a:pt x="3249" y="8540"/>
                  <a:pt x="3241" y="8582"/>
                  <a:pt x="3274" y="8632"/>
                </a:cubicBezTo>
                <a:cubicBezTo>
                  <a:pt x="3309" y="8684"/>
                  <a:pt x="3367" y="8690"/>
                  <a:pt x="3423" y="8706"/>
                </a:cubicBezTo>
                <a:cubicBezTo>
                  <a:pt x="3571" y="8748"/>
                  <a:pt x="3697" y="8712"/>
                  <a:pt x="3845" y="8706"/>
                </a:cubicBezTo>
                <a:cubicBezTo>
                  <a:pt x="3923" y="8703"/>
                  <a:pt x="3935" y="8683"/>
                  <a:pt x="3994" y="8632"/>
                </a:cubicBezTo>
              </a:path>
              <a:path w="2159" h="2383">
                <a:moveTo>
                  <a:pt x="3944" y="7689"/>
                </a:moveTo>
                <a:cubicBezTo>
                  <a:pt x="3963" y="7708"/>
                  <a:pt x="4050" y="7786"/>
                  <a:pt x="4068" y="7813"/>
                </a:cubicBezTo>
                <a:cubicBezTo>
                  <a:pt x="4137" y="7912"/>
                  <a:pt x="4198" y="7973"/>
                  <a:pt x="4291" y="8062"/>
                </a:cubicBezTo>
                <a:cubicBezTo>
                  <a:pt x="4388" y="8155"/>
                  <a:pt x="4423" y="8283"/>
                  <a:pt x="4465" y="8409"/>
                </a:cubicBezTo>
                <a:cubicBezTo>
                  <a:pt x="4495" y="8499"/>
                  <a:pt x="4503" y="8610"/>
                  <a:pt x="4490" y="8706"/>
                </a:cubicBezTo>
                <a:cubicBezTo>
                  <a:pt x="4471" y="8845"/>
                  <a:pt x="4417" y="8994"/>
                  <a:pt x="4341" y="9103"/>
                </a:cubicBezTo>
                <a:cubicBezTo>
                  <a:pt x="4298" y="9164"/>
                  <a:pt x="4197" y="9258"/>
                  <a:pt x="4142" y="9302"/>
                </a:cubicBezTo>
                <a:cubicBezTo>
                  <a:pt x="4083" y="9350"/>
                  <a:pt x="4083" y="9332"/>
                  <a:pt x="4043" y="9401"/>
                </a:cubicBezTo>
              </a:path>
              <a:path w="2159" h="2383">
                <a:moveTo>
                  <a:pt x="5407" y="9054"/>
                </a:moveTo>
                <a:cubicBezTo>
                  <a:pt x="5312" y="9096"/>
                  <a:pt x="5262" y="9119"/>
                  <a:pt x="5184" y="9178"/>
                </a:cubicBezTo>
                <a:cubicBezTo>
                  <a:pt x="5027" y="9297"/>
                  <a:pt x="4860" y="9350"/>
                  <a:pt x="4713" y="9500"/>
                </a:cubicBezTo>
                <a:cubicBezTo>
                  <a:pt x="4552" y="9665"/>
                  <a:pt x="4391" y="9798"/>
                  <a:pt x="4217" y="9947"/>
                </a:cubicBezTo>
                <a:cubicBezTo>
                  <a:pt x="4160" y="9996"/>
                  <a:pt x="4073" y="10099"/>
                  <a:pt x="4142" y="10071"/>
                </a:cubicBezTo>
                <a:cubicBezTo>
                  <a:pt x="4172" y="10041"/>
                  <a:pt x="4183" y="10027"/>
                  <a:pt x="4192" y="99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68840" y="3133800"/>
            <a:ext cx="1241280" cy="349200"/>
          </a:xfrm>
          <a:custGeom>
            <a:avLst/>
            <a:gdLst/>
            <a:ahLst/>
            <a:rect l="l" t="t" r="r" b="b"/>
            <a:pathLst>
              <a:path w="3448" h="969">
                <a:moveTo>
                  <a:pt x="10542" y="8706"/>
                </a:moveTo>
                <a:cubicBezTo>
                  <a:pt x="10542" y="8876"/>
                  <a:pt x="10537" y="9036"/>
                  <a:pt x="10517" y="9203"/>
                </a:cubicBezTo>
                <a:cubicBezTo>
                  <a:pt x="10509" y="9267"/>
                  <a:pt x="10480" y="9314"/>
                  <a:pt x="10468" y="9376"/>
                </a:cubicBezTo>
                <a:cubicBezTo>
                  <a:pt x="10468" y="9253"/>
                  <a:pt x="10468" y="9301"/>
                  <a:pt x="10517" y="9203"/>
                </a:cubicBezTo>
                <a:cubicBezTo>
                  <a:pt x="10536" y="9165"/>
                  <a:pt x="10610" y="9092"/>
                  <a:pt x="10666" y="9079"/>
                </a:cubicBezTo>
                <a:cubicBezTo>
                  <a:pt x="10722" y="9066"/>
                  <a:pt x="10780" y="9124"/>
                  <a:pt x="10790" y="9178"/>
                </a:cubicBezTo>
                <a:cubicBezTo>
                  <a:pt x="10804" y="9255"/>
                  <a:pt x="10804" y="9383"/>
                  <a:pt x="10765" y="9451"/>
                </a:cubicBezTo>
                <a:cubicBezTo>
                  <a:pt x="10735" y="9502"/>
                  <a:pt x="10710" y="9546"/>
                  <a:pt x="10641" y="9525"/>
                </a:cubicBezTo>
                <a:cubicBezTo>
                  <a:pt x="10585" y="9508"/>
                  <a:pt x="10535" y="9458"/>
                  <a:pt x="10492" y="9426"/>
                </a:cubicBezTo>
              </a:path>
              <a:path w="3448" h="969">
                <a:moveTo>
                  <a:pt x="10864" y="9302"/>
                </a:moveTo>
                <a:cubicBezTo>
                  <a:pt x="10930" y="9302"/>
                  <a:pt x="11012" y="9317"/>
                  <a:pt x="11063" y="9277"/>
                </a:cubicBezTo>
                <a:cubicBezTo>
                  <a:pt x="11109" y="9240"/>
                  <a:pt x="11161" y="9225"/>
                  <a:pt x="11137" y="9153"/>
                </a:cubicBezTo>
                <a:cubicBezTo>
                  <a:pt x="11125" y="9116"/>
                  <a:pt x="11055" y="9025"/>
                  <a:pt x="11013" y="9029"/>
                </a:cubicBezTo>
                <a:cubicBezTo>
                  <a:pt x="10918" y="9039"/>
                  <a:pt x="10901" y="9104"/>
                  <a:pt x="10864" y="9178"/>
                </a:cubicBezTo>
                <a:cubicBezTo>
                  <a:pt x="10836" y="9234"/>
                  <a:pt x="10819" y="9339"/>
                  <a:pt x="10840" y="9401"/>
                </a:cubicBezTo>
                <a:cubicBezTo>
                  <a:pt x="10866" y="9477"/>
                  <a:pt x="10939" y="9517"/>
                  <a:pt x="11013" y="9525"/>
                </a:cubicBezTo>
                <a:cubicBezTo>
                  <a:pt x="11102" y="9534"/>
                  <a:pt x="11170" y="9449"/>
                  <a:pt x="11237" y="9401"/>
                </a:cubicBezTo>
              </a:path>
              <a:path w="3448" h="969">
                <a:moveTo>
                  <a:pt x="11410" y="9054"/>
                </a:moveTo>
                <a:cubicBezTo>
                  <a:pt x="11410" y="9178"/>
                  <a:pt x="11410" y="9302"/>
                  <a:pt x="11410" y="9426"/>
                </a:cubicBezTo>
                <a:cubicBezTo>
                  <a:pt x="11410" y="9324"/>
                  <a:pt x="11434" y="9297"/>
                  <a:pt x="11460" y="9227"/>
                </a:cubicBezTo>
                <a:cubicBezTo>
                  <a:pt x="11482" y="9170"/>
                  <a:pt x="11510" y="9128"/>
                  <a:pt x="11584" y="9103"/>
                </a:cubicBezTo>
                <a:cubicBezTo>
                  <a:pt x="11632" y="9087"/>
                  <a:pt x="11676" y="9195"/>
                  <a:pt x="11683" y="9227"/>
                </a:cubicBezTo>
                <a:cubicBezTo>
                  <a:pt x="11699" y="9298"/>
                  <a:pt x="11637" y="9489"/>
                  <a:pt x="11708" y="9401"/>
                </a:cubicBezTo>
                <a:cubicBezTo>
                  <a:pt x="11716" y="9393"/>
                  <a:pt x="11725" y="9384"/>
                  <a:pt x="11733" y="9376"/>
                </a:cubicBezTo>
              </a:path>
              <a:path w="3448" h="969">
                <a:moveTo>
                  <a:pt x="11906" y="9153"/>
                </a:moveTo>
                <a:cubicBezTo>
                  <a:pt x="11961" y="9153"/>
                  <a:pt x="11999" y="9130"/>
                  <a:pt x="12055" y="9128"/>
                </a:cubicBezTo>
                <a:cubicBezTo>
                  <a:pt x="12126" y="9125"/>
                  <a:pt x="12178" y="9106"/>
                  <a:pt x="12204" y="9178"/>
                </a:cubicBezTo>
                <a:cubicBezTo>
                  <a:pt x="12213" y="9203"/>
                  <a:pt x="12150" y="9314"/>
                  <a:pt x="12129" y="9327"/>
                </a:cubicBezTo>
                <a:cubicBezTo>
                  <a:pt x="12056" y="9373"/>
                  <a:pt x="11981" y="9367"/>
                  <a:pt x="11931" y="9451"/>
                </a:cubicBezTo>
                <a:cubicBezTo>
                  <a:pt x="11931" y="9484"/>
                  <a:pt x="11931" y="9500"/>
                  <a:pt x="11931" y="9525"/>
                </a:cubicBezTo>
                <a:cubicBezTo>
                  <a:pt x="11993" y="9509"/>
                  <a:pt x="12029" y="9500"/>
                  <a:pt x="12105" y="9500"/>
                </a:cubicBezTo>
                <a:cubicBezTo>
                  <a:pt x="12179" y="9500"/>
                  <a:pt x="12233" y="9520"/>
                  <a:pt x="12303" y="9525"/>
                </a:cubicBezTo>
                <a:cubicBezTo>
                  <a:pt x="12311" y="9525"/>
                  <a:pt x="12320" y="9525"/>
                  <a:pt x="12328" y="9525"/>
                </a:cubicBezTo>
              </a:path>
              <a:path w="3448" h="969">
                <a:moveTo>
                  <a:pt x="12502" y="9252"/>
                </a:moveTo>
                <a:cubicBezTo>
                  <a:pt x="12537" y="9249"/>
                  <a:pt x="12664" y="9252"/>
                  <a:pt x="12700" y="9227"/>
                </a:cubicBezTo>
                <a:cubicBezTo>
                  <a:pt x="12739" y="9189"/>
                  <a:pt x="12756" y="9187"/>
                  <a:pt x="12750" y="9153"/>
                </a:cubicBezTo>
                <a:cubicBezTo>
                  <a:pt x="12693" y="9125"/>
                  <a:pt x="12619" y="9077"/>
                  <a:pt x="12551" y="9103"/>
                </a:cubicBezTo>
                <a:cubicBezTo>
                  <a:pt x="12509" y="9119"/>
                  <a:pt x="12461" y="9214"/>
                  <a:pt x="12452" y="9252"/>
                </a:cubicBezTo>
                <a:cubicBezTo>
                  <a:pt x="12439" y="9311"/>
                  <a:pt x="12446" y="9401"/>
                  <a:pt x="12477" y="9451"/>
                </a:cubicBezTo>
                <a:cubicBezTo>
                  <a:pt x="12515" y="9512"/>
                  <a:pt x="12605" y="9544"/>
                  <a:pt x="12675" y="9525"/>
                </a:cubicBezTo>
                <a:cubicBezTo>
                  <a:pt x="12692" y="9517"/>
                  <a:pt x="12708" y="9508"/>
                  <a:pt x="12725" y="9500"/>
                </a:cubicBezTo>
              </a:path>
              <a:path w="3448" h="969">
                <a:moveTo>
                  <a:pt x="12973" y="9203"/>
                </a:moveTo>
                <a:cubicBezTo>
                  <a:pt x="12973" y="9278"/>
                  <a:pt x="12959" y="9332"/>
                  <a:pt x="12948" y="9401"/>
                </a:cubicBezTo>
                <a:cubicBezTo>
                  <a:pt x="12939" y="9455"/>
                  <a:pt x="12948" y="9521"/>
                  <a:pt x="12948" y="9575"/>
                </a:cubicBezTo>
                <a:cubicBezTo>
                  <a:pt x="12975" y="9511"/>
                  <a:pt x="13005" y="9445"/>
                  <a:pt x="13022" y="9376"/>
                </a:cubicBezTo>
                <a:cubicBezTo>
                  <a:pt x="13039" y="9305"/>
                  <a:pt x="13088" y="9269"/>
                  <a:pt x="13146" y="9252"/>
                </a:cubicBezTo>
                <a:cubicBezTo>
                  <a:pt x="13212" y="9285"/>
                  <a:pt x="13175" y="9314"/>
                  <a:pt x="13196" y="9376"/>
                </a:cubicBezTo>
                <a:cubicBezTo>
                  <a:pt x="13213" y="9426"/>
                  <a:pt x="13243" y="9478"/>
                  <a:pt x="13246" y="9525"/>
                </a:cubicBezTo>
                <a:cubicBezTo>
                  <a:pt x="13254" y="9643"/>
                  <a:pt x="13299" y="9569"/>
                  <a:pt x="13370" y="9525"/>
                </a:cubicBezTo>
              </a:path>
              <a:path w="3448" h="969">
                <a:moveTo>
                  <a:pt x="13519" y="9351"/>
                </a:moveTo>
                <a:cubicBezTo>
                  <a:pt x="13569" y="9339"/>
                  <a:pt x="13583" y="9327"/>
                  <a:pt x="13643" y="9327"/>
                </a:cubicBezTo>
                <a:cubicBezTo>
                  <a:pt x="13699" y="9327"/>
                  <a:pt x="13711" y="9244"/>
                  <a:pt x="13717" y="9203"/>
                </a:cubicBezTo>
                <a:cubicBezTo>
                  <a:pt x="13646" y="9174"/>
                  <a:pt x="13612" y="9131"/>
                  <a:pt x="13543" y="9178"/>
                </a:cubicBezTo>
                <a:cubicBezTo>
                  <a:pt x="13501" y="9206"/>
                  <a:pt x="13474" y="9281"/>
                  <a:pt x="13469" y="9327"/>
                </a:cubicBezTo>
                <a:cubicBezTo>
                  <a:pt x="13463" y="9390"/>
                  <a:pt x="13425" y="9458"/>
                  <a:pt x="13444" y="9525"/>
                </a:cubicBezTo>
                <a:cubicBezTo>
                  <a:pt x="13464" y="9596"/>
                  <a:pt x="13529" y="9653"/>
                  <a:pt x="13593" y="9674"/>
                </a:cubicBezTo>
                <a:cubicBezTo>
                  <a:pt x="13676" y="9702"/>
                  <a:pt x="13766" y="9650"/>
                  <a:pt x="13841" y="9624"/>
                </a:cubicBezTo>
                <a:cubicBezTo>
                  <a:pt x="13866" y="9616"/>
                  <a:pt x="13890" y="9607"/>
                  <a:pt x="13915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73120" y="4268880"/>
            <a:ext cx="1527120" cy="1330200"/>
          </a:xfrm>
          <a:custGeom>
            <a:avLst/>
            <a:gdLst/>
            <a:ahLst/>
            <a:rect l="l" t="t" r="r" b="b"/>
            <a:pathLst>
              <a:path w="4242" h="3697">
                <a:moveTo>
                  <a:pt x="5457" y="12526"/>
                </a:moveTo>
                <a:cubicBezTo>
                  <a:pt x="5397" y="12566"/>
                  <a:pt x="5359" y="12638"/>
                  <a:pt x="5308" y="12675"/>
                </a:cubicBezTo>
                <a:cubicBezTo>
                  <a:pt x="5147" y="12791"/>
                  <a:pt x="4995" y="12922"/>
                  <a:pt x="4837" y="13047"/>
                </a:cubicBezTo>
                <a:cubicBezTo>
                  <a:pt x="4674" y="13176"/>
                  <a:pt x="4501" y="13321"/>
                  <a:pt x="4316" y="13419"/>
                </a:cubicBezTo>
                <a:cubicBezTo>
                  <a:pt x="4238" y="13461"/>
                  <a:pt x="4167" y="13529"/>
                  <a:pt x="4093" y="13568"/>
                </a:cubicBezTo>
                <a:cubicBezTo>
                  <a:pt x="4118" y="13543"/>
                  <a:pt x="4126" y="13535"/>
                  <a:pt x="4142" y="13519"/>
                </a:cubicBezTo>
              </a:path>
              <a:path w="4242" h="3697">
                <a:moveTo>
                  <a:pt x="5556" y="12601"/>
                </a:moveTo>
                <a:cubicBezTo>
                  <a:pt x="5603" y="12643"/>
                  <a:pt x="5692" y="12700"/>
                  <a:pt x="5755" y="12750"/>
                </a:cubicBezTo>
                <a:cubicBezTo>
                  <a:pt x="5842" y="12820"/>
                  <a:pt x="5903" y="12936"/>
                  <a:pt x="5978" y="12998"/>
                </a:cubicBezTo>
                <a:cubicBezTo>
                  <a:pt x="6068" y="13073"/>
                  <a:pt x="6159" y="13141"/>
                  <a:pt x="6251" y="13221"/>
                </a:cubicBezTo>
                <a:cubicBezTo>
                  <a:pt x="6308" y="13271"/>
                  <a:pt x="6401" y="13315"/>
                  <a:pt x="6449" y="13370"/>
                </a:cubicBezTo>
                <a:cubicBezTo>
                  <a:pt x="6460" y="13383"/>
                  <a:pt x="6592" y="13458"/>
                  <a:pt x="6573" y="13419"/>
                </a:cubicBezTo>
                <a:cubicBezTo>
                  <a:pt x="6573" y="13385"/>
                  <a:pt x="6564" y="13372"/>
                  <a:pt x="6524" y="13370"/>
                </a:cubicBezTo>
              </a:path>
              <a:path w="4242" h="3697">
                <a:moveTo>
                  <a:pt x="4142" y="13568"/>
                </a:moveTo>
                <a:cubicBezTo>
                  <a:pt x="4203" y="13664"/>
                  <a:pt x="4238" y="13725"/>
                  <a:pt x="4242" y="13841"/>
                </a:cubicBezTo>
                <a:cubicBezTo>
                  <a:pt x="4247" y="13998"/>
                  <a:pt x="4304" y="14157"/>
                  <a:pt x="4341" y="14312"/>
                </a:cubicBezTo>
                <a:cubicBezTo>
                  <a:pt x="4375" y="14455"/>
                  <a:pt x="4390" y="14560"/>
                  <a:pt x="4390" y="14709"/>
                </a:cubicBezTo>
                <a:cubicBezTo>
                  <a:pt x="4390" y="14792"/>
                  <a:pt x="4380" y="14863"/>
                  <a:pt x="4366" y="14932"/>
                </a:cubicBezTo>
                <a:cubicBezTo>
                  <a:pt x="4341" y="15051"/>
                  <a:pt x="4381" y="14928"/>
                  <a:pt x="4390" y="14908"/>
                </a:cubicBezTo>
              </a:path>
              <a:path w="4242" h="3697">
                <a:moveTo>
                  <a:pt x="4440" y="14833"/>
                </a:moveTo>
                <a:cubicBezTo>
                  <a:pt x="4501" y="14868"/>
                  <a:pt x="4532" y="14894"/>
                  <a:pt x="4589" y="14932"/>
                </a:cubicBezTo>
                <a:cubicBezTo>
                  <a:pt x="4684" y="14995"/>
                  <a:pt x="4761" y="15073"/>
                  <a:pt x="4862" y="15131"/>
                </a:cubicBezTo>
                <a:cubicBezTo>
                  <a:pt x="4942" y="15177"/>
                  <a:pt x="5042" y="15237"/>
                  <a:pt x="5135" y="15255"/>
                </a:cubicBezTo>
                <a:cubicBezTo>
                  <a:pt x="5192" y="15266"/>
                  <a:pt x="5257" y="15289"/>
                  <a:pt x="5308" y="15329"/>
                </a:cubicBezTo>
                <a:cubicBezTo>
                  <a:pt x="5378" y="15383"/>
                  <a:pt x="5416" y="15480"/>
                  <a:pt x="5482" y="15528"/>
                </a:cubicBezTo>
                <a:cubicBezTo>
                  <a:pt x="5497" y="15539"/>
                  <a:pt x="5611" y="15578"/>
                  <a:pt x="5631" y="15553"/>
                </a:cubicBezTo>
                <a:cubicBezTo>
                  <a:pt x="5631" y="15511"/>
                  <a:pt x="5639" y="15495"/>
                  <a:pt x="5606" y="15503"/>
                </a:cubicBezTo>
              </a:path>
              <a:path w="4242" h="3697">
                <a:moveTo>
                  <a:pt x="5581" y="15453"/>
                </a:moveTo>
                <a:cubicBezTo>
                  <a:pt x="5564" y="15461"/>
                  <a:pt x="5548" y="15470"/>
                  <a:pt x="5531" y="15478"/>
                </a:cubicBezTo>
                <a:cubicBezTo>
                  <a:pt x="5576" y="15434"/>
                  <a:pt x="5629" y="15388"/>
                  <a:pt x="5680" y="15354"/>
                </a:cubicBezTo>
                <a:cubicBezTo>
                  <a:pt x="5802" y="15272"/>
                  <a:pt x="5926" y="15207"/>
                  <a:pt x="6052" y="15131"/>
                </a:cubicBezTo>
                <a:cubicBezTo>
                  <a:pt x="6189" y="15049"/>
                  <a:pt x="6319" y="14945"/>
                  <a:pt x="6449" y="14858"/>
                </a:cubicBezTo>
                <a:cubicBezTo>
                  <a:pt x="6507" y="14819"/>
                  <a:pt x="6552" y="14793"/>
                  <a:pt x="6598" y="14759"/>
                </a:cubicBezTo>
                <a:cubicBezTo>
                  <a:pt x="6619" y="14743"/>
                  <a:pt x="6647" y="14735"/>
                  <a:pt x="6672" y="14709"/>
                </a:cubicBezTo>
                <a:cubicBezTo>
                  <a:pt x="6597" y="14709"/>
                  <a:pt x="6578" y="14717"/>
                  <a:pt x="6524" y="14684"/>
                </a:cubicBezTo>
              </a:path>
              <a:path w="4242" h="3697">
                <a:moveTo>
                  <a:pt x="6598" y="13419"/>
                </a:moveTo>
                <a:cubicBezTo>
                  <a:pt x="6611" y="13473"/>
                  <a:pt x="6644" y="13504"/>
                  <a:pt x="6648" y="13568"/>
                </a:cubicBezTo>
                <a:cubicBezTo>
                  <a:pt x="6669" y="13943"/>
                  <a:pt x="6793" y="15019"/>
                  <a:pt x="6623" y="14684"/>
                </a:cubicBezTo>
                <a:cubicBezTo>
                  <a:pt x="6623" y="14643"/>
                  <a:pt x="6623" y="14635"/>
                  <a:pt x="6623" y="14610"/>
                </a:cubicBezTo>
              </a:path>
              <a:path w="4242" h="3697">
                <a:moveTo>
                  <a:pt x="5531" y="13866"/>
                </a:moveTo>
                <a:cubicBezTo>
                  <a:pt x="5519" y="13829"/>
                  <a:pt x="5474" y="13751"/>
                  <a:pt x="5407" y="13767"/>
                </a:cubicBezTo>
                <a:cubicBezTo>
                  <a:pt x="5346" y="13782"/>
                  <a:pt x="5304" y="13866"/>
                  <a:pt x="5283" y="13915"/>
                </a:cubicBezTo>
                <a:cubicBezTo>
                  <a:pt x="5241" y="14015"/>
                  <a:pt x="5209" y="14050"/>
                  <a:pt x="5209" y="14163"/>
                </a:cubicBezTo>
                <a:cubicBezTo>
                  <a:pt x="5209" y="14243"/>
                  <a:pt x="5207" y="14296"/>
                  <a:pt x="5234" y="14362"/>
                </a:cubicBezTo>
                <a:cubicBezTo>
                  <a:pt x="5269" y="14449"/>
                  <a:pt x="5356" y="14495"/>
                  <a:pt x="5457" y="14511"/>
                </a:cubicBezTo>
                <a:cubicBezTo>
                  <a:pt x="5509" y="14519"/>
                  <a:pt x="5647" y="14485"/>
                  <a:pt x="5680" y="14436"/>
                </a:cubicBezTo>
                <a:cubicBezTo>
                  <a:pt x="5730" y="14364"/>
                  <a:pt x="5766" y="14274"/>
                  <a:pt x="5779" y="14188"/>
                </a:cubicBezTo>
                <a:cubicBezTo>
                  <a:pt x="5788" y="14127"/>
                  <a:pt x="5791" y="14035"/>
                  <a:pt x="5755" y="13990"/>
                </a:cubicBezTo>
                <a:cubicBezTo>
                  <a:pt x="5686" y="13904"/>
                  <a:pt x="5615" y="13890"/>
                  <a:pt x="5531" y="13841"/>
                </a:cubicBezTo>
                <a:cubicBezTo>
                  <a:pt x="5485" y="13814"/>
                  <a:pt x="5430" y="13779"/>
                  <a:pt x="5383" y="13767"/>
                </a:cubicBezTo>
              </a:path>
              <a:path w="4242" h="3697">
                <a:moveTo>
                  <a:pt x="5482" y="12526"/>
                </a:moveTo>
                <a:cubicBezTo>
                  <a:pt x="5526" y="12494"/>
                  <a:pt x="5549" y="12502"/>
                  <a:pt x="5606" y="12502"/>
                </a:cubicBezTo>
                <a:cubicBezTo>
                  <a:pt x="5676" y="12502"/>
                  <a:pt x="5760" y="12446"/>
                  <a:pt x="5829" y="12427"/>
                </a:cubicBezTo>
                <a:cubicBezTo>
                  <a:pt x="5926" y="12399"/>
                  <a:pt x="6007" y="12324"/>
                  <a:pt x="6102" y="12303"/>
                </a:cubicBezTo>
                <a:cubicBezTo>
                  <a:pt x="6147" y="12303"/>
                  <a:pt x="6160" y="12307"/>
                  <a:pt x="6176" y="12278"/>
                </a:cubicBezTo>
              </a:path>
              <a:path w="4242" h="3697">
                <a:moveTo>
                  <a:pt x="6796" y="11956"/>
                </a:moveTo>
                <a:cubicBezTo>
                  <a:pt x="6741" y="11956"/>
                  <a:pt x="6705" y="11953"/>
                  <a:pt x="6672" y="12005"/>
                </a:cubicBezTo>
                <a:cubicBezTo>
                  <a:pt x="6638" y="12059"/>
                  <a:pt x="6607" y="12093"/>
                  <a:pt x="6573" y="12154"/>
                </a:cubicBezTo>
                <a:cubicBezTo>
                  <a:pt x="6534" y="12223"/>
                  <a:pt x="6548" y="12301"/>
                  <a:pt x="6548" y="12378"/>
                </a:cubicBezTo>
                <a:cubicBezTo>
                  <a:pt x="6548" y="12461"/>
                  <a:pt x="6665" y="12478"/>
                  <a:pt x="6722" y="12502"/>
                </a:cubicBezTo>
                <a:cubicBezTo>
                  <a:pt x="6813" y="12540"/>
                  <a:pt x="6878" y="12526"/>
                  <a:pt x="6970" y="12502"/>
                </a:cubicBezTo>
              </a:path>
              <a:path w="4242" h="3697">
                <a:moveTo>
                  <a:pt x="7367" y="11857"/>
                </a:moveTo>
                <a:cubicBezTo>
                  <a:pt x="7367" y="11978"/>
                  <a:pt x="7345" y="12119"/>
                  <a:pt x="7392" y="12229"/>
                </a:cubicBezTo>
                <a:cubicBezTo>
                  <a:pt x="7415" y="12284"/>
                  <a:pt x="7417" y="12319"/>
                  <a:pt x="7417" y="12378"/>
                </a:cubicBezTo>
                <a:cubicBezTo>
                  <a:pt x="7417" y="12427"/>
                  <a:pt x="7417" y="12443"/>
                  <a:pt x="7417" y="12378"/>
                </a:cubicBezTo>
              </a:path>
              <a:path w="4242" h="3697">
                <a:moveTo>
                  <a:pt x="7689" y="11857"/>
                </a:moveTo>
                <a:cubicBezTo>
                  <a:pt x="7689" y="11965"/>
                  <a:pt x="7672" y="12080"/>
                  <a:pt x="7714" y="12179"/>
                </a:cubicBezTo>
                <a:cubicBezTo>
                  <a:pt x="7739" y="12237"/>
                  <a:pt x="7739" y="12264"/>
                  <a:pt x="7739" y="12328"/>
                </a:cubicBezTo>
                <a:cubicBezTo>
                  <a:pt x="7739" y="12379"/>
                  <a:pt x="7708" y="12473"/>
                  <a:pt x="7689" y="12378"/>
                </a:cubicBezTo>
              </a:path>
              <a:path w="4242" h="3697">
                <a:moveTo>
                  <a:pt x="7417" y="12204"/>
                </a:moveTo>
                <a:cubicBezTo>
                  <a:pt x="7488" y="12150"/>
                  <a:pt x="7514" y="12155"/>
                  <a:pt x="7590" y="12129"/>
                </a:cubicBezTo>
                <a:cubicBezTo>
                  <a:pt x="7635" y="12113"/>
                  <a:pt x="7655" y="12106"/>
                  <a:pt x="7689" y="12080"/>
                </a:cubicBezTo>
              </a:path>
              <a:path w="4242" h="3697">
                <a:moveTo>
                  <a:pt x="8037" y="12129"/>
                </a:moveTo>
                <a:cubicBezTo>
                  <a:pt x="8081" y="12129"/>
                  <a:pt x="8173" y="12114"/>
                  <a:pt x="8210" y="12154"/>
                </a:cubicBezTo>
                <a:cubicBezTo>
                  <a:pt x="8254" y="12202"/>
                  <a:pt x="8240" y="12279"/>
                  <a:pt x="8210" y="12328"/>
                </a:cubicBezTo>
                <a:cubicBezTo>
                  <a:pt x="8177" y="12383"/>
                  <a:pt x="8132" y="12396"/>
                  <a:pt x="8111" y="12427"/>
                </a:cubicBezTo>
                <a:cubicBezTo>
                  <a:pt x="8176" y="12427"/>
                  <a:pt x="8238" y="12453"/>
                  <a:pt x="8285" y="12502"/>
                </a:cubicBezTo>
                <a:cubicBezTo>
                  <a:pt x="8305" y="12523"/>
                  <a:pt x="8363" y="12615"/>
                  <a:pt x="8334" y="12650"/>
                </a:cubicBezTo>
                <a:cubicBezTo>
                  <a:pt x="8291" y="12702"/>
                  <a:pt x="8233" y="12743"/>
                  <a:pt x="8161" y="12750"/>
                </a:cubicBezTo>
                <a:cubicBezTo>
                  <a:pt x="8060" y="12759"/>
                  <a:pt x="7961" y="12746"/>
                  <a:pt x="7863" y="127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95760" y="3232080"/>
            <a:ext cx="6062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7987" y="9178"/>
                </a:moveTo>
                <a:cubicBezTo>
                  <a:pt x="7904" y="9178"/>
                  <a:pt x="7864" y="9175"/>
                  <a:pt x="7813" y="9252"/>
                </a:cubicBezTo>
                <a:cubicBezTo>
                  <a:pt x="7775" y="9310"/>
                  <a:pt x="7778" y="9410"/>
                  <a:pt x="7764" y="9475"/>
                </a:cubicBezTo>
                <a:cubicBezTo>
                  <a:pt x="7752" y="9531"/>
                  <a:pt x="7764" y="9577"/>
                  <a:pt x="7789" y="9599"/>
                </a:cubicBezTo>
                <a:cubicBezTo>
                  <a:pt x="7857" y="9660"/>
                  <a:pt x="7956" y="9607"/>
                  <a:pt x="8037" y="9599"/>
                </a:cubicBezTo>
                <a:cubicBezTo>
                  <a:pt x="8123" y="9599"/>
                  <a:pt x="8159" y="9594"/>
                  <a:pt x="8210" y="9550"/>
                </a:cubicBezTo>
              </a:path>
              <a:path w="1688" h="1018">
                <a:moveTo>
                  <a:pt x="8508" y="8979"/>
                </a:moveTo>
                <a:cubicBezTo>
                  <a:pt x="8508" y="9073"/>
                  <a:pt x="8539" y="9099"/>
                  <a:pt x="8558" y="9178"/>
                </a:cubicBezTo>
                <a:cubicBezTo>
                  <a:pt x="8583" y="9281"/>
                  <a:pt x="8558" y="9417"/>
                  <a:pt x="8558" y="9525"/>
                </a:cubicBezTo>
              </a:path>
              <a:path w="1688" h="1018">
                <a:moveTo>
                  <a:pt x="8855" y="9004"/>
                </a:moveTo>
                <a:cubicBezTo>
                  <a:pt x="8855" y="9101"/>
                  <a:pt x="8884" y="9124"/>
                  <a:pt x="8905" y="9203"/>
                </a:cubicBezTo>
                <a:cubicBezTo>
                  <a:pt x="8922" y="9267"/>
                  <a:pt x="8918" y="9367"/>
                  <a:pt x="8930" y="9426"/>
                </a:cubicBezTo>
                <a:cubicBezTo>
                  <a:pt x="8939" y="9470"/>
                  <a:pt x="8941" y="9577"/>
                  <a:pt x="8905" y="9550"/>
                </a:cubicBezTo>
                <a:cubicBezTo>
                  <a:pt x="8897" y="9533"/>
                  <a:pt x="8888" y="9517"/>
                  <a:pt x="8880" y="9500"/>
                </a:cubicBezTo>
              </a:path>
              <a:path w="1688" h="1018">
                <a:moveTo>
                  <a:pt x="8657" y="9351"/>
                </a:moveTo>
                <a:cubicBezTo>
                  <a:pt x="8712" y="9340"/>
                  <a:pt x="8747" y="9327"/>
                  <a:pt x="8806" y="9327"/>
                </a:cubicBezTo>
                <a:cubicBezTo>
                  <a:pt x="8882" y="9327"/>
                  <a:pt x="8865" y="9326"/>
                  <a:pt x="8930" y="9277"/>
                </a:cubicBezTo>
              </a:path>
              <a:path w="1688" h="1018">
                <a:moveTo>
                  <a:pt x="9128" y="9451"/>
                </a:moveTo>
                <a:cubicBezTo>
                  <a:pt x="9158" y="9433"/>
                  <a:pt x="9262" y="9400"/>
                  <a:pt x="9302" y="9426"/>
                </a:cubicBezTo>
                <a:cubicBezTo>
                  <a:pt x="9346" y="9455"/>
                  <a:pt x="9370" y="9559"/>
                  <a:pt x="9327" y="9599"/>
                </a:cubicBezTo>
                <a:cubicBezTo>
                  <a:pt x="9283" y="9621"/>
                  <a:pt x="9271" y="9624"/>
                  <a:pt x="9252" y="9649"/>
                </a:cubicBezTo>
                <a:cubicBezTo>
                  <a:pt x="9340" y="9649"/>
                  <a:pt x="9327" y="9647"/>
                  <a:pt x="9376" y="9699"/>
                </a:cubicBezTo>
                <a:cubicBezTo>
                  <a:pt x="9418" y="9744"/>
                  <a:pt x="9440" y="9792"/>
                  <a:pt x="9451" y="9847"/>
                </a:cubicBezTo>
                <a:cubicBezTo>
                  <a:pt x="9466" y="9920"/>
                  <a:pt x="9433" y="9937"/>
                  <a:pt x="9376" y="9971"/>
                </a:cubicBezTo>
                <a:cubicBezTo>
                  <a:pt x="9309" y="10011"/>
                  <a:pt x="9229" y="9996"/>
                  <a:pt x="9153" y="9996"/>
                </a:cubicBezTo>
                <a:cubicBezTo>
                  <a:pt x="9089" y="9996"/>
                  <a:pt x="9063" y="9993"/>
                  <a:pt x="9004" y="99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82880" y="5626080"/>
            <a:ext cx="884160" cy="517680"/>
          </a:xfrm>
          <a:custGeom>
            <a:avLst/>
            <a:gdLst/>
            <a:ahLst/>
            <a:rect l="l" t="t" r="r" b="b"/>
            <a:pathLst>
              <a:path w="2456" h="1440">
                <a:moveTo>
                  <a:pt x="5507" y="15627"/>
                </a:moveTo>
                <a:cubicBezTo>
                  <a:pt x="5569" y="15643"/>
                  <a:pt x="5586" y="15690"/>
                  <a:pt x="5631" y="15726"/>
                </a:cubicBezTo>
                <a:cubicBezTo>
                  <a:pt x="5688" y="15772"/>
                  <a:pt x="5780" y="15819"/>
                  <a:pt x="5829" y="15875"/>
                </a:cubicBezTo>
                <a:cubicBezTo>
                  <a:pt x="5880" y="15933"/>
                  <a:pt x="5917" y="15974"/>
                  <a:pt x="5978" y="16024"/>
                </a:cubicBezTo>
                <a:cubicBezTo>
                  <a:pt x="6025" y="16062"/>
                  <a:pt x="6083" y="16100"/>
                  <a:pt x="6028" y="16024"/>
                </a:cubicBezTo>
              </a:path>
              <a:path w="2456" h="1440">
                <a:moveTo>
                  <a:pt x="6524" y="15875"/>
                </a:moveTo>
                <a:cubicBezTo>
                  <a:pt x="6484" y="15803"/>
                  <a:pt x="6462" y="15767"/>
                  <a:pt x="6375" y="15825"/>
                </a:cubicBezTo>
                <a:cubicBezTo>
                  <a:pt x="6310" y="15868"/>
                  <a:pt x="6311" y="15892"/>
                  <a:pt x="6276" y="15974"/>
                </a:cubicBezTo>
                <a:cubicBezTo>
                  <a:pt x="6236" y="16068"/>
                  <a:pt x="6246" y="16152"/>
                  <a:pt x="6276" y="16247"/>
                </a:cubicBezTo>
                <a:cubicBezTo>
                  <a:pt x="6302" y="16329"/>
                  <a:pt x="6325" y="16423"/>
                  <a:pt x="6375" y="16495"/>
                </a:cubicBezTo>
                <a:cubicBezTo>
                  <a:pt x="6414" y="16550"/>
                  <a:pt x="6472" y="16574"/>
                  <a:pt x="6524" y="16545"/>
                </a:cubicBezTo>
                <a:cubicBezTo>
                  <a:pt x="6549" y="16528"/>
                  <a:pt x="6573" y="16512"/>
                  <a:pt x="6598" y="16495"/>
                </a:cubicBezTo>
              </a:path>
              <a:path w="2456" h="1440">
                <a:moveTo>
                  <a:pt x="7069" y="15925"/>
                </a:moveTo>
                <a:cubicBezTo>
                  <a:pt x="7069" y="15990"/>
                  <a:pt x="7091" y="16035"/>
                  <a:pt x="7094" y="16098"/>
                </a:cubicBezTo>
                <a:cubicBezTo>
                  <a:pt x="7098" y="16189"/>
                  <a:pt x="7073" y="16261"/>
                  <a:pt x="7069" y="16346"/>
                </a:cubicBezTo>
                <a:cubicBezTo>
                  <a:pt x="7066" y="16412"/>
                  <a:pt x="7069" y="16479"/>
                  <a:pt x="7069" y="16545"/>
                </a:cubicBezTo>
                <a:cubicBezTo>
                  <a:pt x="7114" y="16522"/>
                  <a:pt x="7119" y="16500"/>
                  <a:pt x="7119" y="16446"/>
                </a:cubicBezTo>
              </a:path>
              <a:path w="2456" h="1440">
                <a:moveTo>
                  <a:pt x="7441" y="15825"/>
                </a:moveTo>
                <a:cubicBezTo>
                  <a:pt x="7441" y="15939"/>
                  <a:pt x="7452" y="16042"/>
                  <a:pt x="7466" y="16148"/>
                </a:cubicBezTo>
                <a:cubicBezTo>
                  <a:pt x="7478" y="16238"/>
                  <a:pt x="7486" y="16331"/>
                  <a:pt x="7491" y="16421"/>
                </a:cubicBezTo>
                <a:cubicBezTo>
                  <a:pt x="7492" y="16432"/>
                  <a:pt x="7472" y="16557"/>
                  <a:pt x="7466" y="16545"/>
                </a:cubicBezTo>
                <a:cubicBezTo>
                  <a:pt x="7466" y="16528"/>
                  <a:pt x="7466" y="16512"/>
                  <a:pt x="7466" y="16495"/>
                </a:cubicBezTo>
              </a:path>
              <a:path w="2456" h="1440">
                <a:moveTo>
                  <a:pt x="7169" y="16297"/>
                </a:moveTo>
                <a:cubicBezTo>
                  <a:pt x="7236" y="16336"/>
                  <a:pt x="7247" y="16314"/>
                  <a:pt x="7317" y="16297"/>
                </a:cubicBezTo>
                <a:cubicBezTo>
                  <a:pt x="7370" y="16284"/>
                  <a:pt x="7405" y="16255"/>
                  <a:pt x="7466" y="16247"/>
                </a:cubicBezTo>
              </a:path>
              <a:path w="2456" h="1440">
                <a:moveTo>
                  <a:pt x="7640" y="16396"/>
                </a:moveTo>
                <a:cubicBezTo>
                  <a:pt x="7694" y="16355"/>
                  <a:pt x="7742" y="16356"/>
                  <a:pt x="7789" y="16421"/>
                </a:cubicBezTo>
                <a:cubicBezTo>
                  <a:pt x="7832" y="16481"/>
                  <a:pt x="7769" y="16589"/>
                  <a:pt x="7739" y="16619"/>
                </a:cubicBezTo>
                <a:cubicBezTo>
                  <a:pt x="7786" y="16657"/>
                  <a:pt x="7834" y="16690"/>
                  <a:pt x="7888" y="16718"/>
                </a:cubicBezTo>
                <a:cubicBezTo>
                  <a:pt x="7941" y="16745"/>
                  <a:pt x="8007" y="16793"/>
                  <a:pt x="7962" y="16867"/>
                </a:cubicBezTo>
                <a:cubicBezTo>
                  <a:pt x="7930" y="16919"/>
                  <a:pt x="7862" y="16987"/>
                  <a:pt x="7813" y="17016"/>
                </a:cubicBezTo>
                <a:cubicBezTo>
                  <a:pt x="7714" y="17075"/>
                  <a:pt x="7731" y="17047"/>
                  <a:pt x="7640" y="17016"/>
                </a:cubicBezTo>
                <a:cubicBezTo>
                  <a:pt x="7575" y="16994"/>
                  <a:pt x="7559" y="17016"/>
                  <a:pt x="7516" y="16942"/>
                </a:cubicBezTo>
                <a:cubicBezTo>
                  <a:pt x="7508" y="16925"/>
                  <a:pt x="7499" y="16909"/>
                  <a:pt x="7491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64000" y="4044960"/>
            <a:ext cx="1420920" cy="1812960"/>
          </a:xfrm>
          <a:custGeom>
            <a:avLst/>
            <a:gdLst/>
            <a:ahLst/>
            <a:rect l="l" t="t" r="r" b="b"/>
            <a:pathLst>
              <a:path w="3945" h="5036">
                <a:moveTo>
                  <a:pt x="13965" y="12551"/>
                </a:moveTo>
                <a:lnTo>
                  <a:pt x="13965" y="12551"/>
                </a:lnTo>
              </a:path>
              <a:path w="3945" h="5036">
                <a:moveTo>
                  <a:pt x="14015" y="12601"/>
                </a:moveTo>
                <a:cubicBezTo>
                  <a:pt x="13973" y="12610"/>
                  <a:pt x="13927" y="12611"/>
                  <a:pt x="13891" y="12650"/>
                </a:cubicBezTo>
                <a:cubicBezTo>
                  <a:pt x="13840" y="12706"/>
                  <a:pt x="13799" y="12749"/>
                  <a:pt x="13742" y="12799"/>
                </a:cubicBezTo>
                <a:cubicBezTo>
                  <a:pt x="13633" y="12896"/>
                  <a:pt x="13529" y="13001"/>
                  <a:pt x="13419" y="13097"/>
                </a:cubicBezTo>
                <a:cubicBezTo>
                  <a:pt x="13261" y="13234"/>
                  <a:pt x="13069" y="13356"/>
                  <a:pt x="12898" y="13469"/>
                </a:cubicBezTo>
                <a:cubicBezTo>
                  <a:pt x="12768" y="13555"/>
                  <a:pt x="12674" y="13652"/>
                  <a:pt x="12551" y="13742"/>
                </a:cubicBezTo>
                <a:cubicBezTo>
                  <a:pt x="12500" y="13780"/>
                  <a:pt x="12455" y="13809"/>
                  <a:pt x="12402" y="13841"/>
                </a:cubicBezTo>
                <a:cubicBezTo>
                  <a:pt x="12493" y="13833"/>
                  <a:pt x="12518" y="13819"/>
                  <a:pt x="12601" y="13767"/>
                </a:cubicBezTo>
              </a:path>
              <a:path w="3945" h="5036">
                <a:moveTo>
                  <a:pt x="14039" y="12650"/>
                </a:moveTo>
                <a:cubicBezTo>
                  <a:pt x="14061" y="12695"/>
                  <a:pt x="14071" y="12699"/>
                  <a:pt x="14114" y="12725"/>
                </a:cubicBezTo>
                <a:cubicBezTo>
                  <a:pt x="14198" y="12776"/>
                  <a:pt x="14255" y="12789"/>
                  <a:pt x="14337" y="12824"/>
                </a:cubicBezTo>
                <a:cubicBezTo>
                  <a:pt x="14433" y="12865"/>
                  <a:pt x="14522" y="12976"/>
                  <a:pt x="14585" y="13047"/>
                </a:cubicBezTo>
                <a:cubicBezTo>
                  <a:pt x="14638" y="13106"/>
                  <a:pt x="14715" y="13159"/>
                  <a:pt x="14784" y="13196"/>
                </a:cubicBezTo>
                <a:cubicBezTo>
                  <a:pt x="14882" y="13249"/>
                  <a:pt x="14946" y="13293"/>
                  <a:pt x="15032" y="13345"/>
                </a:cubicBezTo>
                <a:cubicBezTo>
                  <a:pt x="15086" y="13378"/>
                  <a:pt x="15175" y="13471"/>
                  <a:pt x="15230" y="13494"/>
                </a:cubicBezTo>
                <a:cubicBezTo>
                  <a:pt x="15316" y="13529"/>
                  <a:pt x="15275" y="13519"/>
                  <a:pt x="15205" y="13469"/>
                </a:cubicBezTo>
              </a:path>
              <a:path w="3945" h="5036">
                <a:moveTo>
                  <a:pt x="12502" y="13816"/>
                </a:moveTo>
                <a:cubicBezTo>
                  <a:pt x="12502" y="14312"/>
                  <a:pt x="12502" y="14808"/>
                  <a:pt x="12502" y="15304"/>
                </a:cubicBezTo>
                <a:cubicBezTo>
                  <a:pt x="12543" y="15263"/>
                  <a:pt x="12571" y="15228"/>
                  <a:pt x="12601" y="15180"/>
                </a:cubicBezTo>
              </a:path>
              <a:path w="3945" h="5036">
                <a:moveTo>
                  <a:pt x="12626" y="15230"/>
                </a:moveTo>
                <a:cubicBezTo>
                  <a:pt x="12671" y="15240"/>
                  <a:pt x="12713" y="15240"/>
                  <a:pt x="12750" y="15280"/>
                </a:cubicBezTo>
                <a:cubicBezTo>
                  <a:pt x="12790" y="15323"/>
                  <a:pt x="12851" y="15422"/>
                  <a:pt x="12898" y="15453"/>
                </a:cubicBezTo>
                <a:cubicBezTo>
                  <a:pt x="12978" y="15505"/>
                  <a:pt x="13085" y="15555"/>
                  <a:pt x="13171" y="15602"/>
                </a:cubicBezTo>
                <a:cubicBezTo>
                  <a:pt x="13298" y="15672"/>
                  <a:pt x="13416" y="15755"/>
                  <a:pt x="13543" y="15825"/>
                </a:cubicBezTo>
                <a:cubicBezTo>
                  <a:pt x="13645" y="15881"/>
                  <a:pt x="13806" y="15970"/>
                  <a:pt x="13891" y="16049"/>
                </a:cubicBezTo>
                <a:cubicBezTo>
                  <a:pt x="13924" y="16080"/>
                  <a:pt x="14028" y="16247"/>
                  <a:pt x="14089" y="16247"/>
                </a:cubicBezTo>
                <a:cubicBezTo>
                  <a:pt x="14119" y="16277"/>
                  <a:pt x="14124" y="16279"/>
                  <a:pt x="14089" y="16222"/>
                </a:cubicBezTo>
              </a:path>
              <a:path w="3945" h="5036">
                <a:moveTo>
                  <a:pt x="14039" y="16173"/>
                </a:moveTo>
                <a:cubicBezTo>
                  <a:pt x="14109" y="16114"/>
                  <a:pt x="14205" y="16085"/>
                  <a:pt x="14288" y="16024"/>
                </a:cubicBezTo>
                <a:cubicBezTo>
                  <a:pt x="14407" y="15936"/>
                  <a:pt x="14536" y="15867"/>
                  <a:pt x="14660" y="15776"/>
                </a:cubicBezTo>
                <a:cubicBezTo>
                  <a:pt x="14756" y="15706"/>
                  <a:pt x="14916" y="15587"/>
                  <a:pt x="15032" y="15553"/>
                </a:cubicBezTo>
                <a:cubicBezTo>
                  <a:pt x="15075" y="15540"/>
                  <a:pt x="15189" y="15553"/>
                  <a:pt x="15205" y="15478"/>
                </a:cubicBezTo>
                <a:cubicBezTo>
                  <a:pt x="15213" y="15441"/>
                  <a:pt x="15205" y="15392"/>
                  <a:pt x="15205" y="15354"/>
                </a:cubicBezTo>
              </a:path>
              <a:path w="3945" h="5036">
                <a:moveTo>
                  <a:pt x="15180" y="13469"/>
                </a:moveTo>
                <a:cubicBezTo>
                  <a:pt x="15180" y="13461"/>
                  <a:pt x="15180" y="13452"/>
                  <a:pt x="15180" y="13444"/>
                </a:cubicBezTo>
                <a:cubicBezTo>
                  <a:pt x="15201" y="13506"/>
                  <a:pt x="15183" y="13517"/>
                  <a:pt x="15180" y="13593"/>
                </a:cubicBezTo>
                <a:cubicBezTo>
                  <a:pt x="15172" y="13819"/>
                  <a:pt x="15192" y="14040"/>
                  <a:pt x="15205" y="14263"/>
                </a:cubicBezTo>
                <a:cubicBezTo>
                  <a:pt x="15226" y="14614"/>
                  <a:pt x="15247" y="15046"/>
                  <a:pt x="15180" y="15379"/>
                </a:cubicBezTo>
                <a:cubicBezTo>
                  <a:pt x="15180" y="15429"/>
                  <a:pt x="15180" y="15445"/>
                  <a:pt x="15180" y="15478"/>
                </a:cubicBezTo>
                <a:cubicBezTo>
                  <a:pt x="15180" y="15420"/>
                  <a:pt x="15180" y="15412"/>
                  <a:pt x="15180" y="15354"/>
                </a:cubicBezTo>
                <a:cubicBezTo>
                  <a:pt x="15180" y="15295"/>
                  <a:pt x="15177" y="15269"/>
                  <a:pt x="15156" y="15230"/>
                </a:cubicBezTo>
              </a:path>
              <a:path w="3945" h="5036">
                <a:moveTo>
                  <a:pt x="13866" y="13990"/>
                </a:moveTo>
                <a:cubicBezTo>
                  <a:pt x="13842" y="13907"/>
                  <a:pt x="13827" y="13919"/>
                  <a:pt x="13742" y="13915"/>
                </a:cubicBezTo>
                <a:cubicBezTo>
                  <a:pt x="13723" y="13914"/>
                  <a:pt x="13616" y="13982"/>
                  <a:pt x="13593" y="14015"/>
                </a:cubicBezTo>
                <a:cubicBezTo>
                  <a:pt x="13542" y="14090"/>
                  <a:pt x="13513" y="14226"/>
                  <a:pt x="13494" y="14312"/>
                </a:cubicBezTo>
                <a:cubicBezTo>
                  <a:pt x="13464" y="14446"/>
                  <a:pt x="13469" y="14573"/>
                  <a:pt x="13469" y="14709"/>
                </a:cubicBezTo>
                <a:cubicBezTo>
                  <a:pt x="13469" y="14814"/>
                  <a:pt x="13541" y="14901"/>
                  <a:pt x="13643" y="14932"/>
                </a:cubicBezTo>
                <a:cubicBezTo>
                  <a:pt x="13795" y="14978"/>
                  <a:pt x="13958" y="15005"/>
                  <a:pt x="14114" y="14957"/>
                </a:cubicBezTo>
                <a:cubicBezTo>
                  <a:pt x="14232" y="14921"/>
                  <a:pt x="14401" y="14824"/>
                  <a:pt x="14486" y="14734"/>
                </a:cubicBezTo>
                <a:cubicBezTo>
                  <a:pt x="14552" y="14664"/>
                  <a:pt x="14581" y="14530"/>
                  <a:pt x="14560" y="14436"/>
                </a:cubicBezTo>
                <a:cubicBezTo>
                  <a:pt x="14545" y="14368"/>
                  <a:pt x="14471" y="14271"/>
                  <a:pt x="14412" y="14238"/>
                </a:cubicBezTo>
                <a:cubicBezTo>
                  <a:pt x="14318" y="14185"/>
                  <a:pt x="14232" y="14115"/>
                  <a:pt x="14139" y="14064"/>
                </a:cubicBezTo>
                <a:cubicBezTo>
                  <a:pt x="14054" y="14017"/>
                  <a:pt x="14027" y="13988"/>
                  <a:pt x="13965" y="13915"/>
                </a:cubicBezTo>
                <a:cubicBezTo>
                  <a:pt x="13919" y="13861"/>
                  <a:pt x="13907" y="13808"/>
                  <a:pt x="13866" y="13891"/>
                </a:cubicBezTo>
                <a:cubicBezTo>
                  <a:pt x="13866" y="13949"/>
                  <a:pt x="13866" y="13974"/>
                  <a:pt x="13866" y="14015"/>
                </a:cubicBezTo>
              </a:path>
              <a:path w="3945" h="5036">
                <a:moveTo>
                  <a:pt x="14015" y="12526"/>
                </a:moveTo>
                <a:cubicBezTo>
                  <a:pt x="14085" y="12456"/>
                  <a:pt x="14162" y="12419"/>
                  <a:pt x="14238" y="12353"/>
                </a:cubicBezTo>
                <a:cubicBezTo>
                  <a:pt x="14330" y="12274"/>
                  <a:pt x="14397" y="12205"/>
                  <a:pt x="14486" y="12129"/>
                </a:cubicBezTo>
                <a:cubicBezTo>
                  <a:pt x="14539" y="12085"/>
                  <a:pt x="14523" y="12131"/>
                  <a:pt x="14536" y="12055"/>
                </a:cubicBezTo>
              </a:path>
              <a:path w="3945" h="5036">
                <a:moveTo>
                  <a:pt x="15056" y="11460"/>
                </a:moveTo>
                <a:cubicBezTo>
                  <a:pt x="15012" y="11415"/>
                  <a:pt x="14988" y="11386"/>
                  <a:pt x="14932" y="11435"/>
                </a:cubicBezTo>
                <a:cubicBezTo>
                  <a:pt x="14848" y="11508"/>
                  <a:pt x="14837" y="11589"/>
                  <a:pt x="14808" y="11683"/>
                </a:cubicBezTo>
                <a:cubicBezTo>
                  <a:pt x="14784" y="11760"/>
                  <a:pt x="14769" y="11847"/>
                  <a:pt x="14784" y="11931"/>
                </a:cubicBezTo>
                <a:cubicBezTo>
                  <a:pt x="14804" y="12041"/>
                  <a:pt x="14845" y="12106"/>
                  <a:pt x="14932" y="12154"/>
                </a:cubicBezTo>
                <a:cubicBezTo>
                  <a:pt x="15010" y="12197"/>
                  <a:pt x="15055" y="12134"/>
                  <a:pt x="15131" y="12105"/>
                </a:cubicBezTo>
                <a:cubicBezTo>
                  <a:pt x="15203" y="12081"/>
                  <a:pt x="15226" y="12074"/>
                  <a:pt x="15255" y="12030"/>
                </a:cubicBezTo>
              </a:path>
              <a:path w="3945" h="5036">
                <a:moveTo>
                  <a:pt x="15528" y="11237"/>
                </a:moveTo>
                <a:cubicBezTo>
                  <a:pt x="15528" y="11493"/>
                  <a:pt x="15472" y="12224"/>
                  <a:pt x="15553" y="11981"/>
                </a:cubicBezTo>
                <a:cubicBezTo>
                  <a:pt x="15553" y="11964"/>
                  <a:pt x="15553" y="11948"/>
                  <a:pt x="15553" y="11931"/>
                </a:cubicBezTo>
              </a:path>
              <a:path w="3945" h="5036">
                <a:moveTo>
                  <a:pt x="15776" y="11286"/>
                </a:moveTo>
                <a:cubicBezTo>
                  <a:pt x="15776" y="11450"/>
                  <a:pt x="15743" y="11653"/>
                  <a:pt x="15801" y="11807"/>
                </a:cubicBezTo>
                <a:cubicBezTo>
                  <a:pt x="15822" y="11863"/>
                  <a:pt x="15850" y="11895"/>
                  <a:pt x="15850" y="11956"/>
                </a:cubicBezTo>
                <a:cubicBezTo>
                  <a:pt x="15850" y="11997"/>
                  <a:pt x="15850" y="12021"/>
                  <a:pt x="15850" y="11981"/>
                </a:cubicBezTo>
              </a:path>
              <a:path w="3945" h="5036">
                <a:moveTo>
                  <a:pt x="15577" y="11708"/>
                </a:moveTo>
                <a:cubicBezTo>
                  <a:pt x="15631" y="11668"/>
                  <a:pt x="15679" y="11661"/>
                  <a:pt x="15751" y="11658"/>
                </a:cubicBezTo>
                <a:cubicBezTo>
                  <a:pt x="15832" y="11654"/>
                  <a:pt x="15899" y="11658"/>
                  <a:pt x="15974" y="11683"/>
                </a:cubicBezTo>
              </a:path>
              <a:path w="3945" h="5036">
                <a:moveTo>
                  <a:pt x="16197" y="11832"/>
                </a:moveTo>
                <a:cubicBezTo>
                  <a:pt x="16215" y="11769"/>
                  <a:pt x="16200" y="11771"/>
                  <a:pt x="16272" y="11757"/>
                </a:cubicBezTo>
                <a:cubicBezTo>
                  <a:pt x="16293" y="11820"/>
                  <a:pt x="16322" y="11877"/>
                  <a:pt x="16272" y="11931"/>
                </a:cubicBezTo>
                <a:cubicBezTo>
                  <a:pt x="16218" y="11989"/>
                  <a:pt x="16192" y="12013"/>
                  <a:pt x="16173" y="12080"/>
                </a:cubicBezTo>
                <a:cubicBezTo>
                  <a:pt x="16219" y="12080"/>
                  <a:pt x="16236" y="12074"/>
                  <a:pt x="16272" y="12105"/>
                </a:cubicBezTo>
                <a:cubicBezTo>
                  <a:pt x="16318" y="12145"/>
                  <a:pt x="16343" y="12198"/>
                  <a:pt x="16346" y="12254"/>
                </a:cubicBezTo>
                <a:cubicBezTo>
                  <a:pt x="16351" y="12333"/>
                  <a:pt x="16299" y="12332"/>
                  <a:pt x="16247" y="12378"/>
                </a:cubicBezTo>
                <a:cubicBezTo>
                  <a:pt x="16185" y="12433"/>
                  <a:pt x="16137" y="12394"/>
                  <a:pt x="16073" y="12378"/>
                </a:cubicBezTo>
                <a:cubicBezTo>
                  <a:pt x="16031" y="12368"/>
                  <a:pt x="15969" y="12378"/>
                  <a:pt x="15925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73800" y="538488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5255" y="15503"/>
                </a:moveTo>
                <a:cubicBezTo>
                  <a:pt x="15238" y="15495"/>
                  <a:pt x="15222" y="15486"/>
                  <a:pt x="15205" y="15478"/>
                </a:cubicBezTo>
                <a:cubicBezTo>
                  <a:pt x="15277" y="15492"/>
                  <a:pt x="15326" y="15503"/>
                  <a:pt x="15404" y="15503"/>
                </a:cubicBezTo>
                <a:cubicBezTo>
                  <a:pt x="15529" y="15503"/>
                  <a:pt x="15720" y="15467"/>
                  <a:pt x="15825" y="15528"/>
                </a:cubicBezTo>
                <a:cubicBezTo>
                  <a:pt x="15879" y="15559"/>
                  <a:pt x="15914" y="15553"/>
                  <a:pt x="15974" y="15553"/>
                </a:cubicBezTo>
                <a:cubicBezTo>
                  <a:pt x="16002" y="15553"/>
                  <a:pt x="16013" y="15555"/>
                  <a:pt x="16024" y="15577"/>
                </a:cubicBezTo>
              </a:path>
              <a:path w="3325" h="1291">
                <a:moveTo>
                  <a:pt x="16768" y="15280"/>
                </a:moveTo>
                <a:cubicBezTo>
                  <a:pt x="16746" y="15241"/>
                  <a:pt x="16727" y="15184"/>
                  <a:pt x="16669" y="15205"/>
                </a:cubicBezTo>
                <a:cubicBezTo>
                  <a:pt x="16582" y="15236"/>
                  <a:pt x="16572" y="15313"/>
                  <a:pt x="16520" y="15379"/>
                </a:cubicBezTo>
                <a:cubicBezTo>
                  <a:pt x="16473" y="15439"/>
                  <a:pt x="16422" y="15540"/>
                  <a:pt x="16446" y="15627"/>
                </a:cubicBezTo>
                <a:cubicBezTo>
                  <a:pt x="16474" y="15726"/>
                  <a:pt x="16538" y="15796"/>
                  <a:pt x="16619" y="15850"/>
                </a:cubicBezTo>
                <a:cubicBezTo>
                  <a:pt x="16671" y="15885"/>
                  <a:pt x="16778" y="15931"/>
                  <a:pt x="16842" y="15900"/>
                </a:cubicBezTo>
                <a:cubicBezTo>
                  <a:pt x="16859" y="15883"/>
                  <a:pt x="16875" y="15867"/>
                  <a:pt x="16892" y="15850"/>
                </a:cubicBezTo>
              </a:path>
              <a:path w="3325" h="1291">
                <a:moveTo>
                  <a:pt x="17462" y="14957"/>
                </a:moveTo>
                <a:cubicBezTo>
                  <a:pt x="17462" y="15030"/>
                  <a:pt x="17446" y="15089"/>
                  <a:pt x="17438" y="15156"/>
                </a:cubicBezTo>
                <a:cubicBezTo>
                  <a:pt x="17423" y="15272"/>
                  <a:pt x="17413" y="15384"/>
                  <a:pt x="17413" y="15503"/>
                </a:cubicBezTo>
                <a:cubicBezTo>
                  <a:pt x="17413" y="15603"/>
                  <a:pt x="17358" y="15863"/>
                  <a:pt x="17462" y="15776"/>
                </a:cubicBezTo>
              </a:path>
              <a:path w="3325" h="1291">
                <a:moveTo>
                  <a:pt x="17859" y="15056"/>
                </a:moveTo>
                <a:cubicBezTo>
                  <a:pt x="17859" y="15222"/>
                  <a:pt x="17848" y="15798"/>
                  <a:pt x="17835" y="15776"/>
                </a:cubicBezTo>
              </a:path>
              <a:path w="3325" h="1291">
                <a:moveTo>
                  <a:pt x="17388" y="15503"/>
                </a:moveTo>
                <a:cubicBezTo>
                  <a:pt x="17461" y="15503"/>
                  <a:pt x="17514" y="15524"/>
                  <a:pt x="17587" y="15528"/>
                </a:cubicBezTo>
                <a:cubicBezTo>
                  <a:pt x="17689" y="15533"/>
                  <a:pt x="17790" y="15535"/>
                  <a:pt x="17884" y="15503"/>
                </a:cubicBezTo>
              </a:path>
              <a:path w="3325" h="1291">
                <a:moveTo>
                  <a:pt x="18231" y="15652"/>
                </a:moveTo>
                <a:cubicBezTo>
                  <a:pt x="18231" y="15635"/>
                  <a:pt x="18231" y="15619"/>
                  <a:pt x="18231" y="15602"/>
                </a:cubicBezTo>
                <a:cubicBezTo>
                  <a:pt x="18292" y="15602"/>
                  <a:pt x="18359" y="15586"/>
                  <a:pt x="18405" y="15627"/>
                </a:cubicBezTo>
                <a:cubicBezTo>
                  <a:pt x="18481" y="15694"/>
                  <a:pt x="18452" y="15701"/>
                  <a:pt x="18405" y="15776"/>
                </a:cubicBezTo>
                <a:cubicBezTo>
                  <a:pt x="18375" y="15824"/>
                  <a:pt x="18346" y="15859"/>
                  <a:pt x="18306" y="15900"/>
                </a:cubicBezTo>
                <a:cubicBezTo>
                  <a:pt x="18367" y="15935"/>
                  <a:pt x="18421" y="15938"/>
                  <a:pt x="18479" y="15974"/>
                </a:cubicBezTo>
                <a:cubicBezTo>
                  <a:pt x="18518" y="15998"/>
                  <a:pt x="18548" y="16078"/>
                  <a:pt x="18529" y="16123"/>
                </a:cubicBezTo>
                <a:cubicBezTo>
                  <a:pt x="18495" y="16204"/>
                  <a:pt x="18403" y="16242"/>
                  <a:pt x="18331" y="16247"/>
                </a:cubicBezTo>
                <a:cubicBezTo>
                  <a:pt x="18267" y="16251"/>
                  <a:pt x="18238" y="16230"/>
                  <a:pt x="18182" y="16222"/>
                </a:cubicBezTo>
                <a:cubicBezTo>
                  <a:pt x="18123" y="16214"/>
                  <a:pt x="18013" y="16223"/>
                  <a:pt x="17959" y="16197"/>
                </a:cubicBezTo>
                <a:cubicBezTo>
                  <a:pt x="17951" y="16189"/>
                  <a:pt x="17942" y="16181"/>
                  <a:pt x="17934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91160" y="4562640"/>
            <a:ext cx="46080" cy="19656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8157" y="12675"/>
                </a:moveTo>
                <a:cubicBezTo>
                  <a:pt x="18122" y="12722"/>
                  <a:pt x="18132" y="12762"/>
                  <a:pt x="18132" y="12824"/>
                </a:cubicBezTo>
                <a:cubicBezTo>
                  <a:pt x="18132" y="12911"/>
                  <a:pt x="18113" y="13014"/>
                  <a:pt x="18083" y="13097"/>
                </a:cubicBezTo>
                <a:cubicBezTo>
                  <a:pt x="18063" y="13153"/>
                  <a:pt x="18031" y="13194"/>
                  <a:pt x="18058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53160" y="4759200"/>
            <a:ext cx="44640" cy="142920"/>
          </a:xfrm>
          <a:custGeom>
            <a:avLst/>
            <a:gdLst/>
            <a:ahLst/>
            <a:rect l="l" t="t" r="r" b="b"/>
            <a:pathLst>
              <a:path w="126" h="398">
                <a:moveTo>
                  <a:pt x="18504" y="13246"/>
                </a:moveTo>
                <a:cubicBezTo>
                  <a:pt x="18521" y="13238"/>
                  <a:pt x="18537" y="13229"/>
                  <a:pt x="18554" y="13221"/>
                </a:cubicBezTo>
                <a:cubicBezTo>
                  <a:pt x="18554" y="13293"/>
                  <a:pt x="18589" y="13292"/>
                  <a:pt x="18604" y="13345"/>
                </a:cubicBezTo>
                <a:cubicBezTo>
                  <a:pt x="18621" y="13404"/>
                  <a:pt x="18610" y="13474"/>
                  <a:pt x="18579" y="13519"/>
                </a:cubicBezTo>
                <a:cubicBezTo>
                  <a:pt x="18547" y="13565"/>
                  <a:pt x="18480" y="13688"/>
                  <a:pt x="18504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4411800"/>
            <a:ext cx="1955880" cy="606240"/>
          </a:xfrm>
          <a:custGeom>
            <a:avLst/>
            <a:gdLst/>
            <a:ahLst/>
            <a:rect l="l" t="t" r="r" b="b"/>
            <a:pathLst>
              <a:path w="5433" h="1687">
                <a:moveTo>
                  <a:pt x="19050" y="12874"/>
                </a:moveTo>
                <a:cubicBezTo>
                  <a:pt x="19090" y="12854"/>
                  <a:pt x="19157" y="12833"/>
                  <a:pt x="19199" y="12824"/>
                </a:cubicBezTo>
                <a:cubicBezTo>
                  <a:pt x="19255" y="12812"/>
                  <a:pt x="19345" y="12811"/>
                  <a:pt x="19372" y="12874"/>
                </a:cubicBezTo>
                <a:cubicBezTo>
                  <a:pt x="19389" y="12913"/>
                  <a:pt x="19297" y="13033"/>
                  <a:pt x="19273" y="13047"/>
                </a:cubicBezTo>
                <a:cubicBezTo>
                  <a:pt x="19229" y="13047"/>
                  <a:pt x="19215" y="13044"/>
                  <a:pt x="19199" y="13072"/>
                </a:cubicBezTo>
                <a:cubicBezTo>
                  <a:pt x="19164" y="13072"/>
                  <a:pt x="19237" y="13099"/>
                  <a:pt x="19273" y="13122"/>
                </a:cubicBezTo>
                <a:cubicBezTo>
                  <a:pt x="19343" y="13166"/>
                  <a:pt x="19364" y="13211"/>
                  <a:pt x="19397" y="13271"/>
                </a:cubicBezTo>
                <a:cubicBezTo>
                  <a:pt x="19442" y="13353"/>
                  <a:pt x="19407" y="13370"/>
                  <a:pt x="19348" y="13419"/>
                </a:cubicBezTo>
                <a:cubicBezTo>
                  <a:pt x="19294" y="13464"/>
                  <a:pt x="19267" y="13469"/>
                  <a:pt x="19199" y="13469"/>
                </a:cubicBezTo>
                <a:cubicBezTo>
                  <a:pt x="19164" y="13469"/>
                  <a:pt x="19160" y="13460"/>
                  <a:pt x="19199" y="13419"/>
                </a:cubicBezTo>
              </a:path>
              <a:path w="5433" h="1687">
                <a:moveTo>
                  <a:pt x="19670" y="13221"/>
                </a:moveTo>
                <a:cubicBezTo>
                  <a:pt x="19686" y="13172"/>
                  <a:pt x="19762" y="13196"/>
                  <a:pt x="19819" y="13196"/>
                </a:cubicBezTo>
                <a:cubicBezTo>
                  <a:pt x="19894" y="13196"/>
                  <a:pt x="19895" y="13204"/>
                  <a:pt x="19943" y="13146"/>
                </a:cubicBezTo>
              </a:path>
              <a:path w="5433" h="1687">
                <a:moveTo>
                  <a:pt x="20513" y="12923"/>
                </a:moveTo>
                <a:cubicBezTo>
                  <a:pt x="20499" y="12874"/>
                  <a:pt x="20464" y="12811"/>
                  <a:pt x="20389" y="12849"/>
                </a:cubicBezTo>
                <a:cubicBezTo>
                  <a:pt x="20345" y="12872"/>
                  <a:pt x="20275" y="12952"/>
                  <a:pt x="20265" y="12998"/>
                </a:cubicBezTo>
                <a:cubicBezTo>
                  <a:pt x="20246" y="13085"/>
                  <a:pt x="20241" y="13180"/>
                  <a:pt x="20241" y="13271"/>
                </a:cubicBezTo>
                <a:cubicBezTo>
                  <a:pt x="20241" y="13335"/>
                  <a:pt x="20276" y="13374"/>
                  <a:pt x="20340" y="13395"/>
                </a:cubicBezTo>
                <a:cubicBezTo>
                  <a:pt x="20394" y="13413"/>
                  <a:pt x="20472" y="13377"/>
                  <a:pt x="20513" y="13345"/>
                </a:cubicBezTo>
                <a:cubicBezTo>
                  <a:pt x="20600" y="13277"/>
                  <a:pt x="20648" y="13099"/>
                  <a:pt x="20662" y="12998"/>
                </a:cubicBezTo>
                <a:cubicBezTo>
                  <a:pt x="20697" y="12744"/>
                  <a:pt x="20512" y="12070"/>
                  <a:pt x="20662" y="12278"/>
                </a:cubicBezTo>
                <a:cubicBezTo>
                  <a:pt x="20670" y="12286"/>
                  <a:pt x="20679" y="12295"/>
                  <a:pt x="20687" y="12303"/>
                </a:cubicBezTo>
              </a:path>
              <a:path w="5433" h="1687">
                <a:moveTo>
                  <a:pt x="20935" y="13146"/>
                </a:moveTo>
                <a:cubicBezTo>
                  <a:pt x="20935" y="13188"/>
                  <a:pt x="20953" y="13422"/>
                  <a:pt x="20910" y="13295"/>
                </a:cubicBezTo>
                <a:cubicBezTo>
                  <a:pt x="20910" y="13287"/>
                  <a:pt x="20910" y="13279"/>
                  <a:pt x="20910" y="13271"/>
                </a:cubicBezTo>
              </a:path>
              <a:path w="5433" h="1687">
                <a:moveTo>
                  <a:pt x="20935" y="12799"/>
                </a:moveTo>
                <a:cubicBezTo>
                  <a:pt x="20935" y="12791"/>
                  <a:pt x="20935" y="12782"/>
                  <a:pt x="20935" y="12774"/>
                </a:cubicBezTo>
              </a:path>
              <a:path w="5433" h="1687">
                <a:moveTo>
                  <a:pt x="21282" y="13171"/>
                </a:moveTo>
                <a:cubicBezTo>
                  <a:pt x="21251" y="13215"/>
                  <a:pt x="21258" y="13238"/>
                  <a:pt x="21258" y="13295"/>
                </a:cubicBezTo>
                <a:cubicBezTo>
                  <a:pt x="21258" y="13336"/>
                  <a:pt x="21258" y="13378"/>
                  <a:pt x="21258" y="13419"/>
                </a:cubicBezTo>
                <a:cubicBezTo>
                  <a:pt x="21295" y="13345"/>
                  <a:pt x="21330" y="13274"/>
                  <a:pt x="21357" y="13196"/>
                </a:cubicBezTo>
                <a:cubicBezTo>
                  <a:pt x="21383" y="13121"/>
                  <a:pt x="21401" y="13077"/>
                  <a:pt x="21456" y="13022"/>
                </a:cubicBezTo>
                <a:cubicBezTo>
                  <a:pt x="21522" y="13077"/>
                  <a:pt x="21506" y="13105"/>
                  <a:pt x="21506" y="13196"/>
                </a:cubicBezTo>
                <a:cubicBezTo>
                  <a:pt x="21506" y="13246"/>
                  <a:pt x="21506" y="13295"/>
                  <a:pt x="21506" y="13345"/>
                </a:cubicBezTo>
                <a:cubicBezTo>
                  <a:pt x="21562" y="13288"/>
                  <a:pt x="21615" y="13241"/>
                  <a:pt x="21654" y="13171"/>
                </a:cubicBezTo>
                <a:cubicBezTo>
                  <a:pt x="21677" y="13129"/>
                  <a:pt x="21732" y="13001"/>
                  <a:pt x="21803" y="13022"/>
                </a:cubicBezTo>
                <a:cubicBezTo>
                  <a:pt x="21837" y="13032"/>
                  <a:pt x="21875" y="13134"/>
                  <a:pt x="21903" y="13171"/>
                </a:cubicBezTo>
                <a:cubicBezTo>
                  <a:pt x="21947" y="13227"/>
                  <a:pt x="21991" y="13284"/>
                  <a:pt x="22027" y="13345"/>
                </a:cubicBezTo>
                <a:cubicBezTo>
                  <a:pt x="22057" y="13396"/>
                  <a:pt x="22049" y="13406"/>
                  <a:pt x="22101" y="13419"/>
                </a:cubicBezTo>
              </a:path>
              <a:path w="5433" h="1687">
                <a:moveTo>
                  <a:pt x="22399" y="13171"/>
                </a:moveTo>
                <a:cubicBezTo>
                  <a:pt x="22442" y="13138"/>
                  <a:pt x="22465" y="13146"/>
                  <a:pt x="22523" y="13146"/>
                </a:cubicBezTo>
                <a:cubicBezTo>
                  <a:pt x="22577" y="13146"/>
                  <a:pt x="22593" y="13064"/>
                  <a:pt x="22597" y="13022"/>
                </a:cubicBezTo>
                <a:cubicBezTo>
                  <a:pt x="22602" y="12968"/>
                  <a:pt x="22581" y="12931"/>
                  <a:pt x="22523" y="12923"/>
                </a:cubicBezTo>
                <a:cubicBezTo>
                  <a:pt x="22468" y="12916"/>
                  <a:pt x="22360" y="12984"/>
                  <a:pt x="22324" y="13022"/>
                </a:cubicBezTo>
                <a:cubicBezTo>
                  <a:pt x="22273" y="13076"/>
                  <a:pt x="22216" y="13172"/>
                  <a:pt x="22200" y="13246"/>
                </a:cubicBezTo>
                <a:cubicBezTo>
                  <a:pt x="22185" y="13317"/>
                  <a:pt x="22267" y="13371"/>
                  <a:pt x="22324" y="13395"/>
                </a:cubicBezTo>
                <a:cubicBezTo>
                  <a:pt x="22410" y="13432"/>
                  <a:pt x="22481" y="13461"/>
                  <a:pt x="22572" y="13469"/>
                </a:cubicBezTo>
              </a:path>
              <a:path w="5433" h="1687">
                <a:moveTo>
                  <a:pt x="23019" y="12725"/>
                </a:moveTo>
                <a:cubicBezTo>
                  <a:pt x="23019" y="12929"/>
                  <a:pt x="23043" y="13152"/>
                  <a:pt x="22994" y="13345"/>
                </a:cubicBezTo>
                <a:cubicBezTo>
                  <a:pt x="22994" y="13353"/>
                  <a:pt x="22994" y="13362"/>
                  <a:pt x="22994" y="13370"/>
                </a:cubicBezTo>
              </a:path>
              <a:path w="5433" h="1687">
                <a:moveTo>
                  <a:pt x="22796" y="13072"/>
                </a:moveTo>
                <a:cubicBezTo>
                  <a:pt x="22838" y="13115"/>
                  <a:pt x="22884" y="13138"/>
                  <a:pt x="22944" y="13146"/>
                </a:cubicBezTo>
                <a:cubicBezTo>
                  <a:pt x="23054" y="13160"/>
                  <a:pt x="23109" y="13148"/>
                  <a:pt x="23192" y="13097"/>
                </a:cubicBezTo>
                <a:cubicBezTo>
                  <a:pt x="23293" y="13036"/>
                  <a:pt x="23328" y="12982"/>
                  <a:pt x="23366" y="12874"/>
                </a:cubicBezTo>
                <a:cubicBezTo>
                  <a:pt x="23389" y="12808"/>
                  <a:pt x="23391" y="12768"/>
                  <a:pt x="23391" y="12700"/>
                </a:cubicBezTo>
                <a:cubicBezTo>
                  <a:pt x="23332" y="12710"/>
                  <a:pt x="23320" y="12730"/>
                  <a:pt x="23292" y="12799"/>
                </a:cubicBezTo>
                <a:cubicBezTo>
                  <a:pt x="23253" y="12895"/>
                  <a:pt x="23269" y="13000"/>
                  <a:pt x="23242" y="13097"/>
                </a:cubicBezTo>
                <a:cubicBezTo>
                  <a:pt x="23225" y="13160"/>
                  <a:pt x="23203" y="13239"/>
                  <a:pt x="23192" y="13295"/>
                </a:cubicBezTo>
                <a:cubicBezTo>
                  <a:pt x="23192" y="13312"/>
                  <a:pt x="23192" y="13328"/>
                  <a:pt x="23192" y="13345"/>
                </a:cubicBezTo>
                <a:cubicBezTo>
                  <a:pt x="23240" y="13297"/>
                  <a:pt x="23271" y="13244"/>
                  <a:pt x="23316" y="13196"/>
                </a:cubicBezTo>
                <a:cubicBezTo>
                  <a:pt x="23352" y="13157"/>
                  <a:pt x="23447" y="13102"/>
                  <a:pt x="23490" y="13171"/>
                </a:cubicBezTo>
                <a:cubicBezTo>
                  <a:pt x="23518" y="13216"/>
                  <a:pt x="23476" y="13264"/>
                  <a:pt x="23465" y="13295"/>
                </a:cubicBezTo>
                <a:cubicBezTo>
                  <a:pt x="23430" y="13398"/>
                  <a:pt x="23444" y="13492"/>
                  <a:pt x="23515" y="13444"/>
                </a:cubicBezTo>
              </a:path>
              <a:path w="5433" h="1687">
                <a:moveTo>
                  <a:pt x="23837" y="13221"/>
                </a:moveTo>
                <a:cubicBezTo>
                  <a:pt x="23837" y="13304"/>
                  <a:pt x="23837" y="13386"/>
                  <a:pt x="23837" y="13469"/>
                </a:cubicBezTo>
                <a:cubicBezTo>
                  <a:pt x="23912" y="13441"/>
                  <a:pt x="23945" y="13398"/>
                  <a:pt x="23986" y="13320"/>
                </a:cubicBezTo>
                <a:cubicBezTo>
                  <a:pt x="24027" y="13244"/>
                  <a:pt x="24036" y="13216"/>
                  <a:pt x="24085" y="13146"/>
                </a:cubicBezTo>
                <a:cubicBezTo>
                  <a:pt x="24085" y="13219"/>
                  <a:pt x="24069" y="13274"/>
                  <a:pt x="24061" y="13345"/>
                </a:cubicBezTo>
                <a:cubicBezTo>
                  <a:pt x="24050" y="13441"/>
                  <a:pt x="24124" y="13831"/>
                  <a:pt x="24036" y="13891"/>
                </a:cubicBezTo>
                <a:cubicBezTo>
                  <a:pt x="23948" y="13951"/>
                  <a:pt x="23965" y="13930"/>
                  <a:pt x="23862" y="13915"/>
                </a:cubicBezTo>
                <a:cubicBezTo>
                  <a:pt x="23795" y="13905"/>
                  <a:pt x="23709" y="13904"/>
                  <a:pt x="23664" y="13841"/>
                </a:cubicBezTo>
                <a:cubicBezTo>
                  <a:pt x="23656" y="13824"/>
                  <a:pt x="23647" y="13808"/>
                  <a:pt x="23639" y="13791"/>
                </a:cubicBezTo>
              </a:path>
              <a:path w="5433" h="1687">
                <a:moveTo>
                  <a:pt x="24358" y="12650"/>
                </a:moveTo>
                <a:cubicBezTo>
                  <a:pt x="24342" y="12712"/>
                  <a:pt x="24333" y="12719"/>
                  <a:pt x="24333" y="12799"/>
                </a:cubicBezTo>
                <a:cubicBezTo>
                  <a:pt x="24333" y="12887"/>
                  <a:pt x="24395" y="12959"/>
                  <a:pt x="24408" y="13047"/>
                </a:cubicBezTo>
                <a:cubicBezTo>
                  <a:pt x="24421" y="13133"/>
                  <a:pt x="24429" y="13234"/>
                  <a:pt x="24433" y="13320"/>
                </a:cubicBezTo>
                <a:cubicBezTo>
                  <a:pt x="24435" y="13378"/>
                  <a:pt x="24498" y="13452"/>
                  <a:pt x="24457" y="13494"/>
                </a:cubicBezTo>
                <a:cubicBezTo>
                  <a:pt x="24424" y="13494"/>
                  <a:pt x="24416" y="13485"/>
                  <a:pt x="24433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04000" y="5089680"/>
            <a:ext cx="1339920" cy="366480"/>
          </a:xfrm>
          <a:custGeom>
            <a:avLst/>
            <a:gdLst/>
            <a:ahLst/>
            <a:rect l="l" t="t" r="r" b="b"/>
            <a:pathLst>
              <a:path w="3722" h="1018">
                <a:moveTo>
                  <a:pt x="18976" y="14188"/>
                </a:moveTo>
                <a:cubicBezTo>
                  <a:pt x="18976" y="14072"/>
                  <a:pt x="18976" y="14210"/>
                  <a:pt x="18976" y="14238"/>
                </a:cubicBezTo>
                <a:cubicBezTo>
                  <a:pt x="18976" y="14336"/>
                  <a:pt x="18965" y="14461"/>
                  <a:pt x="18951" y="14560"/>
                </a:cubicBezTo>
                <a:cubicBezTo>
                  <a:pt x="18937" y="14664"/>
                  <a:pt x="18926" y="14752"/>
                  <a:pt x="18926" y="14858"/>
                </a:cubicBezTo>
                <a:cubicBezTo>
                  <a:pt x="18926" y="14866"/>
                  <a:pt x="18926" y="14875"/>
                  <a:pt x="18926" y="14883"/>
                </a:cubicBezTo>
                <a:cubicBezTo>
                  <a:pt x="18959" y="14817"/>
                  <a:pt x="18992" y="14750"/>
                  <a:pt x="19025" y="14684"/>
                </a:cubicBezTo>
                <a:cubicBezTo>
                  <a:pt x="19049" y="14636"/>
                  <a:pt x="19129" y="14542"/>
                  <a:pt x="19174" y="14536"/>
                </a:cubicBezTo>
                <a:cubicBezTo>
                  <a:pt x="19221" y="14529"/>
                  <a:pt x="19263" y="14580"/>
                  <a:pt x="19273" y="14635"/>
                </a:cubicBezTo>
                <a:cubicBezTo>
                  <a:pt x="19286" y="14708"/>
                  <a:pt x="19296" y="14900"/>
                  <a:pt x="19248" y="14957"/>
                </a:cubicBezTo>
                <a:cubicBezTo>
                  <a:pt x="19180" y="15037"/>
                  <a:pt x="19104" y="15012"/>
                  <a:pt x="19025" y="14957"/>
                </a:cubicBezTo>
                <a:cubicBezTo>
                  <a:pt x="18973" y="14921"/>
                  <a:pt x="18920" y="14939"/>
                  <a:pt x="18901" y="14858"/>
                </a:cubicBezTo>
                <a:cubicBezTo>
                  <a:pt x="18901" y="14841"/>
                  <a:pt x="18901" y="14825"/>
                  <a:pt x="18901" y="14808"/>
                </a:cubicBezTo>
              </a:path>
              <a:path w="3722" h="1018">
                <a:moveTo>
                  <a:pt x="19521" y="14784"/>
                </a:moveTo>
                <a:cubicBezTo>
                  <a:pt x="19536" y="14724"/>
                  <a:pt x="19561" y="14734"/>
                  <a:pt x="19621" y="14734"/>
                </a:cubicBezTo>
                <a:cubicBezTo>
                  <a:pt x="19674" y="14734"/>
                  <a:pt x="19738" y="14709"/>
                  <a:pt x="19769" y="14660"/>
                </a:cubicBezTo>
                <a:cubicBezTo>
                  <a:pt x="19800" y="14611"/>
                  <a:pt x="19750" y="14565"/>
                  <a:pt x="19720" y="14536"/>
                </a:cubicBezTo>
                <a:cubicBezTo>
                  <a:pt x="19652" y="14469"/>
                  <a:pt x="19629" y="14531"/>
                  <a:pt x="19571" y="14560"/>
                </a:cubicBezTo>
                <a:cubicBezTo>
                  <a:pt x="19492" y="14599"/>
                  <a:pt x="19473" y="14617"/>
                  <a:pt x="19422" y="14684"/>
                </a:cubicBezTo>
                <a:cubicBezTo>
                  <a:pt x="19398" y="14715"/>
                  <a:pt x="19376" y="14816"/>
                  <a:pt x="19397" y="14858"/>
                </a:cubicBezTo>
                <a:cubicBezTo>
                  <a:pt x="19425" y="14915"/>
                  <a:pt x="19520" y="14978"/>
                  <a:pt x="19571" y="15007"/>
                </a:cubicBezTo>
                <a:cubicBezTo>
                  <a:pt x="19625" y="15037"/>
                  <a:pt x="19660" y="15032"/>
                  <a:pt x="19720" y="15032"/>
                </a:cubicBezTo>
              </a:path>
              <a:path w="3722" h="1018">
                <a:moveTo>
                  <a:pt x="19993" y="14635"/>
                </a:moveTo>
                <a:cubicBezTo>
                  <a:pt x="20010" y="14698"/>
                  <a:pt x="19993" y="14779"/>
                  <a:pt x="19993" y="14858"/>
                </a:cubicBezTo>
                <a:cubicBezTo>
                  <a:pt x="19993" y="14899"/>
                  <a:pt x="19993" y="14941"/>
                  <a:pt x="19993" y="14982"/>
                </a:cubicBezTo>
                <a:cubicBezTo>
                  <a:pt x="20018" y="14921"/>
                  <a:pt x="20015" y="14869"/>
                  <a:pt x="20042" y="14808"/>
                </a:cubicBezTo>
                <a:cubicBezTo>
                  <a:pt x="20075" y="14736"/>
                  <a:pt x="20077" y="14658"/>
                  <a:pt x="20117" y="14585"/>
                </a:cubicBezTo>
                <a:cubicBezTo>
                  <a:pt x="20146" y="14555"/>
                  <a:pt x="20160" y="14544"/>
                  <a:pt x="20191" y="14536"/>
                </a:cubicBezTo>
                <a:cubicBezTo>
                  <a:pt x="20246" y="14603"/>
                  <a:pt x="20221" y="14634"/>
                  <a:pt x="20241" y="14709"/>
                </a:cubicBezTo>
                <a:cubicBezTo>
                  <a:pt x="20262" y="14788"/>
                  <a:pt x="20290" y="14822"/>
                  <a:pt x="20290" y="14908"/>
                </a:cubicBezTo>
                <a:cubicBezTo>
                  <a:pt x="20290" y="14978"/>
                  <a:pt x="20247" y="15000"/>
                  <a:pt x="20290" y="15056"/>
                </a:cubicBezTo>
              </a:path>
              <a:path w="3722" h="1018">
                <a:moveTo>
                  <a:pt x="20588" y="14660"/>
                </a:moveTo>
                <a:cubicBezTo>
                  <a:pt x="20605" y="14574"/>
                  <a:pt x="20595" y="14560"/>
                  <a:pt x="20687" y="14560"/>
                </a:cubicBezTo>
                <a:cubicBezTo>
                  <a:pt x="20722" y="14560"/>
                  <a:pt x="20740" y="14565"/>
                  <a:pt x="20762" y="14585"/>
                </a:cubicBezTo>
                <a:cubicBezTo>
                  <a:pt x="20746" y="14664"/>
                  <a:pt x="20694" y="14711"/>
                  <a:pt x="20662" y="14784"/>
                </a:cubicBezTo>
                <a:cubicBezTo>
                  <a:pt x="20638" y="14839"/>
                  <a:pt x="20628" y="14863"/>
                  <a:pt x="20588" y="14908"/>
                </a:cubicBezTo>
                <a:cubicBezTo>
                  <a:pt x="20537" y="14966"/>
                  <a:pt x="20421" y="15028"/>
                  <a:pt x="20538" y="15081"/>
                </a:cubicBezTo>
                <a:cubicBezTo>
                  <a:pt x="20577" y="15099"/>
                  <a:pt x="20655" y="15068"/>
                  <a:pt x="20687" y="15056"/>
                </a:cubicBezTo>
                <a:cubicBezTo>
                  <a:pt x="20728" y="15036"/>
                  <a:pt x="20734" y="15028"/>
                  <a:pt x="20762" y="15032"/>
                </a:cubicBezTo>
              </a:path>
              <a:path w="3722" h="1018">
                <a:moveTo>
                  <a:pt x="21059" y="14808"/>
                </a:moveTo>
                <a:cubicBezTo>
                  <a:pt x="21077" y="14756"/>
                  <a:pt x="21111" y="14808"/>
                  <a:pt x="21158" y="14784"/>
                </a:cubicBezTo>
                <a:cubicBezTo>
                  <a:pt x="21219" y="14753"/>
                  <a:pt x="21277" y="14699"/>
                  <a:pt x="21307" y="14635"/>
                </a:cubicBezTo>
                <a:cubicBezTo>
                  <a:pt x="21330" y="14585"/>
                  <a:pt x="21280" y="14522"/>
                  <a:pt x="21233" y="14511"/>
                </a:cubicBezTo>
                <a:cubicBezTo>
                  <a:pt x="21185" y="14500"/>
                  <a:pt x="21065" y="14514"/>
                  <a:pt x="21034" y="14560"/>
                </a:cubicBezTo>
                <a:cubicBezTo>
                  <a:pt x="20986" y="14630"/>
                  <a:pt x="20982" y="14686"/>
                  <a:pt x="20960" y="14759"/>
                </a:cubicBezTo>
                <a:cubicBezTo>
                  <a:pt x="20937" y="14834"/>
                  <a:pt x="20923" y="14864"/>
                  <a:pt x="20960" y="14932"/>
                </a:cubicBezTo>
                <a:cubicBezTo>
                  <a:pt x="20999" y="15005"/>
                  <a:pt x="21077" y="15074"/>
                  <a:pt x="21158" y="15081"/>
                </a:cubicBezTo>
                <a:cubicBezTo>
                  <a:pt x="21232" y="15087"/>
                  <a:pt x="21267" y="15080"/>
                  <a:pt x="21332" y="15056"/>
                </a:cubicBezTo>
              </a:path>
              <a:path w="3722" h="1018">
                <a:moveTo>
                  <a:pt x="21654" y="14560"/>
                </a:moveTo>
                <a:cubicBezTo>
                  <a:pt x="21654" y="14725"/>
                  <a:pt x="21654" y="14891"/>
                  <a:pt x="21654" y="15056"/>
                </a:cubicBezTo>
                <a:cubicBezTo>
                  <a:pt x="21661" y="14997"/>
                  <a:pt x="21662" y="14915"/>
                  <a:pt x="21679" y="14858"/>
                </a:cubicBezTo>
                <a:cubicBezTo>
                  <a:pt x="21696" y="14802"/>
                  <a:pt x="21728" y="14713"/>
                  <a:pt x="21754" y="14660"/>
                </a:cubicBezTo>
                <a:cubicBezTo>
                  <a:pt x="21776" y="14617"/>
                  <a:pt x="21844" y="14611"/>
                  <a:pt x="21878" y="14585"/>
                </a:cubicBezTo>
                <a:cubicBezTo>
                  <a:pt x="21941" y="14660"/>
                  <a:pt x="21927" y="14682"/>
                  <a:pt x="21927" y="14784"/>
                </a:cubicBezTo>
                <a:cubicBezTo>
                  <a:pt x="21927" y="14880"/>
                  <a:pt x="21905" y="15003"/>
                  <a:pt x="21952" y="15081"/>
                </a:cubicBezTo>
              </a:path>
              <a:path w="3722" h="1018">
                <a:moveTo>
                  <a:pt x="22225" y="14808"/>
                </a:moveTo>
                <a:cubicBezTo>
                  <a:pt x="22297" y="14808"/>
                  <a:pt x="22384" y="14823"/>
                  <a:pt x="22448" y="14784"/>
                </a:cubicBezTo>
                <a:cubicBezTo>
                  <a:pt x="22487" y="14760"/>
                  <a:pt x="22542" y="14700"/>
                  <a:pt x="22547" y="14660"/>
                </a:cubicBezTo>
                <a:cubicBezTo>
                  <a:pt x="22563" y="14542"/>
                  <a:pt x="22454" y="14560"/>
                  <a:pt x="22374" y="14560"/>
                </a:cubicBezTo>
                <a:cubicBezTo>
                  <a:pt x="22319" y="14560"/>
                  <a:pt x="22215" y="14592"/>
                  <a:pt x="22175" y="14635"/>
                </a:cubicBezTo>
                <a:cubicBezTo>
                  <a:pt x="22147" y="14666"/>
                  <a:pt x="22129" y="14769"/>
                  <a:pt x="22126" y="14808"/>
                </a:cubicBezTo>
                <a:cubicBezTo>
                  <a:pt x="22121" y="14880"/>
                  <a:pt x="22161" y="14927"/>
                  <a:pt x="22200" y="14982"/>
                </a:cubicBezTo>
                <a:cubicBezTo>
                  <a:pt x="22263" y="15071"/>
                  <a:pt x="22333" y="15096"/>
                  <a:pt x="22423" y="15131"/>
                </a:cubicBezTo>
                <a:cubicBezTo>
                  <a:pt x="22521" y="15169"/>
                  <a:pt x="22556" y="15159"/>
                  <a:pt x="22622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47960" y="4813200"/>
            <a:ext cx="206280" cy="303480"/>
          </a:xfrm>
          <a:custGeom>
            <a:avLst/>
            <a:gdLst/>
            <a:ahLst/>
            <a:rect l="l" t="t" r="r" b="b"/>
            <a:pathLst>
              <a:path w="571" h="844">
                <a:moveTo>
                  <a:pt x="7913" y="13370"/>
                </a:moveTo>
                <a:cubicBezTo>
                  <a:pt x="7947" y="13426"/>
                  <a:pt x="7938" y="13473"/>
                  <a:pt x="7938" y="13543"/>
                </a:cubicBezTo>
                <a:cubicBezTo>
                  <a:pt x="7938" y="13620"/>
                  <a:pt x="7907" y="13937"/>
                  <a:pt x="7962" y="13841"/>
                </a:cubicBezTo>
              </a:path>
              <a:path w="571" h="844">
                <a:moveTo>
                  <a:pt x="8384" y="13791"/>
                </a:moveTo>
                <a:cubicBezTo>
                  <a:pt x="8400" y="13854"/>
                  <a:pt x="8427" y="13886"/>
                  <a:pt x="8458" y="13940"/>
                </a:cubicBezTo>
                <a:cubicBezTo>
                  <a:pt x="8487" y="13992"/>
                  <a:pt x="8494" y="14065"/>
                  <a:pt x="8458" y="14114"/>
                </a:cubicBezTo>
                <a:cubicBezTo>
                  <a:pt x="8423" y="14163"/>
                  <a:pt x="8384" y="14185"/>
                  <a:pt x="8334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52880" y="4464000"/>
            <a:ext cx="1473120" cy="600120"/>
          </a:xfrm>
          <a:custGeom>
            <a:avLst/>
            <a:gdLst/>
            <a:ahLst/>
            <a:rect l="l" t="t" r="r" b="b"/>
            <a:pathLst>
              <a:path w="4094" h="1663">
                <a:moveTo>
                  <a:pt x="8806" y="13494"/>
                </a:moveTo>
                <a:cubicBezTo>
                  <a:pt x="8762" y="13581"/>
                  <a:pt x="8734" y="13611"/>
                  <a:pt x="8781" y="13692"/>
                </a:cubicBezTo>
                <a:cubicBezTo>
                  <a:pt x="8806" y="13736"/>
                  <a:pt x="8876" y="13784"/>
                  <a:pt x="8930" y="13791"/>
                </a:cubicBezTo>
                <a:cubicBezTo>
                  <a:pt x="9005" y="13801"/>
                  <a:pt x="9053" y="13761"/>
                  <a:pt x="9103" y="13717"/>
                </a:cubicBezTo>
              </a:path>
              <a:path w="4094" h="1663">
                <a:moveTo>
                  <a:pt x="8930" y="13395"/>
                </a:moveTo>
                <a:cubicBezTo>
                  <a:pt x="8930" y="13502"/>
                  <a:pt x="8920" y="13590"/>
                  <a:pt x="8905" y="13692"/>
                </a:cubicBezTo>
                <a:cubicBezTo>
                  <a:pt x="8892" y="13782"/>
                  <a:pt x="8872" y="13852"/>
                  <a:pt x="8855" y="13940"/>
                </a:cubicBezTo>
                <a:cubicBezTo>
                  <a:pt x="8849" y="13973"/>
                  <a:pt x="8860" y="14134"/>
                  <a:pt x="8830" y="14015"/>
                </a:cubicBezTo>
              </a:path>
              <a:path w="4094" h="1663">
                <a:moveTo>
                  <a:pt x="9252" y="13767"/>
                </a:moveTo>
                <a:cubicBezTo>
                  <a:pt x="9302" y="13737"/>
                  <a:pt x="9339" y="13742"/>
                  <a:pt x="9401" y="13742"/>
                </a:cubicBezTo>
                <a:cubicBezTo>
                  <a:pt x="9444" y="13742"/>
                  <a:pt x="9469" y="13748"/>
                  <a:pt x="9500" y="13767"/>
                </a:cubicBezTo>
              </a:path>
              <a:path w="4094" h="1663">
                <a:moveTo>
                  <a:pt x="9847" y="13469"/>
                </a:moveTo>
                <a:cubicBezTo>
                  <a:pt x="9751" y="13508"/>
                  <a:pt x="9757" y="13505"/>
                  <a:pt x="9723" y="13593"/>
                </a:cubicBezTo>
                <a:cubicBezTo>
                  <a:pt x="9696" y="13662"/>
                  <a:pt x="9665" y="13721"/>
                  <a:pt x="9649" y="13791"/>
                </a:cubicBezTo>
                <a:cubicBezTo>
                  <a:pt x="9636" y="13845"/>
                  <a:pt x="9645" y="13918"/>
                  <a:pt x="9674" y="13965"/>
                </a:cubicBezTo>
                <a:cubicBezTo>
                  <a:pt x="9715" y="14031"/>
                  <a:pt x="9768" y="14016"/>
                  <a:pt x="9823" y="13990"/>
                </a:cubicBezTo>
                <a:cubicBezTo>
                  <a:pt x="9897" y="13955"/>
                  <a:pt x="9933" y="13938"/>
                  <a:pt x="9971" y="13866"/>
                </a:cubicBezTo>
                <a:cubicBezTo>
                  <a:pt x="10010" y="13792"/>
                  <a:pt x="10008" y="13675"/>
                  <a:pt x="9996" y="13593"/>
                </a:cubicBezTo>
                <a:cubicBezTo>
                  <a:pt x="9976" y="13454"/>
                  <a:pt x="9947" y="13339"/>
                  <a:pt x="9947" y="13196"/>
                </a:cubicBezTo>
                <a:cubicBezTo>
                  <a:pt x="9947" y="13155"/>
                  <a:pt x="9919" y="12961"/>
                  <a:pt x="9996" y="12998"/>
                </a:cubicBezTo>
                <a:cubicBezTo>
                  <a:pt x="9996" y="13033"/>
                  <a:pt x="10001" y="13050"/>
                  <a:pt x="10021" y="13072"/>
                </a:cubicBezTo>
              </a:path>
              <a:path w="4094" h="1663">
                <a:moveTo>
                  <a:pt x="10195" y="13692"/>
                </a:moveTo>
                <a:cubicBezTo>
                  <a:pt x="10215" y="13766"/>
                  <a:pt x="10220" y="13815"/>
                  <a:pt x="10220" y="13891"/>
                </a:cubicBezTo>
              </a:path>
              <a:path w="4094" h="1663">
                <a:moveTo>
                  <a:pt x="10344" y="13271"/>
                </a:moveTo>
                <a:cubicBezTo>
                  <a:pt x="10316" y="13271"/>
                  <a:pt x="10305" y="13273"/>
                  <a:pt x="10294" y="13295"/>
                </a:cubicBezTo>
              </a:path>
              <a:path w="4094" h="1663">
                <a:moveTo>
                  <a:pt x="10492" y="13667"/>
                </a:moveTo>
                <a:cubicBezTo>
                  <a:pt x="10492" y="13758"/>
                  <a:pt x="10492" y="13849"/>
                  <a:pt x="10492" y="13940"/>
                </a:cubicBezTo>
                <a:cubicBezTo>
                  <a:pt x="10492" y="13994"/>
                  <a:pt x="10505" y="13867"/>
                  <a:pt x="10517" y="13841"/>
                </a:cubicBezTo>
                <a:cubicBezTo>
                  <a:pt x="10551" y="13769"/>
                  <a:pt x="10522" y="13719"/>
                  <a:pt x="10592" y="13667"/>
                </a:cubicBezTo>
                <a:cubicBezTo>
                  <a:pt x="10608" y="13659"/>
                  <a:pt x="10625" y="13651"/>
                  <a:pt x="10641" y="13643"/>
                </a:cubicBezTo>
              </a:path>
              <a:path w="4094" h="1663">
                <a:moveTo>
                  <a:pt x="10666" y="13643"/>
                </a:moveTo>
                <a:cubicBezTo>
                  <a:pt x="10666" y="13730"/>
                  <a:pt x="10671" y="13786"/>
                  <a:pt x="10691" y="13866"/>
                </a:cubicBezTo>
                <a:cubicBezTo>
                  <a:pt x="10691" y="13874"/>
                  <a:pt x="10691" y="13883"/>
                  <a:pt x="10691" y="13891"/>
                </a:cubicBezTo>
                <a:cubicBezTo>
                  <a:pt x="10736" y="13838"/>
                  <a:pt x="10763" y="13793"/>
                  <a:pt x="10815" y="13742"/>
                </a:cubicBezTo>
                <a:cubicBezTo>
                  <a:pt x="10837" y="13720"/>
                  <a:pt x="10842" y="13711"/>
                  <a:pt x="10864" y="13717"/>
                </a:cubicBezTo>
                <a:cubicBezTo>
                  <a:pt x="10897" y="13761"/>
                  <a:pt x="10889" y="13783"/>
                  <a:pt x="10889" y="13841"/>
                </a:cubicBezTo>
                <a:cubicBezTo>
                  <a:pt x="10889" y="13890"/>
                  <a:pt x="10926" y="13883"/>
                  <a:pt x="10964" y="13891"/>
                </a:cubicBezTo>
              </a:path>
              <a:path w="4094" h="1663">
                <a:moveTo>
                  <a:pt x="11088" y="13667"/>
                </a:moveTo>
                <a:cubicBezTo>
                  <a:pt x="11168" y="13667"/>
                  <a:pt x="11212" y="13668"/>
                  <a:pt x="11261" y="13593"/>
                </a:cubicBezTo>
                <a:cubicBezTo>
                  <a:pt x="11294" y="13543"/>
                  <a:pt x="11286" y="13501"/>
                  <a:pt x="11286" y="13444"/>
                </a:cubicBezTo>
                <a:cubicBezTo>
                  <a:pt x="11199" y="13444"/>
                  <a:pt x="11194" y="13437"/>
                  <a:pt x="11137" y="13494"/>
                </a:cubicBezTo>
                <a:cubicBezTo>
                  <a:pt x="11091" y="13540"/>
                  <a:pt x="11067" y="13600"/>
                  <a:pt x="11063" y="13667"/>
                </a:cubicBezTo>
                <a:cubicBezTo>
                  <a:pt x="11059" y="13732"/>
                  <a:pt x="11099" y="13791"/>
                  <a:pt x="11137" y="13841"/>
                </a:cubicBezTo>
                <a:cubicBezTo>
                  <a:pt x="11192" y="13914"/>
                  <a:pt x="11269" y="13891"/>
                  <a:pt x="11336" y="13866"/>
                </a:cubicBezTo>
              </a:path>
              <a:path w="4094" h="1663">
                <a:moveTo>
                  <a:pt x="11658" y="13146"/>
                </a:moveTo>
                <a:cubicBezTo>
                  <a:pt x="11658" y="13234"/>
                  <a:pt x="11673" y="13313"/>
                  <a:pt x="11683" y="13395"/>
                </a:cubicBezTo>
                <a:cubicBezTo>
                  <a:pt x="11691" y="13461"/>
                  <a:pt x="11690" y="13557"/>
                  <a:pt x="11658" y="13618"/>
                </a:cubicBezTo>
                <a:cubicBezTo>
                  <a:pt x="11639" y="13654"/>
                  <a:pt x="11591" y="13674"/>
                  <a:pt x="11559" y="13692"/>
                </a:cubicBezTo>
              </a:path>
              <a:path w="4094" h="1663">
                <a:moveTo>
                  <a:pt x="11460" y="13444"/>
                </a:moveTo>
                <a:cubicBezTo>
                  <a:pt x="11513" y="13451"/>
                  <a:pt x="11555" y="13469"/>
                  <a:pt x="11609" y="13469"/>
                </a:cubicBezTo>
                <a:cubicBezTo>
                  <a:pt x="11714" y="13469"/>
                  <a:pt x="11746" y="13449"/>
                  <a:pt x="11832" y="13395"/>
                </a:cubicBezTo>
                <a:cubicBezTo>
                  <a:pt x="11848" y="13387"/>
                  <a:pt x="11865" y="13378"/>
                  <a:pt x="11881" y="13370"/>
                </a:cubicBezTo>
              </a:path>
              <a:path w="4094" h="1663">
                <a:moveTo>
                  <a:pt x="12105" y="12923"/>
                </a:moveTo>
                <a:cubicBezTo>
                  <a:pt x="12029" y="12953"/>
                  <a:pt x="12023" y="12978"/>
                  <a:pt x="12005" y="13047"/>
                </a:cubicBezTo>
                <a:cubicBezTo>
                  <a:pt x="11988" y="13110"/>
                  <a:pt x="11957" y="13217"/>
                  <a:pt x="11931" y="13271"/>
                </a:cubicBezTo>
                <a:cubicBezTo>
                  <a:pt x="11893" y="13350"/>
                  <a:pt x="11863" y="13402"/>
                  <a:pt x="11857" y="13494"/>
                </a:cubicBezTo>
                <a:cubicBezTo>
                  <a:pt x="11857" y="13535"/>
                  <a:pt x="11857" y="13543"/>
                  <a:pt x="11857" y="13568"/>
                </a:cubicBezTo>
                <a:cubicBezTo>
                  <a:pt x="11891" y="13525"/>
                  <a:pt x="11917" y="13483"/>
                  <a:pt x="11956" y="13444"/>
                </a:cubicBezTo>
              </a:path>
              <a:path w="4094" h="1663">
                <a:moveTo>
                  <a:pt x="12005" y="13395"/>
                </a:moveTo>
                <a:cubicBezTo>
                  <a:pt x="12050" y="13449"/>
                  <a:pt x="12055" y="13474"/>
                  <a:pt x="12055" y="13543"/>
                </a:cubicBezTo>
                <a:cubicBezTo>
                  <a:pt x="12055" y="13571"/>
                  <a:pt x="12057" y="13577"/>
                  <a:pt x="12080" y="13543"/>
                </a:cubicBezTo>
              </a:path>
              <a:path w="4094" h="1663">
                <a:moveTo>
                  <a:pt x="12328" y="13271"/>
                </a:moveTo>
                <a:cubicBezTo>
                  <a:pt x="12332" y="13285"/>
                  <a:pt x="12362" y="13395"/>
                  <a:pt x="12402" y="13345"/>
                </a:cubicBezTo>
                <a:cubicBezTo>
                  <a:pt x="12441" y="13296"/>
                  <a:pt x="12453" y="13220"/>
                  <a:pt x="12477" y="13171"/>
                </a:cubicBezTo>
                <a:cubicBezTo>
                  <a:pt x="12485" y="13163"/>
                  <a:pt x="12494" y="13154"/>
                  <a:pt x="12502" y="13146"/>
                </a:cubicBezTo>
                <a:cubicBezTo>
                  <a:pt x="12523" y="13161"/>
                  <a:pt x="12541" y="13203"/>
                  <a:pt x="12526" y="13246"/>
                </a:cubicBezTo>
                <a:cubicBezTo>
                  <a:pt x="12500" y="13322"/>
                  <a:pt x="12455" y="13352"/>
                  <a:pt x="12427" y="13419"/>
                </a:cubicBezTo>
                <a:cubicBezTo>
                  <a:pt x="12392" y="13505"/>
                  <a:pt x="12420" y="13513"/>
                  <a:pt x="12303" y="13519"/>
                </a:cubicBezTo>
                <a:cubicBezTo>
                  <a:pt x="12259" y="13519"/>
                  <a:pt x="12245" y="13522"/>
                  <a:pt x="12229" y="13494"/>
                </a:cubicBezTo>
              </a:path>
              <a:path w="4094" h="1663">
                <a:moveTo>
                  <a:pt x="12824" y="12402"/>
                </a:moveTo>
                <a:cubicBezTo>
                  <a:pt x="12797" y="12512"/>
                  <a:pt x="12799" y="12611"/>
                  <a:pt x="12799" y="12725"/>
                </a:cubicBezTo>
                <a:cubicBezTo>
                  <a:pt x="12799" y="12816"/>
                  <a:pt x="12796" y="12889"/>
                  <a:pt x="12824" y="12973"/>
                </a:cubicBezTo>
                <a:cubicBezTo>
                  <a:pt x="12835" y="13006"/>
                  <a:pt x="12872" y="13105"/>
                  <a:pt x="12849" y="13146"/>
                </a:cubicBezTo>
                <a:cubicBezTo>
                  <a:pt x="12826" y="13169"/>
                  <a:pt x="12822" y="13177"/>
                  <a:pt x="12799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57680" y="5116680"/>
            <a:ext cx="1295280" cy="366480"/>
          </a:xfrm>
          <a:custGeom>
            <a:avLst/>
            <a:gdLst/>
            <a:ahLst/>
            <a:rect l="l" t="t" r="r" b="b"/>
            <a:pathLst>
              <a:path w="3597" h="1018">
                <a:moveTo>
                  <a:pt x="8012" y="14213"/>
                </a:moveTo>
                <a:cubicBezTo>
                  <a:pt x="7962" y="14312"/>
                  <a:pt x="8022" y="14377"/>
                  <a:pt x="8037" y="14486"/>
                </a:cubicBezTo>
                <a:cubicBezTo>
                  <a:pt x="8053" y="14603"/>
                  <a:pt x="8023" y="14700"/>
                  <a:pt x="7987" y="14808"/>
                </a:cubicBezTo>
                <a:cubicBezTo>
                  <a:pt x="7962" y="14881"/>
                  <a:pt x="7938" y="15109"/>
                  <a:pt x="7938" y="15032"/>
                </a:cubicBezTo>
                <a:cubicBezTo>
                  <a:pt x="7938" y="14964"/>
                  <a:pt x="7978" y="14939"/>
                  <a:pt x="8012" y="14883"/>
                </a:cubicBezTo>
                <a:cubicBezTo>
                  <a:pt x="8065" y="14795"/>
                  <a:pt x="8099" y="14739"/>
                  <a:pt x="8186" y="14684"/>
                </a:cubicBezTo>
                <a:cubicBezTo>
                  <a:pt x="8255" y="14702"/>
                  <a:pt x="8278" y="14763"/>
                  <a:pt x="8285" y="14833"/>
                </a:cubicBezTo>
                <a:cubicBezTo>
                  <a:pt x="8293" y="14904"/>
                  <a:pt x="8298" y="14994"/>
                  <a:pt x="8260" y="15056"/>
                </a:cubicBezTo>
                <a:cubicBezTo>
                  <a:pt x="8222" y="15116"/>
                  <a:pt x="8174" y="15106"/>
                  <a:pt x="8111" y="15106"/>
                </a:cubicBezTo>
                <a:cubicBezTo>
                  <a:pt x="8034" y="15106"/>
                  <a:pt x="8021" y="15068"/>
                  <a:pt x="8012" y="15007"/>
                </a:cubicBezTo>
              </a:path>
              <a:path w="3597" h="1018">
                <a:moveTo>
                  <a:pt x="8582" y="14908"/>
                </a:moveTo>
                <a:cubicBezTo>
                  <a:pt x="8614" y="14896"/>
                  <a:pt x="8708" y="14900"/>
                  <a:pt x="8731" y="14883"/>
                </a:cubicBezTo>
                <a:cubicBezTo>
                  <a:pt x="8771" y="14854"/>
                  <a:pt x="8825" y="14751"/>
                  <a:pt x="8756" y="14709"/>
                </a:cubicBezTo>
                <a:cubicBezTo>
                  <a:pt x="8721" y="14688"/>
                  <a:pt x="8655" y="14713"/>
                  <a:pt x="8632" y="14734"/>
                </a:cubicBezTo>
                <a:cubicBezTo>
                  <a:pt x="8572" y="14787"/>
                  <a:pt x="8552" y="14800"/>
                  <a:pt x="8533" y="14883"/>
                </a:cubicBezTo>
                <a:cubicBezTo>
                  <a:pt x="8523" y="14925"/>
                  <a:pt x="8536" y="14973"/>
                  <a:pt x="8558" y="15007"/>
                </a:cubicBezTo>
                <a:cubicBezTo>
                  <a:pt x="8598" y="15069"/>
                  <a:pt x="8634" y="15103"/>
                  <a:pt x="8706" y="15131"/>
                </a:cubicBezTo>
                <a:cubicBezTo>
                  <a:pt x="8791" y="15164"/>
                  <a:pt x="8825" y="15158"/>
                  <a:pt x="8905" y="15131"/>
                </a:cubicBezTo>
              </a:path>
              <a:path w="3597" h="1018">
                <a:moveTo>
                  <a:pt x="9079" y="14759"/>
                </a:moveTo>
                <a:cubicBezTo>
                  <a:pt x="9079" y="14830"/>
                  <a:pt x="9058" y="14860"/>
                  <a:pt x="9054" y="14932"/>
                </a:cubicBezTo>
                <a:cubicBezTo>
                  <a:pt x="9050" y="15006"/>
                  <a:pt x="9054" y="15082"/>
                  <a:pt x="9054" y="15156"/>
                </a:cubicBezTo>
                <a:cubicBezTo>
                  <a:pt x="9054" y="15086"/>
                  <a:pt x="9045" y="15022"/>
                  <a:pt x="9079" y="14957"/>
                </a:cubicBezTo>
                <a:cubicBezTo>
                  <a:pt x="9108" y="14902"/>
                  <a:pt x="9149" y="14854"/>
                  <a:pt x="9203" y="14833"/>
                </a:cubicBezTo>
              </a:path>
              <a:path w="3597" h="1018">
                <a:moveTo>
                  <a:pt x="9203" y="14808"/>
                </a:moveTo>
                <a:cubicBezTo>
                  <a:pt x="9275" y="14808"/>
                  <a:pt x="9317" y="14786"/>
                  <a:pt x="9351" y="14858"/>
                </a:cubicBezTo>
                <a:cubicBezTo>
                  <a:pt x="9381" y="14921"/>
                  <a:pt x="9376" y="14966"/>
                  <a:pt x="9376" y="15032"/>
                </a:cubicBezTo>
                <a:cubicBezTo>
                  <a:pt x="9376" y="15046"/>
                  <a:pt x="9359" y="15215"/>
                  <a:pt x="9401" y="15131"/>
                </a:cubicBezTo>
                <a:cubicBezTo>
                  <a:pt x="9401" y="15123"/>
                  <a:pt x="9401" y="15114"/>
                  <a:pt x="9401" y="15106"/>
                </a:cubicBezTo>
              </a:path>
              <a:path w="3597" h="1018">
                <a:moveTo>
                  <a:pt x="9575" y="14734"/>
                </a:moveTo>
                <a:cubicBezTo>
                  <a:pt x="9618" y="14701"/>
                  <a:pt x="9682" y="14651"/>
                  <a:pt x="9748" y="14684"/>
                </a:cubicBezTo>
                <a:cubicBezTo>
                  <a:pt x="9813" y="14717"/>
                  <a:pt x="9809" y="14808"/>
                  <a:pt x="9773" y="14858"/>
                </a:cubicBezTo>
                <a:cubicBezTo>
                  <a:pt x="9725" y="14924"/>
                  <a:pt x="9670" y="14921"/>
                  <a:pt x="9624" y="14982"/>
                </a:cubicBezTo>
                <a:cubicBezTo>
                  <a:pt x="9565" y="15060"/>
                  <a:pt x="9546" y="15094"/>
                  <a:pt x="9649" y="15131"/>
                </a:cubicBezTo>
                <a:cubicBezTo>
                  <a:pt x="9706" y="15152"/>
                  <a:pt x="9810" y="15131"/>
                  <a:pt x="9872" y="15131"/>
                </a:cubicBezTo>
              </a:path>
              <a:path w="3597" h="1018">
                <a:moveTo>
                  <a:pt x="10145" y="14808"/>
                </a:moveTo>
                <a:cubicBezTo>
                  <a:pt x="10217" y="14851"/>
                  <a:pt x="10222" y="14841"/>
                  <a:pt x="10269" y="14784"/>
                </a:cubicBezTo>
                <a:cubicBezTo>
                  <a:pt x="10314" y="14729"/>
                  <a:pt x="10311" y="14666"/>
                  <a:pt x="10244" y="14635"/>
                </a:cubicBezTo>
                <a:cubicBezTo>
                  <a:pt x="10187" y="14609"/>
                  <a:pt x="10146" y="14674"/>
                  <a:pt x="10120" y="14709"/>
                </a:cubicBezTo>
                <a:cubicBezTo>
                  <a:pt x="10076" y="14771"/>
                  <a:pt x="10031" y="14841"/>
                  <a:pt x="10021" y="14908"/>
                </a:cubicBezTo>
                <a:cubicBezTo>
                  <a:pt x="10010" y="14982"/>
                  <a:pt x="10027" y="15071"/>
                  <a:pt x="10071" y="15131"/>
                </a:cubicBezTo>
                <a:cubicBezTo>
                  <a:pt x="10093" y="15161"/>
                  <a:pt x="10172" y="15249"/>
                  <a:pt x="10220" y="15230"/>
                </a:cubicBezTo>
                <a:cubicBezTo>
                  <a:pt x="10228" y="15222"/>
                  <a:pt x="10236" y="15213"/>
                  <a:pt x="10244" y="15205"/>
                </a:cubicBezTo>
              </a:path>
              <a:path w="3597" h="1018">
                <a:moveTo>
                  <a:pt x="10517" y="14759"/>
                </a:moveTo>
                <a:cubicBezTo>
                  <a:pt x="10517" y="14883"/>
                  <a:pt x="10517" y="15007"/>
                  <a:pt x="10517" y="15131"/>
                </a:cubicBezTo>
                <a:cubicBezTo>
                  <a:pt x="10546" y="15094"/>
                  <a:pt x="10575" y="15047"/>
                  <a:pt x="10592" y="15007"/>
                </a:cubicBezTo>
                <a:cubicBezTo>
                  <a:pt x="10633" y="14906"/>
                  <a:pt x="10591" y="14843"/>
                  <a:pt x="10691" y="14784"/>
                </a:cubicBezTo>
                <a:cubicBezTo>
                  <a:pt x="10750" y="14749"/>
                  <a:pt x="10764" y="14750"/>
                  <a:pt x="10790" y="14784"/>
                </a:cubicBezTo>
                <a:cubicBezTo>
                  <a:pt x="10827" y="14832"/>
                  <a:pt x="10857" y="14882"/>
                  <a:pt x="10889" y="14932"/>
                </a:cubicBezTo>
                <a:cubicBezTo>
                  <a:pt x="10918" y="14978"/>
                  <a:pt x="10999" y="15058"/>
                  <a:pt x="11013" y="15106"/>
                </a:cubicBezTo>
                <a:cubicBezTo>
                  <a:pt x="11034" y="15179"/>
                  <a:pt x="11007" y="15204"/>
                  <a:pt x="11063" y="15106"/>
                </a:cubicBezTo>
              </a:path>
              <a:path w="3597" h="1018">
                <a:moveTo>
                  <a:pt x="11162" y="14883"/>
                </a:moveTo>
                <a:cubicBezTo>
                  <a:pt x="11207" y="14866"/>
                  <a:pt x="11270" y="14842"/>
                  <a:pt x="11311" y="14833"/>
                </a:cubicBezTo>
                <a:cubicBezTo>
                  <a:pt x="11377" y="14819"/>
                  <a:pt x="11402" y="14815"/>
                  <a:pt x="11410" y="14734"/>
                </a:cubicBezTo>
                <a:cubicBezTo>
                  <a:pt x="11416" y="14676"/>
                  <a:pt x="11393" y="14665"/>
                  <a:pt x="11336" y="14660"/>
                </a:cubicBezTo>
                <a:cubicBezTo>
                  <a:pt x="11220" y="14649"/>
                  <a:pt x="11231" y="14712"/>
                  <a:pt x="11187" y="14784"/>
                </a:cubicBezTo>
                <a:cubicBezTo>
                  <a:pt x="11153" y="14840"/>
                  <a:pt x="11162" y="14887"/>
                  <a:pt x="11162" y="14957"/>
                </a:cubicBezTo>
                <a:cubicBezTo>
                  <a:pt x="11162" y="15004"/>
                  <a:pt x="11158" y="15103"/>
                  <a:pt x="11212" y="15131"/>
                </a:cubicBezTo>
                <a:cubicBezTo>
                  <a:pt x="11260" y="15155"/>
                  <a:pt x="11391" y="15120"/>
                  <a:pt x="11435" y="15106"/>
                </a:cubicBezTo>
                <a:cubicBezTo>
                  <a:pt x="11483" y="15082"/>
                  <a:pt x="11497" y="15074"/>
                  <a:pt x="11534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3120" y="250920"/>
            <a:ext cx="546120" cy="31248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843" y="843"/>
                </a:moveTo>
                <a:cubicBezTo>
                  <a:pt x="843" y="764"/>
                  <a:pt x="824" y="766"/>
                  <a:pt x="843" y="819"/>
                </a:cubicBezTo>
                <a:cubicBezTo>
                  <a:pt x="863" y="874"/>
                  <a:pt x="868" y="908"/>
                  <a:pt x="868" y="967"/>
                </a:cubicBezTo>
                <a:cubicBezTo>
                  <a:pt x="868" y="1134"/>
                  <a:pt x="880" y="1305"/>
                  <a:pt x="843" y="1463"/>
                </a:cubicBezTo>
                <a:cubicBezTo>
                  <a:pt x="837" y="1490"/>
                  <a:pt x="843" y="1538"/>
                  <a:pt x="843" y="1563"/>
                </a:cubicBezTo>
                <a:cubicBezTo>
                  <a:pt x="865" y="1496"/>
                  <a:pt x="870" y="1478"/>
                  <a:pt x="893" y="1439"/>
                </a:cubicBezTo>
              </a:path>
              <a:path w="1514" h="869">
                <a:moveTo>
                  <a:pt x="1637" y="744"/>
                </a:moveTo>
                <a:cubicBezTo>
                  <a:pt x="1553" y="696"/>
                  <a:pt x="1576" y="698"/>
                  <a:pt x="1488" y="719"/>
                </a:cubicBezTo>
                <a:cubicBezTo>
                  <a:pt x="1440" y="731"/>
                  <a:pt x="1407" y="767"/>
                  <a:pt x="1389" y="819"/>
                </a:cubicBezTo>
                <a:cubicBezTo>
                  <a:pt x="1372" y="869"/>
                  <a:pt x="1365" y="914"/>
                  <a:pt x="1339" y="967"/>
                </a:cubicBezTo>
                <a:cubicBezTo>
                  <a:pt x="1312" y="1022"/>
                  <a:pt x="1315" y="1055"/>
                  <a:pt x="1315" y="1116"/>
                </a:cubicBezTo>
                <a:cubicBezTo>
                  <a:pt x="1315" y="1181"/>
                  <a:pt x="1318" y="1216"/>
                  <a:pt x="1364" y="1265"/>
                </a:cubicBezTo>
                <a:cubicBezTo>
                  <a:pt x="1441" y="1347"/>
                  <a:pt x="1457" y="1371"/>
                  <a:pt x="1538" y="1439"/>
                </a:cubicBezTo>
                <a:cubicBezTo>
                  <a:pt x="1580" y="1474"/>
                  <a:pt x="1635" y="1507"/>
                  <a:pt x="1687" y="1513"/>
                </a:cubicBezTo>
                <a:cubicBezTo>
                  <a:pt x="1753" y="1521"/>
                  <a:pt x="1776" y="1503"/>
                  <a:pt x="1836" y="1488"/>
                </a:cubicBezTo>
                <a:cubicBezTo>
                  <a:pt x="1853" y="1484"/>
                  <a:pt x="1902" y="1419"/>
                  <a:pt x="1935" y="1389"/>
                </a:cubicBezTo>
                <a:cubicBezTo>
                  <a:pt x="1957" y="1369"/>
                  <a:pt x="2001" y="1270"/>
                  <a:pt x="2009" y="1240"/>
                </a:cubicBezTo>
                <a:cubicBezTo>
                  <a:pt x="2032" y="1155"/>
                  <a:pt x="1976" y="1137"/>
                  <a:pt x="1960" y="1067"/>
                </a:cubicBezTo>
                <a:cubicBezTo>
                  <a:pt x="1945" y="1000"/>
                  <a:pt x="1926" y="964"/>
                  <a:pt x="1860" y="918"/>
                </a:cubicBezTo>
                <a:cubicBezTo>
                  <a:pt x="1815" y="886"/>
                  <a:pt x="1816" y="810"/>
                  <a:pt x="1761" y="794"/>
                </a:cubicBezTo>
                <a:cubicBezTo>
                  <a:pt x="1754" y="792"/>
                  <a:pt x="1620" y="750"/>
                  <a:pt x="1612" y="769"/>
                </a:cubicBezTo>
                <a:cubicBezTo>
                  <a:pt x="1637" y="794"/>
                  <a:pt x="1645" y="802"/>
                  <a:pt x="1662" y="769"/>
                </a:cubicBezTo>
              </a:path>
              <a:path w="1514" h="869">
                <a:moveTo>
                  <a:pt x="2356" y="1439"/>
                </a:moveTo>
                <a:cubicBezTo>
                  <a:pt x="2318" y="1324"/>
                  <a:pt x="2264" y="1441"/>
                  <a:pt x="2282" y="1463"/>
                </a:cubicBezTo>
                <a:cubicBezTo>
                  <a:pt x="2310" y="1497"/>
                  <a:pt x="2330" y="1423"/>
                  <a:pt x="2332" y="1414"/>
                </a:cubicBezTo>
                <a:cubicBezTo>
                  <a:pt x="2268" y="1425"/>
                  <a:pt x="2264" y="1485"/>
                  <a:pt x="2307" y="14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14280" y="357120"/>
            <a:ext cx="447840" cy="330120"/>
          </a:xfrm>
          <a:custGeom>
            <a:avLst/>
            <a:gdLst/>
            <a:ahLst/>
            <a:rect l="l" t="t" r="r" b="b"/>
            <a:pathLst>
              <a:path w="1242" h="919">
                <a:moveTo>
                  <a:pt x="3795" y="1290"/>
                </a:moveTo>
                <a:cubicBezTo>
                  <a:pt x="3779" y="1240"/>
                  <a:pt x="3762" y="1220"/>
                  <a:pt x="3696" y="1215"/>
                </a:cubicBezTo>
                <a:cubicBezTo>
                  <a:pt x="3640" y="1211"/>
                  <a:pt x="3563" y="1221"/>
                  <a:pt x="3522" y="1265"/>
                </a:cubicBezTo>
                <a:cubicBezTo>
                  <a:pt x="3477" y="1314"/>
                  <a:pt x="3419" y="1397"/>
                  <a:pt x="3398" y="1463"/>
                </a:cubicBezTo>
                <a:cubicBezTo>
                  <a:pt x="3387" y="1499"/>
                  <a:pt x="3377" y="1551"/>
                  <a:pt x="3373" y="1588"/>
                </a:cubicBezTo>
                <a:cubicBezTo>
                  <a:pt x="3368" y="1640"/>
                  <a:pt x="3416" y="1703"/>
                  <a:pt x="3473" y="1687"/>
                </a:cubicBezTo>
                <a:cubicBezTo>
                  <a:pt x="3524" y="1673"/>
                  <a:pt x="3579" y="1643"/>
                  <a:pt x="3621" y="1612"/>
                </a:cubicBezTo>
                <a:cubicBezTo>
                  <a:pt x="3650" y="1591"/>
                  <a:pt x="3735" y="1501"/>
                  <a:pt x="3746" y="1463"/>
                </a:cubicBezTo>
                <a:cubicBezTo>
                  <a:pt x="3761" y="1411"/>
                  <a:pt x="3770" y="1373"/>
                  <a:pt x="3770" y="1315"/>
                </a:cubicBezTo>
                <a:cubicBezTo>
                  <a:pt x="3770" y="1323"/>
                  <a:pt x="3770" y="1331"/>
                  <a:pt x="3770" y="1339"/>
                </a:cubicBezTo>
                <a:cubicBezTo>
                  <a:pt x="3747" y="1402"/>
                  <a:pt x="3726" y="1450"/>
                  <a:pt x="3721" y="1513"/>
                </a:cubicBezTo>
                <a:cubicBezTo>
                  <a:pt x="3716" y="1573"/>
                  <a:pt x="3700" y="1627"/>
                  <a:pt x="3696" y="1687"/>
                </a:cubicBezTo>
                <a:cubicBezTo>
                  <a:pt x="3690" y="1768"/>
                  <a:pt x="3766" y="1724"/>
                  <a:pt x="3795" y="1712"/>
                </a:cubicBezTo>
                <a:cubicBezTo>
                  <a:pt x="3856" y="1692"/>
                  <a:pt x="3871" y="1694"/>
                  <a:pt x="3894" y="1662"/>
                </a:cubicBezTo>
              </a:path>
              <a:path w="1242" h="919">
                <a:moveTo>
                  <a:pt x="4018" y="1017"/>
                </a:moveTo>
                <a:cubicBezTo>
                  <a:pt x="4077" y="973"/>
                  <a:pt x="4121" y="1007"/>
                  <a:pt x="4167" y="1067"/>
                </a:cubicBezTo>
                <a:cubicBezTo>
                  <a:pt x="4224" y="1141"/>
                  <a:pt x="4313" y="1174"/>
                  <a:pt x="4390" y="1240"/>
                </a:cubicBezTo>
                <a:cubicBezTo>
                  <a:pt x="4464" y="1304"/>
                  <a:pt x="4537" y="1303"/>
                  <a:pt x="4589" y="1389"/>
                </a:cubicBezTo>
                <a:cubicBezTo>
                  <a:pt x="4630" y="1457"/>
                  <a:pt x="4619" y="1518"/>
                  <a:pt x="4589" y="1588"/>
                </a:cubicBezTo>
                <a:cubicBezTo>
                  <a:pt x="4557" y="1663"/>
                  <a:pt x="4501" y="1719"/>
                  <a:pt x="4465" y="1786"/>
                </a:cubicBezTo>
                <a:cubicBezTo>
                  <a:pt x="4452" y="1811"/>
                  <a:pt x="4395" y="1918"/>
                  <a:pt x="4341" y="1910"/>
                </a:cubicBezTo>
                <a:cubicBezTo>
                  <a:pt x="4341" y="1902"/>
                  <a:pt x="4341" y="1893"/>
                  <a:pt x="4341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98800" y="374760"/>
            <a:ext cx="1384200" cy="295200"/>
          </a:xfrm>
          <a:custGeom>
            <a:avLst/>
            <a:gdLst/>
            <a:ahLst/>
            <a:rect l="l" t="t" r="r" b="b"/>
            <a:pathLst>
              <a:path w="3846" h="819">
                <a:moveTo>
                  <a:pt x="6152" y="1290"/>
                </a:moveTo>
                <a:cubicBezTo>
                  <a:pt x="6129" y="1258"/>
                  <a:pt x="6072" y="1179"/>
                  <a:pt x="6028" y="1166"/>
                </a:cubicBezTo>
                <a:cubicBezTo>
                  <a:pt x="5976" y="1151"/>
                  <a:pt x="5901" y="1219"/>
                  <a:pt x="5879" y="1265"/>
                </a:cubicBezTo>
                <a:cubicBezTo>
                  <a:pt x="5855" y="1316"/>
                  <a:pt x="5838" y="1410"/>
                  <a:pt x="5829" y="1463"/>
                </a:cubicBezTo>
                <a:cubicBezTo>
                  <a:pt x="5821" y="1511"/>
                  <a:pt x="5864" y="1583"/>
                  <a:pt x="5904" y="1612"/>
                </a:cubicBezTo>
                <a:cubicBezTo>
                  <a:pt x="5969" y="1659"/>
                  <a:pt x="6076" y="1637"/>
                  <a:pt x="6152" y="1637"/>
                </a:cubicBezTo>
                <a:cubicBezTo>
                  <a:pt x="6242" y="1637"/>
                  <a:pt x="6315" y="1614"/>
                  <a:pt x="6400" y="1588"/>
                </a:cubicBezTo>
              </a:path>
              <a:path w="3846" h="819">
                <a:moveTo>
                  <a:pt x="6772" y="1191"/>
                </a:moveTo>
                <a:cubicBezTo>
                  <a:pt x="6772" y="1313"/>
                  <a:pt x="6766" y="1423"/>
                  <a:pt x="6747" y="1538"/>
                </a:cubicBezTo>
                <a:cubicBezTo>
                  <a:pt x="6737" y="1600"/>
                  <a:pt x="6722" y="1648"/>
                  <a:pt x="6722" y="1712"/>
                </a:cubicBezTo>
                <a:cubicBezTo>
                  <a:pt x="6722" y="1761"/>
                  <a:pt x="6722" y="1777"/>
                  <a:pt x="6722" y="1712"/>
                </a:cubicBezTo>
              </a:path>
              <a:path w="3846" h="819">
                <a:moveTo>
                  <a:pt x="7119" y="1141"/>
                </a:moveTo>
                <a:cubicBezTo>
                  <a:pt x="7113" y="1237"/>
                  <a:pt x="7094" y="1278"/>
                  <a:pt x="7094" y="1364"/>
                </a:cubicBezTo>
                <a:cubicBezTo>
                  <a:pt x="7094" y="1447"/>
                  <a:pt x="7118" y="1572"/>
                  <a:pt x="7069" y="1637"/>
                </a:cubicBezTo>
              </a:path>
              <a:path w="3846" h="819">
                <a:moveTo>
                  <a:pt x="6747" y="1414"/>
                </a:moveTo>
                <a:cubicBezTo>
                  <a:pt x="6812" y="1414"/>
                  <a:pt x="6837" y="1404"/>
                  <a:pt x="6896" y="1389"/>
                </a:cubicBezTo>
                <a:cubicBezTo>
                  <a:pt x="6954" y="1375"/>
                  <a:pt x="7034" y="1389"/>
                  <a:pt x="7094" y="1389"/>
                </a:cubicBezTo>
              </a:path>
              <a:path w="3846" h="819">
                <a:moveTo>
                  <a:pt x="7491" y="1315"/>
                </a:moveTo>
                <a:cubicBezTo>
                  <a:pt x="7603" y="1315"/>
                  <a:pt x="7715" y="1320"/>
                  <a:pt x="7813" y="1290"/>
                </a:cubicBezTo>
                <a:cubicBezTo>
                  <a:pt x="7845" y="1280"/>
                  <a:pt x="7880" y="1272"/>
                  <a:pt x="7913" y="1265"/>
                </a:cubicBezTo>
              </a:path>
              <a:path w="3846" h="819">
                <a:moveTo>
                  <a:pt x="7491" y="1563"/>
                </a:moveTo>
                <a:cubicBezTo>
                  <a:pt x="7590" y="1563"/>
                  <a:pt x="7871" y="1525"/>
                  <a:pt x="7913" y="1588"/>
                </a:cubicBezTo>
              </a:path>
              <a:path w="3846" h="819">
                <a:moveTo>
                  <a:pt x="8657" y="1091"/>
                </a:moveTo>
                <a:cubicBezTo>
                  <a:pt x="8613" y="1080"/>
                  <a:pt x="8583" y="1047"/>
                  <a:pt x="8533" y="1042"/>
                </a:cubicBezTo>
                <a:cubicBezTo>
                  <a:pt x="8491" y="1038"/>
                  <a:pt x="8388" y="1079"/>
                  <a:pt x="8359" y="1116"/>
                </a:cubicBezTo>
                <a:cubicBezTo>
                  <a:pt x="8327" y="1157"/>
                  <a:pt x="8282" y="1233"/>
                  <a:pt x="8260" y="1290"/>
                </a:cubicBezTo>
                <a:cubicBezTo>
                  <a:pt x="8225" y="1379"/>
                  <a:pt x="8235" y="1469"/>
                  <a:pt x="8235" y="1563"/>
                </a:cubicBezTo>
                <a:cubicBezTo>
                  <a:pt x="8235" y="1639"/>
                  <a:pt x="8286" y="1670"/>
                  <a:pt x="8334" y="1712"/>
                </a:cubicBezTo>
                <a:cubicBezTo>
                  <a:pt x="8391" y="1762"/>
                  <a:pt x="8457" y="1789"/>
                  <a:pt x="8533" y="1811"/>
                </a:cubicBezTo>
                <a:cubicBezTo>
                  <a:pt x="8591" y="1828"/>
                  <a:pt x="8654" y="1804"/>
                  <a:pt x="8706" y="1786"/>
                </a:cubicBezTo>
              </a:path>
              <a:path w="3846" h="819">
                <a:moveTo>
                  <a:pt x="7565" y="1860"/>
                </a:moveTo>
                <a:cubicBezTo>
                  <a:pt x="7635" y="1849"/>
                  <a:pt x="7692" y="1836"/>
                  <a:pt x="7764" y="1836"/>
                </a:cubicBezTo>
                <a:cubicBezTo>
                  <a:pt x="7825" y="1836"/>
                  <a:pt x="7864" y="1846"/>
                  <a:pt x="7913" y="1860"/>
                </a:cubicBezTo>
                <a:cubicBezTo>
                  <a:pt x="7969" y="1876"/>
                  <a:pt x="8019" y="1849"/>
                  <a:pt x="8062" y="1836"/>
                </a:cubicBezTo>
                <a:cubicBezTo>
                  <a:pt x="8109" y="1822"/>
                  <a:pt x="8141" y="1777"/>
                  <a:pt x="8111" y="1836"/>
                </a:cubicBezTo>
              </a:path>
              <a:path w="3846" h="819">
                <a:moveTo>
                  <a:pt x="9252" y="1141"/>
                </a:moveTo>
                <a:cubicBezTo>
                  <a:pt x="9216" y="1213"/>
                  <a:pt x="9190" y="1287"/>
                  <a:pt x="9178" y="1364"/>
                </a:cubicBezTo>
                <a:cubicBezTo>
                  <a:pt x="9166" y="1439"/>
                  <a:pt x="9178" y="1491"/>
                  <a:pt x="9153" y="1563"/>
                </a:cubicBezTo>
                <a:cubicBezTo>
                  <a:pt x="9133" y="1621"/>
                  <a:pt x="9089" y="1684"/>
                  <a:pt x="9079" y="1736"/>
                </a:cubicBezTo>
                <a:cubicBezTo>
                  <a:pt x="9057" y="1849"/>
                  <a:pt x="9146" y="1734"/>
                  <a:pt x="9178" y="1712"/>
                </a:cubicBezTo>
              </a:path>
              <a:path w="3846" h="819">
                <a:moveTo>
                  <a:pt x="9599" y="1067"/>
                </a:moveTo>
                <a:cubicBezTo>
                  <a:pt x="9573" y="1130"/>
                  <a:pt x="9575" y="1170"/>
                  <a:pt x="9575" y="1240"/>
                </a:cubicBezTo>
                <a:cubicBezTo>
                  <a:pt x="9575" y="1305"/>
                  <a:pt x="9559" y="1351"/>
                  <a:pt x="9550" y="1414"/>
                </a:cubicBezTo>
                <a:cubicBezTo>
                  <a:pt x="9536" y="1512"/>
                  <a:pt x="9586" y="1657"/>
                  <a:pt x="9525" y="1736"/>
                </a:cubicBezTo>
              </a:path>
              <a:path w="3846" h="819">
                <a:moveTo>
                  <a:pt x="9227" y="1389"/>
                </a:moveTo>
                <a:cubicBezTo>
                  <a:pt x="9282" y="1400"/>
                  <a:pt x="9317" y="1414"/>
                  <a:pt x="9376" y="1414"/>
                </a:cubicBezTo>
                <a:cubicBezTo>
                  <a:pt x="9466" y="1414"/>
                  <a:pt x="9518" y="1364"/>
                  <a:pt x="9599" y="1339"/>
                </a:cubicBezTo>
                <a:cubicBezTo>
                  <a:pt x="9613" y="1335"/>
                  <a:pt x="9723" y="1339"/>
                  <a:pt x="9649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02040" y="446040"/>
            <a:ext cx="233280" cy="15228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1137" y="1240"/>
                </a:moveTo>
                <a:cubicBezTo>
                  <a:pt x="11137" y="1298"/>
                  <a:pt x="11125" y="1334"/>
                  <a:pt x="11112" y="1389"/>
                </a:cubicBezTo>
                <a:cubicBezTo>
                  <a:pt x="11100" y="1440"/>
                  <a:pt x="11050" y="1482"/>
                  <a:pt x="11038" y="1538"/>
                </a:cubicBezTo>
                <a:cubicBezTo>
                  <a:pt x="11026" y="1593"/>
                  <a:pt x="11024" y="1638"/>
                  <a:pt x="10988" y="1662"/>
                </a:cubicBezTo>
              </a:path>
              <a:path w="646" h="423">
                <a:moveTo>
                  <a:pt x="10840" y="1439"/>
                </a:moveTo>
                <a:cubicBezTo>
                  <a:pt x="10891" y="1447"/>
                  <a:pt x="10936" y="1463"/>
                  <a:pt x="10988" y="1463"/>
                </a:cubicBezTo>
                <a:cubicBezTo>
                  <a:pt x="11065" y="1463"/>
                  <a:pt x="11133" y="1439"/>
                  <a:pt x="11212" y="1439"/>
                </a:cubicBezTo>
                <a:cubicBezTo>
                  <a:pt x="11280" y="1439"/>
                  <a:pt x="11322" y="1449"/>
                  <a:pt x="11385" y="1463"/>
                </a:cubicBezTo>
                <a:cubicBezTo>
                  <a:pt x="11425" y="1472"/>
                  <a:pt x="11449" y="1454"/>
                  <a:pt x="11485" y="14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40160" y="411120"/>
            <a:ext cx="731880" cy="187200"/>
          </a:xfrm>
          <a:custGeom>
            <a:avLst/>
            <a:gdLst/>
            <a:ahLst/>
            <a:rect l="l" t="t" r="r" b="b"/>
            <a:pathLst>
              <a:path w="2035" h="522">
                <a:moveTo>
                  <a:pt x="12378" y="1141"/>
                </a:moveTo>
                <a:cubicBezTo>
                  <a:pt x="12283" y="1141"/>
                  <a:pt x="12295" y="1141"/>
                  <a:pt x="12204" y="1191"/>
                </a:cubicBezTo>
                <a:cubicBezTo>
                  <a:pt x="12155" y="1218"/>
                  <a:pt x="12112" y="1266"/>
                  <a:pt x="12080" y="1315"/>
                </a:cubicBezTo>
                <a:cubicBezTo>
                  <a:pt x="12054" y="1355"/>
                  <a:pt x="12043" y="1415"/>
                  <a:pt x="12055" y="1463"/>
                </a:cubicBezTo>
                <a:cubicBezTo>
                  <a:pt x="12079" y="1559"/>
                  <a:pt x="12113" y="1604"/>
                  <a:pt x="12204" y="1637"/>
                </a:cubicBezTo>
                <a:cubicBezTo>
                  <a:pt x="12243" y="1651"/>
                  <a:pt x="12298" y="1605"/>
                  <a:pt x="12328" y="1588"/>
                </a:cubicBezTo>
                <a:cubicBezTo>
                  <a:pt x="12386" y="1555"/>
                  <a:pt x="12403" y="1542"/>
                  <a:pt x="12427" y="1488"/>
                </a:cubicBezTo>
                <a:cubicBezTo>
                  <a:pt x="12462" y="1408"/>
                  <a:pt x="12441" y="1403"/>
                  <a:pt x="12427" y="1339"/>
                </a:cubicBezTo>
                <a:cubicBezTo>
                  <a:pt x="12413" y="1275"/>
                  <a:pt x="12406" y="1283"/>
                  <a:pt x="12353" y="1240"/>
                </a:cubicBezTo>
              </a:path>
              <a:path w="2035" h="522">
                <a:moveTo>
                  <a:pt x="12824" y="1240"/>
                </a:moveTo>
                <a:cubicBezTo>
                  <a:pt x="12900" y="1286"/>
                  <a:pt x="12911" y="1250"/>
                  <a:pt x="12998" y="1240"/>
                </a:cubicBezTo>
                <a:cubicBezTo>
                  <a:pt x="13082" y="1230"/>
                  <a:pt x="13160" y="1215"/>
                  <a:pt x="13246" y="1215"/>
                </a:cubicBezTo>
                <a:cubicBezTo>
                  <a:pt x="13294" y="1215"/>
                  <a:pt x="13318" y="1196"/>
                  <a:pt x="13246" y="1240"/>
                </a:cubicBezTo>
              </a:path>
              <a:path w="2035" h="522">
                <a:moveTo>
                  <a:pt x="12750" y="1463"/>
                </a:moveTo>
                <a:cubicBezTo>
                  <a:pt x="12894" y="1463"/>
                  <a:pt x="13035" y="1469"/>
                  <a:pt x="13171" y="1439"/>
                </a:cubicBezTo>
                <a:cubicBezTo>
                  <a:pt x="13218" y="1428"/>
                  <a:pt x="13217" y="1437"/>
                  <a:pt x="13271" y="1414"/>
                </a:cubicBezTo>
              </a:path>
              <a:path w="2035" h="522">
                <a:moveTo>
                  <a:pt x="13866" y="1166"/>
                </a:moveTo>
                <a:cubicBezTo>
                  <a:pt x="13796" y="1166"/>
                  <a:pt x="13790" y="1167"/>
                  <a:pt x="13742" y="1215"/>
                </a:cubicBezTo>
                <a:cubicBezTo>
                  <a:pt x="13703" y="1254"/>
                  <a:pt x="13669" y="1302"/>
                  <a:pt x="13643" y="1339"/>
                </a:cubicBezTo>
                <a:cubicBezTo>
                  <a:pt x="13606" y="1392"/>
                  <a:pt x="13573" y="1442"/>
                  <a:pt x="13593" y="1513"/>
                </a:cubicBezTo>
                <a:cubicBezTo>
                  <a:pt x="13611" y="1578"/>
                  <a:pt x="13713" y="1642"/>
                  <a:pt x="13767" y="1662"/>
                </a:cubicBezTo>
                <a:cubicBezTo>
                  <a:pt x="13849" y="1692"/>
                  <a:pt x="13870" y="1624"/>
                  <a:pt x="13915" y="1588"/>
                </a:cubicBezTo>
                <a:cubicBezTo>
                  <a:pt x="13982" y="1534"/>
                  <a:pt x="14021" y="1544"/>
                  <a:pt x="14064" y="1463"/>
                </a:cubicBezTo>
                <a:cubicBezTo>
                  <a:pt x="14117" y="1363"/>
                  <a:pt x="14068" y="1346"/>
                  <a:pt x="14015" y="1265"/>
                </a:cubicBezTo>
                <a:cubicBezTo>
                  <a:pt x="13982" y="1215"/>
                  <a:pt x="13973" y="1181"/>
                  <a:pt x="13915" y="11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13240" y="152280"/>
            <a:ext cx="1660680" cy="803520"/>
          </a:xfrm>
          <a:custGeom>
            <a:avLst/>
            <a:gdLst/>
            <a:ahLst/>
            <a:rect l="l" t="t" r="r" b="b"/>
            <a:pathLst>
              <a:path w="4614" h="2233">
                <a:moveTo>
                  <a:pt x="14759" y="1463"/>
                </a:moveTo>
                <a:cubicBezTo>
                  <a:pt x="14829" y="1505"/>
                  <a:pt x="14922" y="1488"/>
                  <a:pt x="15007" y="1488"/>
                </a:cubicBezTo>
                <a:cubicBezTo>
                  <a:pt x="15184" y="1488"/>
                  <a:pt x="15356" y="1495"/>
                  <a:pt x="15528" y="1463"/>
                </a:cubicBezTo>
                <a:cubicBezTo>
                  <a:pt x="15562" y="1457"/>
                  <a:pt x="15593" y="1446"/>
                  <a:pt x="15627" y="1439"/>
                </a:cubicBezTo>
              </a:path>
              <a:path w="4614" h="2233">
                <a:moveTo>
                  <a:pt x="15453" y="1215"/>
                </a:moveTo>
                <a:cubicBezTo>
                  <a:pt x="15502" y="1264"/>
                  <a:pt x="15530" y="1286"/>
                  <a:pt x="15602" y="1290"/>
                </a:cubicBezTo>
                <a:cubicBezTo>
                  <a:pt x="15675" y="1294"/>
                  <a:pt x="15687" y="1314"/>
                  <a:pt x="15751" y="1339"/>
                </a:cubicBezTo>
                <a:cubicBezTo>
                  <a:pt x="15789" y="1354"/>
                  <a:pt x="15867" y="1367"/>
                  <a:pt x="15825" y="1439"/>
                </a:cubicBezTo>
                <a:cubicBezTo>
                  <a:pt x="15773" y="1529"/>
                  <a:pt x="15676" y="1559"/>
                  <a:pt x="15602" y="1612"/>
                </a:cubicBezTo>
                <a:cubicBezTo>
                  <a:pt x="15561" y="1642"/>
                  <a:pt x="15482" y="1690"/>
                  <a:pt x="15453" y="1736"/>
                </a:cubicBezTo>
                <a:cubicBezTo>
                  <a:pt x="15445" y="1753"/>
                  <a:pt x="15437" y="1769"/>
                  <a:pt x="15429" y="1786"/>
                </a:cubicBezTo>
              </a:path>
              <a:path w="4614" h="2233">
                <a:moveTo>
                  <a:pt x="17785" y="1191"/>
                </a:moveTo>
                <a:cubicBezTo>
                  <a:pt x="17681" y="1191"/>
                  <a:pt x="17675" y="1211"/>
                  <a:pt x="17587" y="1240"/>
                </a:cubicBezTo>
                <a:cubicBezTo>
                  <a:pt x="17531" y="1259"/>
                  <a:pt x="17484" y="1274"/>
                  <a:pt x="17438" y="1315"/>
                </a:cubicBezTo>
                <a:cubicBezTo>
                  <a:pt x="17402" y="1347"/>
                  <a:pt x="17354" y="1417"/>
                  <a:pt x="17338" y="1463"/>
                </a:cubicBezTo>
                <a:cubicBezTo>
                  <a:pt x="17331" y="1485"/>
                  <a:pt x="17338" y="1544"/>
                  <a:pt x="17338" y="1563"/>
                </a:cubicBezTo>
                <a:cubicBezTo>
                  <a:pt x="17414" y="1584"/>
                  <a:pt x="17468" y="1609"/>
                  <a:pt x="17562" y="1637"/>
                </a:cubicBezTo>
                <a:cubicBezTo>
                  <a:pt x="17629" y="1657"/>
                  <a:pt x="17739" y="1684"/>
                  <a:pt x="17810" y="1662"/>
                </a:cubicBezTo>
                <a:cubicBezTo>
                  <a:pt x="17818" y="1654"/>
                  <a:pt x="17827" y="1645"/>
                  <a:pt x="17835" y="1637"/>
                </a:cubicBezTo>
              </a:path>
              <a:path w="4614" h="2233">
                <a:moveTo>
                  <a:pt x="16768" y="843"/>
                </a:moveTo>
                <a:cubicBezTo>
                  <a:pt x="16827" y="843"/>
                  <a:pt x="16846" y="879"/>
                  <a:pt x="16892" y="918"/>
                </a:cubicBezTo>
                <a:cubicBezTo>
                  <a:pt x="16949" y="966"/>
                  <a:pt x="17002" y="991"/>
                  <a:pt x="17066" y="1017"/>
                </a:cubicBezTo>
                <a:cubicBezTo>
                  <a:pt x="17109" y="1039"/>
                  <a:pt x="17121" y="1043"/>
                  <a:pt x="17140" y="1067"/>
                </a:cubicBezTo>
              </a:path>
              <a:path w="4614" h="2233">
                <a:moveTo>
                  <a:pt x="16545" y="1042"/>
                </a:moveTo>
                <a:cubicBezTo>
                  <a:pt x="16592" y="1042"/>
                  <a:pt x="16614" y="1050"/>
                  <a:pt x="16644" y="1091"/>
                </a:cubicBezTo>
                <a:cubicBezTo>
                  <a:pt x="16703" y="1171"/>
                  <a:pt x="16719" y="1185"/>
                  <a:pt x="16793" y="1240"/>
                </a:cubicBezTo>
                <a:cubicBezTo>
                  <a:pt x="16845" y="1278"/>
                  <a:pt x="16905" y="1266"/>
                  <a:pt x="16942" y="1315"/>
                </a:cubicBezTo>
              </a:path>
              <a:path w="4614" h="2233">
                <a:moveTo>
                  <a:pt x="16247" y="422"/>
                </a:moveTo>
                <a:cubicBezTo>
                  <a:pt x="16121" y="467"/>
                  <a:pt x="16135" y="466"/>
                  <a:pt x="16073" y="571"/>
                </a:cubicBezTo>
                <a:cubicBezTo>
                  <a:pt x="16035" y="635"/>
                  <a:pt x="16024" y="635"/>
                  <a:pt x="16024" y="719"/>
                </a:cubicBezTo>
                <a:cubicBezTo>
                  <a:pt x="16024" y="778"/>
                  <a:pt x="16013" y="822"/>
                  <a:pt x="16049" y="868"/>
                </a:cubicBezTo>
                <a:cubicBezTo>
                  <a:pt x="16094" y="925"/>
                  <a:pt x="16128" y="963"/>
                  <a:pt x="16197" y="967"/>
                </a:cubicBezTo>
                <a:cubicBezTo>
                  <a:pt x="16247" y="970"/>
                  <a:pt x="16304" y="975"/>
                  <a:pt x="16346" y="943"/>
                </a:cubicBezTo>
                <a:cubicBezTo>
                  <a:pt x="16392" y="908"/>
                  <a:pt x="16419" y="846"/>
                  <a:pt x="16446" y="794"/>
                </a:cubicBezTo>
                <a:cubicBezTo>
                  <a:pt x="16482" y="725"/>
                  <a:pt x="16456" y="672"/>
                  <a:pt x="16396" y="620"/>
                </a:cubicBezTo>
                <a:cubicBezTo>
                  <a:pt x="16362" y="591"/>
                  <a:pt x="16227" y="562"/>
                  <a:pt x="16297" y="521"/>
                </a:cubicBezTo>
                <a:cubicBezTo>
                  <a:pt x="16313" y="513"/>
                  <a:pt x="16330" y="504"/>
                  <a:pt x="16346" y="496"/>
                </a:cubicBezTo>
              </a:path>
              <a:path w="4614" h="2233">
                <a:moveTo>
                  <a:pt x="18306" y="1761"/>
                </a:moveTo>
                <a:cubicBezTo>
                  <a:pt x="18347" y="1778"/>
                  <a:pt x="18412" y="1808"/>
                  <a:pt x="18455" y="1836"/>
                </a:cubicBezTo>
                <a:cubicBezTo>
                  <a:pt x="18493" y="1861"/>
                  <a:pt x="18545" y="1886"/>
                  <a:pt x="18579" y="1910"/>
                </a:cubicBezTo>
                <a:cubicBezTo>
                  <a:pt x="18623" y="1941"/>
                  <a:pt x="18665" y="1959"/>
                  <a:pt x="18678" y="2009"/>
                </a:cubicBezTo>
              </a:path>
              <a:path w="4614" h="2233">
                <a:moveTo>
                  <a:pt x="18033" y="1960"/>
                </a:moveTo>
                <a:cubicBezTo>
                  <a:pt x="18112" y="1960"/>
                  <a:pt x="18146" y="1977"/>
                  <a:pt x="18207" y="2034"/>
                </a:cubicBezTo>
                <a:cubicBezTo>
                  <a:pt x="18263" y="2086"/>
                  <a:pt x="18307" y="2129"/>
                  <a:pt x="18380" y="2158"/>
                </a:cubicBezTo>
                <a:cubicBezTo>
                  <a:pt x="18450" y="2186"/>
                  <a:pt x="18464" y="2171"/>
                  <a:pt x="18479" y="2232"/>
                </a:cubicBezTo>
              </a:path>
              <a:path w="4614" h="2233">
                <a:moveTo>
                  <a:pt x="19149" y="2133"/>
                </a:moveTo>
                <a:cubicBezTo>
                  <a:pt x="19074" y="2133"/>
                  <a:pt x="19052" y="2130"/>
                  <a:pt x="19000" y="2183"/>
                </a:cubicBezTo>
                <a:cubicBezTo>
                  <a:pt x="18954" y="2230"/>
                  <a:pt x="18901" y="2269"/>
                  <a:pt x="18876" y="2332"/>
                </a:cubicBezTo>
                <a:cubicBezTo>
                  <a:pt x="18857" y="2380"/>
                  <a:pt x="18852" y="2427"/>
                  <a:pt x="18852" y="2480"/>
                </a:cubicBezTo>
                <a:cubicBezTo>
                  <a:pt x="18852" y="2586"/>
                  <a:pt x="18925" y="2560"/>
                  <a:pt x="18976" y="2604"/>
                </a:cubicBezTo>
                <a:cubicBezTo>
                  <a:pt x="19043" y="2662"/>
                  <a:pt x="19039" y="2654"/>
                  <a:pt x="19124" y="2654"/>
                </a:cubicBezTo>
                <a:cubicBezTo>
                  <a:pt x="19201" y="2654"/>
                  <a:pt x="19210" y="2614"/>
                  <a:pt x="19273" y="2580"/>
                </a:cubicBezTo>
                <a:cubicBezTo>
                  <a:pt x="19350" y="2539"/>
                  <a:pt x="19351" y="2563"/>
                  <a:pt x="19372" y="2456"/>
                </a:cubicBezTo>
                <a:cubicBezTo>
                  <a:pt x="19386" y="2383"/>
                  <a:pt x="19344" y="2369"/>
                  <a:pt x="19323" y="2307"/>
                </a:cubicBezTo>
                <a:cubicBezTo>
                  <a:pt x="19311" y="2270"/>
                  <a:pt x="19286" y="2155"/>
                  <a:pt x="19248" y="2133"/>
                </a:cubicBezTo>
                <a:cubicBezTo>
                  <a:pt x="19172" y="2089"/>
                  <a:pt x="19142" y="2193"/>
                  <a:pt x="19124" y="20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75680" y="517680"/>
            <a:ext cx="206280" cy="18864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0712" y="1439"/>
                </a:moveTo>
                <a:cubicBezTo>
                  <a:pt x="20712" y="1565"/>
                  <a:pt x="20666" y="1804"/>
                  <a:pt x="20737" y="1910"/>
                </a:cubicBezTo>
                <a:cubicBezTo>
                  <a:pt x="20762" y="1935"/>
                  <a:pt x="20770" y="1943"/>
                  <a:pt x="20737" y="1960"/>
                </a:cubicBezTo>
              </a:path>
              <a:path w="571" h="522">
                <a:moveTo>
                  <a:pt x="20489" y="1687"/>
                </a:moveTo>
                <a:cubicBezTo>
                  <a:pt x="20543" y="1687"/>
                  <a:pt x="20584" y="1724"/>
                  <a:pt x="20638" y="1712"/>
                </a:cubicBezTo>
                <a:cubicBezTo>
                  <a:pt x="20730" y="1691"/>
                  <a:pt x="20811" y="1687"/>
                  <a:pt x="20910" y="1687"/>
                </a:cubicBezTo>
                <a:cubicBezTo>
                  <a:pt x="20969" y="1687"/>
                  <a:pt x="21034" y="1674"/>
                  <a:pt x="21059" y="17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796160" y="438120"/>
            <a:ext cx="955800" cy="830160"/>
          </a:xfrm>
          <a:custGeom>
            <a:avLst/>
            <a:gdLst/>
            <a:ahLst/>
            <a:rect l="l" t="t" r="r" b="b"/>
            <a:pathLst>
              <a:path w="2656" h="2308">
                <a:moveTo>
                  <a:pt x="21679" y="1215"/>
                </a:moveTo>
                <a:cubicBezTo>
                  <a:pt x="21679" y="1320"/>
                  <a:pt x="21671" y="1421"/>
                  <a:pt x="21654" y="1513"/>
                </a:cubicBezTo>
                <a:cubicBezTo>
                  <a:pt x="21642" y="1575"/>
                  <a:pt x="21620" y="1808"/>
                  <a:pt x="21679" y="1712"/>
                </a:cubicBezTo>
              </a:path>
              <a:path w="2656" h="2308">
                <a:moveTo>
                  <a:pt x="22002" y="1215"/>
                </a:moveTo>
                <a:cubicBezTo>
                  <a:pt x="21994" y="1278"/>
                  <a:pt x="21977" y="1324"/>
                  <a:pt x="21977" y="1389"/>
                </a:cubicBezTo>
                <a:cubicBezTo>
                  <a:pt x="21977" y="1480"/>
                  <a:pt x="21972" y="1551"/>
                  <a:pt x="21952" y="1637"/>
                </a:cubicBezTo>
                <a:cubicBezTo>
                  <a:pt x="21941" y="1686"/>
                  <a:pt x="21952" y="1745"/>
                  <a:pt x="21977" y="1786"/>
                </a:cubicBezTo>
                <a:cubicBezTo>
                  <a:pt x="22002" y="1811"/>
                  <a:pt x="22010" y="1819"/>
                  <a:pt x="22027" y="1836"/>
                </a:cubicBezTo>
              </a:path>
              <a:path w="2656" h="2308">
                <a:moveTo>
                  <a:pt x="21679" y="1439"/>
                </a:moveTo>
                <a:cubicBezTo>
                  <a:pt x="21716" y="1395"/>
                  <a:pt x="21736" y="1371"/>
                  <a:pt x="21803" y="1389"/>
                </a:cubicBezTo>
                <a:cubicBezTo>
                  <a:pt x="21876" y="1413"/>
                  <a:pt x="21900" y="1422"/>
                  <a:pt x="21952" y="1414"/>
                </a:cubicBezTo>
              </a:path>
              <a:path w="2656" h="2308">
                <a:moveTo>
                  <a:pt x="22423" y="1389"/>
                </a:moveTo>
                <a:cubicBezTo>
                  <a:pt x="22470" y="1354"/>
                  <a:pt x="22510" y="1364"/>
                  <a:pt x="22572" y="1364"/>
                </a:cubicBezTo>
                <a:cubicBezTo>
                  <a:pt x="22625" y="1364"/>
                  <a:pt x="22978" y="1381"/>
                  <a:pt x="22969" y="1389"/>
                </a:cubicBezTo>
                <a:cubicBezTo>
                  <a:pt x="22953" y="1397"/>
                  <a:pt x="22936" y="1406"/>
                  <a:pt x="22920" y="1414"/>
                </a:cubicBezTo>
              </a:path>
              <a:path w="2656" h="2308">
                <a:moveTo>
                  <a:pt x="23589" y="1240"/>
                </a:moveTo>
                <a:cubicBezTo>
                  <a:pt x="23524" y="1240"/>
                  <a:pt x="23459" y="1230"/>
                  <a:pt x="23416" y="1290"/>
                </a:cubicBezTo>
                <a:cubicBezTo>
                  <a:pt x="23365" y="1361"/>
                  <a:pt x="23352" y="1382"/>
                  <a:pt x="23316" y="1463"/>
                </a:cubicBezTo>
                <a:cubicBezTo>
                  <a:pt x="23289" y="1526"/>
                  <a:pt x="23277" y="1573"/>
                  <a:pt x="23316" y="1637"/>
                </a:cubicBezTo>
                <a:cubicBezTo>
                  <a:pt x="23319" y="1642"/>
                  <a:pt x="23472" y="1713"/>
                  <a:pt x="23490" y="1712"/>
                </a:cubicBezTo>
                <a:cubicBezTo>
                  <a:pt x="23575" y="1707"/>
                  <a:pt x="23640" y="1640"/>
                  <a:pt x="23664" y="1563"/>
                </a:cubicBezTo>
                <a:cubicBezTo>
                  <a:pt x="23689" y="1484"/>
                  <a:pt x="23671" y="1338"/>
                  <a:pt x="23639" y="1265"/>
                </a:cubicBezTo>
              </a:path>
              <a:path w="2656" h="2308">
                <a:moveTo>
                  <a:pt x="23639" y="1984"/>
                </a:moveTo>
                <a:cubicBezTo>
                  <a:pt x="23639" y="2045"/>
                  <a:pt x="23671" y="2076"/>
                  <a:pt x="23688" y="2133"/>
                </a:cubicBezTo>
                <a:cubicBezTo>
                  <a:pt x="23702" y="2179"/>
                  <a:pt x="23737" y="2213"/>
                  <a:pt x="23763" y="2257"/>
                </a:cubicBezTo>
                <a:cubicBezTo>
                  <a:pt x="23790" y="2303"/>
                  <a:pt x="23866" y="2375"/>
                  <a:pt x="23862" y="2431"/>
                </a:cubicBezTo>
                <a:cubicBezTo>
                  <a:pt x="23859" y="2472"/>
                  <a:pt x="23803" y="2461"/>
                  <a:pt x="23862" y="2480"/>
                </a:cubicBezTo>
              </a:path>
              <a:path w="2656" h="2308">
                <a:moveTo>
                  <a:pt x="23986" y="2704"/>
                </a:moveTo>
                <a:cubicBezTo>
                  <a:pt x="23946" y="2764"/>
                  <a:pt x="23928" y="2843"/>
                  <a:pt x="23887" y="2902"/>
                </a:cubicBezTo>
                <a:cubicBezTo>
                  <a:pt x="23827" y="2987"/>
                  <a:pt x="23805" y="3090"/>
                  <a:pt x="23738" y="3175"/>
                </a:cubicBezTo>
                <a:cubicBezTo>
                  <a:pt x="23688" y="3238"/>
                  <a:pt x="23655" y="3305"/>
                  <a:pt x="23614" y="3373"/>
                </a:cubicBezTo>
                <a:cubicBezTo>
                  <a:pt x="23589" y="3423"/>
                  <a:pt x="23581" y="3440"/>
                  <a:pt x="23614" y="3373"/>
                </a:cubicBezTo>
              </a:path>
              <a:path w="2656" h="2308">
                <a:moveTo>
                  <a:pt x="24309" y="2902"/>
                </a:moveTo>
                <a:cubicBezTo>
                  <a:pt x="24247" y="2964"/>
                  <a:pt x="24202" y="3009"/>
                  <a:pt x="24185" y="3101"/>
                </a:cubicBezTo>
                <a:cubicBezTo>
                  <a:pt x="24174" y="3161"/>
                  <a:pt x="24146" y="3211"/>
                  <a:pt x="24135" y="3274"/>
                </a:cubicBezTo>
                <a:cubicBezTo>
                  <a:pt x="24124" y="3342"/>
                  <a:pt x="24076" y="3389"/>
                  <a:pt x="24061" y="3448"/>
                </a:cubicBezTo>
                <a:cubicBezTo>
                  <a:pt x="24061" y="3499"/>
                  <a:pt x="24059" y="3517"/>
                  <a:pt x="24011" y="3522"/>
                </a:cubicBezTo>
              </a:path>
              <a:path w="2656" h="2308">
                <a:moveTo>
                  <a:pt x="23862" y="3076"/>
                </a:moveTo>
                <a:cubicBezTo>
                  <a:pt x="23914" y="3089"/>
                  <a:pt x="23963" y="3115"/>
                  <a:pt x="24011" y="3150"/>
                </a:cubicBezTo>
                <a:cubicBezTo>
                  <a:pt x="24066" y="3190"/>
                  <a:pt x="24251" y="3264"/>
                  <a:pt x="24185" y="3249"/>
                </a:cubicBezTo>
                <a:cubicBezTo>
                  <a:pt x="24168" y="3241"/>
                  <a:pt x="24152" y="3233"/>
                  <a:pt x="24135" y="32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760" y="803160"/>
            <a:ext cx="214200" cy="304920"/>
          </a:xfrm>
          <a:custGeom>
            <a:avLst/>
            <a:gdLst/>
            <a:ahLst/>
            <a:rect l="l" t="t" r="r" b="b"/>
            <a:pathLst>
              <a:path w="596" h="845">
                <a:moveTo>
                  <a:pt x="1662" y="2307"/>
                </a:moveTo>
                <a:cubicBezTo>
                  <a:pt x="1650" y="2226"/>
                  <a:pt x="1644" y="2232"/>
                  <a:pt x="1563" y="2232"/>
                </a:cubicBezTo>
                <a:cubicBezTo>
                  <a:pt x="1469" y="2232"/>
                  <a:pt x="1423" y="2280"/>
                  <a:pt x="1364" y="2356"/>
                </a:cubicBezTo>
                <a:cubicBezTo>
                  <a:pt x="1287" y="2455"/>
                  <a:pt x="1244" y="2541"/>
                  <a:pt x="1215" y="2654"/>
                </a:cubicBezTo>
                <a:cubicBezTo>
                  <a:pt x="1192" y="2746"/>
                  <a:pt x="1176" y="2814"/>
                  <a:pt x="1215" y="2902"/>
                </a:cubicBezTo>
                <a:cubicBezTo>
                  <a:pt x="1242" y="2963"/>
                  <a:pt x="1288" y="3062"/>
                  <a:pt x="1364" y="3076"/>
                </a:cubicBezTo>
                <a:cubicBezTo>
                  <a:pt x="1456" y="3093"/>
                  <a:pt x="1557" y="3038"/>
                  <a:pt x="1637" y="3001"/>
                </a:cubicBezTo>
                <a:cubicBezTo>
                  <a:pt x="1665" y="2988"/>
                  <a:pt x="1768" y="2943"/>
                  <a:pt x="1786" y="3001"/>
                </a:cubicBezTo>
                <a:cubicBezTo>
                  <a:pt x="1786" y="3018"/>
                  <a:pt x="1786" y="3034"/>
                  <a:pt x="1786" y="30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89080" y="946080"/>
            <a:ext cx="1384200" cy="482760"/>
          </a:xfrm>
          <a:custGeom>
            <a:avLst/>
            <a:gdLst/>
            <a:ahLst/>
            <a:rect l="l" t="t" r="r" b="b"/>
            <a:pathLst>
              <a:path w="3846" h="1341">
                <a:moveTo>
                  <a:pt x="5804" y="3200"/>
                </a:moveTo>
                <a:cubicBezTo>
                  <a:pt x="5903" y="3200"/>
                  <a:pt x="5982" y="3189"/>
                  <a:pt x="6077" y="3175"/>
                </a:cubicBezTo>
                <a:cubicBezTo>
                  <a:pt x="6146" y="3165"/>
                  <a:pt x="6181" y="3122"/>
                  <a:pt x="6251" y="3101"/>
                </a:cubicBezTo>
                <a:cubicBezTo>
                  <a:pt x="6297" y="3087"/>
                  <a:pt x="6308" y="3068"/>
                  <a:pt x="6325" y="3026"/>
                </a:cubicBezTo>
                <a:cubicBezTo>
                  <a:pt x="6279" y="2989"/>
                  <a:pt x="6220" y="2979"/>
                  <a:pt x="6176" y="2952"/>
                </a:cubicBezTo>
                <a:cubicBezTo>
                  <a:pt x="6134" y="2926"/>
                  <a:pt x="6060" y="2873"/>
                  <a:pt x="6003" y="2902"/>
                </a:cubicBezTo>
                <a:cubicBezTo>
                  <a:pt x="5946" y="2931"/>
                  <a:pt x="5909" y="2970"/>
                  <a:pt x="5879" y="3026"/>
                </a:cubicBezTo>
                <a:cubicBezTo>
                  <a:pt x="5851" y="3079"/>
                  <a:pt x="5854" y="3118"/>
                  <a:pt x="5854" y="3175"/>
                </a:cubicBezTo>
                <a:cubicBezTo>
                  <a:pt x="5854" y="3248"/>
                  <a:pt x="5882" y="3339"/>
                  <a:pt x="5928" y="3398"/>
                </a:cubicBezTo>
                <a:cubicBezTo>
                  <a:pt x="5992" y="3480"/>
                  <a:pt x="6104" y="3488"/>
                  <a:pt x="6201" y="3473"/>
                </a:cubicBezTo>
                <a:cubicBezTo>
                  <a:pt x="6322" y="3454"/>
                  <a:pt x="6359" y="3424"/>
                  <a:pt x="6449" y="3349"/>
                </a:cubicBezTo>
              </a:path>
              <a:path w="3846" h="1341">
                <a:moveTo>
                  <a:pt x="6921" y="2729"/>
                </a:moveTo>
                <a:cubicBezTo>
                  <a:pt x="6921" y="2906"/>
                  <a:pt x="6921" y="3077"/>
                  <a:pt x="6896" y="3249"/>
                </a:cubicBezTo>
                <a:cubicBezTo>
                  <a:pt x="6887" y="3313"/>
                  <a:pt x="6896" y="3383"/>
                  <a:pt x="6896" y="3448"/>
                </a:cubicBezTo>
              </a:path>
              <a:path w="3846" h="1341">
                <a:moveTo>
                  <a:pt x="6772" y="3051"/>
                </a:moveTo>
                <a:cubicBezTo>
                  <a:pt x="6883" y="3051"/>
                  <a:pt x="6989" y="3063"/>
                  <a:pt x="7094" y="3026"/>
                </a:cubicBezTo>
                <a:cubicBezTo>
                  <a:pt x="7194" y="2991"/>
                  <a:pt x="7315" y="2923"/>
                  <a:pt x="7392" y="2853"/>
                </a:cubicBezTo>
                <a:cubicBezTo>
                  <a:pt x="7445" y="2806"/>
                  <a:pt x="7508" y="2722"/>
                  <a:pt x="7441" y="2654"/>
                </a:cubicBezTo>
                <a:cubicBezTo>
                  <a:pt x="7390" y="2603"/>
                  <a:pt x="7300" y="2621"/>
                  <a:pt x="7268" y="2679"/>
                </a:cubicBezTo>
                <a:cubicBezTo>
                  <a:pt x="7252" y="2707"/>
                  <a:pt x="7244" y="2822"/>
                  <a:pt x="7243" y="2853"/>
                </a:cubicBezTo>
                <a:cubicBezTo>
                  <a:pt x="7238" y="2960"/>
                  <a:pt x="7268" y="3064"/>
                  <a:pt x="7268" y="3175"/>
                </a:cubicBezTo>
                <a:cubicBezTo>
                  <a:pt x="7268" y="3226"/>
                  <a:pt x="7268" y="3378"/>
                  <a:pt x="7293" y="3423"/>
                </a:cubicBezTo>
                <a:cubicBezTo>
                  <a:pt x="7309" y="3440"/>
                  <a:pt x="7326" y="3456"/>
                  <a:pt x="7342" y="3473"/>
                </a:cubicBezTo>
                <a:cubicBezTo>
                  <a:pt x="7376" y="3383"/>
                  <a:pt x="7353" y="3361"/>
                  <a:pt x="7342" y="3274"/>
                </a:cubicBezTo>
                <a:cubicBezTo>
                  <a:pt x="7333" y="3207"/>
                  <a:pt x="7369" y="3105"/>
                  <a:pt x="7441" y="3076"/>
                </a:cubicBezTo>
                <a:cubicBezTo>
                  <a:pt x="7486" y="3058"/>
                  <a:pt x="7578" y="3079"/>
                  <a:pt x="7615" y="3101"/>
                </a:cubicBezTo>
                <a:cubicBezTo>
                  <a:pt x="7653" y="3124"/>
                  <a:pt x="7729" y="3224"/>
                  <a:pt x="7739" y="3249"/>
                </a:cubicBezTo>
                <a:cubicBezTo>
                  <a:pt x="7761" y="3303"/>
                  <a:pt x="7775" y="3368"/>
                  <a:pt x="7789" y="3423"/>
                </a:cubicBezTo>
              </a:path>
              <a:path w="3846" h="1341">
                <a:moveTo>
                  <a:pt x="7913" y="3076"/>
                </a:moveTo>
                <a:lnTo>
                  <a:pt x="7913" y="3101"/>
                </a:lnTo>
                <a:lnTo>
                  <a:pt x="7913" y="3125"/>
                </a:lnTo>
                <a:lnTo>
                  <a:pt x="7962" y="3150"/>
                </a:lnTo>
                <a:lnTo>
                  <a:pt x="7962" y="3200"/>
                </a:lnTo>
                <a:lnTo>
                  <a:pt x="7962" y="3249"/>
                </a:lnTo>
                <a:lnTo>
                  <a:pt x="7962" y="3274"/>
                </a:lnTo>
                <a:lnTo>
                  <a:pt x="7962" y="3324"/>
                </a:lnTo>
                <a:lnTo>
                  <a:pt x="7987" y="3349"/>
                </a:lnTo>
                <a:lnTo>
                  <a:pt x="8012" y="3373"/>
                </a:lnTo>
                <a:lnTo>
                  <a:pt x="8062" y="3373"/>
                </a:lnTo>
                <a:lnTo>
                  <a:pt x="8086" y="3373"/>
                </a:lnTo>
                <a:lnTo>
                  <a:pt x="8111" y="3324"/>
                </a:lnTo>
                <a:lnTo>
                  <a:pt x="8161" y="3299"/>
                </a:lnTo>
                <a:lnTo>
                  <a:pt x="8161" y="3274"/>
                </a:lnTo>
                <a:lnTo>
                  <a:pt x="8186" y="3249"/>
                </a:lnTo>
                <a:lnTo>
                  <a:pt x="8210" y="3175"/>
                </a:lnTo>
                <a:lnTo>
                  <a:pt x="8210" y="3125"/>
                </a:lnTo>
                <a:lnTo>
                  <a:pt x="8210" y="3076"/>
                </a:lnTo>
                <a:lnTo>
                  <a:pt x="8210" y="3026"/>
                </a:lnTo>
                <a:lnTo>
                  <a:pt x="8210" y="3001"/>
                </a:lnTo>
                <a:lnTo>
                  <a:pt x="8210" y="3076"/>
                </a:lnTo>
                <a:lnTo>
                  <a:pt x="8210" y="3150"/>
                </a:lnTo>
                <a:lnTo>
                  <a:pt x="8210" y="3225"/>
                </a:lnTo>
                <a:lnTo>
                  <a:pt x="8235" y="3299"/>
                </a:lnTo>
                <a:lnTo>
                  <a:pt x="8260" y="3373"/>
                </a:lnTo>
                <a:lnTo>
                  <a:pt x="8285" y="3473"/>
                </a:lnTo>
                <a:lnTo>
                  <a:pt x="8310" y="3572"/>
                </a:lnTo>
                <a:lnTo>
                  <a:pt x="8310" y="3671"/>
                </a:lnTo>
                <a:lnTo>
                  <a:pt x="8334" y="3721"/>
                </a:lnTo>
                <a:lnTo>
                  <a:pt x="8334" y="3770"/>
                </a:lnTo>
                <a:lnTo>
                  <a:pt x="8334" y="3845"/>
                </a:lnTo>
                <a:lnTo>
                  <a:pt x="8334" y="3894"/>
                </a:lnTo>
                <a:lnTo>
                  <a:pt x="8310" y="3919"/>
                </a:lnTo>
                <a:lnTo>
                  <a:pt x="8285" y="3969"/>
                </a:lnTo>
                <a:lnTo>
                  <a:pt x="8210" y="3969"/>
                </a:lnTo>
                <a:lnTo>
                  <a:pt x="8161" y="3969"/>
                </a:lnTo>
                <a:lnTo>
                  <a:pt x="8111" y="3944"/>
                </a:lnTo>
                <a:lnTo>
                  <a:pt x="8062" y="3919"/>
                </a:lnTo>
                <a:lnTo>
                  <a:pt x="8037" y="3894"/>
                </a:lnTo>
                <a:lnTo>
                  <a:pt x="8037" y="3870"/>
                </a:lnTo>
                <a:lnTo>
                  <a:pt x="8037" y="3845"/>
                </a:lnTo>
                <a:lnTo>
                  <a:pt x="8037" y="3795"/>
                </a:lnTo>
              </a:path>
              <a:path w="3846" h="1341">
                <a:moveTo>
                  <a:pt x="8607" y="3076"/>
                </a:moveTo>
                <a:cubicBezTo>
                  <a:pt x="8538" y="3123"/>
                  <a:pt x="8558" y="3133"/>
                  <a:pt x="8558" y="3225"/>
                </a:cubicBezTo>
                <a:cubicBezTo>
                  <a:pt x="8558" y="3312"/>
                  <a:pt x="8602" y="3346"/>
                  <a:pt x="8607" y="3423"/>
                </a:cubicBezTo>
                <a:cubicBezTo>
                  <a:pt x="8614" y="3548"/>
                  <a:pt x="8607" y="3401"/>
                  <a:pt x="8607" y="3373"/>
                </a:cubicBezTo>
                <a:cubicBezTo>
                  <a:pt x="8607" y="3284"/>
                  <a:pt x="8617" y="3255"/>
                  <a:pt x="8657" y="3175"/>
                </a:cubicBezTo>
                <a:cubicBezTo>
                  <a:pt x="8687" y="3115"/>
                  <a:pt x="8710" y="3083"/>
                  <a:pt x="8781" y="3076"/>
                </a:cubicBezTo>
                <a:cubicBezTo>
                  <a:pt x="8845" y="3070"/>
                  <a:pt x="8867" y="3133"/>
                  <a:pt x="8880" y="3175"/>
                </a:cubicBezTo>
                <a:cubicBezTo>
                  <a:pt x="8906" y="3254"/>
                  <a:pt x="8910" y="3323"/>
                  <a:pt x="8930" y="3398"/>
                </a:cubicBezTo>
                <a:cubicBezTo>
                  <a:pt x="8954" y="3487"/>
                  <a:pt x="8936" y="3504"/>
                  <a:pt x="9004" y="3448"/>
                </a:cubicBezTo>
              </a:path>
              <a:path w="3846" h="1341">
                <a:moveTo>
                  <a:pt x="9302" y="3175"/>
                </a:moveTo>
                <a:cubicBezTo>
                  <a:pt x="9358" y="3175"/>
                  <a:pt x="9401" y="3181"/>
                  <a:pt x="9451" y="3150"/>
                </a:cubicBezTo>
                <a:cubicBezTo>
                  <a:pt x="9484" y="3129"/>
                  <a:pt x="9521" y="3087"/>
                  <a:pt x="9525" y="3051"/>
                </a:cubicBezTo>
                <a:cubicBezTo>
                  <a:pt x="9531" y="2996"/>
                  <a:pt x="9439" y="2980"/>
                  <a:pt x="9401" y="2977"/>
                </a:cubicBezTo>
                <a:cubicBezTo>
                  <a:pt x="9337" y="2972"/>
                  <a:pt x="9320" y="2983"/>
                  <a:pt x="9277" y="3026"/>
                </a:cubicBezTo>
                <a:cubicBezTo>
                  <a:pt x="9237" y="3066"/>
                  <a:pt x="9252" y="3119"/>
                  <a:pt x="9252" y="3175"/>
                </a:cubicBezTo>
                <a:cubicBezTo>
                  <a:pt x="9252" y="3245"/>
                  <a:pt x="9247" y="3287"/>
                  <a:pt x="9277" y="3349"/>
                </a:cubicBezTo>
                <a:cubicBezTo>
                  <a:pt x="9324" y="3449"/>
                  <a:pt x="9342" y="3435"/>
                  <a:pt x="9426" y="3473"/>
                </a:cubicBezTo>
                <a:cubicBezTo>
                  <a:pt x="9489" y="3502"/>
                  <a:pt x="9559" y="3468"/>
                  <a:pt x="9624" y="3423"/>
                </a:cubicBezTo>
                <a:cubicBezTo>
                  <a:pt x="9632" y="3415"/>
                  <a:pt x="9641" y="3406"/>
                  <a:pt x="9649" y="33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95880" y="1027080"/>
            <a:ext cx="1143000" cy="446040"/>
          </a:xfrm>
          <a:custGeom>
            <a:avLst/>
            <a:gdLst/>
            <a:ahLst/>
            <a:rect l="l" t="t" r="r" b="b"/>
            <a:pathLst>
              <a:path w="3176" h="1241">
                <a:moveTo>
                  <a:pt x="12179" y="2877"/>
                </a:moveTo>
                <a:cubicBezTo>
                  <a:pt x="12086" y="2868"/>
                  <a:pt x="12059" y="2884"/>
                  <a:pt x="12005" y="2977"/>
                </a:cubicBezTo>
                <a:cubicBezTo>
                  <a:pt x="11964" y="3047"/>
                  <a:pt x="11941" y="3149"/>
                  <a:pt x="11931" y="3225"/>
                </a:cubicBezTo>
                <a:cubicBezTo>
                  <a:pt x="11924" y="3278"/>
                  <a:pt x="11913" y="3405"/>
                  <a:pt x="11956" y="3448"/>
                </a:cubicBezTo>
                <a:cubicBezTo>
                  <a:pt x="12001" y="3494"/>
                  <a:pt x="12171" y="3486"/>
                  <a:pt x="12229" y="3473"/>
                </a:cubicBezTo>
                <a:cubicBezTo>
                  <a:pt x="12293" y="3458"/>
                  <a:pt x="12344" y="3414"/>
                  <a:pt x="12353" y="3349"/>
                </a:cubicBezTo>
                <a:cubicBezTo>
                  <a:pt x="12365" y="3259"/>
                  <a:pt x="12337" y="3132"/>
                  <a:pt x="12303" y="3051"/>
                </a:cubicBezTo>
                <a:cubicBezTo>
                  <a:pt x="12281" y="2998"/>
                  <a:pt x="12255" y="2965"/>
                  <a:pt x="12204" y="2952"/>
                </a:cubicBezTo>
              </a:path>
              <a:path w="3176" h="1241">
                <a:moveTo>
                  <a:pt x="12526" y="2952"/>
                </a:moveTo>
                <a:cubicBezTo>
                  <a:pt x="12586" y="3002"/>
                  <a:pt x="12629" y="3032"/>
                  <a:pt x="12675" y="3101"/>
                </a:cubicBezTo>
                <a:cubicBezTo>
                  <a:pt x="12718" y="3165"/>
                  <a:pt x="12750" y="3243"/>
                  <a:pt x="12799" y="3299"/>
                </a:cubicBezTo>
                <a:cubicBezTo>
                  <a:pt x="12836" y="3342"/>
                  <a:pt x="12880" y="3440"/>
                  <a:pt x="12923" y="3473"/>
                </a:cubicBezTo>
                <a:cubicBezTo>
                  <a:pt x="12963" y="3504"/>
                  <a:pt x="12988" y="3439"/>
                  <a:pt x="12998" y="3423"/>
                </a:cubicBezTo>
              </a:path>
              <a:path w="3176" h="1241">
                <a:moveTo>
                  <a:pt x="12948" y="3076"/>
                </a:moveTo>
                <a:cubicBezTo>
                  <a:pt x="12911" y="3158"/>
                  <a:pt x="12900" y="3243"/>
                  <a:pt x="12874" y="3324"/>
                </a:cubicBezTo>
                <a:cubicBezTo>
                  <a:pt x="12855" y="3383"/>
                  <a:pt x="12814" y="3452"/>
                  <a:pt x="12774" y="3497"/>
                </a:cubicBezTo>
                <a:cubicBezTo>
                  <a:pt x="12728" y="3548"/>
                  <a:pt x="12733" y="3521"/>
                  <a:pt x="12725" y="3473"/>
                </a:cubicBezTo>
              </a:path>
              <a:path w="3176" h="1241">
                <a:moveTo>
                  <a:pt x="13246" y="3076"/>
                </a:moveTo>
                <a:cubicBezTo>
                  <a:pt x="13163" y="3158"/>
                  <a:pt x="13171" y="3157"/>
                  <a:pt x="13171" y="3274"/>
                </a:cubicBezTo>
                <a:cubicBezTo>
                  <a:pt x="13171" y="3359"/>
                  <a:pt x="13145" y="3431"/>
                  <a:pt x="13221" y="3473"/>
                </a:cubicBezTo>
                <a:cubicBezTo>
                  <a:pt x="13285" y="3508"/>
                  <a:pt x="13328" y="3457"/>
                  <a:pt x="13370" y="3398"/>
                </a:cubicBezTo>
                <a:cubicBezTo>
                  <a:pt x="13404" y="3350"/>
                  <a:pt x="13434" y="3210"/>
                  <a:pt x="13444" y="3150"/>
                </a:cubicBezTo>
                <a:cubicBezTo>
                  <a:pt x="13444" y="3092"/>
                  <a:pt x="13444" y="3084"/>
                  <a:pt x="13444" y="3051"/>
                </a:cubicBezTo>
                <a:cubicBezTo>
                  <a:pt x="13444" y="3171"/>
                  <a:pt x="13446" y="3280"/>
                  <a:pt x="13469" y="3398"/>
                </a:cubicBezTo>
                <a:cubicBezTo>
                  <a:pt x="13499" y="3552"/>
                  <a:pt x="13551" y="3714"/>
                  <a:pt x="13568" y="3870"/>
                </a:cubicBezTo>
                <a:cubicBezTo>
                  <a:pt x="13579" y="3970"/>
                  <a:pt x="13585" y="4037"/>
                  <a:pt x="13519" y="4093"/>
                </a:cubicBezTo>
                <a:cubicBezTo>
                  <a:pt x="13460" y="4069"/>
                  <a:pt x="13396" y="4017"/>
                  <a:pt x="13345" y="3969"/>
                </a:cubicBezTo>
                <a:cubicBezTo>
                  <a:pt x="13328" y="3952"/>
                  <a:pt x="13312" y="3936"/>
                  <a:pt x="13295" y="3919"/>
                </a:cubicBezTo>
              </a:path>
              <a:path w="3176" h="1241">
                <a:moveTo>
                  <a:pt x="14089" y="3101"/>
                </a:moveTo>
                <a:cubicBezTo>
                  <a:pt x="14011" y="3072"/>
                  <a:pt x="13985" y="3073"/>
                  <a:pt x="13915" y="3101"/>
                </a:cubicBezTo>
                <a:cubicBezTo>
                  <a:pt x="13835" y="3132"/>
                  <a:pt x="13805" y="3185"/>
                  <a:pt x="13791" y="3274"/>
                </a:cubicBezTo>
                <a:cubicBezTo>
                  <a:pt x="13782" y="3334"/>
                  <a:pt x="13783" y="3379"/>
                  <a:pt x="13816" y="3423"/>
                </a:cubicBezTo>
                <a:cubicBezTo>
                  <a:pt x="13923" y="3423"/>
                  <a:pt x="13921" y="3379"/>
                  <a:pt x="13965" y="3299"/>
                </a:cubicBezTo>
                <a:cubicBezTo>
                  <a:pt x="14009" y="3219"/>
                  <a:pt x="14028" y="3147"/>
                  <a:pt x="14064" y="3076"/>
                </a:cubicBezTo>
                <a:cubicBezTo>
                  <a:pt x="14125" y="3198"/>
                  <a:pt x="14114" y="3281"/>
                  <a:pt x="14114" y="3423"/>
                </a:cubicBezTo>
                <a:cubicBezTo>
                  <a:pt x="14114" y="3600"/>
                  <a:pt x="14116" y="3776"/>
                  <a:pt x="14089" y="3944"/>
                </a:cubicBezTo>
                <a:cubicBezTo>
                  <a:pt x="14079" y="4006"/>
                  <a:pt x="14052" y="4082"/>
                  <a:pt x="13965" y="4068"/>
                </a:cubicBezTo>
                <a:cubicBezTo>
                  <a:pt x="13867" y="4052"/>
                  <a:pt x="13846" y="3976"/>
                  <a:pt x="13816" y="3919"/>
                </a:cubicBezTo>
                <a:cubicBezTo>
                  <a:pt x="13784" y="3860"/>
                  <a:pt x="13790" y="3864"/>
                  <a:pt x="13816" y="3795"/>
                </a:cubicBezTo>
              </a:path>
              <a:path w="3176" h="1241">
                <a:moveTo>
                  <a:pt x="14337" y="3398"/>
                </a:moveTo>
                <a:cubicBezTo>
                  <a:pt x="14384" y="3378"/>
                  <a:pt x="14457" y="3416"/>
                  <a:pt x="14486" y="3373"/>
                </a:cubicBezTo>
                <a:cubicBezTo>
                  <a:pt x="14534" y="3301"/>
                  <a:pt x="14564" y="3207"/>
                  <a:pt x="14486" y="3150"/>
                </a:cubicBezTo>
                <a:cubicBezTo>
                  <a:pt x="14451" y="3124"/>
                  <a:pt x="14392" y="3172"/>
                  <a:pt x="14387" y="3175"/>
                </a:cubicBezTo>
                <a:cubicBezTo>
                  <a:pt x="14317" y="3222"/>
                  <a:pt x="14312" y="3239"/>
                  <a:pt x="14312" y="3324"/>
                </a:cubicBezTo>
                <a:cubicBezTo>
                  <a:pt x="14312" y="3371"/>
                  <a:pt x="14328" y="3470"/>
                  <a:pt x="14362" y="3497"/>
                </a:cubicBezTo>
                <a:cubicBezTo>
                  <a:pt x="14397" y="3525"/>
                  <a:pt x="14461" y="3568"/>
                  <a:pt x="14511" y="3547"/>
                </a:cubicBezTo>
                <a:cubicBezTo>
                  <a:pt x="14543" y="3534"/>
                  <a:pt x="14564" y="3475"/>
                  <a:pt x="14585" y="3448"/>
                </a:cubicBezTo>
              </a:path>
              <a:path w="3176" h="1241">
                <a:moveTo>
                  <a:pt x="14759" y="3175"/>
                </a:moveTo>
                <a:cubicBezTo>
                  <a:pt x="14759" y="3241"/>
                  <a:pt x="14749" y="3286"/>
                  <a:pt x="14734" y="3349"/>
                </a:cubicBezTo>
                <a:cubicBezTo>
                  <a:pt x="14722" y="3399"/>
                  <a:pt x="14734" y="3470"/>
                  <a:pt x="14734" y="3522"/>
                </a:cubicBezTo>
                <a:cubicBezTo>
                  <a:pt x="14766" y="3499"/>
                  <a:pt x="14828" y="3398"/>
                  <a:pt x="14858" y="3349"/>
                </a:cubicBezTo>
                <a:cubicBezTo>
                  <a:pt x="14878" y="3316"/>
                  <a:pt x="14946" y="3199"/>
                  <a:pt x="15007" y="3249"/>
                </a:cubicBezTo>
                <a:cubicBezTo>
                  <a:pt x="15038" y="3274"/>
                  <a:pt x="15071" y="3383"/>
                  <a:pt x="15081" y="3423"/>
                </a:cubicBezTo>
                <a:cubicBezTo>
                  <a:pt x="15092" y="3466"/>
                  <a:pt x="15106" y="3501"/>
                  <a:pt x="15106" y="35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75200" y="982800"/>
            <a:ext cx="1135080" cy="357120"/>
          </a:xfrm>
          <a:custGeom>
            <a:avLst/>
            <a:gdLst/>
            <a:ahLst/>
            <a:rect l="l" t="t" r="r" b="b"/>
            <a:pathLst>
              <a:path w="3152" h="993">
                <a:moveTo>
                  <a:pt x="16743" y="3150"/>
                </a:moveTo>
                <a:cubicBezTo>
                  <a:pt x="16719" y="3078"/>
                  <a:pt x="16724" y="3031"/>
                  <a:pt x="16669" y="2977"/>
                </a:cubicBezTo>
                <a:cubicBezTo>
                  <a:pt x="16601" y="2909"/>
                  <a:pt x="16543" y="2861"/>
                  <a:pt x="16470" y="2952"/>
                </a:cubicBezTo>
                <a:cubicBezTo>
                  <a:pt x="16398" y="3040"/>
                  <a:pt x="16346" y="3103"/>
                  <a:pt x="16321" y="3225"/>
                </a:cubicBezTo>
                <a:cubicBezTo>
                  <a:pt x="16298" y="3338"/>
                  <a:pt x="16334" y="3405"/>
                  <a:pt x="16421" y="3473"/>
                </a:cubicBezTo>
                <a:cubicBezTo>
                  <a:pt x="16514" y="3546"/>
                  <a:pt x="16607" y="3585"/>
                  <a:pt x="16718" y="3621"/>
                </a:cubicBezTo>
              </a:path>
              <a:path w="3152" h="993">
                <a:moveTo>
                  <a:pt x="17338" y="3225"/>
                </a:moveTo>
                <a:cubicBezTo>
                  <a:pt x="17260" y="3177"/>
                  <a:pt x="17261" y="3230"/>
                  <a:pt x="17190" y="3249"/>
                </a:cubicBezTo>
                <a:cubicBezTo>
                  <a:pt x="17114" y="3269"/>
                  <a:pt x="17058" y="3301"/>
                  <a:pt x="17016" y="3373"/>
                </a:cubicBezTo>
                <a:cubicBezTo>
                  <a:pt x="16998" y="3404"/>
                  <a:pt x="16965" y="3513"/>
                  <a:pt x="16991" y="3547"/>
                </a:cubicBezTo>
                <a:cubicBezTo>
                  <a:pt x="17028" y="3595"/>
                  <a:pt x="17106" y="3579"/>
                  <a:pt x="17140" y="3547"/>
                </a:cubicBezTo>
                <a:cubicBezTo>
                  <a:pt x="17210" y="3482"/>
                  <a:pt x="17248" y="3434"/>
                  <a:pt x="17289" y="3349"/>
                </a:cubicBezTo>
                <a:cubicBezTo>
                  <a:pt x="17309" y="3308"/>
                  <a:pt x="17318" y="3302"/>
                  <a:pt x="17314" y="3274"/>
                </a:cubicBezTo>
                <a:cubicBezTo>
                  <a:pt x="17314" y="3329"/>
                  <a:pt x="17308" y="3373"/>
                  <a:pt x="17338" y="3423"/>
                </a:cubicBezTo>
                <a:cubicBezTo>
                  <a:pt x="17365" y="3467"/>
                  <a:pt x="17378" y="3521"/>
                  <a:pt x="17413" y="3547"/>
                </a:cubicBezTo>
              </a:path>
              <a:path w="3152" h="993">
                <a:moveTo>
                  <a:pt x="17636" y="3249"/>
                </a:moveTo>
                <a:cubicBezTo>
                  <a:pt x="17636" y="3340"/>
                  <a:pt x="17636" y="3431"/>
                  <a:pt x="17636" y="3522"/>
                </a:cubicBezTo>
                <a:cubicBezTo>
                  <a:pt x="17636" y="3598"/>
                  <a:pt x="17636" y="3462"/>
                  <a:pt x="17636" y="3448"/>
                </a:cubicBezTo>
                <a:cubicBezTo>
                  <a:pt x="17636" y="3386"/>
                  <a:pt x="17604" y="3211"/>
                  <a:pt x="17661" y="3175"/>
                </a:cubicBezTo>
                <a:cubicBezTo>
                  <a:pt x="17702" y="3149"/>
                  <a:pt x="17780" y="3201"/>
                  <a:pt x="17810" y="3225"/>
                </a:cubicBezTo>
                <a:cubicBezTo>
                  <a:pt x="17826" y="3241"/>
                  <a:pt x="17843" y="3258"/>
                  <a:pt x="17859" y="3274"/>
                </a:cubicBezTo>
              </a:path>
              <a:path w="3152" h="993">
                <a:moveTo>
                  <a:pt x="18231" y="2729"/>
                </a:moveTo>
                <a:cubicBezTo>
                  <a:pt x="18199" y="2867"/>
                  <a:pt x="18169" y="3010"/>
                  <a:pt x="18157" y="3150"/>
                </a:cubicBezTo>
                <a:cubicBezTo>
                  <a:pt x="18146" y="3275"/>
                  <a:pt x="18145" y="3400"/>
                  <a:pt x="18132" y="3522"/>
                </a:cubicBezTo>
                <a:cubicBezTo>
                  <a:pt x="18132" y="3590"/>
                  <a:pt x="18135" y="3609"/>
                  <a:pt x="18107" y="3646"/>
                </a:cubicBezTo>
                <a:cubicBezTo>
                  <a:pt x="18107" y="3697"/>
                  <a:pt x="18150" y="3551"/>
                  <a:pt x="18157" y="3522"/>
                </a:cubicBezTo>
                <a:cubicBezTo>
                  <a:pt x="18174" y="3452"/>
                  <a:pt x="18179" y="3388"/>
                  <a:pt x="18231" y="3349"/>
                </a:cubicBezTo>
                <a:cubicBezTo>
                  <a:pt x="18306" y="3293"/>
                  <a:pt x="18319" y="3334"/>
                  <a:pt x="18380" y="3373"/>
                </a:cubicBezTo>
                <a:cubicBezTo>
                  <a:pt x="18440" y="3412"/>
                  <a:pt x="18475" y="3461"/>
                  <a:pt x="18504" y="3522"/>
                </a:cubicBezTo>
                <a:cubicBezTo>
                  <a:pt x="18540" y="3600"/>
                  <a:pt x="18475" y="3615"/>
                  <a:pt x="18405" y="3621"/>
                </a:cubicBezTo>
                <a:cubicBezTo>
                  <a:pt x="18329" y="3627"/>
                  <a:pt x="18303" y="3627"/>
                  <a:pt x="18256" y="3572"/>
                </a:cubicBezTo>
              </a:path>
              <a:path w="3152" h="993">
                <a:moveTo>
                  <a:pt x="18901" y="3349"/>
                </a:moveTo>
                <a:cubicBezTo>
                  <a:pt x="18923" y="3305"/>
                  <a:pt x="18926" y="3293"/>
                  <a:pt x="18951" y="3274"/>
                </a:cubicBezTo>
                <a:cubicBezTo>
                  <a:pt x="18884" y="3280"/>
                  <a:pt x="18801" y="3292"/>
                  <a:pt x="18752" y="3349"/>
                </a:cubicBezTo>
                <a:cubicBezTo>
                  <a:pt x="18701" y="3409"/>
                  <a:pt x="18678" y="3471"/>
                  <a:pt x="18678" y="3547"/>
                </a:cubicBezTo>
                <a:cubicBezTo>
                  <a:pt x="18678" y="3614"/>
                  <a:pt x="18674" y="3641"/>
                  <a:pt x="18752" y="3646"/>
                </a:cubicBezTo>
                <a:cubicBezTo>
                  <a:pt x="18849" y="3652"/>
                  <a:pt x="18829" y="3620"/>
                  <a:pt x="18876" y="3547"/>
                </a:cubicBezTo>
                <a:cubicBezTo>
                  <a:pt x="18909" y="3495"/>
                  <a:pt x="18900" y="3435"/>
                  <a:pt x="18926" y="3373"/>
                </a:cubicBezTo>
              </a:path>
              <a:path w="3152" h="993">
                <a:moveTo>
                  <a:pt x="19199" y="3274"/>
                </a:moveTo>
                <a:cubicBezTo>
                  <a:pt x="19199" y="3356"/>
                  <a:pt x="19178" y="3417"/>
                  <a:pt x="19174" y="3497"/>
                </a:cubicBezTo>
                <a:cubicBezTo>
                  <a:pt x="19170" y="3571"/>
                  <a:pt x="19174" y="3647"/>
                  <a:pt x="19174" y="3721"/>
                </a:cubicBezTo>
                <a:cubicBezTo>
                  <a:pt x="19201" y="3653"/>
                  <a:pt x="19213" y="3584"/>
                  <a:pt x="19248" y="3522"/>
                </a:cubicBezTo>
                <a:cubicBezTo>
                  <a:pt x="19286" y="3456"/>
                  <a:pt x="19295" y="3406"/>
                  <a:pt x="19372" y="3398"/>
                </a:cubicBezTo>
                <a:cubicBezTo>
                  <a:pt x="19380" y="3398"/>
                  <a:pt x="19389" y="3398"/>
                  <a:pt x="19397" y="3398"/>
                </a:cubicBezTo>
                <a:cubicBezTo>
                  <a:pt x="19397" y="3488"/>
                  <a:pt x="19401" y="3540"/>
                  <a:pt x="19422" y="3621"/>
                </a:cubicBezTo>
                <a:cubicBezTo>
                  <a:pt x="19438" y="3686"/>
                  <a:pt x="19395" y="3645"/>
                  <a:pt x="19472" y="36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7760" y="1295280"/>
            <a:ext cx="287280" cy="758880"/>
          </a:xfrm>
          <a:custGeom>
            <a:avLst/>
            <a:gdLst/>
            <a:ahLst/>
            <a:rect l="l" t="t" r="r" b="b"/>
            <a:pathLst>
              <a:path w="795" h="2109">
                <a:moveTo>
                  <a:pt x="1414" y="3597"/>
                </a:moveTo>
                <a:cubicBezTo>
                  <a:pt x="1332" y="3620"/>
                  <a:pt x="1325" y="3640"/>
                  <a:pt x="1290" y="3696"/>
                </a:cubicBezTo>
                <a:cubicBezTo>
                  <a:pt x="1251" y="3758"/>
                  <a:pt x="1219" y="3794"/>
                  <a:pt x="1215" y="3870"/>
                </a:cubicBezTo>
                <a:cubicBezTo>
                  <a:pt x="1212" y="3932"/>
                  <a:pt x="1187" y="4071"/>
                  <a:pt x="1240" y="4118"/>
                </a:cubicBezTo>
                <a:cubicBezTo>
                  <a:pt x="1289" y="4161"/>
                  <a:pt x="1365" y="4181"/>
                  <a:pt x="1439" y="4167"/>
                </a:cubicBezTo>
                <a:cubicBezTo>
                  <a:pt x="1521" y="4151"/>
                  <a:pt x="1626" y="4098"/>
                  <a:pt x="1687" y="4043"/>
                </a:cubicBezTo>
                <a:cubicBezTo>
                  <a:pt x="1734" y="4001"/>
                  <a:pt x="1718" y="3920"/>
                  <a:pt x="1687" y="3870"/>
                </a:cubicBezTo>
                <a:cubicBezTo>
                  <a:pt x="1642" y="3797"/>
                  <a:pt x="1626" y="3773"/>
                  <a:pt x="1563" y="3721"/>
                </a:cubicBezTo>
                <a:cubicBezTo>
                  <a:pt x="1512" y="3679"/>
                  <a:pt x="1502" y="3659"/>
                  <a:pt x="1439" y="3646"/>
                </a:cubicBezTo>
              </a:path>
              <a:path w="795" h="2109">
                <a:moveTo>
                  <a:pt x="967" y="5680"/>
                </a:moveTo>
                <a:cubicBezTo>
                  <a:pt x="1047" y="5700"/>
                  <a:pt x="1002" y="5626"/>
                  <a:pt x="1017" y="5556"/>
                </a:cubicBezTo>
                <a:cubicBezTo>
                  <a:pt x="1050" y="5408"/>
                  <a:pt x="1086" y="5260"/>
                  <a:pt x="1116" y="5110"/>
                </a:cubicBezTo>
                <a:cubicBezTo>
                  <a:pt x="1133" y="5023"/>
                  <a:pt x="1141" y="4970"/>
                  <a:pt x="1141" y="4887"/>
                </a:cubicBezTo>
                <a:cubicBezTo>
                  <a:pt x="1141" y="4813"/>
                  <a:pt x="1141" y="5011"/>
                  <a:pt x="1141" y="5011"/>
                </a:cubicBezTo>
                <a:cubicBezTo>
                  <a:pt x="1141" y="5097"/>
                  <a:pt x="1222" y="5186"/>
                  <a:pt x="1290" y="5234"/>
                </a:cubicBezTo>
                <a:cubicBezTo>
                  <a:pt x="1329" y="5262"/>
                  <a:pt x="1415" y="5319"/>
                  <a:pt x="1463" y="5308"/>
                </a:cubicBezTo>
                <a:cubicBezTo>
                  <a:pt x="1528" y="5292"/>
                  <a:pt x="1582" y="5190"/>
                  <a:pt x="1612" y="5135"/>
                </a:cubicBezTo>
                <a:cubicBezTo>
                  <a:pt x="1650" y="5065"/>
                  <a:pt x="1618" y="4997"/>
                  <a:pt x="1662" y="4936"/>
                </a:cubicBezTo>
                <a:cubicBezTo>
                  <a:pt x="1686" y="4903"/>
                  <a:pt x="1709" y="4902"/>
                  <a:pt x="1736" y="4887"/>
                </a:cubicBezTo>
                <a:cubicBezTo>
                  <a:pt x="1772" y="4969"/>
                  <a:pt x="1761" y="5043"/>
                  <a:pt x="1761" y="5135"/>
                </a:cubicBezTo>
                <a:cubicBezTo>
                  <a:pt x="1761" y="5264"/>
                  <a:pt x="1709" y="5511"/>
                  <a:pt x="1736" y="5631"/>
                </a:cubicBezTo>
                <a:cubicBezTo>
                  <a:pt x="1736" y="5665"/>
                  <a:pt x="1741" y="5664"/>
                  <a:pt x="1761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96000" y="1411200"/>
            <a:ext cx="1177920" cy="366840"/>
          </a:xfrm>
          <a:custGeom>
            <a:avLst/>
            <a:gdLst/>
            <a:ahLst/>
            <a:rect l="l" t="t" r="r" b="b"/>
            <a:pathLst>
              <a:path w="3275" h="1018">
                <a:moveTo>
                  <a:pt x="16594" y="3919"/>
                </a:moveTo>
                <a:cubicBezTo>
                  <a:pt x="16601" y="3978"/>
                  <a:pt x="16642" y="4010"/>
                  <a:pt x="16644" y="4043"/>
                </a:cubicBezTo>
                <a:cubicBezTo>
                  <a:pt x="16649" y="4141"/>
                  <a:pt x="16629" y="4223"/>
                  <a:pt x="16619" y="4316"/>
                </a:cubicBezTo>
                <a:cubicBezTo>
                  <a:pt x="16611" y="4385"/>
                  <a:pt x="16612" y="4471"/>
                  <a:pt x="16594" y="4539"/>
                </a:cubicBezTo>
                <a:cubicBezTo>
                  <a:pt x="16586" y="4556"/>
                  <a:pt x="16578" y="4572"/>
                  <a:pt x="16570" y="4589"/>
                </a:cubicBezTo>
                <a:cubicBezTo>
                  <a:pt x="16570" y="4703"/>
                  <a:pt x="16570" y="4551"/>
                  <a:pt x="16570" y="4514"/>
                </a:cubicBezTo>
                <a:cubicBezTo>
                  <a:pt x="16570" y="4473"/>
                  <a:pt x="16524" y="4421"/>
                  <a:pt x="16495" y="4390"/>
                </a:cubicBezTo>
                <a:cubicBezTo>
                  <a:pt x="16429" y="4319"/>
                  <a:pt x="16389" y="4316"/>
                  <a:pt x="16297" y="4316"/>
                </a:cubicBezTo>
                <a:cubicBezTo>
                  <a:pt x="16191" y="4316"/>
                  <a:pt x="16189" y="4317"/>
                  <a:pt x="16123" y="4390"/>
                </a:cubicBezTo>
                <a:cubicBezTo>
                  <a:pt x="16081" y="4436"/>
                  <a:pt x="16098" y="4503"/>
                  <a:pt x="16098" y="4564"/>
                </a:cubicBezTo>
                <a:cubicBezTo>
                  <a:pt x="16098" y="4632"/>
                  <a:pt x="16174" y="4722"/>
                  <a:pt x="16247" y="4738"/>
                </a:cubicBezTo>
                <a:cubicBezTo>
                  <a:pt x="16331" y="4756"/>
                  <a:pt x="16425" y="4737"/>
                  <a:pt x="16495" y="4688"/>
                </a:cubicBezTo>
                <a:cubicBezTo>
                  <a:pt x="16520" y="4663"/>
                  <a:pt x="16528" y="4655"/>
                  <a:pt x="16545" y="4638"/>
                </a:cubicBezTo>
              </a:path>
              <a:path w="3275" h="1018">
                <a:moveTo>
                  <a:pt x="16917" y="4490"/>
                </a:moveTo>
                <a:cubicBezTo>
                  <a:pt x="16884" y="4533"/>
                  <a:pt x="16892" y="4556"/>
                  <a:pt x="16892" y="4614"/>
                </a:cubicBezTo>
                <a:cubicBezTo>
                  <a:pt x="16892" y="4689"/>
                  <a:pt x="16874" y="4756"/>
                  <a:pt x="16942" y="4688"/>
                </a:cubicBezTo>
              </a:path>
              <a:path w="3275" h="1018">
                <a:moveTo>
                  <a:pt x="16991" y="4167"/>
                </a:moveTo>
                <a:cubicBezTo>
                  <a:pt x="16999" y="4159"/>
                  <a:pt x="17008" y="4150"/>
                  <a:pt x="17016" y="4142"/>
                </a:cubicBezTo>
              </a:path>
              <a:path w="3275" h="1018">
                <a:moveTo>
                  <a:pt x="17239" y="4465"/>
                </a:moveTo>
                <a:cubicBezTo>
                  <a:pt x="17159" y="4500"/>
                  <a:pt x="17175" y="4492"/>
                  <a:pt x="17115" y="4539"/>
                </a:cubicBezTo>
                <a:cubicBezTo>
                  <a:pt x="17077" y="4569"/>
                  <a:pt x="17034" y="4597"/>
                  <a:pt x="17066" y="4663"/>
                </a:cubicBezTo>
                <a:cubicBezTo>
                  <a:pt x="17089" y="4711"/>
                  <a:pt x="17153" y="4729"/>
                  <a:pt x="17190" y="4762"/>
                </a:cubicBezTo>
                <a:cubicBezTo>
                  <a:pt x="17223" y="4792"/>
                  <a:pt x="17292" y="4803"/>
                  <a:pt x="17338" y="4787"/>
                </a:cubicBezTo>
                <a:cubicBezTo>
                  <a:pt x="17390" y="4769"/>
                  <a:pt x="17449" y="4719"/>
                  <a:pt x="17462" y="4663"/>
                </a:cubicBezTo>
                <a:cubicBezTo>
                  <a:pt x="17479" y="4589"/>
                  <a:pt x="17458" y="4543"/>
                  <a:pt x="17413" y="4490"/>
                </a:cubicBezTo>
                <a:cubicBezTo>
                  <a:pt x="17370" y="4439"/>
                  <a:pt x="17354" y="4440"/>
                  <a:pt x="17289" y="4440"/>
                </a:cubicBezTo>
                <a:cubicBezTo>
                  <a:pt x="17281" y="4440"/>
                  <a:pt x="17272" y="4440"/>
                  <a:pt x="17264" y="4440"/>
                </a:cubicBezTo>
              </a:path>
              <a:path w="3275" h="1018">
                <a:moveTo>
                  <a:pt x="17587" y="4514"/>
                </a:moveTo>
                <a:cubicBezTo>
                  <a:pt x="17690" y="4514"/>
                  <a:pt x="17690" y="4593"/>
                  <a:pt x="17735" y="4663"/>
                </a:cubicBezTo>
                <a:cubicBezTo>
                  <a:pt x="17767" y="4713"/>
                  <a:pt x="17765" y="4762"/>
                  <a:pt x="17810" y="4812"/>
                </a:cubicBezTo>
                <a:cubicBezTo>
                  <a:pt x="17872" y="4881"/>
                  <a:pt x="17884" y="4823"/>
                  <a:pt x="17884" y="4762"/>
                </a:cubicBezTo>
              </a:path>
              <a:path w="3275" h="1018">
                <a:moveTo>
                  <a:pt x="17835" y="4490"/>
                </a:moveTo>
                <a:cubicBezTo>
                  <a:pt x="17805" y="4515"/>
                  <a:pt x="17730" y="4591"/>
                  <a:pt x="17711" y="4638"/>
                </a:cubicBezTo>
                <a:cubicBezTo>
                  <a:pt x="17688" y="4694"/>
                  <a:pt x="17678" y="4704"/>
                  <a:pt x="17661" y="4762"/>
                </a:cubicBezTo>
                <a:cubicBezTo>
                  <a:pt x="17597" y="4783"/>
                  <a:pt x="17603" y="4806"/>
                  <a:pt x="17587" y="4887"/>
                </a:cubicBezTo>
              </a:path>
              <a:path w="3275" h="1018">
                <a:moveTo>
                  <a:pt x="18132" y="4663"/>
                </a:moveTo>
                <a:cubicBezTo>
                  <a:pt x="18132" y="4672"/>
                  <a:pt x="18119" y="4832"/>
                  <a:pt x="18107" y="4812"/>
                </a:cubicBezTo>
                <a:cubicBezTo>
                  <a:pt x="18107" y="4795"/>
                  <a:pt x="18107" y="4779"/>
                  <a:pt x="18107" y="4762"/>
                </a:cubicBezTo>
              </a:path>
              <a:path w="3275" h="1018">
                <a:moveTo>
                  <a:pt x="18231" y="4291"/>
                </a:moveTo>
                <a:cubicBezTo>
                  <a:pt x="18190" y="4291"/>
                  <a:pt x="18174" y="4283"/>
                  <a:pt x="18182" y="4316"/>
                </a:cubicBezTo>
              </a:path>
              <a:path w="3275" h="1018">
                <a:moveTo>
                  <a:pt x="18529" y="4638"/>
                </a:moveTo>
                <a:cubicBezTo>
                  <a:pt x="18475" y="4592"/>
                  <a:pt x="18436" y="4560"/>
                  <a:pt x="18380" y="4638"/>
                </a:cubicBezTo>
                <a:cubicBezTo>
                  <a:pt x="18342" y="4691"/>
                  <a:pt x="18288" y="4717"/>
                  <a:pt x="18281" y="4787"/>
                </a:cubicBezTo>
                <a:cubicBezTo>
                  <a:pt x="18273" y="4866"/>
                  <a:pt x="18376" y="4883"/>
                  <a:pt x="18430" y="4887"/>
                </a:cubicBezTo>
                <a:cubicBezTo>
                  <a:pt x="18503" y="4893"/>
                  <a:pt x="18518" y="4872"/>
                  <a:pt x="18554" y="4812"/>
                </a:cubicBezTo>
                <a:cubicBezTo>
                  <a:pt x="18613" y="4713"/>
                  <a:pt x="18612" y="4621"/>
                  <a:pt x="18628" y="4514"/>
                </a:cubicBezTo>
                <a:cubicBezTo>
                  <a:pt x="18645" y="4403"/>
                  <a:pt x="18653" y="4304"/>
                  <a:pt x="18653" y="4192"/>
                </a:cubicBezTo>
                <a:cubicBezTo>
                  <a:pt x="18653" y="4062"/>
                  <a:pt x="18631" y="4220"/>
                  <a:pt x="18628" y="4242"/>
                </a:cubicBezTo>
              </a:path>
              <a:path w="3275" h="1018">
                <a:moveTo>
                  <a:pt x="18827" y="4713"/>
                </a:moveTo>
                <a:cubicBezTo>
                  <a:pt x="18849" y="4726"/>
                  <a:pt x="18944" y="4765"/>
                  <a:pt x="18976" y="4738"/>
                </a:cubicBezTo>
                <a:cubicBezTo>
                  <a:pt x="19014" y="4706"/>
                  <a:pt x="19062" y="4603"/>
                  <a:pt x="19075" y="4564"/>
                </a:cubicBezTo>
                <a:cubicBezTo>
                  <a:pt x="19028" y="4529"/>
                  <a:pt x="18990" y="4539"/>
                  <a:pt x="18926" y="4539"/>
                </a:cubicBezTo>
                <a:cubicBezTo>
                  <a:pt x="18874" y="4539"/>
                  <a:pt x="18815" y="4589"/>
                  <a:pt x="18802" y="4638"/>
                </a:cubicBezTo>
                <a:cubicBezTo>
                  <a:pt x="18786" y="4696"/>
                  <a:pt x="18811" y="4763"/>
                  <a:pt x="18827" y="4787"/>
                </a:cubicBezTo>
                <a:cubicBezTo>
                  <a:pt x="18878" y="4863"/>
                  <a:pt x="18961" y="4880"/>
                  <a:pt x="19050" y="4911"/>
                </a:cubicBezTo>
                <a:cubicBezTo>
                  <a:pt x="19125" y="4937"/>
                  <a:pt x="19227" y="4962"/>
                  <a:pt x="19298" y="4911"/>
                </a:cubicBezTo>
                <a:cubicBezTo>
                  <a:pt x="19340" y="4870"/>
                  <a:pt x="19348" y="4862"/>
                  <a:pt x="19372" y="48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31040" y="1347840"/>
            <a:ext cx="162000" cy="189000"/>
          </a:xfrm>
          <a:custGeom>
            <a:avLst/>
            <a:gdLst/>
            <a:ahLst/>
            <a:rect l="l" t="t" r="r" b="b"/>
            <a:pathLst>
              <a:path w="447" h="521">
                <a:moveTo>
                  <a:pt x="20538" y="3746"/>
                </a:moveTo>
                <a:cubicBezTo>
                  <a:pt x="20538" y="3812"/>
                  <a:pt x="20575" y="3853"/>
                  <a:pt x="20588" y="3919"/>
                </a:cubicBezTo>
                <a:cubicBezTo>
                  <a:pt x="20604" y="4001"/>
                  <a:pt x="20611" y="4296"/>
                  <a:pt x="20563" y="4217"/>
                </a:cubicBezTo>
              </a:path>
              <a:path w="447" h="521">
                <a:moveTo>
                  <a:pt x="20365" y="4068"/>
                </a:moveTo>
                <a:cubicBezTo>
                  <a:pt x="20416" y="4094"/>
                  <a:pt x="20441" y="4126"/>
                  <a:pt x="20513" y="4142"/>
                </a:cubicBezTo>
                <a:cubicBezTo>
                  <a:pt x="20557" y="4152"/>
                  <a:pt x="20650" y="4135"/>
                  <a:pt x="20687" y="4118"/>
                </a:cubicBezTo>
                <a:cubicBezTo>
                  <a:pt x="20735" y="4096"/>
                  <a:pt x="20753" y="4068"/>
                  <a:pt x="20811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34160" y="1268280"/>
            <a:ext cx="974880" cy="312840"/>
          </a:xfrm>
          <a:custGeom>
            <a:avLst/>
            <a:gdLst/>
            <a:ahLst/>
            <a:rect l="l" t="t" r="r" b="b"/>
            <a:pathLst>
              <a:path w="2705" h="869">
                <a:moveTo>
                  <a:pt x="21208" y="3820"/>
                </a:moveTo>
                <a:cubicBezTo>
                  <a:pt x="21208" y="3954"/>
                  <a:pt x="21154" y="4236"/>
                  <a:pt x="21233" y="4341"/>
                </a:cubicBezTo>
                <a:cubicBezTo>
                  <a:pt x="21273" y="4312"/>
                  <a:pt x="21365" y="4243"/>
                  <a:pt x="21382" y="4192"/>
                </a:cubicBezTo>
                <a:cubicBezTo>
                  <a:pt x="21396" y="4150"/>
                  <a:pt x="21399" y="4088"/>
                  <a:pt x="21406" y="4043"/>
                </a:cubicBezTo>
                <a:cubicBezTo>
                  <a:pt x="21412" y="4107"/>
                  <a:pt x="21431" y="4155"/>
                  <a:pt x="21431" y="4217"/>
                </a:cubicBezTo>
                <a:cubicBezTo>
                  <a:pt x="21431" y="4273"/>
                  <a:pt x="21474" y="4312"/>
                  <a:pt x="21530" y="4316"/>
                </a:cubicBezTo>
                <a:cubicBezTo>
                  <a:pt x="21636" y="4324"/>
                  <a:pt x="21630" y="4263"/>
                  <a:pt x="21679" y="4192"/>
                </a:cubicBezTo>
                <a:cubicBezTo>
                  <a:pt x="21716" y="4139"/>
                  <a:pt x="21704" y="4086"/>
                  <a:pt x="21704" y="4018"/>
                </a:cubicBezTo>
                <a:cubicBezTo>
                  <a:pt x="21704" y="3962"/>
                  <a:pt x="21679" y="3925"/>
                  <a:pt x="21679" y="3870"/>
                </a:cubicBezTo>
              </a:path>
              <a:path w="2705" h="869">
                <a:moveTo>
                  <a:pt x="22250" y="4093"/>
                </a:moveTo>
                <a:cubicBezTo>
                  <a:pt x="22244" y="4009"/>
                  <a:pt x="22252" y="3940"/>
                  <a:pt x="22151" y="3919"/>
                </a:cubicBezTo>
                <a:cubicBezTo>
                  <a:pt x="22063" y="3901"/>
                  <a:pt x="22072" y="3940"/>
                  <a:pt x="22027" y="3994"/>
                </a:cubicBezTo>
                <a:cubicBezTo>
                  <a:pt x="21966" y="4068"/>
                  <a:pt x="21942" y="4123"/>
                  <a:pt x="21927" y="4217"/>
                </a:cubicBezTo>
                <a:cubicBezTo>
                  <a:pt x="21920" y="4263"/>
                  <a:pt x="21927" y="4319"/>
                  <a:pt x="21927" y="4366"/>
                </a:cubicBezTo>
                <a:cubicBezTo>
                  <a:pt x="21988" y="4381"/>
                  <a:pt x="22051" y="4374"/>
                  <a:pt x="22101" y="4316"/>
                </a:cubicBezTo>
                <a:cubicBezTo>
                  <a:pt x="22141" y="4270"/>
                  <a:pt x="22214" y="4182"/>
                  <a:pt x="22225" y="4118"/>
                </a:cubicBezTo>
                <a:cubicBezTo>
                  <a:pt x="22231" y="4083"/>
                  <a:pt x="22225" y="4032"/>
                  <a:pt x="22225" y="3994"/>
                </a:cubicBezTo>
                <a:cubicBezTo>
                  <a:pt x="22253" y="4057"/>
                  <a:pt x="22250" y="4096"/>
                  <a:pt x="22250" y="4167"/>
                </a:cubicBezTo>
                <a:cubicBezTo>
                  <a:pt x="22250" y="4233"/>
                  <a:pt x="22258" y="4261"/>
                  <a:pt x="22299" y="4316"/>
                </a:cubicBezTo>
                <a:cubicBezTo>
                  <a:pt x="22348" y="4382"/>
                  <a:pt x="22379" y="4367"/>
                  <a:pt x="22448" y="4341"/>
                </a:cubicBezTo>
              </a:path>
              <a:path w="2705" h="869">
                <a:moveTo>
                  <a:pt x="22647" y="3522"/>
                </a:moveTo>
                <a:cubicBezTo>
                  <a:pt x="22647" y="3758"/>
                  <a:pt x="22608" y="4049"/>
                  <a:pt x="22671" y="4266"/>
                </a:cubicBezTo>
                <a:cubicBezTo>
                  <a:pt x="22671" y="4299"/>
                  <a:pt x="22671" y="4299"/>
                  <a:pt x="22671" y="4242"/>
                </a:cubicBezTo>
              </a:path>
              <a:path w="2705" h="869">
                <a:moveTo>
                  <a:pt x="22423" y="3919"/>
                </a:moveTo>
                <a:cubicBezTo>
                  <a:pt x="22474" y="3950"/>
                  <a:pt x="22557" y="3957"/>
                  <a:pt x="22622" y="3944"/>
                </a:cubicBezTo>
                <a:cubicBezTo>
                  <a:pt x="22735" y="3922"/>
                  <a:pt x="22792" y="3889"/>
                  <a:pt x="22895" y="3845"/>
                </a:cubicBezTo>
                <a:cubicBezTo>
                  <a:pt x="22961" y="3816"/>
                  <a:pt x="22910" y="3885"/>
                  <a:pt x="22969" y="3795"/>
                </a:cubicBezTo>
              </a:path>
              <a:path w="2705" h="869">
                <a:moveTo>
                  <a:pt x="23068" y="4018"/>
                </a:moveTo>
                <a:cubicBezTo>
                  <a:pt x="23092" y="4054"/>
                  <a:pt x="23160" y="4053"/>
                  <a:pt x="23192" y="3994"/>
                </a:cubicBezTo>
                <a:cubicBezTo>
                  <a:pt x="23222" y="3940"/>
                  <a:pt x="23191" y="3863"/>
                  <a:pt x="23143" y="3845"/>
                </a:cubicBezTo>
                <a:cubicBezTo>
                  <a:pt x="23078" y="3821"/>
                  <a:pt x="23023" y="3911"/>
                  <a:pt x="22994" y="3944"/>
                </a:cubicBezTo>
                <a:cubicBezTo>
                  <a:pt x="22944" y="4001"/>
                  <a:pt x="22896" y="4048"/>
                  <a:pt x="22870" y="4118"/>
                </a:cubicBezTo>
                <a:cubicBezTo>
                  <a:pt x="22845" y="4187"/>
                  <a:pt x="22877" y="4223"/>
                  <a:pt x="22920" y="4266"/>
                </a:cubicBezTo>
                <a:cubicBezTo>
                  <a:pt x="22974" y="4320"/>
                  <a:pt x="23016" y="4337"/>
                  <a:pt x="23093" y="4341"/>
                </a:cubicBezTo>
                <a:cubicBezTo>
                  <a:pt x="23155" y="4344"/>
                  <a:pt x="23161" y="4340"/>
                  <a:pt x="23217" y="4316"/>
                </a:cubicBezTo>
              </a:path>
              <a:path w="2705" h="869">
                <a:moveTo>
                  <a:pt x="23391" y="3944"/>
                </a:moveTo>
                <a:cubicBezTo>
                  <a:pt x="23391" y="4076"/>
                  <a:pt x="23391" y="4209"/>
                  <a:pt x="23391" y="4341"/>
                </a:cubicBezTo>
                <a:cubicBezTo>
                  <a:pt x="23420" y="4268"/>
                  <a:pt x="23435" y="4215"/>
                  <a:pt x="23465" y="4142"/>
                </a:cubicBezTo>
                <a:cubicBezTo>
                  <a:pt x="23491" y="4078"/>
                  <a:pt x="23469" y="3980"/>
                  <a:pt x="23540" y="3944"/>
                </a:cubicBezTo>
                <a:cubicBezTo>
                  <a:pt x="23589" y="3920"/>
                  <a:pt x="23647" y="3962"/>
                  <a:pt x="23688" y="3969"/>
                </a:cubicBezTo>
                <a:cubicBezTo>
                  <a:pt x="23723" y="3975"/>
                  <a:pt x="23840" y="4002"/>
                  <a:pt x="23862" y="3994"/>
                </a:cubicBezTo>
                <a:cubicBezTo>
                  <a:pt x="23945" y="3964"/>
                  <a:pt x="23889" y="3921"/>
                  <a:pt x="23862" y="38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7760" y="2303640"/>
            <a:ext cx="260280" cy="750600"/>
          </a:xfrm>
          <a:custGeom>
            <a:avLst/>
            <a:gdLst/>
            <a:ahLst/>
            <a:rect l="l" t="t" r="r" b="b"/>
            <a:pathLst>
              <a:path w="721" h="2084">
                <a:moveTo>
                  <a:pt x="1215" y="6697"/>
                </a:moveTo>
                <a:cubicBezTo>
                  <a:pt x="1215" y="6753"/>
                  <a:pt x="1197" y="6795"/>
                  <a:pt x="1191" y="6846"/>
                </a:cubicBezTo>
                <a:cubicBezTo>
                  <a:pt x="1178" y="6948"/>
                  <a:pt x="1159" y="7043"/>
                  <a:pt x="1141" y="7144"/>
                </a:cubicBezTo>
                <a:cubicBezTo>
                  <a:pt x="1134" y="7181"/>
                  <a:pt x="1112" y="7207"/>
                  <a:pt x="1091" y="7243"/>
                </a:cubicBezTo>
                <a:cubicBezTo>
                  <a:pt x="1116" y="7169"/>
                  <a:pt x="1125" y="7144"/>
                  <a:pt x="1141" y="7094"/>
                </a:cubicBezTo>
              </a:path>
              <a:path w="721" h="2084">
                <a:moveTo>
                  <a:pt x="1091" y="6573"/>
                </a:moveTo>
                <a:cubicBezTo>
                  <a:pt x="1091" y="6480"/>
                  <a:pt x="1152" y="6463"/>
                  <a:pt x="1240" y="6424"/>
                </a:cubicBezTo>
                <a:cubicBezTo>
                  <a:pt x="1281" y="6406"/>
                  <a:pt x="1417" y="6375"/>
                  <a:pt x="1463" y="6400"/>
                </a:cubicBezTo>
                <a:cubicBezTo>
                  <a:pt x="1515" y="6429"/>
                  <a:pt x="1557" y="6465"/>
                  <a:pt x="1563" y="6524"/>
                </a:cubicBezTo>
                <a:cubicBezTo>
                  <a:pt x="1569" y="6586"/>
                  <a:pt x="1503" y="6632"/>
                  <a:pt x="1463" y="6672"/>
                </a:cubicBezTo>
                <a:cubicBezTo>
                  <a:pt x="1417" y="6719"/>
                  <a:pt x="1375" y="6738"/>
                  <a:pt x="1315" y="6747"/>
                </a:cubicBezTo>
                <a:cubicBezTo>
                  <a:pt x="1368" y="6740"/>
                  <a:pt x="1432" y="6705"/>
                  <a:pt x="1488" y="6722"/>
                </a:cubicBezTo>
                <a:cubicBezTo>
                  <a:pt x="1553" y="6741"/>
                  <a:pt x="1577" y="6778"/>
                  <a:pt x="1612" y="6821"/>
                </a:cubicBezTo>
                <a:cubicBezTo>
                  <a:pt x="1645" y="6861"/>
                  <a:pt x="1710" y="6906"/>
                  <a:pt x="1687" y="6970"/>
                </a:cubicBezTo>
                <a:cubicBezTo>
                  <a:pt x="1668" y="7022"/>
                  <a:pt x="1602" y="7080"/>
                  <a:pt x="1563" y="7119"/>
                </a:cubicBezTo>
                <a:cubicBezTo>
                  <a:pt x="1495" y="7187"/>
                  <a:pt x="1441" y="7204"/>
                  <a:pt x="1364" y="7243"/>
                </a:cubicBezTo>
                <a:cubicBezTo>
                  <a:pt x="1306" y="7272"/>
                  <a:pt x="1251" y="7287"/>
                  <a:pt x="1191" y="7243"/>
                </a:cubicBezTo>
                <a:cubicBezTo>
                  <a:pt x="1183" y="7235"/>
                  <a:pt x="1174" y="7226"/>
                  <a:pt x="1166" y="7218"/>
                </a:cubicBezTo>
              </a:path>
              <a:path w="721" h="2084">
                <a:moveTo>
                  <a:pt x="1042" y="8012"/>
                </a:moveTo>
                <a:cubicBezTo>
                  <a:pt x="1042" y="8067"/>
                  <a:pt x="1020" y="8105"/>
                  <a:pt x="1017" y="8161"/>
                </a:cubicBezTo>
                <a:cubicBezTo>
                  <a:pt x="1014" y="8219"/>
                  <a:pt x="974" y="8261"/>
                  <a:pt x="967" y="8310"/>
                </a:cubicBezTo>
                <a:cubicBezTo>
                  <a:pt x="961" y="8347"/>
                  <a:pt x="956" y="8452"/>
                  <a:pt x="992" y="8483"/>
                </a:cubicBezTo>
                <a:cubicBezTo>
                  <a:pt x="1045" y="8528"/>
                  <a:pt x="1137" y="8436"/>
                  <a:pt x="1166" y="8409"/>
                </a:cubicBezTo>
                <a:cubicBezTo>
                  <a:pt x="1224" y="8355"/>
                  <a:pt x="1262" y="8293"/>
                  <a:pt x="1315" y="8235"/>
                </a:cubicBezTo>
                <a:cubicBezTo>
                  <a:pt x="1353" y="8193"/>
                  <a:pt x="1383" y="8118"/>
                  <a:pt x="1389" y="8062"/>
                </a:cubicBezTo>
                <a:cubicBezTo>
                  <a:pt x="1399" y="7966"/>
                  <a:pt x="1385" y="7994"/>
                  <a:pt x="1364" y="8062"/>
                </a:cubicBezTo>
                <a:cubicBezTo>
                  <a:pt x="1348" y="8115"/>
                  <a:pt x="1356" y="8182"/>
                  <a:pt x="1339" y="8235"/>
                </a:cubicBezTo>
                <a:cubicBezTo>
                  <a:pt x="1320" y="8294"/>
                  <a:pt x="1315" y="8320"/>
                  <a:pt x="1315" y="8384"/>
                </a:cubicBezTo>
                <a:cubicBezTo>
                  <a:pt x="1315" y="8483"/>
                  <a:pt x="1423" y="8458"/>
                  <a:pt x="1488" y="8458"/>
                </a:cubicBezTo>
                <a:cubicBezTo>
                  <a:pt x="1505" y="8458"/>
                  <a:pt x="1521" y="8458"/>
                  <a:pt x="1538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4840" y="2295360"/>
            <a:ext cx="250920" cy="40176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3870" y="6375"/>
                </a:moveTo>
                <a:cubicBezTo>
                  <a:pt x="3870" y="6681"/>
                  <a:pt x="3870" y="6987"/>
                  <a:pt x="3870" y="7293"/>
                </a:cubicBezTo>
                <a:cubicBezTo>
                  <a:pt x="3844" y="7232"/>
                  <a:pt x="3845" y="7210"/>
                  <a:pt x="3845" y="7144"/>
                </a:cubicBezTo>
                <a:cubicBezTo>
                  <a:pt x="3845" y="7077"/>
                  <a:pt x="3841" y="7025"/>
                  <a:pt x="3870" y="6970"/>
                </a:cubicBezTo>
                <a:cubicBezTo>
                  <a:pt x="3905" y="6904"/>
                  <a:pt x="3919" y="6875"/>
                  <a:pt x="3994" y="6871"/>
                </a:cubicBezTo>
                <a:cubicBezTo>
                  <a:pt x="4044" y="6868"/>
                  <a:pt x="4087" y="6941"/>
                  <a:pt x="4118" y="6995"/>
                </a:cubicBezTo>
                <a:cubicBezTo>
                  <a:pt x="4139" y="7032"/>
                  <a:pt x="4184" y="7097"/>
                  <a:pt x="4167" y="7144"/>
                </a:cubicBezTo>
                <a:cubicBezTo>
                  <a:pt x="4141" y="7216"/>
                  <a:pt x="4052" y="7249"/>
                  <a:pt x="3994" y="7293"/>
                </a:cubicBezTo>
                <a:cubicBezTo>
                  <a:pt x="3925" y="7345"/>
                  <a:pt x="3891" y="7318"/>
                  <a:pt x="3845" y="7268"/>
                </a:cubicBezTo>
                <a:cubicBezTo>
                  <a:pt x="3837" y="7260"/>
                  <a:pt x="3828" y="7251"/>
                  <a:pt x="3820" y="7243"/>
                </a:cubicBezTo>
              </a:path>
              <a:path w="695" h="1117">
                <a:moveTo>
                  <a:pt x="4316" y="6871"/>
                </a:moveTo>
                <a:cubicBezTo>
                  <a:pt x="4368" y="6892"/>
                  <a:pt x="4435" y="6965"/>
                  <a:pt x="4465" y="7020"/>
                </a:cubicBezTo>
                <a:cubicBezTo>
                  <a:pt x="4488" y="7063"/>
                  <a:pt x="4510" y="7120"/>
                  <a:pt x="4514" y="7169"/>
                </a:cubicBezTo>
                <a:cubicBezTo>
                  <a:pt x="4518" y="7220"/>
                  <a:pt x="4514" y="7271"/>
                  <a:pt x="4490" y="7317"/>
                </a:cubicBezTo>
                <a:cubicBezTo>
                  <a:pt x="4463" y="7369"/>
                  <a:pt x="4405" y="7406"/>
                  <a:pt x="4366" y="7441"/>
                </a:cubicBezTo>
                <a:cubicBezTo>
                  <a:pt x="4300" y="7499"/>
                  <a:pt x="4304" y="7519"/>
                  <a:pt x="4291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28880" y="1963800"/>
            <a:ext cx="1233360" cy="1189080"/>
          </a:xfrm>
          <a:custGeom>
            <a:avLst/>
            <a:gdLst/>
            <a:ahLst/>
            <a:rect l="l" t="t" r="r" b="b"/>
            <a:pathLst>
              <a:path w="3424" h="3300">
                <a:moveTo>
                  <a:pt x="6548" y="6548"/>
                </a:moveTo>
                <a:cubicBezTo>
                  <a:pt x="6497" y="6563"/>
                  <a:pt x="6441" y="6596"/>
                  <a:pt x="6400" y="6648"/>
                </a:cubicBezTo>
                <a:cubicBezTo>
                  <a:pt x="6310" y="6762"/>
                  <a:pt x="6152" y="6860"/>
                  <a:pt x="6028" y="6945"/>
                </a:cubicBezTo>
                <a:cubicBezTo>
                  <a:pt x="5895" y="7036"/>
                  <a:pt x="5742" y="7138"/>
                  <a:pt x="5606" y="7218"/>
                </a:cubicBezTo>
                <a:cubicBezTo>
                  <a:pt x="5553" y="7249"/>
                  <a:pt x="5422" y="7284"/>
                  <a:pt x="5383" y="7317"/>
                </a:cubicBezTo>
                <a:cubicBezTo>
                  <a:pt x="5294" y="7393"/>
                  <a:pt x="5377" y="7318"/>
                  <a:pt x="5407" y="7293"/>
                </a:cubicBezTo>
              </a:path>
              <a:path w="3424" h="3300">
                <a:moveTo>
                  <a:pt x="6623" y="6623"/>
                </a:moveTo>
                <a:cubicBezTo>
                  <a:pt x="6688" y="6623"/>
                  <a:pt x="6718" y="6631"/>
                  <a:pt x="6772" y="6672"/>
                </a:cubicBezTo>
                <a:cubicBezTo>
                  <a:pt x="6833" y="6718"/>
                  <a:pt x="6884" y="6774"/>
                  <a:pt x="6945" y="6821"/>
                </a:cubicBezTo>
                <a:cubicBezTo>
                  <a:pt x="7051" y="6904"/>
                  <a:pt x="7182" y="6883"/>
                  <a:pt x="7293" y="6945"/>
                </a:cubicBezTo>
                <a:cubicBezTo>
                  <a:pt x="7331" y="6966"/>
                  <a:pt x="7415" y="7028"/>
                  <a:pt x="7441" y="7069"/>
                </a:cubicBezTo>
                <a:cubicBezTo>
                  <a:pt x="7510" y="7176"/>
                  <a:pt x="7435" y="7088"/>
                  <a:pt x="7417" y="7069"/>
                </a:cubicBezTo>
              </a:path>
              <a:path w="3424" h="3300">
                <a:moveTo>
                  <a:pt x="5482" y="7392"/>
                </a:moveTo>
                <a:cubicBezTo>
                  <a:pt x="5519" y="7456"/>
                  <a:pt x="5567" y="7512"/>
                  <a:pt x="5581" y="7590"/>
                </a:cubicBezTo>
                <a:cubicBezTo>
                  <a:pt x="5599" y="7693"/>
                  <a:pt x="5621" y="7786"/>
                  <a:pt x="5655" y="7888"/>
                </a:cubicBezTo>
                <a:cubicBezTo>
                  <a:pt x="5685" y="7977"/>
                  <a:pt x="5695" y="8074"/>
                  <a:pt x="5730" y="8161"/>
                </a:cubicBezTo>
                <a:cubicBezTo>
                  <a:pt x="5759" y="8233"/>
                  <a:pt x="5793" y="8282"/>
                  <a:pt x="5804" y="8359"/>
                </a:cubicBezTo>
                <a:cubicBezTo>
                  <a:pt x="5808" y="8389"/>
                  <a:pt x="5804" y="8428"/>
                  <a:pt x="5804" y="8458"/>
                </a:cubicBezTo>
                <a:cubicBezTo>
                  <a:pt x="5852" y="8443"/>
                  <a:pt x="5871" y="8436"/>
                  <a:pt x="5928" y="8434"/>
                </a:cubicBezTo>
                <a:cubicBezTo>
                  <a:pt x="6088" y="8429"/>
                  <a:pt x="6271" y="8413"/>
                  <a:pt x="6424" y="8458"/>
                </a:cubicBezTo>
                <a:cubicBezTo>
                  <a:pt x="6484" y="8476"/>
                  <a:pt x="6540" y="8505"/>
                  <a:pt x="6598" y="8533"/>
                </a:cubicBezTo>
                <a:cubicBezTo>
                  <a:pt x="6640" y="8553"/>
                  <a:pt x="6683" y="8586"/>
                  <a:pt x="6722" y="8607"/>
                </a:cubicBezTo>
                <a:cubicBezTo>
                  <a:pt x="6782" y="8640"/>
                  <a:pt x="6840" y="8670"/>
                  <a:pt x="6896" y="8706"/>
                </a:cubicBezTo>
                <a:cubicBezTo>
                  <a:pt x="6939" y="8728"/>
                  <a:pt x="6951" y="8732"/>
                  <a:pt x="6970" y="8756"/>
                </a:cubicBezTo>
                <a:cubicBezTo>
                  <a:pt x="6970" y="8744"/>
                  <a:pt x="6918" y="8767"/>
                  <a:pt x="7020" y="8682"/>
                </a:cubicBezTo>
                <a:cubicBezTo>
                  <a:pt x="7089" y="8625"/>
                  <a:pt x="7176" y="8590"/>
                  <a:pt x="7243" y="8533"/>
                </a:cubicBezTo>
                <a:cubicBezTo>
                  <a:pt x="7360" y="8434"/>
                  <a:pt x="7483" y="8319"/>
                  <a:pt x="7590" y="8235"/>
                </a:cubicBezTo>
                <a:cubicBezTo>
                  <a:pt x="7635" y="8200"/>
                  <a:pt x="7674" y="8151"/>
                  <a:pt x="7714" y="8111"/>
                </a:cubicBezTo>
                <a:cubicBezTo>
                  <a:pt x="7677" y="8070"/>
                  <a:pt x="7665" y="8080"/>
                  <a:pt x="7640" y="8012"/>
                </a:cubicBezTo>
                <a:cubicBezTo>
                  <a:pt x="7613" y="7939"/>
                  <a:pt x="7618" y="7888"/>
                  <a:pt x="7615" y="7813"/>
                </a:cubicBezTo>
                <a:cubicBezTo>
                  <a:pt x="7610" y="7659"/>
                  <a:pt x="7643" y="7485"/>
                  <a:pt x="7590" y="7342"/>
                </a:cubicBezTo>
                <a:cubicBezTo>
                  <a:pt x="7572" y="7292"/>
                  <a:pt x="7579" y="7249"/>
                  <a:pt x="7565" y="7193"/>
                </a:cubicBezTo>
                <a:cubicBezTo>
                  <a:pt x="7548" y="7124"/>
                  <a:pt x="7527" y="7156"/>
                  <a:pt x="7466" y="7144"/>
                </a:cubicBezTo>
              </a:path>
              <a:path w="3424" h="3300">
                <a:moveTo>
                  <a:pt x="6722" y="7342"/>
                </a:moveTo>
                <a:cubicBezTo>
                  <a:pt x="6711" y="7385"/>
                  <a:pt x="6680" y="7419"/>
                  <a:pt x="6672" y="7466"/>
                </a:cubicBezTo>
                <a:cubicBezTo>
                  <a:pt x="6647" y="7605"/>
                  <a:pt x="6649" y="7822"/>
                  <a:pt x="6722" y="7913"/>
                </a:cubicBezTo>
                <a:cubicBezTo>
                  <a:pt x="6783" y="7989"/>
                  <a:pt x="6758" y="7989"/>
                  <a:pt x="6846" y="7962"/>
                </a:cubicBezTo>
                <a:cubicBezTo>
                  <a:pt x="6897" y="7947"/>
                  <a:pt x="6951" y="7924"/>
                  <a:pt x="6995" y="7888"/>
                </a:cubicBezTo>
                <a:cubicBezTo>
                  <a:pt x="7040" y="7851"/>
                  <a:pt x="7097" y="7770"/>
                  <a:pt x="7119" y="7714"/>
                </a:cubicBezTo>
                <a:cubicBezTo>
                  <a:pt x="7137" y="7668"/>
                  <a:pt x="7113" y="7578"/>
                  <a:pt x="7094" y="7541"/>
                </a:cubicBezTo>
                <a:cubicBezTo>
                  <a:pt x="7067" y="7487"/>
                  <a:pt x="7025" y="7458"/>
                  <a:pt x="6995" y="7417"/>
                </a:cubicBezTo>
                <a:cubicBezTo>
                  <a:pt x="6961" y="7371"/>
                  <a:pt x="6943" y="7340"/>
                  <a:pt x="6896" y="7317"/>
                </a:cubicBezTo>
                <a:cubicBezTo>
                  <a:pt x="6804" y="7272"/>
                  <a:pt x="6791" y="7271"/>
                  <a:pt x="6697" y="7293"/>
                </a:cubicBezTo>
                <a:cubicBezTo>
                  <a:pt x="6689" y="7293"/>
                  <a:pt x="6680" y="7293"/>
                  <a:pt x="6672" y="7293"/>
                </a:cubicBezTo>
              </a:path>
              <a:path w="3424" h="3300">
                <a:moveTo>
                  <a:pt x="6573" y="6573"/>
                </a:moveTo>
                <a:cubicBezTo>
                  <a:pt x="6622" y="6549"/>
                  <a:pt x="6657" y="6497"/>
                  <a:pt x="6697" y="6449"/>
                </a:cubicBezTo>
                <a:cubicBezTo>
                  <a:pt x="6739" y="6399"/>
                  <a:pt x="6810" y="6381"/>
                  <a:pt x="6846" y="6325"/>
                </a:cubicBezTo>
                <a:cubicBezTo>
                  <a:pt x="6878" y="6276"/>
                  <a:pt x="6980" y="6176"/>
                  <a:pt x="6921" y="6176"/>
                </a:cubicBezTo>
                <a:cubicBezTo>
                  <a:pt x="6904" y="6184"/>
                  <a:pt x="6888" y="6193"/>
                  <a:pt x="6871" y="6201"/>
                </a:cubicBezTo>
              </a:path>
              <a:path w="3424" h="3300">
                <a:moveTo>
                  <a:pt x="7541" y="5556"/>
                </a:moveTo>
                <a:cubicBezTo>
                  <a:pt x="7490" y="5455"/>
                  <a:pt x="7484" y="5437"/>
                  <a:pt x="7367" y="5482"/>
                </a:cubicBezTo>
                <a:cubicBezTo>
                  <a:pt x="7299" y="5508"/>
                  <a:pt x="7269" y="5590"/>
                  <a:pt x="7243" y="5655"/>
                </a:cubicBezTo>
                <a:cubicBezTo>
                  <a:pt x="7210" y="5739"/>
                  <a:pt x="7218" y="5816"/>
                  <a:pt x="7218" y="5904"/>
                </a:cubicBezTo>
                <a:cubicBezTo>
                  <a:pt x="7218" y="5989"/>
                  <a:pt x="7253" y="6055"/>
                  <a:pt x="7317" y="6102"/>
                </a:cubicBezTo>
                <a:cubicBezTo>
                  <a:pt x="7411" y="6171"/>
                  <a:pt x="7496" y="6197"/>
                  <a:pt x="7615" y="6176"/>
                </a:cubicBezTo>
                <a:cubicBezTo>
                  <a:pt x="7731" y="6156"/>
                  <a:pt x="7776" y="6153"/>
                  <a:pt x="7838" y="6052"/>
                </a:cubicBezTo>
              </a:path>
              <a:path w="3424" h="3300">
                <a:moveTo>
                  <a:pt x="7987" y="5581"/>
                </a:moveTo>
                <a:cubicBezTo>
                  <a:pt x="7987" y="5697"/>
                  <a:pt x="7932" y="6124"/>
                  <a:pt x="8012" y="6176"/>
                </a:cubicBezTo>
              </a:path>
              <a:path w="3424" h="3300">
                <a:moveTo>
                  <a:pt x="8235" y="5482"/>
                </a:moveTo>
                <a:cubicBezTo>
                  <a:pt x="8235" y="5548"/>
                  <a:pt x="8257" y="5591"/>
                  <a:pt x="8260" y="5655"/>
                </a:cubicBezTo>
                <a:cubicBezTo>
                  <a:pt x="8267" y="5806"/>
                  <a:pt x="8244" y="5967"/>
                  <a:pt x="8285" y="6102"/>
                </a:cubicBezTo>
                <a:cubicBezTo>
                  <a:pt x="8298" y="6145"/>
                  <a:pt x="8291" y="6237"/>
                  <a:pt x="8310" y="6127"/>
                </a:cubicBezTo>
              </a:path>
              <a:path w="3424" h="3300">
                <a:moveTo>
                  <a:pt x="8062" y="5829"/>
                </a:moveTo>
                <a:cubicBezTo>
                  <a:pt x="8145" y="5829"/>
                  <a:pt x="8227" y="5829"/>
                  <a:pt x="8310" y="5829"/>
                </a:cubicBezTo>
              </a:path>
              <a:path w="3424" h="3300">
                <a:moveTo>
                  <a:pt x="8533" y="6028"/>
                </a:moveTo>
                <a:cubicBezTo>
                  <a:pt x="8595" y="5991"/>
                  <a:pt x="8642" y="6008"/>
                  <a:pt x="8706" y="6052"/>
                </a:cubicBezTo>
                <a:cubicBezTo>
                  <a:pt x="8731" y="6069"/>
                  <a:pt x="8754" y="6153"/>
                  <a:pt x="8731" y="6176"/>
                </a:cubicBezTo>
                <a:cubicBezTo>
                  <a:pt x="8667" y="6240"/>
                  <a:pt x="8606" y="6242"/>
                  <a:pt x="8582" y="6325"/>
                </a:cubicBezTo>
                <a:cubicBezTo>
                  <a:pt x="8662" y="6325"/>
                  <a:pt x="8674" y="6344"/>
                  <a:pt x="8731" y="6400"/>
                </a:cubicBezTo>
                <a:cubicBezTo>
                  <a:pt x="8761" y="6429"/>
                  <a:pt x="8811" y="6503"/>
                  <a:pt x="8781" y="6548"/>
                </a:cubicBezTo>
                <a:cubicBezTo>
                  <a:pt x="8749" y="6596"/>
                  <a:pt x="8708" y="6656"/>
                  <a:pt x="8657" y="6672"/>
                </a:cubicBezTo>
                <a:cubicBezTo>
                  <a:pt x="8613" y="6686"/>
                  <a:pt x="8534" y="6715"/>
                  <a:pt x="8483" y="6697"/>
                </a:cubicBezTo>
                <a:cubicBezTo>
                  <a:pt x="8418" y="6673"/>
                  <a:pt x="8353" y="6644"/>
                  <a:pt x="8285" y="6623"/>
                </a:cubicBezTo>
                <a:cubicBezTo>
                  <a:pt x="8250" y="6623"/>
                  <a:pt x="8237" y="6614"/>
                  <a:pt x="8235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02000" y="2633760"/>
            <a:ext cx="1214280" cy="233280"/>
          </a:xfrm>
          <a:custGeom>
            <a:avLst/>
            <a:gdLst/>
            <a:ahLst/>
            <a:rect l="l" t="t" r="r" b="b"/>
            <a:pathLst>
              <a:path w="3374" h="646">
                <a:moveTo>
                  <a:pt x="9674" y="7317"/>
                </a:moveTo>
                <a:cubicBezTo>
                  <a:pt x="9674" y="7414"/>
                  <a:pt x="9683" y="7500"/>
                  <a:pt x="9699" y="7590"/>
                </a:cubicBezTo>
                <a:cubicBezTo>
                  <a:pt x="9712" y="7661"/>
                  <a:pt x="9719" y="7743"/>
                  <a:pt x="9723" y="7813"/>
                </a:cubicBezTo>
                <a:cubicBezTo>
                  <a:pt x="9726" y="7870"/>
                  <a:pt x="9756" y="8045"/>
                  <a:pt x="9699" y="7888"/>
                </a:cubicBezTo>
              </a:path>
              <a:path w="3374" h="646">
                <a:moveTo>
                  <a:pt x="9451" y="7689"/>
                </a:moveTo>
                <a:cubicBezTo>
                  <a:pt x="9509" y="7689"/>
                  <a:pt x="9539" y="7690"/>
                  <a:pt x="9599" y="7714"/>
                </a:cubicBezTo>
                <a:cubicBezTo>
                  <a:pt x="9676" y="7745"/>
                  <a:pt x="9739" y="7739"/>
                  <a:pt x="9823" y="7739"/>
                </a:cubicBezTo>
                <a:cubicBezTo>
                  <a:pt x="9885" y="7739"/>
                  <a:pt x="9920" y="7729"/>
                  <a:pt x="9971" y="7714"/>
                </a:cubicBezTo>
                <a:cubicBezTo>
                  <a:pt x="9999" y="7714"/>
                  <a:pt x="10010" y="7712"/>
                  <a:pt x="10021" y="7689"/>
                </a:cubicBezTo>
              </a:path>
              <a:path w="3374" h="646">
                <a:moveTo>
                  <a:pt x="10840" y="7367"/>
                </a:moveTo>
                <a:cubicBezTo>
                  <a:pt x="10776" y="7286"/>
                  <a:pt x="10774" y="7371"/>
                  <a:pt x="10716" y="7441"/>
                </a:cubicBezTo>
                <a:cubicBezTo>
                  <a:pt x="10671" y="7494"/>
                  <a:pt x="10605" y="7566"/>
                  <a:pt x="10592" y="7640"/>
                </a:cubicBezTo>
                <a:cubicBezTo>
                  <a:pt x="10581" y="7704"/>
                  <a:pt x="10589" y="7792"/>
                  <a:pt x="10641" y="7838"/>
                </a:cubicBezTo>
                <a:cubicBezTo>
                  <a:pt x="10686" y="7878"/>
                  <a:pt x="10778" y="7948"/>
                  <a:pt x="10840" y="7962"/>
                </a:cubicBezTo>
                <a:cubicBezTo>
                  <a:pt x="10887" y="7972"/>
                  <a:pt x="10961" y="7926"/>
                  <a:pt x="10988" y="7888"/>
                </a:cubicBezTo>
                <a:cubicBezTo>
                  <a:pt x="11018" y="7845"/>
                  <a:pt x="11074" y="7763"/>
                  <a:pt x="11088" y="7714"/>
                </a:cubicBezTo>
                <a:cubicBezTo>
                  <a:pt x="11107" y="7646"/>
                  <a:pt x="11080" y="7610"/>
                  <a:pt x="11038" y="7565"/>
                </a:cubicBezTo>
                <a:cubicBezTo>
                  <a:pt x="10988" y="7511"/>
                  <a:pt x="10914" y="7465"/>
                  <a:pt x="10889" y="7392"/>
                </a:cubicBezTo>
                <a:cubicBezTo>
                  <a:pt x="10889" y="7384"/>
                  <a:pt x="10889" y="7375"/>
                  <a:pt x="10889" y="7367"/>
                </a:cubicBezTo>
              </a:path>
              <a:path w="3374" h="646">
                <a:moveTo>
                  <a:pt x="11460" y="7417"/>
                </a:moveTo>
                <a:cubicBezTo>
                  <a:pt x="11386" y="7417"/>
                  <a:pt x="11584" y="7417"/>
                  <a:pt x="11584" y="7417"/>
                </a:cubicBezTo>
                <a:cubicBezTo>
                  <a:pt x="11697" y="7395"/>
                  <a:pt x="11816" y="7373"/>
                  <a:pt x="11931" y="7367"/>
                </a:cubicBezTo>
                <a:cubicBezTo>
                  <a:pt x="11969" y="7365"/>
                  <a:pt x="12082" y="7367"/>
                  <a:pt x="11981" y="7367"/>
                </a:cubicBezTo>
              </a:path>
              <a:path w="3374" h="646">
                <a:moveTo>
                  <a:pt x="11460" y="7739"/>
                </a:moveTo>
                <a:cubicBezTo>
                  <a:pt x="11492" y="7788"/>
                  <a:pt x="11587" y="7742"/>
                  <a:pt x="11658" y="7739"/>
                </a:cubicBezTo>
                <a:cubicBezTo>
                  <a:pt x="11781" y="7734"/>
                  <a:pt x="11917" y="7763"/>
                  <a:pt x="12030" y="7714"/>
                </a:cubicBezTo>
              </a:path>
              <a:path w="3374" h="646">
                <a:moveTo>
                  <a:pt x="12502" y="7317"/>
                </a:moveTo>
                <a:cubicBezTo>
                  <a:pt x="12456" y="7343"/>
                  <a:pt x="12403" y="7387"/>
                  <a:pt x="12378" y="7417"/>
                </a:cubicBezTo>
                <a:cubicBezTo>
                  <a:pt x="12321" y="7486"/>
                  <a:pt x="12288" y="7537"/>
                  <a:pt x="12278" y="7615"/>
                </a:cubicBezTo>
                <a:cubicBezTo>
                  <a:pt x="12271" y="7668"/>
                  <a:pt x="12232" y="7731"/>
                  <a:pt x="12254" y="7789"/>
                </a:cubicBezTo>
                <a:cubicBezTo>
                  <a:pt x="12269" y="7828"/>
                  <a:pt x="12369" y="7880"/>
                  <a:pt x="12402" y="7913"/>
                </a:cubicBezTo>
                <a:cubicBezTo>
                  <a:pt x="12450" y="7962"/>
                  <a:pt x="12487" y="7962"/>
                  <a:pt x="12551" y="7962"/>
                </a:cubicBezTo>
                <a:cubicBezTo>
                  <a:pt x="12597" y="7962"/>
                  <a:pt x="12668" y="7941"/>
                  <a:pt x="12700" y="7913"/>
                </a:cubicBezTo>
                <a:cubicBezTo>
                  <a:pt x="12743" y="7875"/>
                  <a:pt x="12802" y="7844"/>
                  <a:pt x="12824" y="7789"/>
                </a:cubicBezTo>
                <a:cubicBezTo>
                  <a:pt x="12852" y="7720"/>
                  <a:pt x="12814" y="7572"/>
                  <a:pt x="12799" y="7516"/>
                </a:cubicBezTo>
                <a:cubicBezTo>
                  <a:pt x="12788" y="7477"/>
                  <a:pt x="12737" y="7398"/>
                  <a:pt x="12725" y="7392"/>
                </a:cubicBezTo>
                <a:cubicBezTo>
                  <a:pt x="12608" y="7335"/>
                  <a:pt x="12565" y="7463"/>
                  <a:pt x="12502" y="73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64040" y="2214720"/>
            <a:ext cx="1920960" cy="795240"/>
          </a:xfrm>
          <a:custGeom>
            <a:avLst/>
            <a:gdLst/>
            <a:ahLst/>
            <a:rect l="l" t="t" r="r" b="b"/>
            <a:pathLst>
              <a:path w="5334" h="2208">
                <a:moveTo>
                  <a:pt x="13791" y="7590"/>
                </a:moveTo>
                <a:cubicBezTo>
                  <a:pt x="13849" y="7633"/>
                  <a:pt x="13847" y="7607"/>
                  <a:pt x="13915" y="7590"/>
                </a:cubicBezTo>
                <a:cubicBezTo>
                  <a:pt x="13996" y="7570"/>
                  <a:pt x="14081" y="7588"/>
                  <a:pt x="14163" y="7565"/>
                </a:cubicBezTo>
                <a:cubicBezTo>
                  <a:pt x="14285" y="7531"/>
                  <a:pt x="14418" y="7523"/>
                  <a:pt x="14536" y="7491"/>
                </a:cubicBezTo>
                <a:cubicBezTo>
                  <a:pt x="14613" y="7470"/>
                  <a:pt x="14677" y="7466"/>
                  <a:pt x="14759" y="7466"/>
                </a:cubicBezTo>
                <a:cubicBezTo>
                  <a:pt x="14842" y="7466"/>
                  <a:pt x="14886" y="7457"/>
                  <a:pt x="14957" y="7417"/>
                </a:cubicBezTo>
                <a:cubicBezTo>
                  <a:pt x="14973" y="7408"/>
                  <a:pt x="15105" y="7389"/>
                  <a:pt x="15081" y="7367"/>
                </a:cubicBezTo>
                <a:cubicBezTo>
                  <a:pt x="15065" y="7359"/>
                  <a:pt x="15048" y="7350"/>
                  <a:pt x="15032" y="7342"/>
                </a:cubicBezTo>
              </a:path>
              <a:path w="5334" h="2208">
                <a:moveTo>
                  <a:pt x="14784" y="7119"/>
                </a:moveTo>
                <a:cubicBezTo>
                  <a:pt x="14849" y="7119"/>
                  <a:pt x="14868" y="7159"/>
                  <a:pt x="14932" y="7169"/>
                </a:cubicBezTo>
                <a:cubicBezTo>
                  <a:pt x="14974" y="7175"/>
                  <a:pt x="15045" y="7215"/>
                  <a:pt x="15081" y="7243"/>
                </a:cubicBezTo>
                <a:cubicBezTo>
                  <a:pt x="15143" y="7292"/>
                  <a:pt x="15223" y="7317"/>
                  <a:pt x="15304" y="7342"/>
                </a:cubicBezTo>
                <a:cubicBezTo>
                  <a:pt x="15380" y="7365"/>
                  <a:pt x="15379" y="7360"/>
                  <a:pt x="15379" y="7441"/>
                </a:cubicBezTo>
                <a:cubicBezTo>
                  <a:pt x="15379" y="7545"/>
                  <a:pt x="15269" y="7511"/>
                  <a:pt x="15230" y="7565"/>
                </a:cubicBezTo>
                <a:cubicBezTo>
                  <a:pt x="15230" y="7582"/>
                  <a:pt x="15230" y="7598"/>
                  <a:pt x="15230" y="7615"/>
                </a:cubicBezTo>
                <a:cubicBezTo>
                  <a:pt x="15164" y="7634"/>
                  <a:pt x="15139" y="7661"/>
                  <a:pt x="15081" y="7714"/>
                </a:cubicBezTo>
                <a:cubicBezTo>
                  <a:pt x="15033" y="7757"/>
                  <a:pt x="14991" y="7811"/>
                  <a:pt x="14957" y="7863"/>
                </a:cubicBezTo>
                <a:cubicBezTo>
                  <a:pt x="14884" y="7976"/>
                  <a:pt x="14946" y="7841"/>
                  <a:pt x="14957" y="7813"/>
                </a:cubicBezTo>
              </a:path>
              <a:path w="5334" h="2208">
                <a:moveTo>
                  <a:pt x="17314" y="7045"/>
                </a:moveTo>
                <a:cubicBezTo>
                  <a:pt x="17275" y="7006"/>
                  <a:pt x="17273" y="6989"/>
                  <a:pt x="17239" y="6995"/>
                </a:cubicBezTo>
                <a:cubicBezTo>
                  <a:pt x="17179" y="7048"/>
                  <a:pt x="17104" y="7096"/>
                  <a:pt x="17066" y="7169"/>
                </a:cubicBezTo>
                <a:cubicBezTo>
                  <a:pt x="17032" y="7234"/>
                  <a:pt x="16995" y="7321"/>
                  <a:pt x="16991" y="7392"/>
                </a:cubicBezTo>
                <a:cubicBezTo>
                  <a:pt x="16986" y="7473"/>
                  <a:pt x="17011" y="7507"/>
                  <a:pt x="17090" y="7541"/>
                </a:cubicBezTo>
                <a:cubicBezTo>
                  <a:pt x="17168" y="7574"/>
                  <a:pt x="17276" y="7611"/>
                  <a:pt x="17363" y="7590"/>
                </a:cubicBezTo>
                <a:cubicBezTo>
                  <a:pt x="17430" y="7574"/>
                  <a:pt x="17455" y="7518"/>
                  <a:pt x="17487" y="7466"/>
                </a:cubicBezTo>
              </a:path>
              <a:path w="5334" h="2208">
                <a:moveTo>
                  <a:pt x="16545" y="6648"/>
                </a:moveTo>
                <a:cubicBezTo>
                  <a:pt x="16567" y="6757"/>
                  <a:pt x="16574" y="6728"/>
                  <a:pt x="16669" y="6772"/>
                </a:cubicBezTo>
                <a:cubicBezTo>
                  <a:pt x="16750" y="6810"/>
                  <a:pt x="16836" y="6794"/>
                  <a:pt x="16917" y="6846"/>
                </a:cubicBezTo>
                <a:cubicBezTo>
                  <a:pt x="16992" y="6895"/>
                  <a:pt x="16987" y="6939"/>
                  <a:pt x="17041" y="6871"/>
                </a:cubicBezTo>
              </a:path>
              <a:path w="5334" h="2208">
                <a:moveTo>
                  <a:pt x="16371" y="6995"/>
                </a:moveTo>
                <a:cubicBezTo>
                  <a:pt x="16434" y="6995"/>
                  <a:pt x="16463" y="6993"/>
                  <a:pt x="16520" y="7020"/>
                </a:cubicBezTo>
                <a:cubicBezTo>
                  <a:pt x="16584" y="7050"/>
                  <a:pt x="16659" y="7083"/>
                  <a:pt x="16718" y="7119"/>
                </a:cubicBezTo>
                <a:cubicBezTo>
                  <a:pt x="16763" y="7146"/>
                  <a:pt x="16783" y="7144"/>
                  <a:pt x="16842" y="7144"/>
                </a:cubicBezTo>
              </a:path>
              <a:path w="5334" h="2208">
                <a:moveTo>
                  <a:pt x="16024" y="6201"/>
                </a:moveTo>
                <a:cubicBezTo>
                  <a:pt x="15935" y="6149"/>
                  <a:pt x="15884" y="6137"/>
                  <a:pt x="15801" y="6226"/>
                </a:cubicBezTo>
                <a:cubicBezTo>
                  <a:pt x="15752" y="6278"/>
                  <a:pt x="15687" y="6340"/>
                  <a:pt x="15652" y="6400"/>
                </a:cubicBezTo>
                <a:cubicBezTo>
                  <a:pt x="15618" y="6457"/>
                  <a:pt x="15614" y="6558"/>
                  <a:pt x="15627" y="6623"/>
                </a:cubicBezTo>
                <a:cubicBezTo>
                  <a:pt x="15646" y="6720"/>
                  <a:pt x="15693" y="6775"/>
                  <a:pt x="15776" y="6821"/>
                </a:cubicBezTo>
                <a:cubicBezTo>
                  <a:pt x="15850" y="6862"/>
                  <a:pt x="15938" y="6888"/>
                  <a:pt x="16024" y="6871"/>
                </a:cubicBezTo>
                <a:cubicBezTo>
                  <a:pt x="16084" y="6859"/>
                  <a:pt x="16212" y="6795"/>
                  <a:pt x="16247" y="6747"/>
                </a:cubicBezTo>
                <a:cubicBezTo>
                  <a:pt x="16282" y="6699"/>
                  <a:pt x="16211" y="6568"/>
                  <a:pt x="16197" y="6524"/>
                </a:cubicBezTo>
                <a:cubicBezTo>
                  <a:pt x="16173" y="6450"/>
                  <a:pt x="16147" y="6359"/>
                  <a:pt x="16098" y="6300"/>
                </a:cubicBezTo>
                <a:cubicBezTo>
                  <a:pt x="16057" y="6251"/>
                  <a:pt x="15968" y="6226"/>
                  <a:pt x="15999" y="6226"/>
                </a:cubicBezTo>
              </a:path>
              <a:path w="5334" h="2208">
                <a:moveTo>
                  <a:pt x="17909" y="7565"/>
                </a:moveTo>
                <a:cubicBezTo>
                  <a:pt x="17940" y="7607"/>
                  <a:pt x="17944" y="7636"/>
                  <a:pt x="18008" y="7640"/>
                </a:cubicBezTo>
                <a:cubicBezTo>
                  <a:pt x="18074" y="7644"/>
                  <a:pt x="18118" y="7683"/>
                  <a:pt x="18182" y="7689"/>
                </a:cubicBezTo>
                <a:cubicBezTo>
                  <a:pt x="18239" y="7694"/>
                  <a:pt x="18262" y="7681"/>
                  <a:pt x="18306" y="7714"/>
                </a:cubicBezTo>
              </a:path>
              <a:path w="5334" h="2208">
                <a:moveTo>
                  <a:pt x="17835" y="7813"/>
                </a:moveTo>
                <a:cubicBezTo>
                  <a:pt x="17899" y="7813"/>
                  <a:pt x="17955" y="7821"/>
                  <a:pt x="18008" y="7863"/>
                </a:cubicBezTo>
                <a:cubicBezTo>
                  <a:pt x="18066" y="7908"/>
                  <a:pt x="18108" y="7923"/>
                  <a:pt x="18157" y="7962"/>
                </a:cubicBezTo>
                <a:cubicBezTo>
                  <a:pt x="18185" y="7990"/>
                  <a:pt x="18198" y="7999"/>
                  <a:pt x="18231" y="7987"/>
                </a:cubicBezTo>
              </a:path>
              <a:path w="5334" h="2208">
                <a:moveTo>
                  <a:pt x="18827" y="7764"/>
                </a:moveTo>
                <a:cubicBezTo>
                  <a:pt x="18762" y="7764"/>
                  <a:pt x="18699" y="7792"/>
                  <a:pt x="18653" y="7838"/>
                </a:cubicBezTo>
                <a:cubicBezTo>
                  <a:pt x="18623" y="7868"/>
                  <a:pt x="18593" y="7965"/>
                  <a:pt x="18579" y="8012"/>
                </a:cubicBezTo>
                <a:cubicBezTo>
                  <a:pt x="18551" y="8105"/>
                  <a:pt x="18521" y="8128"/>
                  <a:pt x="18554" y="8210"/>
                </a:cubicBezTo>
                <a:cubicBezTo>
                  <a:pt x="18591" y="8303"/>
                  <a:pt x="18646" y="8348"/>
                  <a:pt x="18752" y="8359"/>
                </a:cubicBezTo>
                <a:cubicBezTo>
                  <a:pt x="18814" y="8365"/>
                  <a:pt x="18928" y="8379"/>
                  <a:pt x="18976" y="8334"/>
                </a:cubicBezTo>
                <a:cubicBezTo>
                  <a:pt x="19021" y="8293"/>
                  <a:pt x="19107" y="8201"/>
                  <a:pt x="19124" y="8136"/>
                </a:cubicBezTo>
                <a:cubicBezTo>
                  <a:pt x="19148" y="8045"/>
                  <a:pt x="19130" y="7953"/>
                  <a:pt x="19075" y="7888"/>
                </a:cubicBezTo>
                <a:cubicBezTo>
                  <a:pt x="19015" y="7817"/>
                  <a:pt x="18974" y="7808"/>
                  <a:pt x="18901" y="7764"/>
                </a:cubicBezTo>
                <a:cubicBezTo>
                  <a:pt x="18853" y="7735"/>
                  <a:pt x="18869" y="7739"/>
                  <a:pt x="18802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0840" y="2786040"/>
            <a:ext cx="22356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0117" y="7739"/>
                </a:moveTo>
                <a:cubicBezTo>
                  <a:pt x="20130" y="7793"/>
                  <a:pt x="20162" y="7825"/>
                  <a:pt x="20166" y="7888"/>
                </a:cubicBezTo>
                <a:cubicBezTo>
                  <a:pt x="20171" y="7972"/>
                  <a:pt x="20127" y="8173"/>
                  <a:pt x="20191" y="8235"/>
                </a:cubicBezTo>
                <a:cubicBezTo>
                  <a:pt x="20191" y="8227"/>
                  <a:pt x="20191" y="8218"/>
                  <a:pt x="20191" y="8210"/>
                </a:cubicBezTo>
              </a:path>
              <a:path w="621" h="497">
                <a:moveTo>
                  <a:pt x="19918" y="8062"/>
                </a:moveTo>
                <a:cubicBezTo>
                  <a:pt x="19986" y="8062"/>
                  <a:pt x="20036" y="8048"/>
                  <a:pt x="20092" y="8037"/>
                </a:cubicBezTo>
                <a:cubicBezTo>
                  <a:pt x="20181" y="8019"/>
                  <a:pt x="20277" y="8007"/>
                  <a:pt x="20365" y="7987"/>
                </a:cubicBezTo>
                <a:cubicBezTo>
                  <a:pt x="20434" y="7972"/>
                  <a:pt x="20468" y="7962"/>
                  <a:pt x="20538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43880" y="2581200"/>
            <a:ext cx="1233360" cy="581040"/>
          </a:xfrm>
          <a:custGeom>
            <a:avLst/>
            <a:gdLst/>
            <a:ahLst/>
            <a:rect l="l" t="t" r="r" b="b"/>
            <a:pathLst>
              <a:path w="3424" h="1613">
                <a:moveTo>
                  <a:pt x="21258" y="7565"/>
                </a:moveTo>
                <a:cubicBezTo>
                  <a:pt x="21235" y="7625"/>
                  <a:pt x="21218" y="7696"/>
                  <a:pt x="21233" y="7764"/>
                </a:cubicBezTo>
                <a:cubicBezTo>
                  <a:pt x="21255" y="7863"/>
                  <a:pt x="21303" y="7936"/>
                  <a:pt x="21307" y="8037"/>
                </a:cubicBezTo>
                <a:cubicBezTo>
                  <a:pt x="21310" y="8120"/>
                  <a:pt x="21290" y="8184"/>
                  <a:pt x="21282" y="8260"/>
                </a:cubicBezTo>
                <a:cubicBezTo>
                  <a:pt x="21275" y="8326"/>
                  <a:pt x="21328" y="8207"/>
                  <a:pt x="21332" y="8186"/>
                </a:cubicBezTo>
              </a:path>
              <a:path w="3424" h="1613">
                <a:moveTo>
                  <a:pt x="21530" y="7640"/>
                </a:moveTo>
                <a:cubicBezTo>
                  <a:pt x="21567" y="7689"/>
                  <a:pt x="21555" y="7721"/>
                  <a:pt x="21555" y="7789"/>
                </a:cubicBezTo>
                <a:cubicBezTo>
                  <a:pt x="21555" y="7856"/>
                  <a:pt x="21559" y="7926"/>
                  <a:pt x="21580" y="7987"/>
                </a:cubicBezTo>
                <a:cubicBezTo>
                  <a:pt x="21604" y="8059"/>
                  <a:pt x="21630" y="8084"/>
                  <a:pt x="21630" y="8161"/>
                </a:cubicBezTo>
                <a:cubicBezTo>
                  <a:pt x="21630" y="8186"/>
                  <a:pt x="21630" y="8210"/>
                  <a:pt x="21630" y="8235"/>
                </a:cubicBezTo>
              </a:path>
              <a:path w="3424" h="1613">
                <a:moveTo>
                  <a:pt x="21282" y="7938"/>
                </a:moveTo>
                <a:cubicBezTo>
                  <a:pt x="21369" y="7938"/>
                  <a:pt x="21475" y="7956"/>
                  <a:pt x="21555" y="7913"/>
                </a:cubicBezTo>
                <a:cubicBezTo>
                  <a:pt x="21580" y="7888"/>
                  <a:pt x="21588" y="7880"/>
                  <a:pt x="21605" y="7863"/>
                </a:cubicBezTo>
              </a:path>
              <a:path w="3424" h="1613">
                <a:moveTo>
                  <a:pt x="21903" y="7888"/>
                </a:moveTo>
                <a:cubicBezTo>
                  <a:pt x="21939" y="7860"/>
                  <a:pt x="21980" y="7832"/>
                  <a:pt x="22027" y="7813"/>
                </a:cubicBezTo>
                <a:cubicBezTo>
                  <a:pt x="22126" y="7773"/>
                  <a:pt x="22223" y="7725"/>
                  <a:pt x="22324" y="7689"/>
                </a:cubicBezTo>
                <a:cubicBezTo>
                  <a:pt x="22361" y="7676"/>
                  <a:pt x="22474" y="7644"/>
                  <a:pt x="22498" y="7615"/>
                </a:cubicBezTo>
                <a:cubicBezTo>
                  <a:pt x="22506" y="7598"/>
                  <a:pt x="22515" y="7582"/>
                  <a:pt x="22523" y="7565"/>
                </a:cubicBezTo>
              </a:path>
              <a:path w="3424" h="1613">
                <a:moveTo>
                  <a:pt x="22944" y="7169"/>
                </a:moveTo>
                <a:cubicBezTo>
                  <a:pt x="22855" y="7181"/>
                  <a:pt x="22864" y="7215"/>
                  <a:pt x="22820" y="7293"/>
                </a:cubicBezTo>
                <a:cubicBezTo>
                  <a:pt x="22784" y="7356"/>
                  <a:pt x="22751" y="7418"/>
                  <a:pt x="22746" y="7491"/>
                </a:cubicBezTo>
                <a:cubicBezTo>
                  <a:pt x="22743" y="7532"/>
                  <a:pt x="22752" y="7618"/>
                  <a:pt x="22796" y="7640"/>
                </a:cubicBezTo>
                <a:cubicBezTo>
                  <a:pt x="22838" y="7662"/>
                  <a:pt x="22918" y="7665"/>
                  <a:pt x="22969" y="7665"/>
                </a:cubicBezTo>
                <a:cubicBezTo>
                  <a:pt x="23028" y="7665"/>
                  <a:pt x="23119" y="7616"/>
                  <a:pt x="23143" y="7565"/>
                </a:cubicBezTo>
                <a:cubicBezTo>
                  <a:pt x="23173" y="7502"/>
                  <a:pt x="23171" y="7430"/>
                  <a:pt x="23143" y="7367"/>
                </a:cubicBezTo>
                <a:cubicBezTo>
                  <a:pt x="23118" y="7312"/>
                  <a:pt x="23082" y="7235"/>
                  <a:pt x="23019" y="7218"/>
                </a:cubicBezTo>
                <a:cubicBezTo>
                  <a:pt x="22965" y="7204"/>
                  <a:pt x="22915" y="7246"/>
                  <a:pt x="22870" y="7268"/>
                </a:cubicBezTo>
              </a:path>
              <a:path w="3424" h="1613">
                <a:moveTo>
                  <a:pt x="23564" y="7689"/>
                </a:moveTo>
                <a:cubicBezTo>
                  <a:pt x="23534" y="7741"/>
                  <a:pt x="23552" y="7801"/>
                  <a:pt x="23589" y="7838"/>
                </a:cubicBezTo>
                <a:cubicBezTo>
                  <a:pt x="23637" y="7885"/>
                  <a:pt x="23726" y="7927"/>
                  <a:pt x="23763" y="7962"/>
                </a:cubicBezTo>
                <a:cubicBezTo>
                  <a:pt x="23797" y="7994"/>
                  <a:pt x="23870" y="8052"/>
                  <a:pt x="23887" y="8086"/>
                </a:cubicBezTo>
              </a:path>
              <a:path w="3424" h="1613">
                <a:moveTo>
                  <a:pt x="24358" y="7987"/>
                </a:moveTo>
                <a:cubicBezTo>
                  <a:pt x="24316" y="8043"/>
                  <a:pt x="24239" y="8147"/>
                  <a:pt x="24209" y="8210"/>
                </a:cubicBezTo>
                <a:cubicBezTo>
                  <a:pt x="24177" y="8277"/>
                  <a:pt x="24147" y="8358"/>
                  <a:pt x="24110" y="8434"/>
                </a:cubicBezTo>
                <a:cubicBezTo>
                  <a:pt x="24084" y="8488"/>
                  <a:pt x="24025" y="8546"/>
                  <a:pt x="24011" y="8582"/>
                </a:cubicBezTo>
                <a:cubicBezTo>
                  <a:pt x="24011" y="8599"/>
                  <a:pt x="24011" y="8615"/>
                  <a:pt x="24011" y="8632"/>
                </a:cubicBezTo>
              </a:path>
              <a:path w="3424" h="1613">
                <a:moveTo>
                  <a:pt x="24656" y="8111"/>
                </a:moveTo>
                <a:cubicBezTo>
                  <a:pt x="24591" y="8155"/>
                  <a:pt x="24604" y="8191"/>
                  <a:pt x="24557" y="8260"/>
                </a:cubicBezTo>
                <a:cubicBezTo>
                  <a:pt x="24522" y="8311"/>
                  <a:pt x="24524" y="8393"/>
                  <a:pt x="24507" y="8458"/>
                </a:cubicBezTo>
                <a:cubicBezTo>
                  <a:pt x="24486" y="8540"/>
                  <a:pt x="24459" y="8629"/>
                  <a:pt x="24433" y="8706"/>
                </a:cubicBezTo>
                <a:cubicBezTo>
                  <a:pt x="24418" y="8752"/>
                  <a:pt x="24401" y="8793"/>
                  <a:pt x="24383" y="8756"/>
                </a:cubicBezTo>
              </a:path>
              <a:path w="3424" h="1613">
                <a:moveTo>
                  <a:pt x="24209" y="8409"/>
                </a:moveTo>
                <a:cubicBezTo>
                  <a:pt x="24268" y="8409"/>
                  <a:pt x="24305" y="8432"/>
                  <a:pt x="24358" y="8458"/>
                </a:cubicBezTo>
                <a:cubicBezTo>
                  <a:pt x="24421" y="8489"/>
                  <a:pt x="24449" y="8493"/>
                  <a:pt x="24507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040" y="3303720"/>
            <a:ext cx="179280" cy="27756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662" y="9227"/>
                </a:moveTo>
                <a:cubicBezTo>
                  <a:pt x="1629" y="9188"/>
                  <a:pt x="1555" y="9141"/>
                  <a:pt x="1488" y="9178"/>
                </a:cubicBezTo>
                <a:cubicBezTo>
                  <a:pt x="1395" y="9229"/>
                  <a:pt x="1292" y="9327"/>
                  <a:pt x="1215" y="9401"/>
                </a:cubicBezTo>
                <a:cubicBezTo>
                  <a:pt x="1171" y="9446"/>
                  <a:pt x="1155" y="9456"/>
                  <a:pt x="1166" y="9500"/>
                </a:cubicBezTo>
                <a:cubicBezTo>
                  <a:pt x="1181" y="9544"/>
                  <a:pt x="1237" y="9525"/>
                  <a:pt x="1290" y="9525"/>
                </a:cubicBezTo>
                <a:cubicBezTo>
                  <a:pt x="1380" y="9525"/>
                  <a:pt x="1434" y="9560"/>
                  <a:pt x="1513" y="9599"/>
                </a:cubicBezTo>
                <a:cubicBezTo>
                  <a:pt x="1579" y="9632"/>
                  <a:pt x="1629" y="9638"/>
                  <a:pt x="1637" y="9699"/>
                </a:cubicBezTo>
                <a:cubicBezTo>
                  <a:pt x="1645" y="9763"/>
                  <a:pt x="1566" y="9842"/>
                  <a:pt x="1513" y="9872"/>
                </a:cubicBezTo>
                <a:cubicBezTo>
                  <a:pt x="1443" y="9912"/>
                  <a:pt x="1344" y="9943"/>
                  <a:pt x="1265" y="9947"/>
                </a:cubicBezTo>
                <a:cubicBezTo>
                  <a:pt x="1200" y="9950"/>
                  <a:pt x="1207" y="9913"/>
                  <a:pt x="119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51040" y="3321000"/>
            <a:ext cx="1017720" cy="465120"/>
          </a:xfrm>
          <a:custGeom>
            <a:avLst/>
            <a:gdLst/>
            <a:ahLst/>
            <a:rect l="l" t="t" r="r" b="b"/>
            <a:pathLst>
              <a:path w="2828" h="1291">
                <a:moveTo>
                  <a:pt x="4887" y="9599"/>
                </a:moveTo>
                <a:cubicBezTo>
                  <a:pt x="4887" y="9765"/>
                  <a:pt x="4887" y="9930"/>
                  <a:pt x="4887" y="10096"/>
                </a:cubicBezTo>
                <a:cubicBezTo>
                  <a:pt x="4864" y="10020"/>
                  <a:pt x="4862" y="9976"/>
                  <a:pt x="4862" y="9897"/>
                </a:cubicBezTo>
                <a:cubicBezTo>
                  <a:pt x="4862" y="9820"/>
                  <a:pt x="4884" y="9780"/>
                  <a:pt x="4936" y="9723"/>
                </a:cubicBezTo>
                <a:cubicBezTo>
                  <a:pt x="4955" y="9702"/>
                  <a:pt x="5031" y="9679"/>
                  <a:pt x="5060" y="9699"/>
                </a:cubicBezTo>
                <a:cubicBezTo>
                  <a:pt x="5111" y="9735"/>
                  <a:pt x="5153" y="9817"/>
                  <a:pt x="5184" y="9872"/>
                </a:cubicBezTo>
                <a:cubicBezTo>
                  <a:pt x="5219" y="9935"/>
                  <a:pt x="5255" y="9952"/>
                  <a:pt x="5209" y="10021"/>
                </a:cubicBezTo>
                <a:cubicBezTo>
                  <a:pt x="5201" y="10029"/>
                  <a:pt x="5192" y="10038"/>
                  <a:pt x="5184" y="10046"/>
                </a:cubicBezTo>
                <a:cubicBezTo>
                  <a:pt x="5190" y="10003"/>
                  <a:pt x="5209" y="9932"/>
                  <a:pt x="5234" y="9897"/>
                </a:cubicBezTo>
                <a:cubicBezTo>
                  <a:pt x="5254" y="9869"/>
                  <a:pt x="5319" y="9759"/>
                  <a:pt x="5358" y="9748"/>
                </a:cubicBezTo>
                <a:cubicBezTo>
                  <a:pt x="5393" y="9738"/>
                  <a:pt x="5445" y="9748"/>
                  <a:pt x="5482" y="9748"/>
                </a:cubicBezTo>
                <a:cubicBezTo>
                  <a:pt x="5482" y="9831"/>
                  <a:pt x="5453" y="9959"/>
                  <a:pt x="5507" y="10021"/>
                </a:cubicBezTo>
                <a:cubicBezTo>
                  <a:pt x="5561" y="10083"/>
                  <a:pt x="5552" y="10075"/>
                  <a:pt x="5531" y="10145"/>
                </a:cubicBezTo>
                <a:cubicBezTo>
                  <a:pt x="5531" y="10196"/>
                  <a:pt x="5537" y="10179"/>
                  <a:pt x="5556" y="10071"/>
                </a:cubicBezTo>
              </a:path>
              <a:path w="2828" h="1291">
                <a:moveTo>
                  <a:pt x="5705" y="9847"/>
                </a:moveTo>
                <a:cubicBezTo>
                  <a:pt x="5744" y="9838"/>
                  <a:pt x="5788" y="9835"/>
                  <a:pt x="5829" y="9823"/>
                </a:cubicBezTo>
                <a:cubicBezTo>
                  <a:pt x="5916" y="9797"/>
                  <a:pt x="5950" y="9745"/>
                  <a:pt x="5879" y="9674"/>
                </a:cubicBezTo>
                <a:cubicBezTo>
                  <a:pt x="5838" y="9633"/>
                  <a:pt x="5735" y="9712"/>
                  <a:pt x="5705" y="9723"/>
                </a:cubicBezTo>
                <a:cubicBezTo>
                  <a:pt x="5653" y="9741"/>
                  <a:pt x="5634" y="9791"/>
                  <a:pt x="5631" y="9847"/>
                </a:cubicBezTo>
                <a:cubicBezTo>
                  <a:pt x="5627" y="9918"/>
                  <a:pt x="5634" y="9965"/>
                  <a:pt x="5680" y="10021"/>
                </a:cubicBezTo>
                <a:cubicBezTo>
                  <a:pt x="5746" y="10101"/>
                  <a:pt x="5837" y="10088"/>
                  <a:pt x="5928" y="10071"/>
                </a:cubicBezTo>
                <a:cubicBezTo>
                  <a:pt x="6036" y="10049"/>
                  <a:pt x="6063" y="10046"/>
                  <a:pt x="6127" y="10021"/>
                </a:cubicBezTo>
              </a:path>
              <a:path w="2828" h="1291">
                <a:moveTo>
                  <a:pt x="6276" y="9550"/>
                </a:moveTo>
                <a:cubicBezTo>
                  <a:pt x="6276" y="9612"/>
                  <a:pt x="6297" y="9641"/>
                  <a:pt x="6300" y="9699"/>
                </a:cubicBezTo>
                <a:cubicBezTo>
                  <a:pt x="6305" y="9788"/>
                  <a:pt x="6287" y="9862"/>
                  <a:pt x="6276" y="9947"/>
                </a:cubicBezTo>
                <a:cubicBezTo>
                  <a:pt x="6273" y="9973"/>
                  <a:pt x="6276" y="10193"/>
                  <a:pt x="6276" y="10071"/>
                </a:cubicBezTo>
              </a:path>
              <a:path w="2828" h="1291">
                <a:moveTo>
                  <a:pt x="6052" y="9773"/>
                </a:moveTo>
                <a:cubicBezTo>
                  <a:pt x="6177" y="9773"/>
                  <a:pt x="6369" y="9804"/>
                  <a:pt x="6474" y="9748"/>
                </a:cubicBezTo>
                <a:cubicBezTo>
                  <a:pt x="6540" y="9713"/>
                  <a:pt x="6603" y="9689"/>
                  <a:pt x="6648" y="9624"/>
                </a:cubicBezTo>
                <a:cubicBezTo>
                  <a:pt x="6679" y="9580"/>
                  <a:pt x="6718" y="9503"/>
                  <a:pt x="6722" y="9451"/>
                </a:cubicBezTo>
                <a:cubicBezTo>
                  <a:pt x="6722" y="9434"/>
                  <a:pt x="6722" y="9418"/>
                  <a:pt x="6722" y="9401"/>
                </a:cubicBezTo>
                <a:cubicBezTo>
                  <a:pt x="6614" y="9423"/>
                  <a:pt x="6612" y="9450"/>
                  <a:pt x="6573" y="9550"/>
                </a:cubicBezTo>
                <a:cubicBezTo>
                  <a:pt x="6541" y="9632"/>
                  <a:pt x="6548" y="9709"/>
                  <a:pt x="6548" y="9798"/>
                </a:cubicBezTo>
                <a:cubicBezTo>
                  <a:pt x="6548" y="9864"/>
                  <a:pt x="6548" y="9930"/>
                  <a:pt x="6548" y="9996"/>
                </a:cubicBezTo>
                <a:cubicBezTo>
                  <a:pt x="6572" y="9955"/>
                  <a:pt x="6637" y="9889"/>
                  <a:pt x="6648" y="9847"/>
                </a:cubicBezTo>
                <a:cubicBezTo>
                  <a:pt x="6657" y="9812"/>
                  <a:pt x="6708" y="9747"/>
                  <a:pt x="6772" y="9773"/>
                </a:cubicBezTo>
                <a:cubicBezTo>
                  <a:pt x="6866" y="9812"/>
                  <a:pt x="6846" y="9842"/>
                  <a:pt x="6846" y="9922"/>
                </a:cubicBezTo>
                <a:cubicBezTo>
                  <a:pt x="6846" y="9970"/>
                  <a:pt x="6843" y="9971"/>
                  <a:pt x="6821" y="10021"/>
                </a:cubicBezTo>
              </a:path>
              <a:path w="2828" h="1291">
                <a:moveTo>
                  <a:pt x="6995" y="9748"/>
                </a:moveTo>
                <a:cubicBezTo>
                  <a:pt x="6947" y="9829"/>
                  <a:pt x="7001" y="9839"/>
                  <a:pt x="7020" y="9922"/>
                </a:cubicBezTo>
                <a:cubicBezTo>
                  <a:pt x="7020" y="9971"/>
                  <a:pt x="7020" y="9988"/>
                  <a:pt x="7020" y="10021"/>
                </a:cubicBezTo>
                <a:cubicBezTo>
                  <a:pt x="7060" y="10016"/>
                  <a:pt x="7171" y="9992"/>
                  <a:pt x="7193" y="9947"/>
                </a:cubicBezTo>
                <a:cubicBezTo>
                  <a:pt x="7215" y="9903"/>
                  <a:pt x="7239" y="9827"/>
                  <a:pt x="7243" y="9773"/>
                </a:cubicBezTo>
                <a:cubicBezTo>
                  <a:pt x="7243" y="9765"/>
                  <a:pt x="7243" y="9756"/>
                  <a:pt x="7243" y="9748"/>
                </a:cubicBezTo>
                <a:cubicBezTo>
                  <a:pt x="7243" y="9834"/>
                  <a:pt x="7234" y="9915"/>
                  <a:pt x="7268" y="9996"/>
                </a:cubicBezTo>
                <a:cubicBezTo>
                  <a:pt x="7316" y="10111"/>
                  <a:pt x="7352" y="10225"/>
                  <a:pt x="7392" y="10344"/>
                </a:cubicBezTo>
                <a:cubicBezTo>
                  <a:pt x="7424" y="10438"/>
                  <a:pt x="7445" y="10466"/>
                  <a:pt x="7342" y="10517"/>
                </a:cubicBezTo>
                <a:cubicBezTo>
                  <a:pt x="7296" y="10539"/>
                  <a:pt x="7191" y="10451"/>
                  <a:pt x="7144" y="10443"/>
                </a:cubicBezTo>
                <a:cubicBezTo>
                  <a:pt x="7048" y="10427"/>
                  <a:pt x="7076" y="10439"/>
                  <a:pt x="7020" y="10368"/>
                </a:cubicBezTo>
              </a:path>
              <a:path w="2828" h="1291">
                <a:moveTo>
                  <a:pt x="7640" y="9227"/>
                </a:moveTo>
                <a:cubicBezTo>
                  <a:pt x="7640" y="9356"/>
                  <a:pt x="7651" y="9474"/>
                  <a:pt x="7665" y="9599"/>
                </a:cubicBezTo>
                <a:cubicBezTo>
                  <a:pt x="7681" y="9746"/>
                  <a:pt x="7632" y="9908"/>
                  <a:pt x="7689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48040" y="3375000"/>
            <a:ext cx="1036800" cy="420840"/>
          </a:xfrm>
          <a:custGeom>
            <a:avLst/>
            <a:gdLst/>
            <a:ahLst/>
            <a:rect l="l" t="t" r="r" b="b"/>
            <a:pathLst>
              <a:path w="2878" h="1167">
                <a:moveTo>
                  <a:pt x="10939" y="9426"/>
                </a:moveTo>
                <a:cubicBezTo>
                  <a:pt x="10915" y="9354"/>
                  <a:pt x="10886" y="9363"/>
                  <a:pt x="10815" y="9401"/>
                </a:cubicBezTo>
                <a:cubicBezTo>
                  <a:pt x="10766" y="9427"/>
                  <a:pt x="10702" y="9463"/>
                  <a:pt x="10691" y="9525"/>
                </a:cubicBezTo>
                <a:cubicBezTo>
                  <a:pt x="10674" y="9621"/>
                  <a:pt x="10678" y="9760"/>
                  <a:pt x="10716" y="9847"/>
                </a:cubicBezTo>
                <a:cubicBezTo>
                  <a:pt x="10748" y="9920"/>
                  <a:pt x="10813" y="9944"/>
                  <a:pt x="10889" y="9947"/>
                </a:cubicBezTo>
                <a:cubicBezTo>
                  <a:pt x="10984" y="9951"/>
                  <a:pt x="11052" y="9917"/>
                  <a:pt x="11088" y="9823"/>
                </a:cubicBezTo>
                <a:cubicBezTo>
                  <a:pt x="11109" y="9769"/>
                  <a:pt x="11123" y="9647"/>
                  <a:pt x="11088" y="9599"/>
                </a:cubicBezTo>
                <a:cubicBezTo>
                  <a:pt x="11060" y="9561"/>
                  <a:pt x="10972" y="9490"/>
                  <a:pt x="10964" y="9475"/>
                </a:cubicBezTo>
                <a:cubicBezTo>
                  <a:pt x="10972" y="9475"/>
                  <a:pt x="10980" y="9475"/>
                  <a:pt x="10988" y="9475"/>
                </a:cubicBezTo>
              </a:path>
              <a:path w="2878" h="1167">
                <a:moveTo>
                  <a:pt x="11261" y="9550"/>
                </a:moveTo>
                <a:cubicBezTo>
                  <a:pt x="11287" y="9601"/>
                  <a:pt x="11343" y="9604"/>
                  <a:pt x="11385" y="9649"/>
                </a:cubicBezTo>
                <a:cubicBezTo>
                  <a:pt x="11439" y="9707"/>
                  <a:pt x="11513" y="9759"/>
                  <a:pt x="11559" y="9823"/>
                </a:cubicBezTo>
                <a:cubicBezTo>
                  <a:pt x="11572" y="9841"/>
                  <a:pt x="11642" y="9940"/>
                  <a:pt x="11658" y="9922"/>
                </a:cubicBezTo>
                <a:cubicBezTo>
                  <a:pt x="11666" y="9905"/>
                  <a:pt x="11675" y="9889"/>
                  <a:pt x="11683" y="9872"/>
                </a:cubicBezTo>
              </a:path>
              <a:path w="2878" h="1167">
                <a:moveTo>
                  <a:pt x="11559" y="9525"/>
                </a:moveTo>
                <a:cubicBezTo>
                  <a:pt x="11518" y="9601"/>
                  <a:pt x="11494" y="9651"/>
                  <a:pt x="11460" y="9723"/>
                </a:cubicBezTo>
                <a:cubicBezTo>
                  <a:pt x="11433" y="9780"/>
                  <a:pt x="11417" y="9872"/>
                  <a:pt x="11385" y="9922"/>
                </a:cubicBezTo>
                <a:cubicBezTo>
                  <a:pt x="11358" y="9964"/>
                  <a:pt x="11338" y="9985"/>
                  <a:pt x="11311" y="10021"/>
                </a:cubicBezTo>
              </a:path>
              <a:path w="2878" h="1167">
                <a:moveTo>
                  <a:pt x="11782" y="9674"/>
                </a:moveTo>
                <a:cubicBezTo>
                  <a:pt x="11782" y="9748"/>
                  <a:pt x="11791" y="9803"/>
                  <a:pt x="11807" y="9872"/>
                </a:cubicBezTo>
                <a:cubicBezTo>
                  <a:pt x="11824" y="9944"/>
                  <a:pt x="11872" y="9979"/>
                  <a:pt x="11931" y="9996"/>
                </a:cubicBezTo>
                <a:cubicBezTo>
                  <a:pt x="11966" y="9909"/>
                  <a:pt x="11981" y="9870"/>
                  <a:pt x="11981" y="9773"/>
                </a:cubicBezTo>
                <a:cubicBezTo>
                  <a:pt x="11981" y="9674"/>
                  <a:pt x="11981" y="9574"/>
                  <a:pt x="11981" y="9475"/>
                </a:cubicBezTo>
                <a:cubicBezTo>
                  <a:pt x="12013" y="9553"/>
                  <a:pt x="12035" y="9646"/>
                  <a:pt x="12055" y="9723"/>
                </a:cubicBezTo>
                <a:cubicBezTo>
                  <a:pt x="12098" y="9890"/>
                  <a:pt x="12154" y="10076"/>
                  <a:pt x="12179" y="10244"/>
                </a:cubicBezTo>
                <a:cubicBezTo>
                  <a:pt x="12186" y="10295"/>
                  <a:pt x="12200" y="10425"/>
                  <a:pt x="12154" y="10468"/>
                </a:cubicBezTo>
                <a:cubicBezTo>
                  <a:pt x="12113" y="10506"/>
                  <a:pt x="12057" y="10539"/>
                  <a:pt x="12005" y="10542"/>
                </a:cubicBezTo>
                <a:cubicBezTo>
                  <a:pt x="11941" y="10546"/>
                  <a:pt x="11885" y="10505"/>
                  <a:pt x="11857" y="10468"/>
                </a:cubicBezTo>
                <a:cubicBezTo>
                  <a:pt x="11849" y="10451"/>
                  <a:pt x="11840" y="10435"/>
                  <a:pt x="11832" y="10418"/>
                </a:cubicBezTo>
              </a:path>
              <a:path w="2878" h="1167">
                <a:moveTo>
                  <a:pt x="12576" y="9649"/>
                </a:moveTo>
                <a:cubicBezTo>
                  <a:pt x="12533" y="9625"/>
                  <a:pt x="12483" y="9576"/>
                  <a:pt x="12427" y="9599"/>
                </a:cubicBezTo>
                <a:cubicBezTo>
                  <a:pt x="12386" y="9616"/>
                  <a:pt x="12347" y="9688"/>
                  <a:pt x="12328" y="9723"/>
                </a:cubicBezTo>
                <a:cubicBezTo>
                  <a:pt x="12299" y="9778"/>
                  <a:pt x="12285" y="9826"/>
                  <a:pt x="12328" y="9872"/>
                </a:cubicBezTo>
                <a:cubicBezTo>
                  <a:pt x="12367" y="9911"/>
                  <a:pt x="12368" y="9928"/>
                  <a:pt x="12402" y="9922"/>
                </a:cubicBezTo>
                <a:cubicBezTo>
                  <a:pt x="12463" y="9879"/>
                  <a:pt x="12498" y="9850"/>
                  <a:pt x="12502" y="9773"/>
                </a:cubicBezTo>
                <a:cubicBezTo>
                  <a:pt x="12505" y="9715"/>
                  <a:pt x="12502" y="9657"/>
                  <a:pt x="12502" y="9599"/>
                </a:cubicBezTo>
                <a:cubicBezTo>
                  <a:pt x="12512" y="9752"/>
                  <a:pt x="12557" y="9874"/>
                  <a:pt x="12601" y="10021"/>
                </a:cubicBezTo>
                <a:cubicBezTo>
                  <a:pt x="12630" y="10117"/>
                  <a:pt x="12698" y="10267"/>
                  <a:pt x="12675" y="10368"/>
                </a:cubicBezTo>
                <a:cubicBezTo>
                  <a:pt x="12657" y="10448"/>
                  <a:pt x="12520" y="10418"/>
                  <a:pt x="12477" y="10393"/>
                </a:cubicBezTo>
                <a:cubicBezTo>
                  <a:pt x="12424" y="10362"/>
                  <a:pt x="12427" y="10323"/>
                  <a:pt x="12427" y="10269"/>
                </a:cubicBezTo>
                <a:cubicBezTo>
                  <a:pt x="12427" y="10253"/>
                  <a:pt x="12427" y="10236"/>
                  <a:pt x="12427" y="10220"/>
                </a:cubicBezTo>
              </a:path>
              <a:path w="2878" h="1167">
                <a:moveTo>
                  <a:pt x="12750" y="9922"/>
                </a:moveTo>
                <a:cubicBezTo>
                  <a:pt x="12801" y="9892"/>
                  <a:pt x="12850" y="9878"/>
                  <a:pt x="12898" y="9847"/>
                </a:cubicBezTo>
                <a:cubicBezTo>
                  <a:pt x="12967" y="9802"/>
                  <a:pt x="12930" y="9748"/>
                  <a:pt x="12923" y="9674"/>
                </a:cubicBezTo>
                <a:cubicBezTo>
                  <a:pt x="12836" y="9674"/>
                  <a:pt x="12817" y="9693"/>
                  <a:pt x="12774" y="9773"/>
                </a:cubicBezTo>
                <a:cubicBezTo>
                  <a:pt x="12739" y="9837"/>
                  <a:pt x="12698" y="9921"/>
                  <a:pt x="12725" y="9996"/>
                </a:cubicBezTo>
                <a:cubicBezTo>
                  <a:pt x="12743" y="10045"/>
                  <a:pt x="12805" y="10116"/>
                  <a:pt x="12849" y="10145"/>
                </a:cubicBezTo>
                <a:cubicBezTo>
                  <a:pt x="12929" y="10199"/>
                  <a:pt x="12936" y="10189"/>
                  <a:pt x="13022" y="10145"/>
                </a:cubicBezTo>
              </a:path>
              <a:path w="2878" h="1167">
                <a:moveTo>
                  <a:pt x="13171" y="9699"/>
                </a:moveTo>
                <a:cubicBezTo>
                  <a:pt x="13146" y="9755"/>
                  <a:pt x="13163" y="9793"/>
                  <a:pt x="13146" y="9847"/>
                </a:cubicBezTo>
                <a:cubicBezTo>
                  <a:pt x="13126" y="9910"/>
                  <a:pt x="13122" y="9904"/>
                  <a:pt x="13122" y="9971"/>
                </a:cubicBezTo>
                <a:cubicBezTo>
                  <a:pt x="13122" y="10022"/>
                  <a:pt x="13165" y="9897"/>
                  <a:pt x="13171" y="9872"/>
                </a:cubicBezTo>
                <a:cubicBezTo>
                  <a:pt x="13183" y="9819"/>
                  <a:pt x="13196" y="9737"/>
                  <a:pt x="13246" y="9699"/>
                </a:cubicBezTo>
                <a:cubicBezTo>
                  <a:pt x="13302" y="9656"/>
                  <a:pt x="13369" y="9719"/>
                  <a:pt x="13395" y="9748"/>
                </a:cubicBezTo>
                <a:cubicBezTo>
                  <a:pt x="13452" y="9811"/>
                  <a:pt x="13465" y="9865"/>
                  <a:pt x="13469" y="9947"/>
                </a:cubicBezTo>
                <a:cubicBezTo>
                  <a:pt x="13472" y="10005"/>
                  <a:pt x="13459" y="10044"/>
                  <a:pt x="13494" y="10096"/>
                </a:cubicBezTo>
                <a:cubicBezTo>
                  <a:pt x="13532" y="10132"/>
                  <a:pt x="13550" y="10125"/>
                  <a:pt x="13568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42000" y="3178080"/>
            <a:ext cx="1071720" cy="366840"/>
          </a:xfrm>
          <a:custGeom>
            <a:avLst/>
            <a:gdLst/>
            <a:ahLst/>
            <a:rect l="l" t="t" r="r" b="b"/>
            <a:pathLst>
              <a:path w="2978" h="1018">
                <a:moveTo>
                  <a:pt x="16520" y="9178"/>
                </a:moveTo>
                <a:cubicBezTo>
                  <a:pt x="16510" y="9110"/>
                  <a:pt x="16475" y="9051"/>
                  <a:pt x="16396" y="9029"/>
                </a:cubicBezTo>
                <a:cubicBezTo>
                  <a:pt x="16332" y="9011"/>
                  <a:pt x="16247" y="9040"/>
                  <a:pt x="16197" y="9079"/>
                </a:cubicBezTo>
                <a:cubicBezTo>
                  <a:pt x="16123" y="9136"/>
                  <a:pt x="16046" y="9235"/>
                  <a:pt x="16024" y="9327"/>
                </a:cubicBezTo>
                <a:cubicBezTo>
                  <a:pt x="16002" y="9417"/>
                  <a:pt x="15931" y="9524"/>
                  <a:pt x="15949" y="9624"/>
                </a:cubicBezTo>
                <a:cubicBezTo>
                  <a:pt x="15966" y="9715"/>
                  <a:pt x="16061" y="9806"/>
                  <a:pt x="16148" y="9823"/>
                </a:cubicBezTo>
                <a:cubicBezTo>
                  <a:pt x="16231" y="9839"/>
                  <a:pt x="16316" y="9814"/>
                  <a:pt x="16396" y="9798"/>
                </a:cubicBezTo>
              </a:path>
              <a:path w="2978" h="1018">
                <a:moveTo>
                  <a:pt x="16842" y="9376"/>
                </a:moveTo>
                <a:cubicBezTo>
                  <a:pt x="16765" y="9366"/>
                  <a:pt x="16729" y="9388"/>
                  <a:pt x="16694" y="9475"/>
                </a:cubicBezTo>
                <a:cubicBezTo>
                  <a:pt x="16664" y="9548"/>
                  <a:pt x="16623" y="9622"/>
                  <a:pt x="16619" y="9699"/>
                </a:cubicBezTo>
                <a:cubicBezTo>
                  <a:pt x="16615" y="9775"/>
                  <a:pt x="16609" y="9758"/>
                  <a:pt x="16669" y="9798"/>
                </a:cubicBezTo>
                <a:cubicBezTo>
                  <a:pt x="16721" y="9785"/>
                  <a:pt x="16777" y="9733"/>
                  <a:pt x="16793" y="9674"/>
                </a:cubicBezTo>
                <a:cubicBezTo>
                  <a:pt x="16813" y="9602"/>
                  <a:pt x="16818" y="9529"/>
                  <a:pt x="16818" y="9451"/>
                </a:cubicBezTo>
                <a:cubicBezTo>
                  <a:pt x="16818" y="9443"/>
                  <a:pt x="16818" y="9434"/>
                  <a:pt x="16818" y="9426"/>
                </a:cubicBezTo>
                <a:cubicBezTo>
                  <a:pt x="16818" y="9475"/>
                  <a:pt x="16835" y="9512"/>
                  <a:pt x="16842" y="9550"/>
                </a:cubicBezTo>
                <a:cubicBezTo>
                  <a:pt x="16852" y="9603"/>
                  <a:pt x="16871" y="9647"/>
                  <a:pt x="16892" y="9699"/>
                </a:cubicBezTo>
                <a:cubicBezTo>
                  <a:pt x="16920" y="9768"/>
                  <a:pt x="16926" y="9764"/>
                  <a:pt x="16991" y="9773"/>
                </a:cubicBezTo>
              </a:path>
              <a:path w="2978" h="1018">
                <a:moveTo>
                  <a:pt x="17090" y="9376"/>
                </a:moveTo>
                <a:cubicBezTo>
                  <a:pt x="17066" y="9490"/>
                  <a:pt x="17073" y="9521"/>
                  <a:pt x="17090" y="9624"/>
                </a:cubicBezTo>
                <a:cubicBezTo>
                  <a:pt x="17100" y="9685"/>
                  <a:pt x="17096" y="9856"/>
                  <a:pt x="17115" y="9798"/>
                </a:cubicBezTo>
                <a:cubicBezTo>
                  <a:pt x="17154" y="9681"/>
                  <a:pt x="17087" y="9544"/>
                  <a:pt x="17140" y="9426"/>
                </a:cubicBezTo>
                <a:cubicBezTo>
                  <a:pt x="17165" y="9371"/>
                  <a:pt x="17205" y="9360"/>
                  <a:pt x="17264" y="9376"/>
                </a:cubicBezTo>
                <a:cubicBezTo>
                  <a:pt x="17331" y="9394"/>
                  <a:pt x="17350" y="9426"/>
                  <a:pt x="17413" y="9426"/>
                </a:cubicBezTo>
              </a:path>
              <a:path w="2978" h="1018">
                <a:moveTo>
                  <a:pt x="17562" y="8830"/>
                </a:moveTo>
                <a:cubicBezTo>
                  <a:pt x="17528" y="8920"/>
                  <a:pt x="17537" y="9004"/>
                  <a:pt x="17537" y="9103"/>
                </a:cubicBezTo>
                <a:cubicBezTo>
                  <a:pt x="17537" y="9326"/>
                  <a:pt x="17537" y="9550"/>
                  <a:pt x="17537" y="9773"/>
                </a:cubicBezTo>
                <a:cubicBezTo>
                  <a:pt x="17572" y="9726"/>
                  <a:pt x="17562" y="9686"/>
                  <a:pt x="17562" y="9624"/>
                </a:cubicBezTo>
                <a:cubicBezTo>
                  <a:pt x="17562" y="9601"/>
                  <a:pt x="17592" y="9482"/>
                  <a:pt x="17611" y="9475"/>
                </a:cubicBezTo>
                <a:cubicBezTo>
                  <a:pt x="17697" y="9444"/>
                  <a:pt x="17715" y="9499"/>
                  <a:pt x="17760" y="9550"/>
                </a:cubicBezTo>
                <a:cubicBezTo>
                  <a:pt x="17800" y="9595"/>
                  <a:pt x="17838" y="9648"/>
                  <a:pt x="17859" y="9699"/>
                </a:cubicBezTo>
                <a:cubicBezTo>
                  <a:pt x="17897" y="9790"/>
                  <a:pt x="17870" y="9831"/>
                  <a:pt x="17785" y="9847"/>
                </a:cubicBezTo>
                <a:cubicBezTo>
                  <a:pt x="17734" y="9857"/>
                  <a:pt x="17624" y="9861"/>
                  <a:pt x="17611" y="9823"/>
                </a:cubicBezTo>
              </a:path>
              <a:path w="2978" h="1018">
                <a:moveTo>
                  <a:pt x="18331" y="9475"/>
                </a:moveTo>
                <a:cubicBezTo>
                  <a:pt x="18264" y="9487"/>
                  <a:pt x="18165" y="9518"/>
                  <a:pt x="18132" y="9599"/>
                </a:cubicBezTo>
                <a:cubicBezTo>
                  <a:pt x="18112" y="9647"/>
                  <a:pt x="18086" y="9752"/>
                  <a:pt x="18132" y="9798"/>
                </a:cubicBezTo>
                <a:cubicBezTo>
                  <a:pt x="18159" y="9825"/>
                  <a:pt x="18291" y="9858"/>
                  <a:pt x="18331" y="9847"/>
                </a:cubicBezTo>
                <a:cubicBezTo>
                  <a:pt x="18399" y="9828"/>
                  <a:pt x="18398" y="9806"/>
                  <a:pt x="18430" y="9748"/>
                </a:cubicBezTo>
                <a:cubicBezTo>
                  <a:pt x="18458" y="9695"/>
                  <a:pt x="18455" y="9656"/>
                  <a:pt x="18455" y="9599"/>
                </a:cubicBezTo>
                <a:cubicBezTo>
                  <a:pt x="18455" y="9550"/>
                  <a:pt x="18455" y="9533"/>
                  <a:pt x="18405" y="9550"/>
                </a:cubicBezTo>
              </a:path>
              <a:path w="2978" h="1018">
                <a:moveTo>
                  <a:pt x="18579" y="9500"/>
                </a:moveTo>
                <a:cubicBezTo>
                  <a:pt x="18632" y="9572"/>
                  <a:pt x="18628" y="9586"/>
                  <a:pt x="18628" y="9674"/>
                </a:cubicBezTo>
                <a:cubicBezTo>
                  <a:pt x="18628" y="9728"/>
                  <a:pt x="18613" y="9757"/>
                  <a:pt x="18604" y="9798"/>
                </a:cubicBezTo>
                <a:cubicBezTo>
                  <a:pt x="18580" y="9913"/>
                  <a:pt x="18633" y="9749"/>
                  <a:pt x="18653" y="9723"/>
                </a:cubicBezTo>
                <a:cubicBezTo>
                  <a:pt x="18695" y="9668"/>
                  <a:pt x="18705" y="9641"/>
                  <a:pt x="18752" y="9599"/>
                </a:cubicBezTo>
                <a:cubicBezTo>
                  <a:pt x="18787" y="9568"/>
                  <a:pt x="18856" y="9566"/>
                  <a:pt x="18876" y="9624"/>
                </a:cubicBezTo>
                <a:cubicBezTo>
                  <a:pt x="18892" y="9670"/>
                  <a:pt x="18923" y="9753"/>
                  <a:pt x="18926" y="9798"/>
                </a:cubicBezTo>
                <a:cubicBezTo>
                  <a:pt x="18931" y="9867"/>
                  <a:pt x="18932" y="9835"/>
                  <a:pt x="18876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61160" y="3446640"/>
            <a:ext cx="241560" cy="188640"/>
          </a:xfrm>
          <a:custGeom>
            <a:avLst/>
            <a:gdLst/>
            <a:ahLst/>
            <a:rect l="l" t="t" r="r" b="b"/>
            <a:pathLst>
              <a:path w="671" h="522">
                <a:moveTo>
                  <a:pt x="21282" y="9674"/>
                </a:moveTo>
                <a:cubicBezTo>
                  <a:pt x="21309" y="9709"/>
                  <a:pt x="21326" y="9777"/>
                  <a:pt x="21332" y="9823"/>
                </a:cubicBezTo>
                <a:cubicBezTo>
                  <a:pt x="21344" y="9919"/>
                  <a:pt x="21334" y="9939"/>
                  <a:pt x="21382" y="10021"/>
                </a:cubicBezTo>
                <a:cubicBezTo>
                  <a:pt x="21417" y="10080"/>
                  <a:pt x="21438" y="10131"/>
                  <a:pt x="21506" y="10071"/>
                </a:cubicBezTo>
                <a:cubicBezTo>
                  <a:pt x="21578" y="10008"/>
                  <a:pt x="21577" y="9977"/>
                  <a:pt x="21605" y="9897"/>
                </a:cubicBezTo>
                <a:cubicBezTo>
                  <a:pt x="21627" y="9854"/>
                  <a:pt x="21630" y="9842"/>
                  <a:pt x="21654" y="9823"/>
                </a:cubicBezTo>
                <a:cubicBezTo>
                  <a:pt x="21697" y="9878"/>
                  <a:pt x="21672" y="9897"/>
                  <a:pt x="21729" y="9947"/>
                </a:cubicBezTo>
                <a:cubicBezTo>
                  <a:pt x="21758" y="9973"/>
                  <a:pt x="21865" y="10057"/>
                  <a:pt x="21903" y="10046"/>
                </a:cubicBezTo>
                <a:cubicBezTo>
                  <a:pt x="21977" y="10025"/>
                  <a:pt x="21952" y="9959"/>
                  <a:pt x="21952" y="9897"/>
                </a:cubicBezTo>
                <a:cubicBezTo>
                  <a:pt x="21952" y="9821"/>
                  <a:pt x="21968" y="9741"/>
                  <a:pt x="21927" y="9674"/>
                </a:cubicBezTo>
                <a:cubicBezTo>
                  <a:pt x="21899" y="9628"/>
                  <a:pt x="21895" y="9623"/>
                  <a:pt x="21853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055000" y="3313080"/>
            <a:ext cx="749160" cy="268200"/>
          </a:xfrm>
          <a:custGeom>
            <a:avLst/>
            <a:gdLst/>
            <a:ahLst/>
            <a:rect l="l" t="t" r="r" b="b"/>
            <a:pathLst>
              <a:path w="2084" h="745">
                <a:moveTo>
                  <a:pt x="22647" y="9575"/>
                </a:moveTo>
                <a:cubicBezTo>
                  <a:pt x="22574" y="9555"/>
                  <a:pt x="22521" y="9524"/>
                  <a:pt x="22473" y="9599"/>
                </a:cubicBezTo>
                <a:cubicBezTo>
                  <a:pt x="22441" y="9648"/>
                  <a:pt x="22387" y="9715"/>
                  <a:pt x="22374" y="9773"/>
                </a:cubicBezTo>
                <a:cubicBezTo>
                  <a:pt x="22365" y="9814"/>
                  <a:pt x="22363" y="9915"/>
                  <a:pt x="22399" y="9947"/>
                </a:cubicBezTo>
                <a:cubicBezTo>
                  <a:pt x="22407" y="9947"/>
                  <a:pt x="22415" y="9947"/>
                  <a:pt x="22423" y="9947"/>
                </a:cubicBezTo>
                <a:cubicBezTo>
                  <a:pt x="22483" y="9904"/>
                  <a:pt x="22505" y="9850"/>
                  <a:pt x="22547" y="9798"/>
                </a:cubicBezTo>
                <a:cubicBezTo>
                  <a:pt x="22600" y="9732"/>
                  <a:pt x="22577" y="9684"/>
                  <a:pt x="22622" y="9624"/>
                </a:cubicBezTo>
                <a:cubicBezTo>
                  <a:pt x="22622" y="9677"/>
                  <a:pt x="22651" y="9753"/>
                  <a:pt x="22671" y="9798"/>
                </a:cubicBezTo>
                <a:cubicBezTo>
                  <a:pt x="22686" y="9831"/>
                  <a:pt x="22767" y="9909"/>
                  <a:pt x="22796" y="9922"/>
                </a:cubicBezTo>
                <a:cubicBezTo>
                  <a:pt x="22860" y="9951"/>
                  <a:pt x="22881" y="9914"/>
                  <a:pt x="22895" y="9872"/>
                </a:cubicBezTo>
              </a:path>
              <a:path w="2084" h="745">
                <a:moveTo>
                  <a:pt x="23019" y="9203"/>
                </a:moveTo>
                <a:cubicBezTo>
                  <a:pt x="23028" y="9305"/>
                  <a:pt x="23051" y="9404"/>
                  <a:pt x="23093" y="9500"/>
                </a:cubicBezTo>
                <a:cubicBezTo>
                  <a:pt x="23129" y="9582"/>
                  <a:pt x="23186" y="9656"/>
                  <a:pt x="23192" y="9748"/>
                </a:cubicBezTo>
                <a:cubicBezTo>
                  <a:pt x="23196" y="9820"/>
                  <a:pt x="23174" y="9890"/>
                  <a:pt x="23217" y="9947"/>
                </a:cubicBezTo>
              </a:path>
              <a:path w="2084" h="745">
                <a:moveTo>
                  <a:pt x="23019" y="9699"/>
                </a:moveTo>
                <a:cubicBezTo>
                  <a:pt x="23106" y="9699"/>
                  <a:pt x="23184" y="9706"/>
                  <a:pt x="23267" y="9674"/>
                </a:cubicBezTo>
                <a:cubicBezTo>
                  <a:pt x="23320" y="9653"/>
                  <a:pt x="23362" y="9644"/>
                  <a:pt x="23416" y="9624"/>
                </a:cubicBezTo>
              </a:path>
              <a:path w="2084" h="745">
                <a:moveTo>
                  <a:pt x="23639" y="9723"/>
                </a:moveTo>
                <a:cubicBezTo>
                  <a:pt x="23672" y="9699"/>
                  <a:pt x="23725" y="9664"/>
                  <a:pt x="23763" y="9649"/>
                </a:cubicBezTo>
                <a:cubicBezTo>
                  <a:pt x="23818" y="9627"/>
                  <a:pt x="23818" y="9568"/>
                  <a:pt x="23763" y="9525"/>
                </a:cubicBezTo>
                <a:cubicBezTo>
                  <a:pt x="23721" y="9492"/>
                  <a:pt x="23654" y="9493"/>
                  <a:pt x="23614" y="9525"/>
                </a:cubicBezTo>
                <a:cubicBezTo>
                  <a:pt x="23557" y="9571"/>
                  <a:pt x="23540" y="9613"/>
                  <a:pt x="23515" y="9674"/>
                </a:cubicBezTo>
                <a:cubicBezTo>
                  <a:pt x="23485" y="9747"/>
                  <a:pt x="23470" y="9795"/>
                  <a:pt x="23540" y="9847"/>
                </a:cubicBezTo>
                <a:cubicBezTo>
                  <a:pt x="23614" y="9902"/>
                  <a:pt x="23651" y="9922"/>
                  <a:pt x="23738" y="9922"/>
                </a:cubicBezTo>
                <a:cubicBezTo>
                  <a:pt x="23797" y="9922"/>
                  <a:pt x="23843" y="9905"/>
                  <a:pt x="23887" y="9872"/>
                </a:cubicBezTo>
              </a:path>
              <a:path w="2084" h="745">
                <a:moveTo>
                  <a:pt x="24061" y="9525"/>
                </a:moveTo>
                <a:cubicBezTo>
                  <a:pt x="24039" y="9555"/>
                  <a:pt x="24015" y="9607"/>
                  <a:pt x="24036" y="9649"/>
                </a:cubicBezTo>
                <a:cubicBezTo>
                  <a:pt x="24062" y="9700"/>
                  <a:pt x="24061" y="9735"/>
                  <a:pt x="24061" y="9798"/>
                </a:cubicBezTo>
                <a:cubicBezTo>
                  <a:pt x="24061" y="9849"/>
                  <a:pt x="24063" y="9866"/>
                  <a:pt x="24110" y="9872"/>
                </a:cubicBezTo>
                <a:cubicBezTo>
                  <a:pt x="24110" y="9799"/>
                  <a:pt x="24120" y="9772"/>
                  <a:pt x="24135" y="9699"/>
                </a:cubicBezTo>
                <a:cubicBezTo>
                  <a:pt x="24145" y="9648"/>
                  <a:pt x="24167" y="9620"/>
                  <a:pt x="24185" y="9575"/>
                </a:cubicBezTo>
                <a:cubicBezTo>
                  <a:pt x="24202" y="9532"/>
                  <a:pt x="24256" y="9550"/>
                  <a:pt x="24309" y="9550"/>
                </a:cubicBezTo>
                <a:cubicBezTo>
                  <a:pt x="24362" y="9550"/>
                  <a:pt x="24442" y="9570"/>
                  <a:pt x="24457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2040" y="3795840"/>
            <a:ext cx="393840" cy="6192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1091" y="10716"/>
                </a:moveTo>
                <a:cubicBezTo>
                  <a:pt x="1164" y="10716"/>
                  <a:pt x="1219" y="10706"/>
                  <a:pt x="1290" y="10691"/>
                </a:cubicBezTo>
                <a:cubicBezTo>
                  <a:pt x="1487" y="10648"/>
                  <a:pt x="1686" y="10623"/>
                  <a:pt x="1885" y="10592"/>
                </a:cubicBezTo>
                <a:cubicBezTo>
                  <a:pt x="1905" y="10589"/>
                  <a:pt x="2115" y="10518"/>
                  <a:pt x="2158" y="10542"/>
                </a:cubicBezTo>
                <a:cubicBezTo>
                  <a:pt x="2166" y="10550"/>
                  <a:pt x="2175" y="10559"/>
                  <a:pt x="2183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37160" y="3652920"/>
            <a:ext cx="1187640" cy="330120"/>
          </a:xfrm>
          <a:custGeom>
            <a:avLst/>
            <a:gdLst/>
            <a:ahLst/>
            <a:rect l="l" t="t" r="r" b="b"/>
            <a:pathLst>
              <a:path w="3300" h="919">
                <a:moveTo>
                  <a:pt x="15726" y="10616"/>
                </a:moveTo>
                <a:cubicBezTo>
                  <a:pt x="15651" y="10564"/>
                  <a:pt x="15638" y="10542"/>
                  <a:pt x="15553" y="10542"/>
                </a:cubicBezTo>
                <a:cubicBezTo>
                  <a:pt x="15479" y="10542"/>
                  <a:pt x="15449" y="10595"/>
                  <a:pt x="15429" y="10641"/>
                </a:cubicBezTo>
                <a:cubicBezTo>
                  <a:pt x="15395" y="10718"/>
                  <a:pt x="15379" y="10755"/>
                  <a:pt x="15379" y="10840"/>
                </a:cubicBezTo>
                <a:cubicBezTo>
                  <a:pt x="15379" y="10933"/>
                  <a:pt x="15374" y="10941"/>
                  <a:pt x="15453" y="10988"/>
                </a:cubicBezTo>
                <a:cubicBezTo>
                  <a:pt x="15506" y="11020"/>
                  <a:pt x="15581" y="11001"/>
                  <a:pt x="15627" y="10964"/>
                </a:cubicBezTo>
                <a:cubicBezTo>
                  <a:pt x="15715" y="10895"/>
                  <a:pt x="15696" y="10894"/>
                  <a:pt x="15726" y="10790"/>
                </a:cubicBezTo>
                <a:cubicBezTo>
                  <a:pt x="15762" y="10663"/>
                  <a:pt x="15734" y="10575"/>
                  <a:pt x="15726" y="10443"/>
                </a:cubicBezTo>
                <a:cubicBezTo>
                  <a:pt x="15721" y="10362"/>
                  <a:pt x="15726" y="10277"/>
                  <a:pt x="15726" y="10195"/>
                </a:cubicBezTo>
                <a:cubicBezTo>
                  <a:pt x="15716" y="10274"/>
                  <a:pt x="15701" y="10334"/>
                  <a:pt x="15701" y="10418"/>
                </a:cubicBezTo>
                <a:cubicBezTo>
                  <a:pt x="15701" y="10508"/>
                  <a:pt x="15723" y="10579"/>
                  <a:pt x="15726" y="10666"/>
                </a:cubicBezTo>
                <a:cubicBezTo>
                  <a:pt x="15730" y="10765"/>
                  <a:pt x="15726" y="10865"/>
                  <a:pt x="15726" y="10964"/>
                </a:cubicBezTo>
              </a:path>
              <a:path w="3300" h="919">
                <a:moveTo>
                  <a:pt x="15974" y="10740"/>
                </a:moveTo>
                <a:cubicBezTo>
                  <a:pt x="15974" y="10835"/>
                  <a:pt x="15999" y="10889"/>
                  <a:pt x="15925" y="10939"/>
                </a:cubicBezTo>
              </a:path>
              <a:path w="3300" h="919">
                <a:moveTo>
                  <a:pt x="15974" y="10418"/>
                </a:moveTo>
                <a:cubicBezTo>
                  <a:pt x="15974" y="10443"/>
                  <a:pt x="15974" y="10451"/>
                  <a:pt x="15949" y="10443"/>
                </a:cubicBezTo>
              </a:path>
              <a:path w="3300" h="919">
                <a:moveTo>
                  <a:pt x="16321" y="10641"/>
                </a:moveTo>
                <a:cubicBezTo>
                  <a:pt x="16274" y="10641"/>
                  <a:pt x="16202" y="10645"/>
                  <a:pt x="16173" y="10691"/>
                </a:cubicBezTo>
                <a:cubicBezTo>
                  <a:pt x="16130" y="10759"/>
                  <a:pt x="16143" y="10825"/>
                  <a:pt x="16173" y="10889"/>
                </a:cubicBezTo>
                <a:cubicBezTo>
                  <a:pt x="16196" y="10939"/>
                  <a:pt x="16284" y="10975"/>
                  <a:pt x="16346" y="10988"/>
                </a:cubicBezTo>
                <a:cubicBezTo>
                  <a:pt x="16386" y="10997"/>
                  <a:pt x="16469" y="11002"/>
                  <a:pt x="16495" y="10964"/>
                </a:cubicBezTo>
                <a:cubicBezTo>
                  <a:pt x="16525" y="10920"/>
                  <a:pt x="16520" y="10889"/>
                  <a:pt x="16520" y="10840"/>
                </a:cubicBezTo>
                <a:cubicBezTo>
                  <a:pt x="16520" y="10759"/>
                  <a:pt x="16520" y="10755"/>
                  <a:pt x="16446" y="10716"/>
                </a:cubicBezTo>
                <a:cubicBezTo>
                  <a:pt x="16429" y="10708"/>
                  <a:pt x="16413" y="10699"/>
                  <a:pt x="16396" y="10691"/>
                </a:cubicBezTo>
              </a:path>
              <a:path w="3300" h="919">
                <a:moveTo>
                  <a:pt x="16867" y="10716"/>
                </a:moveTo>
                <a:cubicBezTo>
                  <a:pt x="16859" y="10716"/>
                  <a:pt x="16850" y="10716"/>
                  <a:pt x="16842" y="10716"/>
                </a:cubicBezTo>
                <a:cubicBezTo>
                  <a:pt x="16869" y="10783"/>
                  <a:pt x="16895" y="10819"/>
                  <a:pt x="16942" y="10864"/>
                </a:cubicBezTo>
                <a:cubicBezTo>
                  <a:pt x="17005" y="10923"/>
                  <a:pt x="17071" y="10940"/>
                  <a:pt x="17140" y="10988"/>
                </a:cubicBezTo>
                <a:cubicBezTo>
                  <a:pt x="17204" y="11032"/>
                  <a:pt x="17198" y="10994"/>
                  <a:pt x="17214" y="10939"/>
                </a:cubicBezTo>
              </a:path>
              <a:path w="3300" h="919">
                <a:moveTo>
                  <a:pt x="17140" y="10616"/>
                </a:moveTo>
                <a:cubicBezTo>
                  <a:pt x="17100" y="10674"/>
                  <a:pt x="17063" y="10738"/>
                  <a:pt x="17016" y="10790"/>
                </a:cubicBezTo>
                <a:cubicBezTo>
                  <a:pt x="16974" y="10837"/>
                  <a:pt x="16974" y="10902"/>
                  <a:pt x="16917" y="10939"/>
                </a:cubicBezTo>
                <a:cubicBezTo>
                  <a:pt x="16877" y="10959"/>
                  <a:pt x="16860" y="10957"/>
                  <a:pt x="16867" y="10988"/>
                </a:cubicBezTo>
              </a:path>
              <a:path w="3300" h="919">
                <a:moveTo>
                  <a:pt x="17487" y="10666"/>
                </a:moveTo>
                <a:cubicBezTo>
                  <a:pt x="17487" y="10688"/>
                  <a:pt x="17487" y="11038"/>
                  <a:pt x="17487" y="10840"/>
                </a:cubicBezTo>
              </a:path>
              <a:path w="3300" h="919">
                <a:moveTo>
                  <a:pt x="17562" y="10344"/>
                </a:moveTo>
                <a:cubicBezTo>
                  <a:pt x="17562" y="10385"/>
                  <a:pt x="17562" y="10427"/>
                  <a:pt x="17562" y="10468"/>
                </a:cubicBezTo>
              </a:path>
              <a:path w="3300" h="919">
                <a:moveTo>
                  <a:pt x="17909" y="10740"/>
                </a:moveTo>
                <a:cubicBezTo>
                  <a:pt x="17909" y="10674"/>
                  <a:pt x="17909" y="10657"/>
                  <a:pt x="17909" y="10616"/>
                </a:cubicBezTo>
                <a:cubicBezTo>
                  <a:pt x="17807" y="10650"/>
                  <a:pt x="17758" y="10695"/>
                  <a:pt x="17711" y="10790"/>
                </a:cubicBezTo>
                <a:cubicBezTo>
                  <a:pt x="17696" y="10820"/>
                  <a:pt x="17627" y="10924"/>
                  <a:pt x="17661" y="10964"/>
                </a:cubicBezTo>
                <a:cubicBezTo>
                  <a:pt x="17703" y="11014"/>
                  <a:pt x="17819" y="10992"/>
                  <a:pt x="17859" y="10988"/>
                </a:cubicBezTo>
                <a:cubicBezTo>
                  <a:pt x="17914" y="10982"/>
                  <a:pt x="17990" y="10906"/>
                  <a:pt x="18008" y="10840"/>
                </a:cubicBezTo>
                <a:cubicBezTo>
                  <a:pt x="18047" y="10698"/>
                  <a:pt x="17999" y="10142"/>
                  <a:pt x="17983" y="10195"/>
                </a:cubicBezTo>
                <a:cubicBezTo>
                  <a:pt x="17983" y="10203"/>
                  <a:pt x="17983" y="10212"/>
                  <a:pt x="17983" y="10220"/>
                </a:cubicBezTo>
              </a:path>
              <a:path w="3300" h="919">
                <a:moveTo>
                  <a:pt x="18207" y="10740"/>
                </a:moveTo>
                <a:cubicBezTo>
                  <a:pt x="18265" y="10755"/>
                  <a:pt x="18269" y="10763"/>
                  <a:pt x="18331" y="10716"/>
                </a:cubicBezTo>
                <a:cubicBezTo>
                  <a:pt x="18386" y="10675"/>
                  <a:pt x="18390" y="10660"/>
                  <a:pt x="18380" y="10616"/>
                </a:cubicBezTo>
                <a:cubicBezTo>
                  <a:pt x="18360" y="10528"/>
                  <a:pt x="18241" y="10620"/>
                  <a:pt x="18207" y="10641"/>
                </a:cubicBezTo>
                <a:cubicBezTo>
                  <a:pt x="18150" y="10676"/>
                  <a:pt x="18112" y="10718"/>
                  <a:pt x="18107" y="10790"/>
                </a:cubicBezTo>
                <a:cubicBezTo>
                  <a:pt x="18100" y="10898"/>
                  <a:pt x="18156" y="10940"/>
                  <a:pt x="18231" y="10988"/>
                </a:cubicBezTo>
                <a:cubicBezTo>
                  <a:pt x="18346" y="11061"/>
                  <a:pt x="18419" y="11063"/>
                  <a:pt x="18554" y="11063"/>
                </a:cubicBezTo>
                <a:cubicBezTo>
                  <a:pt x="18627" y="11063"/>
                  <a:pt x="18651" y="11064"/>
                  <a:pt x="1867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7680" y="3857760"/>
            <a:ext cx="54000" cy="214200"/>
          </a:xfrm>
          <a:custGeom>
            <a:avLst/>
            <a:gdLst/>
            <a:ahLst/>
            <a:rect l="l" t="t" r="r" b="b"/>
            <a:pathLst>
              <a:path w="150" h="596">
                <a:moveTo>
                  <a:pt x="1588" y="10716"/>
                </a:moveTo>
                <a:cubicBezTo>
                  <a:pt x="1549" y="10766"/>
                  <a:pt x="1577" y="10778"/>
                  <a:pt x="1563" y="10840"/>
                </a:cubicBezTo>
                <a:cubicBezTo>
                  <a:pt x="1542" y="10931"/>
                  <a:pt x="1517" y="11026"/>
                  <a:pt x="1488" y="11112"/>
                </a:cubicBezTo>
                <a:cubicBezTo>
                  <a:pt x="1466" y="11177"/>
                  <a:pt x="1447" y="11221"/>
                  <a:pt x="1439" y="11286"/>
                </a:cubicBezTo>
                <a:cubicBezTo>
                  <a:pt x="1439" y="11377"/>
                  <a:pt x="1439" y="11195"/>
                  <a:pt x="1439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14680" y="3840120"/>
            <a:ext cx="1349280" cy="303120"/>
          </a:xfrm>
          <a:custGeom>
            <a:avLst/>
            <a:gdLst/>
            <a:ahLst/>
            <a:rect l="l" t="t" r="r" b="b"/>
            <a:pathLst>
              <a:path w="3747" h="844">
                <a:moveTo>
                  <a:pt x="4787" y="10716"/>
                </a:moveTo>
                <a:cubicBezTo>
                  <a:pt x="4787" y="10699"/>
                  <a:pt x="4787" y="10683"/>
                  <a:pt x="4787" y="10666"/>
                </a:cubicBezTo>
                <a:cubicBezTo>
                  <a:pt x="4807" y="10706"/>
                  <a:pt x="4787" y="10772"/>
                  <a:pt x="4787" y="10840"/>
                </a:cubicBezTo>
                <a:cubicBezTo>
                  <a:pt x="4787" y="10970"/>
                  <a:pt x="4840" y="11257"/>
                  <a:pt x="4762" y="11361"/>
                </a:cubicBezTo>
                <a:cubicBezTo>
                  <a:pt x="4762" y="11283"/>
                  <a:pt x="4741" y="11179"/>
                  <a:pt x="4787" y="11112"/>
                </a:cubicBezTo>
                <a:cubicBezTo>
                  <a:pt x="4816" y="11069"/>
                  <a:pt x="4910" y="11027"/>
                  <a:pt x="4961" y="11038"/>
                </a:cubicBezTo>
                <a:cubicBezTo>
                  <a:pt x="5031" y="11054"/>
                  <a:pt x="5103" y="11127"/>
                  <a:pt x="5135" y="11187"/>
                </a:cubicBezTo>
                <a:cubicBezTo>
                  <a:pt x="5162" y="11237"/>
                  <a:pt x="5132" y="11298"/>
                  <a:pt x="5110" y="11336"/>
                </a:cubicBezTo>
                <a:cubicBezTo>
                  <a:pt x="5085" y="11380"/>
                  <a:pt x="5037" y="11415"/>
                  <a:pt x="4986" y="11435"/>
                </a:cubicBezTo>
                <a:cubicBezTo>
                  <a:pt x="4951" y="11449"/>
                  <a:pt x="4884" y="11442"/>
                  <a:pt x="4862" y="11410"/>
                </a:cubicBezTo>
                <a:cubicBezTo>
                  <a:pt x="4834" y="11370"/>
                  <a:pt x="4837" y="11354"/>
                  <a:pt x="4837" y="11311"/>
                </a:cubicBezTo>
              </a:path>
              <a:path w="3747" h="844">
                <a:moveTo>
                  <a:pt x="5457" y="11212"/>
                </a:moveTo>
                <a:cubicBezTo>
                  <a:pt x="5515" y="11212"/>
                  <a:pt x="5645" y="11234"/>
                  <a:pt x="5680" y="11187"/>
                </a:cubicBezTo>
                <a:cubicBezTo>
                  <a:pt x="5718" y="11136"/>
                  <a:pt x="5643" y="11063"/>
                  <a:pt x="5606" y="11038"/>
                </a:cubicBezTo>
                <a:cubicBezTo>
                  <a:pt x="5551" y="11002"/>
                  <a:pt x="5498" y="11006"/>
                  <a:pt x="5457" y="11063"/>
                </a:cubicBezTo>
                <a:cubicBezTo>
                  <a:pt x="5418" y="11117"/>
                  <a:pt x="5363" y="11183"/>
                  <a:pt x="5358" y="11237"/>
                </a:cubicBezTo>
                <a:cubicBezTo>
                  <a:pt x="5350" y="11328"/>
                  <a:pt x="5354" y="11380"/>
                  <a:pt x="5432" y="11435"/>
                </a:cubicBezTo>
                <a:cubicBezTo>
                  <a:pt x="5489" y="11475"/>
                  <a:pt x="5595" y="11525"/>
                  <a:pt x="5655" y="11485"/>
                </a:cubicBezTo>
                <a:cubicBezTo>
                  <a:pt x="5700" y="11440"/>
                  <a:pt x="5710" y="11423"/>
                  <a:pt x="5755" y="11435"/>
                </a:cubicBezTo>
              </a:path>
              <a:path w="3747" h="844">
                <a:moveTo>
                  <a:pt x="5978" y="11088"/>
                </a:moveTo>
                <a:cubicBezTo>
                  <a:pt x="5978" y="11180"/>
                  <a:pt x="6008" y="11361"/>
                  <a:pt x="5953" y="11435"/>
                </a:cubicBezTo>
                <a:cubicBezTo>
                  <a:pt x="5961" y="11373"/>
                  <a:pt x="5983" y="11316"/>
                  <a:pt x="6003" y="11261"/>
                </a:cubicBezTo>
                <a:cubicBezTo>
                  <a:pt x="6026" y="11196"/>
                  <a:pt x="6030" y="11113"/>
                  <a:pt x="6102" y="11088"/>
                </a:cubicBezTo>
                <a:cubicBezTo>
                  <a:pt x="6152" y="11071"/>
                  <a:pt x="6213" y="11086"/>
                  <a:pt x="6251" y="11112"/>
                </a:cubicBezTo>
                <a:cubicBezTo>
                  <a:pt x="6292" y="11140"/>
                  <a:pt x="6360" y="11209"/>
                  <a:pt x="6375" y="11261"/>
                </a:cubicBezTo>
                <a:cubicBezTo>
                  <a:pt x="6388" y="11307"/>
                  <a:pt x="6400" y="11361"/>
                  <a:pt x="6400" y="11410"/>
                </a:cubicBezTo>
                <a:cubicBezTo>
                  <a:pt x="6400" y="11455"/>
                  <a:pt x="6403" y="11475"/>
                  <a:pt x="6375" y="11435"/>
                </a:cubicBezTo>
              </a:path>
              <a:path w="3747" h="844">
                <a:moveTo>
                  <a:pt x="6598" y="11063"/>
                </a:moveTo>
                <a:cubicBezTo>
                  <a:pt x="6676" y="11029"/>
                  <a:pt x="6677" y="11049"/>
                  <a:pt x="6747" y="11063"/>
                </a:cubicBezTo>
                <a:cubicBezTo>
                  <a:pt x="6783" y="11070"/>
                  <a:pt x="6907" y="11075"/>
                  <a:pt x="6846" y="11162"/>
                </a:cubicBezTo>
                <a:cubicBezTo>
                  <a:pt x="6812" y="11211"/>
                  <a:pt x="6735" y="11254"/>
                  <a:pt x="6697" y="11311"/>
                </a:cubicBezTo>
                <a:cubicBezTo>
                  <a:pt x="6666" y="11358"/>
                  <a:pt x="6616" y="11432"/>
                  <a:pt x="6598" y="11485"/>
                </a:cubicBezTo>
                <a:cubicBezTo>
                  <a:pt x="6598" y="11493"/>
                  <a:pt x="6598" y="11501"/>
                  <a:pt x="6598" y="11509"/>
                </a:cubicBezTo>
                <a:cubicBezTo>
                  <a:pt x="6651" y="11496"/>
                  <a:pt x="6684" y="11485"/>
                  <a:pt x="6747" y="11485"/>
                </a:cubicBezTo>
                <a:cubicBezTo>
                  <a:pt x="6780" y="11485"/>
                  <a:pt x="6813" y="11485"/>
                  <a:pt x="6846" y="11485"/>
                </a:cubicBezTo>
              </a:path>
              <a:path w="3747" h="844">
                <a:moveTo>
                  <a:pt x="7069" y="11038"/>
                </a:moveTo>
                <a:cubicBezTo>
                  <a:pt x="7145" y="11076"/>
                  <a:pt x="7106" y="11088"/>
                  <a:pt x="7218" y="11088"/>
                </a:cubicBezTo>
                <a:cubicBezTo>
                  <a:pt x="7290" y="11088"/>
                  <a:pt x="7364" y="11115"/>
                  <a:pt x="7392" y="11038"/>
                </a:cubicBezTo>
                <a:cubicBezTo>
                  <a:pt x="7415" y="10975"/>
                  <a:pt x="7338" y="10944"/>
                  <a:pt x="7293" y="10939"/>
                </a:cubicBezTo>
                <a:cubicBezTo>
                  <a:pt x="7193" y="10929"/>
                  <a:pt x="7180" y="10940"/>
                  <a:pt x="7119" y="10988"/>
                </a:cubicBezTo>
                <a:cubicBezTo>
                  <a:pt x="7039" y="11050"/>
                  <a:pt x="7045" y="11051"/>
                  <a:pt x="7045" y="11162"/>
                </a:cubicBezTo>
                <a:cubicBezTo>
                  <a:pt x="7045" y="11267"/>
                  <a:pt x="7112" y="11305"/>
                  <a:pt x="7193" y="11361"/>
                </a:cubicBezTo>
                <a:cubicBezTo>
                  <a:pt x="7271" y="11415"/>
                  <a:pt x="7365" y="11478"/>
                  <a:pt x="7466" y="11460"/>
                </a:cubicBezTo>
                <a:cubicBezTo>
                  <a:pt x="7483" y="11452"/>
                  <a:pt x="7499" y="11443"/>
                  <a:pt x="7516" y="11435"/>
                </a:cubicBezTo>
              </a:path>
              <a:path w="3747" h="844">
                <a:moveTo>
                  <a:pt x="7739" y="11038"/>
                </a:moveTo>
                <a:cubicBezTo>
                  <a:pt x="7703" y="11098"/>
                  <a:pt x="7714" y="11163"/>
                  <a:pt x="7714" y="11237"/>
                </a:cubicBezTo>
                <a:cubicBezTo>
                  <a:pt x="7714" y="11303"/>
                  <a:pt x="7714" y="11369"/>
                  <a:pt x="7714" y="11435"/>
                </a:cubicBezTo>
                <a:cubicBezTo>
                  <a:pt x="7754" y="11406"/>
                  <a:pt x="7764" y="11370"/>
                  <a:pt x="7764" y="11311"/>
                </a:cubicBezTo>
                <a:cubicBezTo>
                  <a:pt x="7764" y="11245"/>
                  <a:pt x="7777" y="11155"/>
                  <a:pt x="7838" y="11112"/>
                </a:cubicBezTo>
                <a:cubicBezTo>
                  <a:pt x="7879" y="11092"/>
                  <a:pt x="7885" y="11084"/>
                  <a:pt x="7913" y="11088"/>
                </a:cubicBezTo>
                <a:cubicBezTo>
                  <a:pt x="7936" y="11148"/>
                  <a:pt x="7973" y="11223"/>
                  <a:pt x="7987" y="11286"/>
                </a:cubicBezTo>
                <a:cubicBezTo>
                  <a:pt x="8001" y="11348"/>
                  <a:pt x="7976" y="11380"/>
                  <a:pt x="7962" y="11435"/>
                </a:cubicBezTo>
                <a:cubicBezTo>
                  <a:pt x="7953" y="11473"/>
                  <a:pt x="7993" y="11419"/>
                  <a:pt x="8012" y="11385"/>
                </a:cubicBezTo>
              </a:path>
              <a:path w="3747" h="844">
                <a:moveTo>
                  <a:pt x="8210" y="11237"/>
                </a:moveTo>
                <a:cubicBezTo>
                  <a:pt x="8276" y="11264"/>
                  <a:pt x="8312" y="11275"/>
                  <a:pt x="8384" y="11237"/>
                </a:cubicBezTo>
                <a:cubicBezTo>
                  <a:pt x="8441" y="11207"/>
                  <a:pt x="8470" y="11175"/>
                  <a:pt x="8483" y="11112"/>
                </a:cubicBezTo>
                <a:cubicBezTo>
                  <a:pt x="8428" y="11080"/>
                  <a:pt x="8371" y="11075"/>
                  <a:pt x="8310" y="11112"/>
                </a:cubicBezTo>
                <a:cubicBezTo>
                  <a:pt x="8254" y="11146"/>
                  <a:pt x="8146" y="11181"/>
                  <a:pt x="8161" y="11261"/>
                </a:cubicBezTo>
                <a:cubicBezTo>
                  <a:pt x="8172" y="11319"/>
                  <a:pt x="8209" y="11377"/>
                  <a:pt x="8260" y="11410"/>
                </a:cubicBezTo>
                <a:cubicBezTo>
                  <a:pt x="8306" y="11439"/>
                  <a:pt x="8354" y="11481"/>
                  <a:pt x="8409" y="11485"/>
                </a:cubicBezTo>
                <a:cubicBezTo>
                  <a:pt x="8465" y="11485"/>
                  <a:pt x="8487" y="11480"/>
                  <a:pt x="8508" y="114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4960" y="425916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637" y="11832"/>
                </a:moveTo>
                <a:cubicBezTo>
                  <a:pt x="1602" y="11879"/>
                  <a:pt x="1585" y="11946"/>
                  <a:pt x="1563" y="12005"/>
                </a:cubicBezTo>
                <a:cubicBezTo>
                  <a:pt x="1530" y="12092"/>
                  <a:pt x="1543" y="12200"/>
                  <a:pt x="1513" y="12278"/>
                </a:cubicBezTo>
                <a:cubicBezTo>
                  <a:pt x="1493" y="12329"/>
                  <a:pt x="1487" y="12288"/>
                  <a:pt x="1513" y="122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14720" y="4295880"/>
            <a:ext cx="420480" cy="196920"/>
          </a:xfrm>
          <a:custGeom>
            <a:avLst/>
            <a:gdLst/>
            <a:ahLst/>
            <a:rect l="l" t="t" r="r" b="b"/>
            <a:pathLst>
              <a:path w="1166" h="547">
                <a:moveTo>
                  <a:pt x="6499" y="12030"/>
                </a:moveTo>
                <a:cubicBezTo>
                  <a:pt x="6438" y="12021"/>
                  <a:pt x="6416" y="12005"/>
                  <a:pt x="6350" y="12005"/>
                </a:cubicBezTo>
                <a:cubicBezTo>
                  <a:pt x="6312" y="12005"/>
                  <a:pt x="6248" y="12093"/>
                  <a:pt x="6226" y="12129"/>
                </a:cubicBezTo>
                <a:cubicBezTo>
                  <a:pt x="6198" y="12176"/>
                  <a:pt x="6131" y="12243"/>
                  <a:pt x="6152" y="12303"/>
                </a:cubicBezTo>
                <a:cubicBezTo>
                  <a:pt x="6178" y="12378"/>
                  <a:pt x="6252" y="12375"/>
                  <a:pt x="6325" y="12378"/>
                </a:cubicBezTo>
                <a:cubicBezTo>
                  <a:pt x="6439" y="12382"/>
                  <a:pt x="6454" y="12308"/>
                  <a:pt x="6548" y="12278"/>
                </a:cubicBezTo>
                <a:cubicBezTo>
                  <a:pt x="6592" y="12264"/>
                  <a:pt x="6647" y="12205"/>
                  <a:pt x="6623" y="12129"/>
                </a:cubicBezTo>
                <a:cubicBezTo>
                  <a:pt x="6607" y="12077"/>
                  <a:pt x="6578" y="12017"/>
                  <a:pt x="6524" y="11981"/>
                </a:cubicBezTo>
                <a:cubicBezTo>
                  <a:pt x="6477" y="11950"/>
                  <a:pt x="6404" y="11946"/>
                  <a:pt x="6350" y="11931"/>
                </a:cubicBezTo>
              </a:path>
              <a:path w="1166" h="547">
                <a:moveTo>
                  <a:pt x="6896" y="12105"/>
                </a:moveTo>
                <a:cubicBezTo>
                  <a:pt x="6876" y="12171"/>
                  <a:pt x="6851" y="12215"/>
                  <a:pt x="6846" y="12278"/>
                </a:cubicBezTo>
                <a:cubicBezTo>
                  <a:pt x="6841" y="12341"/>
                  <a:pt x="6829" y="12391"/>
                  <a:pt x="6821" y="12452"/>
                </a:cubicBezTo>
                <a:cubicBezTo>
                  <a:pt x="6853" y="12378"/>
                  <a:pt x="6827" y="12331"/>
                  <a:pt x="6846" y="12254"/>
                </a:cubicBezTo>
                <a:cubicBezTo>
                  <a:pt x="6859" y="12201"/>
                  <a:pt x="6895" y="12121"/>
                  <a:pt x="6921" y="12080"/>
                </a:cubicBezTo>
                <a:cubicBezTo>
                  <a:pt x="6956" y="12026"/>
                  <a:pt x="6976" y="11940"/>
                  <a:pt x="7045" y="11931"/>
                </a:cubicBezTo>
                <a:cubicBezTo>
                  <a:pt x="7139" y="11918"/>
                  <a:pt x="7138" y="11944"/>
                  <a:pt x="7193" y="12005"/>
                </a:cubicBezTo>
                <a:cubicBezTo>
                  <a:pt x="7259" y="12078"/>
                  <a:pt x="7248" y="12123"/>
                  <a:pt x="7169" y="12179"/>
                </a:cubicBezTo>
                <a:cubicBezTo>
                  <a:pt x="7114" y="12218"/>
                  <a:pt x="7049" y="12219"/>
                  <a:pt x="6995" y="12254"/>
                </a:cubicBezTo>
                <a:cubicBezTo>
                  <a:pt x="6987" y="12262"/>
                  <a:pt x="6978" y="12270"/>
                  <a:pt x="6970" y="12278"/>
                </a:cubicBezTo>
                <a:cubicBezTo>
                  <a:pt x="7024" y="12321"/>
                  <a:pt x="7087" y="12340"/>
                  <a:pt x="7144" y="12378"/>
                </a:cubicBezTo>
                <a:cubicBezTo>
                  <a:pt x="7176" y="12400"/>
                  <a:pt x="7233" y="12467"/>
                  <a:pt x="7268" y="12477"/>
                </a:cubicBezTo>
                <a:cubicBezTo>
                  <a:pt x="7284" y="12477"/>
                  <a:pt x="7301" y="12477"/>
                  <a:pt x="7317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9040" y="4670280"/>
            <a:ext cx="196920" cy="24156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315" y="13122"/>
                </a:moveTo>
                <a:cubicBezTo>
                  <a:pt x="1280" y="13052"/>
                  <a:pt x="1261" y="13105"/>
                  <a:pt x="1240" y="13171"/>
                </a:cubicBezTo>
                <a:cubicBezTo>
                  <a:pt x="1213" y="13255"/>
                  <a:pt x="1179" y="13332"/>
                  <a:pt x="1166" y="13419"/>
                </a:cubicBezTo>
                <a:cubicBezTo>
                  <a:pt x="1156" y="13492"/>
                  <a:pt x="1207" y="13537"/>
                  <a:pt x="1240" y="13593"/>
                </a:cubicBezTo>
                <a:cubicBezTo>
                  <a:pt x="1291" y="13679"/>
                  <a:pt x="1376" y="13645"/>
                  <a:pt x="1463" y="13618"/>
                </a:cubicBezTo>
                <a:cubicBezTo>
                  <a:pt x="1518" y="13601"/>
                  <a:pt x="1646" y="13564"/>
                  <a:pt x="1687" y="13519"/>
                </a:cubicBezTo>
                <a:cubicBezTo>
                  <a:pt x="1743" y="13457"/>
                  <a:pt x="1702" y="13313"/>
                  <a:pt x="1687" y="13246"/>
                </a:cubicBezTo>
                <a:cubicBezTo>
                  <a:pt x="1666" y="13155"/>
                  <a:pt x="1584" y="13015"/>
                  <a:pt x="1488" y="12973"/>
                </a:cubicBezTo>
                <a:cubicBezTo>
                  <a:pt x="1421" y="12943"/>
                  <a:pt x="1308" y="12969"/>
                  <a:pt x="1265" y="13022"/>
                </a:cubicBezTo>
                <a:cubicBezTo>
                  <a:pt x="1222" y="13074"/>
                  <a:pt x="1196" y="13160"/>
                  <a:pt x="1166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3040" y="4589640"/>
            <a:ext cx="1446120" cy="331560"/>
          </a:xfrm>
          <a:custGeom>
            <a:avLst/>
            <a:gdLst/>
            <a:ahLst/>
            <a:rect l="l" t="t" r="r" b="b"/>
            <a:pathLst>
              <a:path w="4019" h="918">
                <a:moveTo>
                  <a:pt x="4862" y="12750"/>
                </a:moveTo>
                <a:cubicBezTo>
                  <a:pt x="4862" y="12959"/>
                  <a:pt x="4865" y="13166"/>
                  <a:pt x="4837" y="13370"/>
                </a:cubicBezTo>
                <a:cubicBezTo>
                  <a:pt x="4827" y="13443"/>
                  <a:pt x="4877" y="13630"/>
                  <a:pt x="4812" y="13543"/>
                </a:cubicBezTo>
              </a:path>
              <a:path w="4019" h="918">
                <a:moveTo>
                  <a:pt x="4564" y="13370"/>
                </a:moveTo>
                <a:cubicBezTo>
                  <a:pt x="4724" y="13370"/>
                  <a:pt x="4878" y="13373"/>
                  <a:pt x="5035" y="13345"/>
                </a:cubicBezTo>
                <a:cubicBezTo>
                  <a:pt x="5172" y="13321"/>
                  <a:pt x="5297" y="13276"/>
                  <a:pt x="5432" y="13246"/>
                </a:cubicBezTo>
                <a:cubicBezTo>
                  <a:pt x="5440" y="13246"/>
                  <a:pt x="5449" y="13246"/>
                  <a:pt x="5457" y="13246"/>
                </a:cubicBezTo>
              </a:path>
              <a:path w="4019" h="918">
                <a:moveTo>
                  <a:pt x="5556" y="13221"/>
                </a:moveTo>
                <a:cubicBezTo>
                  <a:pt x="5480" y="13230"/>
                  <a:pt x="5465" y="13239"/>
                  <a:pt x="5432" y="13320"/>
                </a:cubicBezTo>
                <a:cubicBezTo>
                  <a:pt x="5417" y="13358"/>
                  <a:pt x="5392" y="13424"/>
                  <a:pt x="5407" y="13469"/>
                </a:cubicBezTo>
                <a:cubicBezTo>
                  <a:pt x="5431" y="13540"/>
                  <a:pt x="5487" y="13585"/>
                  <a:pt x="5556" y="13593"/>
                </a:cubicBezTo>
                <a:cubicBezTo>
                  <a:pt x="5629" y="13601"/>
                  <a:pt x="5672" y="13585"/>
                  <a:pt x="5730" y="13543"/>
                </a:cubicBezTo>
                <a:cubicBezTo>
                  <a:pt x="5738" y="13535"/>
                  <a:pt x="5747" y="13527"/>
                  <a:pt x="5755" y="13519"/>
                </a:cubicBezTo>
                <a:cubicBezTo>
                  <a:pt x="5739" y="13448"/>
                  <a:pt x="5703" y="13385"/>
                  <a:pt x="5680" y="13320"/>
                </a:cubicBezTo>
                <a:cubicBezTo>
                  <a:pt x="5658" y="13277"/>
                  <a:pt x="5654" y="13266"/>
                  <a:pt x="5631" y="13246"/>
                </a:cubicBezTo>
              </a:path>
              <a:path w="4019" h="918">
                <a:moveTo>
                  <a:pt x="6052" y="12998"/>
                </a:moveTo>
                <a:cubicBezTo>
                  <a:pt x="6063" y="13114"/>
                  <a:pt x="6102" y="13198"/>
                  <a:pt x="6102" y="13320"/>
                </a:cubicBezTo>
                <a:cubicBezTo>
                  <a:pt x="6102" y="13431"/>
                  <a:pt x="6089" y="13541"/>
                  <a:pt x="6127" y="13643"/>
                </a:cubicBezTo>
              </a:path>
              <a:path w="4019" h="918">
                <a:moveTo>
                  <a:pt x="6350" y="13345"/>
                </a:moveTo>
                <a:cubicBezTo>
                  <a:pt x="6383" y="13389"/>
                  <a:pt x="6375" y="13411"/>
                  <a:pt x="6375" y="13469"/>
                </a:cubicBezTo>
                <a:cubicBezTo>
                  <a:pt x="6375" y="13526"/>
                  <a:pt x="6367" y="13567"/>
                  <a:pt x="6400" y="13618"/>
                </a:cubicBezTo>
                <a:cubicBezTo>
                  <a:pt x="6461" y="13712"/>
                  <a:pt x="6505" y="13642"/>
                  <a:pt x="6548" y="13593"/>
                </a:cubicBezTo>
                <a:cubicBezTo>
                  <a:pt x="6620" y="13511"/>
                  <a:pt x="6623" y="13480"/>
                  <a:pt x="6623" y="13370"/>
                </a:cubicBezTo>
                <a:cubicBezTo>
                  <a:pt x="6623" y="13329"/>
                  <a:pt x="6623" y="13287"/>
                  <a:pt x="6623" y="13246"/>
                </a:cubicBezTo>
                <a:cubicBezTo>
                  <a:pt x="6623" y="13331"/>
                  <a:pt x="6655" y="13357"/>
                  <a:pt x="6672" y="13419"/>
                </a:cubicBezTo>
                <a:cubicBezTo>
                  <a:pt x="6695" y="13500"/>
                  <a:pt x="6623" y="13607"/>
                  <a:pt x="6722" y="13643"/>
                </a:cubicBezTo>
                <a:cubicBezTo>
                  <a:pt x="6747" y="13643"/>
                  <a:pt x="6755" y="13643"/>
                  <a:pt x="6772" y="13643"/>
                </a:cubicBezTo>
              </a:path>
              <a:path w="4019" h="918">
                <a:moveTo>
                  <a:pt x="6970" y="13469"/>
                </a:moveTo>
                <a:cubicBezTo>
                  <a:pt x="7032" y="13469"/>
                  <a:pt x="7099" y="13471"/>
                  <a:pt x="7144" y="13419"/>
                </a:cubicBezTo>
                <a:cubicBezTo>
                  <a:pt x="7201" y="13354"/>
                  <a:pt x="7213" y="13287"/>
                  <a:pt x="7119" y="13271"/>
                </a:cubicBezTo>
                <a:cubicBezTo>
                  <a:pt x="7051" y="13259"/>
                  <a:pt x="7008" y="13289"/>
                  <a:pt x="6970" y="13345"/>
                </a:cubicBezTo>
                <a:cubicBezTo>
                  <a:pt x="6952" y="13372"/>
                  <a:pt x="6901" y="13514"/>
                  <a:pt x="6921" y="13543"/>
                </a:cubicBezTo>
                <a:cubicBezTo>
                  <a:pt x="6959" y="13598"/>
                  <a:pt x="7025" y="13639"/>
                  <a:pt x="7094" y="13643"/>
                </a:cubicBezTo>
                <a:cubicBezTo>
                  <a:pt x="7134" y="13645"/>
                  <a:pt x="7241" y="13643"/>
                  <a:pt x="7268" y="13618"/>
                </a:cubicBezTo>
                <a:cubicBezTo>
                  <a:pt x="7276" y="13601"/>
                  <a:pt x="7285" y="13585"/>
                  <a:pt x="7293" y="13568"/>
                </a:cubicBezTo>
              </a:path>
              <a:path w="4019" h="918">
                <a:moveTo>
                  <a:pt x="7491" y="13246"/>
                </a:moveTo>
                <a:cubicBezTo>
                  <a:pt x="7521" y="13321"/>
                  <a:pt x="7541" y="13351"/>
                  <a:pt x="7541" y="13444"/>
                </a:cubicBezTo>
                <a:cubicBezTo>
                  <a:pt x="7541" y="13492"/>
                  <a:pt x="7538" y="13494"/>
                  <a:pt x="7516" y="13543"/>
                </a:cubicBezTo>
                <a:cubicBezTo>
                  <a:pt x="7545" y="13466"/>
                  <a:pt x="7531" y="13368"/>
                  <a:pt x="7565" y="13295"/>
                </a:cubicBezTo>
                <a:cubicBezTo>
                  <a:pt x="7592" y="13238"/>
                  <a:pt x="7644" y="13189"/>
                  <a:pt x="7714" y="13221"/>
                </a:cubicBezTo>
                <a:cubicBezTo>
                  <a:pt x="7797" y="13259"/>
                  <a:pt x="7772" y="13302"/>
                  <a:pt x="7813" y="13370"/>
                </a:cubicBezTo>
                <a:cubicBezTo>
                  <a:pt x="7847" y="13426"/>
                  <a:pt x="7859" y="13465"/>
                  <a:pt x="7913" y="13519"/>
                </a:cubicBezTo>
                <a:cubicBezTo>
                  <a:pt x="7967" y="13573"/>
                  <a:pt x="7992" y="13629"/>
                  <a:pt x="8012" y="13568"/>
                </a:cubicBezTo>
              </a:path>
              <a:path w="4019" h="918">
                <a:moveTo>
                  <a:pt x="8186" y="13370"/>
                </a:moveTo>
                <a:cubicBezTo>
                  <a:pt x="8233" y="13364"/>
                  <a:pt x="8305" y="13362"/>
                  <a:pt x="8334" y="13320"/>
                </a:cubicBezTo>
                <a:cubicBezTo>
                  <a:pt x="8356" y="13277"/>
                  <a:pt x="8360" y="13265"/>
                  <a:pt x="8384" y="13246"/>
                </a:cubicBezTo>
                <a:cubicBezTo>
                  <a:pt x="8349" y="13218"/>
                  <a:pt x="8299" y="13184"/>
                  <a:pt x="8260" y="13171"/>
                </a:cubicBezTo>
                <a:cubicBezTo>
                  <a:pt x="8185" y="13146"/>
                  <a:pt x="8176" y="13201"/>
                  <a:pt x="8136" y="13246"/>
                </a:cubicBezTo>
                <a:cubicBezTo>
                  <a:pt x="8095" y="13291"/>
                  <a:pt x="8086" y="13337"/>
                  <a:pt x="8086" y="13395"/>
                </a:cubicBezTo>
                <a:cubicBezTo>
                  <a:pt x="8086" y="13435"/>
                  <a:pt x="8149" y="13511"/>
                  <a:pt x="8186" y="13543"/>
                </a:cubicBezTo>
                <a:cubicBezTo>
                  <a:pt x="8226" y="13577"/>
                  <a:pt x="8335" y="13582"/>
                  <a:pt x="8384" y="13568"/>
                </a:cubicBezTo>
                <a:cubicBezTo>
                  <a:pt x="8467" y="13545"/>
                  <a:pt x="8532" y="13476"/>
                  <a:pt x="8582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4120" y="5027760"/>
            <a:ext cx="250920" cy="25848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1116" y="14486"/>
                </a:moveTo>
                <a:cubicBezTo>
                  <a:pt x="1065" y="14435"/>
                  <a:pt x="1058" y="14425"/>
                  <a:pt x="1091" y="14362"/>
                </a:cubicBezTo>
                <a:cubicBezTo>
                  <a:pt x="1129" y="14290"/>
                  <a:pt x="1135" y="14230"/>
                  <a:pt x="1191" y="14163"/>
                </a:cubicBezTo>
                <a:cubicBezTo>
                  <a:pt x="1243" y="14101"/>
                  <a:pt x="1269" y="14100"/>
                  <a:pt x="1315" y="14163"/>
                </a:cubicBezTo>
                <a:cubicBezTo>
                  <a:pt x="1375" y="14245"/>
                  <a:pt x="1436" y="14299"/>
                  <a:pt x="1488" y="14387"/>
                </a:cubicBezTo>
                <a:cubicBezTo>
                  <a:pt x="1545" y="14485"/>
                  <a:pt x="1591" y="14581"/>
                  <a:pt x="1637" y="14684"/>
                </a:cubicBezTo>
                <a:cubicBezTo>
                  <a:pt x="1704" y="14665"/>
                  <a:pt x="1712" y="14660"/>
                  <a:pt x="1712" y="14585"/>
                </a:cubicBezTo>
                <a:cubicBezTo>
                  <a:pt x="1712" y="14436"/>
                  <a:pt x="1664" y="14165"/>
                  <a:pt x="1736" y="14039"/>
                </a:cubicBezTo>
                <a:cubicBezTo>
                  <a:pt x="1773" y="13973"/>
                  <a:pt x="1751" y="13993"/>
                  <a:pt x="1687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69920" y="98280"/>
            <a:ext cx="1062000" cy="473400"/>
          </a:xfrm>
          <a:custGeom>
            <a:avLst/>
            <a:gdLst/>
            <a:ahLst/>
            <a:rect l="l" t="t" r="r" b="b"/>
            <a:pathLst>
              <a:path w="2953" h="1316">
                <a:moveTo>
                  <a:pt x="571" y="645"/>
                </a:moveTo>
                <a:lnTo>
                  <a:pt x="571" y="645"/>
                </a:lnTo>
              </a:path>
              <a:path w="2953" h="1316">
                <a:moveTo>
                  <a:pt x="546" y="1463"/>
                </a:moveTo>
                <a:cubicBezTo>
                  <a:pt x="539" y="1391"/>
                  <a:pt x="525" y="1354"/>
                  <a:pt x="521" y="1290"/>
                </a:cubicBezTo>
                <a:cubicBezTo>
                  <a:pt x="516" y="1205"/>
                  <a:pt x="504" y="1124"/>
                  <a:pt x="496" y="1042"/>
                </a:cubicBezTo>
                <a:cubicBezTo>
                  <a:pt x="487" y="948"/>
                  <a:pt x="474" y="863"/>
                  <a:pt x="471" y="769"/>
                </a:cubicBezTo>
                <a:cubicBezTo>
                  <a:pt x="467" y="654"/>
                  <a:pt x="491" y="637"/>
                  <a:pt x="521" y="546"/>
                </a:cubicBezTo>
                <a:cubicBezTo>
                  <a:pt x="551" y="458"/>
                  <a:pt x="573" y="390"/>
                  <a:pt x="670" y="347"/>
                </a:cubicBezTo>
                <a:cubicBezTo>
                  <a:pt x="738" y="317"/>
                  <a:pt x="794" y="277"/>
                  <a:pt x="868" y="273"/>
                </a:cubicBezTo>
                <a:cubicBezTo>
                  <a:pt x="928" y="270"/>
                  <a:pt x="991" y="263"/>
                  <a:pt x="1042" y="298"/>
                </a:cubicBezTo>
                <a:cubicBezTo>
                  <a:pt x="1131" y="358"/>
                  <a:pt x="1154" y="577"/>
                  <a:pt x="1166" y="670"/>
                </a:cubicBezTo>
                <a:cubicBezTo>
                  <a:pt x="1183" y="795"/>
                  <a:pt x="1187" y="941"/>
                  <a:pt x="1191" y="1067"/>
                </a:cubicBezTo>
                <a:cubicBezTo>
                  <a:pt x="1194" y="1153"/>
                  <a:pt x="1191" y="1541"/>
                  <a:pt x="1191" y="1463"/>
                </a:cubicBezTo>
                <a:cubicBezTo>
                  <a:pt x="1191" y="1455"/>
                  <a:pt x="1191" y="1447"/>
                  <a:pt x="1191" y="1439"/>
                </a:cubicBezTo>
              </a:path>
              <a:path w="2953" h="1316">
                <a:moveTo>
                  <a:pt x="719" y="1240"/>
                </a:moveTo>
                <a:cubicBezTo>
                  <a:pt x="703" y="1232"/>
                  <a:pt x="686" y="1223"/>
                  <a:pt x="670" y="1215"/>
                </a:cubicBezTo>
                <a:cubicBezTo>
                  <a:pt x="732" y="1215"/>
                  <a:pt x="763" y="1217"/>
                  <a:pt x="819" y="1191"/>
                </a:cubicBezTo>
                <a:cubicBezTo>
                  <a:pt x="910" y="1148"/>
                  <a:pt x="987" y="1137"/>
                  <a:pt x="1067" y="1091"/>
                </a:cubicBezTo>
                <a:cubicBezTo>
                  <a:pt x="1119" y="1061"/>
                  <a:pt x="1167" y="1067"/>
                  <a:pt x="1215" y="1042"/>
                </a:cubicBezTo>
              </a:path>
              <a:path w="2953" h="1316">
                <a:moveTo>
                  <a:pt x="1860" y="1588"/>
                </a:moveTo>
                <a:cubicBezTo>
                  <a:pt x="1840" y="1525"/>
                  <a:pt x="1850" y="1478"/>
                  <a:pt x="1836" y="1414"/>
                </a:cubicBezTo>
                <a:cubicBezTo>
                  <a:pt x="1809" y="1292"/>
                  <a:pt x="1796" y="1165"/>
                  <a:pt x="1761" y="1042"/>
                </a:cubicBezTo>
                <a:cubicBezTo>
                  <a:pt x="1727" y="921"/>
                  <a:pt x="1667" y="796"/>
                  <a:pt x="1662" y="670"/>
                </a:cubicBezTo>
                <a:cubicBezTo>
                  <a:pt x="1662" y="637"/>
                  <a:pt x="1662" y="620"/>
                  <a:pt x="1662" y="595"/>
                </a:cubicBezTo>
                <a:cubicBezTo>
                  <a:pt x="1708" y="641"/>
                  <a:pt x="1748" y="693"/>
                  <a:pt x="1786" y="744"/>
                </a:cubicBezTo>
                <a:cubicBezTo>
                  <a:pt x="1859" y="842"/>
                  <a:pt x="1921" y="930"/>
                  <a:pt x="2009" y="1017"/>
                </a:cubicBezTo>
                <a:cubicBezTo>
                  <a:pt x="2074" y="1082"/>
                  <a:pt x="2157" y="1161"/>
                  <a:pt x="2232" y="1215"/>
                </a:cubicBezTo>
                <a:cubicBezTo>
                  <a:pt x="2293" y="1259"/>
                  <a:pt x="2322" y="1279"/>
                  <a:pt x="2381" y="1315"/>
                </a:cubicBezTo>
                <a:cubicBezTo>
                  <a:pt x="2405" y="1251"/>
                  <a:pt x="2406" y="1210"/>
                  <a:pt x="2406" y="1141"/>
                </a:cubicBezTo>
                <a:cubicBezTo>
                  <a:pt x="2406" y="1041"/>
                  <a:pt x="2375" y="966"/>
                  <a:pt x="2356" y="868"/>
                </a:cubicBezTo>
                <a:cubicBezTo>
                  <a:pt x="2338" y="777"/>
                  <a:pt x="2205" y="507"/>
                  <a:pt x="2232" y="422"/>
                </a:cubicBezTo>
                <a:cubicBezTo>
                  <a:pt x="2242" y="390"/>
                  <a:pt x="2249" y="428"/>
                  <a:pt x="2282" y="422"/>
                </a:cubicBezTo>
              </a:path>
              <a:path w="2953" h="1316">
                <a:moveTo>
                  <a:pt x="3274" y="496"/>
                </a:moveTo>
                <a:cubicBezTo>
                  <a:pt x="3196" y="496"/>
                  <a:pt x="3201" y="528"/>
                  <a:pt x="3150" y="571"/>
                </a:cubicBezTo>
                <a:cubicBezTo>
                  <a:pt x="3048" y="657"/>
                  <a:pt x="2968" y="745"/>
                  <a:pt x="2877" y="843"/>
                </a:cubicBezTo>
                <a:cubicBezTo>
                  <a:pt x="2849" y="872"/>
                  <a:pt x="2841" y="885"/>
                  <a:pt x="2853" y="918"/>
                </a:cubicBezTo>
                <a:cubicBezTo>
                  <a:pt x="2981" y="918"/>
                  <a:pt x="3071" y="907"/>
                  <a:pt x="3175" y="967"/>
                </a:cubicBezTo>
                <a:cubicBezTo>
                  <a:pt x="3231" y="999"/>
                  <a:pt x="3342" y="1060"/>
                  <a:pt x="3373" y="1116"/>
                </a:cubicBezTo>
                <a:cubicBezTo>
                  <a:pt x="3410" y="1185"/>
                  <a:pt x="3439" y="1252"/>
                  <a:pt x="3398" y="1315"/>
                </a:cubicBezTo>
                <a:cubicBezTo>
                  <a:pt x="3350" y="1389"/>
                  <a:pt x="3331" y="1407"/>
                  <a:pt x="3249" y="1414"/>
                </a:cubicBezTo>
                <a:cubicBezTo>
                  <a:pt x="3194" y="1419"/>
                  <a:pt x="3102" y="1386"/>
                  <a:pt x="3051" y="1364"/>
                </a:cubicBezTo>
                <a:cubicBezTo>
                  <a:pt x="3008" y="1342"/>
                  <a:pt x="2996" y="1339"/>
                  <a:pt x="2977" y="1315"/>
                </a:cubicBezTo>
                <a:cubicBezTo>
                  <a:pt x="3026" y="1290"/>
                  <a:pt x="3076" y="1265"/>
                  <a:pt x="3125" y="12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6120" y="71280"/>
            <a:ext cx="1384560" cy="374760"/>
          </a:xfrm>
          <a:custGeom>
            <a:avLst/>
            <a:gdLst/>
            <a:ahLst/>
            <a:rect l="l" t="t" r="r" b="b"/>
            <a:pathLst>
              <a:path w="3846" h="1043">
                <a:moveTo>
                  <a:pt x="4018" y="571"/>
                </a:moveTo>
                <a:cubicBezTo>
                  <a:pt x="4060" y="644"/>
                  <a:pt x="4108" y="716"/>
                  <a:pt x="4142" y="794"/>
                </a:cubicBezTo>
                <a:cubicBezTo>
                  <a:pt x="4182" y="885"/>
                  <a:pt x="4245" y="996"/>
                  <a:pt x="4266" y="1091"/>
                </a:cubicBezTo>
                <a:cubicBezTo>
                  <a:pt x="4280" y="1155"/>
                  <a:pt x="4296" y="1187"/>
                  <a:pt x="4341" y="1240"/>
                </a:cubicBezTo>
                <a:cubicBezTo>
                  <a:pt x="4349" y="1156"/>
                  <a:pt x="4349" y="1051"/>
                  <a:pt x="4366" y="967"/>
                </a:cubicBezTo>
                <a:cubicBezTo>
                  <a:pt x="4376" y="917"/>
                  <a:pt x="4413" y="863"/>
                  <a:pt x="4440" y="843"/>
                </a:cubicBezTo>
                <a:cubicBezTo>
                  <a:pt x="4469" y="901"/>
                  <a:pt x="4522" y="984"/>
                  <a:pt x="4539" y="1042"/>
                </a:cubicBezTo>
                <a:cubicBezTo>
                  <a:pt x="4563" y="1124"/>
                  <a:pt x="4602" y="1195"/>
                  <a:pt x="4688" y="1240"/>
                </a:cubicBezTo>
                <a:cubicBezTo>
                  <a:pt x="4741" y="1268"/>
                  <a:pt x="4775" y="1201"/>
                  <a:pt x="4787" y="1166"/>
                </a:cubicBezTo>
                <a:cubicBezTo>
                  <a:pt x="4819" y="1074"/>
                  <a:pt x="4812" y="990"/>
                  <a:pt x="4812" y="893"/>
                </a:cubicBezTo>
                <a:cubicBezTo>
                  <a:pt x="4812" y="792"/>
                  <a:pt x="4787" y="667"/>
                  <a:pt x="4762" y="571"/>
                </a:cubicBezTo>
                <a:cubicBezTo>
                  <a:pt x="4761" y="569"/>
                  <a:pt x="4701" y="441"/>
                  <a:pt x="4762" y="446"/>
                </a:cubicBezTo>
                <a:cubicBezTo>
                  <a:pt x="4779" y="454"/>
                  <a:pt x="4795" y="463"/>
                  <a:pt x="4812" y="471"/>
                </a:cubicBezTo>
              </a:path>
              <a:path w="3846" h="1043">
                <a:moveTo>
                  <a:pt x="5283" y="496"/>
                </a:moveTo>
                <a:cubicBezTo>
                  <a:pt x="5315" y="572"/>
                  <a:pt x="5308" y="635"/>
                  <a:pt x="5308" y="719"/>
                </a:cubicBezTo>
                <a:cubicBezTo>
                  <a:pt x="5308" y="821"/>
                  <a:pt x="5275" y="1012"/>
                  <a:pt x="5333" y="1091"/>
                </a:cubicBezTo>
                <a:cubicBezTo>
                  <a:pt x="5361" y="1119"/>
                  <a:pt x="5370" y="1133"/>
                  <a:pt x="5358" y="1166"/>
                </a:cubicBezTo>
                <a:cubicBezTo>
                  <a:pt x="5433" y="1177"/>
                  <a:pt x="5451" y="1170"/>
                  <a:pt x="5531" y="1166"/>
                </a:cubicBezTo>
                <a:cubicBezTo>
                  <a:pt x="5638" y="1160"/>
                  <a:pt x="5763" y="1187"/>
                  <a:pt x="5854" y="1141"/>
                </a:cubicBezTo>
              </a:path>
              <a:path w="3846" h="1043">
                <a:moveTo>
                  <a:pt x="5531" y="943"/>
                </a:moveTo>
                <a:cubicBezTo>
                  <a:pt x="5556" y="885"/>
                  <a:pt x="5602" y="857"/>
                  <a:pt x="5680" y="843"/>
                </a:cubicBezTo>
                <a:cubicBezTo>
                  <a:pt x="5747" y="831"/>
                  <a:pt x="5810" y="805"/>
                  <a:pt x="5879" y="794"/>
                </a:cubicBezTo>
              </a:path>
              <a:path w="3846" h="1043">
                <a:moveTo>
                  <a:pt x="5407" y="546"/>
                </a:moveTo>
                <a:cubicBezTo>
                  <a:pt x="5491" y="473"/>
                  <a:pt x="5582" y="448"/>
                  <a:pt x="5680" y="397"/>
                </a:cubicBezTo>
                <a:cubicBezTo>
                  <a:pt x="5812" y="329"/>
                  <a:pt x="5938" y="329"/>
                  <a:pt x="6077" y="298"/>
                </a:cubicBezTo>
              </a:path>
              <a:path w="3846" h="1043">
                <a:moveTo>
                  <a:pt x="6350" y="397"/>
                </a:moveTo>
                <a:cubicBezTo>
                  <a:pt x="6371" y="480"/>
                  <a:pt x="6397" y="553"/>
                  <a:pt x="6424" y="645"/>
                </a:cubicBezTo>
                <a:cubicBezTo>
                  <a:pt x="6453" y="744"/>
                  <a:pt x="6474" y="814"/>
                  <a:pt x="6474" y="918"/>
                </a:cubicBezTo>
                <a:cubicBezTo>
                  <a:pt x="6474" y="966"/>
                  <a:pt x="6490" y="997"/>
                  <a:pt x="6499" y="1042"/>
                </a:cubicBezTo>
                <a:cubicBezTo>
                  <a:pt x="6499" y="963"/>
                  <a:pt x="6508" y="891"/>
                  <a:pt x="6474" y="819"/>
                </a:cubicBezTo>
                <a:cubicBezTo>
                  <a:pt x="6434" y="734"/>
                  <a:pt x="6410" y="639"/>
                  <a:pt x="6400" y="546"/>
                </a:cubicBezTo>
                <a:cubicBezTo>
                  <a:pt x="6393" y="477"/>
                  <a:pt x="6425" y="378"/>
                  <a:pt x="6499" y="347"/>
                </a:cubicBezTo>
                <a:cubicBezTo>
                  <a:pt x="6564" y="320"/>
                  <a:pt x="6712" y="349"/>
                  <a:pt x="6772" y="372"/>
                </a:cubicBezTo>
                <a:cubicBezTo>
                  <a:pt x="6843" y="399"/>
                  <a:pt x="6866" y="474"/>
                  <a:pt x="6846" y="546"/>
                </a:cubicBezTo>
                <a:cubicBezTo>
                  <a:pt x="6826" y="616"/>
                  <a:pt x="6741" y="717"/>
                  <a:pt x="6672" y="744"/>
                </a:cubicBezTo>
                <a:cubicBezTo>
                  <a:pt x="6608" y="769"/>
                  <a:pt x="6564" y="806"/>
                  <a:pt x="6499" y="843"/>
                </a:cubicBezTo>
                <a:cubicBezTo>
                  <a:pt x="6545" y="798"/>
                  <a:pt x="6557" y="794"/>
                  <a:pt x="6623" y="794"/>
                </a:cubicBezTo>
                <a:cubicBezTo>
                  <a:pt x="6648" y="794"/>
                  <a:pt x="6754" y="832"/>
                  <a:pt x="6772" y="843"/>
                </a:cubicBezTo>
                <a:cubicBezTo>
                  <a:pt x="6812" y="869"/>
                  <a:pt x="6893" y="923"/>
                  <a:pt x="6921" y="967"/>
                </a:cubicBezTo>
                <a:cubicBezTo>
                  <a:pt x="6976" y="1053"/>
                  <a:pt x="6906" y="1093"/>
                  <a:pt x="6945" y="992"/>
                </a:cubicBezTo>
                <a:cubicBezTo>
                  <a:pt x="6953" y="984"/>
                  <a:pt x="6962" y="975"/>
                  <a:pt x="6970" y="967"/>
                </a:cubicBezTo>
              </a:path>
              <a:path w="3846" h="1043">
                <a:moveTo>
                  <a:pt x="7640" y="223"/>
                </a:moveTo>
                <a:cubicBezTo>
                  <a:pt x="7596" y="214"/>
                  <a:pt x="7563" y="198"/>
                  <a:pt x="7516" y="198"/>
                </a:cubicBezTo>
                <a:cubicBezTo>
                  <a:pt x="7469" y="198"/>
                  <a:pt x="7397" y="202"/>
                  <a:pt x="7367" y="248"/>
                </a:cubicBezTo>
                <a:cubicBezTo>
                  <a:pt x="7346" y="280"/>
                  <a:pt x="7257" y="404"/>
                  <a:pt x="7268" y="446"/>
                </a:cubicBezTo>
                <a:cubicBezTo>
                  <a:pt x="7294" y="542"/>
                  <a:pt x="7390" y="521"/>
                  <a:pt x="7466" y="521"/>
                </a:cubicBezTo>
                <a:cubicBezTo>
                  <a:pt x="7573" y="521"/>
                  <a:pt x="7617" y="543"/>
                  <a:pt x="7714" y="571"/>
                </a:cubicBezTo>
                <a:cubicBezTo>
                  <a:pt x="7792" y="593"/>
                  <a:pt x="7790" y="601"/>
                  <a:pt x="7838" y="670"/>
                </a:cubicBezTo>
                <a:cubicBezTo>
                  <a:pt x="7886" y="739"/>
                  <a:pt x="7850" y="736"/>
                  <a:pt x="7813" y="794"/>
                </a:cubicBezTo>
                <a:cubicBezTo>
                  <a:pt x="7781" y="843"/>
                  <a:pt x="7756" y="876"/>
                  <a:pt x="7714" y="918"/>
                </a:cubicBezTo>
                <a:cubicBezTo>
                  <a:pt x="7656" y="976"/>
                  <a:pt x="7628" y="968"/>
                  <a:pt x="7565" y="943"/>
                </a:cubicBezTo>
                <a:cubicBezTo>
                  <a:pt x="7491" y="913"/>
                  <a:pt x="7470" y="898"/>
                  <a:pt x="7417" y="8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17784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9153" y="521"/>
                </a:moveTo>
                <a:cubicBezTo>
                  <a:pt x="9106" y="474"/>
                  <a:pt x="9128" y="534"/>
                  <a:pt x="9128" y="571"/>
                </a:cubicBezTo>
              </a:path>
              <a:path w="51" h="621">
                <a:moveTo>
                  <a:pt x="9103" y="992"/>
                </a:moveTo>
                <a:cubicBezTo>
                  <a:pt x="9103" y="1050"/>
                  <a:pt x="9091" y="1092"/>
                  <a:pt x="9128" y="11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6880" y="625320"/>
            <a:ext cx="785880" cy="625680"/>
          </a:xfrm>
          <a:custGeom>
            <a:avLst/>
            <a:gdLst/>
            <a:ahLst/>
            <a:rect l="l" t="t" r="r" b="b"/>
            <a:pathLst>
              <a:path w="2184" h="1738">
                <a:moveTo>
                  <a:pt x="3249" y="2108"/>
                </a:moveTo>
                <a:cubicBezTo>
                  <a:pt x="3303" y="2108"/>
                  <a:pt x="3321" y="2097"/>
                  <a:pt x="3373" y="2084"/>
                </a:cubicBezTo>
                <a:cubicBezTo>
                  <a:pt x="3433" y="2069"/>
                  <a:pt x="3454" y="2094"/>
                  <a:pt x="3497" y="2133"/>
                </a:cubicBezTo>
                <a:cubicBezTo>
                  <a:pt x="3557" y="2188"/>
                  <a:pt x="3519" y="2339"/>
                  <a:pt x="3497" y="2406"/>
                </a:cubicBezTo>
                <a:cubicBezTo>
                  <a:pt x="3460" y="2522"/>
                  <a:pt x="3393" y="2678"/>
                  <a:pt x="3324" y="2778"/>
                </a:cubicBezTo>
                <a:cubicBezTo>
                  <a:pt x="3286" y="2834"/>
                  <a:pt x="3207" y="2870"/>
                  <a:pt x="3150" y="2902"/>
                </a:cubicBezTo>
                <a:cubicBezTo>
                  <a:pt x="3161" y="2829"/>
                  <a:pt x="3173" y="2791"/>
                  <a:pt x="3249" y="2778"/>
                </a:cubicBezTo>
                <a:cubicBezTo>
                  <a:pt x="3307" y="2768"/>
                  <a:pt x="3329" y="2816"/>
                  <a:pt x="3373" y="2828"/>
                </a:cubicBezTo>
                <a:cubicBezTo>
                  <a:pt x="3412" y="2839"/>
                  <a:pt x="3545" y="2856"/>
                  <a:pt x="3572" y="2853"/>
                </a:cubicBezTo>
                <a:cubicBezTo>
                  <a:pt x="3637" y="2846"/>
                  <a:pt x="3698" y="2828"/>
                  <a:pt x="3770" y="2828"/>
                </a:cubicBezTo>
              </a:path>
              <a:path w="2184" h="1738">
                <a:moveTo>
                  <a:pt x="3522" y="1836"/>
                </a:moveTo>
                <a:cubicBezTo>
                  <a:pt x="3447" y="1811"/>
                  <a:pt x="3396" y="1801"/>
                  <a:pt x="3324" y="1786"/>
                </a:cubicBezTo>
                <a:cubicBezTo>
                  <a:pt x="3255" y="1772"/>
                  <a:pt x="3197" y="1744"/>
                  <a:pt x="3125" y="1736"/>
                </a:cubicBezTo>
                <a:cubicBezTo>
                  <a:pt x="3045" y="1727"/>
                  <a:pt x="2996" y="1750"/>
                  <a:pt x="2927" y="1786"/>
                </a:cubicBezTo>
                <a:cubicBezTo>
                  <a:pt x="2808" y="1848"/>
                  <a:pt x="2701" y="1916"/>
                  <a:pt x="2604" y="2009"/>
                </a:cubicBezTo>
                <a:cubicBezTo>
                  <a:pt x="2523" y="2087"/>
                  <a:pt x="2470" y="2151"/>
                  <a:pt x="2431" y="2257"/>
                </a:cubicBezTo>
                <a:cubicBezTo>
                  <a:pt x="2383" y="2388"/>
                  <a:pt x="2406" y="2541"/>
                  <a:pt x="2406" y="2679"/>
                </a:cubicBezTo>
                <a:cubicBezTo>
                  <a:pt x="2406" y="2865"/>
                  <a:pt x="2479" y="2975"/>
                  <a:pt x="2580" y="3125"/>
                </a:cubicBezTo>
                <a:cubicBezTo>
                  <a:pt x="2693" y="3293"/>
                  <a:pt x="2889" y="3306"/>
                  <a:pt x="3076" y="3349"/>
                </a:cubicBezTo>
                <a:cubicBezTo>
                  <a:pt x="3259" y="3391"/>
                  <a:pt x="3461" y="3455"/>
                  <a:pt x="3646" y="3473"/>
                </a:cubicBezTo>
                <a:cubicBezTo>
                  <a:pt x="3834" y="3492"/>
                  <a:pt x="4011" y="3424"/>
                  <a:pt x="4167" y="3324"/>
                </a:cubicBezTo>
                <a:cubicBezTo>
                  <a:pt x="4289" y="3247"/>
                  <a:pt x="4416" y="3126"/>
                  <a:pt x="4490" y="3001"/>
                </a:cubicBezTo>
                <a:cubicBezTo>
                  <a:pt x="4562" y="2879"/>
                  <a:pt x="4578" y="2743"/>
                  <a:pt x="4589" y="2604"/>
                </a:cubicBezTo>
                <a:cubicBezTo>
                  <a:pt x="4599" y="2472"/>
                  <a:pt x="4561" y="2382"/>
                  <a:pt x="4490" y="2282"/>
                </a:cubicBezTo>
                <a:cubicBezTo>
                  <a:pt x="4424" y="2189"/>
                  <a:pt x="4364" y="2075"/>
                  <a:pt x="4266" y="2009"/>
                </a:cubicBezTo>
                <a:cubicBezTo>
                  <a:pt x="4170" y="1944"/>
                  <a:pt x="4035" y="1852"/>
                  <a:pt x="3919" y="1836"/>
                </a:cubicBezTo>
                <a:cubicBezTo>
                  <a:pt x="3791" y="1818"/>
                  <a:pt x="3642" y="1872"/>
                  <a:pt x="3522" y="1910"/>
                </a:cubicBezTo>
                <a:cubicBezTo>
                  <a:pt x="3415" y="1944"/>
                  <a:pt x="3473" y="1942"/>
                  <a:pt x="3473" y="18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8840" y="1366920"/>
            <a:ext cx="36360" cy="276120"/>
          </a:xfrm>
          <a:custGeom>
            <a:avLst/>
            <a:gdLst/>
            <a:ahLst/>
            <a:rect l="l" t="t" r="r" b="b"/>
            <a:pathLst>
              <a:path w="101" h="770">
                <a:moveTo>
                  <a:pt x="744" y="3820"/>
                </a:moveTo>
                <a:cubicBezTo>
                  <a:pt x="663" y="3793"/>
                  <a:pt x="763" y="3886"/>
                  <a:pt x="769" y="3944"/>
                </a:cubicBezTo>
                <a:cubicBezTo>
                  <a:pt x="777" y="4028"/>
                  <a:pt x="784" y="4113"/>
                  <a:pt x="794" y="4192"/>
                </a:cubicBezTo>
                <a:cubicBezTo>
                  <a:pt x="804" y="4269"/>
                  <a:pt x="807" y="4342"/>
                  <a:pt x="819" y="4415"/>
                </a:cubicBezTo>
                <a:cubicBezTo>
                  <a:pt x="823" y="4436"/>
                  <a:pt x="819" y="4649"/>
                  <a:pt x="819" y="4514"/>
                </a:cubicBezTo>
                <a:cubicBezTo>
                  <a:pt x="819" y="4506"/>
                  <a:pt x="819" y="4498"/>
                  <a:pt x="819" y="44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0680" y="1616040"/>
            <a:ext cx="36360" cy="367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1463" y="4490"/>
                </a:moveTo>
                <a:cubicBezTo>
                  <a:pt x="1432" y="4500"/>
                  <a:pt x="1424" y="4524"/>
                  <a:pt x="1414" y="4564"/>
                </a:cubicBezTo>
                <a:cubicBezTo>
                  <a:pt x="1365" y="4417"/>
                  <a:pt x="1358" y="4587"/>
                  <a:pt x="1364" y="4589"/>
                </a:cubicBezTo>
                <a:cubicBezTo>
                  <a:pt x="1394" y="4559"/>
                  <a:pt x="1405" y="4545"/>
                  <a:pt x="1414" y="45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240" y="1258920"/>
            <a:ext cx="3044880" cy="652320"/>
          </a:xfrm>
          <a:custGeom>
            <a:avLst/>
            <a:gdLst/>
            <a:ahLst/>
            <a:rect l="l" t="t" r="r" b="b"/>
            <a:pathLst>
              <a:path w="8459" h="1812">
                <a:moveTo>
                  <a:pt x="2431" y="4093"/>
                </a:moveTo>
                <a:cubicBezTo>
                  <a:pt x="2420" y="4076"/>
                  <a:pt x="2351" y="4028"/>
                  <a:pt x="2307" y="4043"/>
                </a:cubicBezTo>
                <a:cubicBezTo>
                  <a:pt x="2252" y="4062"/>
                  <a:pt x="2212" y="4145"/>
                  <a:pt x="2208" y="4192"/>
                </a:cubicBezTo>
                <a:cubicBezTo>
                  <a:pt x="2202" y="4269"/>
                  <a:pt x="2203" y="4345"/>
                  <a:pt x="2232" y="4415"/>
                </a:cubicBezTo>
                <a:cubicBezTo>
                  <a:pt x="2268" y="4501"/>
                  <a:pt x="2307" y="4549"/>
                  <a:pt x="2406" y="4564"/>
                </a:cubicBezTo>
                <a:cubicBezTo>
                  <a:pt x="2546" y="4586"/>
                  <a:pt x="2653" y="4542"/>
                  <a:pt x="2778" y="4490"/>
                </a:cubicBezTo>
                <a:cubicBezTo>
                  <a:pt x="2883" y="4448"/>
                  <a:pt x="2909" y="4446"/>
                  <a:pt x="2952" y="4390"/>
                </a:cubicBezTo>
              </a:path>
              <a:path w="8459" h="1812">
                <a:moveTo>
                  <a:pt x="3125" y="4018"/>
                </a:moveTo>
                <a:cubicBezTo>
                  <a:pt x="3133" y="4113"/>
                  <a:pt x="3128" y="4113"/>
                  <a:pt x="3175" y="4192"/>
                </a:cubicBezTo>
                <a:cubicBezTo>
                  <a:pt x="3212" y="4253"/>
                  <a:pt x="3249" y="4320"/>
                  <a:pt x="3274" y="4366"/>
                </a:cubicBezTo>
                <a:cubicBezTo>
                  <a:pt x="3316" y="4442"/>
                  <a:pt x="3292" y="4523"/>
                  <a:pt x="3423" y="4490"/>
                </a:cubicBezTo>
                <a:cubicBezTo>
                  <a:pt x="3463" y="4480"/>
                  <a:pt x="3537" y="4328"/>
                  <a:pt x="3547" y="4291"/>
                </a:cubicBezTo>
                <a:cubicBezTo>
                  <a:pt x="3566" y="4220"/>
                  <a:pt x="3544" y="4132"/>
                  <a:pt x="3522" y="4068"/>
                </a:cubicBezTo>
                <a:cubicBezTo>
                  <a:pt x="3502" y="4008"/>
                  <a:pt x="3503" y="3994"/>
                  <a:pt x="3473" y="3969"/>
                </a:cubicBezTo>
                <a:cubicBezTo>
                  <a:pt x="3473" y="4090"/>
                  <a:pt x="3532" y="4148"/>
                  <a:pt x="3572" y="4266"/>
                </a:cubicBezTo>
                <a:cubicBezTo>
                  <a:pt x="3629" y="4433"/>
                  <a:pt x="3707" y="4562"/>
                  <a:pt x="3795" y="4713"/>
                </a:cubicBezTo>
                <a:cubicBezTo>
                  <a:pt x="3856" y="4816"/>
                  <a:pt x="3884" y="4970"/>
                  <a:pt x="3894" y="5085"/>
                </a:cubicBezTo>
                <a:cubicBezTo>
                  <a:pt x="3902" y="5171"/>
                  <a:pt x="3844" y="5248"/>
                  <a:pt x="3770" y="5283"/>
                </a:cubicBezTo>
                <a:cubicBezTo>
                  <a:pt x="3689" y="5322"/>
                  <a:pt x="3532" y="5285"/>
                  <a:pt x="3473" y="5209"/>
                </a:cubicBezTo>
                <a:cubicBezTo>
                  <a:pt x="3465" y="5184"/>
                  <a:pt x="3456" y="5160"/>
                  <a:pt x="3448" y="5135"/>
                </a:cubicBezTo>
              </a:path>
              <a:path w="8459" h="1812">
                <a:moveTo>
                  <a:pt x="4217" y="4093"/>
                </a:moveTo>
                <a:cubicBezTo>
                  <a:pt x="4154" y="4055"/>
                  <a:pt x="4108" y="4074"/>
                  <a:pt x="4043" y="4118"/>
                </a:cubicBezTo>
                <a:cubicBezTo>
                  <a:pt x="3996" y="4150"/>
                  <a:pt x="3997" y="4239"/>
                  <a:pt x="3994" y="4291"/>
                </a:cubicBezTo>
                <a:cubicBezTo>
                  <a:pt x="3991" y="4358"/>
                  <a:pt x="4028" y="4460"/>
                  <a:pt x="4068" y="4514"/>
                </a:cubicBezTo>
                <a:cubicBezTo>
                  <a:pt x="4116" y="4579"/>
                  <a:pt x="4161" y="4604"/>
                  <a:pt x="4242" y="4589"/>
                </a:cubicBezTo>
                <a:cubicBezTo>
                  <a:pt x="4408" y="4559"/>
                  <a:pt x="4551" y="4479"/>
                  <a:pt x="4688" y="4390"/>
                </a:cubicBezTo>
              </a:path>
              <a:path w="8459" h="1812">
                <a:moveTo>
                  <a:pt x="4812" y="3597"/>
                </a:moveTo>
                <a:cubicBezTo>
                  <a:pt x="4832" y="3687"/>
                  <a:pt x="4866" y="3745"/>
                  <a:pt x="4911" y="3820"/>
                </a:cubicBezTo>
                <a:cubicBezTo>
                  <a:pt x="4965" y="3909"/>
                  <a:pt x="4961" y="3993"/>
                  <a:pt x="4961" y="4093"/>
                </a:cubicBezTo>
                <a:cubicBezTo>
                  <a:pt x="4961" y="4132"/>
                  <a:pt x="4983" y="4421"/>
                  <a:pt x="4986" y="4415"/>
                </a:cubicBezTo>
                <a:cubicBezTo>
                  <a:pt x="4994" y="4390"/>
                  <a:pt x="5003" y="4366"/>
                  <a:pt x="5011" y="4341"/>
                </a:cubicBezTo>
              </a:path>
              <a:path w="8459" h="1812">
                <a:moveTo>
                  <a:pt x="5581" y="3994"/>
                </a:moveTo>
                <a:cubicBezTo>
                  <a:pt x="5521" y="3968"/>
                  <a:pt x="5452" y="3976"/>
                  <a:pt x="5407" y="4018"/>
                </a:cubicBezTo>
                <a:cubicBezTo>
                  <a:pt x="5346" y="4075"/>
                  <a:pt x="5353" y="4148"/>
                  <a:pt x="5333" y="4217"/>
                </a:cubicBezTo>
                <a:cubicBezTo>
                  <a:pt x="5315" y="4278"/>
                  <a:pt x="5295" y="4312"/>
                  <a:pt x="5358" y="4366"/>
                </a:cubicBezTo>
                <a:cubicBezTo>
                  <a:pt x="5436" y="4432"/>
                  <a:pt x="5446" y="4440"/>
                  <a:pt x="5556" y="4440"/>
                </a:cubicBezTo>
                <a:cubicBezTo>
                  <a:pt x="5606" y="4440"/>
                  <a:pt x="5678" y="4409"/>
                  <a:pt x="5705" y="4366"/>
                </a:cubicBezTo>
                <a:cubicBezTo>
                  <a:pt x="5720" y="4343"/>
                  <a:pt x="5753" y="4271"/>
                  <a:pt x="5755" y="4242"/>
                </a:cubicBezTo>
                <a:cubicBezTo>
                  <a:pt x="5761" y="4160"/>
                  <a:pt x="5763" y="4089"/>
                  <a:pt x="5680" y="4043"/>
                </a:cubicBezTo>
                <a:cubicBezTo>
                  <a:pt x="5599" y="3998"/>
                  <a:pt x="5553" y="3998"/>
                  <a:pt x="5482" y="3944"/>
                </a:cubicBezTo>
              </a:path>
              <a:path w="8459" h="1812">
                <a:moveTo>
                  <a:pt x="6176" y="3497"/>
                </a:moveTo>
                <a:cubicBezTo>
                  <a:pt x="6176" y="3571"/>
                  <a:pt x="6193" y="3625"/>
                  <a:pt x="6201" y="3696"/>
                </a:cubicBezTo>
                <a:cubicBezTo>
                  <a:pt x="6220" y="3857"/>
                  <a:pt x="6239" y="4030"/>
                  <a:pt x="6251" y="4192"/>
                </a:cubicBezTo>
                <a:cubicBezTo>
                  <a:pt x="6263" y="4358"/>
                  <a:pt x="6248" y="4536"/>
                  <a:pt x="6276" y="4688"/>
                </a:cubicBezTo>
                <a:cubicBezTo>
                  <a:pt x="6301" y="4820"/>
                  <a:pt x="6254" y="4606"/>
                  <a:pt x="6251" y="4589"/>
                </a:cubicBezTo>
                <a:cubicBezTo>
                  <a:pt x="6235" y="4496"/>
                  <a:pt x="6265" y="4401"/>
                  <a:pt x="6300" y="4316"/>
                </a:cubicBezTo>
                <a:cubicBezTo>
                  <a:pt x="6320" y="4268"/>
                  <a:pt x="6399" y="4196"/>
                  <a:pt x="6449" y="4192"/>
                </a:cubicBezTo>
                <a:cubicBezTo>
                  <a:pt x="6519" y="4187"/>
                  <a:pt x="6572" y="4262"/>
                  <a:pt x="6598" y="4316"/>
                </a:cubicBezTo>
                <a:cubicBezTo>
                  <a:pt x="6641" y="4405"/>
                  <a:pt x="6700" y="4475"/>
                  <a:pt x="6747" y="4564"/>
                </a:cubicBezTo>
                <a:cubicBezTo>
                  <a:pt x="6806" y="4676"/>
                  <a:pt x="6689" y="4668"/>
                  <a:pt x="6623" y="4688"/>
                </a:cubicBezTo>
                <a:cubicBezTo>
                  <a:pt x="6567" y="4705"/>
                  <a:pt x="6512" y="4728"/>
                  <a:pt x="6449" y="4713"/>
                </a:cubicBezTo>
                <a:cubicBezTo>
                  <a:pt x="6376" y="4695"/>
                  <a:pt x="6400" y="4647"/>
                  <a:pt x="6400" y="4589"/>
                </a:cubicBezTo>
              </a:path>
              <a:path w="8459" h="1812">
                <a:moveTo>
                  <a:pt x="7069" y="4118"/>
                </a:moveTo>
                <a:cubicBezTo>
                  <a:pt x="7091" y="4199"/>
                  <a:pt x="7094" y="4258"/>
                  <a:pt x="7094" y="4341"/>
                </a:cubicBezTo>
                <a:cubicBezTo>
                  <a:pt x="7094" y="4432"/>
                  <a:pt x="7097" y="4437"/>
                  <a:pt x="7144" y="4514"/>
                </a:cubicBezTo>
                <a:cubicBezTo>
                  <a:pt x="7169" y="4564"/>
                  <a:pt x="7177" y="4580"/>
                  <a:pt x="7218" y="4589"/>
                </a:cubicBezTo>
                <a:cubicBezTo>
                  <a:pt x="7262" y="4564"/>
                  <a:pt x="7337" y="4532"/>
                  <a:pt x="7367" y="4490"/>
                </a:cubicBezTo>
                <a:cubicBezTo>
                  <a:pt x="7411" y="4428"/>
                  <a:pt x="7392" y="4338"/>
                  <a:pt x="7392" y="4266"/>
                </a:cubicBezTo>
                <a:cubicBezTo>
                  <a:pt x="7392" y="4192"/>
                  <a:pt x="7392" y="4167"/>
                  <a:pt x="7392" y="4118"/>
                </a:cubicBezTo>
                <a:cubicBezTo>
                  <a:pt x="7392" y="4077"/>
                  <a:pt x="7392" y="4151"/>
                  <a:pt x="7392" y="4192"/>
                </a:cubicBezTo>
                <a:cubicBezTo>
                  <a:pt x="7392" y="4258"/>
                  <a:pt x="7406" y="4358"/>
                  <a:pt x="7441" y="4415"/>
                </a:cubicBezTo>
                <a:cubicBezTo>
                  <a:pt x="7457" y="4442"/>
                  <a:pt x="7537" y="4562"/>
                  <a:pt x="7541" y="4564"/>
                </a:cubicBezTo>
                <a:cubicBezTo>
                  <a:pt x="7606" y="4602"/>
                  <a:pt x="7662" y="4528"/>
                  <a:pt x="7689" y="4490"/>
                </a:cubicBezTo>
              </a:path>
              <a:path w="8459" h="1812">
                <a:moveTo>
                  <a:pt x="7813" y="3572"/>
                </a:moveTo>
                <a:cubicBezTo>
                  <a:pt x="7813" y="3687"/>
                  <a:pt x="7820" y="3703"/>
                  <a:pt x="7863" y="3795"/>
                </a:cubicBezTo>
                <a:cubicBezTo>
                  <a:pt x="7891" y="3855"/>
                  <a:pt x="7928" y="3975"/>
                  <a:pt x="7938" y="4043"/>
                </a:cubicBezTo>
                <a:cubicBezTo>
                  <a:pt x="7951" y="4133"/>
                  <a:pt x="7983" y="4228"/>
                  <a:pt x="7987" y="4316"/>
                </a:cubicBezTo>
                <a:cubicBezTo>
                  <a:pt x="7987" y="4326"/>
                  <a:pt x="7987" y="4534"/>
                  <a:pt x="7987" y="4465"/>
                </a:cubicBezTo>
                <a:cubicBezTo>
                  <a:pt x="7987" y="4457"/>
                  <a:pt x="7987" y="4448"/>
                  <a:pt x="7987" y="4440"/>
                </a:cubicBezTo>
              </a:path>
              <a:path w="8459" h="1812">
                <a:moveTo>
                  <a:pt x="7714" y="4142"/>
                </a:moveTo>
                <a:cubicBezTo>
                  <a:pt x="7823" y="4130"/>
                  <a:pt x="7931" y="4101"/>
                  <a:pt x="8037" y="4068"/>
                </a:cubicBezTo>
                <a:cubicBezTo>
                  <a:pt x="8128" y="4039"/>
                  <a:pt x="8223" y="4058"/>
                  <a:pt x="8310" y="4018"/>
                </a:cubicBezTo>
                <a:cubicBezTo>
                  <a:pt x="8334" y="3994"/>
                  <a:pt x="8343" y="3985"/>
                  <a:pt x="8359" y="3969"/>
                </a:cubicBezTo>
              </a:path>
              <a:path w="8459" h="1812">
                <a:moveTo>
                  <a:pt x="8855" y="4093"/>
                </a:moveTo>
                <a:cubicBezTo>
                  <a:pt x="8830" y="4034"/>
                  <a:pt x="8828" y="3965"/>
                  <a:pt x="8756" y="3944"/>
                </a:cubicBezTo>
                <a:cubicBezTo>
                  <a:pt x="8684" y="3923"/>
                  <a:pt x="8613" y="4020"/>
                  <a:pt x="8582" y="4068"/>
                </a:cubicBezTo>
                <a:cubicBezTo>
                  <a:pt x="8533" y="4143"/>
                  <a:pt x="8491" y="4234"/>
                  <a:pt x="8483" y="4316"/>
                </a:cubicBezTo>
                <a:cubicBezTo>
                  <a:pt x="8474" y="4406"/>
                  <a:pt x="8474" y="4438"/>
                  <a:pt x="8533" y="4490"/>
                </a:cubicBezTo>
                <a:cubicBezTo>
                  <a:pt x="8612" y="4561"/>
                  <a:pt x="8649" y="4525"/>
                  <a:pt x="8731" y="4514"/>
                </a:cubicBezTo>
                <a:cubicBezTo>
                  <a:pt x="8842" y="4499"/>
                  <a:pt x="8834" y="4467"/>
                  <a:pt x="8880" y="4366"/>
                </a:cubicBezTo>
                <a:cubicBezTo>
                  <a:pt x="8924" y="4268"/>
                  <a:pt x="8930" y="4200"/>
                  <a:pt x="8930" y="4093"/>
                </a:cubicBezTo>
                <a:cubicBezTo>
                  <a:pt x="8930" y="4023"/>
                  <a:pt x="8926" y="4203"/>
                  <a:pt x="8930" y="4217"/>
                </a:cubicBezTo>
                <a:cubicBezTo>
                  <a:pt x="8950" y="4290"/>
                  <a:pt x="8992" y="4333"/>
                  <a:pt x="9029" y="4390"/>
                </a:cubicBezTo>
                <a:cubicBezTo>
                  <a:pt x="9077" y="4463"/>
                  <a:pt x="9058" y="4451"/>
                  <a:pt x="9128" y="4390"/>
                </a:cubicBezTo>
              </a:path>
              <a:path w="8459" h="1812">
                <a:moveTo>
                  <a:pt x="9327" y="4018"/>
                </a:moveTo>
                <a:cubicBezTo>
                  <a:pt x="9327" y="4091"/>
                  <a:pt x="9319" y="4135"/>
                  <a:pt x="9351" y="4192"/>
                </a:cubicBezTo>
                <a:cubicBezTo>
                  <a:pt x="9380" y="4243"/>
                  <a:pt x="9401" y="4283"/>
                  <a:pt x="9401" y="4341"/>
                </a:cubicBezTo>
                <a:cubicBezTo>
                  <a:pt x="9401" y="4399"/>
                  <a:pt x="9401" y="4473"/>
                  <a:pt x="9401" y="4415"/>
                </a:cubicBezTo>
                <a:cubicBezTo>
                  <a:pt x="9401" y="4314"/>
                  <a:pt x="9370" y="4133"/>
                  <a:pt x="9426" y="4043"/>
                </a:cubicBezTo>
                <a:cubicBezTo>
                  <a:pt x="9450" y="4004"/>
                  <a:pt x="9570" y="3994"/>
                  <a:pt x="9624" y="3994"/>
                </a:cubicBezTo>
                <a:cubicBezTo>
                  <a:pt x="9704" y="3994"/>
                  <a:pt x="9752" y="4044"/>
                  <a:pt x="9798" y="4093"/>
                </a:cubicBezTo>
                <a:cubicBezTo>
                  <a:pt x="9873" y="4173"/>
                  <a:pt x="9838" y="4191"/>
                  <a:pt x="9823" y="4291"/>
                </a:cubicBezTo>
                <a:cubicBezTo>
                  <a:pt x="9813" y="4357"/>
                  <a:pt x="9814" y="4402"/>
                  <a:pt x="9798" y="4465"/>
                </a:cubicBezTo>
                <a:cubicBezTo>
                  <a:pt x="9786" y="4513"/>
                  <a:pt x="9809" y="4546"/>
                  <a:pt x="9823" y="4465"/>
                </a:cubicBezTo>
              </a:path>
              <a:path w="8459" h="1812">
                <a:moveTo>
                  <a:pt x="10046" y="4266"/>
                </a:moveTo>
                <a:cubicBezTo>
                  <a:pt x="10093" y="4197"/>
                  <a:pt x="10103" y="4217"/>
                  <a:pt x="10195" y="4217"/>
                </a:cubicBezTo>
                <a:cubicBezTo>
                  <a:pt x="10258" y="4217"/>
                  <a:pt x="10301" y="4154"/>
                  <a:pt x="10344" y="4118"/>
                </a:cubicBezTo>
                <a:cubicBezTo>
                  <a:pt x="10411" y="4062"/>
                  <a:pt x="10358" y="4026"/>
                  <a:pt x="10319" y="3994"/>
                </a:cubicBezTo>
                <a:cubicBezTo>
                  <a:pt x="10279" y="3961"/>
                  <a:pt x="10246" y="3969"/>
                  <a:pt x="10195" y="3969"/>
                </a:cubicBezTo>
                <a:cubicBezTo>
                  <a:pt x="10108" y="3969"/>
                  <a:pt x="10057" y="4016"/>
                  <a:pt x="10021" y="4093"/>
                </a:cubicBezTo>
                <a:cubicBezTo>
                  <a:pt x="9998" y="4141"/>
                  <a:pt x="10027" y="4224"/>
                  <a:pt x="10046" y="4266"/>
                </a:cubicBezTo>
                <a:cubicBezTo>
                  <a:pt x="10088" y="4360"/>
                  <a:pt x="10089" y="4372"/>
                  <a:pt x="10170" y="4440"/>
                </a:cubicBezTo>
                <a:cubicBezTo>
                  <a:pt x="10254" y="4510"/>
                  <a:pt x="10333" y="4490"/>
                  <a:pt x="10443" y="4490"/>
                </a:cubicBezTo>
                <a:cubicBezTo>
                  <a:pt x="10505" y="4490"/>
                  <a:pt x="10660" y="4514"/>
                  <a:pt x="10666" y="4415"/>
                </a:cubicBezTo>
                <a:cubicBezTo>
                  <a:pt x="10658" y="4399"/>
                  <a:pt x="10649" y="4382"/>
                  <a:pt x="10641" y="43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8840" y="2054160"/>
            <a:ext cx="295200" cy="366840"/>
          </a:xfrm>
          <a:custGeom>
            <a:avLst/>
            <a:gdLst/>
            <a:ahLst/>
            <a:rect l="l" t="t" r="r" b="b"/>
            <a:pathLst>
              <a:path w="820" h="1018">
                <a:moveTo>
                  <a:pt x="769" y="5829"/>
                </a:moveTo>
                <a:cubicBezTo>
                  <a:pt x="759" y="5760"/>
                  <a:pt x="800" y="5726"/>
                  <a:pt x="893" y="5705"/>
                </a:cubicBezTo>
                <a:cubicBezTo>
                  <a:pt x="967" y="5689"/>
                  <a:pt x="1025" y="5727"/>
                  <a:pt x="1067" y="5779"/>
                </a:cubicBezTo>
                <a:cubicBezTo>
                  <a:pt x="1128" y="5855"/>
                  <a:pt x="1062" y="5973"/>
                  <a:pt x="1042" y="6052"/>
                </a:cubicBezTo>
                <a:cubicBezTo>
                  <a:pt x="1006" y="6192"/>
                  <a:pt x="947" y="6341"/>
                  <a:pt x="893" y="6474"/>
                </a:cubicBezTo>
                <a:cubicBezTo>
                  <a:pt x="879" y="6509"/>
                  <a:pt x="812" y="6705"/>
                  <a:pt x="744" y="6623"/>
                </a:cubicBezTo>
                <a:cubicBezTo>
                  <a:pt x="736" y="6606"/>
                  <a:pt x="727" y="6590"/>
                  <a:pt x="719" y="6573"/>
                </a:cubicBezTo>
                <a:cubicBezTo>
                  <a:pt x="776" y="6562"/>
                  <a:pt x="830" y="6534"/>
                  <a:pt x="893" y="6548"/>
                </a:cubicBezTo>
                <a:cubicBezTo>
                  <a:pt x="964" y="6564"/>
                  <a:pt x="1034" y="6606"/>
                  <a:pt x="1091" y="6648"/>
                </a:cubicBezTo>
                <a:cubicBezTo>
                  <a:pt x="1118" y="6668"/>
                  <a:pt x="1208" y="6754"/>
                  <a:pt x="1240" y="6722"/>
                </a:cubicBezTo>
                <a:cubicBezTo>
                  <a:pt x="1240" y="6705"/>
                  <a:pt x="1240" y="6689"/>
                  <a:pt x="1240" y="6672"/>
                </a:cubicBezTo>
              </a:path>
              <a:path w="820" h="1018">
                <a:moveTo>
                  <a:pt x="1538" y="6499"/>
                </a:moveTo>
                <a:cubicBezTo>
                  <a:pt x="1538" y="6525"/>
                  <a:pt x="1558" y="6648"/>
                  <a:pt x="1513" y="6648"/>
                </a:cubicBezTo>
                <a:cubicBezTo>
                  <a:pt x="1513" y="6615"/>
                  <a:pt x="1513" y="6598"/>
                  <a:pt x="1513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46080" y="2081160"/>
            <a:ext cx="804960" cy="455760"/>
          </a:xfrm>
          <a:custGeom>
            <a:avLst/>
            <a:gdLst/>
            <a:ahLst/>
            <a:rect l="l" t="t" r="r" b="b"/>
            <a:pathLst>
              <a:path w="2234" h="1267">
                <a:moveTo>
                  <a:pt x="2629" y="6003"/>
                </a:moveTo>
                <a:cubicBezTo>
                  <a:pt x="2687" y="5956"/>
                  <a:pt x="2737" y="5957"/>
                  <a:pt x="2803" y="5928"/>
                </a:cubicBezTo>
                <a:cubicBezTo>
                  <a:pt x="2864" y="5901"/>
                  <a:pt x="2915" y="5888"/>
                  <a:pt x="2927" y="5978"/>
                </a:cubicBezTo>
                <a:cubicBezTo>
                  <a:pt x="2936" y="6042"/>
                  <a:pt x="2884" y="6076"/>
                  <a:pt x="2853" y="6127"/>
                </a:cubicBezTo>
                <a:cubicBezTo>
                  <a:pt x="2815" y="6191"/>
                  <a:pt x="2827" y="6176"/>
                  <a:pt x="2753" y="6176"/>
                </a:cubicBezTo>
                <a:cubicBezTo>
                  <a:pt x="2789" y="6150"/>
                  <a:pt x="2854" y="6134"/>
                  <a:pt x="2902" y="6152"/>
                </a:cubicBezTo>
                <a:cubicBezTo>
                  <a:pt x="2937" y="6165"/>
                  <a:pt x="2998" y="6225"/>
                  <a:pt x="3026" y="6251"/>
                </a:cubicBezTo>
                <a:cubicBezTo>
                  <a:pt x="3074" y="6295"/>
                  <a:pt x="3121" y="6332"/>
                  <a:pt x="3125" y="6400"/>
                </a:cubicBezTo>
                <a:cubicBezTo>
                  <a:pt x="3128" y="6444"/>
                  <a:pt x="3083" y="6596"/>
                  <a:pt x="3051" y="6623"/>
                </a:cubicBezTo>
                <a:cubicBezTo>
                  <a:pt x="3003" y="6664"/>
                  <a:pt x="2924" y="6717"/>
                  <a:pt x="2853" y="6697"/>
                </a:cubicBezTo>
                <a:cubicBezTo>
                  <a:pt x="2823" y="6689"/>
                  <a:pt x="2688" y="6670"/>
                  <a:pt x="2704" y="6623"/>
                </a:cubicBezTo>
                <a:cubicBezTo>
                  <a:pt x="2712" y="6615"/>
                  <a:pt x="2721" y="6606"/>
                  <a:pt x="2729" y="6598"/>
                </a:cubicBezTo>
              </a:path>
              <a:path w="2234" h="1267">
                <a:moveTo>
                  <a:pt x="3373" y="6598"/>
                </a:moveTo>
                <a:cubicBezTo>
                  <a:pt x="3401" y="6668"/>
                  <a:pt x="3423" y="6686"/>
                  <a:pt x="3423" y="6772"/>
                </a:cubicBezTo>
                <a:cubicBezTo>
                  <a:pt x="3423" y="6813"/>
                  <a:pt x="3452" y="7032"/>
                  <a:pt x="3398" y="7045"/>
                </a:cubicBezTo>
                <a:cubicBezTo>
                  <a:pt x="3370" y="7017"/>
                  <a:pt x="3361" y="7003"/>
                  <a:pt x="3373" y="6970"/>
                </a:cubicBezTo>
              </a:path>
              <a:path w="2234" h="1267">
                <a:moveTo>
                  <a:pt x="3870" y="5928"/>
                </a:moveTo>
                <a:cubicBezTo>
                  <a:pt x="3818" y="5958"/>
                  <a:pt x="3769" y="5994"/>
                  <a:pt x="3746" y="6052"/>
                </a:cubicBezTo>
                <a:cubicBezTo>
                  <a:pt x="3718" y="6122"/>
                  <a:pt x="3801" y="6149"/>
                  <a:pt x="3845" y="6152"/>
                </a:cubicBezTo>
                <a:cubicBezTo>
                  <a:pt x="3904" y="6156"/>
                  <a:pt x="3966" y="6190"/>
                  <a:pt x="4018" y="6226"/>
                </a:cubicBezTo>
                <a:cubicBezTo>
                  <a:pt x="4061" y="6256"/>
                  <a:pt x="4125" y="6373"/>
                  <a:pt x="4142" y="6424"/>
                </a:cubicBezTo>
                <a:cubicBezTo>
                  <a:pt x="4155" y="6463"/>
                  <a:pt x="4134" y="6544"/>
                  <a:pt x="4118" y="6573"/>
                </a:cubicBezTo>
                <a:cubicBezTo>
                  <a:pt x="4102" y="6602"/>
                  <a:pt x="4036" y="6678"/>
                  <a:pt x="3994" y="6648"/>
                </a:cubicBezTo>
                <a:cubicBezTo>
                  <a:pt x="3929" y="6601"/>
                  <a:pt x="3887" y="6544"/>
                  <a:pt x="3870" y="6474"/>
                </a:cubicBezTo>
              </a:path>
              <a:path w="2234" h="1267">
                <a:moveTo>
                  <a:pt x="3820" y="5978"/>
                </a:moveTo>
                <a:cubicBezTo>
                  <a:pt x="3877" y="5950"/>
                  <a:pt x="3956" y="5890"/>
                  <a:pt x="4018" y="5879"/>
                </a:cubicBezTo>
                <a:cubicBezTo>
                  <a:pt x="4080" y="5868"/>
                  <a:pt x="4138" y="5835"/>
                  <a:pt x="4192" y="5829"/>
                </a:cubicBezTo>
                <a:cubicBezTo>
                  <a:pt x="4227" y="5829"/>
                  <a:pt x="4240" y="5820"/>
                  <a:pt x="4242" y="5779"/>
                </a:cubicBezTo>
              </a:path>
              <a:path w="2234" h="1267">
                <a:moveTo>
                  <a:pt x="4589" y="6251"/>
                </a:moveTo>
                <a:cubicBezTo>
                  <a:pt x="4642" y="6264"/>
                  <a:pt x="4674" y="6297"/>
                  <a:pt x="4738" y="6300"/>
                </a:cubicBezTo>
                <a:cubicBezTo>
                  <a:pt x="4806" y="6304"/>
                  <a:pt x="4847" y="6259"/>
                  <a:pt x="4862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19160" y="2000160"/>
            <a:ext cx="287640" cy="357120"/>
          </a:xfrm>
          <a:custGeom>
            <a:avLst/>
            <a:gdLst/>
            <a:ahLst/>
            <a:rect l="l" t="t" r="r" b="b"/>
            <a:pathLst>
              <a:path w="795" h="993">
                <a:moveTo>
                  <a:pt x="5556" y="6127"/>
                </a:moveTo>
                <a:cubicBezTo>
                  <a:pt x="5539" y="6075"/>
                  <a:pt x="5507" y="6055"/>
                  <a:pt x="5432" y="6077"/>
                </a:cubicBezTo>
                <a:cubicBezTo>
                  <a:pt x="5360" y="6098"/>
                  <a:pt x="5346" y="6187"/>
                  <a:pt x="5333" y="6251"/>
                </a:cubicBezTo>
                <a:cubicBezTo>
                  <a:pt x="5319" y="6322"/>
                  <a:pt x="5313" y="6479"/>
                  <a:pt x="5383" y="6524"/>
                </a:cubicBezTo>
                <a:cubicBezTo>
                  <a:pt x="5405" y="6538"/>
                  <a:pt x="5524" y="6561"/>
                  <a:pt x="5556" y="6548"/>
                </a:cubicBezTo>
                <a:cubicBezTo>
                  <a:pt x="5610" y="6526"/>
                  <a:pt x="5639" y="6396"/>
                  <a:pt x="5655" y="6350"/>
                </a:cubicBezTo>
                <a:cubicBezTo>
                  <a:pt x="5710" y="6190"/>
                  <a:pt x="5684" y="6066"/>
                  <a:pt x="5680" y="5904"/>
                </a:cubicBezTo>
                <a:cubicBezTo>
                  <a:pt x="5677" y="5788"/>
                  <a:pt x="5680" y="5672"/>
                  <a:pt x="5680" y="5556"/>
                </a:cubicBezTo>
                <a:cubicBezTo>
                  <a:pt x="5656" y="5644"/>
                  <a:pt x="5655" y="5712"/>
                  <a:pt x="5655" y="5804"/>
                </a:cubicBezTo>
                <a:cubicBezTo>
                  <a:pt x="5655" y="5988"/>
                  <a:pt x="5606" y="6254"/>
                  <a:pt x="5680" y="6424"/>
                </a:cubicBezTo>
              </a:path>
              <a:path w="795" h="993">
                <a:moveTo>
                  <a:pt x="6102" y="6152"/>
                </a:moveTo>
                <a:cubicBezTo>
                  <a:pt x="6109" y="6223"/>
                  <a:pt x="6127" y="6279"/>
                  <a:pt x="6127" y="6350"/>
                </a:cubicBezTo>
                <a:cubicBezTo>
                  <a:pt x="6127" y="6383"/>
                  <a:pt x="6127" y="6399"/>
                  <a:pt x="6127" y="6424"/>
                </a:cubicBezTo>
                <a:cubicBezTo>
                  <a:pt x="6127" y="6465"/>
                  <a:pt x="6127" y="6391"/>
                  <a:pt x="6127" y="6350"/>
                </a:cubicBezTo>
              </a:path>
              <a:path w="795" h="993">
                <a:moveTo>
                  <a:pt x="6052" y="5631"/>
                </a:moveTo>
                <a:cubicBezTo>
                  <a:pt x="6052" y="5639"/>
                  <a:pt x="6052" y="5647"/>
                  <a:pt x="605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7920" y="2017800"/>
            <a:ext cx="1117440" cy="349200"/>
          </a:xfrm>
          <a:custGeom>
            <a:avLst/>
            <a:gdLst/>
            <a:ahLst/>
            <a:rect l="l" t="t" r="r" b="b"/>
            <a:pathLst>
              <a:path w="3101" h="968">
                <a:moveTo>
                  <a:pt x="6524" y="5631"/>
                </a:moveTo>
                <a:cubicBezTo>
                  <a:pt x="6524" y="5563"/>
                  <a:pt x="6524" y="5716"/>
                  <a:pt x="6524" y="5730"/>
                </a:cubicBezTo>
                <a:cubicBezTo>
                  <a:pt x="6524" y="5874"/>
                  <a:pt x="6538" y="6010"/>
                  <a:pt x="6548" y="6152"/>
                </a:cubicBezTo>
                <a:cubicBezTo>
                  <a:pt x="6554" y="6231"/>
                  <a:pt x="6548" y="6602"/>
                  <a:pt x="6548" y="6524"/>
                </a:cubicBezTo>
                <a:cubicBezTo>
                  <a:pt x="6548" y="6414"/>
                  <a:pt x="6559" y="6367"/>
                  <a:pt x="6598" y="6276"/>
                </a:cubicBezTo>
                <a:cubicBezTo>
                  <a:pt x="6622" y="6221"/>
                  <a:pt x="6635" y="6201"/>
                  <a:pt x="6697" y="6201"/>
                </a:cubicBezTo>
                <a:cubicBezTo>
                  <a:pt x="6744" y="6201"/>
                  <a:pt x="6836" y="6239"/>
                  <a:pt x="6871" y="6276"/>
                </a:cubicBezTo>
                <a:cubicBezTo>
                  <a:pt x="6889" y="6295"/>
                  <a:pt x="6930" y="6426"/>
                  <a:pt x="6921" y="6449"/>
                </a:cubicBezTo>
                <a:cubicBezTo>
                  <a:pt x="6889" y="6529"/>
                  <a:pt x="6880" y="6548"/>
                  <a:pt x="6796" y="6548"/>
                </a:cubicBezTo>
                <a:cubicBezTo>
                  <a:pt x="6774" y="6548"/>
                  <a:pt x="6637" y="6546"/>
                  <a:pt x="6623" y="6524"/>
                </a:cubicBezTo>
                <a:cubicBezTo>
                  <a:pt x="6623" y="6472"/>
                  <a:pt x="6624" y="6454"/>
                  <a:pt x="6648" y="6424"/>
                </a:cubicBezTo>
              </a:path>
              <a:path w="3101" h="968">
                <a:moveTo>
                  <a:pt x="7193" y="6052"/>
                </a:moveTo>
                <a:cubicBezTo>
                  <a:pt x="7210" y="6108"/>
                  <a:pt x="7264" y="6193"/>
                  <a:pt x="7268" y="6251"/>
                </a:cubicBezTo>
                <a:cubicBezTo>
                  <a:pt x="7272" y="6308"/>
                  <a:pt x="7268" y="6367"/>
                  <a:pt x="7268" y="6424"/>
                </a:cubicBezTo>
                <a:cubicBezTo>
                  <a:pt x="7268" y="6505"/>
                  <a:pt x="7268" y="6327"/>
                  <a:pt x="7268" y="6325"/>
                </a:cubicBezTo>
                <a:cubicBezTo>
                  <a:pt x="7268" y="6257"/>
                  <a:pt x="7248" y="6178"/>
                  <a:pt x="7293" y="6127"/>
                </a:cubicBezTo>
                <a:cubicBezTo>
                  <a:pt x="7339" y="6074"/>
                  <a:pt x="7402" y="6077"/>
                  <a:pt x="7466" y="6077"/>
                </a:cubicBezTo>
                <a:cubicBezTo>
                  <a:pt x="7524" y="6077"/>
                  <a:pt x="7582" y="6077"/>
                  <a:pt x="7640" y="6077"/>
                </a:cubicBezTo>
              </a:path>
              <a:path w="3101" h="968">
                <a:moveTo>
                  <a:pt x="7888" y="6028"/>
                </a:moveTo>
                <a:cubicBezTo>
                  <a:pt x="7836" y="5997"/>
                  <a:pt x="7783" y="5991"/>
                  <a:pt x="7739" y="6052"/>
                </a:cubicBezTo>
                <a:cubicBezTo>
                  <a:pt x="7696" y="6112"/>
                  <a:pt x="7675" y="6177"/>
                  <a:pt x="7665" y="6251"/>
                </a:cubicBezTo>
                <a:cubicBezTo>
                  <a:pt x="7658" y="6305"/>
                  <a:pt x="7666" y="6366"/>
                  <a:pt x="7714" y="6400"/>
                </a:cubicBezTo>
                <a:cubicBezTo>
                  <a:pt x="7764" y="6435"/>
                  <a:pt x="7838" y="6436"/>
                  <a:pt x="7888" y="6400"/>
                </a:cubicBezTo>
                <a:cubicBezTo>
                  <a:pt x="7941" y="6362"/>
                  <a:pt x="7996" y="6321"/>
                  <a:pt x="8012" y="6251"/>
                </a:cubicBezTo>
                <a:cubicBezTo>
                  <a:pt x="8028" y="6181"/>
                  <a:pt x="7953" y="6159"/>
                  <a:pt x="7938" y="6102"/>
                </a:cubicBezTo>
                <a:cubicBezTo>
                  <a:pt x="7938" y="6057"/>
                  <a:pt x="7941" y="6037"/>
                  <a:pt x="7913" y="6077"/>
                </a:cubicBezTo>
              </a:path>
              <a:path w="3101" h="968">
                <a:moveTo>
                  <a:pt x="8235" y="6077"/>
                </a:moveTo>
                <a:cubicBezTo>
                  <a:pt x="8235" y="6133"/>
                  <a:pt x="8273" y="6156"/>
                  <a:pt x="8285" y="6201"/>
                </a:cubicBezTo>
                <a:cubicBezTo>
                  <a:pt x="8302" y="6264"/>
                  <a:pt x="8285" y="6358"/>
                  <a:pt x="8285" y="6424"/>
                </a:cubicBezTo>
                <a:cubicBezTo>
                  <a:pt x="8285" y="6523"/>
                  <a:pt x="8285" y="6425"/>
                  <a:pt x="8285" y="6375"/>
                </a:cubicBezTo>
                <a:cubicBezTo>
                  <a:pt x="8285" y="6306"/>
                  <a:pt x="8320" y="6281"/>
                  <a:pt x="8334" y="6226"/>
                </a:cubicBezTo>
                <a:cubicBezTo>
                  <a:pt x="8341" y="6197"/>
                  <a:pt x="8363" y="6085"/>
                  <a:pt x="8434" y="6127"/>
                </a:cubicBezTo>
                <a:cubicBezTo>
                  <a:pt x="8475" y="6151"/>
                  <a:pt x="8541" y="6234"/>
                  <a:pt x="8558" y="6276"/>
                </a:cubicBezTo>
                <a:cubicBezTo>
                  <a:pt x="8571" y="6307"/>
                  <a:pt x="8558" y="6364"/>
                  <a:pt x="8558" y="6400"/>
                </a:cubicBezTo>
                <a:cubicBezTo>
                  <a:pt x="8580" y="6347"/>
                  <a:pt x="8574" y="6292"/>
                  <a:pt x="8607" y="6251"/>
                </a:cubicBezTo>
                <a:cubicBezTo>
                  <a:pt x="8645" y="6204"/>
                  <a:pt x="8676" y="6134"/>
                  <a:pt x="8731" y="6102"/>
                </a:cubicBezTo>
                <a:cubicBezTo>
                  <a:pt x="8831" y="6044"/>
                  <a:pt x="8862" y="6084"/>
                  <a:pt x="8930" y="6152"/>
                </a:cubicBezTo>
                <a:cubicBezTo>
                  <a:pt x="8961" y="6183"/>
                  <a:pt x="8990" y="6256"/>
                  <a:pt x="9004" y="6300"/>
                </a:cubicBezTo>
                <a:cubicBezTo>
                  <a:pt x="9018" y="6345"/>
                  <a:pt x="9000" y="6390"/>
                  <a:pt x="8979" y="6424"/>
                </a:cubicBezTo>
                <a:cubicBezTo>
                  <a:pt x="8979" y="6384"/>
                  <a:pt x="8990" y="6365"/>
                  <a:pt x="9029" y="6350"/>
                </a:cubicBezTo>
              </a:path>
              <a:path w="3101" h="968">
                <a:moveTo>
                  <a:pt x="9376" y="6077"/>
                </a:moveTo>
                <a:cubicBezTo>
                  <a:pt x="9299" y="6090"/>
                  <a:pt x="9314" y="6113"/>
                  <a:pt x="9277" y="6176"/>
                </a:cubicBezTo>
                <a:cubicBezTo>
                  <a:pt x="9245" y="6230"/>
                  <a:pt x="9188" y="6286"/>
                  <a:pt x="9252" y="6350"/>
                </a:cubicBezTo>
                <a:cubicBezTo>
                  <a:pt x="9274" y="6372"/>
                  <a:pt x="9318" y="6416"/>
                  <a:pt x="9351" y="6449"/>
                </a:cubicBezTo>
                <a:cubicBezTo>
                  <a:pt x="9395" y="6494"/>
                  <a:pt x="9449" y="6469"/>
                  <a:pt x="9500" y="6449"/>
                </a:cubicBezTo>
                <a:cubicBezTo>
                  <a:pt x="9582" y="6416"/>
                  <a:pt x="9575" y="6393"/>
                  <a:pt x="9599" y="6325"/>
                </a:cubicBezTo>
                <a:cubicBezTo>
                  <a:pt x="9621" y="6264"/>
                  <a:pt x="9630" y="6211"/>
                  <a:pt x="9575" y="6152"/>
                </a:cubicBezTo>
                <a:cubicBezTo>
                  <a:pt x="9530" y="6104"/>
                  <a:pt x="9452" y="6082"/>
                  <a:pt x="9401" y="6052"/>
                </a:cubicBezTo>
                <a:cubicBezTo>
                  <a:pt x="9378" y="6030"/>
                  <a:pt x="9370" y="6025"/>
                  <a:pt x="9376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25920" y="1990800"/>
            <a:ext cx="1285920" cy="339480"/>
          </a:xfrm>
          <a:custGeom>
            <a:avLst/>
            <a:gdLst/>
            <a:ahLst/>
            <a:rect l="l" t="t" r="r" b="b"/>
            <a:pathLst>
              <a:path w="3573" h="944">
                <a:moveTo>
                  <a:pt x="10319" y="5581"/>
                </a:moveTo>
                <a:cubicBezTo>
                  <a:pt x="10311" y="5564"/>
                  <a:pt x="10302" y="5548"/>
                  <a:pt x="10294" y="5531"/>
                </a:cubicBezTo>
                <a:cubicBezTo>
                  <a:pt x="10294" y="5728"/>
                  <a:pt x="10254" y="5967"/>
                  <a:pt x="10319" y="6152"/>
                </a:cubicBezTo>
                <a:cubicBezTo>
                  <a:pt x="10343" y="6221"/>
                  <a:pt x="10344" y="6276"/>
                  <a:pt x="10344" y="6350"/>
                </a:cubicBezTo>
                <a:cubicBezTo>
                  <a:pt x="10344" y="6373"/>
                  <a:pt x="10344" y="6551"/>
                  <a:pt x="10344" y="6424"/>
                </a:cubicBezTo>
                <a:cubicBezTo>
                  <a:pt x="10344" y="6416"/>
                  <a:pt x="10344" y="6408"/>
                  <a:pt x="10344" y="6400"/>
                </a:cubicBezTo>
              </a:path>
              <a:path w="3573" h="944">
                <a:moveTo>
                  <a:pt x="10071" y="6152"/>
                </a:moveTo>
                <a:cubicBezTo>
                  <a:pt x="10140" y="6142"/>
                  <a:pt x="10194" y="6113"/>
                  <a:pt x="10269" y="6102"/>
                </a:cubicBezTo>
                <a:cubicBezTo>
                  <a:pt x="10368" y="6088"/>
                  <a:pt x="10469" y="6066"/>
                  <a:pt x="10567" y="6052"/>
                </a:cubicBezTo>
                <a:cubicBezTo>
                  <a:pt x="10597" y="6048"/>
                  <a:pt x="10635" y="6052"/>
                  <a:pt x="10666" y="6052"/>
                </a:cubicBezTo>
              </a:path>
              <a:path w="3573" h="944">
                <a:moveTo>
                  <a:pt x="10939" y="6003"/>
                </a:moveTo>
                <a:cubicBezTo>
                  <a:pt x="10829" y="6014"/>
                  <a:pt x="10852" y="6020"/>
                  <a:pt x="10790" y="6102"/>
                </a:cubicBezTo>
                <a:cubicBezTo>
                  <a:pt x="10749" y="6156"/>
                  <a:pt x="10706" y="6205"/>
                  <a:pt x="10691" y="6276"/>
                </a:cubicBezTo>
                <a:cubicBezTo>
                  <a:pt x="10684" y="6308"/>
                  <a:pt x="10691" y="6367"/>
                  <a:pt x="10691" y="6400"/>
                </a:cubicBezTo>
                <a:cubicBezTo>
                  <a:pt x="10751" y="6406"/>
                  <a:pt x="10827" y="6442"/>
                  <a:pt x="10889" y="6424"/>
                </a:cubicBezTo>
                <a:cubicBezTo>
                  <a:pt x="10975" y="6400"/>
                  <a:pt x="10984" y="6302"/>
                  <a:pt x="10988" y="6226"/>
                </a:cubicBezTo>
                <a:cubicBezTo>
                  <a:pt x="10990" y="6180"/>
                  <a:pt x="11004" y="6088"/>
                  <a:pt x="10964" y="6052"/>
                </a:cubicBezTo>
                <a:cubicBezTo>
                  <a:pt x="10920" y="6031"/>
                  <a:pt x="10908" y="6028"/>
                  <a:pt x="10889" y="6003"/>
                </a:cubicBezTo>
              </a:path>
              <a:path w="3573" h="944">
                <a:moveTo>
                  <a:pt x="11038" y="5581"/>
                </a:moveTo>
                <a:cubicBezTo>
                  <a:pt x="11091" y="5634"/>
                  <a:pt x="11105" y="5688"/>
                  <a:pt x="11137" y="5755"/>
                </a:cubicBezTo>
                <a:cubicBezTo>
                  <a:pt x="11177" y="5839"/>
                  <a:pt x="11162" y="5935"/>
                  <a:pt x="11162" y="6028"/>
                </a:cubicBezTo>
                <a:cubicBezTo>
                  <a:pt x="11162" y="6156"/>
                  <a:pt x="11162" y="6287"/>
                  <a:pt x="11187" y="6400"/>
                </a:cubicBezTo>
                <a:cubicBezTo>
                  <a:pt x="11187" y="6441"/>
                  <a:pt x="11187" y="6449"/>
                  <a:pt x="11187" y="6474"/>
                </a:cubicBezTo>
              </a:path>
              <a:path w="3573" h="944">
                <a:moveTo>
                  <a:pt x="11435" y="6028"/>
                </a:moveTo>
                <a:cubicBezTo>
                  <a:pt x="11515" y="6093"/>
                  <a:pt x="11476" y="6106"/>
                  <a:pt x="11460" y="6201"/>
                </a:cubicBezTo>
                <a:cubicBezTo>
                  <a:pt x="11448" y="6272"/>
                  <a:pt x="11497" y="6349"/>
                  <a:pt x="11559" y="6375"/>
                </a:cubicBezTo>
                <a:cubicBezTo>
                  <a:pt x="11658" y="6416"/>
                  <a:pt x="11640" y="6342"/>
                  <a:pt x="11683" y="6300"/>
                </a:cubicBezTo>
                <a:cubicBezTo>
                  <a:pt x="11738" y="6246"/>
                  <a:pt x="11732" y="6199"/>
                  <a:pt x="11782" y="6127"/>
                </a:cubicBezTo>
                <a:cubicBezTo>
                  <a:pt x="11813" y="6083"/>
                  <a:pt x="11807" y="6060"/>
                  <a:pt x="11807" y="6003"/>
                </a:cubicBezTo>
                <a:cubicBezTo>
                  <a:pt x="11840" y="6047"/>
                  <a:pt x="11832" y="6069"/>
                  <a:pt x="11832" y="6127"/>
                </a:cubicBezTo>
                <a:cubicBezTo>
                  <a:pt x="11832" y="6201"/>
                  <a:pt x="11826" y="6258"/>
                  <a:pt x="11857" y="6325"/>
                </a:cubicBezTo>
                <a:cubicBezTo>
                  <a:pt x="11899" y="6417"/>
                  <a:pt x="11900" y="6396"/>
                  <a:pt x="11981" y="6375"/>
                </a:cubicBezTo>
                <a:cubicBezTo>
                  <a:pt x="11989" y="6375"/>
                  <a:pt x="11997" y="6375"/>
                  <a:pt x="12005" y="6375"/>
                </a:cubicBezTo>
              </a:path>
              <a:path w="3573" h="944">
                <a:moveTo>
                  <a:pt x="12179" y="6152"/>
                </a:moveTo>
                <a:cubicBezTo>
                  <a:pt x="12244" y="6152"/>
                  <a:pt x="12275" y="6142"/>
                  <a:pt x="12328" y="6102"/>
                </a:cubicBezTo>
                <a:cubicBezTo>
                  <a:pt x="12375" y="6067"/>
                  <a:pt x="12372" y="6029"/>
                  <a:pt x="12378" y="5978"/>
                </a:cubicBezTo>
                <a:cubicBezTo>
                  <a:pt x="12280" y="5978"/>
                  <a:pt x="12240" y="5962"/>
                  <a:pt x="12179" y="6028"/>
                </a:cubicBezTo>
                <a:cubicBezTo>
                  <a:pt x="12143" y="6067"/>
                  <a:pt x="12114" y="6105"/>
                  <a:pt x="12105" y="6152"/>
                </a:cubicBezTo>
                <a:cubicBezTo>
                  <a:pt x="12087" y="6247"/>
                  <a:pt x="12112" y="6246"/>
                  <a:pt x="12154" y="6300"/>
                </a:cubicBezTo>
                <a:cubicBezTo>
                  <a:pt x="12188" y="6344"/>
                  <a:pt x="12217" y="6408"/>
                  <a:pt x="12278" y="6424"/>
                </a:cubicBezTo>
                <a:cubicBezTo>
                  <a:pt x="12355" y="6444"/>
                  <a:pt x="12419" y="6385"/>
                  <a:pt x="12477" y="6350"/>
                </a:cubicBezTo>
                <a:cubicBezTo>
                  <a:pt x="12519" y="6325"/>
                  <a:pt x="12541" y="6310"/>
                  <a:pt x="12576" y="6276"/>
                </a:cubicBezTo>
              </a:path>
              <a:path w="3573" h="944">
                <a:moveTo>
                  <a:pt x="12551" y="6003"/>
                </a:moveTo>
                <a:cubicBezTo>
                  <a:pt x="12556" y="6022"/>
                  <a:pt x="12567" y="6112"/>
                  <a:pt x="12576" y="6127"/>
                </a:cubicBezTo>
                <a:cubicBezTo>
                  <a:pt x="12624" y="6208"/>
                  <a:pt x="12626" y="6197"/>
                  <a:pt x="12626" y="6300"/>
                </a:cubicBezTo>
                <a:cubicBezTo>
                  <a:pt x="12626" y="6325"/>
                  <a:pt x="12626" y="6333"/>
                  <a:pt x="12626" y="6350"/>
                </a:cubicBezTo>
                <a:cubicBezTo>
                  <a:pt x="12660" y="6306"/>
                  <a:pt x="12675" y="6281"/>
                  <a:pt x="12675" y="6226"/>
                </a:cubicBezTo>
                <a:cubicBezTo>
                  <a:pt x="12675" y="6157"/>
                  <a:pt x="12662" y="6089"/>
                  <a:pt x="12700" y="6028"/>
                </a:cubicBezTo>
                <a:cubicBezTo>
                  <a:pt x="12722" y="5993"/>
                  <a:pt x="12782" y="5963"/>
                  <a:pt x="12824" y="5978"/>
                </a:cubicBezTo>
                <a:cubicBezTo>
                  <a:pt x="12911" y="6009"/>
                  <a:pt x="12898" y="6075"/>
                  <a:pt x="12898" y="6152"/>
                </a:cubicBezTo>
                <a:cubicBezTo>
                  <a:pt x="12898" y="6238"/>
                  <a:pt x="12867" y="6335"/>
                  <a:pt x="12948" y="6350"/>
                </a:cubicBezTo>
                <a:cubicBezTo>
                  <a:pt x="12956" y="6350"/>
                  <a:pt x="12965" y="6350"/>
                  <a:pt x="12973" y="6350"/>
                </a:cubicBezTo>
              </a:path>
              <a:path w="3573" h="944">
                <a:moveTo>
                  <a:pt x="13295" y="6102"/>
                </a:moveTo>
                <a:cubicBezTo>
                  <a:pt x="13340" y="6075"/>
                  <a:pt x="13380" y="6088"/>
                  <a:pt x="13419" y="6052"/>
                </a:cubicBezTo>
                <a:cubicBezTo>
                  <a:pt x="13461" y="6014"/>
                  <a:pt x="13503" y="5958"/>
                  <a:pt x="13444" y="5904"/>
                </a:cubicBezTo>
                <a:cubicBezTo>
                  <a:pt x="13393" y="5857"/>
                  <a:pt x="13309" y="5874"/>
                  <a:pt x="13271" y="5928"/>
                </a:cubicBezTo>
                <a:cubicBezTo>
                  <a:pt x="13228" y="5989"/>
                  <a:pt x="13177" y="6030"/>
                  <a:pt x="13171" y="6102"/>
                </a:cubicBezTo>
                <a:cubicBezTo>
                  <a:pt x="13167" y="6156"/>
                  <a:pt x="13167" y="6204"/>
                  <a:pt x="13196" y="6251"/>
                </a:cubicBezTo>
                <a:cubicBezTo>
                  <a:pt x="13232" y="6310"/>
                  <a:pt x="13260" y="6365"/>
                  <a:pt x="13320" y="6400"/>
                </a:cubicBezTo>
                <a:cubicBezTo>
                  <a:pt x="13378" y="6434"/>
                  <a:pt x="13440" y="6439"/>
                  <a:pt x="13494" y="6400"/>
                </a:cubicBezTo>
                <a:cubicBezTo>
                  <a:pt x="13564" y="6350"/>
                  <a:pt x="13613" y="6344"/>
                  <a:pt x="13643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4760" y="1866960"/>
            <a:ext cx="393480" cy="588960"/>
          </a:xfrm>
          <a:custGeom>
            <a:avLst/>
            <a:gdLst/>
            <a:ahLst/>
            <a:rect l="l" t="t" r="r" b="b"/>
            <a:pathLst>
              <a:path w="1093" h="1638">
                <a:moveTo>
                  <a:pt x="15131" y="5234"/>
                </a:moveTo>
                <a:cubicBezTo>
                  <a:pt x="15131" y="5217"/>
                  <a:pt x="15131" y="5201"/>
                  <a:pt x="15131" y="5184"/>
                </a:cubicBezTo>
                <a:cubicBezTo>
                  <a:pt x="15121" y="5267"/>
                  <a:pt x="15102" y="5263"/>
                  <a:pt x="15056" y="5333"/>
                </a:cubicBezTo>
                <a:cubicBezTo>
                  <a:pt x="15006" y="5409"/>
                  <a:pt x="14964" y="5481"/>
                  <a:pt x="14908" y="5556"/>
                </a:cubicBezTo>
                <a:cubicBezTo>
                  <a:pt x="14824" y="5669"/>
                  <a:pt x="14764" y="5789"/>
                  <a:pt x="14684" y="5904"/>
                </a:cubicBezTo>
                <a:cubicBezTo>
                  <a:pt x="14594" y="6034"/>
                  <a:pt x="14503" y="6151"/>
                  <a:pt x="14412" y="6276"/>
                </a:cubicBezTo>
                <a:cubicBezTo>
                  <a:pt x="14357" y="6352"/>
                  <a:pt x="14319" y="6424"/>
                  <a:pt x="14263" y="6499"/>
                </a:cubicBezTo>
                <a:cubicBezTo>
                  <a:pt x="14219" y="6558"/>
                  <a:pt x="14178" y="6612"/>
                  <a:pt x="14139" y="6672"/>
                </a:cubicBezTo>
                <a:cubicBezTo>
                  <a:pt x="14105" y="6724"/>
                  <a:pt x="14093" y="6851"/>
                  <a:pt x="14039" y="6821"/>
                </a:cubicBezTo>
                <a:cubicBezTo>
                  <a:pt x="14039" y="6763"/>
                  <a:pt x="14039" y="6755"/>
                  <a:pt x="14039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16720" y="210816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5627" y="5904"/>
                </a:moveTo>
                <a:cubicBezTo>
                  <a:pt x="15627" y="5887"/>
                  <a:pt x="15627" y="5871"/>
                  <a:pt x="15627" y="5854"/>
                </a:cubicBezTo>
                <a:cubicBezTo>
                  <a:pt x="15627" y="6012"/>
                  <a:pt x="15444" y="6319"/>
                  <a:pt x="15602" y="6325"/>
                </a:cubicBezTo>
                <a:cubicBezTo>
                  <a:pt x="15610" y="6309"/>
                  <a:pt x="15619" y="6292"/>
                  <a:pt x="15627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6280" y="2081160"/>
            <a:ext cx="295560" cy="303120"/>
          </a:xfrm>
          <a:custGeom>
            <a:avLst/>
            <a:gdLst/>
            <a:ahLst/>
            <a:rect l="l" t="t" r="r" b="b"/>
            <a:pathLst>
              <a:path w="820" h="845">
                <a:moveTo>
                  <a:pt x="16073" y="6201"/>
                </a:moveTo>
                <a:cubicBezTo>
                  <a:pt x="16124" y="6252"/>
                  <a:pt x="16165" y="6277"/>
                  <a:pt x="16173" y="6350"/>
                </a:cubicBezTo>
                <a:cubicBezTo>
                  <a:pt x="16181" y="6426"/>
                  <a:pt x="16180" y="6505"/>
                  <a:pt x="16148" y="6573"/>
                </a:cubicBezTo>
                <a:cubicBezTo>
                  <a:pt x="16128" y="6614"/>
                  <a:pt x="16119" y="6641"/>
                  <a:pt x="16123" y="6598"/>
                </a:cubicBezTo>
              </a:path>
              <a:path w="820" h="845">
                <a:moveTo>
                  <a:pt x="16470" y="5804"/>
                </a:moveTo>
                <a:cubicBezTo>
                  <a:pt x="16508" y="5795"/>
                  <a:pt x="16546" y="5759"/>
                  <a:pt x="16594" y="5779"/>
                </a:cubicBezTo>
                <a:cubicBezTo>
                  <a:pt x="16647" y="5801"/>
                  <a:pt x="16716" y="5878"/>
                  <a:pt x="16743" y="5928"/>
                </a:cubicBezTo>
                <a:cubicBezTo>
                  <a:pt x="16781" y="6000"/>
                  <a:pt x="16620" y="6049"/>
                  <a:pt x="16594" y="6077"/>
                </a:cubicBezTo>
                <a:cubicBezTo>
                  <a:pt x="16586" y="6094"/>
                  <a:pt x="16578" y="6110"/>
                  <a:pt x="16570" y="6127"/>
                </a:cubicBezTo>
                <a:cubicBezTo>
                  <a:pt x="16613" y="6094"/>
                  <a:pt x="16636" y="6102"/>
                  <a:pt x="16694" y="6102"/>
                </a:cubicBezTo>
                <a:cubicBezTo>
                  <a:pt x="16763" y="6102"/>
                  <a:pt x="16810" y="6147"/>
                  <a:pt x="16842" y="6201"/>
                </a:cubicBezTo>
                <a:cubicBezTo>
                  <a:pt x="16877" y="6261"/>
                  <a:pt x="16915" y="6290"/>
                  <a:pt x="16867" y="6350"/>
                </a:cubicBezTo>
                <a:cubicBezTo>
                  <a:pt x="16837" y="6388"/>
                  <a:pt x="16824" y="6483"/>
                  <a:pt x="16768" y="6499"/>
                </a:cubicBezTo>
                <a:cubicBezTo>
                  <a:pt x="16693" y="6520"/>
                  <a:pt x="16655" y="6487"/>
                  <a:pt x="16644" y="6424"/>
                </a:cubicBezTo>
                <a:cubicBezTo>
                  <a:pt x="16644" y="6416"/>
                  <a:pt x="16644" y="6408"/>
                  <a:pt x="16644" y="64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32680" y="2197080"/>
            <a:ext cx="8064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7314" y="6102"/>
                </a:moveTo>
                <a:cubicBezTo>
                  <a:pt x="17352" y="6131"/>
                  <a:pt x="17410" y="6142"/>
                  <a:pt x="17462" y="6127"/>
                </a:cubicBezTo>
                <a:cubicBezTo>
                  <a:pt x="17503" y="6107"/>
                  <a:pt x="17509" y="6098"/>
                  <a:pt x="17537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10240" y="1946160"/>
            <a:ext cx="142920" cy="331920"/>
          </a:xfrm>
          <a:custGeom>
            <a:avLst/>
            <a:gdLst/>
            <a:ahLst/>
            <a:rect l="l" t="t" r="r" b="b"/>
            <a:pathLst>
              <a:path w="397" h="919">
                <a:moveTo>
                  <a:pt x="18380" y="5978"/>
                </a:moveTo>
                <a:cubicBezTo>
                  <a:pt x="18341" y="5939"/>
                  <a:pt x="18314" y="5908"/>
                  <a:pt x="18256" y="5904"/>
                </a:cubicBezTo>
                <a:cubicBezTo>
                  <a:pt x="18201" y="5900"/>
                  <a:pt x="18102" y="5972"/>
                  <a:pt x="18083" y="6028"/>
                </a:cubicBezTo>
                <a:cubicBezTo>
                  <a:pt x="18048" y="6134"/>
                  <a:pt x="18106" y="6197"/>
                  <a:pt x="18132" y="6276"/>
                </a:cubicBezTo>
                <a:cubicBezTo>
                  <a:pt x="18156" y="6348"/>
                  <a:pt x="18172" y="6325"/>
                  <a:pt x="18256" y="6325"/>
                </a:cubicBezTo>
                <a:cubicBezTo>
                  <a:pt x="18315" y="6325"/>
                  <a:pt x="18403" y="6286"/>
                  <a:pt x="18430" y="6226"/>
                </a:cubicBezTo>
                <a:cubicBezTo>
                  <a:pt x="18459" y="6161"/>
                  <a:pt x="18476" y="6074"/>
                  <a:pt x="18479" y="6003"/>
                </a:cubicBezTo>
                <a:cubicBezTo>
                  <a:pt x="18483" y="5885"/>
                  <a:pt x="18435" y="5745"/>
                  <a:pt x="18405" y="5631"/>
                </a:cubicBezTo>
                <a:cubicBezTo>
                  <a:pt x="18385" y="5556"/>
                  <a:pt x="18300" y="5352"/>
                  <a:pt x="18355" y="5407"/>
                </a:cubicBezTo>
                <a:cubicBezTo>
                  <a:pt x="18378" y="5430"/>
                  <a:pt x="18398" y="5479"/>
                  <a:pt x="18405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96080" y="2035080"/>
            <a:ext cx="17640" cy="196920"/>
          </a:xfrm>
          <a:custGeom>
            <a:avLst/>
            <a:gdLst/>
            <a:ahLst/>
            <a:rect l="l" t="t" r="r" b="b"/>
            <a:pathLst>
              <a:path w="51" h="547">
                <a:moveTo>
                  <a:pt x="18901" y="5953"/>
                </a:moveTo>
                <a:cubicBezTo>
                  <a:pt x="18901" y="6020"/>
                  <a:pt x="18921" y="6039"/>
                  <a:pt x="18926" y="6102"/>
                </a:cubicBezTo>
                <a:cubicBezTo>
                  <a:pt x="18927" y="6116"/>
                  <a:pt x="18926" y="6252"/>
                  <a:pt x="18926" y="6176"/>
                </a:cubicBezTo>
                <a:cubicBezTo>
                  <a:pt x="18926" y="6160"/>
                  <a:pt x="18926" y="6143"/>
                  <a:pt x="18926" y="6127"/>
                </a:cubicBezTo>
              </a:path>
              <a:path w="51" h="547">
                <a:moveTo>
                  <a:pt x="18876" y="5779"/>
                </a:moveTo>
                <a:cubicBezTo>
                  <a:pt x="18884" y="5724"/>
                  <a:pt x="18893" y="5710"/>
                  <a:pt x="18901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00920" y="1982880"/>
            <a:ext cx="1170000" cy="285480"/>
          </a:xfrm>
          <a:custGeom>
            <a:avLst/>
            <a:gdLst/>
            <a:ahLst/>
            <a:rect l="l" t="t" r="r" b="b"/>
            <a:pathLst>
              <a:path w="3250" h="794">
                <a:moveTo>
                  <a:pt x="19447" y="5507"/>
                </a:moveTo>
                <a:cubicBezTo>
                  <a:pt x="19447" y="5618"/>
                  <a:pt x="19438" y="5725"/>
                  <a:pt x="19472" y="5829"/>
                </a:cubicBezTo>
                <a:cubicBezTo>
                  <a:pt x="19497" y="5907"/>
                  <a:pt x="19496" y="5972"/>
                  <a:pt x="19496" y="6052"/>
                </a:cubicBezTo>
                <a:cubicBezTo>
                  <a:pt x="19496" y="6102"/>
                  <a:pt x="19496" y="6151"/>
                  <a:pt x="19496" y="6201"/>
                </a:cubicBezTo>
                <a:cubicBezTo>
                  <a:pt x="19496" y="6102"/>
                  <a:pt x="19502" y="6085"/>
                  <a:pt x="19546" y="6003"/>
                </a:cubicBezTo>
                <a:cubicBezTo>
                  <a:pt x="19585" y="5930"/>
                  <a:pt x="19615" y="5922"/>
                  <a:pt x="19695" y="5904"/>
                </a:cubicBezTo>
                <a:cubicBezTo>
                  <a:pt x="19781" y="5885"/>
                  <a:pt x="19817" y="5975"/>
                  <a:pt x="19844" y="6028"/>
                </a:cubicBezTo>
                <a:cubicBezTo>
                  <a:pt x="19880" y="6100"/>
                  <a:pt x="19893" y="6117"/>
                  <a:pt x="19893" y="6201"/>
                </a:cubicBezTo>
                <a:cubicBezTo>
                  <a:pt x="19893" y="6227"/>
                  <a:pt x="19747" y="6302"/>
                  <a:pt x="19720" y="6300"/>
                </a:cubicBezTo>
                <a:cubicBezTo>
                  <a:pt x="19599" y="6293"/>
                  <a:pt x="19699" y="6118"/>
                  <a:pt x="19720" y="6077"/>
                </a:cubicBezTo>
              </a:path>
              <a:path w="3250" h="794">
                <a:moveTo>
                  <a:pt x="20141" y="5854"/>
                </a:moveTo>
                <a:cubicBezTo>
                  <a:pt x="20141" y="5958"/>
                  <a:pt x="20170" y="5965"/>
                  <a:pt x="20191" y="6052"/>
                </a:cubicBezTo>
                <a:cubicBezTo>
                  <a:pt x="20203" y="6102"/>
                  <a:pt x="20191" y="6175"/>
                  <a:pt x="20191" y="6226"/>
                </a:cubicBezTo>
                <a:cubicBezTo>
                  <a:pt x="20172" y="6158"/>
                  <a:pt x="20140" y="6050"/>
                  <a:pt x="20166" y="5978"/>
                </a:cubicBezTo>
                <a:cubicBezTo>
                  <a:pt x="20201" y="5881"/>
                  <a:pt x="20239" y="5896"/>
                  <a:pt x="20315" y="5854"/>
                </a:cubicBezTo>
                <a:cubicBezTo>
                  <a:pt x="20367" y="5826"/>
                  <a:pt x="20401" y="5829"/>
                  <a:pt x="20464" y="5829"/>
                </a:cubicBezTo>
                <a:cubicBezTo>
                  <a:pt x="20505" y="5829"/>
                  <a:pt x="20547" y="5829"/>
                  <a:pt x="20588" y="5829"/>
                </a:cubicBezTo>
              </a:path>
              <a:path w="3250" h="794">
                <a:moveTo>
                  <a:pt x="20811" y="5755"/>
                </a:moveTo>
                <a:cubicBezTo>
                  <a:pt x="20762" y="5730"/>
                  <a:pt x="20757" y="5759"/>
                  <a:pt x="20712" y="5804"/>
                </a:cubicBezTo>
                <a:cubicBezTo>
                  <a:pt x="20654" y="5861"/>
                  <a:pt x="20618" y="5919"/>
                  <a:pt x="20613" y="6003"/>
                </a:cubicBezTo>
                <a:cubicBezTo>
                  <a:pt x="20608" y="6086"/>
                  <a:pt x="20628" y="6085"/>
                  <a:pt x="20687" y="6127"/>
                </a:cubicBezTo>
                <a:cubicBezTo>
                  <a:pt x="20724" y="6153"/>
                  <a:pt x="20787" y="6168"/>
                  <a:pt x="20836" y="6152"/>
                </a:cubicBezTo>
                <a:cubicBezTo>
                  <a:pt x="20885" y="6136"/>
                  <a:pt x="20931" y="6077"/>
                  <a:pt x="20935" y="6028"/>
                </a:cubicBezTo>
                <a:cubicBezTo>
                  <a:pt x="20942" y="5935"/>
                  <a:pt x="20934" y="5906"/>
                  <a:pt x="20861" y="5854"/>
                </a:cubicBezTo>
              </a:path>
              <a:path w="3250" h="794">
                <a:moveTo>
                  <a:pt x="21208" y="5779"/>
                </a:moveTo>
                <a:cubicBezTo>
                  <a:pt x="21208" y="5844"/>
                  <a:pt x="21228" y="5890"/>
                  <a:pt x="21233" y="5953"/>
                </a:cubicBezTo>
                <a:cubicBezTo>
                  <a:pt x="21239" y="6026"/>
                  <a:pt x="21233" y="6102"/>
                  <a:pt x="21233" y="6176"/>
                </a:cubicBezTo>
                <a:cubicBezTo>
                  <a:pt x="21259" y="6117"/>
                  <a:pt x="21279" y="6068"/>
                  <a:pt x="21282" y="6003"/>
                </a:cubicBezTo>
                <a:cubicBezTo>
                  <a:pt x="21285" y="5942"/>
                  <a:pt x="21307" y="5904"/>
                  <a:pt x="21357" y="5879"/>
                </a:cubicBezTo>
                <a:cubicBezTo>
                  <a:pt x="21402" y="5856"/>
                  <a:pt x="21475" y="5866"/>
                  <a:pt x="21506" y="5904"/>
                </a:cubicBezTo>
                <a:cubicBezTo>
                  <a:pt x="21546" y="5952"/>
                  <a:pt x="21547" y="6002"/>
                  <a:pt x="21580" y="6052"/>
                </a:cubicBezTo>
                <a:cubicBezTo>
                  <a:pt x="21588" y="6060"/>
                  <a:pt x="21597" y="6069"/>
                  <a:pt x="21605" y="6077"/>
                </a:cubicBezTo>
                <a:cubicBezTo>
                  <a:pt x="21611" y="6016"/>
                  <a:pt x="21626" y="5949"/>
                  <a:pt x="21679" y="5904"/>
                </a:cubicBezTo>
                <a:cubicBezTo>
                  <a:pt x="21709" y="5878"/>
                  <a:pt x="21823" y="5836"/>
                  <a:pt x="21853" y="5829"/>
                </a:cubicBezTo>
                <a:cubicBezTo>
                  <a:pt x="21908" y="5815"/>
                  <a:pt x="21970" y="5818"/>
                  <a:pt x="21977" y="5879"/>
                </a:cubicBezTo>
                <a:cubicBezTo>
                  <a:pt x="21985" y="5952"/>
                  <a:pt x="21949" y="6120"/>
                  <a:pt x="22002" y="6102"/>
                </a:cubicBezTo>
              </a:path>
              <a:path w="3250" h="794">
                <a:moveTo>
                  <a:pt x="22473" y="5804"/>
                </a:moveTo>
                <a:cubicBezTo>
                  <a:pt x="22396" y="5820"/>
                  <a:pt x="22406" y="5837"/>
                  <a:pt x="22374" y="5904"/>
                </a:cubicBezTo>
                <a:cubicBezTo>
                  <a:pt x="22342" y="5971"/>
                  <a:pt x="22324" y="6003"/>
                  <a:pt x="22324" y="6077"/>
                </a:cubicBezTo>
                <a:cubicBezTo>
                  <a:pt x="22324" y="6095"/>
                  <a:pt x="22396" y="6168"/>
                  <a:pt x="22423" y="6176"/>
                </a:cubicBezTo>
                <a:cubicBezTo>
                  <a:pt x="22472" y="6190"/>
                  <a:pt x="22562" y="6180"/>
                  <a:pt x="22597" y="6152"/>
                </a:cubicBezTo>
                <a:cubicBezTo>
                  <a:pt x="22644" y="6114"/>
                  <a:pt x="22717" y="6048"/>
                  <a:pt x="22696" y="5978"/>
                </a:cubicBezTo>
                <a:cubicBezTo>
                  <a:pt x="22683" y="5936"/>
                  <a:pt x="22639" y="5872"/>
                  <a:pt x="22622" y="5829"/>
                </a:cubicBezTo>
                <a:cubicBezTo>
                  <a:pt x="22592" y="5754"/>
                  <a:pt x="22571" y="5755"/>
                  <a:pt x="22498" y="5755"/>
                </a:cubicBezTo>
                <a:cubicBezTo>
                  <a:pt x="22465" y="5755"/>
                  <a:pt x="22448" y="5755"/>
                  <a:pt x="22423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23200" y="1982880"/>
            <a:ext cx="517680" cy="214200"/>
          </a:xfrm>
          <a:custGeom>
            <a:avLst/>
            <a:gdLst/>
            <a:ahLst/>
            <a:rect l="l" t="t" r="r" b="b"/>
            <a:pathLst>
              <a:path w="1440" h="596">
                <a:moveTo>
                  <a:pt x="23118" y="5928"/>
                </a:moveTo>
                <a:cubicBezTo>
                  <a:pt x="23175" y="5928"/>
                  <a:pt x="23215" y="5912"/>
                  <a:pt x="23267" y="5904"/>
                </a:cubicBezTo>
                <a:cubicBezTo>
                  <a:pt x="23311" y="5904"/>
                  <a:pt x="23331" y="5900"/>
                  <a:pt x="23292" y="5928"/>
                </a:cubicBezTo>
              </a:path>
              <a:path w="1440" h="596">
                <a:moveTo>
                  <a:pt x="24135" y="5507"/>
                </a:moveTo>
                <a:cubicBezTo>
                  <a:pt x="24079" y="5507"/>
                  <a:pt x="24035" y="5499"/>
                  <a:pt x="23986" y="5531"/>
                </a:cubicBezTo>
                <a:cubicBezTo>
                  <a:pt x="23948" y="5556"/>
                  <a:pt x="23896" y="5582"/>
                  <a:pt x="23862" y="5606"/>
                </a:cubicBezTo>
                <a:cubicBezTo>
                  <a:pt x="23832" y="5627"/>
                  <a:pt x="23783" y="5674"/>
                  <a:pt x="23763" y="5705"/>
                </a:cubicBezTo>
                <a:cubicBezTo>
                  <a:pt x="23723" y="5768"/>
                  <a:pt x="23692" y="5811"/>
                  <a:pt x="23664" y="5879"/>
                </a:cubicBezTo>
                <a:cubicBezTo>
                  <a:pt x="23713" y="5866"/>
                  <a:pt x="23758" y="5842"/>
                  <a:pt x="23812" y="5829"/>
                </a:cubicBezTo>
                <a:cubicBezTo>
                  <a:pt x="23865" y="5817"/>
                  <a:pt x="23898" y="5804"/>
                  <a:pt x="23961" y="5804"/>
                </a:cubicBezTo>
                <a:cubicBezTo>
                  <a:pt x="24041" y="5804"/>
                  <a:pt x="24036" y="5871"/>
                  <a:pt x="24036" y="5928"/>
                </a:cubicBezTo>
                <a:cubicBezTo>
                  <a:pt x="24036" y="6010"/>
                  <a:pt x="24048" y="6048"/>
                  <a:pt x="23961" y="6077"/>
                </a:cubicBezTo>
                <a:cubicBezTo>
                  <a:pt x="23928" y="6088"/>
                  <a:pt x="23878" y="6123"/>
                  <a:pt x="23837" y="6102"/>
                </a:cubicBezTo>
                <a:cubicBezTo>
                  <a:pt x="23800" y="6083"/>
                  <a:pt x="23782" y="6071"/>
                  <a:pt x="23738" y="6052"/>
                </a:cubicBezTo>
              </a:path>
              <a:path w="1440" h="596">
                <a:moveTo>
                  <a:pt x="24408" y="5854"/>
                </a:moveTo>
                <a:cubicBezTo>
                  <a:pt x="24480" y="5854"/>
                  <a:pt x="24470" y="5873"/>
                  <a:pt x="24532" y="5879"/>
                </a:cubicBezTo>
                <a:cubicBezTo>
                  <a:pt x="24610" y="5886"/>
                  <a:pt x="24511" y="5832"/>
                  <a:pt x="24507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76920" y="2473200"/>
            <a:ext cx="1125360" cy="474840"/>
          </a:xfrm>
          <a:custGeom>
            <a:avLst/>
            <a:gdLst/>
            <a:ahLst/>
            <a:rect l="l" t="t" r="r" b="b"/>
            <a:pathLst>
              <a:path w="3126" h="1316">
                <a:moveTo>
                  <a:pt x="16049" y="7367"/>
                </a:moveTo>
                <a:cubicBezTo>
                  <a:pt x="16049" y="7466"/>
                  <a:pt x="16049" y="7566"/>
                  <a:pt x="16049" y="7665"/>
                </a:cubicBezTo>
                <a:cubicBezTo>
                  <a:pt x="16049" y="7584"/>
                  <a:pt x="16036" y="7492"/>
                  <a:pt x="16073" y="7417"/>
                </a:cubicBezTo>
                <a:cubicBezTo>
                  <a:pt x="16086" y="7392"/>
                  <a:pt x="16128" y="7362"/>
                  <a:pt x="16148" y="7342"/>
                </a:cubicBezTo>
                <a:cubicBezTo>
                  <a:pt x="16199" y="7359"/>
                  <a:pt x="16209" y="7383"/>
                  <a:pt x="16247" y="7441"/>
                </a:cubicBezTo>
                <a:cubicBezTo>
                  <a:pt x="16280" y="7492"/>
                  <a:pt x="16272" y="7533"/>
                  <a:pt x="16272" y="7590"/>
                </a:cubicBezTo>
                <a:cubicBezTo>
                  <a:pt x="16272" y="7598"/>
                  <a:pt x="16272" y="7607"/>
                  <a:pt x="16272" y="7615"/>
                </a:cubicBezTo>
                <a:cubicBezTo>
                  <a:pt x="16323" y="7554"/>
                  <a:pt x="16348" y="7484"/>
                  <a:pt x="16396" y="7417"/>
                </a:cubicBezTo>
                <a:cubicBezTo>
                  <a:pt x="16418" y="7387"/>
                  <a:pt x="16445" y="7315"/>
                  <a:pt x="16495" y="7342"/>
                </a:cubicBezTo>
                <a:cubicBezTo>
                  <a:pt x="16564" y="7378"/>
                  <a:pt x="16631" y="7452"/>
                  <a:pt x="16669" y="7516"/>
                </a:cubicBezTo>
                <a:cubicBezTo>
                  <a:pt x="16701" y="7569"/>
                  <a:pt x="16699" y="7617"/>
                  <a:pt x="16743" y="7665"/>
                </a:cubicBezTo>
                <a:cubicBezTo>
                  <a:pt x="16781" y="7702"/>
                  <a:pt x="16800" y="7695"/>
                  <a:pt x="16818" y="7615"/>
                </a:cubicBezTo>
              </a:path>
              <a:path w="3126" h="1316">
                <a:moveTo>
                  <a:pt x="16966" y="7466"/>
                </a:moveTo>
                <a:cubicBezTo>
                  <a:pt x="17044" y="7466"/>
                  <a:pt x="17112" y="7487"/>
                  <a:pt x="17165" y="7417"/>
                </a:cubicBezTo>
                <a:cubicBezTo>
                  <a:pt x="17201" y="7370"/>
                  <a:pt x="17207" y="7323"/>
                  <a:pt x="17214" y="7268"/>
                </a:cubicBezTo>
                <a:cubicBezTo>
                  <a:pt x="17170" y="7249"/>
                  <a:pt x="17117" y="7228"/>
                  <a:pt x="17066" y="7243"/>
                </a:cubicBezTo>
                <a:cubicBezTo>
                  <a:pt x="17005" y="7261"/>
                  <a:pt x="16972" y="7317"/>
                  <a:pt x="16942" y="7367"/>
                </a:cubicBezTo>
                <a:cubicBezTo>
                  <a:pt x="16919" y="7406"/>
                  <a:pt x="16893" y="7521"/>
                  <a:pt x="16917" y="7565"/>
                </a:cubicBezTo>
                <a:cubicBezTo>
                  <a:pt x="16963" y="7649"/>
                  <a:pt x="17014" y="7647"/>
                  <a:pt x="17090" y="7665"/>
                </a:cubicBezTo>
                <a:cubicBezTo>
                  <a:pt x="17210" y="7693"/>
                  <a:pt x="17239" y="7693"/>
                  <a:pt x="17338" y="7615"/>
                </a:cubicBezTo>
              </a:path>
              <a:path w="3126" h="1316">
                <a:moveTo>
                  <a:pt x="17587" y="7045"/>
                </a:moveTo>
                <a:cubicBezTo>
                  <a:pt x="17587" y="7222"/>
                  <a:pt x="17592" y="7397"/>
                  <a:pt x="17562" y="7565"/>
                </a:cubicBezTo>
                <a:cubicBezTo>
                  <a:pt x="17562" y="7607"/>
                  <a:pt x="17562" y="7615"/>
                  <a:pt x="17562" y="7640"/>
                </a:cubicBezTo>
              </a:path>
              <a:path w="3126" h="1316">
                <a:moveTo>
                  <a:pt x="17338" y="7392"/>
                </a:moveTo>
                <a:cubicBezTo>
                  <a:pt x="17466" y="7392"/>
                  <a:pt x="17614" y="7413"/>
                  <a:pt x="17735" y="7367"/>
                </a:cubicBezTo>
                <a:cubicBezTo>
                  <a:pt x="17797" y="7343"/>
                  <a:pt x="17899" y="7302"/>
                  <a:pt x="17934" y="7243"/>
                </a:cubicBezTo>
                <a:cubicBezTo>
                  <a:pt x="17971" y="7180"/>
                  <a:pt x="18030" y="7099"/>
                  <a:pt x="18008" y="7020"/>
                </a:cubicBezTo>
                <a:cubicBezTo>
                  <a:pt x="17992" y="6963"/>
                  <a:pt x="17955" y="6939"/>
                  <a:pt x="17909" y="6921"/>
                </a:cubicBezTo>
                <a:cubicBezTo>
                  <a:pt x="17883" y="6980"/>
                  <a:pt x="17863" y="7029"/>
                  <a:pt x="17859" y="7094"/>
                </a:cubicBezTo>
                <a:cubicBezTo>
                  <a:pt x="17854" y="7185"/>
                  <a:pt x="17870" y="7259"/>
                  <a:pt x="17884" y="7342"/>
                </a:cubicBezTo>
                <a:cubicBezTo>
                  <a:pt x="17897" y="7420"/>
                  <a:pt x="17884" y="7511"/>
                  <a:pt x="17884" y="7590"/>
                </a:cubicBezTo>
                <a:cubicBezTo>
                  <a:pt x="17890" y="7543"/>
                  <a:pt x="17911" y="7454"/>
                  <a:pt x="17934" y="7417"/>
                </a:cubicBezTo>
                <a:cubicBezTo>
                  <a:pt x="17970" y="7361"/>
                  <a:pt x="18045" y="7312"/>
                  <a:pt x="18107" y="7293"/>
                </a:cubicBezTo>
                <a:cubicBezTo>
                  <a:pt x="18115" y="7293"/>
                  <a:pt x="18124" y="7293"/>
                  <a:pt x="18132" y="7293"/>
                </a:cubicBezTo>
                <a:cubicBezTo>
                  <a:pt x="18159" y="7352"/>
                  <a:pt x="18182" y="7401"/>
                  <a:pt x="18182" y="7466"/>
                </a:cubicBezTo>
                <a:cubicBezTo>
                  <a:pt x="18182" y="7522"/>
                  <a:pt x="18167" y="7528"/>
                  <a:pt x="18207" y="7541"/>
                </a:cubicBezTo>
              </a:path>
              <a:path w="3126" h="1316">
                <a:moveTo>
                  <a:pt x="18479" y="7342"/>
                </a:moveTo>
                <a:cubicBezTo>
                  <a:pt x="18469" y="7393"/>
                  <a:pt x="18434" y="7460"/>
                  <a:pt x="18455" y="7516"/>
                </a:cubicBezTo>
                <a:cubicBezTo>
                  <a:pt x="18478" y="7579"/>
                  <a:pt x="18542" y="7627"/>
                  <a:pt x="18604" y="7565"/>
                </a:cubicBezTo>
                <a:cubicBezTo>
                  <a:pt x="18653" y="7516"/>
                  <a:pt x="18658" y="7448"/>
                  <a:pt x="18678" y="7392"/>
                </a:cubicBezTo>
                <a:cubicBezTo>
                  <a:pt x="18696" y="7341"/>
                  <a:pt x="18703" y="7322"/>
                  <a:pt x="18703" y="7268"/>
                </a:cubicBezTo>
                <a:cubicBezTo>
                  <a:pt x="18743" y="7321"/>
                  <a:pt x="18719" y="7375"/>
                  <a:pt x="18752" y="7441"/>
                </a:cubicBezTo>
                <a:cubicBezTo>
                  <a:pt x="18813" y="7564"/>
                  <a:pt x="18846" y="7702"/>
                  <a:pt x="18901" y="7838"/>
                </a:cubicBezTo>
                <a:cubicBezTo>
                  <a:pt x="18926" y="7901"/>
                  <a:pt x="18954" y="8045"/>
                  <a:pt x="18926" y="8111"/>
                </a:cubicBezTo>
                <a:cubicBezTo>
                  <a:pt x="18890" y="8197"/>
                  <a:pt x="18816" y="8207"/>
                  <a:pt x="18728" y="8186"/>
                </a:cubicBezTo>
                <a:cubicBezTo>
                  <a:pt x="18676" y="8173"/>
                  <a:pt x="18553" y="8112"/>
                  <a:pt x="18529" y="8062"/>
                </a:cubicBezTo>
                <a:cubicBezTo>
                  <a:pt x="18510" y="8021"/>
                  <a:pt x="18509" y="7959"/>
                  <a:pt x="18504" y="7913"/>
                </a:cubicBezTo>
              </a:path>
              <a:path w="3126" h="1316">
                <a:moveTo>
                  <a:pt x="19149" y="6871"/>
                </a:moveTo>
                <a:cubicBezTo>
                  <a:pt x="19149" y="6949"/>
                  <a:pt x="19163" y="6994"/>
                  <a:pt x="19174" y="7069"/>
                </a:cubicBezTo>
                <a:cubicBezTo>
                  <a:pt x="19193" y="7196"/>
                  <a:pt x="19174" y="7337"/>
                  <a:pt x="19174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34120" y="2428920"/>
            <a:ext cx="1492200" cy="285840"/>
          </a:xfrm>
          <a:custGeom>
            <a:avLst/>
            <a:gdLst/>
            <a:ahLst/>
            <a:rect l="l" t="t" r="r" b="b"/>
            <a:pathLst>
              <a:path w="4143" h="795">
                <a:moveTo>
                  <a:pt x="19819" y="6747"/>
                </a:moveTo>
                <a:cubicBezTo>
                  <a:pt x="19834" y="6834"/>
                  <a:pt x="19866" y="6905"/>
                  <a:pt x="19869" y="6995"/>
                </a:cubicBezTo>
                <a:cubicBezTo>
                  <a:pt x="19872" y="7083"/>
                  <a:pt x="19869" y="7501"/>
                  <a:pt x="19869" y="7417"/>
                </a:cubicBezTo>
                <a:cubicBezTo>
                  <a:pt x="19869" y="7361"/>
                  <a:pt x="19856" y="7310"/>
                  <a:pt x="19893" y="7268"/>
                </a:cubicBezTo>
                <a:cubicBezTo>
                  <a:pt x="19931" y="7225"/>
                  <a:pt x="19972" y="7195"/>
                  <a:pt x="20017" y="7169"/>
                </a:cubicBezTo>
                <a:cubicBezTo>
                  <a:pt x="20085" y="7131"/>
                  <a:pt x="20105" y="7129"/>
                  <a:pt x="20141" y="7193"/>
                </a:cubicBezTo>
                <a:cubicBezTo>
                  <a:pt x="20172" y="7248"/>
                  <a:pt x="20199" y="7330"/>
                  <a:pt x="20216" y="7392"/>
                </a:cubicBezTo>
                <a:cubicBezTo>
                  <a:pt x="20231" y="7448"/>
                  <a:pt x="20197" y="7522"/>
                  <a:pt x="20141" y="7541"/>
                </a:cubicBezTo>
                <a:cubicBezTo>
                  <a:pt x="20105" y="7553"/>
                  <a:pt x="19992" y="7493"/>
                  <a:pt x="19968" y="7466"/>
                </a:cubicBezTo>
                <a:cubicBezTo>
                  <a:pt x="19968" y="7441"/>
                  <a:pt x="19968" y="7433"/>
                  <a:pt x="19968" y="7417"/>
                </a:cubicBezTo>
              </a:path>
              <a:path w="4143" h="795">
                <a:moveTo>
                  <a:pt x="20638" y="7243"/>
                </a:moveTo>
                <a:cubicBezTo>
                  <a:pt x="20714" y="7243"/>
                  <a:pt x="20789" y="7264"/>
                  <a:pt x="20811" y="7169"/>
                </a:cubicBezTo>
                <a:cubicBezTo>
                  <a:pt x="20822" y="7122"/>
                  <a:pt x="20805" y="7041"/>
                  <a:pt x="20737" y="7045"/>
                </a:cubicBezTo>
                <a:cubicBezTo>
                  <a:pt x="20671" y="7049"/>
                  <a:pt x="20605" y="7127"/>
                  <a:pt x="20563" y="7169"/>
                </a:cubicBezTo>
                <a:cubicBezTo>
                  <a:pt x="20506" y="7225"/>
                  <a:pt x="20513" y="7266"/>
                  <a:pt x="20513" y="7342"/>
                </a:cubicBezTo>
                <a:cubicBezTo>
                  <a:pt x="20513" y="7404"/>
                  <a:pt x="20556" y="7447"/>
                  <a:pt x="20613" y="7466"/>
                </a:cubicBezTo>
                <a:cubicBezTo>
                  <a:pt x="20691" y="7492"/>
                  <a:pt x="20838" y="7467"/>
                  <a:pt x="20910" y="7441"/>
                </a:cubicBezTo>
                <a:cubicBezTo>
                  <a:pt x="20959" y="7423"/>
                  <a:pt x="20994" y="7417"/>
                  <a:pt x="21034" y="7392"/>
                </a:cubicBezTo>
              </a:path>
              <a:path w="4143" h="795">
                <a:moveTo>
                  <a:pt x="21134" y="6995"/>
                </a:moveTo>
                <a:cubicBezTo>
                  <a:pt x="21134" y="7127"/>
                  <a:pt x="21134" y="7260"/>
                  <a:pt x="21134" y="7392"/>
                </a:cubicBezTo>
                <a:cubicBezTo>
                  <a:pt x="21173" y="7295"/>
                  <a:pt x="21208" y="7248"/>
                  <a:pt x="21208" y="7144"/>
                </a:cubicBezTo>
                <a:cubicBezTo>
                  <a:pt x="21208" y="7070"/>
                  <a:pt x="21248" y="7032"/>
                  <a:pt x="21282" y="6970"/>
                </a:cubicBezTo>
                <a:cubicBezTo>
                  <a:pt x="21376" y="6989"/>
                  <a:pt x="21394" y="7023"/>
                  <a:pt x="21456" y="7094"/>
                </a:cubicBezTo>
                <a:cubicBezTo>
                  <a:pt x="21495" y="7138"/>
                  <a:pt x="21481" y="7182"/>
                  <a:pt x="21481" y="7243"/>
                </a:cubicBezTo>
                <a:cubicBezTo>
                  <a:pt x="21481" y="7261"/>
                  <a:pt x="21480" y="7402"/>
                  <a:pt x="21506" y="7367"/>
                </a:cubicBezTo>
                <a:cubicBezTo>
                  <a:pt x="21506" y="7332"/>
                  <a:pt x="21515" y="7319"/>
                  <a:pt x="21555" y="7317"/>
                </a:cubicBezTo>
              </a:path>
              <a:path w="4143" h="795">
                <a:moveTo>
                  <a:pt x="21779" y="6995"/>
                </a:moveTo>
                <a:cubicBezTo>
                  <a:pt x="21821" y="6929"/>
                  <a:pt x="21823" y="6945"/>
                  <a:pt x="21903" y="6945"/>
                </a:cubicBezTo>
                <a:cubicBezTo>
                  <a:pt x="21949" y="6945"/>
                  <a:pt x="21994" y="6941"/>
                  <a:pt x="22002" y="6995"/>
                </a:cubicBezTo>
                <a:cubicBezTo>
                  <a:pt x="22013" y="7074"/>
                  <a:pt x="22005" y="7135"/>
                  <a:pt x="21952" y="7193"/>
                </a:cubicBezTo>
                <a:cubicBezTo>
                  <a:pt x="21931" y="7216"/>
                  <a:pt x="21888" y="7308"/>
                  <a:pt x="21878" y="7342"/>
                </a:cubicBezTo>
                <a:cubicBezTo>
                  <a:pt x="21867" y="7380"/>
                  <a:pt x="21862" y="7405"/>
                  <a:pt x="21853" y="7441"/>
                </a:cubicBezTo>
                <a:cubicBezTo>
                  <a:pt x="21926" y="7441"/>
                  <a:pt x="21984" y="7424"/>
                  <a:pt x="22051" y="7417"/>
                </a:cubicBezTo>
                <a:cubicBezTo>
                  <a:pt x="22108" y="7411"/>
                  <a:pt x="22131" y="7426"/>
                  <a:pt x="22175" y="7392"/>
                </a:cubicBezTo>
              </a:path>
              <a:path w="4143" h="795">
                <a:moveTo>
                  <a:pt x="22399" y="7119"/>
                </a:moveTo>
                <a:cubicBezTo>
                  <a:pt x="22454" y="7119"/>
                  <a:pt x="22506" y="7102"/>
                  <a:pt x="22547" y="7094"/>
                </a:cubicBezTo>
                <a:cubicBezTo>
                  <a:pt x="22613" y="7082"/>
                  <a:pt x="22721" y="7042"/>
                  <a:pt x="22647" y="6945"/>
                </a:cubicBezTo>
                <a:cubicBezTo>
                  <a:pt x="22596" y="6878"/>
                  <a:pt x="22518" y="6896"/>
                  <a:pt x="22448" y="6896"/>
                </a:cubicBezTo>
                <a:cubicBezTo>
                  <a:pt x="22349" y="6896"/>
                  <a:pt x="22348" y="6976"/>
                  <a:pt x="22324" y="7045"/>
                </a:cubicBezTo>
                <a:cubicBezTo>
                  <a:pt x="22308" y="7091"/>
                  <a:pt x="22269" y="7245"/>
                  <a:pt x="22299" y="7293"/>
                </a:cubicBezTo>
                <a:cubicBezTo>
                  <a:pt x="22318" y="7322"/>
                  <a:pt x="22407" y="7385"/>
                  <a:pt x="22448" y="7392"/>
                </a:cubicBezTo>
                <a:cubicBezTo>
                  <a:pt x="22500" y="7401"/>
                  <a:pt x="22628" y="7394"/>
                  <a:pt x="22671" y="7367"/>
                </a:cubicBezTo>
                <a:cubicBezTo>
                  <a:pt x="22688" y="7350"/>
                  <a:pt x="22704" y="7334"/>
                  <a:pt x="22721" y="7317"/>
                </a:cubicBezTo>
              </a:path>
              <a:path w="4143" h="795">
                <a:moveTo>
                  <a:pt x="22820" y="6995"/>
                </a:moveTo>
                <a:cubicBezTo>
                  <a:pt x="22820" y="7070"/>
                  <a:pt x="22804" y="7153"/>
                  <a:pt x="22845" y="7218"/>
                </a:cubicBezTo>
                <a:cubicBezTo>
                  <a:pt x="22881" y="7277"/>
                  <a:pt x="22859" y="7285"/>
                  <a:pt x="22845" y="7342"/>
                </a:cubicBezTo>
                <a:cubicBezTo>
                  <a:pt x="22870" y="7284"/>
                  <a:pt x="22870" y="7257"/>
                  <a:pt x="22870" y="7193"/>
                </a:cubicBezTo>
                <a:cubicBezTo>
                  <a:pt x="22870" y="7139"/>
                  <a:pt x="22870" y="7066"/>
                  <a:pt x="22895" y="7020"/>
                </a:cubicBezTo>
                <a:cubicBezTo>
                  <a:pt x="22924" y="6967"/>
                  <a:pt x="22964" y="6932"/>
                  <a:pt x="23019" y="6921"/>
                </a:cubicBezTo>
                <a:cubicBezTo>
                  <a:pt x="23066" y="6912"/>
                  <a:pt x="23133" y="6921"/>
                  <a:pt x="23168" y="6945"/>
                </a:cubicBezTo>
                <a:cubicBezTo>
                  <a:pt x="23210" y="6973"/>
                  <a:pt x="23192" y="7049"/>
                  <a:pt x="23192" y="7094"/>
                </a:cubicBezTo>
                <a:cubicBezTo>
                  <a:pt x="23192" y="7189"/>
                  <a:pt x="23226" y="7368"/>
                  <a:pt x="23168" y="7441"/>
                </a:cubicBezTo>
                <a:cubicBezTo>
                  <a:pt x="23104" y="7521"/>
                  <a:pt x="23178" y="7389"/>
                  <a:pt x="23192" y="7367"/>
                </a:cubicBezTo>
              </a:path>
              <a:path w="4143" h="795">
                <a:moveTo>
                  <a:pt x="23490" y="7094"/>
                </a:moveTo>
                <a:cubicBezTo>
                  <a:pt x="23542" y="7081"/>
                  <a:pt x="23577" y="7057"/>
                  <a:pt x="23639" y="7045"/>
                </a:cubicBezTo>
                <a:cubicBezTo>
                  <a:pt x="23686" y="7036"/>
                  <a:pt x="23756" y="7021"/>
                  <a:pt x="23763" y="6970"/>
                </a:cubicBezTo>
                <a:cubicBezTo>
                  <a:pt x="23771" y="6916"/>
                  <a:pt x="23701" y="6847"/>
                  <a:pt x="23664" y="6821"/>
                </a:cubicBezTo>
                <a:cubicBezTo>
                  <a:pt x="23604" y="6779"/>
                  <a:pt x="23566" y="6810"/>
                  <a:pt x="23515" y="6846"/>
                </a:cubicBezTo>
                <a:cubicBezTo>
                  <a:pt x="23449" y="6892"/>
                  <a:pt x="23421" y="6945"/>
                  <a:pt x="23391" y="7020"/>
                </a:cubicBezTo>
                <a:cubicBezTo>
                  <a:pt x="23372" y="7068"/>
                  <a:pt x="23396" y="7109"/>
                  <a:pt x="23416" y="7144"/>
                </a:cubicBezTo>
                <a:cubicBezTo>
                  <a:pt x="23444" y="7194"/>
                  <a:pt x="23445" y="7276"/>
                  <a:pt x="23490" y="7317"/>
                </a:cubicBezTo>
                <a:cubicBezTo>
                  <a:pt x="23547" y="7369"/>
                  <a:pt x="23620" y="7409"/>
                  <a:pt x="23688" y="7441"/>
                </a:cubicBezTo>
                <a:cubicBezTo>
                  <a:pt x="23756" y="7473"/>
                  <a:pt x="23804" y="7554"/>
                  <a:pt x="23887" y="7491"/>
                </a:cubicBezTo>
                <a:cubicBezTo>
                  <a:pt x="23912" y="7441"/>
                  <a:pt x="23920" y="7425"/>
                  <a:pt x="23961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1200" y="2874960"/>
            <a:ext cx="30348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695" y="8136"/>
                </a:moveTo>
                <a:cubicBezTo>
                  <a:pt x="707" y="8058"/>
                  <a:pt x="763" y="8075"/>
                  <a:pt x="843" y="8037"/>
                </a:cubicBezTo>
                <a:cubicBezTo>
                  <a:pt x="910" y="8005"/>
                  <a:pt x="994" y="7993"/>
                  <a:pt x="1067" y="7987"/>
                </a:cubicBezTo>
                <a:cubicBezTo>
                  <a:pt x="1120" y="7983"/>
                  <a:pt x="1138" y="8073"/>
                  <a:pt x="1141" y="8111"/>
                </a:cubicBezTo>
                <a:cubicBezTo>
                  <a:pt x="1145" y="8160"/>
                  <a:pt x="1122" y="8250"/>
                  <a:pt x="1091" y="8285"/>
                </a:cubicBezTo>
                <a:cubicBezTo>
                  <a:pt x="1044" y="8339"/>
                  <a:pt x="1011" y="8347"/>
                  <a:pt x="943" y="8359"/>
                </a:cubicBezTo>
                <a:cubicBezTo>
                  <a:pt x="1008" y="8359"/>
                  <a:pt x="1055" y="8357"/>
                  <a:pt x="1116" y="8384"/>
                </a:cubicBezTo>
                <a:cubicBezTo>
                  <a:pt x="1189" y="8417"/>
                  <a:pt x="1251" y="8484"/>
                  <a:pt x="1191" y="8558"/>
                </a:cubicBezTo>
                <a:cubicBezTo>
                  <a:pt x="1169" y="8585"/>
                  <a:pt x="1120" y="8692"/>
                  <a:pt x="1091" y="8706"/>
                </a:cubicBezTo>
                <a:cubicBezTo>
                  <a:pt x="1043" y="8730"/>
                  <a:pt x="975" y="8731"/>
                  <a:pt x="918" y="8731"/>
                </a:cubicBezTo>
                <a:cubicBezTo>
                  <a:pt x="815" y="8731"/>
                  <a:pt x="806" y="8677"/>
                  <a:pt x="719" y="8657"/>
                </a:cubicBezTo>
                <a:cubicBezTo>
                  <a:pt x="633" y="8637"/>
                  <a:pt x="694" y="8615"/>
                  <a:pt x="744" y="8558"/>
                </a:cubicBezTo>
              </a:path>
              <a:path w="844" h="745">
                <a:moveTo>
                  <a:pt x="1513" y="8632"/>
                </a:moveTo>
                <a:cubicBezTo>
                  <a:pt x="1513" y="8672"/>
                  <a:pt x="1524" y="8789"/>
                  <a:pt x="1488" y="8632"/>
                </a:cubicBezTo>
                <a:cubicBezTo>
                  <a:pt x="1488" y="8624"/>
                  <a:pt x="1488" y="8615"/>
                  <a:pt x="1488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54080" y="2830680"/>
            <a:ext cx="1204920" cy="474480"/>
          </a:xfrm>
          <a:custGeom>
            <a:avLst/>
            <a:gdLst/>
            <a:ahLst/>
            <a:rect l="l" t="t" r="r" b="b"/>
            <a:pathLst>
              <a:path w="3350" h="1316">
                <a:moveTo>
                  <a:pt x="2927" y="8359"/>
                </a:moveTo>
                <a:cubicBezTo>
                  <a:pt x="2956" y="8430"/>
                  <a:pt x="2977" y="8459"/>
                  <a:pt x="2977" y="8533"/>
                </a:cubicBezTo>
                <a:cubicBezTo>
                  <a:pt x="2977" y="8624"/>
                  <a:pt x="2977" y="8715"/>
                  <a:pt x="2977" y="8806"/>
                </a:cubicBezTo>
                <a:cubicBezTo>
                  <a:pt x="2977" y="8705"/>
                  <a:pt x="2947" y="8546"/>
                  <a:pt x="3001" y="8458"/>
                </a:cubicBezTo>
                <a:cubicBezTo>
                  <a:pt x="3023" y="8422"/>
                  <a:pt x="3112" y="8387"/>
                  <a:pt x="3150" y="8384"/>
                </a:cubicBezTo>
                <a:cubicBezTo>
                  <a:pt x="3214" y="8379"/>
                  <a:pt x="3299" y="8383"/>
                  <a:pt x="3324" y="8458"/>
                </a:cubicBezTo>
                <a:cubicBezTo>
                  <a:pt x="3347" y="8527"/>
                  <a:pt x="3327" y="8642"/>
                  <a:pt x="3299" y="8706"/>
                </a:cubicBezTo>
                <a:cubicBezTo>
                  <a:pt x="3299" y="8644"/>
                  <a:pt x="3293" y="8591"/>
                  <a:pt x="3324" y="8533"/>
                </a:cubicBezTo>
                <a:cubicBezTo>
                  <a:pt x="3343" y="8498"/>
                  <a:pt x="3357" y="8440"/>
                  <a:pt x="3398" y="8434"/>
                </a:cubicBezTo>
                <a:cubicBezTo>
                  <a:pt x="3460" y="8425"/>
                  <a:pt x="3473" y="8482"/>
                  <a:pt x="3497" y="8533"/>
                </a:cubicBezTo>
                <a:cubicBezTo>
                  <a:pt x="3528" y="8599"/>
                  <a:pt x="3522" y="8630"/>
                  <a:pt x="3522" y="8706"/>
                </a:cubicBezTo>
                <a:cubicBezTo>
                  <a:pt x="3522" y="8728"/>
                  <a:pt x="3503" y="8833"/>
                  <a:pt x="3547" y="8806"/>
                </a:cubicBezTo>
                <a:cubicBezTo>
                  <a:pt x="3564" y="8789"/>
                  <a:pt x="3580" y="8773"/>
                  <a:pt x="3597" y="8756"/>
                </a:cubicBezTo>
              </a:path>
              <a:path w="3350" h="1316">
                <a:moveTo>
                  <a:pt x="3845" y="8483"/>
                </a:moveTo>
                <a:cubicBezTo>
                  <a:pt x="3898" y="8471"/>
                  <a:pt x="4026" y="8457"/>
                  <a:pt x="4068" y="8409"/>
                </a:cubicBezTo>
                <a:cubicBezTo>
                  <a:pt x="4124" y="8346"/>
                  <a:pt x="4083" y="8320"/>
                  <a:pt x="4043" y="8285"/>
                </a:cubicBezTo>
                <a:cubicBezTo>
                  <a:pt x="3999" y="8240"/>
                  <a:pt x="3989" y="8223"/>
                  <a:pt x="3944" y="8235"/>
                </a:cubicBezTo>
                <a:cubicBezTo>
                  <a:pt x="3902" y="8309"/>
                  <a:pt x="3852" y="8353"/>
                  <a:pt x="3820" y="8434"/>
                </a:cubicBezTo>
                <a:cubicBezTo>
                  <a:pt x="3790" y="8510"/>
                  <a:pt x="3795" y="8577"/>
                  <a:pt x="3795" y="8657"/>
                </a:cubicBezTo>
                <a:cubicBezTo>
                  <a:pt x="3795" y="8676"/>
                  <a:pt x="3876" y="8773"/>
                  <a:pt x="3894" y="8781"/>
                </a:cubicBezTo>
                <a:cubicBezTo>
                  <a:pt x="3944" y="8803"/>
                  <a:pt x="4046" y="8768"/>
                  <a:pt x="4093" y="8756"/>
                </a:cubicBezTo>
                <a:cubicBezTo>
                  <a:pt x="4118" y="8748"/>
                  <a:pt x="4142" y="8739"/>
                  <a:pt x="4167" y="8731"/>
                </a:cubicBezTo>
              </a:path>
              <a:path w="3350" h="1316">
                <a:moveTo>
                  <a:pt x="4490" y="8111"/>
                </a:moveTo>
                <a:cubicBezTo>
                  <a:pt x="4490" y="8173"/>
                  <a:pt x="4504" y="8212"/>
                  <a:pt x="4514" y="8260"/>
                </a:cubicBezTo>
                <a:cubicBezTo>
                  <a:pt x="4529" y="8333"/>
                  <a:pt x="4539" y="8739"/>
                  <a:pt x="4490" y="8756"/>
                </a:cubicBezTo>
              </a:path>
              <a:path w="3350" h="1316">
                <a:moveTo>
                  <a:pt x="4266" y="8434"/>
                </a:moveTo>
                <a:cubicBezTo>
                  <a:pt x="4406" y="8434"/>
                  <a:pt x="4558" y="8453"/>
                  <a:pt x="4688" y="8409"/>
                </a:cubicBezTo>
                <a:cubicBezTo>
                  <a:pt x="4788" y="8375"/>
                  <a:pt x="4907" y="8302"/>
                  <a:pt x="4986" y="8235"/>
                </a:cubicBezTo>
                <a:cubicBezTo>
                  <a:pt x="5015" y="8211"/>
                  <a:pt x="5105" y="8136"/>
                  <a:pt x="5085" y="8086"/>
                </a:cubicBezTo>
                <a:cubicBezTo>
                  <a:pt x="5068" y="8043"/>
                  <a:pt x="5020" y="7996"/>
                  <a:pt x="4986" y="7962"/>
                </a:cubicBezTo>
                <a:cubicBezTo>
                  <a:pt x="4960" y="8023"/>
                  <a:pt x="4961" y="8045"/>
                  <a:pt x="4961" y="8111"/>
                </a:cubicBezTo>
                <a:cubicBezTo>
                  <a:pt x="4961" y="8260"/>
                  <a:pt x="4961" y="8409"/>
                  <a:pt x="4961" y="8558"/>
                </a:cubicBezTo>
                <a:cubicBezTo>
                  <a:pt x="4961" y="8657"/>
                  <a:pt x="4956" y="8550"/>
                  <a:pt x="4986" y="8508"/>
                </a:cubicBezTo>
                <a:cubicBezTo>
                  <a:pt x="5026" y="8454"/>
                  <a:pt x="4994" y="8380"/>
                  <a:pt x="5060" y="8334"/>
                </a:cubicBezTo>
                <a:cubicBezTo>
                  <a:pt x="5129" y="8286"/>
                  <a:pt x="5229" y="8367"/>
                  <a:pt x="5259" y="8434"/>
                </a:cubicBezTo>
                <a:cubicBezTo>
                  <a:pt x="5275" y="8470"/>
                  <a:pt x="5259" y="8541"/>
                  <a:pt x="5259" y="8582"/>
                </a:cubicBezTo>
              </a:path>
              <a:path w="3350" h="1316">
                <a:moveTo>
                  <a:pt x="5457" y="8334"/>
                </a:moveTo>
                <a:cubicBezTo>
                  <a:pt x="5457" y="8407"/>
                  <a:pt x="5439" y="8495"/>
                  <a:pt x="5482" y="8558"/>
                </a:cubicBezTo>
                <a:cubicBezTo>
                  <a:pt x="5521" y="8615"/>
                  <a:pt x="5573" y="8623"/>
                  <a:pt x="5631" y="8582"/>
                </a:cubicBezTo>
                <a:cubicBezTo>
                  <a:pt x="5691" y="8539"/>
                  <a:pt x="5747" y="8477"/>
                  <a:pt x="5755" y="8409"/>
                </a:cubicBezTo>
                <a:cubicBezTo>
                  <a:pt x="5761" y="8356"/>
                  <a:pt x="5752" y="8278"/>
                  <a:pt x="5730" y="8235"/>
                </a:cubicBezTo>
                <a:cubicBezTo>
                  <a:pt x="5730" y="8243"/>
                  <a:pt x="5730" y="8252"/>
                  <a:pt x="5730" y="8260"/>
                </a:cubicBezTo>
                <a:cubicBezTo>
                  <a:pt x="5730" y="8366"/>
                  <a:pt x="5733" y="8456"/>
                  <a:pt x="5755" y="8558"/>
                </a:cubicBezTo>
                <a:cubicBezTo>
                  <a:pt x="5781" y="8681"/>
                  <a:pt x="5853" y="8769"/>
                  <a:pt x="5879" y="8880"/>
                </a:cubicBezTo>
                <a:cubicBezTo>
                  <a:pt x="5902" y="8980"/>
                  <a:pt x="5873" y="9020"/>
                  <a:pt x="5829" y="9079"/>
                </a:cubicBezTo>
                <a:cubicBezTo>
                  <a:pt x="5784" y="9139"/>
                  <a:pt x="5757" y="9173"/>
                  <a:pt x="5680" y="9178"/>
                </a:cubicBezTo>
                <a:cubicBezTo>
                  <a:pt x="5613" y="9182"/>
                  <a:pt x="5545" y="9162"/>
                  <a:pt x="5507" y="9103"/>
                </a:cubicBezTo>
                <a:cubicBezTo>
                  <a:pt x="5487" y="9063"/>
                  <a:pt x="5478" y="9057"/>
                  <a:pt x="5482" y="9029"/>
                </a:cubicBezTo>
              </a:path>
              <a:path w="3350" h="1316">
                <a:moveTo>
                  <a:pt x="6176" y="7863"/>
                </a:moveTo>
                <a:cubicBezTo>
                  <a:pt x="6218" y="7891"/>
                  <a:pt x="6201" y="7971"/>
                  <a:pt x="6201" y="8037"/>
                </a:cubicBezTo>
                <a:cubicBezTo>
                  <a:pt x="6201" y="8147"/>
                  <a:pt x="6257" y="8228"/>
                  <a:pt x="6276" y="8334"/>
                </a:cubicBezTo>
                <a:cubicBezTo>
                  <a:pt x="6294" y="8434"/>
                  <a:pt x="6276" y="8554"/>
                  <a:pt x="6276" y="8657"/>
                </a:cubicBezTo>
                <a:cubicBezTo>
                  <a:pt x="6276" y="8589"/>
                  <a:pt x="6279" y="8570"/>
                  <a:pt x="6251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920" y="2786040"/>
            <a:ext cx="2249280" cy="438120"/>
          </a:xfrm>
          <a:custGeom>
            <a:avLst/>
            <a:gdLst/>
            <a:ahLst/>
            <a:rect l="l" t="t" r="r" b="b"/>
            <a:pathLst>
              <a:path w="6252" h="1216">
                <a:moveTo>
                  <a:pt x="7243" y="8210"/>
                </a:moveTo>
                <a:cubicBezTo>
                  <a:pt x="7292" y="8178"/>
                  <a:pt x="7253" y="8127"/>
                  <a:pt x="7193" y="8111"/>
                </a:cubicBezTo>
                <a:cubicBezTo>
                  <a:pt x="7100" y="8086"/>
                  <a:pt x="7113" y="8153"/>
                  <a:pt x="7069" y="8210"/>
                </a:cubicBezTo>
                <a:cubicBezTo>
                  <a:pt x="7019" y="8275"/>
                  <a:pt x="6992" y="8348"/>
                  <a:pt x="6970" y="8434"/>
                </a:cubicBezTo>
                <a:cubicBezTo>
                  <a:pt x="6959" y="8479"/>
                  <a:pt x="6983" y="8532"/>
                  <a:pt x="7020" y="8558"/>
                </a:cubicBezTo>
                <a:cubicBezTo>
                  <a:pt x="7077" y="8598"/>
                  <a:pt x="7151" y="8628"/>
                  <a:pt x="7218" y="8632"/>
                </a:cubicBezTo>
                <a:cubicBezTo>
                  <a:pt x="7285" y="8636"/>
                  <a:pt x="7333" y="8608"/>
                  <a:pt x="7392" y="8582"/>
                </a:cubicBezTo>
              </a:path>
              <a:path w="6252" h="1216">
                <a:moveTo>
                  <a:pt x="7541" y="8285"/>
                </a:moveTo>
                <a:cubicBezTo>
                  <a:pt x="7584" y="8314"/>
                  <a:pt x="7567" y="8360"/>
                  <a:pt x="7541" y="8409"/>
                </a:cubicBezTo>
                <a:cubicBezTo>
                  <a:pt x="7502" y="8482"/>
                  <a:pt x="7497" y="8552"/>
                  <a:pt x="7565" y="8607"/>
                </a:cubicBezTo>
                <a:cubicBezTo>
                  <a:pt x="7639" y="8667"/>
                  <a:pt x="7690" y="8582"/>
                  <a:pt x="7739" y="8533"/>
                </a:cubicBezTo>
                <a:cubicBezTo>
                  <a:pt x="7780" y="8492"/>
                  <a:pt x="7787" y="8431"/>
                  <a:pt x="7813" y="8384"/>
                </a:cubicBezTo>
                <a:cubicBezTo>
                  <a:pt x="7833" y="8344"/>
                  <a:pt x="7842" y="8337"/>
                  <a:pt x="7838" y="8310"/>
                </a:cubicBezTo>
                <a:cubicBezTo>
                  <a:pt x="7838" y="8427"/>
                  <a:pt x="7829" y="8543"/>
                  <a:pt x="7863" y="8657"/>
                </a:cubicBezTo>
                <a:cubicBezTo>
                  <a:pt x="7886" y="8734"/>
                  <a:pt x="7888" y="8798"/>
                  <a:pt x="7888" y="8880"/>
                </a:cubicBezTo>
                <a:cubicBezTo>
                  <a:pt x="7888" y="8958"/>
                  <a:pt x="7853" y="8954"/>
                  <a:pt x="7789" y="8954"/>
                </a:cubicBezTo>
                <a:cubicBezTo>
                  <a:pt x="7735" y="8954"/>
                  <a:pt x="7706" y="8942"/>
                  <a:pt x="7665" y="8905"/>
                </a:cubicBezTo>
                <a:cubicBezTo>
                  <a:pt x="7629" y="8873"/>
                  <a:pt x="7640" y="8854"/>
                  <a:pt x="7640" y="8806"/>
                </a:cubicBezTo>
              </a:path>
              <a:path w="6252" h="1216">
                <a:moveTo>
                  <a:pt x="8285" y="8260"/>
                </a:moveTo>
                <a:cubicBezTo>
                  <a:pt x="8261" y="8204"/>
                  <a:pt x="8260" y="8162"/>
                  <a:pt x="8186" y="8186"/>
                </a:cubicBezTo>
                <a:cubicBezTo>
                  <a:pt x="8130" y="8204"/>
                  <a:pt x="8064" y="8217"/>
                  <a:pt x="8012" y="8235"/>
                </a:cubicBezTo>
                <a:cubicBezTo>
                  <a:pt x="7938" y="8261"/>
                  <a:pt x="7962" y="8318"/>
                  <a:pt x="7962" y="8384"/>
                </a:cubicBezTo>
                <a:cubicBezTo>
                  <a:pt x="7962" y="8480"/>
                  <a:pt x="7989" y="8476"/>
                  <a:pt x="8062" y="8533"/>
                </a:cubicBezTo>
                <a:cubicBezTo>
                  <a:pt x="8130" y="8586"/>
                  <a:pt x="8197" y="8603"/>
                  <a:pt x="8285" y="8607"/>
                </a:cubicBezTo>
                <a:cubicBezTo>
                  <a:pt x="8380" y="8612"/>
                  <a:pt x="8435" y="8560"/>
                  <a:pt x="8508" y="8508"/>
                </a:cubicBezTo>
              </a:path>
              <a:path w="6252" h="1216">
                <a:moveTo>
                  <a:pt x="8682" y="7764"/>
                </a:moveTo>
                <a:cubicBezTo>
                  <a:pt x="8643" y="7854"/>
                  <a:pt x="8656" y="7908"/>
                  <a:pt x="8682" y="8012"/>
                </a:cubicBezTo>
                <a:cubicBezTo>
                  <a:pt x="8706" y="8109"/>
                  <a:pt x="8789" y="8186"/>
                  <a:pt x="8806" y="8285"/>
                </a:cubicBezTo>
                <a:cubicBezTo>
                  <a:pt x="8822" y="8378"/>
                  <a:pt x="8797" y="8480"/>
                  <a:pt x="8781" y="8558"/>
                </a:cubicBezTo>
                <a:cubicBezTo>
                  <a:pt x="8762" y="8652"/>
                  <a:pt x="8788" y="8581"/>
                  <a:pt x="8806" y="8558"/>
                </a:cubicBezTo>
              </a:path>
              <a:path w="6252" h="1216">
                <a:moveTo>
                  <a:pt x="9103" y="8310"/>
                </a:moveTo>
                <a:cubicBezTo>
                  <a:pt x="9020" y="8310"/>
                  <a:pt x="9003" y="8358"/>
                  <a:pt x="8979" y="8434"/>
                </a:cubicBezTo>
                <a:cubicBezTo>
                  <a:pt x="8965" y="8477"/>
                  <a:pt x="8979" y="8527"/>
                  <a:pt x="9004" y="8558"/>
                </a:cubicBezTo>
                <a:cubicBezTo>
                  <a:pt x="9040" y="8602"/>
                  <a:pt x="9092" y="8646"/>
                  <a:pt x="9153" y="8632"/>
                </a:cubicBezTo>
                <a:cubicBezTo>
                  <a:pt x="9217" y="8618"/>
                  <a:pt x="9302" y="8567"/>
                  <a:pt x="9327" y="8508"/>
                </a:cubicBezTo>
                <a:cubicBezTo>
                  <a:pt x="9355" y="8440"/>
                  <a:pt x="9316" y="8379"/>
                  <a:pt x="9277" y="8334"/>
                </a:cubicBezTo>
                <a:cubicBezTo>
                  <a:pt x="9228" y="8277"/>
                  <a:pt x="9166" y="8265"/>
                  <a:pt x="9103" y="8235"/>
                </a:cubicBezTo>
                <a:cubicBezTo>
                  <a:pt x="9054" y="8211"/>
                  <a:pt x="9032" y="8210"/>
                  <a:pt x="8979" y="8210"/>
                </a:cubicBezTo>
              </a:path>
              <a:path w="6252" h="1216">
                <a:moveTo>
                  <a:pt x="9723" y="7739"/>
                </a:moveTo>
                <a:cubicBezTo>
                  <a:pt x="9689" y="7809"/>
                  <a:pt x="9677" y="7903"/>
                  <a:pt x="9674" y="7987"/>
                </a:cubicBezTo>
                <a:cubicBezTo>
                  <a:pt x="9668" y="8185"/>
                  <a:pt x="9674" y="8384"/>
                  <a:pt x="9674" y="8582"/>
                </a:cubicBezTo>
                <a:cubicBezTo>
                  <a:pt x="9674" y="8647"/>
                  <a:pt x="9698" y="8498"/>
                  <a:pt x="9699" y="8483"/>
                </a:cubicBezTo>
                <a:cubicBezTo>
                  <a:pt x="9702" y="8444"/>
                  <a:pt x="9747" y="8367"/>
                  <a:pt x="9773" y="8334"/>
                </a:cubicBezTo>
                <a:cubicBezTo>
                  <a:pt x="9802" y="8297"/>
                  <a:pt x="9860" y="8193"/>
                  <a:pt x="9922" y="8235"/>
                </a:cubicBezTo>
                <a:cubicBezTo>
                  <a:pt x="10010" y="8294"/>
                  <a:pt x="10044" y="8426"/>
                  <a:pt x="10071" y="8508"/>
                </a:cubicBezTo>
                <a:cubicBezTo>
                  <a:pt x="10097" y="8587"/>
                  <a:pt x="10062" y="8622"/>
                  <a:pt x="9971" y="8632"/>
                </a:cubicBezTo>
                <a:cubicBezTo>
                  <a:pt x="9917" y="8638"/>
                  <a:pt x="9820" y="8610"/>
                  <a:pt x="9773" y="8582"/>
                </a:cubicBezTo>
                <a:cubicBezTo>
                  <a:pt x="9748" y="8558"/>
                  <a:pt x="9740" y="8550"/>
                  <a:pt x="9773" y="8533"/>
                </a:cubicBezTo>
              </a:path>
              <a:path w="6252" h="1216">
                <a:moveTo>
                  <a:pt x="10244" y="8260"/>
                </a:moveTo>
                <a:cubicBezTo>
                  <a:pt x="10284" y="8313"/>
                  <a:pt x="10250" y="8318"/>
                  <a:pt x="10244" y="8384"/>
                </a:cubicBezTo>
                <a:cubicBezTo>
                  <a:pt x="10238" y="8452"/>
                  <a:pt x="10239" y="8519"/>
                  <a:pt x="10269" y="8582"/>
                </a:cubicBezTo>
                <a:cubicBezTo>
                  <a:pt x="10291" y="8629"/>
                  <a:pt x="10365" y="8640"/>
                  <a:pt x="10393" y="8607"/>
                </a:cubicBezTo>
                <a:cubicBezTo>
                  <a:pt x="10443" y="8547"/>
                  <a:pt x="10489" y="8489"/>
                  <a:pt x="10492" y="8409"/>
                </a:cubicBezTo>
                <a:cubicBezTo>
                  <a:pt x="10496" y="8300"/>
                  <a:pt x="10481" y="8321"/>
                  <a:pt x="10542" y="8260"/>
                </a:cubicBezTo>
                <a:cubicBezTo>
                  <a:pt x="10542" y="8336"/>
                  <a:pt x="10569" y="8341"/>
                  <a:pt x="10592" y="8409"/>
                </a:cubicBezTo>
                <a:cubicBezTo>
                  <a:pt x="10608" y="8456"/>
                  <a:pt x="10613" y="8487"/>
                  <a:pt x="10641" y="8533"/>
                </a:cubicBezTo>
                <a:cubicBezTo>
                  <a:pt x="10676" y="8591"/>
                  <a:pt x="10705" y="8609"/>
                  <a:pt x="10765" y="8582"/>
                </a:cubicBezTo>
                <a:cubicBezTo>
                  <a:pt x="10815" y="8558"/>
                  <a:pt x="10831" y="8550"/>
                  <a:pt x="10864" y="8533"/>
                </a:cubicBezTo>
              </a:path>
              <a:path w="6252" h="1216">
                <a:moveTo>
                  <a:pt x="10988" y="7739"/>
                </a:moveTo>
                <a:cubicBezTo>
                  <a:pt x="10979" y="7803"/>
                  <a:pt x="10964" y="7842"/>
                  <a:pt x="10964" y="7913"/>
                </a:cubicBezTo>
                <a:cubicBezTo>
                  <a:pt x="10964" y="8024"/>
                  <a:pt x="11008" y="8123"/>
                  <a:pt x="11013" y="8235"/>
                </a:cubicBezTo>
                <a:cubicBezTo>
                  <a:pt x="11016" y="8293"/>
                  <a:pt x="11013" y="8610"/>
                  <a:pt x="11013" y="8508"/>
                </a:cubicBezTo>
              </a:path>
              <a:path w="6252" h="1216">
                <a:moveTo>
                  <a:pt x="10790" y="8285"/>
                </a:moveTo>
                <a:cubicBezTo>
                  <a:pt x="10850" y="8255"/>
                  <a:pt x="10919" y="8259"/>
                  <a:pt x="10988" y="8235"/>
                </a:cubicBezTo>
                <a:cubicBezTo>
                  <a:pt x="11062" y="8209"/>
                  <a:pt x="11110" y="8186"/>
                  <a:pt x="11187" y="8186"/>
                </a:cubicBezTo>
                <a:cubicBezTo>
                  <a:pt x="11220" y="8186"/>
                  <a:pt x="11236" y="8186"/>
                  <a:pt x="11261" y="8186"/>
                </a:cubicBezTo>
              </a:path>
              <a:path w="6252" h="1216">
                <a:moveTo>
                  <a:pt x="11708" y="8235"/>
                </a:moveTo>
                <a:cubicBezTo>
                  <a:pt x="11666" y="8141"/>
                  <a:pt x="11682" y="8161"/>
                  <a:pt x="11584" y="8161"/>
                </a:cubicBezTo>
                <a:cubicBezTo>
                  <a:pt x="11479" y="8161"/>
                  <a:pt x="11457" y="8171"/>
                  <a:pt x="11385" y="8210"/>
                </a:cubicBezTo>
                <a:cubicBezTo>
                  <a:pt x="11315" y="8248"/>
                  <a:pt x="11294" y="8278"/>
                  <a:pt x="11261" y="8359"/>
                </a:cubicBezTo>
                <a:cubicBezTo>
                  <a:pt x="11244" y="8401"/>
                  <a:pt x="11330" y="8475"/>
                  <a:pt x="11361" y="8483"/>
                </a:cubicBezTo>
                <a:cubicBezTo>
                  <a:pt x="11424" y="8500"/>
                  <a:pt x="11486" y="8485"/>
                  <a:pt x="11534" y="8458"/>
                </a:cubicBezTo>
                <a:cubicBezTo>
                  <a:pt x="11595" y="8424"/>
                  <a:pt x="11641" y="8385"/>
                  <a:pt x="11658" y="8310"/>
                </a:cubicBezTo>
                <a:cubicBezTo>
                  <a:pt x="11658" y="8260"/>
                  <a:pt x="11658" y="8243"/>
                  <a:pt x="11658" y="8210"/>
                </a:cubicBezTo>
                <a:cubicBezTo>
                  <a:pt x="11697" y="8223"/>
                  <a:pt x="11686" y="8284"/>
                  <a:pt x="11708" y="8334"/>
                </a:cubicBezTo>
                <a:cubicBezTo>
                  <a:pt x="11734" y="8391"/>
                  <a:pt x="11783" y="8474"/>
                  <a:pt x="11857" y="8458"/>
                </a:cubicBezTo>
                <a:cubicBezTo>
                  <a:pt x="11881" y="8434"/>
                  <a:pt x="11890" y="8425"/>
                  <a:pt x="11906" y="8409"/>
                </a:cubicBezTo>
              </a:path>
              <a:path w="6252" h="1216">
                <a:moveTo>
                  <a:pt x="12030" y="8136"/>
                </a:moveTo>
                <a:cubicBezTo>
                  <a:pt x="12030" y="8243"/>
                  <a:pt x="12030" y="8351"/>
                  <a:pt x="12030" y="8458"/>
                </a:cubicBezTo>
                <a:cubicBezTo>
                  <a:pt x="12064" y="8436"/>
                  <a:pt x="12055" y="8410"/>
                  <a:pt x="12055" y="8359"/>
                </a:cubicBezTo>
                <a:cubicBezTo>
                  <a:pt x="12055" y="8271"/>
                  <a:pt x="12079" y="8263"/>
                  <a:pt x="12105" y="8186"/>
                </a:cubicBezTo>
                <a:cubicBezTo>
                  <a:pt x="12126" y="8122"/>
                  <a:pt x="12209" y="8117"/>
                  <a:pt x="12278" y="8111"/>
                </a:cubicBezTo>
                <a:cubicBezTo>
                  <a:pt x="12326" y="8107"/>
                  <a:pt x="12421" y="8116"/>
                  <a:pt x="12452" y="8161"/>
                </a:cubicBezTo>
                <a:cubicBezTo>
                  <a:pt x="12487" y="8212"/>
                  <a:pt x="12477" y="8276"/>
                  <a:pt x="12477" y="8334"/>
                </a:cubicBezTo>
                <a:cubicBezTo>
                  <a:pt x="12477" y="8405"/>
                  <a:pt x="12468" y="8452"/>
                  <a:pt x="12502" y="8508"/>
                </a:cubicBezTo>
              </a:path>
              <a:path w="6252" h="1216">
                <a:moveTo>
                  <a:pt x="12948" y="8334"/>
                </a:moveTo>
                <a:cubicBezTo>
                  <a:pt x="12996" y="8334"/>
                  <a:pt x="13065" y="8351"/>
                  <a:pt x="13097" y="8310"/>
                </a:cubicBezTo>
                <a:cubicBezTo>
                  <a:pt x="13148" y="8244"/>
                  <a:pt x="13120" y="8208"/>
                  <a:pt x="13072" y="8161"/>
                </a:cubicBezTo>
                <a:cubicBezTo>
                  <a:pt x="13035" y="8125"/>
                  <a:pt x="12997" y="8136"/>
                  <a:pt x="12948" y="8136"/>
                </a:cubicBezTo>
                <a:cubicBezTo>
                  <a:pt x="12892" y="8136"/>
                  <a:pt x="12861" y="8174"/>
                  <a:pt x="12824" y="8210"/>
                </a:cubicBezTo>
                <a:cubicBezTo>
                  <a:pt x="12777" y="8256"/>
                  <a:pt x="12755" y="8268"/>
                  <a:pt x="12750" y="8334"/>
                </a:cubicBezTo>
                <a:cubicBezTo>
                  <a:pt x="12745" y="8391"/>
                  <a:pt x="12749" y="8436"/>
                  <a:pt x="12774" y="8483"/>
                </a:cubicBezTo>
                <a:cubicBezTo>
                  <a:pt x="12817" y="8565"/>
                  <a:pt x="12829" y="8578"/>
                  <a:pt x="12923" y="8582"/>
                </a:cubicBezTo>
                <a:cubicBezTo>
                  <a:pt x="12997" y="8585"/>
                  <a:pt x="13062" y="8590"/>
                  <a:pt x="13122" y="8558"/>
                </a:cubicBezTo>
                <a:cubicBezTo>
                  <a:pt x="13171" y="8532"/>
                  <a:pt x="13200" y="8525"/>
                  <a:pt x="13221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5840" y="3429000"/>
            <a:ext cx="258840" cy="303120"/>
          </a:xfrm>
          <a:custGeom>
            <a:avLst/>
            <a:gdLst/>
            <a:ahLst/>
            <a:rect l="l" t="t" r="r" b="b"/>
            <a:pathLst>
              <a:path w="720" h="844">
                <a:moveTo>
                  <a:pt x="843" y="9575"/>
                </a:moveTo>
                <a:cubicBezTo>
                  <a:pt x="843" y="9550"/>
                  <a:pt x="843" y="9542"/>
                  <a:pt x="843" y="9525"/>
                </a:cubicBezTo>
                <a:cubicBezTo>
                  <a:pt x="818" y="9595"/>
                  <a:pt x="819" y="9648"/>
                  <a:pt x="819" y="9723"/>
                </a:cubicBezTo>
                <a:cubicBezTo>
                  <a:pt x="819" y="9806"/>
                  <a:pt x="835" y="9904"/>
                  <a:pt x="794" y="9971"/>
                </a:cubicBezTo>
                <a:cubicBezTo>
                  <a:pt x="869" y="9971"/>
                  <a:pt x="923" y="9984"/>
                  <a:pt x="992" y="9996"/>
                </a:cubicBezTo>
                <a:cubicBezTo>
                  <a:pt x="1041" y="10004"/>
                  <a:pt x="1282" y="10023"/>
                  <a:pt x="1315" y="9971"/>
                </a:cubicBezTo>
                <a:cubicBezTo>
                  <a:pt x="1315" y="9955"/>
                  <a:pt x="1315" y="9938"/>
                  <a:pt x="1315" y="9922"/>
                </a:cubicBezTo>
              </a:path>
              <a:path w="720" h="844">
                <a:moveTo>
                  <a:pt x="1091" y="9525"/>
                </a:moveTo>
                <a:cubicBezTo>
                  <a:pt x="1060" y="9569"/>
                  <a:pt x="1067" y="9592"/>
                  <a:pt x="1067" y="9649"/>
                </a:cubicBezTo>
                <a:cubicBezTo>
                  <a:pt x="1067" y="9849"/>
                  <a:pt x="1079" y="10050"/>
                  <a:pt x="1042" y="10244"/>
                </a:cubicBezTo>
                <a:cubicBezTo>
                  <a:pt x="1034" y="10285"/>
                  <a:pt x="1024" y="10327"/>
                  <a:pt x="1017" y="10368"/>
                </a:cubicBezTo>
                <a:cubicBezTo>
                  <a:pt x="1047" y="10339"/>
                  <a:pt x="1059" y="10325"/>
                  <a:pt x="1067" y="10294"/>
                </a:cubicBezTo>
              </a:path>
              <a:path w="720" h="844">
                <a:moveTo>
                  <a:pt x="1513" y="10244"/>
                </a:moveTo>
                <a:cubicBezTo>
                  <a:pt x="1513" y="10293"/>
                  <a:pt x="1517" y="10306"/>
                  <a:pt x="1488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062000" y="3537000"/>
            <a:ext cx="216000" cy="17784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2977" y="9823"/>
                </a:moveTo>
                <a:cubicBezTo>
                  <a:pt x="2977" y="9957"/>
                  <a:pt x="2921" y="10210"/>
                  <a:pt x="2952" y="10319"/>
                </a:cubicBezTo>
                <a:cubicBezTo>
                  <a:pt x="2987" y="10319"/>
                  <a:pt x="3000" y="10310"/>
                  <a:pt x="3001" y="10269"/>
                </a:cubicBezTo>
              </a:path>
              <a:path w="596" h="497">
                <a:moveTo>
                  <a:pt x="3274" y="10145"/>
                </a:moveTo>
                <a:cubicBezTo>
                  <a:pt x="3274" y="10153"/>
                  <a:pt x="3274" y="10162"/>
                  <a:pt x="3274" y="10170"/>
                </a:cubicBezTo>
                <a:cubicBezTo>
                  <a:pt x="3355" y="10170"/>
                  <a:pt x="3421" y="10163"/>
                  <a:pt x="3497" y="10145"/>
                </a:cubicBezTo>
                <a:cubicBezTo>
                  <a:pt x="3522" y="10145"/>
                  <a:pt x="3530" y="10145"/>
                  <a:pt x="3547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65200" y="3483000"/>
            <a:ext cx="1347840" cy="276120"/>
          </a:xfrm>
          <a:custGeom>
            <a:avLst/>
            <a:gdLst/>
            <a:ahLst/>
            <a:rect l="l" t="t" r="r" b="b"/>
            <a:pathLst>
              <a:path w="3746" h="770">
                <a:moveTo>
                  <a:pt x="4068" y="9674"/>
                </a:moveTo>
                <a:cubicBezTo>
                  <a:pt x="4068" y="9889"/>
                  <a:pt x="4068" y="10104"/>
                  <a:pt x="4068" y="10319"/>
                </a:cubicBezTo>
                <a:cubicBezTo>
                  <a:pt x="4068" y="10231"/>
                  <a:pt x="4035" y="10100"/>
                  <a:pt x="4118" y="10046"/>
                </a:cubicBezTo>
                <a:cubicBezTo>
                  <a:pt x="4150" y="10025"/>
                  <a:pt x="4266" y="10045"/>
                  <a:pt x="4291" y="10071"/>
                </a:cubicBezTo>
                <a:cubicBezTo>
                  <a:pt x="4313" y="10093"/>
                  <a:pt x="4347" y="10161"/>
                  <a:pt x="4366" y="10195"/>
                </a:cubicBezTo>
                <a:cubicBezTo>
                  <a:pt x="4397" y="10250"/>
                  <a:pt x="4406" y="10313"/>
                  <a:pt x="4366" y="10368"/>
                </a:cubicBezTo>
                <a:cubicBezTo>
                  <a:pt x="4304" y="10455"/>
                  <a:pt x="4298" y="10438"/>
                  <a:pt x="4217" y="10418"/>
                </a:cubicBezTo>
                <a:cubicBezTo>
                  <a:pt x="4169" y="10406"/>
                  <a:pt x="4159" y="10385"/>
                  <a:pt x="4118" y="10344"/>
                </a:cubicBezTo>
              </a:path>
              <a:path w="3746" h="770">
                <a:moveTo>
                  <a:pt x="4688" y="10071"/>
                </a:moveTo>
                <a:cubicBezTo>
                  <a:pt x="4688" y="10130"/>
                  <a:pt x="4687" y="10149"/>
                  <a:pt x="4713" y="10195"/>
                </a:cubicBezTo>
                <a:cubicBezTo>
                  <a:pt x="4741" y="10243"/>
                  <a:pt x="4769" y="10314"/>
                  <a:pt x="4787" y="10368"/>
                </a:cubicBezTo>
                <a:cubicBezTo>
                  <a:pt x="4787" y="10376"/>
                  <a:pt x="4787" y="10385"/>
                  <a:pt x="4787" y="10393"/>
                </a:cubicBezTo>
                <a:cubicBezTo>
                  <a:pt x="4750" y="10430"/>
                  <a:pt x="4762" y="10316"/>
                  <a:pt x="4762" y="10269"/>
                </a:cubicBezTo>
                <a:cubicBezTo>
                  <a:pt x="4762" y="10222"/>
                  <a:pt x="4785" y="10132"/>
                  <a:pt x="4812" y="10096"/>
                </a:cubicBezTo>
                <a:cubicBezTo>
                  <a:pt x="4863" y="10027"/>
                  <a:pt x="4911" y="10046"/>
                  <a:pt x="4986" y="10046"/>
                </a:cubicBezTo>
                <a:cubicBezTo>
                  <a:pt x="5056" y="10046"/>
                  <a:pt x="5096" y="10060"/>
                  <a:pt x="5159" y="10071"/>
                </a:cubicBezTo>
                <a:cubicBezTo>
                  <a:pt x="5176" y="10071"/>
                  <a:pt x="5192" y="10071"/>
                  <a:pt x="5209" y="10071"/>
                </a:cubicBezTo>
              </a:path>
              <a:path w="3746" h="770">
                <a:moveTo>
                  <a:pt x="5457" y="9947"/>
                </a:moveTo>
                <a:cubicBezTo>
                  <a:pt x="5366" y="9960"/>
                  <a:pt x="5396" y="9972"/>
                  <a:pt x="5333" y="10021"/>
                </a:cubicBezTo>
                <a:cubicBezTo>
                  <a:pt x="5286" y="10058"/>
                  <a:pt x="5250" y="10130"/>
                  <a:pt x="5234" y="10195"/>
                </a:cubicBezTo>
                <a:cubicBezTo>
                  <a:pt x="5218" y="10259"/>
                  <a:pt x="5272" y="10338"/>
                  <a:pt x="5333" y="10344"/>
                </a:cubicBezTo>
                <a:cubicBezTo>
                  <a:pt x="5395" y="10350"/>
                  <a:pt x="5510" y="10318"/>
                  <a:pt x="5556" y="10269"/>
                </a:cubicBezTo>
                <a:cubicBezTo>
                  <a:pt x="5591" y="10232"/>
                  <a:pt x="5618" y="10161"/>
                  <a:pt x="5631" y="10120"/>
                </a:cubicBezTo>
                <a:cubicBezTo>
                  <a:pt x="5651" y="10056"/>
                  <a:pt x="5578" y="10026"/>
                  <a:pt x="5531" y="10021"/>
                </a:cubicBezTo>
                <a:cubicBezTo>
                  <a:pt x="5523" y="10021"/>
                  <a:pt x="5515" y="10021"/>
                  <a:pt x="5507" y="10021"/>
                </a:cubicBezTo>
              </a:path>
              <a:path w="3746" h="770">
                <a:moveTo>
                  <a:pt x="5829" y="9947"/>
                </a:moveTo>
                <a:cubicBezTo>
                  <a:pt x="5829" y="10035"/>
                  <a:pt x="5871" y="10039"/>
                  <a:pt x="5879" y="10096"/>
                </a:cubicBezTo>
                <a:cubicBezTo>
                  <a:pt x="5889" y="10167"/>
                  <a:pt x="5879" y="10248"/>
                  <a:pt x="5879" y="10319"/>
                </a:cubicBezTo>
                <a:cubicBezTo>
                  <a:pt x="5879" y="10385"/>
                  <a:pt x="5903" y="10235"/>
                  <a:pt x="5904" y="10220"/>
                </a:cubicBezTo>
                <a:cubicBezTo>
                  <a:pt x="5905" y="10200"/>
                  <a:pt x="5942" y="10079"/>
                  <a:pt x="5953" y="10071"/>
                </a:cubicBezTo>
                <a:cubicBezTo>
                  <a:pt x="6041" y="10006"/>
                  <a:pt x="6088" y="10055"/>
                  <a:pt x="6152" y="10096"/>
                </a:cubicBezTo>
                <a:cubicBezTo>
                  <a:pt x="6206" y="10130"/>
                  <a:pt x="6219" y="10175"/>
                  <a:pt x="6226" y="10244"/>
                </a:cubicBezTo>
                <a:cubicBezTo>
                  <a:pt x="6226" y="10252"/>
                  <a:pt x="6226" y="10261"/>
                  <a:pt x="6226" y="10269"/>
                </a:cubicBezTo>
                <a:cubicBezTo>
                  <a:pt x="6258" y="10213"/>
                  <a:pt x="6273" y="10171"/>
                  <a:pt x="6300" y="10120"/>
                </a:cubicBezTo>
                <a:cubicBezTo>
                  <a:pt x="6325" y="10073"/>
                  <a:pt x="6370" y="10025"/>
                  <a:pt x="6424" y="10021"/>
                </a:cubicBezTo>
                <a:cubicBezTo>
                  <a:pt x="6500" y="10015"/>
                  <a:pt x="6493" y="10061"/>
                  <a:pt x="6548" y="10096"/>
                </a:cubicBezTo>
                <a:cubicBezTo>
                  <a:pt x="6603" y="10131"/>
                  <a:pt x="6641" y="10166"/>
                  <a:pt x="6648" y="10220"/>
                </a:cubicBezTo>
                <a:cubicBezTo>
                  <a:pt x="6648" y="10264"/>
                  <a:pt x="6645" y="10277"/>
                  <a:pt x="6672" y="10294"/>
                </a:cubicBezTo>
              </a:path>
              <a:path w="3746" h="770">
                <a:moveTo>
                  <a:pt x="7045" y="9996"/>
                </a:moveTo>
                <a:cubicBezTo>
                  <a:pt x="7012" y="9996"/>
                  <a:pt x="6995" y="9996"/>
                  <a:pt x="6970" y="9996"/>
                </a:cubicBezTo>
                <a:cubicBezTo>
                  <a:pt x="6959" y="10073"/>
                  <a:pt x="6908" y="10093"/>
                  <a:pt x="6896" y="10170"/>
                </a:cubicBezTo>
                <a:cubicBezTo>
                  <a:pt x="6887" y="10233"/>
                  <a:pt x="6929" y="10232"/>
                  <a:pt x="6970" y="10269"/>
                </a:cubicBezTo>
                <a:cubicBezTo>
                  <a:pt x="6999" y="10295"/>
                  <a:pt x="7104" y="10316"/>
                  <a:pt x="7144" y="10294"/>
                </a:cubicBezTo>
                <a:cubicBezTo>
                  <a:pt x="7215" y="10254"/>
                  <a:pt x="7243" y="10221"/>
                  <a:pt x="7243" y="10145"/>
                </a:cubicBezTo>
                <a:cubicBezTo>
                  <a:pt x="7243" y="10092"/>
                  <a:pt x="7210" y="10062"/>
                  <a:pt x="7193" y="10021"/>
                </a:cubicBezTo>
                <a:cubicBezTo>
                  <a:pt x="7154" y="9927"/>
                  <a:pt x="7170" y="9868"/>
                  <a:pt x="7069" y="9897"/>
                </a:cubicBezTo>
              </a:path>
              <a:path w="3746" h="770">
                <a:moveTo>
                  <a:pt x="7615" y="10145"/>
                </a:moveTo>
                <a:cubicBezTo>
                  <a:pt x="7674" y="10145"/>
                  <a:pt x="7866" y="10182"/>
                  <a:pt x="7764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82960" y="348300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8285" y="9773"/>
                </a:moveTo>
                <a:cubicBezTo>
                  <a:pt x="8326" y="9731"/>
                  <a:pt x="8365" y="9725"/>
                  <a:pt x="8409" y="9699"/>
                </a:cubicBezTo>
                <a:cubicBezTo>
                  <a:pt x="8464" y="9666"/>
                  <a:pt x="8513" y="9672"/>
                  <a:pt x="8533" y="9748"/>
                </a:cubicBezTo>
                <a:cubicBezTo>
                  <a:pt x="8551" y="9814"/>
                  <a:pt x="8498" y="9856"/>
                  <a:pt x="8458" y="9897"/>
                </a:cubicBezTo>
                <a:cubicBezTo>
                  <a:pt x="8409" y="9947"/>
                  <a:pt x="8405" y="9938"/>
                  <a:pt x="8359" y="9971"/>
                </a:cubicBezTo>
                <a:cubicBezTo>
                  <a:pt x="8381" y="10027"/>
                  <a:pt x="8397" y="10046"/>
                  <a:pt x="8458" y="10046"/>
                </a:cubicBezTo>
                <a:cubicBezTo>
                  <a:pt x="8526" y="10046"/>
                  <a:pt x="8583" y="10101"/>
                  <a:pt x="8607" y="10170"/>
                </a:cubicBezTo>
                <a:cubicBezTo>
                  <a:pt x="8622" y="10214"/>
                  <a:pt x="8558" y="10286"/>
                  <a:pt x="8533" y="10319"/>
                </a:cubicBezTo>
                <a:cubicBezTo>
                  <a:pt x="8502" y="10361"/>
                  <a:pt x="8460" y="10388"/>
                  <a:pt x="8409" y="10393"/>
                </a:cubicBezTo>
                <a:cubicBezTo>
                  <a:pt x="8318" y="10402"/>
                  <a:pt x="8284" y="10358"/>
                  <a:pt x="8310" y="10294"/>
                </a:cubicBezTo>
              </a:path>
              <a:path w="869" h="720">
                <a:moveTo>
                  <a:pt x="8905" y="10046"/>
                </a:moveTo>
                <a:cubicBezTo>
                  <a:pt x="8952" y="9975"/>
                  <a:pt x="8961" y="9996"/>
                  <a:pt x="9054" y="9996"/>
                </a:cubicBezTo>
                <a:cubicBezTo>
                  <a:pt x="9113" y="9996"/>
                  <a:pt x="9110" y="9989"/>
                  <a:pt x="9153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6640" y="3419640"/>
            <a:ext cx="1295280" cy="250560"/>
          </a:xfrm>
          <a:custGeom>
            <a:avLst/>
            <a:gdLst/>
            <a:ahLst/>
            <a:rect l="l" t="t" r="r" b="b"/>
            <a:pathLst>
              <a:path w="3597" h="696">
                <a:moveTo>
                  <a:pt x="9897" y="9674"/>
                </a:moveTo>
                <a:cubicBezTo>
                  <a:pt x="9828" y="9622"/>
                  <a:pt x="9815" y="9658"/>
                  <a:pt x="9748" y="9699"/>
                </a:cubicBezTo>
                <a:cubicBezTo>
                  <a:pt x="9668" y="9748"/>
                  <a:pt x="9664" y="9749"/>
                  <a:pt x="9624" y="9823"/>
                </a:cubicBezTo>
                <a:cubicBezTo>
                  <a:pt x="9581" y="9902"/>
                  <a:pt x="9562" y="9937"/>
                  <a:pt x="9599" y="10021"/>
                </a:cubicBezTo>
                <a:cubicBezTo>
                  <a:pt x="9632" y="10097"/>
                  <a:pt x="9624" y="10125"/>
                  <a:pt x="9699" y="10170"/>
                </a:cubicBezTo>
                <a:cubicBezTo>
                  <a:pt x="9803" y="10234"/>
                  <a:pt x="9919" y="10183"/>
                  <a:pt x="10021" y="10145"/>
                </a:cubicBezTo>
                <a:cubicBezTo>
                  <a:pt x="10132" y="10104"/>
                  <a:pt x="10217" y="10073"/>
                  <a:pt x="10294" y="9996"/>
                </a:cubicBezTo>
              </a:path>
              <a:path w="3597" h="696">
                <a:moveTo>
                  <a:pt x="10319" y="9525"/>
                </a:moveTo>
                <a:cubicBezTo>
                  <a:pt x="10319" y="9615"/>
                  <a:pt x="10332" y="9686"/>
                  <a:pt x="10344" y="9773"/>
                </a:cubicBezTo>
                <a:cubicBezTo>
                  <a:pt x="10360" y="9884"/>
                  <a:pt x="10312" y="10025"/>
                  <a:pt x="10368" y="10120"/>
                </a:cubicBezTo>
                <a:cubicBezTo>
                  <a:pt x="10401" y="10080"/>
                  <a:pt x="10424" y="10039"/>
                  <a:pt x="10443" y="9996"/>
                </a:cubicBezTo>
                <a:cubicBezTo>
                  <a:pt x="10479" y="9914"/>
                  <a:pt x="10482" y="9872"/>
                  <a:pt x="10542" y="9823"/>
                </a:cubicBezTo>
                <a:cubicBezTo>
                  <a:pt x="10570" y="9795"/>
                  <a:pt x="10583" y="9786"/>
                  <a:pt x="10616" y="9798"/>
                </a:cubicBezTo>
                <a:cubicBezTo>
                  <a:pt x="10637" y="9879"/>
                  <a:pt x="10672" y="9902"/>
                  <a:pt x="10716" y="9971"/>
                </a:cubicBezTo>
                <a:cubicBezTo>
                  <a:pt x="10746" y="10018"/>
                  <a:pt x="10761" y="10079"/>
                  <a:pt x="10790" y="10120"/>
                </a:cubicBezTo>
                <a:cubicBezTo>
                  <a:pt x="10815" y="10145"/>
                  <a:pt x="10823" y="10153"/>
                  <a:pt x="10840" y="10120"/>
                </a:cubicBezTo>
              </a:path>
              <a:path w="3597" h="696">
                <a:moveTo>
                  <a:pt x="11112" y="9500"/>
                </a:moveTo>
                <a:cubicBezTo>
                  <a:pt x="11148" y="9582"/>
                  <a:pt x="11177" y="9666"/>
                  <a:pt x="11212" y="9748"/>
                </a:cubicBezTo>
                <a:cubicBezTo>
                  <a:pt x="11242" y="9817"/>
                  <a:pt x="11237" y="9872"/>
                  <a:pt x="11237" y="9947"/>
                </a:cubicBezTo>
                <a:cubicBezTo>
                  <a:pt x="11237" y="9997"/>
                  <a:pt x="11237" y="10046"/>
                  <a:pt x="11237" y="10096"/>
                </a:cubicBezTo>
              </a:path>
              <a:path w="3597" h="696">
                <a:moveTo>
                  <a:pt x="11683" y="9823"/>
                </a:moveTo>
                <a:cubicBezTo>
                  <a:pt x="11641" y="9831"/>
                  <a:pt x="11580" y="9851"/>
                  <a:pt x="11559" y="9897"/>
                </a:cubicBezTo>
                <a:cubicBezTo>
                  <a:pt x="11550" y="9916"/>
                  <a:pt x="11475" y="10072"/>
                  <a:pt x="11509" y="10096"/>
                </a:cubicBezTo>
                <a:cubicBezTo>
                  <a:pt x="11552" y="10126"/>
                  <a:pt x="11594" y="10145"/>
                  <a:pt x="11658" y="10145"/>
                </a:cubicBezTo>
                <a:cubicBezTo>
                  <a:pt x="11730" y="10145"/>
                  <a:pt x="11754" y="10090"/>
                  <a:pt x="11807" y="10046"/>
                </a:cubicBezTo>
                <a:cubicBezTo>
                  <a:pt x="11883" y="9982"/>
                  <a:pt x="11791" y="9923"/>
                  <a:pt x="11757" y="9872"/>
                </a:cubicBezTo>
                <a:cubicBezTo>
                  <a:pt x="11719" y="9814"/>
                  <a:pt x="11736" y="9809"/>
                  <a:pt x="11683" y="9847"/>
                </a:cubicBezTo>
              </a:path>
              <a:path w="3597" h="696">
                <a:moveTo>
                  <a:pt x="12204" y="9847"/>
                </a:moveTo>
                <a:cubicBezTo>
                  <a:pt x="12243" y="9899"/>
                  <a:pt x="12209" y="9923"/>
                  <a:pt x="12204" y="9996"/>
                </a:cubicBezTo>
                <a:cubicBezTo>
                  <a:pt x="12200" y="10062"/>
                  <a:pt x="12204" y="10129"/>
                  <a:pt x="12204" y="10195"/>
                </a:cubicBezTo>
                <a:cubicBezTo>
                  <a:pt x="12226" y="10114"/>
                  <a:pt x="12229" y="10055"/>
                  <a:pt x="12229" y="9971"/>
                </a:cubicBezTo>
                <a:cubicBezTo>
                  <a:pt x="12229" y="9912"/>
                  <a:pt x="12234" y="9851"/>
                  <a:pt x="12303" y="9823"/>
                </a:cubicBezTo>
                <a:cubicBezTo>
                  <a:pt x="12365" y="9798"/>
                  <a:pt x="12477" y="9831"/>
                  <a:pt x="12526" y="9847"/>
                </a:cubicBezTo>
                <a:cubicBezTo>
                  <a:pt x="12559" y="9847"/>
                  <a:pt x="12576" y="9847"/>
                  <a:pt x="12601" y="9847"/>
                </a:cubicBezTo>
              </a:path>
              <a:path w="3597" h="696">
                <a:moveTo>
                  <a:pt x="12898" y="9773"/>
                </a:moveTo>
                <a:cubicBezTo>
                  <a:pt x="12829" y="9785"/>
                  <a:pt x="12797" y="9800"/>
                  <a:pt x="12750" y="9847"/>
                </a:cubicBezTo>
                <a:cubicBezTo>
                  <a:pt x="12723" y="9874"/>
                  <a:pt x="12703" y="9935"/>
                  <a:pt x="12700" y="9971"/>
                </a:cubicBezTo>
                <a:cubicBezTo>
                  <a:pt x="12694" y="10054"/>
                  <a:pt x="12724" y="10090"/>
                  <a:pt x="12799" y="10096"/>
                </a:cubicBezTo>
                <a:cubicBezTo>
                  <a:pt x="12948" y="10109"/>
                  <a:pt x="12968" y="10076"/>
                  <a:pt x="13072" y="10021"/>
                </a:cubicBezTo>
                <a:cubicBezTo>
                  <a:pt x="13136" y="9987"/>
                  <a:pt x="13182" y="9986"/>
                  <a:pt x="13146" y="9897"/>
                </a:cubicBezTo>
                <a:cubicBezTo>
                  <a:pt x="13125" y="9843"/>
                  <a:pt x="13085" y="9797"/>
                  <a:pt x="13047" y="9773"/>
                </a:cubicBezTo>
                <a:cubicBezTo>
                  <a:pt x="12979" y="9730"/>
                  <a:pt x="12931" y="9699"/>
                  <a:pt x="12874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33960" y="3303720"/>
            <a:ext cx="2679840" cy="563400"/>
          </a:xfrm>
          <a:custGeom>
            <a:avLst/>
            <a:gdLst/>
            <a:ahLst/>
            <a:rect l="l" t="t" r="r" b="b"/>
            <a:pathLst>
              <a:path w="7442" h="1563">
                <a:moveTo>
                  <a:pt x="14585" y="9599"/>
                </a:moveTo>
                <a:cubicBezTo>
                  <a:pt x="14545" y="9587"/>
                  <a:pt x="14491" y="9518"/>
                  <a:pt x="14436" y="9550"/>
                </a:cubicBezTo>
                <a:cubicBezTo>
                  <a:pt x="14388" y="9578"/>
                  <a:pt x="14302" y="9671"/>
                  <a:pt x="14288" y="9723"/>
                </a:cubicBezTo>
                <a:cubicBezTo>
                  <a:pt x="14268" y="9797"/>
                  <a:pt x="14263" y="9867"/>
                  <a:pt x="14263" y="9947"/>
                </a:cubicBezTo>
                <a:cubicBezTo>
                  <a:pt x="14263" y="10027"/>
                  <a:pt x="14322" y="10062"/>
                  <a:pt x="14387" y="10096"/>
                </a:cubicBezTo>
                <a:cubicBezTo>
                  <a:pt x="14460" y="10134"/>
                  <a:pt x="14524" y="10162"/>
                  <a:pt x="14610" y="10145"/>
                </a:cubicBezTo>
                <a:cubicBezTo>
                  <a:pt x="14688" y="10119"/>
                  <a:pt x="14715" y="10108"/>
                  <a:pt x="14759" y="10071"/>
                </a:cubicBezTo>
              </a:path>
              <a:path w="7442" h="1563">
                <a:moveTo>
                  <a:pt x="14932" y="9773"/>
                </a:moveTo>
                <a:cubicBezTo>
                  <a:pt x="14932" y="9849"/>
                  <a:pt x="14910" y="9963"/>
                  <a:pt x="14957" y="10021"/>
                </a:cubicBezTo>
                <a:cubicBezTo>
                  <a:pt x="14983" y="10053"/>
                  <a:pt x="15008" y="10148"/>
                  <a:pt x="15081" y="10120"/>
                </a:cubicBezTo>
                <a:cubicBezTo>
                  <a:pt x="15152" y="10092"/>
                  <a:pt x="15194" y="9987"/>
                  <a:pt x="15205" y="9922"/>
                </a:cubicBezTo>
                <a:cubicBezTo>
                  <a:pt x="15220" y="9835"/>
                  <a:pt x="15185" y="9758"/>
                  <a:pt x="15180" y="9674"/>
                </a:cubicBezTo>
                <a:cubicBezTo>
                  <a:pt x="15180" y="9666"/>
                  <a:pt x="15180" y="9657"/>
                  <a:pt x="15180" y="9649"/>
                </a:cubicBezTo>
                <a:cubicBezTo>
                  <a:pt x="15196" y="9728"/>
                  <a:pt x="15217" y="9788"/>
                  <a:pt x="15230" y="9872"/>
                </a:cubicBezTo>
                <a:cubicBezTo>
                  <a:pt x="15252" y="10015"/>
                  <a:pt x="15299" y="10185"/>
                  <a:pt x="15354" y="10319"/>
                </a:cubicBezTo>
                <a:cubicBezTo>
                  <a:pt x="15388" y="10402"/>
                  <a:pt x="15431" y="10497"/>
                  <a:pt x="15404" y="10592"/>
                </a:cubicBezTo>
                <a:cubicBezTo>
                  <a:pt x="15393" y="10631"/>
                  <a:pt x="15293" y="10728"/>
                  <a:pt x="15255" y="10740"/>
                </a:cubicBezTo>
                <a:cubicBezTo>
                  <a:pt x="15238" y="10740"/>
                  <a:pt x="15222" y="10740"/>
                  <a:pt x="15205" y="10740"/>
                </a:cubicBezTo>
                <a:cubicBezTo>
                  <a:pt x="15162" y="10655"/>
                  <a:pt x="15156" y="10613"/>
                  <a:pt x="15156" y="10517"/>
                </a:cubicBezTo>
              </a:path>
              <a:path w="7442" h="1563">
                <a:moveTo>
                  <a:pt x="15900" y="9723"/>
                </a:moveTo>
                <a:cubicBezTo>
                  <a:pt x="15849" y="9723"/>
                  <a:pt x="15816" y="9716"/>
                  <a:pt x="15776" y="9748"/>
                </a:cubicBezTo>
                <a:cubicBezTo>
                  <a:pt x="15732" y="9784"/>
                  <a:pt x="15692" y="9823"/>
                  <a:pt x="15677" y="9872"/>
                </a:cubicBezTo>
                <a:cubicBezTo>
                  <a:pt x="15641" y="9987"/>
                  <a:pt x="15643" y="9982"/>
                  <a:pt x="15701" y="10071"/>
                </a:cubicBezTo>
                <a:cubicBezTo>
                  <a:pt x="15740" y="10132"/>
                  <a:pt x="15801" y="10172"/>
                  <a:pt x="15875" y="10195"/>
                </a:cubicBezTo>
                <a:cubicBezTo>
                  <a:pt x="15913" y="10207"/>
                  <a:pt x="16033" y="10128"/>
                  <a:pt x="16049" y="10120"/>
                </a:cubicBezTo>
              </a:path>
              <a:path w="7442" h="1563">
                <a:moveTo>
                  <a:pt x="16197" y="9302"/>
                </a:moveTo>
                <a:cubicBezTo>
                  <a:pt x="16206" y="9370"/>
                  <a:pt x="16206" y="9458"/>
                  <a:pt x="16222" y="9525"/>
                </a:cubicBezTo>
                <a:cubicBezTo>
                  <a:pt x="16243" y="9613"/>
                  <a:pt x="16292" y="9675"/>
                  <a:pt x="16297" y="9773"/>
                </a:cubicBezTo>
                <a:cubicBezTo>
                  <a:pt x="16301" y="9855"/>
                  <a:pt x="16297" y="9939"/>
                  <a:pt x="16297" y="10021"/>
                </a:cubicBezTo>
                <a:cubicBezTo>
                  <a:pt x="16344" y="9997"/>
                  <a:pt x="16361" y="9991"/>
                  <a:pt x="16346" y="9947"/>
                </a:cubicBezTo>
              </a:path>
              <a:path w="7442" h="1563">
                <a:moveTo>
                  <a:pt x="16743" y="9674"/>
                </a:moveTo>
                <a:cubicBezTo>
                  <a:pt x="16649" y="9683"/>
                  <a:pt x="16638" y="9688"/>
                  <a:pt x="16594" y="9773"/>
                </a:cubicBezTo>
                <a:cubicBezTo>
                  <a:pt x="16554" y="9851"/>
                  <a:pt x="16545" y="9884"/>
                  <a:pt x="16545" y="9971"/>
                </a:cubicBezTo>
                <a:cubicBezTo>
                  <a:pt x="16545" y="10075"/>
                  <a:pt x="16592" y="10069"/>
                  <a:pt x="16669" y="10096"/>
                </a:cubicBezTo>
                <a:cubicBezTo>
                  <a:pt x="16714" y="10112"/>
                  <a:pt x="16817" y="10147"/>
                  <a:pt x="16867" y="10120"/>
                </a:cubicBezTo>
                <a:cubicBezTo>
                  <a:pt x="16926" y="10088"/>
                  <a:pt x="16961" y="10030"/>
                  <a:pt x="16966" y="9971"/>
                </a:cubicBezTo>
                <a:cubicBezTo>
                  <a:pt x="16973" y="9889"/>
                  <a:pt x="16908" y="9878"/>
                  <a:pt x="16892" y="9823"/>
                </a:cubicBezTo>
                <a:cubicBezTo>
                  <a:pt x="16867" y="9736"/>
                  <a:pt x="16836" y="9748"/>
                  <a:pt x="16743" y="9748"/>
                </a:cubicBezTo>
              </a:path>
              <a:path w="7442" h="1563">
                <a:moveTo>
                  <a:pt x="17239" y="9798"/>
                </a:moveTo>
                <a:cubicBezTo>
                  <a:pt x="17239" y="10007"/>
                  <a:pt x="17243" y="10214"/>
                  <a:pt x="17214" y="10418"/>
                </a:cubicBezTo>
                <a:cubicBezTo>
                  <a:pt x="17206" y="10471"/>
                  <a:pt x="17197" y="10545"/>
                  <a:pt x="17214" y="10443"/>
                </a:cubicBezTo>
              </a:path>
              <a:path w="7442" h="1563">
                <a:moveTo>
                  <a:pt x="17090" y="9748"/>
                </a:moveTo>
                <a:cubicBezTo>
                  <a:pt x="17126" y="9721"/>
                  <a:pt x="17193" y="9705"/>
                  <a:pt x="17239" y="9699"/>
                </a:cubicBezTo>
                <a:cubicBezTo>
                  <a:pt x="17335" y="9687"/>
                  <a:pt x="17378" y="9715"/>
                  <a:pt x="17462" y="9748"/>
                </a:cubicBezTo>
                <a:cubicBezTo>
                  <a:pt x="17551" y="9783"/>
                  <a:pt x="17583" y="9839"/>
                  <a:pt x="17636" y="9922"/>
                </a:cubicBezTo>
                <a:cubicBezTo>
                  <a:pt x="17669" y="9974"/>
                  <a:pt x="17677" y="10027"/>
                  <a:pt x="17636" y="10071"/>
                </a:cubicBezTo>
                <a:cubicBezTo>
                  <a:pt x="17573" y="10139"/>
                  <a:pt x="17505" y="10166"/>
                  <a:pt x="17413" y="10170"/>
                </a:cubicBezTo>
                <a:cubicBezTo>
                  <a:pt x="17312" y="10174"/>
                  <a:pt x="17265" y="10183"/>
                  <a:pt x="17190" y="10120"/>
                </a:cubicBezTo>
                <a:cubicBezTo>
                  <a:pt x="17182" y="10112"/>
                  <a:pt x="17173" y="10104"/>
                  <a:pt x="17165" y="10096"/>
                </a:cubicBezTo>
              </a:path>
              <a:path w="7442" h="1563">
                <a:moveTo>
                  <a:pt x="17909" y="9897"/>
                </a:moveTo>
                <a:cubicBezTo>
                  <a:pt x="17962" y="9886"/>
                  <a:pt x="18006" y="9860"/>
                  <a:pt x="18058" y="9847"/>
                </a:cubicBezTo>
                <a:cubicBezTo>
                  <a:pt x="18104" y="9836"/>
                  <a:pt x="18138" y="9812"/>
                  <a:pt x="18157" y="9773"/>
                </a:cubicBezTo>
                <a:cubicBezTo>
                  <a:pt x="18188" y="9711"/>
                  <a:pt x="18141" y="9686"/>
                  <a:pt x="18083" y="9649"/>
                </a:cubicBezTo>
                <a:cubicBezTo>
                  <a:pt x="18027" y="9612"/>
                  <a:pt x="17966" y="9614"/>
                  <a:pt x="17909" y="9649"/>
                </a:cubicBezTo>
                <a:cubicBezTo>
                  <a:pt x="17842" y="9690"/>
                  <a:pt x="17827" y="9736"/>
                  <a:pt x="17810" y="9798"/>
                </a:cubicBezTo>
                <a:cubicBezTo>
                  <a:pt x="17789" y="9875"/>
                  <a:pt x="17761" y="9937"/>
                  <a:pt x="17835" y="9996"/>
                </a:cubicBezTo>
                <a:cubicBezTo>
                  <a:pt x="17925" y="10067"/>
                  <a:pt x="18017" y="10092"/>
                  <a:pt x="18132" y="10071"/>
                </a:cubicBezTo>
                <a:cubicBezTo>
                  <a:pt x="18212" y="10057"/>
                  <a:pt x="18312" y="10049"/>
                  <a:pt x="18380" y="9996"/>
                </a:cubicBezTo>
                <a:cubicBezTo>
                  <a:pt x="18397" y="9980"/>
                  <a:pt x="18413" y="9963"/>
                  <a:pt x="18430" y="9947"/>
                </a:cubicBezTo>
              </a:path>
              <a:path w="7442" h="1563">
                <a:moveTo>
                  <a:pt x="18479" y="9624"/>
                </a:moveTo>
                <a:cubicBezTo>
                  <a:pt x="18479" y="9684"/>
                  <a:pt x="18489" y="9723"/>
                  <a:pt x="18504" y="9773"/>
                </a:cubicBezTo>
                <a:cubicBezTo>
                  <a:pt x="18519" y="9821"/>
                  <a:pt x="18522" y="9873"/>
                  <a:pt x="18529" y="9922"/>
                </a:cubicBezTo>
                <a:cubicBezTo>
                  <a:pt x="18534" y="9878"/>
                  <a:pt x="18537" y="9789"/>
                  <a:pt x="18554" y="9748"/>
                </a:cubicBezTo>
                <a:cubicBezTo>
                  <a:pt x="18565" y="9722"/>
                  <a:pt x="18659" y="9635"/>
                  <a:pt x="18678" y="9624"/>
                </a:cubicBezTo>
                <a:cubicBezTo>
                  <a:pt x="18719" y="9600"/>
                  <a:pt x="18819" y="9620"/>
                  <a:pt x="18852" y="9649"/>
                </a:cubicBezTo>
                <a:cubicBezTo>
                  <a:pt x="18916" y="9705"/>
                  <a:pt x="18901" y="9746"/>
                  <a:pt x="18901" y="9823"/>
                </a:cubicBezTo>
                <a:cubicBezTo>
                  <a:pt x="18901" y="9875"/>
                  <a:pt x="18876" y="9990"/>
                  <a:pt x="18926" y="10021"/>
                </a:cubicBezTo>
                <a:cubicBezTo>
                  <a:pt x="18966" y="10021"/>
                  <a:pt x="18985" y="10010"/>
                  <a:pt x="19000" y="9971"/>
                </a:cubicBezTo>
              </a:path>
              <a:path w="7442" h="1563">
                <a:moveTo>
                  <a:pt x="19248" y="9178"/>
                </a:moveTo>
                <a:cubicBezTo>
                  <a:pt x="19248" y="9260"/>
                  <a:pt x="19260" y="9325"/>
                  <a:pt x="19273" y="9401"/>
                </a:cubicBezTo>
                <a:cubicBezTo>
                  <a:pt x="19286" y="9479"/>
                  <a:pt x="19295" y="9570"/>
                  <a:pt x="19298" y="9649"/>
                </a:cubicBezTo>
                <a:cubicBezTo>
                  <a:pt x="19302" y="9743"/>
                  <a:pt x="19288" y="9812"/>
                  <a:pt x="19273" y="9897"/>
                </a:cubicBezTo>
                <a:cubicBezTo>
                  <a:pt x="19260" y="9973"/>
                  <a:pt x="19288" y="9956"/>
                  <a:pt x="19298" y="9897"/>
                </a:cubicBezTo>
              </a:path>
              <a:path w="7442" h="1563">
                <a:moveTo>
                  <a:pt x="19025" y="9624"/>
                </a:moveTo>
                <a:cubicBezTo>
                  <a:pt x="19137" y="9624"/>
                  <a:pt x="19239" y="9614"/>
                  <a:pt x="19348" y="9599"/>
                </a:cubicBezTo>
                <a:cubicBezTo>
                  <a:pt x="19424" y="9589"/>
                  <a:pt x="19493" y="9575"/>
                  <a:pt x="19571" y="9575"/>
                </a:cubicBezTo>
                <a:cubicBezTo>
                  <a:pt x="19588" y="9575"/>
                  <a:pt x="19604" y="9575"/>
                  <a:pt x="19621" y="9575"/>
                </a:cubicBezTo>
              </a:path>
              <a:path w="7442" h="1563">
                <a:moveTo>
                  <a:pt x="19918" y="9599"/>
                </a:moveTo>
                <a:cubicBezTo>
                  <a:pt x="19891" y="9559"/>
                  <a:pt x="19857" y="9519"/>
                  <a:pt x="19794" y="9550"/>
                </a:cubicBezTo>
                <a:cubicBezTo>
                  <a:pt x="19735" y="9580"/>
                  <a:pt x="19713" y="9628"/>
                  <a:pt x="19670" y="9674"/>
                </a:cubicBezTo>
                <a:cubicBezTo>
                  <a:pt x="19619" y="9729"/>
                  <a:pt x="19604" y="9797"/>
                  <a:pt x="19596" y="9872"/>
                </a:cubicBezTo>
                <a:cubicBezTo>
                  <a:pt x="19596" y="9905"/>
                  <a:pt x="19596" y="9922"/>
                  <a:pt x="19596" y="9947"/>
                </a:cubicBezTo>
                <a:cubicBezTo>
                  <a:pt x="19664" y="9969"/>
                  <a:pt x="19734" y="9995"/>
                  <a:pt x="19794" y="9947"/>
                </a:cubicBezTo>
                <a:cubicBezTo>
                  <a:pt x="19865" y="9891"/>
                  <a:pt x="19878" y="9857"/>
                  <a:pt x="19918" y="9773"/>
                </a:cubicBezTo>
                <a:cubicBezTo>
                  <a:pt x="19945" y="9715"/>
                  <a:pt x="19960" y="9686"/>
                  <a:pt x="19968" y="9624"/>
                </a:cubicBezTo>
                <a:cubicBezTo>
                  <a:pt x="19961" y="9673"/>
                  <a:pt x="19927" y="9719"/>
                  <a:pt x="19943" y="9773"/>
                </a:cubicBezTo>
                <a:cubicBezTo>
                  <a:pt x="19964" y="9845"/>
                  <a:pt x="19994" y="9882"/>
                  <a:pt x="20042" y="9922"/>
                </a:cubicBezTo>
                <a:cubicBezTo>
                  <a:pt x="20116" y="9983"/>
                  <a:pt x="20145" y="9927"/>
                  <a:pt x="20191" y="9872"/>
                </a:cubicBezTo>
                <a:cubicBezTo>
                  <a:pt x="20199" y="9864"/>
                  <a:pt x="20208" y="9855"/>
                  <a:pt x="20216" y="9847"/>
                </a:cubicBezTo>
              </a:path>
              <a:path w="7442" h="1563">
                <a:moveTo>
                  <a:pt x="20315" y="9599"/>
                </a:moveTo>
                <a:cubicBezTo>
                  <a:pt x="20324" y="9646"/>
                  <a:pt x="20362" y="9680"/>
                  <a:pt x="20365" y="9723"/>
                </a:cubicBezTo>
                <a:cubicBezTo>
                  <a:pt x="20370" y="9787"/>
                  <a:pt x="20371" y="9846"/>
                  <a:pt x="20340" y="9897"/>
                </a:cubicBezTo>
                <a:cubicBezTo>
                  <a:pt x="20340" y="9944"/>
                  <a:pt x="20374" y="9823"/>
                  <a:pt x="20389" y="9798"/>
                </a:cubicBezTo>
                <a:cubicBezTo>
                  <a:pt x="20427" y="9733"/>
                  <a:pt x="20426" y="9661"/>
                  <a:pt x="20464" y="9599"/>
                </a:cubicBezTo>
                <a:cubicBezTo>
                  <a:pt x="20490" y="9556"/>
                  <a:pt x="20540" y="9494"/>
                  <a:pt x="20588" y="9475"/>
                </a:cubicBezTo>
                <a:cubicBezTo>
                  <a:pt x="20640" y="9454"/>
                  <a:pt x="20709" y="9548"/>
                  <a:pt x="20737" y="9575"/>
                </a:cubicBezTo>
                <a:cubicBezTo>
                  <a:pt x="20783" y="9621"/>
                  <a:pt x="20807" y="9633"/>
                  <a:pt x="20811" y="9699"/>
                </a:cubicBezTo>
                <a:cubicBezTo>
                  <a:pt x="20815" y="9764"/>
                  <a:pt x="20811" y="9832"/>
                  <a:pt x="20811" y="9897"/>
                </a:cubicBezTo>
              </a:path>
              <a:path w="7442" h="1563">
                <a:moveTo>
                  <a:pt x="21183" y="9674"/>
                </a:moveTo>
                <a:cubicBezTo>
                  <a:pt x="21256" y="9674"/>
                  <a:pt x="21322" y="9682"/>
                  <a:pt x="21382" y="9649"/>
                </a:cubicBezTo>
                <a:cubicBezTo>
                  <a:pt x="21441" y="9617"/>
                  <a:pt x="21500" y="9570"/>
                  <a:pt x="21431" y="9500"/>
                </a:cubicBezTo>
                <a:cubicBezTo>
                  <a:pt x="21377" y="9445"/>
                  <a:pt x="21284" y="9473"/>
                  <a:pt x="21233" y="9500"/>
                </a:cubicBezTo>
                <a:cubicBezTo>
                  <a:pt x="21153" y="9543"/>
                  <a:pt x="21119" y="9561"/>
                  <a:pt x="21084" y="9649"/>
                </a:cubicBezTo>
                <a:cubicBezTo>
                  <a:pt x="21054" y="9724"/>
                  <a:pt x="21059" y="9768"/>
                  <a:pt x="21059" y="9847"/>
                </a:cubicBezTo>
                <a:cubicBezTo>
                  <a:pt x="21059" y="9868"/>
                  <a:pt x="21131" y="9952"/>
                  <a:pt x="21158" y="9971"/>
                </a:cubicBezTo>
                <a:cubicBezTo>
                  <a:pt x="21236" y="10026"/>
                  <a:pt x="21339" y="10038"/>
                  <a:pt x="21431" y="10021"/>
                </a:cubicBezTo>
                <a:cubicBezTo>
                  <a:pt x="21468" y="10014"/>
                  <a:pt x="21688" y="9944"/>
                  <a:pt x="21704" y="9922"/>
                </a:cubicBezTo>
                <a:cubicBezTo>
                  <a:pt x="21704" y="9905"/>
                  <a:pt x="21704" y="9889"/>
                  <a:pt x="21704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4960" y="3894120"/>
            <a:ext cx="635040" cy="330120"/>
          </a:xfrm>
          <a:custGeom>
            <a:avLst/>
            <a:gdLst/>
            <a:ahLst/>
            <a:rect l="l" t="t" r="r" b="b"/>
            <a:pathLst>
              <a:path w="1762" h="919">
                <a:moveTo>
                  <a:pt x="1761" y="10914"/>
                </a:moveTo>
                <a:cubicBezTo>
                  <a:pt x="1707" y="10914"/>
                  <a:pt x="1651" y="10919"/>
                  <a:pt x="1612" y="10964"/>
                </a:cubicBezTo>
                <a:cubicBezTo>
                  <a:pt x="1544" y="11043"/>
                  <a:pt x="1535" y="11122"/>
                  <a:pt x="1513" y="11212"/>
                </a:cubicBezTo>
                <a:cubicBezTo>
                  <a:pt x="1488" y="11316"/>
                  <a:pt x="1471" y="11405"/>
                  <a:pt x="1513" y="11509"/>
                </a:cubicBezTo>
                <a:cubicBezTo>
                  <a:pt x="1572" y="11655"/>
                  <a:pt x="1564" y="11658"/>
                  <a:pt x="1712" y="11708"/>
                </a:cubicBezTo>
                <a:cubicBezTo>
                  <a:pt x="1851" y="11755"/>
                  <a:pt x="1902" y="11682"/>
                  <a:pt x="2009" y="11609"/>
                </a:cubicBezTo>
                <a:cubicBezTo>
                  <a:pt x="2110" y="11540"/>
                  <a:pt x="2149" y="11488"/>
                  <a:pt x="2158" y="11361"/>
                </a:cubicBezTo>
                <a:cubicBezTo>
                  <a:pt x="2167" y="11237"/>
                  <a:pt x="2094" y="11185"/>
                  <a:pt x="2059" y="11088"/>
                </a:cubicBezTo>
                <a:cubicBezTo>
                  <a:pt x="2036" y="11026"/>
                  <a:pt x="1938" y="11012"/>
                  <a:pt x="1984" y="10964"/>
                </a:cubicBezTo>
              </a:path>
              <a:path w="1762" h="919">
                <a:moveTo>
                  <a:pt x="2555" y="11187"/>
                </a:moveTo>
                <a:cubicBezTo>
                  <a:pt x="2555" y="11328"/>
                  <a:pt x="2555" y="11468"/>
                  <a:pt x="2555" y="11609"/>
                </a:cubicBezTo>
                <a:cubicBezTo>
                  <a:pt x="2544" y="11566"/>
                  <a:pt x="2548" y="11575"/>
                  <a:pt x="2530" y="11534"/>
                </a:cubicBezTo>
                <a:cubicBezTo>
                  <a:pt x="2506" y="11479"/>
                  <a:pt x="2505" y="11444"/>
                  <a:pt x="2505" y="11385"/>
                </a:cubicBezTo>
                <a:cubicBezTo>
                  <a:pt x="2505" y="11251"/>
                  <a:pt x="2476" y="11086"/>
                  <a:pt x="2530" y="10964"/>
                </a:cubicBezTo>
                <a:cubicBezTo>
                  <a:pt x="2570" y="10874"/>
                  <a:pt x="2600" y="10887"/>
                  <a:pt x="2679" y="10840"/>
                </a:cubicBezTo>
                <a:cubicBezTo>
                  <a:pt x="2735" y="10807"/>
                  <a:pt x="2790" y="10802"/>
                  <a:pt x="2853" y="10840"/>
                </a:cubicBezTo>
                <a:cubicBezTo>
                  <a:pt x="2927" y="10885"/>
                  <a:pt x="2891" y="10917"/>
                  <a:pt x="2877" y="10988"/>
                </a:cubicBezTo>
                <a:cubicBezTo>
                  <a:pt x="2866" y="11045"/>
                  <a:pt x="2837" y="11112"/>
                  <a:pt x="2803" y="11162"/>
                </a:cubicBezTo>
                <a:cubicBezTo>
                  <a:pt x="2770" y="11209"/>
                  <a:pt x="2724" y="11277"/>
                  <a:pt x="2679" y="11311"/>
                </a:cubicBezTo>
                <a:cubicBezTo>
                  <a:pt x="2662" y="11319"/>
                  <a:pt x="2646" y="11328"/>
                  <a:pt x="2629" y="11336"/>
                </a:cubicBezTo>
                <a:cubicBezTo>
                  <a:pt x="2701" y="11336"/>
                  <a:pt x="2754" y="11318"/>
                  <a:pt x="2803" y="11385"/>
                </a:cubicBezTo>
                <a:cubicBezTo>
                  <a:pt x="2829" y="11420"/>
                  <a:pt x="2830" y="11531"/>
                  <a:pt x="2853" y="11559"/>
                </a:cubicBezTo>
                <a:cubicBezTo>
                  <a:pt x="2880" y="11591"/>
                  <a:pt x="2927" y="11691"/>
                  <a:pt x="2977" y="11708"/>
                </a:cubicBezTo>
                <a:cubicBezTo>
                  <a:pt x="3020" y="11722"/>
                  <a:pt x="3101" y="11744"/>
                  <a:pt x="3150" y="11733"/>
                </a:cubicBezTo>
                <a:cubicBezTo>
                  <a:pt x="3280" y="11703"/>
                  <a:pt x="3209" y="11729"/>
                  <a:pt x="3249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7760" y="4054320"/>
            <a:ext cx="19080" cy="303480"/>
          </a:xfrm>
          <a:custGeom>
            <a:avLst/>
            <a:gdLst/>
            <a:ahLst/>
            <a:rect l="l" t="t" r="r" b="b"/>
            <a:pathLst>
              <a:path w="50" h="845">
                <a:moveTo>
                  <a:pt x="4266" y="11261"/>
                </a:moveTo>
                <a:cubicBezTo>
                  <a:pt x="4266" y="11438"/>
                  <a:pt x="4260" y="11610"/>
                  <a:pt x="4242" y="11782"/>
                </a:cubicBezTo>
                <a:cubicBezTo>
                  <a:pt x="4231" y="11889"/>
                  <a:pt x="4242" y="11979"/>
                  <a:pt x="4217" y="12080"/>
                </a:cubicBezTo>
                <a:cubicBezTo>
                  <a:pt x="4208" y="12114"/>
                  <a:pt x="4247" y="12085"/>
                  <a:pt x="4266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77960" y="4214880"/>
            <a:ext cx="127080" cy="9360"/>
          </a:xfrm>
          <a:custGeom>
            <a:avLst/>
            <a:gdLst/>
            <a:ahLst/>
            <a:rect l="l" t="t" r="r" b="b"/>
            <a:pathLst>
              <a:path w="349" h="26">
                <a:moveTo>
                  <a:pt x="4663" y="11733"/>
                </a:moveTo>
                <a:cubicBezTo>
                  <a:pt x="4703" y="11709"/>
                  <a:pt x="4784" y="11690"/>
                  <a:pt x="4837" y="11708"/>
                </a:cubicBezTo>
                <a:cubicBezTo>
                  <a:pt x="4880" y="11722"/>
                  <a:pt x="4928" y="11755"/>
                  <a:pt x="4986" y="11733"/>
                </a:cubicBezTo>
                <a:cubicBezTo>
                  <a:pt x="4994" y="11725"/>
                  <a:pt x="5003" y="11716"/>
                  <a:pt x="5011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73160" y="4000680"/>
            <a:ext cx="1125720" cy="349200"/>
          </a:xfrm>
          <a:custGeom>
            <a:avLst/>
            <a:gdLst/>
            <a:ahLst/>
            <a:rect l="l" t="t" r="r" b="b"/>
            <a:pathLst>
              <a:path w="3126" h="969">
                <a:moveTo>
                  <a:pt x="5755" y="11559"/>
                </a:moveTo>
                <a:cubicBezTo>
                  <a:pt x="5698" y="11503"/>
                  <a:pt x="5663" y="11451"/>
                  <a:pt x="5581" y="11509"/>
                </a:cubicBezTo>
                <a:cubicBezTo>
                  <a:pt x="5516" y="11555"/>
                  <a:pt x="5486" y="11633"/>
                  <a:pt x="5482" y="11708"/>
                </a:cubicBezTo>
                <a:cubicBezTo>
                  <a:pt x="5475" y="11827"/>
                  <a:pt x="5508" y="11861"/>
                  <a:pt x="5556" y="11956"/>
                </a:cubicBezTo>
                <a:cubicBezTo>
                  <a:pt x="5620" y="12085"/>
                  <a:pt x="5680" y="12075"/>
                  <a:pt x="5829" y="12080"/>
                </a:cubicBezTo>
                <a:cubicBezTo>
                  <a:pt x="5935" y="12083"/>
                  <a:pt x="5993" y="12012"/>
                  <a:pt x="6052" y="11931"/>
                </a:cubicBezTo>
                <a:cubicBezTo>
                  <a:pt x="6069" y="11906"/>
                  <a:pt x="6085" y="11882"/>
                  <a:pt x="6102" y="11857"/>
                </a:cubicBezTo>
              </a:path>
              <a:path w="3126" h="969">
                <a:moveTo>
                  <a:pt x="6102" y="11112"/>
                </a:moveTo>
                <a:cubicBezTo>
                  <a:pt x="6084" y="11196"/>
                  <a:pt x="6060" y="11297"/>
                  <a:pt x="6077" y="11385"/>
                </a:cubicBezTo>
                <a:cubicBezTo>
                  <a:pt x="6096" y="11484"/>
                  <a:pt x="6084" y="11585"/>
                  <a:pt x="6102" y="11683"/>
                </a:cubicBezTo>
                <a:cubicBezTo>
                  <a:pt x="6117" y="11762"/>
                  <a:pt x="6152" y="11801"/>
                  <a:pt x="6152" y="11881"/>
                </a:cubicBezTo>
                <a:cubicBezTo>
                  <a:pt x="6168" y="11805"/>
                  <a:pt x="6156" y="11705"/>
                  <a:pt x="6176" y="11633"/>
                </a:cubicBezTo>
                <a:cubicBezTo>
                  <a:pt x="6199" y="11549"/>
                  <a:pt x="6222" y="11534"/>
                  <a:pt x="6300" y="11534"/>
                </a:cubicBezTo>
                <a:cubicBezTo>
                  <a:pt x="6340" y="11534"/>
                  <a:pt x="6418" y="11596"/>
                  <a:pt x="6449" y="11633"/>
                </a:cubicBezTo>
                <a:cubicBezTo>
                  <a:pt x="6492" y="11683"/>
                  <a:pt x="6531" y="11722"/>
                  <a:pt x="6548" y="11782"/>
                </a:cubicBezTo>
                <a:cubicBezTo>
                  <a:pt x="6558" y="11818"/>
                  <a:pt x="6538" y="11902"/>
                  <a:pt x="6524" y="11931"/>
                </a:cubicBezTo>
                <a:cubicBezTo>
                  <a:pt x="6524" y="11903"/>
                  <a:pt x="6526" y="11892"/>
                  <a:pt x="6548" y="11881"/>
                </a:cubicBezTo>
              </a:path>
              <a:path w="3126" h="969">
                <a:moveTo>
                  <a:pt x="6871" y="11137"/>
                </a:moveTo>
                <a:cubicBezTo>
                  <a:pt x="6879" y="11273"/>
                  <a:pt x="6896" y="11396"/>
                  <a:pt x="6896" y="11534"/>
                </a:cubicBezTo>
                <a:cubicBezTo>
                  <a:pt x="6896" y="11671"/>
                  <a:pt x="6901" y="11802"/>
                  <a:pt x="6871" y="11931"/>
                </a:cubicBezTo>
                <a:cubicBezTo>
                  <a:pt x="6856" y="11996"/>
                  <a:pt x="6868" y="11968"/>
                  <a:pt x="6896" y="11931"/>
                </a:cubicBezTo>
              </a:path>
              <a:path w="3126" h="969">
                <a:moveTo>
                  <a:pt x="7317" y="11609"/>
                </a:moveTo>
                <a:cubicBezTo>
                  <a:pt x="7301" y="11592"/>
                  <a:pt x="7284" y="11576"/>
                  <a:pt x="7268" y="11559"/>
                </a:cubicBezTo>
                <a:cubicBezTo>
                  <a:pt x="7215" y="11590"/>
                  <a:pt x="7111" y="11648"/>
                  <a:pt x="7094" y="11708"/>
                </a:cubicBezTo>
                <a:cubicBezTo>
                  <a:pt x="7089" y="11724"/>
                  <a:pt x="7050" y="11883"/>
                  <a:pt x="7069" y="11906"/>
                </a:cubicBezTo>
                <a:cubicBezTo>
                  <a:pt x="7124" y="11971"/>
                  <a:pt x="7198" y="11958"/>
                  <a:pt x="7268" y="11931"/>
                </a:cubicBezTo>
                <a:cubicBezTo>
                  <a:pt x="7351" y="11899"/>
                  <a:pt x="7421" y="11883"/>
                  <a:pt x="7466" y="11807"/>
                </a:cubicBezTo>
                <a:cubicBezTo>
                  <a:pt x="7513" y="11726"/>
                  <a:pt x="7476" y="11696"/>
                  <a:pt x="7417" y="11633"/>
                </a:cubicBezTo>
                <a:cubicBezTo>
                  <a:pt x="7386" y="11599"/>
                  <a:pt x="7360" y="11609"/>
                  <a:pt x="7317" y="11609"/>
                </a:cubicBezTo>
              </a:path>
              <a:path w="3126" h="969">
                <a:moveTo>
                  <a:pt x="7665" y="11559"/>
                </a:moveTo>
                <a:cubicBezTo>
                  <a:pt x="7665" y="11631"/>
                  <a:pt x="7706" y="11647"/>
                  <a:pt x="7714" y="11708"/>
                </a:cubicBezTo>
                <a:cubicBezTo>
                  <a:pt x="7721" y="11761"/>
                  <a:pt x="7739" y="11803"/>
                  <a:pt x="7739" y="11857"/>
                </a:cubicBezTo>
                <a:cubicBezTo>
                  <a:pt x="7739" y="11890"/>
                  <a:pt x="7739" y="11906"/>
                  <a:pt x="7739" y="11931"/>
                </a:cubicBezTo>
                <a:cubicBezTo>
                  <a:pt x="7720" y="11889"/>
                  <a:pt x="7632" y="11784"/>
                  <a:pt x="7665" y="11733"/>
                </a:cubicBezTo>
                <a:cubicBezTo>
                  <a:pt x="7691" y="11693"/>
                  <a:pt x="7794" y="11597"/>
                  <a:pt x="7838" y="11584"/>
                </a:cubicBezTo>
                <a:cubicBezTo>
                  <a:pt x="7885" y="11570"/>
                  <a:pt x="7925" y="11545"/>
                  <a:pt x="7938" y="11584"/>
                </a:cubicBezTo>
              </a:path>
              <a:path w="3126" h="969">
                <a:moveTo>
                  <a:pt x="8508" y="11559"/>
                </a:moveTo>
                <a:cubicBezTo>
                  <a:pt x="8457" y="11528"/>
                  <a:pt x="8421" y="11493"/>
                  <a:pt x="8359" y="11509"/>
                </a:cubicBezTo>
                <a:cubicBezTo>
                  <a:pt x="8298" y="11525"/>
                  <a:pt x="8195" y="11576"/>
                  <a:pt x="8161" y="11633"/>
                </a:cubicBezTo>
                <a:cubicBezTo>
                  <a:pt x="8125" y="11694"/>
                  <a:pt x="8136" y="11766"/>
                  <a:pt x="8136" y="11832"/>
                </a:cubicBezTo>
                <a:cubicBezTo>
                  <a:pt x="8136" y="11887"/>
                  <a:pt x="8202" y="11924"/>
                  <a:pt x="8260" y="11931"/>
                </a:cubicBezTo>
                <a:cubicBezTo>
                  <a:pt x="8309" y="11937"/>
                  <a:pt x="8446" y="11918"/>
                  <a:pt x="8483" y="11881"/>
                </a:cubicBezTo>
                <a:cubicBezTo>
                  <a:pt x="8509" y="11855"/>
                  <a:pt x="8595" y="11825"/>
                  <a:pt x="8607" y="11782"/>
                </a:cubicBezTo>
                <a:cubicBezTo>
                  <a:pt x="8634" y="11687"/>
                  <a:pt x="8543" y="11682"/>
                  <a:pt x="8483" y="11633"/>
                </a:cubicBezTo>
                <a:cubicBezTo>
                  <a:pt x="8467" y="11617"/>
                  <a:pt x="8450" y="11600"/>
                  <a:pt x="8434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86080" y="4027320"/>
            <a:ext cx="544680" cy="268560"/>
          </a:xfrm>
          <a:custGeom>
            <a:avLst/>
            <a:gdLst/>
            <a:ahLst/>
            <a:rect l="l" t="t" r="r" b="b"/>
            <a:pathLst>
              <a:path w="1514" h="745">
                <a:moveTo>
                  <a:pt x="9128" y="11633"/>
                </a:moveTo>
                <a:cubicBezTo>
                  <a:pt x="9211" y="11633"/>
                  <a:pt x="9201" y="11658"/>
                  <a:pt x="9277" y="11683"/>
                </a:cubicBezTo>
                <a:cubicBezTo>
                  <a:pt x="9305" y="11692"/>
                  <a:pt x="9387" y="11658"/>
                  <a:pt x="9426" y="11658"/>
                </a:cubicBezTo>
              </a:path>
              <a:path w="1514" h="745">
                <a:moveTo>
                  <a:pt x="9773" y="11187"/>
                </a:moveTo>
                <a:cubicBezTo>
                  <a:pt x="9818" y="11187"/>
                  <a:pt x="10016" y="11157"/>
                  <a:pt x="10046" y="11212"/>
                </a:cubicBezTo>
                <a:cubicBezTo>
                  <a:pt x="10095" y="11301"/>
                  <a:pt x="10003" y="11326"/>
                  <a:pt x="9971" y="11361"/>
                </a:cubicBezTo>
                <a:cubicBezTo>
                  <a:pt x="9931" y="11404"/>
                  <a:pt x="9892" y="11440"/>
                  <a:pt x="9847" y="11485"/>
                </a:cubicBezTo>
                <a:cubicBezTo>
                  <a:pt x="9890" y="11516"/>
                  <a:pt x="9960" y="11542"/>
                  <a:pt x="9996" y="11584"/>
                </a:cubicBezTo>
                <a:cubicBezTo>
                  <a:pt x="10045" y="11640"/>
                  <a:pt x="10062" y="11686"/>
                  <a:pt x="10120" y="11733"/>
                </a:cubicBezTo>
                <a:cubicBezTo>
                  <a:pt x="10171" y="11775"/>
                  <a:pt x="10208" y="11794"/>
                  <a:pt x="10170" y="11857"/>
                </a:cubicBezTo>
                <a:cubicBezTo>
                  <a:pt x="10125" y="11933"/>
                  <a:pt x="10073" y="11931"/>
                  <a:pt x="9996" y="11931"/>
                </a:cubicBezTo>
                <a:cubicBezTo>
                  <a:pt x="9954" y="11931"/>
                  <a:pt x="9777" y="11958"/>
                  <a:pt x="9748" y="11906"/>
                </a:cubicBezTo>
                <a:cubicBezTo>
                  <a:pt x="9748" y="11890"/>
                  <a:pt x="9748" y="11873"/>
                  <a:pt x="9748" y="11857"/>
                </a:cubicBezTo>
              </a:path>
              <a:path w="1514" h="745">
                <a:moveTo>
                  <a:pt x="10443" y="11534"/>
                </a:moveTo>
                <a:cubicBezTo>
                  <a:pt x="10523" y="11534"/>
                  <a:pt x="10570" y="11528"/>
                  <a:pt x="10641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10040" y="3884760"/>
            <a:ext cx="1098360" cy="366480"/>
          </a:xfrm>
          <a:custGeom>
            <a:avLst/>
            <a:gdLst/>
            <a:ahLst/>
            <a:rect l="l" t="t" r="r" b="b"/>
            <a:pathLst>
              <a:path w="3052" h="1018">
                <a:moveTo>
                  <a:pt x="11162" y="10790"/>
                </a:moveTo>
                <a:cubicBezTo>
                  <a:pt x="11135" y="10914"/>
                  <a:pt x="11151" y="10968"/>
                  <a:pt x="11162" y="11088"/>
                </a:cubicBezTo>
                <a:cubicBezTo>
                  <a:pt x="11184" y="11323"/>
                  <a:pt x="11162" y="11570"/>
                  <a:pt x="11162" y="11807"/>
                </a:cubicBezTo>
                <a:cubicBezTo>
                  <a:pt x="11162" y="11667"/>
                  <a:pt x="11135" y="11529"/>
                  <a:pt x="11212" y="11410"/>
                </a:cubicBezTo>
                <a:cubicBezTo>
                  <a:pt x="11244" y="11360"/>
                  <a:pt x="11279" y="11336"/>
                  <a:pt x="11336" y="11336"/>
                </a:cubicBezTo>
                <a:cubicBezTo>
                  <a:pt x="11378" y="11409"/>
                  <a:pt x="11364" y="11433"/>
                  <a:pt x="11385" y="11509"/>
                </a:cubicBezTo>
                <a:cubicBezTo>
                  <a:pt x="11399" y="11559"/>
                  <a:pt x="11438" y="11653"/>
                  <a:pt x="11410" y="11708"/>
                </a:cubicBezTo>
                <a:cubicBezTo>
                  <a:pt x="11372" y="11785"/>
                  <a:pt x="11311" y="11782"/>
                  <a:pt x="11237" y="11782"/>
                </a:cubicBezTo>
                <a:cubicBezTo>
                  <a:pt x="11194" y="11782"/>
                  <a:pt x="11136" y="11730"/>
                  <a:pt x="11162" y="11683"/>
                </a:cubicBezTo>
                <a:cubicBezTo>
                  <a:pt x="11170" y="11675"/>
                  <a:pt x="11179" y="11666"/>
                  <a:pt x="11187" y="11658"/>
                </a:cubicBezTo>
              </a:path>
              <a:path w="3052" h="1018">
                <a:moveTo>
                  <a:pt x="11658" y="11385"/>
                </a:moveTo>
                <a:cubicBezTo>
                  <a:pt x="11676" y="11451"/>
                  <a:pt x="11678" y="11506"/>
                  <a:pt x="11708" y="11559"/>
                </a:cubicBezTo>
                <a:cubicBezTo>
                  <a:pt x="11748" y="11628"/>
                  <a:pt x="11716" y="11655"/>
                  <a:pt x="11708" y="11733"/>
                </a:cubicBezTo>
                <a:cubicBezTo>
                  <a:pt x="11733" y="11674"/>
                  <a:pt x="11724" y="11614"/>
                  <a:pt x="11757" y="11559"/>
                </a:cubicBezTo>
                <a:cubicBezTo>
                  <a:pt x="11791" y="11504"/>
                  <a:pt x="11828" y="11425"/>
                  <a:pt x="11881" y="11385"/>
                </a:cubicBezTo>
                <a:cubicBezTo>
                  <a:pt x="11926" y="11351"/>
                  <a:pt x="11978" y="11361"/>
                  <a:pt x="12030" y="11361"/>
                </a:cubicBezTo>
                <a:cubicBezTo>
                  <a:pt x="12106" y="11361"/>
                  <a:pt x="12090" y="11362"/>
                  <a:pt x="12154" y="11410"/>
                </a:cubicBezTo>
              </a:path>
              <a:path w="3052" h="1018">
                <a:moveTo>
                  <a:pt x="12452" y="11410"/>
                </a:moveTo>
                <a:cubicBezTo>
                  <a:pt x="12470" y="11366"/>
                  <a:pt x="12449" y="11289"/>
                  <a:pt x="12378" y="11336"/>
                </a:cubicBezTo>
                <a:cubicBezTo>
                  <a:pt x="12291" y="11393"/>
                  <a:pt x="12296" y="11409"/>
                  <a:pt x="12229" y="11485"/>
                </a:cubicBezTo>
                <a:cubicBezTo>
                  <a:pt x="12206" y="11511"/>
                  <a:pt x="12134" y="11613"/>
                  <a:pt x="12179" y="11658"/>
                </a:cubicBezTo>
                <a:cubicBezTo>
                  <a:pt x="12215" y="11694"/>
                  <a:pt x="12328" y="11744"/>
                  <a:pt x="12378" y="11733"/>
                </a:cubicBezTo>
                <a:cubicBezTo>
                  <a:pt x="12429" y="11722"/>
                  <a:pt x="12483" y="11677"/>
                  <a:pt x="12526" y="11658"/>
                </a:cubicBezTo>
                <a:cubicBezTo>
                  <a:pt x="12596" y="11628"/>
                  <a:pt x="12576" y="11604"/>
                  <a:pt x="12576" y="11534"/>
                </a:cubicBezTo>
                <a:cubicBezTo>
                  <a:pt x="12576" y="11475"/>
                  <a:pt x="12576" y="11473"/>
                  <a:pt x="12526" y="11460"/>
                </a:cubicBezTo>
              </a:path>
              <a:path w="3052" h="1018">
                <a:moveTo>
                  <a:pt x="12799" y="11385"/>
                </a:moveTo>
                <a:cubicBezTo>
                  <a:pt x="12825" y="11429"/>
                  <a:pt x="12824" y="11456"/>
                  <a:pt x="12824" y="11509"/>
                </a:cubicBezTo>
                <a:cubicBezTo>
                  <a:pt x="12824" y="11580"/>
                  <a:pt x="12784" y="11730"/>
                  <a:pt x="12824" y="11658"/>
                </a:cubicBezTo>
                <a:cubicBezTo>
                  <a:pt x="12849" y="11613"/>
                  <a:pt x="12895" y="11577"/>
                  <a:pt x="12923" y="11534"/>
                </a:cubicBezTo>
                <a:cubicBezTo>
                  <a:pt x="12955" y="11484"/>
                  <a:pt x="13002" y="11432"/>
                  <a:pt x="13047" y="11410"/>
                </a:cubicBezTo>
                <a:cubicBezTo>
                  <a:pt x="13107" y="11380"/>
                  <a:pt x="13144" y="11360"/>
                  <a:pt x="13171" y="11435"/>
                </a:cubicBezTo>
                <a:cubicBezTo>
                  <a:pt x="13194" y="11500"/>
                  <a:pt x="13171" y="11614"/>
                  <a:pt x="13171" y="11683"/>
                </a:cubicBezTo>
                <a:cubicBezTo>
                  <a:pt x="13207" y="11620"/>
                  <a:pt x="13243" y="11570"/>
                  <a:pt x="13271" y="11509"/>
                </a:cubicBezTo>
                <a:cubicBezTo>
                  <a:pt x="13301" y="11446"/>
                  <a:pt x="13334" y="11414"/>
                  <a:pt x="13370" y="11361"/>
                </a:cubicBezTo>
                <a:cubicBezTo>
                  <a:pt x="13435" y="11374"/>
                  <a:pt x="13452" y="11392"/>
                  <a:pt x="13469" y="11460"/>
                </a:cubicBezTo>
                <a:cubicBezTo>
                  <a:pt x="13481" y="11510"/>
                  <a:pt x="13440" y="11652"/>
                  <a:pt x="13494" y="11658"/>
                </a:cubicBezTo>
                <a:cubicBezTo>
                  <a:pt x="13519" y="11658"/>
                  <a:pt x="13543" y="11658"/>
                  <a:pt x="13568" y="11658"/>
                </a:cubicBezTo>
              </a:path>
              <a:path w="3052" h="1018">
                <a:moveTo>
                  <a:pt x="13965" y="11336"/>
                </a:moveTo>
                <a:cubicBezTo>
                  <a:pt x="13862" y="11336"/>
                  <a:pt x="13878" y="11377"/>
                  <a:pt x="13816" y="11460"/>
                </a:cubicBezTo>
                <a:cubicBezTo>
                  <a:pt x="13782" y="11506"/>
                  <a:pt x="13748" y="11550"/>
                  <a:pt x="13742" y="11609"/>
                </a:cubicBezTo>
                <a:cubicBezTo>
                  <a:pt x="13734" y="11684"/>
                  <a:pt x="13753" y="11704"/>
                  <a:pt x="13816" y="11733"/>
                </a:cubicBezTo>
                <a:cubicBezTo>
                  <a:pt x="13896" y="11769"/>
                  <a:pt x="13909" y="11794"/>
                  <a:pt x="13990" y="11757"/>
                </a:cubicBezTo>
                <a:cubicBezTo>
                  <a:pt x="14095" y="11708"/>
                  <a:pt x="14078" y="11715"/>
                  <a:pt x="14139" y="11633"/>
                </a:cubicBezTo>
                <a:cubicBezTo>
                  <a:pt x="14183" y="11573"/>
                  <a:pt x="14210" y="11547"/>
                  <a:pt x="14188" y="11460"/>
                </a:cubicBezTo>
                <a:cubicBezTo>
                  <a:pt x="14176" y="11414"/>
                  <a:pt x="14108" y="11345"/>
                  <a:pt x="14064" y="11336"/>
                </a:cubicBezTo>
                <a:cubicBezTo>
                  <a:pt x="14016" y="11326"/>
                  <a:pt x="13941" y="11336"/>
                  <a:pt x="13891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29160" y="3840120"/>
            <a:ext cx="982800" cy="455760"/>
          </a:xfrm>
          <a:custGeom>
            <a:avLst/>
            <a:gdLst/>
            <a:ahLst/>
            <a:rect l="l" t="t" r="r" b="b"/>
            <a:pathLst>
              <a:path w="2730" h="1266">
                <a:moveTo>
                  <a:pt x="15329" y="11088"/>
                </a:moveTo>
                <a:cubicBezTo>
                  <a:pt x="15329" y="11071"/>
                  <a:pt x="15329" y="11055"/>
                  <a:pt x="15329" y="11038"/>
                </a:cubicBezTo>
                <a:cubicBezTo>
                  <a:pt x="15259" y="11038"/>
                  <a:pt x="15193" y="11038"/>
                  <a:pt x="15156" y="11063"/>
                </a:cubicBezTo>
                <a:cubicBezTo>
                  <a:pt x="15083" y="11112"/>
                  <a:pt x="15087" y="11193"/>
                  <a:pt x="15081" y="11286"/>
                </a:cubicBezTo>
                <a:cubicBezTo>
                  <a:pt x="15078" y="11331"/>
                  <a:pt x="15076" y="11415"/>
                  <a:pt x="15131" y="11435"/>
                </a:cubicBezTo>
                <a:cubicBezTo>
                  <a:pt x="15204" y="11461"/>
                  <a:pt x="15348" y="11457"/>
                  <a:pt x="15429" y="11460"/>
                </a:cubicBezTo>
                <a:cubicBezTo>
                  <a:pt x="15495" y="11460"/>
                  <a:pt x="15512" y="11460"/>
                  <a:pt x="15553" y="11460"/>
                </a:cubicBezTo>
              </a:path>
              <a:path w="2730" h="1266">
                <a:moveTo>
                  <a:pt x="15801" y="11063"/>
                </a:moveTo>
                <a:cubicBezTo>
                  <a:pt x="15819" y="11127"/>
                  <a:pt x="15801" y="11160"/>
                  <a:pt x="15801" y="11237"/>
                </a:cubicBezTo>
                <a:cubicBezTo>
                  <a:pt x="15801" y="11324"/>
                  <a:pt x="15778" y="11419"/>
                  <a:pt x="15850" y="11485"/>
                </a:cubicBezTo>
                <a:cubicBezTo>
                  <a:pt x="15858" y="11485"/>
                  <a:pt x="15867" y="11485"/>
                  <a:pt x="15875" y="11485"/>
                </a:cubicBezTo>
                <a:cubicBezTo>
                  <a:pt x="15919" y="11457"/>
                  <a:pt x="16001" y="11400"/>
                  <a:pt x="16024" y="11361"/>
                </a:cubicBezTo>
                <a:cubicBezTo>
                  <a:pt x="16069" y="11283"/>
                  <a:pt x="16049" y="11174"/>
                  <a:pt x="16049" y="11088"/>
                </a:cubicBezTo>
                <a:cubicBezTo>
                  <a:pt x="16049" y="11080"/>
                  <a:pt x="16049" y="11071"/>
                  <a:pt x="16049" y="11063"/>
                </a:cubicBezTo>
                <a:cubicBezTo>
                  <a:pt x="16090" y="11136"/>
                  <a:pt x="16090" y="11183"/>
                  <a:pt x="16123" y="11261"/>
                </a:cubicBezTo>
                <a:cubicBezTo>
                  <a:pt x="16166" y="11362"/>
                  <a:pt x="16230" y="11473"/>
                  <a:pt x="16247" y="11584"/>
                </a:cubicBezTo>
                <a:cubicBezTo>
                  <a:pt x="16259" y="11664"/>
                  <a:pt x="16266" y="11810"/>
                  <a:pt x="16222" y="11881"/>
                </a:cubicBezTo>
                <a:cubicBezTo>
                  <a:pt x="16194" y="11927"/>
                  <a:pt x="16151" y="11943"/>
                  <a:pt x="16098" y="11931"/>
                </a:cubicBezTo>
                <a:cubicBezTo>
                  <a:pt x="16011" y="11911"/>
                  <a:pt x="15952" y="11870"/>
                  <a:pt x="15925" y="11807"/>
                </a:cubicBezTo>
              </a:path>
              <a:path w="2730" h="1266">
                <a:moveTo>
                  <a:pt x="16669" y="11013"/>
                </a:moveTo>
                <a:cubicBezTo>
                  <a:pt x="16583" y="11013"/>
                  <a:pt x="16591" y="11024"/>
                  <a:pt x="16545" y="11088"/>
                </a:cubicBezTo>
                <a:cubicBezTo>
                  <a:pt x="16504" y="11146"/>
                  <a:pt x="16495" y="11190"/>
                  <a:pt x="16495" y="11261"/>
                </a:cubicBezTo>
                <a:cubicBezTo>
                  <a:pt x="16495" y="11326"/>
                  <a:pt x="16490" y="11394"/>
                  <a:pt x="16570" y="11410"/>
                </a:cubicBezTo>
                <a:cubicBezTo>
                  <a:pt x="16659" y="11428"/>
                  <a:pt x="16753" y="11452"/>
                  <a:pt x="16842" y="11410"/>
                </a:cubicBezTo>
                <a:cubicBezTo>
                  <a:pt x="16867" y="11394"/>
                  <a:pt x="16892" y="11377"/>
                  <a:pt x="16917" y="11361"/>
                </a:cubicBezTo>
              </a:path>
              <a:path w="2730" h="1266">
                <a:moveTo>
                  <a:pt x="17066" y="10666"/>
                </a:moveTo>
                <a:cubicBezTo>
                  <a:pt x="17077" y="10754"/>
                  <a:pt x="17118" y="10830"/>
                  <a:pt x="17140" y="10914"/>
                </a:cubicBezTo>
                <a:cubicBezTo>
                  <a:pt x="17163" y="11002"/>
                  <a:pt x="17165" y="11070"/>
                  <a:pt x="17165" y="11162"/>
                </a:cubicBezTo>
                <a:cubicBezTo>
                  <a:pt x="17165" y="11237"/>
                  <a:pt x="17140" y="11287"/>
                  <a:pt x="17140" y="11361"/>
                </a:cubicBezTo>
                <a:cubicBezTo>
                  <a:pt x="17140" y="11412"/>
                  <a:pt x="17142" y="11428"/>
                  <a:pt x="17190" y="11385"/>
                </a:cubicBezTo>
              </a:path>
              <a:path w="2730" h="1266">
                <a:moveTo>
                  <a:pt x="17711" y="11088"/>
                </a:moveTo>
                <a:cubicBezTo>
                  <a:pt x="17634" y="11055"/>
                  <a:pt x="17595" y="11061"/>
                  <a:pt x="17537" y="11137"/>
                </a:cubicBezTo>
                <a:cubicBezTo>
                  <a:pt x="17508" y="11174"/>
                  <a:pt x="17490" y="11266"/>
                  <a:pt x="17487" y="11311"/>
                </a:cubicBezTo>
                <a:cubicBezTo>
                  <a:pt x="17483" y="11375"/>
                  <a:pt x="17569" y="11431"/>
                  <a:pt x="17636" y="11410"/>
                </a:cubicBezTo>
                <a:cubicBezTo>
                  <a:pt x="17695" y="11392"/>
                  <a:pt x="17722" y="11341"/>
                  <a:pt x="17760" y="11311"/>
                </a:cubicBezTo>
                <a:cubicBezTo>
                  <a:pt x="17801" y="11279"/>
                  <a:pt x="17833" y="11250"/>
                  <a:pt x="17810" y="11187"/>
                </a:cubicBezTo>
                <a:cubicBezTo>
                  <a:pt x="17785" y="11118"/>
                  <a:pt x="17769" y="11078"/>
                  <a:pt x="17735" y="11013"/>
                </a:cubicBezTo>
                <a:cubicBezTo>
                  <a:pt x="17727" y="10997"/>
                  <a:pt x="17719" y="10980"/>
                  <a:pt x="17711" y="109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54880" y="3732120"/>
            <a:ext cx="1731960" cy="509760"/>
          </a:xfrm>
          <a:custGeom>
            <a:avLst/>
            <a:gdLst/>
            <a:ahLst/>
            <a:rect l="l" t="t" r="r" b="b"/>
            <a:pathLst>
              <a:path w="4813" h="1415">
                <a:moveTo>
                  <a:pt x="18331" y="11112"/>
                </a:moveTo>
                <a:cubicBezTo>
                  <a:pt x="18331" y="11281"/>
                  <a:pt x="18330" y="11444"/>
                  <a:pt x="18306" y="11609"/>
                </a:cubicBezTo>
                <a:cubicBezTo>
                  <a:pt x="18299" y="11656"/>
                  <a:pt x="18306" y="11710"/>
                  <a:pt x="18306" y="11757"/>
                </a:cubicBezTo>
                <a:cubicBezTo>
                  <a:pt x="18306" y="11835"/>
                  <a:pt x="18286" y="11674"/>
                  <a:pt x="18281" y="11658"/>
                </a:cubicBezTo>
              </a:path>
              <a:path w="4813" h="1415">
                <a:moveTo>
                  <a:pt x="18207" y="10939"/>
                </a:moveTo>
                <a:cubicBezTo>
                  <a:pt x="18222" y="10860"/>
                  <a:pt x="18246" y="10832"/>
                  <a:pt x="18331" y="10815"/>
                </a:cubicBezTo>
                <a:cubicBezTo>
                  <a:pt x="18425" y="10796"/>
                  <a:pt x="18473" y="10830"/>
                  <a:pt x="18529" y="10889"/>
                </a:cubicBezTo>
                <a:cubicBezTo>
                  <a:pt x="18617" y="10981"/>
                  <a:pt x="18684" y="11067"/>
                  <a:pt x="18728" y="11187"/>
                </a:cubicBezTo>
                <a:cubicBezTo>
                  <a:pt x="18765" y="11289"/>
                  <a:pt x="18750" y="11307"/>
                  <a:pt x="18678" y="11385"/>
                </a:cubicBezTo>
                <a:cubicBezTo>
                  <a:pt x="18648" y="11417"/>
                  <a:pt x="18595" y="11457"/>
                  <a:pt x="18554" y="11460"/>
                </a:cubicBezTo>
                <a:cubicBezTo>
                  <a:pt x="18483" y="11465"/>
                  <a:pt x="18451" y="11431"/>
                  <a:pt x="18405" y="11385"/>
                </a:cubicBezTo>
              </a:path>
              <a:path w="4813" h="1415">
                <a:moveTo>
                  <a:pt x="19174" y="11137"/>
                </a:moveTo>
                <a:cubicBezTo>
                  <a:pt x="19253" y="11137"/>
                  <a:pt x="19260" y="11134"/>
                  <a:pt x="19298" y="11063"/>
                </a:cubicBezTo>
                <a:cubicBezTo>
                  <a:pt x="19344" y="10978"/>
                  <a:pt x="19370" y="10993"/>
                  <a:pt x="19298" y="10914"/>
                </a:cubicBezTo>
                <a:cubicBezTo>
                  <a:pt x="19233" y="10844"/>
                  <a:pt x="19192" y="10907"/>
                  <a:pt x="19149" y="10939"/>
                </a:cubicBezTo>
                <a:cubicBezTo>
                  <a:pt x="19064" y="11002"/>
                  <a:pt x="19051" y="11040"/>
                  <a:pt x="19025" y="11137"/>
                </a:cubicBezTo>
                <a:cubicBezTo>
                  <a:pt x="19005" y="11210"/>
                  <a:pt x="18974" y="11291"/>
                  <a:pt x="19025" y="11361"/>
                </a:cubicBezTo>
                <a:cubicBezTo>
                  <a:pt x="19085" y="11444"/>
                  <a:pt x="19205" y="11450"/>
                  <a:pt x="19298" y="11435"/>
                </a:cubicBezTo>
                <a:cubicBezTo>
                  <a:pt x="19390" y="11412"/>
                  <a:pt x="19415" y="11406"/>
                  <a:pt x="19472" y="11385"/>
                </a:cubicBezTo>
              </a:path>
              <a:path w="4813" h="1415">
                <a:moveTo>
                  <a:pt x="19670" y="10939"/>
                </a:moveTo>
                <a:cubicBezTo>
                  <a:pt x="19670" y="11010"/>
                  <a:pt x="19691" y="11049"/>
                  <a:pt x="19695" y="11112"/>
                </a:cubicBezTo>
                <a:cubicBezTo>
                  <a:pt x="19698" y="11165"/>
                  <a:pt x="19662" y="11330"/>
                  <a:pt x="19695" y="11237"/>
                </a:cubicBezTo>
                <a:cubicBezTo>
                  <a:pt x="19716" y="11179"/>
                  <a:pt x="19713" y="11115"/>
                  <a:pt x="19745" y="11063"/>
                </a:cubicBezTo>
                <a:cubicBezTo>
                  <a:pt x="19793" y="10983"/>
                  <a:pt x="19798" y="10988"/>
                  <a:pt x="19893" y="10988"/>
                </a:cubicBezTo>
                <a:cubicBezTo>
                  <a:pt x="19951" y="10988"/>
                  <a:pt x="19975" y="11078"/>
                  <a:pt x="19993" y="11112"/>
                </a:cubicBezTo>
                <a:cubicBezTo>
                  <a:pt x="20036" y="11191"/>
                  <a:pt x="20074" y="11240"/>
                  <a:pt x="20117" y="11311"/>
                </a:cubicBezTo>
                <a:cubicBezTo>
                  <a:pt x="20137" y="11352"/>
                  <a:pt x="20145" y="11379"/>
                  <a:pt x="20141" y="11336"/>
                </a:cubicBezTo>
              </a:path>
              <a:path w="4813" h="1415">
                <a:moveTo>
                  <a:pt x="20489" y="10368"/>
                </a:moveTo>
                <a:cubicBezTo>
                  <a:pt x="20489" y="10464"/>
                  <a:pt x="20486" y="10548"/>
                  <a:pt x="20513" y="10641"/>
                </a:cubicBezTo>
                <a:cubicBezTo>
                  <a:pt x="20547" y="10757"/>
                  <a:pt x="20563" y="10841"/>
                  <a:pt x="20563" y="10964"/>
                </a:cubicBezTo>
                <a:cubicBezTo>
                  <a:pt x="20563" y="11047"/>
                  <a:pt x="20563" y="11129"/>
                  <a:pt x="20563" y="11212"/>
                </a:cubicBezTo>
              </a:path>
              <a:path w="4813" h="1415">
                <a:moveTo>
                  <a:pt x="20265" y="10864"/>
                </a:moveTo>
                <a:cubicBezTo>
                  <a:pt x="20385" y="10864"/>
                  <a:pt x="20499" y="10858"/>
                  <a:pt x="20613" y="10840"/>
                </a:cubicBezTo>
                <a:cubicBezTo>
                  <a:pt x="20689" y="10828"/>
                  <a:pt x="20760" y="10811"/>
                  <a:pt x="20836" y="10790"/>
                </a:cubicBezTo>
              </a:path>
              <a:path w="4813" h="1415">
                <a:moveTo>
                  <a:pt x="21357" y="10740"/>
                </a:moveTo>
                <a:cubicBezTo>
                  <a:pt x="21265" y="10740"/>
                  <a:pt x="21257" y="10741"/>
                  <a:pt x="21183" y="10790"/>
                </a:cubicBezTo>
                <a:cubicBezTo>
                  <a:pt x="21111" y="10837"/>
                  <a:pt x="21075" y="10909"/>
                  <a:pt x="21034" y="10988"/>
                </a:cubicBezTo>
                <a:cubicBezTo>
                  <a:pt x="21016" y="11024"/>
                  <a:pt x="20981" y="11110"/>
                  <a:pt x="21034" y="11137"/>
                </a:cubicBezTo>
                <a:cubicBezTo>
                  <a:pt x="21070" y="11155"/>
                  <a:pt x="21180" y="11140"/>
                  <a:pt x="21208" y="11112"/>
                </a:cubicBezTo>
                <a:cubicBezTo>
                  <a:pt x="21261" y="11059"/>
                  <a:pt x="21293" y="11009"/>
                  <a:pt x="21332" y="10939"/>
                </a:cubicBezTo>
                <a:cubicBezTo>
                  <a:pt x="21367" y="10876"/>
                  <a:pt x="21355" y="10843"/>
                  <a:pt x="21406" y="10790"/>
                </a:cubicBezTo>
                <a:cubicBezTo>
                  <a:pt x="21406" y="10843"/>
                  <a:pt x="21385" y="10860"/>
                  <a:pt x="21382" y="10914"/>
                </a:cubicBezTo>
                <a:cubicBezTo>
                  <a:pt x="21379" y="10969"/>
                  <a:pt x="21387" y="11048"/>
                  <a:pt x="21431" y="11088"/>
                </a:cubicBezTo>
                <a:cubicBezTo>
                  <a:pt x="21487" y="11115"/>
                  <a:pt x="21509" y="11123"/>
                  <a:pt x="21555" y="11112"/>
                </a:cubicBezTo>
              </a:path>
              <a:path w="4813" h="1415">
                <a:moveTo>
                  <a:pt x="21754" y="10740"/>
                </a:moveTo>
                <a:cubicBezTo>
                  <a:pt x="21754" y="10864"/>
                  <a:pt x="21754" y="10988"/>
                  <a:pt x="21754" y="11112"/>
                </a:cubicBezTo>
                <a:cubicBezTo>
                  <a:pt x="21754" y="11223"/>
                  <a:pt x="21762" y="11080"/>
                  <a:pt x="21779" y="11038"/>
                </a:cubicBezTo>
                <a:cubicBezTo>
                  <a:pt x="21814" y="10953"/>
                  <a:pt x="21818" y="10894"/>
                  <a:pt x="21878" y="10815"/>
                </a:cubicBezTo>
                <a:cubicBezTo>
                  <a:pt x="21913" y="10769"/>
                  <a:pt x="21923" y="10773"/>
                  <a:pt x="21977" y="10765"/>
                </a:cubicBezTo>
                <a:cubicBezTo>
                  <a:pt x="21977" y="10822"/>
                  <a:pt x="21993" y="10861"/>
                  <a:pt x="22002" y="10914"/>
                </a:cubicBezTo>
                <a:cubicBezTo>
                  <a:pt x="22013" y="10980"/>
                  <a:pt x="21999" y="11057"/>
                  <a:pt x="22051" y="11112"/>
                </a:cubicBezTo>
                <a:cubicBezTo>
                  <a:pt x="22106" y="11170"/>
                  <a:pt x="22132" y="11184"/>
                  <a:pt x="22175" y="11162"/>
                </a:cubicBezTo>
              </a:path>
              <a:path w="4813" h="1415">
                <a:moveTo>
                  <a:pt x="22448" y="10840"/>
                </a:moveTo>
                <a:cubicBezTo>
                  <a:pt x="22508" y="10840"/>
                  <a:pt x="22547" y="10830"/>
                  <a:pt x="22597" y="10815"/>
                </a:cubicBezTo>
                <a:cubicBezTo>
                  <a:pt x="22630" y="10805"/>
                  <a:pt x="22703" y="10757"/>
                  <a:pt x="22721" y="10716"/>
                </a:cubicBezTo>
                <a:cubicBezTo>
                  <a:pt x="22721" y="10683"/>
                  <a:pt x="22721" y="10666"/>
                  <a:pt x="22721" y="10641"/>
                </a:cubicBezTo>
                <a:cubicBezTo>
                  <a:pt x="22652" y="10641"/>
                  <a:pt x="22612" y="10643"/>
                  <a:pt x="22547" y="10666"/>
                </a:cubicBezTo>
                <a:cubicBezTo>
                  <a:pt x="22459" y="10697"/>
                  <a:pt x="22407" y="10683"/>
                  <a:pt x="22349" y="10765"/>
                </a:cubicBezTo>
                <a:cubicBezTo>
                  <a:pt x="22319" y="10808"/>
                  <a:pt x="22311" y="10888"/>
                  <a:pt x="22324" y="10939"/>
                </a:cubicBezTo>
                <a:cubicBezTo>
                  <a:pt x="22346" y="11025"/>
                  <a:pt x="22370" y="11087"/>
                  <a:pt x="22423" y="11137"/>
                </a:cubicBezTo>
                <a:cubicBezTo>
                  <a:pt x="22515" y="11224"/>
                  <a:pt x="22577" y="11235"/>
                  <a:pt x="22696" y="11261"/>
                </a:cubicBezTo>
                <a:cubicBezTo>
                  <a:pt x="22774" y="11278"/>
                  <a:pt x="22945" y="11325"/>
                  <a:pt x="23019" y="11261"/>
                </a:cubicBezTo>
                <a:cubicBezTo>
                  <a:pt x="23019" y="11253"/>
                  <a:pt x="23019" y="11245"/>
                  <a:pt x="23019" y="112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4500720"/>
            <a:ext cx="374400" cy="27756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265" y="12502"/>
                </a:moveTo>
                <a:cubicBezTo>
                  <a:pt x="1203" y="12502"/>
                  <a:pt x="1174" y="12523"/>
                  <a:pt x="1116" y="12526"/>
                </a:cubicBezTo>
                <a:cubicBezTo>
                  <a:pt x="1060" y="12529"/>
                  <a:pt x="1000" y="12570"/>
                  <a:pt x="943" y="12551"/>
                </a:cubicBezTo>
                <a:cubicBezTo>
                  <a:pt x="881" y="12530"/>
                  <a:pt x="861" y="12509"/>
                  <a:pt x="819" y="12576"/>
                </a:cubicBezTo>
                <a:cubicBezTo>
                  <a:pt x="786" y="12627"/>
                  <a:pt x="760" y="12679"/>
                  <a:pt x="719" y="12725"/>
                </a:cubicBezTo>
                <a:cubicBezTo>
                  <a:pt x="705" y="12741"/>
                  <a:pt x="671" y="12827"/>
                  <a:pt x="695" y="12849"/>
                </a:cubicBezTo>
                <a:cubicBezTo>
                  <a:pt x="758" y="12907"/>
                  <a:pt x="790" y="12882"/>
                  <a:pt x="843" y="12874"/>
                </a:cubicBezTo>
                <a:cubicBezTo>
                  <a:pt x="939" y="12859"/>
                  <a:pt x="1023" y="12819"/>
                  <a:pt x="1116" y="12799"/>
                </a:cubicBezTo>
                <a:cubicBezTo>
                  <a:pt x="1220" y="12777"/>
                  <a:pt x="1235" y="12821"/>
                  <a:pt x="1265" y="12898"/>
                </a:cubicBezTo>
                <a:cubicBezTo>
                  <a:pt x="1284" y="12946"/>
                  <a:pt x="1311" y="13017"/>
                  <a:pt x="1290" y="13072"/>
                </a:cubicBezTo>
                <a:cubicBezTo>
                  <a:pt x="1281" y="13096"/>
                  <a:pt x="1158" y="13213"/>
                  <a:pt x="1141" y="13221"/>
                </a:cubicBezTo>
                <a:cubicBezTo>
                  <a:pt x="1073" y="13253"/>
                  <a:pt x="999" y="13271"/>
                  <a:pt x="918" y="13271"/>
                </a:cubicBezTo>
                <a:cubicBezTo>
                  <a:pt x="846" y="13271"/>
                  <a:pt x="828" y="13245"/>
                  <a:pt x="769" y="13221"/>
                </a:cubicBezTo>
                <a:cubicBezTo>
                  <a:pt x="722" y="13202"/>
                  <a:pt x="783" y="13191"/>
                  <a:pt x="819" y="13171"/>
                </a:cubicBezTo>
              </a:path>
              <a:path w="1042" h="770">
                <a:moveTo>
                  <a:pt x="1736" y="13171"/>
                </a:moveTo>
                <a:cubicBezTo>
                  <a:pt x="1726" y="13213"/>
                  <a:pt x="1663" y="13304"/>
                  <a:pt x="1712" y="13171"/>
                </a:cubicBezTo>
                <a:cubicBezTo>
                  <a:pt x="1720" y="13163"/>
                  <a:pt x="1728" y="13154"/>
                  <a:pt x="1736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8160" y="4626000"/>
            <a:ext cx="303120" cy="241200"/>
          </a:xfrm>
          <a:custGeom>
            <a:avLst/>
            <a:gdLst/>
            <a:ahLst/>
            <a:rect l="l" t="t" r="r" b="b"/>
            <a:pathLst>
              <a:path w="845" h="671">
                <a:moveTo>
                  <a:pt x="2679" y="12849"/>
                </a:moveTo>
                <a:cubicBezTo>
                  <a:pt x="2645" y="12905"/>
                  <a:pt x="2672" y="12937"/>
                  <a:pt x="2654" y="12998"/>
                </a:cubicBezTo>
                <a:cubicBezTo>
                  <a:pt x="2635" y="13061"/>
                  <a:pt x="2615" y="13140"/>
                  <a:pt x="2604" y="13196"/>
                </a:cubicBezTo>
                <a:cubicBezTo>
                  <a:pt x="2586" y="13294"/>
                  <a:pt x="2604" y="13418"/>
                  <a:pt x="2604" y="13519"/>
                </a:cubicBezTo>
                <a:cubicBezTo>
                  <a:pt x="2604" y="13474"/>
                  <a:pt x="2601" y="13461"/>
                  <a:pt x="2629" y="13444"/>
                </a:cubicBezTo>
              </a:path>
              <a:path w="845" h="671">
                <a:moveTo>
                  <a:pt x="3101" y="13271"/>
                </a:moveTo>
                <a:cubicBezTo>
                  <a:pt x="3200" y="13271"/>
                  <a:pt x="3281" y="13269"/>
                  <a:pt x="3373" y="13246"/>
                </a:cubicBezTo>
                <a:cubicBezTo>
                  <a:pt x="3394" y="13241"/>
                  <a:pt x="3426" y="13246"/>
                  <a:pt x="3448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01840" y="4562640"/>
            <a:ext cx="1206360" cy="465120"/>
          </a:xfrm>
          <a:custGeom>
            <a:avLst/>
            <a:gdLst/>
            <a:ahLst/>
            <a:rect l="l" t="t" r="r" b="b"/>
            <a:pathLst>
              <a:path w="3350" h="1291">
                <a:moveTo>
                  <a:pt x="4068" y="13196"/>
                </a:moveTo>
                <a:cubicBezTo>
                  <a:pt x="4157" y="13196"/>
                  <a:pt x="4175" y="13207"/>
                  <a:pt x="4242" y="13146"/>
                </a:cubicBezTo>
                <a:cubicBezTo>
                  <a:pt x="4273" y="13118"/>
                  <a:pt x="4307" y="13067"/>
                  <a:pt x="4291" y="13022"/>
                </a:cubicBezTo>
                <a:cubicBezTo>
                  <a:pt x="4272" y="12970"/>
                  <a:pt x="4196" y="12946"/>
                  <a:pt x="4142" y="12973"/>
                </a:cubicBezTo>
                <a:cubicBezTo>
                  <a:pt x="4061" y="13014"/>
                  <a:pt x="3992" y="13094"/>
                  <a:pt x="3944" y="13171"/>
                </a:cubicBezTo>
                <a:cubicBezTo>
                  <a:pt x="3901" y="13241"/>
                  <a:pt x="3894" y="13290"/>
                  <a:pt x="3894" y="13370"/>
                </a:cubicBezTo>
                <a:cubicBezTo>
                  <a:pt x="3894" y="13479"/>
                  <a:pt x="3972" y="13523"/>
                  <a:pt x="4068" y="13568"/>
                </a:cubicBezTo>
                <a:cubicBezTo>
                  <a:pt x="4181" y="13620"/>
                  <a:pt x="4327" y="13635"/>
                  <a:pt x="4440" y="13568"/>
                </a:cubicBezTo>
                <a:cubicBezTo>
                  <a:pt x="4465" y="13543"/>
                  <a:pt x="4489" y="13519"/>
                  <a:pt x="4514" y="13494"/>
                </a:cubicBezTo>
              </a:path>
              <a:path w="3350" h="1291">
                <a:moveTo>
                  <a:pt x="4738" y="12923"/>
                </a:moveTo>
                <a:cubicBezTo>
                  <a:pt x="4738" y="13100"/>
                  <a:pt x="4740" y="13275"/>
                  <a:pt x="4713" y="13444"/>
                </a:cubicBezTo>
                <a:cubicBezTo>
                  <a:pt x="4708" y="13476"/>
                  <a:pt x="4714" y="13546"/>
                  <a:pt x="4688" y="13494"/>
                </a:cubicBezTo>
              </a:path>
              <a:path w="3350" h="1291">
                <a:moveTo>
                  <a:pt x="4440" y="13171"/>
                </a:moveTo>
                <a:cubicBezTo>
                  <a:pt x="4525" y="13246"/>
                  <a:pt x="4593" y="13266"/>
                  <a:pt x="4713" y="13246"/>
                </a:cubicBezTo>
                <a:cubicBezTo>
                  <a:pt x="4870" y="13219"/>
                  <a:pt x="4963" y="13159"/>
                  <a:pt x="5085" y="13072"/>
                </a:cubicBezTo>
                <a:cubicBezTo>
                  <a:pt x="5161" y="13018"/>
                  <a:pt x="5203" y="12948"/>
                  <a:pt x="5259" y="12874"/>
                </a:cubicBezTo>
                <a:cubicBezTo>
                  <a:pt x="5287" y="12837"/>
                  <a:pt x="5298" y="12768"/>
                  <a:pt x="5234" y="12750"/>
                </a:cubicBezTo>
                <a:cubicBezTo>
                  <a:pt x="5190" y="12738"/>
                  <a:pt x="5136" y="12763"/>
                  <a:pt x="5110" y="12799"/>
                </a:cubicBezTo>
                <a:cubicBezTo>
                  <a:pt x="5077" y="12845"/>
                  <a:pt x="5062" y="12920"/>
                  <a:pt x="5060" y="12973"/>
                </a:cubicBezTo>
                <a:cubicBezTo>
                  <a:pt x="5053" y="13121"/>
                  <a:pt x="5060" y="13271"/>
                  <a:pt x="5060" y="13419"/>
                </a:cubicBezTo>
                <a:cubicBezTo>
                  <a:pt x="5082" y="13312"/>
                  <a:pt x="5096" y="13317"/>
                  <a:pt x="5184" y="13246"/>
                </a:cubicBezTo>
                <a:cubicBezTo>
                  <a:pt x="5224" y="13214"/>
                  <a:pt x="5278" y="13168"/>
                  <a:pt x="5333" y="13171"/>
                </a:cubicBezTo>
                <a:cubicBezTo>
                  <a:pt x="5398" y="13175"/>
                  <a:pt x="5429" y="13298"/>
                  <a:pt x="5432" y="13345"/>
                </a:cubicBezTo>
                <a:cubicBezTo>
                  <a:pt x="5435" y="13392"/>
                  <a:pt x="5414" y="13428"/>
                  <a:pt x="5457" y="13444"/>
                </a:cubicBezTo>
                <a:cubicBezTo>
                  <a:pt x="5465" y="13436"/>
                  <a:pt x="5474" y="13427"/>
                  <a:pt x="5482" y="13419"/>
                </a:cubicBezTo>
              </a:path>
              <a:path w="3350" h="1291">
                <a:moveTo>
                  <a:pt x="5730" y="13196"/>
                </a:moveTo>
                <a:cubicBezTo>
                  <a:pt x="5730" y="13262"/>
                  <a:pt x="5730" y="13329"/>
                  <a:pt x="5730" y="13395"/>
                </a:cubicBezTo>
                <a:cubicBezTo>
                  <a:pt x="5816" y="13419"/>
                  <a:pt x="5825" y="13394"/>
                  <a:pt x="5904" y="13345"/>
                </a:cubicBezTo>
                <a:cubicBezTo>
                  <a:pt x="5997" y="13287"/>
                  <a:pt x="5996" y="13295"/>
                  <a:pt x="6028" y="13196"/>
                </a:cubicBezTo>
                <a:cubicBezTo>
                  <a:pt x="6044" y="13146"/>
                  <a:pt x="6052" y="13125"/>
                  <a:pt x="6052" y="13072"/>
                </a:cubicBezTo>
                <a:cubicBezTo>
                  <a:pt x="6108" y="13141"/>
                  <a:pt x="6102" y="13182"/>
                  <a:pt x="6102" y="13271"/>
                </a:cubicBezTo>
                <a:cubicBezTo>
                  <a:pt x="6102" y="13388"/>
                  <a:pt x="6100" y="13509"/>
                  <a:pt x="6152" y="13618"/>
                </a:cubicBezTo>
                <a:cubicBezTo>
                  <a:pt x="6192" y="13702"/>
                  <a:pt x="6221" y="13772"/>
                  <a:pt x="6226" y="13866"/>
                </a:cubicBezTo>
                <a:cubicBezTo>
                  <a:pt x="6228" y="13909"/>
                  <a:pt x="6191" y="13994"/>
                  <a:pt x="6127" y="13965"/>
                </a:cubicBezTo>
                <a:cubicBezTo>
                  <a:pt x="6050" y="13930"/>
                  <a:pt x="5924" y="13888"/>
                  <a:pt x="5854" y="13841"/>
                </a:cubicBezTo>
                <a:cubicBezTo>
                  <a:pt x="5808" y="13795"/>
                  <a:pt x="5793" y="13783"/>
                  <a:pt x="5779" y="13742"/>
                </a:cubicBezTo>
              </a:path>
              <a:path w="3350" h="1291">
                <a:moveTo>
                  <a:pt x="6474" y="12675"/>
                </a:moveTo>
                <a:cubicBezTo>
                  <a:pt x="6474" y="12774"/>
                  <a:pt x="6492" y="12830"/>
                  <a:pt x="6524" y="12923"/>
                </a:cubicBezTo>
                <a:cubicBezTo>
                  <a:pt x="6557" y="13021"/>
                  <a:pt x="6548" y="13118"/>
                  <a:pt x="6548" y="13221"/>
                </a:cubicBezTo>
                <a:cubicBezTo>
                  <a:pt x="6548" y="13279"/>
                  <a:pt x="6582" y="13489"/>
                  <a:pt x="6524" y="13519"/>
                </a:cubicBezTo>
                <a:cubicBezTo>
                  <a:pt x="6499" y="13519"/>
                  <a:pt x="6491" y="13519"/>
                  <a:pt x="6499" y="13494"/>
                </a:cubicBezTo>
              </a:path>
              <a:path w="3350" h="1291">
                <a:moveTo>
                  <a:pt x="6896" y="13246"/>
                </a:moveTo>
                <a:cubicBezTo>
                  <a:pt x="6966" y="13193"/>
                  <a:pt x="6949" y="13235"/>
                  <a:pt x="7020" y="13271"/>
                </a:cubicBezTo>
                <a:cubicBezTo>
                  <a:pt x="7071" y="13297"/>
                  <a:pt x="7202" y="13277"/>
                  <a:pt x="7243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20960" y="4606920"/>
            <a:ext cx="34920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7838" y="12874"/>
                </a:moveTo>
                <a:cubicBezTo>
                  <a:pt x="7914" y="12788"/>
                  <a:pt x="7906" y="12799"/>
                  <a:pt x="8012" y="12799"/>
                </a:cubicBezTo>
                <a:cubicBezTo>
                  <a:pt x="8067" y="12799"/>
                  <a:pt x="8083" y="12881"/>
                  <a:pt x="8086" y="12923"/>
                </a:cubicBezTo>
                <a:cubicBezTo>
                  <a:pt x="8093" y="13008"/>
                  <a:pt x="8068" y="13036"/>
                  <a:pt x="8012" y="13097"/>
                </a:cubicBezTo>
                <a:cubicBezTo>
                  <a:pt x="7979" y="13133"/>
                  <a:pt x="7962" y="13122"/>
                  <a:pt x="7913" y="13122"/>
                </a:cubicBezTo>
                <a:cubicBezTo>
                  <a:pt x="7974" y="13122"/>
                  <a:pt x="8012" y="13119"/>
                  <a:pt x="8062" y="13146"/>
                </a:cubicBezTo>
                <a:cubicBezTo>
                  <a:pt x="8131" y="13183"/>
                  <a:pt x="8178" y="13186"/>
                  <a:pt x="8210" y="13271"/>
                </a:cubicBezTo>
                <a:cubicBezTo>
                  <a:pt x="8243" y="13358"/>
                  <a:pt x="8172" y="13350"/>
                  <a:pt x="8136" y="13395"/>
                </a:cubicBezTo>
                <a:cubicBezTo>
                  <a:pt x="8106" y="13432"/>
                  <a:pt x="8047" y="13475"/>
                  <a:pt x="7987" y="13494"/>
                </a:cubicBezTo>
                <a:cubicBezTo>
                  <a:pt x="7959" y="13503"/>
                  <a:pt x="7877" y="13489"/>
                  <a:pt x="7863" y="13469"/>
                </a:cubicBezTo>
                <a:cubicBezTo>
                  <a:pt x="7863" y="13441"/>
                  <a:pt x="7865" y="13430"/>
                  <a:pt x="7888" y="13419"/>
                </a:cubicBezTo>
              </a:path>
              <a:path w="969" h="696">
                <a:moveTo>
                  <a:pt x="8533" y="13146"/>
                </a:moveTo>
                <a:cubicBezTo>
                  <a:pt x="8588" y="13126"/>
                  <a:pt x="8624" y="13122"/>
                  <a:pt x="8682" y="13122"/>
                </a:cubicBezTo>
                <a:cubicBezTo>
                  <a:pt x="8696" y="13122"/>
                  <a:pt x="8808" y="13115"/>
                  <a:pt x="8806" y="13097"/>
                </a:cubicBezTo>
                <a:cubicBezTo>
                  <a:pt x="8798" y="13080"/>
                  <a:pt x="8789" y="13064"/>
                  <a:pt x="8781" y="130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4527720"/>
            <a:ext cx="1108080" cy="500040"/>
          </a:xfrm>
          <a:custGeom>
            <a:avLst/>
            <a:gdLst/>
            <a:ahLst/>
            <a:rect l="l" t="t" r="r" b="b"/>
            <a:pathLst>
              <a:path w="3077" h="1390">
                <a:moveTo>
                  <a:pt x="9550" y="12973"/>
                </a:moveTo>
                <a:cubicBezTo>
                  <a:pt x="9550" y="13057"/>
                  <a:pt x="9529" y="13097"/>
                  <a:pt x="9525" y="13171"/>
                </a:cubicBezTo>
                <a:cubicBezTo>
                  <a:pt x="9521" y="13245"/>
                  <a:pt x="9525" y="13321"/>
                  <a:pt x="9525" y="13395"/>
                </a:cubicBezTo>
                <a:cubicBezTo>
                  <a:pt x="9567" y="13321"/>
                  <a:pt x="9554" y="13298"/>
                  <a:pt x="9575" y="13221"/>
                </a:cubicBezTo>
                <a:cubicBezTo>
                  <a:pt x="9595" y="13145"/>
                  <a:pt x="9670" y="13092"/>
                  <a:pt x="9723" y="13047"/>
                </a:cubicBezTo>
                <a:cubicBezTo>
                  <a:pt x="9789" y="12991"/>
                  <a:pt x="9830" y="13016"/>
                  <a:pt x="9847" y="13097"/>
                </a:cubicBezTo>
                <a:cubicBezTo>
                  <a:pt x="9864" y="13180"/>
                  <a:pt x="9847" y="13285"/>
                  <a:pt x="9847" y="13370"/>
                </a:cubicBezTo>
                <a:cubicBezTo>
                  <a:pt x="9868" y="13356"/>
                  <a:pt x="9904" y="13290"/>
                  <a:pt x="9922" y="13246"/>
                </a:cubicBezTo>
                <a:cubicBezTo>
                  <a:pt x="9958" y="13158"/>
                  <a:pt x="10005" y="13092"/>
                  <a:pt x="10071" y="13022"/>
                </a:cubicBezTo>
                <a:cubicBezTo>
                  <a:pt x="10093" y="13000"/>
                  <a:pt x="10098" y="12992"/>
                  <a:pt x="10120" y="12998"/>
                </a:cubicBezTo>
                <a:cubicBezTo>
                  <a:pt x="10153" y="13052"/>
                  <a:pt x="10145" y="13103"/>
                  <a:pt x="10145" y="13171"/>
                </a:cubicBezTo>
                <a:cubicBezTo>
                  <a:pt x="10145" y="13238"/>
                  <a:pt x="10159" y="13291"/>
                  <a:pt x="10170" y="13345"/>
                </a:cubicBezTo>
                <a:cubicBezTo>
                  <a:pt x="10170" y="13386"/>
                  <a:pt x="10170" y="13394"/>
                  <a:pt x="10170" y="13419"/>
                </a:cubicBezTo>
              </a:path>
              <a:path w="3077" h="1390">
                <a:moveTo>
                  <a:pt x="10517" y="13122"/>
                </a:moveTo>
                <a:cubicBezTo>
                  <a:pt x="10590" y="13122"/>
                  <a:pt x="10624" y="13114"/>
                  <a:pt x="10691" y="13097"/>
                </a:cubicBezTo>
                <a:cubicBezTo>
                  <a:pt x="10733" y="13087"/>
                  <a:pt x="10752" y="13044"/>
                  <a:pt x="10740" y="12998"/>
                </a:cubicBezTo>
                <a:cubicBezTo>
                  <a:pt x="10723" y="12931"/>
                  <a:pt x="10645" y="12879"/>
                  <a:pt x="10567" y="12923"/>
                </a:cubicBezTo>
                <a:cubicBezTo>
                  <a:pt x="10505" y="12958"/>
                  <a:pt x="10412" y="13050"/>
                  <a:pt x="10393" y="13122"/>
                </a:cubicBezTo>
                <a:cubicBezTo>
                  <a:pt x="10376" y="13185"/>
                  <a:pt x="10391" y="13264"/>
                  <a:pt x="10418" y="13320"/>
                </a:cubicBezTo>
                <a:cubicBezTo>
                  <a:pt x="10451" y="13390"/>
                  <a:pt x="10610" y="13455"/>
                  <a:pt x="10691" y="13469"/>
                </a:cubicBezTo>
                <a:cubicBezTo>
                  <a:pt x="10777" y="13484"/>
                  <a:pt x="10858" y="13463"/>
                  <a:pt x="10939" y="13444"/>
                </a:cubicBezTo>
              </a:path>
              <a:path w="3077" h="1390">
                <a:moveTo>
                  <a:pt x="11336" y="12650"/>
                </a:moveTo>
                <a:cubicBezTo>
                  <a:pt x="11280" y="12753"/>
                  <a:pt x="11286" y="12804"/>
                  <a:pt x="11286" y="12923"/>
                </a:cubicBezTo>
                <a:cubicBezTo>
                  <a:pt x="11286" y="13030"/>
                  <a:pt x="11283" y="13121"/>
                  <a:pt x="11261" y="13221"/>
                </a:cubicBezTo>
                <a:cubicBezTo>
                  <a:pt x="11250" y="13274"/>
                  <a:pt x="11249" y="13298"/>
                  <a:pt x="11212" y="13345"/>
                </a:cubicBezTo>
              </a:path>
              <a:path w="3077" h="1390">
                <a:moveTo>
                  <a:pt x="11013" y="12998"/>
                </a:moveTo>
                <a:cubicBezTo>
                  <a:pt x="11118" y="13020"/>
                  <a:pt x="11204" y="13022"/>
                  <a:pt x="11311" y="13022"/>
                </a:cubicBezTo>
                <a:cubicBezTo>
                  <a:pt x="11411" y="13022"/>
                  <a:pt x="11517" y="12986"/>
                  <a:pt x="11609" y="12948"/>
                </a:cubicBezTo>
                <a:cubicBezTo>
                  <a:pt x="11663" y="12926"/>
                  <a:pt x="11724" y="12849"/>
                  <a:pt x="11757" y="12799"/>
                </a:cubicBezTo>
                <a:cubicBezTo>
                  <a:pt x="11797" y="12739"/>
                  <a:pt x="11781" y="12686"/>
                  <a:pt x="11757" y="12626"/>
                </a:cubicBezTo>
                <a:cubicBezTo>
                  <a:pt x="11749" y="12609"/>
                  <a:pt x="11741" y="12593"/>
                  <a:pt x="11733" y="12576"/>
                </a:cubicBezTo>
                <a:cubicBezTo>
                  <a:pt x="11646" y="12611"/>
                  <a:pt x="11658" y="12648"/>
                  <a:pt x="11633" y="12725"/>
                </a:cubicBezTo>
                <a:cubicBezTo>
                  <a:pt x="11604" y="12815"/>
                  <a:pt x="11567" y="12903"/>
                  <a:pt x="11559" y="12998"/>
                </a:cubicBezTo>
                <a:cubicBezTo>
                  <a:pt x="11551" y="13093"/>
                  <a:pt x="11543" y="13182"/>
                  <a:pt x="11534" y="13271"/>
                </a:cubicBezTo>
                <a:cubicBezTo>
                  <a:pt x="11529" y="13317"/>
                  <a:pt x="11561" y="13199"/>
                  <a:pt x="11584" y="13171"/>
                </a:cubicBezTo>
                <a:cubicBezTo>
                  <a:pt x="11636" y="13107"/>
                  <a:pt x="11673" y="13048"/>
                  <a:pt x="11757" y="13022"/>
                </a:cubicBezTo>
                <a:cubicBezTo>
                  <a:pt x="11765" y="13022"/>
                  <a:pt x="11774" y="13022"/>
                  <a:pt x="11782" y="13022"/>
                </a:cubicBezTo>
              </a:path>
              <a:path w="3077" h="1390">
                <a:moveTo>
                  <a:pt x="11782" y="13022"/>
                </a:moveTo>
                <a:cubicBezTo>
                  <a:pt x="11877" y="13034"/>
                  <a:pt x="11866" y="13049"/>
                  <a:pt x="11906" y="13122"/>
                </a:cubicBezTo>
                <a:cubicBezTo>
                  <a:pt x="11936" y="13178"/>
                  <a:pt x="11931" y="13209"/>
                  <a:pt x="11931" y="13271"/>
                </a:cubicBezTo>
                <a:cubicBezTo>
                  <a:pt x="11931" y="13295"/>
                  <a:pt x="11931" y="13304"/>
                  <a:pt x="11931" y="13320"/>
                </a:cubicBezTo>
              </a:path>
              <a:path w="3077" h="1390">
                <a:moveTo>
                  <a:pt x="12254" y="13047"/>
                </a:moveTo>
                <a:cubicBezTo>
                  <a:pt x="12206" y="13095"/>
                  <a:pt x="12204" y="13102"/>
                  <a:pt x="12204" y="13171"/>
                </a:cubicBezTo>
                <a:cubicBezTo>
                  <a:pt x="12204" y="13248"/>
                  <a:pt x="12298" y="13281"/>
                  <a:pt x="12353" y="13295"/>
                </a:cubicBezTo>
                <a:cubicBezTo>
                  <a:pt x="12405" y="13231"/>
                  <a:pt x="12435" y="13164"/>
                  <a:pt x="12477" y="13097"/>
                </a:cubicBezTo>
                <a:cubicBezTo>
                  <a:pt x="12504" y="13054"/>
                  <a:pt x="12557" y="12957"/>
                  <a:pt x="12576" y="12948"/>
                </a:cubicBezTo>
                <a:cubicBezTo>
                  <a:pt x="12576" y="12956"/>
                  <a:pt x="12576" y="12965"/>
                  <a:pt x="12576" y="12973"/>
                </a:cubicBezTo>
                <a:cubicBezTo>
                  <a:pt x="12538" y="13036"/>
                  <a:pt x="12529" y="13117"/>
                  <a:pt x="12526" y="13196"/>
                </a:cubicBezTo>
                <a:cubicBezTo>
                  <a:pt x="12521" y="13342"/>
                  <a:pt x="12493" y="13554"/>
                  <a:pt x="12551" y="13692"/>
                </a:cubicBezTo>
                <a:cubicBezTo>
                  <a:pt x="12562" y="13719"/>
                  <a:pt x="12653" y="13876"/>
                  <a:pt x="12601" y="13915"/>
                </a:cubicBezTo>
                <a:cubicBezTo>
                  <a:pt x="12506" y="13986"/>
                  <a:pt x="12378" y="13976"/>
                  <a:pt x="12278" y="13915"/>
                </a:cubicBezTo>
                <a:cubicBezTo>
                  <a:pt x="12223" y="13882"/>
                  <a:pt x="12155" y="13855"/>
                  <a:pt x="12129" y="13791"/>
                </a:cubicBezTo>
                <a:cubicBezTo>
                  <a:pt x="12129" y="13783"/>
                  <a:pt x="12129" y="13775"/>
                  <a:pt x="12129" y="137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32200" y="4446720"/>
            <a:ext cx="27000" cy="331560"/>
          </a:xfrm>
          <a:custGeom>
            <a:avLst/>
            <a:gdLst/>
            <a:ahLst/>
            <a:rect l="l" t="t" r="r" b="b"/>
            <a:pathLst>
              <a:path w="76" h="919">
                <a:moveTo>
                  <a:pt x="13171" y="12353"/>
                </a:moveTo>
                <a:cubicBezTo>
                  <a:pt x="13154" y="12399"/>
                  <a:pt x="13132" y="12450"/>
                  <a:pt x="13146" y="12502"/>
                </a:cubicBezTo>
                <a:cubicBezTo>
                  <a:pt x="13168" y="12585"/>
                  <a:pt x="13211" y="12636"/>
                  <a:pt x="13221" y="12725"/>
                </a:cubicBezTo>
                <a:cubicBezTo>
                  <a:pt x="13239" y="12877"/>
                  <a:pt x="13225" y="13060"/>
                  <a:pt x="13196" y="13196"/>
                </a:cubicBezTo>
                <a:cubicBezTo>
                  <a:pt x="13179" y="13274"/>
                  <a:pt x="13179" y="13222"/>
                  <a:pt x="13146" y="132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80040" y="4456080"/>
            <a:ext cx="1071360" cy="500040"/>
          </a:xfrm>
          <a:custGeom>
            <a:avLst/>
            <a:gdLst/>
            <a:ahLst/>
            <a:rect l="l" t="t" r="r" b="b"/>
            <a:pathLst>
              <a:path w="2977" h="1390">
                <a:moveTo>
                  <a:pt x="14684" y="12626"/>
                </a:moveTo>
                <a:cubicBezTo>
                  <a:pt x="14624" y="12600"/>
                  <a:pt x="14564" y="12593"/>
                  <a:pt x="14511" y="12650"/>
                </a:cubicBezTo>
                <a:cubicBezTo>
                  <a:pt x="14452" y="12713"/>
                  <a:pt x="14446" y="12746"/>
                  <a:pt x="14412" y="12824"/>
                </a:cubicBezTo>
                <a:cubicBezTo>
                  <a:pt x="14392" y="12868"/>
                  <a:pt x="14358" y="13000"/>
                  <a:pt x="14387" y="13047"/>
                </a:cubicBezTo>
                <a:cubicBezTo>
                  <a:pt x="14414" y="13091"/>
                  <a:pt x="14539" y="13120"/>
                  <a:pt x="14585" y="13122"/>
                </a:cubicBezTo>
                <a:cubicBezTo>
                  <a:pt x="14659" y="13125"/>
                  <a:pt x="14734" y="13122"/>
                  <a:pt x="14808" y="13122"/>
                </a:cubicBezTo>
              </a:path>
              <a:path w="2977" h="1390">
                <a:moveTo>
                  <a:pt x="15131" y="12750"/>
                </a:moveTo>
                <a:cubicBezTo>
                  <a:pt x="15103" y="12813"/>
                  <a:pt x="15106" y="12852"/>
                  <a:pt x="15106" y="12923"/>
                </a:cubicBezTo>
                <a:cubicBezTo>
                  <a:pt x="15106" y="12996"/>
                  <a:pt x="15067" y="13149"/>
                  <a:pt x="15156" y="13171"/>
                </a:cubicBezTo>
                <a:cubicBezTo>
                  <a:pt x="15206" y="13184"/>
                  <a:pt x="15266" y="13108"/>
                  <a:pt x="15304" y="13072"/>
                </a:cubicBezTo>
                <a:cubicBezTo>
                  <a:pt x="15366" y="13013"/>
                  <a:pt x="15373" y="12934"/>
                  <a:pt x="15379" y="12849"/>
                </a:cubicBezTo>
                <a:cubicBezTo>
                  <a:pt x="15386" y="12749"/>
                  <a:pt x="15379" y="12858"/>
                  <a:pt x="15379" y="12898"/>
                </a:cubicBezTo>
                <a:cubicBezTo>
                  <a:pt x="15379" y="13072"/>
                  <a:pt x="15364" y="13249"/>
                  <a:pt x="15404" y="13419"/>
                </a:cubicBezTo>
                <a:cubicBezTo>
                  <a:pt x="15424" y="13503"/>
                  <a:pt x="15435" y="13585"/>
                  <a:pt x="15453" y="13667"/>
                </a:cubicBezTo>
                <a:cubicBezTo>
                  <a:pt x="15476" y="13771"/>
                  <a:pt x="15315" y="13745"/>
                  <a:pt x="15280" y="13742"/>
                </a:cubicBezTo>
                <a:cubicBezTo>
                  <a:pt x="15186" y="13734"/>
                  <a:pt x="15111" y="13695"/>
                  <a:pt x="15032" y="13643"/>
                </a:cubicBezTo>
              </a:path>
              <a:path w="2977" h="1390">
                <a:moveTo>
                  <a:pt x="15999" y="12774"/>
                </a:moveTo>
                <a:cubicBezTo>
                  <a:pt x="15939" y="12783"/>
                  <a:pt x="15902" y="12810"/>
                  <a:pt x="15850" y="12849"/>
                </a:cubicBezTo>
                <a:cubicBezTo>
                  <a:pt x="15804" y="12883"/>
                  <a:pt x="15768" y="12944"/>
                  <a:pt x="15751" y="12998"/>
                </a:cubicBezTo>
                <a:cubicBezTo>
                  <a:pt x="15736" y="13045"/>
                  <a:pt x="15755" y="13164"/>
                  <a:pt x="15801" y="13196"/>
                </a:cubicBezTo>
                <a:cubicBezTo>
                  <a:pt x="15873" y="13246"/>
                  <a:pt x="15956" y="13289"/>
                  <a:pt x="16049" y="13271"/>
                </a:cubicBezTo>
                <a:cubicBezTo>
                  <a:pt x="16123" y="13246"/>
                  <a:pt x="16148" y="13238"/>
                  <a:pt x="16197" y="13221"/>
                </a:cubicBezTo>
              </a:path>
              <a:path w="2977" h="1390">
                <a:moveTo>
                  <a:pt x="16470" y="12378"/>
                </a:moveTo>
                <a:cubicBezTo>
                  <a:pt x="16470" y="12523"/>
                  <a:pt x="16485" y="12633"/>
                  <a:pt x="16520" y="12774"/>
                </a:cubicBezTo>
                <a:cubicBezTo>
                  <a:pt x="16546" y="12877"/>
                  <a:pt x="16570" y="12941"/>
                  <a:pt x="16570" y="13047"/>
                </a:cubicBezTo>
                <a:cubicBezTo>
                  <a:pt x="16570" y="13109"/>
                  <a:pt x="16544" y="13164"/>
                  <a:pt x="16594" y="13146"/>
                </a:cubicBezTo>
              </a:path>
              <a:path w="2977" h="1390">
                <a:moveTo>
                  <a:pt x="17115" y="12774"/>
                </a:moveTo>
                <a:cubicBezTo>
                  <a:pt x="17056" y="12783"/>
                  <a:pt x="17017" y="12810"/>
                  <a:pt x="16966" y="12849"/>
                </a:cubicBezTo>
                <a:cubicBezTo>
                  <a:pt x="16916" y="12887"/>
                  <a:pt x="16873" y="12966"/>
                  <a:pt x="16867" y="13022"/>
                </a:cubicBezTo>
                <a:cubicBezTo>
                  <a:pt x="16858" y="13102"/>
                  <a:pt x="16881" y="13138"/>
                  <a:pt x="16942" y="13171"/>
                </a:cubicBezTo>
                <a:cubicBezTo>
                  <a:pt x="17001" y="13203"/>
                  <a:pt x="17125" y="13213"/>
                  <a:pt x="17190" y="13196"/>
                </a:cubicBezTo>
                <a:cubicBezTo>
                  <a:pt x="17256" y="13178"/>
                  <a:pt x="17333" y="13079"/>
                  <a:pt x="17363" y="13022"/>
                </a:cubicBezTo>
                <a:cubicBezTo>
                  <a:pt x="17388" y="12976"/>
                  <a:pt x="17306" y="12900"/>
                  <a:pt x="17289" y="12874"/>
                </a:cubicBezTo>
                <a:cubicBezTo>
                  <a:pt x="17251" y="12816"/>
                  <a:pt x="17202" y="12794"/>
                  <a:pt x="17140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11960" y="4483080"/>
            <a:ext cx="1303200" cy="285840"/>
          </a:xfrm>
          <a:custGeom>
            <a:avLst/>
            <a:gdLst/>
            <a:ahLst/>
            <a:rect l="l" t="t" r="r" b="b"/>
            <a:pathLst>
              <a:path w="3622" h="795">
                <a:moveTo>
                  <a:pt x="18107" y="12675"/>
                </a:moveTo>
                <a:cubicBezTo>
                  <a:pt x="18046" y="12675"/>
                  <a:pt x="17981" y="12662"/>
                  <a:pt x="17934" y="12700"/>
                </a:cubicBezTo>
                <a:cubicBezTo>
                  <a:pt x="17917" y="12714"/>
                  <a:pt x="17844" y="12851"/>
                  <a:pt x="17835" y="12874"/>
                </a:cubicBezTo>
                <a:cubicBezTo>
                  <a:pt x="17816" y="12923"/>
                  <a:pt x="17810" y="12992"/>
                  <a:pt x="17810" y="13047"/>
                </a:cubicBezTo>
                <a:cubicBezTo>
                  <a:pt x="17810" y="13125"/>
                  <a:pt x="17898" y="13144"/>
                  <a:pt x="17959" y="13146"/>
                </a:cubicBezTo>
                <a:cubicBezTo>
                  <a:pt x="18062" y="13150"/>
                  <a:pt x="18138" y="13119"/>
                  <a:pt x="18231" y="13097"/>
                </a:cubicBezTo>
                <a:cubicBezTo>
                  <a:pt x="18280" y="13086"/>
                  <a:pt x="18298" y="12999"/>
                  <a:pt x="18281" y="12948"/>
                </a:cubicBezTo>
                <a:cubicBezTo>
                  <a:pt x="18261" y="12889"/>
                  <a:pt x="18225" y="12835"/>
                  <a:pt x="18207" y="12774"/>
                </a:cubicBezTo>
                <a:cubicBezTo>
                  <a:pt x="18189" y="12715"/>
                  <a:pt x="18174" y="12696"/>
                  <a:pt x="18182" y="12650"/>
                </a:cubicBezTo>
              </a:path>
              <a:path w="3622" h="795">
                <a:moveTo>
                  <a:pt x="18628" y="12774"/>
                </a:moveTo>
                <a:cubicBezTo>
                  <a:pt x="18550" y="12774"/>
                  <a:pt x="18534" y="12793"/>
                  <a:pt x="18479" y="12849"/>
                </a:cubicBezTo>
                <a:cubicBezTo>
                  <a:pt x="18445" y="12883"/>
                  <a:pt x="18433" y="12951"/>
                  <a:pt x="18430" y="12998"/>
                </a:cubicBezTo>
                <a:cubicBezTo>
                  <a:pt x="18427" y="13041"/>
                  <a:pt x="18470" y="13117"/>
                  <a:pt x="18504" y="13146"/>
                </a:cubicBezTo>
                <a:cubicBezTo>
                  <a:pt x="18571" y="13203"/>
                  <a:pt x="18680" y="13168"/>
                  <a:pt x="18752" y="13146"/>
                </a:cubicBezTo>
                <a:cubicBezTo>
                  <a:pt x="18819" y="13124"/>
                  <a:pt x="18837" y="13120"/>
                  <a:pt x="18876" y="13097"/>
                </a:cubicBezTo>
              </a:path>
              <a:path w="3622" h="795">
                <a:moveTo>
                  <a:pt x="19000" y="12452"/>
                </a:moveTo>
                <a:cubicBezTo>
                  <a:pt x="18980" y="12487"/>
                  <a:pt x="18952" y="12582"/>
                  <a:pt x="18976" y="12626"/>
                </a:cubicBezTo>
                <a:cubicBezTo>
                  <a:pt x="19020" y="12706"/>
                  <a:pt x="19077" y="12798"/>
                  <a:pt x="19100" y="12898"/>
                </a:cubicBezTo>
                <a:cubicBezTo>
                  <a:pt x="19119" y="12979"/>
                  <a:pt x="19100" y="13089"/>
                  <a:pt x="19100" y="13171"/>
                </a:cubicBezTo>
              </a:path>
              <a:path w="3622" h="795">
                <a:moveTo>
                  <a:pt x="18901" y="12898"/>
                </a:moveTo>
                <a:cubicBezTo>
                  <a:pt x="18978" y="12889"/>
                  <a:pt x="19046" y="12860"/>
                  <a:pt x="19124" y="12849"/>
                </a:cubicBezTo>
                <a:cubicBezTo>
                  <a:pt x="19193" y="12839"/>
                  <a:pt x="19233" y="12808"/>
                  <a:pt x="19298" y="12799"/>
                </a:cubicBezTo>
              </a:path>
              <a:path w="3622" h="795">
                <a:moveTo>
                  <a:pt x="19794" y="12725"/>
                </a:moveTo>
                <a:cubicBezTo>
                  <a:pt x="19703" y="12690"/>
                  <a:pt x="19702" y="12708"/>
                  <a:pt x="19621" y="12750"/>
                </a:cubicBezTo>
                <a:cubicBezTo>
                  <a:pt x="19548" y="12788"/>
                  <a:pt x="19533" y="12824"/>
                  <a:pt x="19496" y="12898"/>
                </a:cubicBezTo>
                <a:cubicBezTo>
                  <a:pt x="19483" y="12925"/>
                  <a:pt x="19449" y="13014"/>
                  <a:pt x="19472" y="13047"/>
                </a:cubicBezTo>
                <a:cubicBezTo>
                  <a:pt x="19524" y="13120"/>
                  <a:pt x="19583" y="13106"/>
                  <a:pt x="19645" y="13072"/>
                </a:cubicBezTo>
                <a:cubicBezTo>
                  <a:pt x="19726" y="13029"/>
                  <a:pt x="19716" y="12991"/>
                  <a:pt x="19769" y="12923"/>
                </a:cubicBezTo>
                <a:cubicBezTo>
                  <a:pt x="19826" y="12850"/>
                  <a:pt x="19819" y="12886"/>
                  <a:pt x="19819" y="12799"/>
                </a:cubicBezTo>
                <a:cubicBezTo>
                  <a:pt x="19789" y="12849"/>
                  <a:pt x="19794" y="12886"/>
                  <a:pt x="19794" y="12948"/>
                </a:cubicBezTo>
                <a:cubicBezTo>
                  <a:pt x="19794" y="13016"/>
                  <a:pt x="19862" y="13059"/>
                  <a:pt x="19918" y="13072"/>
                </a:cubicBezTo>
                <a:cubicBezTo>
                  <a:pt x="19974" y="13085"/>
                  <a:pt x="20018" y="13068"/>
                  <a:pt x="20067" y="13047"/>
                </a:cubicBezTo>
              </a:path>
              <a:path w="3622" h="795">
                <a:moveTo>
                  <a:pt x="20216" y="12750"/>
                </a:moveTo>
                <a:cubicBezTo>
                  <a:pt x="20179" y="12798"/>
                  <a:pt x="20191" y="12831"/>
                  <a:pt x="20191" y="12898"/>
                </a:cubicBezTo>
                <a:cubicBezTo>
                  <a:pt x="20191" y="12946"/>
                  <a:pt x="20193" y="12960"/>
                  <a:pt x="20216" y="12998"/>
                </a:cubicBezTo>
                <a:cubicBezTo>
                  <a:pt x="20277" y="12937"/>
                  <a:pt x="20267" y="12918"/>
                  <a:pt x="20290" y="12849"/>
                </a:cubicBezTo>
                <a:cubicBezTo>
                  <a:pt x="20303" y="12809"/>
                  <a:pt x="20336" y="12686"/>
                  <a:pt x="20389" y="12675"/>
                </a:cubicBezTo>
                <a:cubicBezTo>
                  <a:pt x="20503" y="12651"/>
                  <a:pt x="20473" y="12684"/>
                  <a:pt x="20513" y="12750"/>
                </a:cubicBezTo>
                <a:cubicBezTo>
                  <a:pt x="20533" y="12783"/>
                  <a:pt x="20582" y="12838"/>
                  <a:pt x="20588" y="12874"/>
                </a:cubicBezTo>
                <a:cubicBezTo>
                  <a:pt x="20604" y="12977"/>
                  <a:pt x="20571" y="12982"/>
                  <a:pt x="20538" y="13047"/>
                </a:cubicBezTo>
              </a:path>
              <a:path w="3622" h="795">
                <a:moveTo>
                  <a:pt x="20935" y="12824"/>
                </a:moveTo>
                <a:cubicBezTo>
                  <a:pt x="21000" y="12824"/>
                  <a:pt x="21048" y="12827"/>
                  <a:pt x="21109" y="12799"/>
                </a:cubicBezTo>
                <a:cubicBezTo>
                  <a:pt x="21127" y="12791"/>
                  <a:pt x="21235" y="12729"/>
                  <a:pt x="21233" y="12700"/>
                </a:cubicBezTo>
                <a:cubicBezTo>
                  <a:pt x="21228" y="12623"/>
                  <a:pt x="21135" y="12650"/>
                  <a:pt x="21084" y="12650"/>
                </a:cubicBezTo>
                <a:cubicBezTo>
                  <a:pt x="21027" y="12650"/>
                  <a:pt x="20973" y="12647"/>
                  <a:pt x="20935" y="12700"/>
                </a:cubicBezTo>
                <a:cubicBezTo>
                  <a:pt x="20899" y="12751"/>
                  <a:pt x="20871" y="12814"/>
                  <a:pt x="20861" y="12874"/>
                </a:cubicBezTo>
                <a:cubicBezTo>
                  <a:pt x="20852" y="12927"/>
                  <a:pt x="20862" y="13001"/>
                  <a:pt x="20886" y="13047"/>
                </a:cubicBezTo>
                <a:cubicBezTo>
                  <a:pt x="20907" y="13088"/>
                  <a:pt x="20998" y="13159"/>
                  <a:pt x="21034" y="13171"/>
                </a:cubicBezTo>
                <a:cubicBezTo>
                  <a:pt x="21109" y="13197"/>
                  <a:pt x="21168" y="13241"/>
                  <a:pt x="21258" y="13246"/>
                </a:cubicBezTo>
                <a:cubicBezTo>
                  <a:pt x="21331" y="13250"/>
                  <a:pt x="21372" y="13205"/>
                  <a:pt x="21431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0040" y="5054760"/>
            <a:ext cx="571680" cy="312480"/>
          </a:xfrm>
          <a:custGeom>
            <a:avLst/>
            <a:gdLst/>
            <a:ahLst/>
            <a:rect l="l" t="t" r="r" b="b"/>
            <a:pathLst>
              <a:path w="1589" h="870">
                <a:moveTo>
                  <a:pt x="1712" y="14288"/>
                </a:moveTo>
                <a:cubicBezTo>
                  <a:pt x="1644" y="14288"/>
                  <a:pt x="1584" y="14308"/>
                  <a:pt x="1538" y="14362"/>
                </a:cubicBezTo>
                <a:cubicBezTo>
                  <a:pt x="1490" y="14417"/>
                  <a:pt x="1441" y="14490"/>
                  <a:pt x="1414" y="14560"/>
                </a:cubicBezTo>
                <a:cubicBezTo>
                  <a:pt x="1381" y="14645"/>
                  <a:pt x="1376" y="14712"/>
                  <a:pt x="1439" y="14784"/>
                </a:cubicBezTo>
                <a:cubicBezTo>
                  <a:pt x="1518" y="14874"/>
                  <a:pt x="1568" y="14903"/>
                  <a:pt x="1687" y="14908"/>
                </a:cubicBezTo>
                <a:cubicBezTo>
                  <a:pt x="1762" y="14911"/>
                  <a:pt x="1868" y="14912"/>
                  <a:pt x="1935" y="14883"/>
                </a:cubicBezTo>
                <a:cubicBezTo>
                  <a:pt x="2004" y="14854"/>
                  <a:pt x="2026" y="14749"/>
                  <a:pt x="2034" y="14684"/>
                </a:cubicBezTo>
                <a:cubicBezTo>
                  <a:pt x="2042" y="14615"/>
                  <a:pt x="2043" y="14471"/>
                  <a:pt x="2009" y="14412"/>
                </a:cubicBezTo>
                <a:cubicBezTo>
                  <a:pt x="1970" y="14344"/>
                  <a:pt x="1942" y="14332"/>
                  <a:pt x="1885" y="14312"/>
                </a:cubicBezTo>
                <a:cubicBezTo>
                  <a:pt x="1885" y="14312"/>
                  <a:pt x="1753" y="14251"/>
                  <a:pt x="1761" y="14312"/>
                </a:cubicBezTo>
                <a:cubicBezTo>
                  <a:pt x="1791" y="14342"/>
                  <a:pt x="1805" y="14347"/>
                  <a:pt x="1836" y="14312"/>
                </a:cubicBezTo>
              </a:path>
              <a:path w="1589" h="870">
                <a:moveTo>
                  <a:pt x="2282" y="14288"/>
                </a:moveTo>
                <a:cubicBezTo>
                  <a:pt x="2290" y="14325"/>
                  <a:pt x="2294" y="14377"/>
                  <a:pt x="2307" y="14412"/>
                </a:cubicBezTo>
                <a:cubicBezTo>
                  <a:pt x="2329" y="14471"/>
                  <a:pt x="2366" y="14525"/>
                  <a:pt x="2381" y="14585"/>
                </a:cubicBezTo>
                <a:cubicBezTo>
                  <a:pt x="2394" y="14635"/>
                  <a:pt x="2381" y="14708"/>
                  <a:pt x="2381" y="14759"/>
                </a:cubicBezTo>
                <a:cubicBezTo>
                  <a:pt x="2360" y="14697"/>
                  <a:pt x="2343" y="14625"/>
                  <a:pt x="2332" y="14560"/>
                </a:cubicBezTo>
                <a:cubicBezTo>
                  <a:pt x="2319" y="14485"/>
                  <a:pt x="2307" y="14415"/>
                  <a:pt x="2307" y="14337"/>
                </a:cubicBezTo>
                <a:cubicBezTo>
                  <a:pt x="2307" y="14264"/>
                  <a:pt x="2308" y="14201"/>
                  <a:pt x="2356" y="14139"/>
                </a:cubicBezTo>
                <a:cubicBezTo>
                  <a:pt x="2420" y="14057"/>
                  <a:pt x="2457" y="14039"/>
                  <a:pt x="2555" y="14039"/>
                </a:cubicBezTo>
                <a:cubicBezTo>
                  <a:pt x="2621" y="14039"/>
                  <a:pt x="2627" y="14079"/>
                  <a:pt x="2679" y="14114"/>
                </a:cubicBezTo>
                <a:cubicBezTo>
                  <a:pt x="2722" y="14142"/>
                  <a:pt x="2767" y="14201"/>
                  <a:pt x="2753" y="14263"/>
                </a:cubicBezTo>
                <a:cubicBezTo>
                  <a:pt x="2737" y="14335"/>
                  <a:pt x="2652" y="14367"/>
                  <a:pt x="2604" y="14387"/>
                </a:cubicBezTo>
                <a:cubicBezTo>
                  <a:pt x="2541" y="14413"/>
                  <a:pt x="2489" y="14452"/>
                  <a:pt x="2431" y="14486"/>
                </a:cubicBezTo>
                <a:cubicBezTo>
                  <a:pt x="2484" y="14444"/>
                  <a:pt x="2526" y="14422"/>
                  <a:pt x="2580" y="14486"/>
                </a:cubicBezTo>
                <a:cubicBezTo>
                  <a:pt x="2618" y="14532"/>
                  <a:pt x="2637" y="14590"/>
                  <a:pt x="2679" y="14635"/>
                </a:cubicBezTo>
                <a:cubicBezTo>
                  <a:pt x="2710" y="14668"/>
                  <a:pt x="2770" y="14759"/>
                  <a:pt x="2803" y="14784"/>
                </a:cubicBezTo>
                <a:cubicBezTo>
                  <a:pt x="2821" y="14798"/>
                  <a:pt x="2897" y="14818"/>
                  <a:pt x="2927" y="14808"/>
                </a:cubicBezTo>
                <a:cubicBezTo>
                  <a:pt x="2977" y="14784"/>
                  <a:pt x="2994" y="14776"/>
                  <a:pt x="2952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28840" y="4983120"/>
            <a:ext cx="1411200" cy="465120"/>
          </a:xfrm>
          <a:custGeom>
            <a:avLst/>
            <a:gdLst/>
            <a:ahLst/>
            <a:rect l="l" t="t" r="r" b="b"/>
            <a:pathLst>
              <a:path w="3920" h="1291">
                <a:moveTo>
                  <a:pt x="3969" y="14163"/>
                </a:moveTo>
                <a:cubicBezTo>
                  <a:pt x="3977" y="14117"/>
                  <a:pt x="4008" y="14080"/>
                  <a:pt x="4068" y="14064"/>
                </a:cubicBezTo>
                <a:cubicBezTo>
                  <a:pt x="4115" y="14051"/>
                  <a:pt x="4254" y="14048"/>
                  <a:pt x="4291" y="14089"/>
                </a:cubicBezTo>
                <a:cubicBezTo>
                  <a:pt x="4337" y="14139"/>
                  <a:pt x="4326" y="14237"/>
                  <a:pt x="4291" y="14288"/>
                </a:cubicBezTo>
                <a:cubicBezTo>
                  <a:pt x="4246" y="14354"/>
                  <a:pt x="4205" y="14382"/>
                  <a:pt x="4142" y="14436"/>
                </a:cubicBezTo>
                <a:cubicBezTo>
                  <a:pt x="4163" y="14439"/>
                  <a:pt x="4300" y="14448"/>
                  <a:pt x="4316" y="14461"/>
                </a:cubicBezTo>
                <a:cubicBezTo>
                  <a:pt x="4352" y="14491"/>
                  <a:pt x="4380" y="14587"/>
                  <a:pt x="4366" y="14635"/>
                </a:cubicBezTo>
                <a:cubicBezTo>
                  <a:pt x="4348" y="14694"/>
                  <a:pt x="4306" y="14763"/>
                  <a:pt x="4266" y="14808"/>
                </a:cubicBezTo>
                <a:cubicBezTo>
                  <a:pt x="4222" y="14858"/>
                  <a:pt x="4185" y="14832"/>
                  <a:pt x="4142" y="14808"/>
                </a:cubicBezTo>
                <a:cubicBezTo>
                  <a:pt x="4065" y="14765"/>
                  <a:pt x="4045" y="14765"/>
                  <a:pt x="4068" y="14684"/>
                </a:cubicBezTo>
              </a:path>
              <a:path w="3920" h="1291">
                <a:moveTo>
                  <a:pt x="4539" y="14486"/>
                </a:moveTo>
                <a:cubicBezTo>
                  <a:pt x="4604" y="14486"/>
                  <a:pt x="4659" y="14476"/>
                  <a:pt x="4713" y="14461"/>
                </a:cubicBezTo>
                <a:cubicBezTo>
                  <a:pt x="4771" y="14445"/>
                  <a:pt x="4804" y="14461"/>
                  <a:pt x="4862" y="14436"/>
                </a:cubicBezTo>
              </a:path>
              <a:path w="3920" h="1291">
                <a:moveTo>
                  <a:pt x="5333" y="14362"/>
                </a:moveTo>
                <a:cubicBezTo>
                  <a:pt x="5392" y="14388"/>
                  <a:pt x="5455" y="14396"/>
                  <a:pt x="5507" y="14337"/>
                </a:cubicBezTo>
                <a:cubicBezTo>
                  <a:pt x="5529" y="14312"/>
                  <a:pt x="5507" y="14231"/>
                  <a:pt x="5482" y="14213"/>
                </a:cubicBezTo>
                <a:cubicBezTo>
                  <a:pt x="5394" y="14152"/>
                  <a:pt x="5386" y="14197"/>
                  <a:pt x="5333" y="14238"/>
                </a:cubicBezTo>
                <a:cubicBezTo>
                  <a:pt x="5254" y="14300"/>
                  <a:pt x="5253" y="14339"/>
                  <a:pt x="5209" y="14436"/>
                </a:cubicBezTo>
                <a:cubicBezTo>
                  <a:pt x="5177" y="14507"/>
                  <a:pt x="5168" y="14572"/>
                  <a:pt x="5209" y="14635"/>
                </a:cubicBezTo>
                <a:cubicBezTo>
                  <a:pt x="5280" y="14743"/>
                  <a:pt x="5378" y="14731"/>
                  <a:pt x="5507" y="14734"/>
                </a:cubicBezTo>
                <a:cubicBezTo>
                  <a:pt x="5608" y="14737"/>
                  <a:pt x="5684" y="14714"/>
                  <a:pt x="5779" y="14684"/>
                </a:cubicBezTo>
              </a:path>
              <a:path w="3920" h="1291">
                <a:moveTo>
                  <a:pt x="6052" y="14188"/>
                </a:moveTo>
                <a:cubicBezTo>
                  <a:pt x="6052" y="14304"/>
                  <a:pt x="6035" y="14427"/>
                  <a:pt x="6077" y="14536"/>
                </a:cubicBezTo>
                <a:cubicBezTo>
                  <a:pt x="6106" y="14612"/>
                  <a:pt x="6102" y="14676"/>
                  <a:pt x="6102" y="14759"/>
                </a:cubicBezTo>
                <a:cubicBezTo>
                  <a:pt x="6102" y="14808"/>
                  <a:pt x="6091" y="14828"/>
                  <a:pt x="6077" y="14759"/>
                </a:cubicBezTo>
              </a:path>
              <a:path w="3920" h="1291">
                <a:moveTo>
                  <a:pt x="5829" y="14461"/>
                </a:moveTo>
                <a:cubicBezTo>
                  <a:pt x="5895" y="14488"/>
                  <a:pt x="5933" y="14497"/>
                  <a:pt x="6003" y="14511"/>
                </a:cubicBezTo>
                <a:cubicBezTo>
                  <a:pt x="6106" y="14532"/>
                  <a:pt x="6243" y="14560"/>
                  <a:pt x="6350" y="14536"/>
                </a:cubicBezTo>
                <a:cubicBezTo>
                  <a:pt x="6417" y="14521"/>
                  <a:pt x="6543" y="14426"/>
                  <a:pt x="6573" y="14362"/>
                </a:cubicBezTo>
                <a:cubicBezTo>
                  <a:pt x="6595" y="14315"/>
                  <a:pt x="6614" y="14195"/>
                  <a:pt x="6598" y="14139"/>
                </a:cubicBezTo>
                <a:cubicBezTo>
                  <a:pt x="6584" y="14090"/>
                  <a:pt x="6544" y="14062"/>
                  <a:pt x="6524" y="14039"/>
                </a:cubicBezTo>
                <a:cubicBezTo>
                  <a:pt x="6455" y="14074"/>
                  <a:pt x="6453" y="14160"/>
                  <a:pt x="6449" y="14263"/>
                </a:cubicBezTo>
                <a:cubicBezTo>
                  <a:pt x="6445" y="14378"/>
                  <a:pt x="6505" y="14474"/>
                  <a:pt x="6524" y="14585"/>
                </a:cubicBezTo>
                <a:cubicBezTo>
                  <a:pt x="6531" y="14624"/>
                  <a:pt x="6524" y="14670"/>
                  <a:pt x="6524" y="14709"/>
                </a:cubicBezTo>
                <a:cubicBezTo>
                  <a:pt x="6532" y="14639"/>
                  <a:pt x="6541" y="14623"/>
                  <a:pt x="6573" y="14560"/>
                </a:cubicBezTo>
                <a:cubicBezTo>
                  <a:pt x="6606" y="14494"/>
                  <a:pt x="6656" y="14449"/>
                  <a:pt x="6722" y="14436"/>
                </a:cubicBezTo>
                <a:cubicBezTo>
                  <a:pt x="6785" y="14423"/>
                  <a:pt x="6854" y="14497"/>
                  <a:pt x="6896" y="14536"/>
                </a:cubicBezTo>
                <a:cubicBezTo>
                  <a:pt x="6932" y="14569"/>
                  <a:pt x="6917" y="14590"/>
                  <a:pt x="6921" y="14635"/>
                </a:cubicBezTo>
              </a:path>
              <a:path w="3920" h="1291">
                <a:moveTo>
                  <a:pt x="7169" y="14337"/>
                </a:moveTo>
                <a:cubicBezTo>
                  <a:pt x="7132" y="14386"/>
                  <a:pt x="7144" y="14419"/>
                  <a:pt x="7144" y="14486"/>
                </a:cubicBezTo>
                <a:cubicBezTo>
                  <a:pt x="7144" y="14519"/>
                  <a:pt x="7144" y="14552"/>
                  <a:pt x="7144" y="14585"/>
                </a:cubicBezTo>
                <a:cubicBezTo>
                  <a:pt x="7239" y="14617"/>
                  <a:pt x="7287" y="14629"/>
                  <a:pt x="7342" y="14536"/>
                </a:cubicBezTo>
                <a:cubicBezTo>
                  <a:pt x="7380" y="14471"/>
                  <a:pt x="7405" y="14402"/>
                  <a:pt x="7441" y="14337"/>
                </a:cubicBezTo>
                <a:cubicBezTo>
                  <a:pt x="7486" y="14255"/>
                  <a:pt x="7444" y="14311"/>
                  <a:pt x="7441" y="14362"/>
                </a:cubicBezTo>
                <a:cubicBezTo>
                  <a:pt x="7433" y="14477"/>
                  <a:pt x="7459" y="14559"/>
                  <a:pt x="7516" y="14660"/>
                </a:cubicBezTo>
                <a:cubicBezTo>
                  <a:pt x="7571" y="14757"/>
                  <a:pt x="7636" y="14834"/>
                  <a:pt x="7689" y="14932"/>
                </a:cubicBezTo>
                <a:cubicBezTo>
                  <a:pt x="7707" y="14965"/>
                  <a:pt x="7744" y="15076"/>
                  <a:pt x="7689" y="15106"/>
                </a:cubicBezTo>
                <a:cubicBezTo>
                  <a:pt x="7634" y="15136"/>
                  <a:pt x="7504" y="15143"/>
                  <a:pt x="7441" y="15131"/>
                </a:cubicBezTo>
                <a:cubicBezTo>
                  <a:pt x="7363" y="15116"/>
                  <a:pt x="7267" y="15104"/>
                  <a:pt x="7218" y="15032"/>
                </a:cubicBezTo>
                <a:cubicBezTo>
                  <a:pt x="7218" y="15024"/>
                  <a:pt x="7218" y="15015"/>
                  <a:pt x="7218" y="15007"/>
                </a:cubicBezTo>
              </a:path>
              <a:path w="3920" h="1291">
                <a:moveTo>
                  <a:pt x="7838" y="13841"/>
                </a:moveTo>
                <a:cubicBezTo>
                  <a:pt x="7822" y="13841"/>
                  <a:pt x="7805" y="13841"/>
                  <a:pt x="7789" y="13841"/>
                </a:cubicBezTo>
                <a:cubicBezTo>
                  <a:pt x="7789" y="13929"/>
                  <a:pt x="7789" y="14002"/>
                  <a:pt x="7813" y="14089"/>
                </a:cubicBezTo>
                <a:cubicBezTo>
                  <a:pt x="7846" y="14209"/>
                  <a:pt x="7884" y="14311"/>
                  <a:pt x="7888" y="14436"/>
                </a:cubicBezTo>
                <a:cubicBezTo>
                  <a:pt x="7889" y="14470"/>
                  <a:pt x="7888" y="14760"/>
                  <a:pt x="7888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36960" y="517032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8434" y="14362"/>
                </a:moveTo>
                <a:cubicBezTo>
                  <a:pt x="8495" y="14362"/>
                  <a:pt x="8513" y="14384"/>
                  <a:pt x="8582" y="14387"/>
                </a:cubicBezTo>
                <a:cubicBezTo>
                  <a:pt x="8680" y="14392"/>
                  <a:pt x="8684" y="14393"/>
                  <a:pt x="8756" y="14436"/>
                </a:cubicBezTo>
                <a:cubicBezTo>
                  <a:pt x="8764" y="14436"/>
                  <a:pt x="8773" y="14436"/>
                  <a:pt x="8781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40080" y="5054760"/>
            <a:ext cx="249120" cy="24912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9277" y="14039"/>
                </a:moveTo>
                <a:cubicBezTo>
                  <a:pt x="9277" y="14109"/>
                  <a:pt x="9272" y="14150"/>
                  <a:pt x="9302" y="14213"/>
                </a:cubicBezTo>
                <a:cubicBezTo>
                  <a:pt x="9330" y="14273"/>
                  <a:pt x="9343" y="14369"/>
                  <a:pt x="9327" y="14436"/>
                </a:cubicBezTo>
                <a:cubicBezTo>
                  <a:pt x="9309" y="14513"/>
                  <a:pt x="9302" y="14578"/>
                  <a:pt x="9302" y="14660"/>
                </a:cubicBezTo>
                <a:cubicBezTo>
                  <a:pt x="9302" y="14768"/>
                  <a:pt x="9327" y="14728"/>
                  <a:pt x="9376" y="14660"/>
                </a:cubicBezTo>
              </a:path>
              <a:path w="695" h="696">
                <a:moveTo>
                  <a:pt x="9699" y="14461"/>
                </a:moveTo>
                <a:cubicBezTo>
                  <a:pt x="9767" y="14467"/>
                  <a:pt x="9816" y="14508"/>
                  <a:pt x="9872" y="14511"/>
                </a:cubicBezTo>
                <a:cubicBezTo>
                  <a:pt x="9949" y="14515"/>
                  <a:pt x="9957" y="14521"/>
                  <a:pt x="9971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95840" y="4956120"/>
            <a:ext cx="1365120" cy="465120"/>
          </a:xfrm>
          <a:custGeom>
            <a:avLst/>
            <a:gdLst/>
            <a:ahLst/>
            <a:rect l="l" t="t" r="r" b="b"/>
            <a:pathLst>
              <a:path w="3796" h="1290">
                <a:moveTo>
                  <a:pt x="10542" y="14039"/>
                </a:moveTo>
                <a:cubicBezTo>
                  <a:pt x="10542" y="14133"/>
                  <a:pt x="10534" y="14222"/>
                  <a:pt x="10567" y="14312"/>
                </a:cubicBezTo>
                <a:cubicBezTo>
                  <a:pt x="10590" y="14376"/>
                  <a:pt x="10592" y="14417"/>
                  <a:pt x="10592" y="14486"/>
                </a:cubicBezTo>
                <a:cubicBezTo>
                  <a:pt x="10592" y="14604"/>
                  <a:pt x="10600" y="14423"/>
                  <a:pt x="10616" y="14387"/>
                </a:cubicBezTo>
                <a:cubicBezTo>
                  <a:pt x="10651" y="14307"/>
                  <a:pt x="10684" y="14230"/>
                  <a:pt x="10740" y="14163"/>
                </a:cubicBezTo>
                <a:cubicBezTo>
                  <a:pt x="10786" y="14108"/>
                  <a:pt x="10886" y="14073"/>
                  <a:pt x="10914" y="14163"/>
                </a:cubicBezTo>
                <a:cubicBezTo>
                  <a:pt x="10934" y="14227"/>
                  <a:pt x="10925" y="14296"/>
                  <a:pt x="10939" y="14362"/>
                </a:cubicBezTo>
                <a:cubicBezTo>
                  <a:pt x="10953" y="14424"/>
                  <a:pt x="10964" y="14432"/>
                  <a:pt x="10964" y="14486"/>
                </a:cubicBezTo>
                <a:cubicBezTo>
                  <a:pt x="10993" y="14427"/>
                  <a:pt x="11010" y="14370"/>
                  <a:pt x="11038" y="14312"/>
                </a:cubicBezTo>
                <a:cubicBezTo>
                  <a:pt x="11067" y="14250"/>
                  <a:pt x="11105" y="14215"/>
                  <a:pt x="11162" y="14188"/>
                </a:cubicBezTo>
                <a:cubicBezTo>
                  <a:pt x="11241" y="14151"/>
                  <a:pt x="11266" y="14160"/>
                  <a:pt x="11311" y="14238"/>
                </a:cubicBezTo>
                <a:cubicBezTo>
                  <a:pt x="11362" y="14326"/>
                  <a:pt x="11373" y="14398"/>
                  <a:pt x="11410" y="14486"/>
                </a:cubicBezTo>
                <a:cubicBezTo>
                  <a:pt x="11431" y="14535"/>
                  <a:pt x="11421" y="14671"/>
                  <a:pt x="11460" y="14635"/>
                </a:cubicBezTo>
                <a:cubicBezTo>
                  <a:pt x="11476" y="14610"/>
                  <a:pt x="11493" y="14585"/>
                  <a:pt x="11509" y="14560"/>
                </a:cubicBezTo>
              </a:path>
              <a:path w="3796" h="1290">
                <a:moveTo>
                  <a:pt x="11832" y="14337"/>
                </a:moveTo>
                <a:cubicBezTo>
                  <a:pt x="11877" y="14337"/>
                  <a:pt x="12002" y="14358"/>
                  <a:pt x="12030" y="14312"/>
                </a:cubicBezTo>
                <a:cubicBezTo>
                  <a:pt x="12066" y="14254"/>
                  <a:pt x="12000" y="14182"/>
                  <a:pt x="11956" y="14163"/>
                </a:cubicBezTo>
                <a:cubicBezTo>
                  <a:pt x="11903" y="14141"/>
                  <a:pt x="11867" y="14127"/>
                  <a:pt x="11807" y="14163"/>
                </a:cubicBezTo>
                <a:cubicBezTo>
                  <a:pt x="11739" y="14205"/>
                  <a:pt x="11705" y="14231"/>
                  <a:pt x="11683" y="14312"/>
                </a:cubicBezTo>
                <a:cubicBezTo>
                  <a:pt x="11663" y="14386"/>
                  <a:pt x="11690" y="14454"/>
                  <a:pt x="11733" y="14511"/>
                </a:cubicBezTo>
                <a:cubicBezTo>
                  <a:pt x="11795" y="14593"/>
                  <a:pt x="11910" y="14606"/>
                  <a:pt x="12005" y="14610"/>
                </a:cubicBezTo>
                <a:cubicBezTo>
                  <a:pt x="12097" y="14610"/>
                  <a:pt x="12139" y="14607"/>
                  <a:pt x="12204" y="14585"/>
                </a:cubicBezTo>
              </a:path>
              <a:path w="3796" h="1290">
                <a:moveTo>
                  <a:pt x="12650" y="14039"/>
                </a:moveTo>
                <a:cubicBezTo>
                  <a:pt x="12650" y="14111"/>
                  <a:pt x="12665" y="14172"/>
                  <a:pt x="12675" y="14238"/>
                </a:cubicBezTo>
                <a:cubicBezTo>
                  <a:pt x="12690" y="14330"/>
                  <a:pt x="12673" y="14434"/>
                  <a:pt x="12650" y="14511"/>
                </a:cubicBezTo>
                <a:cubicBezTo>
                  <a:pt x="12650" y="14519"/>
                  <a:pt x="12650" y="14528"/>
                  <a:pt x="12650" y="14536"/>
                </a:cubicBezTo>
              </a:path>
              <a:path w="3796" h="1290">
                <a:moveTo>
                  <a:pt x="12353" y="14238"/>
                </a:moveTo>
                <a:cubicBezTo>
                  <a:pt x="12406" y="14291"/>
                  <a:pt x="12426" y="14288"/>
                  <a:pt x="12502" y="14288"/>
                </a:cubicBezTo>
                <a:cubicBezTo>
                  <a:pt x="12627" y="14288"/>
                  <a:pt x="12758" y="14295"/>
                  <a:pt x="12874" y="14238"/>
                </a:cubicBezTo>
                <a:cubicBezTo>
                  <a:pt x="12979" y="14187"/>
                  <a:pt x="13046" y="14147"/>
                  <a:pt x="13097" y="14064"/>
                </a:cubicBezTo>
                <a:cubicBezTo>
                  <a:pt x="13140" y="13994"/>
                  <a:pt x="13157" y="13922"/>
                  <a:pt x="13122" y="13841"/>
                </a:cubicBezTo>
                <a:cubicBezTo>
                  <a:pt x="13114" y="13833"/>
                  <a:pt x="13105" y="13824"/>
                  <a:pt x="13097" y="13816"/>
                </a:cubicBezTo>
                <a:cubicBezTo>
                  <a:pt x="13011" y="13885"/>
                  <a:pt x="13024" y="13879"/>
                  <a:pt x="12998" y="13990"/>
                </a:cubicBezTo>
                <a:cubicBezTo>
                  <a:pt x="12971" y="14107"/>
                  <a:pt x="12973" y="14216"/>
                  <a:pt x="12973" y="14337"/>
                </a:cubicBezTo>
                <a:cubicBezTo>
                  <a:pt x="12973" y="14403"/>
                  <a:pt x="12973" y="14470"/>
                  <a:pt x="12973" y="14536"/>
                </a:cubicBezTo>
                <a:cubicBezTo>
                  <a:pt x="13024" y="14470"/>
                  <a:pt x="13059" y="14367"/>
                  <a:pt x="13122" y="14312"/>
                </a:cubicBezTo>
                <a:cubicBezTo>
                  <a:pt x="13172" y="14269"/>
                  <a:pt x="13244" y="14283"/>
                  <a:pt x="13295" y="14312"/>
                </a:cubicBezTo>
                <a:cubicBezTo>
                  <a:pt x="13331" y="14332"/>
                  <a:pt x="13380" y="14423"/>
                  <a:pt x="13395" y="14461"/>
                </a:cubicBezTo>
                <a:cubicBezTo>
                  <a:pt x="13427" y="14540"/>
                  <a:pt x="13384" y="14571"/>
                  <a:pt x="13419" y="14536"/>
                </a:cubicBezTo>
              </a:path>
              <a:path w="3796" h="1290">
                <a:moveTo>
                  <a:pt x="13692" y="14263"/>
                </a:moveTo>
                <a:cubicBezTo>
                  <a:pt x="13692" y="14318"/>
                  <a:pt x="13680" y="14334"/>
                  <a:pt x="13667" y="14387"/>
                </a:cubicBezTo>
                <a:cubicBezTo>
                  <a:pt x="13654" y="14439"/>
                  <a:pt x="13663" y="14497"/>
                  <a:pt x="13692" y="14536"/>
                </a:cubicBezTo>
                <a:cubicBezTo>
                  <a:pt x="13749" y="14525"/>
                  <a:pt x="13797" y="14501"/>
                  <a:pt x="13841" y="14461"/>
                </a:cubicBezTo>
                <a:cubicBezTo>
                  <a:pt x="13898" y="14409"/>
                  <a:pt x="13911" y="14340"/>
                  <a:pt x="13915" y="14263"/>
                </a:cubicBezTo>
                <a:cubicBezTo>
                  <a:pt x="13915" y="14213"/>
                  <a:pt x="13915" y="14196"/>
                  <a:pt x="13915" y="14163"/>
                </a:cubicBezTo>
                <a:cubicBezTo>
                  <a:pt x="13915" y="14242"/>
                  <a:pt x="13899" y="14311"/>
                  <a:pt x="13891" y="14387"/>
                </a:cubicBezTo>
                <a:cubicBezTo>
                  <a:pt x="13877" y="14518"/>
                  <a:pt x="13971" y="14910"/>
                  <a:pt x="13866" y="15007"/>
                </a:cubicBezTo>
                <a:cubicBezTo>
                  <a:pt x="13814" y="15055"/>
                  <a:pt x="13710" y="15073"/>
                  <a:pt x="13643" y="15056"/>
                </a:cubicBezTo>
                <a:cubicBezTo>
                  <a:pt x="13571" y="15038"/>
                  <a:pt x="13511" y="14976"/>
                  <a:pt x="13494" y="14908"/>
                </a:cubicBezTo>
                <a:cubicBezTo>
                  <a:pt x="13494" y="14858"/>
                  <a:pt x="13494" y="14841"/>
                  <a:pt x="13494" y="14808"/>
                </a:cubicBezTo>
              </a:path>
              <a:path w="3796" h="1290">
                <a:moveTo>
                  <a:pt x="14312" y="13767"/>
                </a:moveTo>
                <a:cubicBezTo>
                  <a:pt x="14312" y="13858"/>
                  <a:pt x="14327" y="13928"/>
                  <a:pt x="14337" y="14015"/>
                </a:cubicBezTo>
                <a:cubicBezTo>
                  <a:pt x="14359" y="14200"/>
                  <a:pt x="14337" y="14399"/>
                  <a:pt x="14337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83160" y="4956120"/>
            <a:ext cx="874800" cy="492120"/>
          </a:xfrm>
          <a:custGeom>
            <a:avLst/>
            <a:gdLst/>
            <a:ahLst/>
            <a:rect l="l" t="t" r="r" b="b"/>
            <a:pathLst>
              <a:path w="2432" h="1365">
                <a:moveTo>
                  <a:pt x="15453" y="14089"/>
                </a:moveTo>
                <a:cubicBezTo>
                  <a:pt x="15441" y="14028"/>
                  <a:pt x="15408" y="13967"/>
                  <a:pt x="15329" y="14039"/>
                </a:cubicBezTo>
                <a:cubicBezTo>
                  <a:pt x="15255" y="14106"/>
                  <a:pt x="15230" y="14170"/>
                  <a:pt x="15230" y="14263"/>
                </a:cubicBezTo>
                <a:cubicBezTo>
                  <a:pt x="15230" y="14333"/>
                  <a:pt x="15220" y="14410"/>
                  <a:pt x="15280" y="14461"/>
                </a:cubicBezTo>
                <a:cubicBezTo>
                  <a:pt x="15370" y="14537"/>
                  <a:pt x="15486" y="14561"/>
                  <a:pt x="15602" y="14536"/>
                </a:cubicBezTo>
                <a:cubicBezTo>
                  <a:pt x="15652" y="14519"/>
                  <a:pt x="15701" y="14503"/>
                  <a:pt x="15751" y="14486"/>
                </a:cubicBezTo>
              </a:path>
              <a:path w="2432" h="1365">
                <a:moveTo>
                  <a:pt x="15949" y="14114"/>
                </a:moveTo>
                <a:cubicBezTo>
                  <a:pt x="15949" y="14203"/>
                  <a:pt x="15914" y="14394"/>
                  <a:pt x="15974" y="14461"/>
                </a:cubicBezTo>
                <a:cubicBezTo>
                  <a:pt x="16039" y="14533"/>
                  <a:pt x="16063" y="14458"/>
                  <a:pt x="16098" y="14412"/>
                </a:cubicBezTo>
                <a:cubicBezTo>
                  <a:pt x="16136" y="14362"/>
                  <a:pt x="16167" y="14318"/>
                  <a:pt x="16197" y="14263"/>
                </a:cubicBezTo>
                <a:cubicBezTo>
                  <a:pt x="16236" y="14193"/>
                  <a:pt x="16222" y="14116"/>
                  <a:pt x="16222" y="14039"/>
                </a:cubicBezTo>
                <a:cubicBezTo>
                  <a:pt x="16222" y="14181"/>
                  <a:pt x="16239" y="14273"/>
                  <a:pt x="16272" y="14412"/>
                </a:cubicBezTo>
                <a:cubicBezTo>
                  <a:pt x="16312" y="14583"/>
                  <a:pt x="16402" y="14746"/>
                  <a:pt x="16446" y="14908"/>
                </a:cubicBezTo>
                <a:cubicBezTo>
                  <a:pt x="16470" y="14997"/>
                  <a:pt x="16444" y="15063"/>
                  <a:pt x="16371" y="15106"/>
                </a:cubicBezTo>
                <a:cubicBezTo>
                  <a:pt x="16289" y="15154"/>
                  <a:pt x="16228" y="15119"/>
                  <a:pt x="16148" y="15081"/>
                </a:cubicBezTo>
                <a:cubicBezTo>
                  <a:pt x="16049" y="15034"/>
                  <a:pt x="16073" y="15093"/>
                  <a:pt x="16049" y="14982"/>
                </a:cubicBezTo>
              </a:path>
              <a:path w="2432" h="1365">
                <a:moveTo>
                  <a:pt x="16793" y="14238"/>
                </a:moveTo>
                <a:cubicBezTo>
                  <a:pt x="16668" y="14238"/>
                  <a:pt x="16695" y="14248"/>
                  <a:pt x="16619" y="14312"/>
                </a:cubicBezTo>
                <a:cubicBezTo>
                  <a:pt x="16581" y="14344"/>
                  <a:pt x="16502" y="14420"/>
                  <a:pt x="16545" y="14486"/>
                </a:cubicBezTo>
                <a:cubicBezTo>
                  <a:pt x="16582" y="14543"/>
                  <a:pt x="16678" y="14621"/>
                  <a:pt x="16743" y="14635"/>
                </a:cubicBezTo>
                <a:cubicBezTo>
                  <a:pt x="16856" y="14659"/>
                  <a:pt x="16893" y="14609"/>
                  <a:pt x="16966" y="14536"/>
                </a:cubicBezTo>
              </a:path>
              <a:path w="2432" h="1365">
                <a:moveTo>
                  <a:pt x="17041" y="13767"/>
                </a:moveTo>
                <a:cubicBezTo>
                  <a:pt x="17041" y="13951"/>
                  <a:pt x="17044" y="14136"/>
                  <a:pt x="17016" y="14312"/>
                </a:cubicBezTo>
                <a:cubicBezTo>
                  <a:pt x="17005" y="14383"/>
                  <a:pt x="17016" y="14464"/>
                  <a:pt x="17016" y="14536"/>
                </a:cubicBezTo>
              </a:path>
              <a:path w="2432" h="1365">
                <a:moveTo>
                  <a:pt x="17537" y="14139"/>
                </a:moveTo>
                <a:cubicBezTo>
                  <a:pt x="17438" y="14155"/>
                  <a:pt x="17440" y="14168"/>
                  <a:pt x="17388" y="14238"/>
                </a:cubicBezTo>
                <a:cubicBezTo>
                  <a:pt x="17330" y="14315"/>
                  <a:pt x="17314" y="14342"/>
                  <a:pt x="17314" y="14436"/>
                </a:cubicBezTo>
                <a:cubicBezTo>
                  <a:pt x="17314" y="14516"/>
                  <a:pt x="17331" y="14535"/>
                  <a:pt x="17413" y="14560"/>
                </a:cubicBezTo>
                <a:cubicBezTo>
                  <a:pt x="17448" y="14570"/>
                  <a:pt x="17538" y="14532"/>
                  <a:pt x="17562" y="14511"/>
                </a:cubicBezTo>
                <a:cubicBezTo>
                  <a:pt x="17618" y="14462"/>
                  <a:pt x="17655" y="14406"/>
                  <a:pt x="17661" y="14337"/>
                </a:cubicBezTo>
                <a:cubicBezTo>
                  <a:pt x="17666" y="14277"/>
                  <a:pt x="17579" y="14240"/>
                  <a:pt x="17537" y="14213"/>
                </a:cubicBezTo>
                <a:cubicBezTo>
                  <a:pt x="17465" y="14165"/>
                  <a:pt x="17444" y="14150"/>
                  <a:pt x="17388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43800" y="4902120"/>
            <a:ext cx="1581120" cy="349200"/>
          </a:xfrm>
          <a:custGeom>
            <a:avLst/>
            <a:gdLst/>
            <a:ahLst/>
            <a:rect l="l" t="t" r="r" b="b"/>
            <a:pathLst>
              <a:path w="4391" h="968">
                <a:moveTo>
                  <a:pt x="18752" y="14039"/>
                </a:moveTo>
                <a:cubicBezTo>
                  <a:pt x="18709" y="14032"/>
                  <a:pt x="18650" y="13999"/>
                  <a:pt x="18604" y="14015"/>
                </a:cubicBezTo>
                <a:cubicBezTo>
                  <a:pt x="18525" y="14042"/>
                  <a:pt x="18470" y="14061"/>
                  <a:pt x="18455" y="14139"/>
                </a:cubicBezTo>
                <a:cubicBezTo>
                  <a:pt x="18436" y="14239"/>
                  <a:pt x="18459" y="14300"/>
                  <a:pt x="18504" y="14362"/>
                </a:cubicBezTo>
                <a:cubicBezTo>
                  <a:pt x="18558" y="14437"/>
                  <a:pt x="18602" y="14412"/>
                  <a:pt x="18703" y="14412"/>
                </a:cubicBezTo>
                <a:cubicBezTo>
                  <a:pt x="18744" y="14412"/>
                  <a:pt x="18881" y="14391"/>
                  <a:pt x="18901" y="14337"/>
                </a:cubicBezTo>
                <a:cubicBezTo>
                  <a:pt x="18934" y="14246"/>
                  <a:pt x="18845" y="14207"/>
                  <a:pt x="18827" y="14139"/>
                </a:cubicBezTo>
                <a:cubicBezTo>
                  <a:pt x="18813" y="14086"/>
                  <a:pt x="18715" y="14046"/>
                  <a:pt x="18728" y="14089"/>
                </a:cubicBezTo>
                <a:cubicBezTo>
                  <a:pt x="18736" y="14089"/>
                  <a:pt x="18744" y="14089"/>
                  <a:pt x="18752" y="14089"/>
                </a:cubicBezTo>
              </a:path>
              <a:path w="4391" h="968">
                <a:moveTo>
                  <a:pt x="19447" y="14015"/>
                </a:moveTo>
                <a:cubicBezTo>
                  <a:pt x="19393" y="14022"/>
                  <a:pt x="19341" y="14029"/>
                  <a:pt x="19298" y="14064"/>
                </a:cubicBezTo>
                <a:cubicBezTo>
                  <a:pt x="19259" y="14095"/>
                  <a:pt x="19203" y="14119"/>
                  <a:pt x="19174" y="14163"/>
                </a:cubicBezTo>
                <a:cubicBezTo>
                  <a:pt x="19139" y="14218"/>
                  <a:pt x="19149" y="14275"/>
                  <a:pt x="19149" y="14337"/>
                </a:cubicBezTo>
                <a:cubicBezTo>
                  <a:pt x="19149" y="14416"/>
                  <a:pt x="19247" y="14426"/>
                  <a:pt x="19298" y="14461"/>
                </a:cubicBezTo>
                <a:cubicBezTo>
                  <a:pt x="19328" y="14482"/>
                  <a:pt x="19432" y="14513"/>
                  <a:pt x="19472" y="14486"/>
                </a:cubicBezTo>
                <a:cubicBezTo>
                  <a:pt x="19526" y="14449"/>
                  <a:pt x="19560" y="14417"/>
                  <a:pt x="19621" y="14387"/>
                </a:cubicBezTo>
              </a:path>
              <a:path w="4391" h="968">
                <a:moveTo>
                  <a:pt x="20141" y="13618"/>
                </a:moveTo>
                <a:cubicBezTo>
                  <a:pt x="20180" y="13631"/>
                  <a:pt x="20168" y="13692"/>
                  <a:pt x="20191" y="13742"/>
                </a:cubicBezTo>
                <a:cubicBezTo>
                  <a:pt x="20229" y="13827"/>
                  <a:pt x="20288" y="13930"/>
                  <a:pt x="20315" y="14015"/>
                </a:cubicBezTo>
                <a:cubicBezTo>
                  <a:pt x="20334" y="14076"/>
                  <a:pt x="20322" y="14242"/>
                  <a:pt x="20290" y="14263"/>
                </a:cubicBezTo>
              </a:path>
              <a:path w="4391" h="968">
                <a:moveTo>
                  <a:pt x="19968" y="14163"/>
                </a:moveTo>
                <a:cubicBezTo>
                  <a:pt x="20022" y="14132"/>
                  <a:pt x="20124" y="14120"/>
                  <a:pt x="20191" y="14114"/>
                </a:cubicBezTo>
                <a:cubicBezTo>
                  <a:pt x="20290" y="14105"/>
                  <a:pt x="20392" y="14094"/>
                  <a:pt x="20489" y="14089"/>
                </a:cubicBezTo>
                <a:cubicBezTo>
                  <a:pt x="20540" y="14086"/>
                  <a:pt x="20621" y="14108"/>
                  <a:pt x="20662" y="14064"/>
                </a:cubicBezTo>
                <a:cubicBezTo>
                  <a:pt x="20670" y="14048"/>
                  <a:pt x="20679" y="14031"/>
                  <a:pt x="20687" y="14015"/>
                </a:cubicBezTo>
              </a:path>
              <a:path w="4391" h="968">
                <a:moveTo>
                  <a:pt x="21183" y="14163"/>
                </a:moveTo>
                <a:cubicBezTo>
                  <a:pt x="21163" y="14094"/>
                  <a:pt x="21138" y="14069"/>
                  <a:pt x="21059" y="14064"/>
                </a:cubicBezTo>
                <a:cubicBezTo>
                  <a:pt x="20994" y="14060"/>
                  <a:pt x="20978" y="14097"/>
                  <a:pt x="20935" y="14139"/>
                </a:cubicBezTo>
                <a:cubicBezTo>
                  <a:pt x="20892" y="14181"/>
                  <a:pt x="20871" y="14255"/>
                  <a:pt x="20861" y="14312"/>
                </a:cubicBezTo>
                <a:cubicBezTo>
                  <a:pt x="20854" y="14351"/>
                  <a:pt x="20861" y="14396"/>
                  <a:pt x="20861" y="14436"/>
                </a:cubicBezTo>
                <a:cubicBezTo>
                  <a:pt x="20925" y="14436"/>
                  <a:pt x="20977" y="14444"/>
                  <a:pt x="21034" y="14412"/>
                </a:cubicBezTo>
                <a:cubicBezTo>
                  <a:pt x="21104" y="14373"/>
                  <a:pt x="21180" y="14370"/>
                  <a:pt x="21208" y="14288"/>
                </a:cubicBezTo>
                <a:cubicBezTo>
                  <a:pt x="21223" y="14244"/>
                  <a:pt x="21233" y="14216"/>
                  <a:pt x="21233" y="14163"/>
                </a:cubicBezTo>
                <a:cubicBezTo>
                  <a:pt x="21233" y="14154"/>
                  <a:pt x="21233" y="14073"/>
                  <a:pt x="21233" y="14139"/>
                </a:cubicBezTo>
                <a:cubicBezTo>
                  <a:pt x="21233" y="14211"/>
                  <a:pt x="21266" y="14228"/>
                  <a:pt x="21282" y="14288"/>
                </a:cubicBezTo>
                <a:cubicBezTo>
                  <a:pt x="21300" y="14356"/>
                  <a:pt x="21316" y="14438"/>
                  <a:pt x="21406" y="14412"/>
                </a:cubicBezTo>
                <a:cubicBezTo>
                  <a:pt x="21414" y="14404"/>
                  <a:pt x="21423" y="14395"/>
                  <a:pt x="21431" y="14387"/>
                </a:cubicBezTo>
              </a:path>
              <a:path w="4391" h="968">
                <a:moveTo>
                  <a:pt x="21506" y="14114"/>
                </a:moveTo>
                <a:cubicBezTo>
                  <a:pt x="21565" y="14129"/>
                  <a:pt x="21555" y="14154"/>
                  <a:pt x="21555" y="14213"/>
                </a:cubicBezTo>
                <a:cubicBezTo>
                  <a:pt x="21555" y="14276"/>
                  <a:pt x="21541" y="14338"/>
                  <a:pt x="21580" y="14387"/>
                </a:cubicBezTo>
                <a:cubicBezTo>
                  <a:pt x="21608" y="14415"/>
                  <a:pt x="21617" y="14428"/>
                  <a:pt x="21605" y="14461"/>
                </a:cubicBezTo>
                <a:cubicBezTo>
                  <a:pt x="21631" y="14391"/>
                  <a:pt x="21635" y="14329"/>
                  <a:pt x="21654" y="14263"/>
                </a:cubicBezTo>
                <a:cubicBezTo>
                  <a:pt x="21671" y="14204"/>
                  <a:pt x="21669" y="14124"/>
                  <a:pt x="21729" y="14089"/>
                </a:cubicBezTo>
                <a:cubicBezTo>
                  <a:pt x="21812" y="14041"/>
                  <a:pt x="21876" y="14106"/>
                  <a:pt x="21952" y="14139"/>
                </a:cubicBezTo>
                <a:cubicBezTo>
                  <a:pt x="22018" y="14168"/>
                  <a:pt x="22084" y="14201"/>
                  <a:pt x="22126" y="14263"/>
                </a:cubicBezTo>
                <a:cubicBezTo>
                  <a:pt x="22144" y="14290"/>
                  <a:pt x="22191" y="14414"/>
                  <a:pt x="22200" y="14362"/>
                </a:cubicBezTo>
                <a:cubicBezTo>
                  <a:pt x="22200" y="14354"/>
                  <a:pt x="22200" y="14345"/>
                  <a:pt x="22200" y="14337"/>
                </a:cubicBezTo>
              </a:path>
              <a:path w="4391" h="968">
                <a:moveTo>
                  <a:pt x="22349" y="14114"/>
                </a:moveTo>
                <a:cubicBezTo>
                  <a:pt x="22403" y="14071"/>
                  <a:pt x="22479" y="14083"/>
                  <a:pt x="22523" y="14039"/>
                </a:cubicBezTo>
                <a:cubicBezTo>
                  <a:pt x="22545" y="14017"/>
                  <a:pt x="22565" y="13968"/>
                  <a:pt x="22572" y="13940"/>
                </a:cubicBezTo>
                <a:cubicBezTo>
                  <a:pt x="22528" y="13921"/>
                  <a:pt x="22474" y="13900"/>
                  <a:pt x="22423" y="13915"/>
                </a:cubicBezTo>
                <a:cubicBezTo>
                  <a:pt x="22369" y="13931"/>
                  <a:pt x="22309" y="13989"/>
                  <a:pt x="22299" y="14039"/>
                </a:cubicBezTo>
                <a:cubicBezTo>
                  <a:pt x="22288" y="14091"/>
                  <a:pt x="22275" y="14132"/>
                  <a:pt x="22275" y="14188"/>
                </a:cubicBezTo>
                <a:cubicBezTo>
                  <a:pt x="22275" y="14257"/>
                  <a:pt x="22258" y="14319"/>
                  <a:pt x="22324" y="14362"/>
                </a:cubicBezTo>
                <a:cubicBezTo>
                  <a:pt x="22378" y="14397"/>
                  <a:pt x="22485" y="14399"/>
                  <a:pt x="22547" y="14387"/>
                </a:cubicBezTo>
                <a:cubicBezTo>
                  <a:pt x="22647" y="14368"/>
                  <a:pt x="22760" y="14304"/>
                  <a:pt x="22820" y="14238"/>
                </a:cubicBezTo>
                <a:cubicBezTo>
                  <a:pt x="22828" y="14230"/>
                  <a:pt x="22837" y="14221"/>
                  <a:pt x="22845" y="14213"/>
                </a:cubicBezTo>
              </a:path>
              <a:path w="4391" h="968">
                <a:moveTo>
                  <a:pt x="20315" y="14114"/>
                </a:moveTo>
                <a:lnTo>
                  <a:pt x="20315" y="14114"/>
                </a:lnTo>
              </a:path>
              <a:path w="4391" h="968">
                <a:moveTo>
                  <a:pt x="20340" y="14139"/>
                </a:moveTo>
                <a:cubicBezTo>
                  <a:pt x="20340" y="14279"/>
                  <a:pt x="20340" y="14420"/>
                  <a:pt x="20340" y="14560"/>
                </a:cubicBezTo>
                <a:cubicBezTo>
                  <a:pt x="20340" y="14589"/>
                  <a:pt x="20333" y="14546"/>
                  <a:pt x="20290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6920" y="5589720"/>
            <a:ext cx="357120" cy="27756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819" y="15528"/>
                </a:moveTo>
                <a:cubicBezTo>
                  <a:pt x="782" y="15587"/>
                  <a:pt x="758" y="15655"/>
                  <a:pt x="719" y="15701"/>
                </a:cubicBezTo>
                <a:cubicBezTo>
                  <a:pt x="657" y="15773"/>
                  <a:pt x="635" y="15839"/>
                  <a:pt x="595" y="15925"/>
                </a:cubicBezTo>
                <a:cubicBezTo>
                  <a:pt x="575" y="15967"/>
                  <a:pt x="508" y="16073"/>
                  <a:pt x="546" y="16123"/>
                </a:cubicBezTo>
                <a:cubicBezTo>
                  <a:pt x="583" y="16172"/>
                  <a:pt x="657" y="16223"/>
                  <a:pt x="719" y="16247"/>
                </a:cubicBezTo>
                <a:cubicBezTo>
                  <a:pt x="824" y="16288"/>
                  <a:pt x="893" y="16263"/>
                  <a:pt x="992" y="16247"/>
                </a:cubicBezTo>
                <a:cubicBezTo>
                  <a:pt x="1060" y="16236"/>
                  <a:pt x="1137" y="16193"/>
                  <a:pt x="1166" y="16123"/>
                </a:cubicBezTo>
                <a:cubicBezTo>
                  <a:pt x="1189" y="16069"/>
                  <a:pt x="1106" y="16012"/>
                  <a:pt x="1067" y="15999"/>
                </a:cubicBezTo>
                <a:cubicBezTo>
                  <a:pt x="1025" y="15985"/>
                  <a:pt x="932" y="16064"/>
                  <a:pt x="918" y="16098"/>
                </a:cubicBezTo>
                <a:cubicBezTo>
                  <a:pt x="903" y="16136"/>
                  <a:pt x="872" y="16204"/>
                  <a:pt x="868" y="16247"/>
                </a:cubicBezTo>
                <a:cubicBezTo>
                  <a:pt x="864" y="16284"/>
                  <a:pt x="875" y="16308"/>
                  <a:pt x="893" y="16272"/>
                </a:cubicBezTo>
              </a:path>
              <a:path w="993" h="770">
                <a:moveTo>
                  <a:pt x="1513" y="16173"/>
                </a:moveTo>
                <a:cubicBezTo>
                  <a:pt x="1513" y="16181"/>
                  <a:pt x="1513" y="16189"/>
                  <a:pt x="1513" y="16197"/>
                </a:cubicBezTo>
                <a:cubicBezTo>
                  <a:pt x="1531" y="16154"/>
                  <a:pt x="1513" y="16268"/>
                  <a:pt x="1513" y="16222"/>
                </a:cubicBezTo>
                <a:cubicBezTo>
                  <a:pt x="1513" y="16086"/>
                  <a:pt x="1508" y="16193"/>
                  <a:pt x="1463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84160" y="5545080"/>
            <a:ext cx="1241640" cy="509760"/>
          </a:xfrm>
          <a:custGeom>
            <a:avLst/>
            <a:gdLst/>
            <a:ahLst/>
            <a:rect l="l" t="t" r="r" b="b"/>
            <a:pathLst>
              <a:path w="3449" h="1415">
                <a:moveTo>
                  <a:pt x="2456" y="15701"/>
                </a:moveTo>
                <a:cubicBezTo>
                  <a:pt x="2456" y="15753"/>
                  <a:pt x="2477" y="15782"/>
                  <a:pt x="2480" y="15825"/>
                </a:cubicBezTo>
                <a:cubicBezTo>
                  <a:pt x="2488" y="15948"/>
                  <a:pt x="2480" y="16074"/>
                  <a:pt x="2480" y="16197"/>
                </a:cubicBezTo>
                <a:cubicBezTo>
                  <a:pt x="2480" y="16273"/>
                  <a:pt x="2480" y="16137"/>
                  <a:pt x="2480" y="16123"/>
                </a:cubicBezTo>
                <a:cubicBezTo>
                  <a:pt x="2480" y="16024"/>
                  <a:pt x="2461" y="15906"/>
                  <a:pt x="2505" y="15825"/>
                </a:cubicBezTo>
                <a:cubicBezTo>
                  <a:pt x="2542" y="15757"/>
                  <a:pt x="2561" y="15770"/>
                  <a:pt x="2629" y="15751"/>
                </a:cubicBezTo>
                <a:cubicBezTo>
                  <a:pt x="2681" y="15737"/>
                  <a:pt x="2771" y="15704"/>
                  <a:pt x="2828" y="15726"/>
                </a:cubicBezTo>
                <a:cubicBezTo>
                  <a:pt x="2882" y="15747"/>
                  <a:pt x="2877" y="15804"/>
                  <a:pt x="2877" y="15850"/>
                </a:cubicBezTo>
                <a:cubicBezTo>
                  <a:pt x="2877" y="15941"/>
                  <a:pt x="2877" y="16032"/>
                  <a:pt x="2877" y="16123"/>
                </a:cubicBezTo>
                <a:cubicBezTo>
                  <a:pt x="2877" y="16027"/>
                  <a:pt x="2867" y="15931"/>
                  <a:pt x="2902" y="15850"/>
                </a:cubicBezTo>
                <a:cubicBezTo>
                  <a:pt x="2933" y="15778"/>
                  <a:pt x="2931" y="15755"/>
                  <a:pt x="3001" y="15726"/>
                </a:cubicBezTo>
                <a:cubicBezTo>
                  <a:pt x="3059" y="15768"/>
                  <a:pt x="3096" y="15812"/>
                  <a:pt x="3125" y="15875"/>
                </a:cubicBezTo>
                <a:cubicBezTo>
                  <a:pt x="3156" y="15942"/>
                  <a:pt x="3150" y="15999"/>
                  <a:pt x="3150" y="16073"/>
                </a:cubicBezTo>
                <a:cubicBezTo>
                  <a:pt x="3150" y="16120"/>
                  <a:pt x="3125" y="16272"/>
                  <a:pt x="3200" y="16148"/>
                </a:cubicBezTo>
                <a:cubicBezTo>
                  <a:pt x="3200" y="16140"/>
                  <a:pt x="3200" y="16131"/>
                  <a:pt x="3200" y="16123"/>
                </a:cubicBezTo>
              </a:path>
              <a:path w="3449" h="1415">
                <a:moveTo>
                  <a:pt x="3572" y="15900"/>
                </a:moveTo>
                <a:cubicBezTo>
                  <a:pt x="3622" y="15887"/>
                  <a:pt x="3635" y="15875"/>
                  <a:pt x="3696" y="15875"/>
                </a:cubicBezTo>
                <a:cubicBezTo>
                  <a:pt x="3734" y="15875"/>
                  <a:pt x="3812" y="15824"/>
                  <a:pt x="3845" y="15801"/>
                </a:cubicBezTo>
                <a:cubicBezTo>
                  <a:pt x="3907" y="15759"/>
                  <a:pt x="3848" y="15692"/>
                  <a:pt x="3795" y="15677"/>
                </a:cubicBezTo>
                <a:cubicBezTo>
                  <a:pt x="3741" y="15661"/>
                  <a:pt x="3647" y="15627"/>
                  <a:pt x="3597" y="15677"/>
                </a:cubicBezTo>
                <a:cubicBezTo>
                  <a:pt x="3575" y="15698"/>
                  <a:pt x="3514" y="15788"/>
                  <a:pt x="3497" y="15825"/>
                </a:cubicBezTo>
                <a:cubicBezTo>
                  <a:pt x="3464" y="15900"/>
                  <a:pt x="3464" y="15954"/>
                  <a:pt x="3497" y="16024"/>
                </a:cubicBezTo>
                <a:cubicBezTo>
                  <a:pt x="3527" y="16088"/>
                  <a:pt x="3601" y="16173"/>
                  <a:pt x="3671" y="16197"/>
                </a:cubicBezTo>
                <a:cubicBezTo>
                  <a:pt x="3747" y="16223"/>
                  <a:pt x="3854" y="16186"/>
                  <a:pt x="3919" y="16148"/>
                </a:cubicBezTo>
                <a:cubicBezTo>
                  <a:pt x="3984" y="16104"/>
                  <a:pt x="3999" y="16093"/>
                  <a:pt x="4043" y="16073"/>
                </a:cubicBezTo>
              </a:path>
              <a:path w="3449" h="1415">
                <a:moveTo>
                  <a:pt x="4167" y="15478"/>
                </a:moveTo>
                <a:cubicBezTo>
                  <a:pt x="4167" y="15560"/>
                  <a:pt x="4162" y="15623"/>
                  <a:pt x="4192" y="15701"/>
                </a:cubicBezTo>
                <a:cubicBezTo>
                  <a:pt x="4224" y="15783"/>
                  <a:pt x="4217" y="15860"/>
                  <a:pt x="4217" y="15949"/>
                </a:cubicBezTo>
                <a:cubicBezTo>
                  <a:pt x="4217" y="16032"/>
                  <a:pt x="4217" y="16114"/>
                  <a:pt x="4217" y="16197"/>
                </a:cubicBezTo>
                <a:cubicBezTo>
                  <a:pt x="4217" y="16238"/>
                  <a:pt x="4217" y="16164"/>
                  <a:pt x="4217" y="16123"/>
                </a:cubicBezTo>
              </a:path>
              <a:path w="3449" h="1415">
                <a:moveTo>
                  <a:pt x="3994" y="15726"/>
                </a:moveTo>
                <a:cubicBezTo>
                  <a:pt x="4046" y="15780"/>
                  <a:pt x="4067" y="15776"/>
                  <a:pt x="4142" y="15776"/>
                </a:cubicBezTo>
                <a:cubicBezTo>
                  <a:pt x="4255" y="15776"/>
                  <a:pt x="4472" y="15822"/>
                  <a:pt x="4564" y="15751"/>
                </a:cubicBezTo>
                <a:cubicBezTo>
                  <a:pt x="4611" y="15715"/>
                  <a:pt x="4679" y="15664"/>
                  <a:pt x="4688" y="15602"/>
                </a:cubicBezTo>
                <a:cubicBezTo>
                  <a:pt x="4699" y="15527"/>
                  <a:pt x="4664" y="15503"/>
                  <a:pt x="4614" y="15453"/>
                </a:cubicBezTo>
                <a:cubicBezTo>
                  <a:pt x="4606" y="15445"/>
                  <a:pt x="4597" y="15437"/>
                  <a:pt x="4589" y="15429"/>
                </a:cubicBezTo>
                <a:cubicBezTo>
                  <a:pt x="4563" y="15505"/>
                  <a:pt x="4564" y="15570"/>
                  <a:pt x="4564" y="15652"/>
                </a:cubicBezTo>
                <a:cubicBezTo>
                  <a:pt x="4564" y="15753"/>
                  <a:pt x="4610" y="15827"/>
                  <a:pt x="4614" y="15925"/>
                </a:cubicBezTo>
                <a:cubicBezTo>
                  <a:pt x="4617" y="15991"/>
                  <a:pt x="4614" y="16057"/>
                  <a:pt x="4614" y="16123"/>
                </a:cubicBezTo>
                <a:cubicBezTo>
                  <a:pt x="4636" y="16041"/>
                  <a:pt x="4638" y="16010"/>
                  <a:pt x="4638" y="15925"/>
                </a:cubicBezTo>
                <a:cubicBezTo>
                  <a:pt x="4638" y="15856"/>
                  <a:pt x="4661" y="15878"/>
                  <a:pt x="4713" y="15850"/>
                </a:cubicBezTo>
                <a:cubicBezTo>
                  <a:pt x="4757" y="15827"/>
                  <a:pt x="4837" y="15805"/>
                  <a:pt x="4887" y="15825"/>
                </a:cubicBezTo>
                <a:cubicBezTo>
                  <a:pt x="4953" y="15851"/>
                  <a:pt x="4975" y="15917"/>
                  <a:pt x="4986" y="15974"/>
                </a:cubicBezTo>
                <a:cubicBezTo>
                  <a:pt x="4993" y="16009"/>
                  <a:pt x="4986" y="16172"/>
                  <a:pt x="4986" y="15999"/>
                </a:cubicBezTo>
                <a:cubicBezTo>
                  <a:pt x="4986" y="15991"/>
                  <a:pt x="4986" y="15982"/>
                  <a:pt x="4986" y="15974"/>
                </a:cubicBezTo>
              </a:path>
              <a:path w="3449" h="1415">
                <a:moveTo>
                  <a:pt x="5209" y="15801"/>
                </a:moveTo>
                <a:cubicBezTo>
                  <a:pt x="5209" y="15918"/>
                  <a:pt x="5185" y="16034"/>
                  <a:pt x="5259" y="16123"/>
                </a:cubicBezTo>
                <a:cubicBezTo>
                  <a:pt x="5281" y="16146"/>
                  <a:pt x="5286" y="16154"/>
                  <a:pt x="5308" y="16148"/>
                </a:cubicBezTo>
                <a:cubicBezTo>
                  <a:pt x="5392" y="16064"/>
                  <a:pt x="5428" y="16032"/>
                  <a:pt x="5457" y="15925"/>
                </a:cubicBezTo>
                <a:cubicBezTo>
                  <a:pt x="5476" y="15854"/>
                  <a:pt x="5482" y="15822"/>
                  <a:pt x="5482" y="15751"/>
                </a:cubicBezTo>
                <a:cubicBezTo>
                  <a:pt x="5482" y="15926"/>
                  <a:pt x="5452" y="16130"/>
                  <a:pt x="5507" y="16297"/>
                </a:cubicBezTo>
                <a:cubicBezTo>
                  <a:pt x="5558" y="16450"/>
                  <a:pt x="5672" y="16589"/>
                  <a:pt x="5755" y="16718"/>
                </a:cubicBezTo>
                <a:cubicBezTo>
                  <a:pt x="5777" y="16741"/>
                  <a:pt x="5785" y="16746"/>
                  <a:pt x="5779" y="16768"/>
                </a:cubicBezTo>
                <a:cubicBezTo>
                  <a:pt x="5654" y="16819"/>
                  <a:pt x="5567" y="16840"/>
                  <a:pt x="5432" y="16793"/>
                </a:cubicBezTo>
                <a:cubicBezTo>
                  <a:pt x="5378" y="16774"/>
                  <a:pt x="5336" y="16722"/>
                  <a:pt x="5308" y="16694"/>
                </a:cubicBezTo>
              </a:path>
              <a:path w="3449" h="1415">
                <a:moveTo>
                  <a:pt x="5804" y="15404"/>
                </a:moveTo>
                <a:cubicBezTo>
                  <a:pt x="5804" y="15504"/>
                  <a:pt x="5833" y="15547"/>
                  <a:pt x="5854" y="15627"/>
                </a:cubicBezTo>
                <a:cubicBezTo>
                  <a:pt x="5876" y="15711"/>
                  <a:pt x="5901" y="15811"/>
                  <a:pt x="5904" y="15900"/>
                </a:cubicBezTo>
                <a:cubicBezTo>
                  <a:pt x="5905" y="15932"/>
                  <a:pt x="5926" y="16196"/>
                  <a:pt x="5879" y="16197"/>
                </a:cubicBezTo>
                <a:cubicBezTo>
                  <a:pt x="5879" y="16189"/>
                  <a:pt x="5879" y="16181"/>
                  <a:pt x="5879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25840" y="5411880"/>
            <a:ext cx="1017360" cy="606240"/>
          </a:xfrm>
          <a:custGeom>
            <a:avLst/>
            <a:gdLst/>
            <a:ahLst/>
            <a:rect l="l" t="t" r="r" b="b"/>
            <a:pathLst>
              <a:path w="2828" h="1687">
                <a:moveTo>
                  <a:pt x="7590" y="15528"/>
                </a:moveTo>
                <a:cubicBezTo>
                  <a:pt x="7564" y="15482"/>
                  <a:pt x="7514" y="15393"/>
                  <a:pt x="7441" y="15429"/>
                </a:cubicBezTo>
                <a:cubicBezTo>
                  <a:pt x="7372" y="15463"/>
                  <a:pt x="7327" y="15529"/>
                  <a:pt x="7317" y="15602"/>
                </a:cubicBezTo>
                <a:cubicBezTo>
                  <a:pt x="7304" y="15699"/>
                  <a:pt x="7303" y="15756"/>
                  <a:pt x="7317" y="15850"/>
                </a:cubicBezTo>
                <a:cubicBezTo>
                  <a:pt x="7324" y="15896"/>
                  <a:pt x="7335" y="16003"/>
                  <a:pt x="7392" y="16024"/>
                </a:cubicBezTo>
                <a:cubicBezTo>
                  <a:pt x="7464" y="16050"/>
                  <a:pt x="7576" y="16000"/>
                  <a:pt x="7640" y="15974"/>
                </a:cubicBezTo>
                <a:cubicBezTo>
                  <a:pt x="7656" y="15966"/>
                  <a:pt x="7673" y="15957"/>
                  <a:pt x="7689" y="15949"/>
                </a:cubicBezTo>
              </a:path>
              <a:path w="2828" h="1687">
                <a:moveTo>
                  <a:pt x="7913" y="15528"/>
                </a:moveTo>
                <a:cubicBezTo>
                  <a:pt x="7908" y="15599"/>
                  <a:pt x="7892" y="15658"/>
                  <a:pt x="7888" y="15726"/>
                </a:cubicBezTo>
                <a:cubicBezTo>
                  <a:pt x="7884" y="15790"/>
                  <a:pt x="7881" y="15844"/>
                  <a:pt x="7913" y="15900"/>
                </a:cubicBezTo>
                <a:cubicBezTo>
                  <a:pt x="7946" y="15957"/>
                  <a:pt x="7986" y="15999"/>
                  <a:pt x="8062" y="15999"/>
                </a:cubicBezTo>
                <a:cubicBezTo>
                  <a:pt x="8116" y="15999"/>
                  <a:pt x="8189" y="15911"/>
                  <a:pt x="8210" y="15875"/>
                </a:cubicBezTo>
                <a:cubicBezTo>
                  <a:pt x="8250" y="15806"/>
                  <a:pt x="8281" y="15761"/>
                  <a:pt x="8285" y="15677"/>
                </a:cubicBezTo>
                <a:cubicBezTo>
                  <a:pt x="8285" y="15627"/>
                  <a:pt x="8285" y="15610"/>
                  <a:pt x="8285" y="15577"/>
                </a:cubicBezTo>
                <a:cubicBezTo>
                  <a:pt x="8273" y="15660"/>
                  <a:pt x="8263" y="15693"/>
                  <a:pt x="8260" y="15776"/>
                </a:cubicBezTo>
                <a:cubicBezTo>
                  <a:pt x="8255" y="15916"/>
                  <a:pt x="8314" y="16044"/>
                  <a:pt x="8359" y="16173"/>
                </a:cubicBezTo>
                <a:cubicBezTo>
                  <a:pt x="8401" y="16292"/>
                  <a:pt x="8480" y="16424"/>
                  <a:pt x="8508" y="16545"/>
                </a:cubicBezTo>
                <a:cubicBezTo>
                  <a:pt x="8520" y="16598"/>
                  <a:pt x="8463" y="16701"/>
                  <a:pt x="8409" y="16718"/>
                </a:cubicBezTo>
                <a:cubicBezTo>
                  <a:pt x="8316" y="16747"/>
                  <a:pt x="8219" y="16700"/>
                  <a:pt x="8136" y="16669"/>
                </a:cubicBezTo>
                <a:cubicBezTo>
                  <a:pt x="8045" y="16635"/>
                  <a:pt x="8049" y="16654"/>
                  <a:pt x="8037" y="16570"/>
                </a:cubicBezTo>
              </a:path>
              <a:path w="2828" h="1687">
                <a:moveTo>
                  <a:pt x="9004" y="15553"/>
                </a:moveTo>
                <a:cubicBezTo>
                  <a:pt x="8954" y="15523"/>
                  <a:pt x="8917" y="15528"/>
                  <a:pt x="8855" y="15528"/>
                </a:cubicBezTo>
                <a:cubicBezTo>
                  <a:pt x="8795" y="15528"/>
                  <a:pt x="8756" y="15605"/>
                  <a:pt x="8731" y="15652"/>
                </a:cubicBezTo>
                <a:cubicBezTo>
                  <a:pt x="8704" y="15702"/>
                  <a:pt x="8652" y="15813"/>
                  <a:pt x="8682" y="15875"/>
                </a:cubicBezTo>
                <a:cubicBezTo>
                  <a:pt x="8729" y="15970"/>
                  <a:pt x="8816" y="16031"/>
                  <a:pt x="8905" y="16073"/>
                </a:cubicBezTo>
                <a:cubicBezTo>
                  <a:pt x="9013" y="16124"/>
                  <a:pt x="9083" y="16084"/>
                  <a:pt x="9178" y="16024"/>
                </a:cubicBezTo>
                <a:cubicBezTo>
                  <a:pt x="9267" y="15968"/>
                  <a:pt x="9315" y="15907"/>
                  <a:pt x="9376" y="15825"/>
                </a:cubicBezTo>
              </a:path>
              <a:path w="2828" h="1687">
                <a:moveTo>
                  <a:pt x="9426" y="15032"/>
                </a:moveTo>
                <a:cubicBezTo>
                  <a:pt x="9426" y="15297"/>
                  <a:pt x="9465" y="15597"/>
                  <a:pt x="9401" y="15850"/>
                </a:cubicBezTo>
                <a:cubicBezTo>
                  <a:pt x="9390" y="15895"/>
                  <a:pt x="9447" y="15838"/>
                  <a:pt x="9475" y="15801"/>
                </a:cubicBezTo>
              </a:path>
              <a:path w="2828" h="1687">
                <a:moveTo>
                  <a:pt x="9922" y="15503"/>
                </a:moveTo>
                <a:cubicBezTo>
                  <a:pt x="9861" y="15466"/>
                  <a:pt x="9811" y="15478"/>
                  <a:pt x="9773" y="15553"/>
                </a:cubicBezTo>
                <a:cubicBezTo>
                  <a:pt x="9743" y="15612"/>
                  <a:pt x="9741" y="15638"/>
                  <a:pt x="9723" y="15701"/>
                </a:cubicBezTo>
                <a:cubicBezTo>
                  <a:pt x="9712" y="15738"/>
                  <a:pt x="9674" y="15831"/>
                  <a:pt x="9699" y="15875"/>
                </a:cubicBezTo>
                <a:cubicBezTo>
                  <a:pt x="9726" y="15922"/>
                  <a:pt x="9818" y="15959"/>
                  <a:pt x="9872" y="15949"/>
                </a:cubicBezTo>
                <a:cubicBezTo>
                  <a:pt x="9921" y="15940"/>
                  <a:pt x="10038" y="15893"/>
                  <a:pt x="10071" y="15850"/>
                </a:cubicBezTo>
                <a:cubicBezTo>
                  <a:pt x="10090" y="15826"/>
                  <a:pt x="10136" y="15771"/>
                  <a:pt x="10120" y="15726"/>
                </a:cubicBezTo>
                <a:cubicBezTo>
                  <a:pt x="10089" y="15637"/>
                  <a:pt x="10040" y="15622"/>
                  <a:pt x="9971" y="15577"/>
                </a:cubicBezTo>
                <a:cubicBezTo>
                  <a:pt x="9932" y="15551"/>
                  <a:pt x="9895" y="15546"/>
                  <a:pt x="9847" y="155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48040" y="5429160"/>
            <a:ext cx="1455840" cy="374760"/>
          </a:xfrm>
          <a:custGeom>
            <a:avLst/>
            <a:gdLst/>
            <a:ahLst/>
            <a:rect l="l" t="t" r="r" b="b"/>
            <a:pathLst>
              <a:path w="4044" h="1043">
                <a:moveTo>
                  <a:pt x="10765" y="15081"/>
                </a:moveTo>
                <a:cubicBezTo>
                  <a:pt x="10717" y="15161"/>
                  <a:pt x="10758" y="15215"/>
                  <a:pt x="10765" y="15304"/>
                </a:cubicBezTo>
                <a:cubicBezTo>
                  <a:pt x="10779" y="15481"/>
                  <a:pt x="10753" y="15652"/>
                  <a:pt x="10740" y="15825"/>
                </a:cubicBezTo>
                <a:cubicBezTo>
                  <a:pt x="10733" y="15916"/>
                  <a:pt x="10706" y="15995"/>
                  <a:pt x="10691" y="16073"/>
                </a:cubicBezTo>
                <a:cubicBezTo>
                  <a:pt x="10691" y="16090"/>
                  <a:pt x="10691" y="16106"/>
                  <a:pt x="10691" y="16123"/>
                </a:cubicBezTo>
                <a:cubicBezTo>
                  <a:pt x="10724" y="16032"/>
                  <a:pt x="10756" y="15940"/>
                  <a:pt x="10790" y="15850"/>
                </a:cubicBezTo>
                <a:cubicBezTo>
                  <a:pt x="10832" y="15739"/>
                  <a:pt x="10839" y="15659"/>
                  <a:pt x="10939" y="15602"/>
                </a:cubicBezTo>
                <a:cubicBezTo>
                  <a:pt x="10970" y="15645"/>
                  <a:pt x="11047" y="15750"/>
                  <a:pt x="11063" y="15801"/>
                </a:cubicBezTo>
                <a:cubicBezTo>
                  <a:pt x="11085" y="15872"/>
                  <a:pt x="11133" y="15951"/>
                  <a:pt x="11137" y="16024"/>
                </a:cubicBezTo>
                <a:cubicBezTo>
                  <a:pt x="11139" y="16060"/>
                  <a:pt x="11092" y="16159"/>
                  <a:pt x="11137" y="16049"/>
                </a:cubicBezTo>
              </a:path>
              <a:path w="4044" h="1043">
                <a:moveTo>
                  <a:pt x="11385" y="15825"/>
                </a:moveTo>
                <a:cubicBezTo>
                  <a:pt x="11466" y="15825"/>
                  <a:pt x="11509" y="15818"/>
                  <a:pt x="11584" y="15801"/>
                </a:cubicBezTo>
                <a:cubicBezTo>
                  <a:pt x="11618" y="15793"/>
                  <a:pt x="11712" y="15759"/>
                  <a:pt x="11733" y="15726"/>
                </a:cubicBezTo>
                <a:cubicBezTo>
                  <a:pt x="11765" y="15675"/>
                  <a:pt x="11754" y="15573"/>
                  <a:pt x="11683" y="15553"/>
                </a:cubicBezTo>
                <a:cubicBezTo>
                  <a:pt x="11656" y="15545"/>
                  <a:pt x="11567" y="15509"/>
                  <a:pt x="11534" y="15528"/>
                </a:cubicBezTo>
                <a:cubicBezTo>
                  <a:pt x="11486" y="15556"/>
                  <a:pt x="11399" y="15649"/>
                  <a:pt x="11385" y="15701"/>
                </a:cubicBezTo>
                <a:cubicBezTo>
                  <a:pt x="11365" y="15773"/>
                  <a:pt x="11381" y="15854"/>
                  <a:pt x="11435" y="15900"/>
                </a:cubicBezTo>
                <a:cubicBezTo>
                  <a:pt x="11526" y="15977"/>
                  <a:pt x="11588" y="16020"/>
                  <a:pt x="11708" y="16024"/>
                </a:cubicBezTo>
                <a:cubicBezTo>
                  <a:pt x="11830" y="16028"/>
                  <a:pt x="11926" y="16001"/>
                  <a:pt x="12030" y="15949"/>
                </a:cubicBezTo>
              </a:path>
              <a:path w="4044" h="1043">
                <a:moveTo>
                  <a:pt x="12179" y="15577"/>
                </a:moveTo>
                <a:cubicBezTo>
                  <a:pt x="12203" y="15637"/>
                  <a:pt x="12256" y="15699"/>
                  <a:pt x="12303" y="15751"/>
                </a:cubicBezTo>
                <a:cubicBezTo>
                  <a:pt x="12341" y="15792"/>
                  <a:pt x="12394" y="15836"/>
                  <a:pt x="12427" y="15875"/>
                </a:cubicBezTo>
                <a:cubicBezTo>
                  <a:pt x="12476" y="15932"/>
                  <a:pt x="12457" y="15934"/>
                  <a:pt x="12526" y="15974"/>
                </a:cubicBezTo>
              </a:path>
              <a:path w="4044" h="1043">
                <a:moveTo>
                  <a:pt x="12526" y="15553"/>
                </a:moveTo>
                <a:cubicBezTo>
                  <a:pt x="12476" y="15603"/>
                  <a:pt x="12397" y="15651"/>
                  <a:pt x="12353" y="15701"/>
                </a:cubicBezTo>
                <a:cubicBezTo>
                  <a:pt x="12300" y="15761"/>
                  <a:pt x="12262" y="15872"/>
                  <a:pt x="12204" y="15925"/>
                </a:cubicBezTo>
                <a:cubicBezTo>
                  <a:pt x="12197" y="15932"/>
                  <a:pt x="12060" y="16030"/>
                  <a:pt x="12080" y="16049"/>
                </a:cubicBezTo>
                <a:cubicBezTo>
                  <a:pt x="12088" y="16041"/>
                  <a:pt x="12097" y="16032"/>
                  <a:pt x="12105" y="16024"/>
                </a:cubicBezTo>
              </a:path>
              <a:path w="4044" h="1043">
                <a:moveTo>
                  <a:pt x="13122" y="15528"/>
                </a:moveTo>
                <a:cubicBezTo>
                  <a:pt x="13088" y="15510"/>
                  <a:pt x="12976" y="15440"/>
                  <a:pt x="12923" y="15478"/>
                </a:cubicBezTo>
                <a:cubicBezTo>
                  <a:pt x="12885" y="15505"/>
                  <a:pt x="12852" y="15599"/>
                  <a:pt x="12824" y="15652"/>
                </a:cubicBezTo>
                <a:cubicBezTo>
                  <a:pt x="12799" y="15699"/>
                  <a:pt x="12778" y="15797"/>
                  <a:pt x="12799" y="15850"/>
                </a:cubicBezTo>
                <a:cubicBezTo>
                  <a:pt x="12818" y="15900"/>
                  <a:pt x="12906" y="15915"/>
                  <a:pt x="12948" y="15925"/>
                </a:cubicBezTo>
                <a:cubicBezTo>
                  <a:pt x="13032" y="15945"/>
                  <a:pt x="13065" y="15889"/>
                  <a:pt x="13097" y="15825"/>
                </a:cubicBezTo>
                <a:cubicBezTo>
                  <a:pt x="13139" y="15742"/>
                  <a:pt x="13094" y="15659"/>
                  <a:pt x="13122" y="15577"/>
                </a:cubicBezTo>
                <a:cubicBezTo>
                  <a:pt x="13130" y="15569"/>
                  <a:pt x="13138" y="15561"/>
                  <a:pt x="13146" y="15553"/>
                </a:cubicBezTo>
                <a:cubicBezTo>
                  <a:pt x="13159" y="15616"/>
                  <a:pt x="13202" y="15665"/>
                  <a:pt x="13221" y="15726"/>
                </a:cubicBezTo>
                <a:cubicBezTo>
                  <a:pt x="13238" y="15782"/>
                  <a:pt x="13249" y="15840"/>
                  <a:pt x="13271" y="15900"/>
                </a:cubicBezTo>
                <a:cubicBezTo>
                  <a:pt x="13334" y="15879"/>
                  <a:pt x="13369" y="15846"/>
                  <a:pt x="13419" y="15801"/>
                </a:cubicBezTo>
              </a:path>
              <a:path w="4044" h="1043">
                <a:moveTo>
                  <a:pt x="13568" y="15553"/>
                </a:moveTo>
                <a:cubicBezTo>
                  <a:pt x="13576" y="15590"/>
                  <a:pt x="13608" y="15636"/>
                  <a:pt x="13593" y="15677"/>
                </a:cubicBezTo>
                <a:cubicBezTo>
                  <a:pt x="13576" y="15723"/>
                  <a:pt x="13551" y="15785"/>
                  <a:pt x="13543" y="15825"/>
                </a:cubicBezTo>
                <a:cubicBezTo>
                  <a:pt x="13543" y="15842"/>
                  <a:pt x="13543" y="15858"/>
                  <a:pt x="13543" y="15875"/>
                </a:cubicBezTo>
                <a:cubicBezTo>
                  <a:pt x="13590" y="15781"/>
                  <a:pt x="13661" y="15682"/>
                  <a:pt x="13667" y="15577"/>
                </a:cubicBezTo>
                <a:cubicBezTo>
                  <a:pt x="13669" y="15539"/>
                  <a:pt x="13735" y="15444"/>
                  <a:pt x="13791" y="15478"/>
                </a:cubicBezTo>
                <a:cubicBezTo>
                  <a:pt x="13856" y="15518"/>
                  <a:pt x="13883" y="15613"/>
                  <a:pt x="13915" y="15677"/>
                </a:cubicBezTo>
                <a:cubicBezTo>
                  <a:pt x="13949" y="15744"/>
                  <a:pt x="13987" y="15780"/>
                  <a:pt x="13940" y="15850"/>
                </a:cubicBezTo>
                <a:cubicBezTo>
                  <a:pt x="13905" y="15903"/>
                  <a:pt x="13902" y="15901"/>
                  <a:pt x="13940" y="15850"/>
                </a:cubicBezTo>
              </a:path>
              <a:path w="4044" h="1043">
                <a:moveTo>
                  <a:pt x="14163" y="15726"/>
                </a:moveTo>
                <a:cubicBezTo>
                  <a:pt x="14207" y="15700"/>
                  <a:pt x="14235" y="15701"/>
                  <a:pt x="14288" y="15701"/>
                </a:cubicBezTo>
                <a:cubicBezTo>
                  <a:pt x="14326" y="15701"/>
                  <a:pt x="14434" y="15652"/>
                  <a:pt x="14461" y="15627"/>
                </a:cubicBezTo>
                <a:cubicBezTo>
                  <a:pt x="14500" y="15591"/>
                  <a:pt x="14531" y="15505"/>
                  <a:pt x="14511" y="15453"/>
                </a:cubicBezTo>
                <a:cubicBezTo>
                  <a:pt x="14498" y="15420"/>
                  <a:pt x="14388" y="15384"/>
                  <a:pt x="14362" y="15379"/>
                </a:cubicBezTo>
                <a:cubicBezTo>
                  <a:pt x="14307" y="15369"/>
                  <a:pt x="14260" y="15405"/>
                  <a:pt x="14238" y="15429"/>
                </a:cubicBezTo>
                <a:cubicBezTo>
                  <a:pt x="14180" y="15491"/>
                  <a:pt x="14171" y="15554"/>
                  <a:pt x="14139" y="15627"/>
                </a:cubicBezTo>
                <a:cubicBezTo>
                  <a:pt x="14115" y="15682"/>
                  <a:pt x="14097" y="15763"/>
                  <a:pt x="14114" y="15825"/>
                </a:cubicBezTo>
                <a:cubicBezTo>
                  <a:pt x="14138" y="15909"/>
                  <a:pt x="14259" y="15980"/>
                  <a:pt x="14337" y="15999"/>
                </a:cubicBezTo>
                <a:cubicBezTo>
                  <a:pt x="14416" y="16018"/>
                  <a:pt x="14591" y="16014"/>
                  <a:pt x="14660" y="15974"/>
                </a:cubicBezTo>
                <a:cubicBezTo>
                  <a:pt x="14710" y="15945"/>
                  <a:pt x="14734" y="15932"/>
                  <a:pt x="14734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77840" y="187200"/>
            <a:ext cx="287280" cy="36684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546" y="695"/>
                </a:moveTo>
                <a:cubicBezTo>
                  <a:pt x="499" y="625"/>
                  <a:pt x="483" y="645"/>
                  <a:pt x="571" y="645"/>
                </a:cubicBezTo>
                <a:cubicBezTo>
                  <a:pt x="636" y="645"/>
                  <a:pt x="685" y="628"/>
                  <a:pt x="744" y="620"/>
                </a:cubicBezTo>
                <a:cubicBezTo>
                  <a:pt x="823" y="610"/>
                  <a:pt x="891" y="583"/>
                  <a:pt x="967" y="571"/>
                </a:cubicBezTo>
                <a:cubicBezTo>
                  <a:pt x="1050" y="558"/>
                  <a:pt x="1067" y="564"/>
                  <a:pt x="1141" y="521"/>
                </a:cubicBezTo>
                <a:cubicBezTo>
                  <a:pt x="1112" y="572"/>
                  <a:pt x="1098" y="622"/>
                  <a:pt x="1067" y="670"/>
                </a:cubicBezTo>
                <a:cubicBezTo>
                  <a:pt x="1022" y="739"/>
                  <a:pt x="977" y="817"/>
                  <a:pt x="943" y="893"/>
                </a:cubicBezTo>
                <a:cubicBezTo>
                  <a:pt x="907" y="973"/>
                  <a:pt x="873" y="1059"/>
                  <a:pt x="843" y="1141"/>
                </a:cubicBezTo>
                <a:cubicBezTo>
                  <a:pt x="806" y="1240"/>
                  <a:pt x="743" y="1368"/>
                  <a:pt x="719" y="1463"/>
                </a:cubicBezTo>
                <a:cubicBezTo>
                  <a:pt x="702" y="1530"/>
                  <a:pt x="727" y="1513"/>
                  <a:pt x="769" y="1513"/>
                </a:cubicBezTo>
              </a:path>
              <a:path w="795" h="1018">
                <a:moveTo>
                  <a:pt x="1240" y="1389"/>
                </a:moveTo>
                <a:cubicBezTo>
                  <a:pt x="1249" y="1435"/>
                  <a:pt x="1253" y="1445"/>
                  <a:pt x="1290" y="1463"/>
                </a:cubicBezTo>
                <a:cubicBezTo>
                  <a:pt x="1237" y="1401"/>
                  <a:pt x="1214" y="1394"/>
                  <a:pt x="1191" y="1488"/>
                </a:cubicBezTo>
                <a:cubicBezTo>
                  <a:pt x="1191" y="1516"/>
                  <a:pt x="1193" y="1527"/>
                  <a:pt x="1215" y="15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92080" y="276120"/>
            <a:ext cx="1305000" cy="492120"/>
          </a:xfrm>
          <a:custGeom>
            <a:avLst/>
            <a:gdLst/>
            <a:ahLst/>
            <a:rect l="l" t="t" r="r" b="b"/>
            <a:pathLst>
              <a:path w="3623" h="1365">
                <a:moveTo>
                  <a:pt x="2654" y="1116"/>
                </a:moveTo>
                <a:cubicBezTo>
                  <a:pt x="2573" y="1089"/>
                  <a:pt x="2667" y="1208"/>
                  <a:pt x="2679" y="1265"/>
                </a:cubicBezTo>
                <a:cubicBezTo>
                  <a:pt x="2707" y="1397"/>
                  <a:pt x="2722" y="1749"/>
                  <a:pt x="2654" y="1860"/>
                </a:cubicBezTo>
                <a:cubicBezTo>
                  <a:pt x="2654" y="1951"/>
                  <a:pt x="2654" y="1769"/>
                  <a:pt x="2654" y="1761"/>
                </a:cubicBezTo>
              </a:path>
              <a:path w="3623" h="1365">
                <a:moveTo>
                  <a:pt x="2505" y="1067"/>
                </a:moveTo>
                <a:cubicBezTo>
                  <a:pt x="2495" y="967"/>
                  <a:pt x="2512" y="956"/>
                  <a:pt x="2604" y="893"/>
                </a:cubicBezTo>
                <a:cubicBezTo>
                  <a:pt x="2677" y="843"/>
                  <a:pt x="2812" y="786"/>
                  <a:pt x="2902" y="769"/>
                </a:cubicBezTo>
                <a:cubicBezTo>
                  <a:pt x="2988" y="753"/>
                  <a:pt x="3110" y="784"/>
                  <a:pt x="3175" y="843"/>
                </a:cubicBezTo>
                <a:cubicBezTo>
                  <a:pt x="3259" y="920"/>
                  <a:pt x="3294" y="1033"/>
                  <a:pt x="3299" y="1141"/>
                </a:cubicBezTo>
                <a:cubicBezTo>
                  <a:pt x="3303" y="1221"/>
                  <a:pt x="3279" y="1248"/>
                  <a:pt x="3225" y="1315"/>
                </a:cubicBezTo>
                <a:cubicBezTo>
                  <a:pt x="3176" y="1377"/>
                  <a:pt x="3047" y="1420"/>
                  <a:pt x="2977" y="1439"/>
                </a:cubicBezTo>
                <a:cubicBezTo>
                  <a:pt x="2881" y="1465"/>
                  <a:pt x="2815" y="1462"/>
                  <a:pt x="2877" y="1364"/>
                </a:cubicBezTo>
                <a:cubicBezTo>
                  <a:pt x="2885" y="1356"/>
                  <a:pt x="2894" y="1347"/>
                  <a:pt x="2902" y="1339"/>
                </a:cubicBezTo>
              </a:path>
              <a:path w="3623" h="1365">
                <a:moveTo>
                  <a:pt x="3547" y="918"/>
                </a:moveTo>
                <a:cubicBezTo>
                  <a:pt x="3547" y="992"/>
                  <a:pt x="3548" y="1026"/>
                  <a:pt x="3572" y="1091"/>
                </a:cubicBezTo>
                <a:cubicBezTo>
                  <a:pt x="3598" y="1162"/>
                  <a:pt x="3615" y="1241"/>
                  <a:pt x="3621" y="1315"/>
                </a:cubicBezTo>
                <a:cubicBezTo>
                  <a:pt x="3621" y="1339"/>
                  <a:pt x="3621" y="1348"/>
                  <a:pt x="3621" y="1364"/>
                </a:cubicBezTo>
                <a:cubicBezTo>
                  <a:pt x="3597" y="1306"/>
                  <a:pt x="3561" y="1232"/>
                  <a:pt x="3572" y="1166"/>
                </a:cubicBezTo>
                <a:cubicBezTo>
                  <a:pt x="3587" y="1078"/>
                  <a:pt x="3619" y="968"/>
                  <a:pt x="3671" y="893"/>
                </a:cubicBezTo>
                <a:cubicBezTo>
                  <a:pt x="3743" y="790"/>
                  <a:pt x="3776" y="818"/>
                  <a:pt x="3870" y="868"/>
                </a:cubicBezTo>
                <a:cubicBezTo>
                  <a:pt x="3925" y="897"/>
                  <a:pt x="3982" y="915"/>
                  <a:pt x="4043" y="918"/>
                </a:cubicBezTo>
                <a:cubicBezTo>
                  <a:pt x="4060" y="918"/>
                  <a:pt x="4076" y="918"/>
                  <a:pt x="4093" y="918"/>
                </a:cubicBezTo>
              </a:path>
              <a:path w="3623" h="1365">
                <a:moveTo>
                  <a:pt x="4390" y="819"/>
                </a:moveTo>
                <a:cubicBezTo>
                  <a:pt x="4331" y="836"/>
                  <a:pt x="4295" y="869"/>
                  <a:pt x="4242" y="918"/>
                </a:cubicBezTo>
                <a:cubicBezTo>
                  <a:pt x="4192" y="965"/>
                  <a:pt x="4148" y="1050"/>
                  <a:pt x="4142" y="1116"/>
                </a:cubicBezTo>
                <a:cubicBezTo>
                  <a:pt x="4136" y="1187"/>
                  <a:pt x="4135" y="1235"/>
                  <a:pt x="4167" y="1290"/>
                </a:cubicBezTo>
                <a:cubicBezTo>
                  <a:pt x="4194" y="1336"/>
                  <a:pt x="4280" y="1372"/>
                  <a:pt x="4341" y="1339"/>
                </a:cubicBezTo>
                <a:cubicBezTo>
                  <a:pt x="4383" y="1316"/>
                  <a:pt x="4455" y="1271"/>
                  <a:pt x="4490" y="1240"/>
                </a:cubicBezTo>
                <a:cubicBezTo>
                  <a:pt x="4548" y="1188"/>
                  <a:pt x="4544" y="1144"/>
                  <a:pt x="4514" y="1091"/>
                </a:cubicBezTo>
                <a:cubicBezTo>
                  <a:pt x="4491" y="1050"/>
                  <a:pt x="4475" y="948"/>
                  <a:pt x="4440" y="918"/>
                </a:cubicBezTo>
                <a:cubicBezTo>
                  <a:pt x="4405" y="918"/>
                  <a:pt x="4388" y="923"/>
                  <a:pt x="4366" y="943"/>
                </a:cubicBezTo>
              </a:path>
              <a:path w="3623" h="1365">
                <a:moveTo>
                  <a:pt x="5011" y="1017"/>
                </a:moveTo>
                <a:cubicBezTo>
                  <a:pt x="4970" y="1072"/>
                  <a:pt x="5007" y="1097"/>
                  <a:pt x="5011" y="1166"/>
                </a:cubicBezTo>
                <a:cubicBezTo>
                  <a:pt x="5016" y="1256"/>
                  <a:pt x="5034" y="1323"/>
                  <a:pt x="5011" y="1414"/>
                </a:cubicBezTo>
                <a:cubicBezTo>
                  <a:pt x="4987" y="1510"/>
                  <a:pt x="4986" y="1587"/>
                  <a:pt x="4986" y="1687"/>
                </a:cubicBezTo>
                <a:cubicBezTo>
                  <a:pt x="4986" y="1732"/>
                  <a:pt x="4989" y="1767"/>
                  <a:pt x="4961" y="1736"/>
                </a:cubicBezTo>
                <a:cubicBezTo>
                  <a:pt x="4953" y="1728"/>
                  <a:pt x="4944" y="1720"/>
                  <a:pt x="4936" y="1712"/>
                </a:cubicBezTo>
              </a:path>
              <a:path w="3623" h="1365">
                <a:moveTo>
                  <a:pt x="4738" y="943"/>
                </a:moveTo>
                <a:cubicBezTo>
                  <a:pt x="4834" y="875"/>
                  <a:pt x="4855" y="873"/>
                  <a:pt x="4961" y="843"/>
                </a:cubicBezTo>
                <a:cubicBezTo>
                  <a:pt x="5045" y="820"/>
                  <a:pt x="5075" y="814"/>
                  <a:pt x="5159" y="843"/>
                </a:cubicBezTo>
                <a:cubicBezTo>
                  <a:pt x="5228" y="867"/>
                  <a:pt x="5350" y="968"/>
                  <a:pt x="5383" y="1042"/>
                </a:cubicBezTo>
                <a:cubicBezTo>
                  <a:pt x="5402" y="1085"/>
                  <a:pt x="5425" y="1173"/>
                  <a:pt x="5383" y="1215"/>
                </a:cubicBezTo>
                <a:cubicBezTo>
                  <a:pt x="5343" y="1255"/>
                  <a:pt x="5236" y="1316"/>
                  <a:pt x="5184" y="1339"/>
                </a:cubicBezTo>
                <a:cubicBezTo>
                  <a:pt x="5119" y="1367"/>
                  <a:pt x="5055" y="1391"/>
                  <a:pt x="5035" y="1315"/>
                </a:cubicBezTo>
              </a:path>
              <a:path w="3623" h="1365">
                <a:moveTo>
                  <a:pt x="5730" y="868"/>
                </a:moveTo>
                <a:cubicBezTo>
                  <a:pt x="5724" y="922"/>
                  <a:pt x="5724" y="937"/>
                  <a:pt x="5705" y="992"/>
                </a:cubicBezTo>
                <a:cubicBezTo>
                  <a:pt x="5683" y="1056"/>
                  <a:pt x="5683" y="1096"/>
                  <a:pt x="5680" y="1166"/>
                </a:cubicBezTo>
                <a:cubicBezTo>
                  <a:pt x="5677" y="1225"/>
                  <a:pt x="5690" y="1271"/>
                  <a:pt x="5755" y="1290"/>
                </a:cubicBezTo>
                <a:cubicBezTo>
                  <a:pt x="5847" y="1318"/>
                  <a:pt x="5911" y="1213"/>
                  <a:pt x="5928" y="1141"/>
                </a:cubicBezTo>
                <a:cubicBezTo>
                  <a:pt x="5945" y="1070"/>
                  <a:pt x="5974" y="991"/>
                  <a:pt x="5978" y="918"/>
                </a:cubicBezTo>
                <a:cubicBezTo>
                  <a:pt x="5978" y="876"/>
                  <a:pt x="5978" y="868"/>
                  <a:pt x="5978" y="843"/>
                </a:cubicBezTo>
                <a:cubicBezTo>
                  <a:pt x="5978" y="918"/>
                  <a:pt x="5980" y="968"/>
                  <a:pt x="6003" y="1042"/>
                </a:cubicBezTo>
                <a:cubicBezTo>
                  <a:pt x="6035" y="1144"/>
                  <a:pt x="6085" y="1264"/>
                  <a:pt x="6102" y="1364"/>
                </a:cubicBezTo>
                <a:cubicBezTo>
                  <a:pt x="6126" y="1503"/>
                  <a:pt x="6089" y="1650"/>
                  <a:pt x="6077" y="1786"/>
                </a:cubicBezTo>
                <a:cubicBezTo>
                  <a:pt x="6066" y="1904"/>
                  <a:pt x="6066" y="1933"/>
                  <a:pt x="6003" y="2034"/>
                </a:cubicBezTo>
                <a:cubicBezTo>
                  <a:pt x="5967" y="2092"/>
                  <a:pt x="5908" y="2147"/>
                  <a:pt x="5829" y="2133"/>
                </a:cubicBezTo>
                <a:cubicBezTo>
                  <a:pt x="5741" y="2118"/>
                  <a:pt x="5626" y="2028"/>
                  <a:pt x="5581" y="1960"/>
                </a:cubicBezTo>
                <a:cubicBezTo>
                  <a:pt x="5557" y="1912"/>
                  <a:pt x="5549" y="1897"/>
                  <a:pt x="5556" y="18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67000" y="115920"/>
            <a:ext cx="2700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6573" y="322"/>
                </a:moveTo>
                <a:cubicBezTo>
                  <a:pt x="6573" y="661"/>
                  <a:pt x="6573" y="1000"/>
                  <a:pt x="6573" y="1339"/>
                </a:cubicBezTo>
                <a:cubicBezTo>
                  <a:pt x="6617" y="1274"/>
                  <a:pt x="6628" y="1260"/>
                  <a:pt x="6648" y="12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03680" y="88920"/>
            <a:ext cx="1857240" cy="393840"/>
          </a:xfrm>
          <a:custGeom>
            <a:avLst/>
            <a:gdLst/>
            <a:ahLst/>
            <a:rect l="l" t="t" r="r" b="b"/>
            <a:pathLst>
              <a:path w="5160" h="1092">
                <a:moveTo>
                  <a:pt x="7789" y="298"/>
                </a:moveTo>
                <a:cubicBezTo>
                  <a:pt x="7789" y="281"/>
                  <a:pt x="7789" y="265"/>
                  <a:pt x="7789" y="248"/>
                </a:cubicBezTo>
                <a:cubicBezTo>
                  <a:pt x="7825" y="360"/>
                  <a:pt x="7813" y="475"/>
                  <a:pt x="7813" y="595"/>
                </a:cubicBezTo>
                <a:cubicBezTo>
                  <a:pt x="7813" y="827"/>
                  <a:pt x="7813" y="1058"/>
                  <a:pt x="7813" y="1290"/>
                </a:cubicBezTo>
                <a:cubicBezTo>
                  <a:pt x="7793" y="1221"/>
                  <a:pt x="7789" y="1186"/>
                  <a:pt x="7789" y="1116"/>
                </a:cubicBezTo>
                <a:cubicBezTo>
                  <a:pt x="7789" y="1049"/>
                  <a:pt x="7823" y="996"/>
                  <a:pt x="7863" y="943"/>
                </a:cubicBezTo>
                <a:cubicBezTo>
                  <a:pt x="7908" y="883"/>
                  <a:pt x="7971" y="893"/>
                  <a:pt x="8037" y="893"/>
                </a:cubicBezTo>
                <a:cubicBezTo>
                  <a:pt x="8106" y="893"/>
                  <a:pt x="8171" y="959"/>
                  <a:pt x="8210" y="1017"/>
                </a:cubicBezTo>
                <a:cubicBezTo>
                  <a:pt x="8233" y="1051"/>
                  <a:pt x="8296" y="1149"/>
                  <a:pt x="8285" y="1191"/>
                </a:cubicBezTo>
                <a:cubicBezTo>
                  <a:pt x="8266" y="1263"/>
                  <a:pt x="8201" y="1308"/>
                  <a:pt x="8136" y="1315"/>
                </a:cubicBezTo>
                <a:cubicBezTo>
                  <a:pt x="8108" y="1318"/>
                  <a:pt x="7843" y="1337"/>
                  <a:pt x="7863" y="1265"/>
                </a:cubicBezTo>
                <a:cubicBezTo>
                  <a:pt x="7904" y="1245"/>
                  <a:pt x="7910" y="1236"/>
                  <a:pt x="7938" y="1240"/>
                </a:cubicBezTo>
              </a:path>
              <a:path w="5160" h="1092">
                <a:moveTo>
                  <a:pt x="8632" y="1017"/>
                </a:moveTo>
                <a:cubicBezTo>
                  <a:pt x="8744" y="1017"/>
                  <a:pt x="8844" y="1039"/>
                  <a:pt x="8930" y="967"/>
                </a:cubicBezTo>
                <a:cubicBezTo>
                  <a:pt x="8938" y="959"/>
                  <a:pt x="8946" y="951"/>
                  <a:pt x="8954" y="943"/>
                </a:cubicBezTo>
                <a:cubicBezTo>
                  <a:pt x="8907" y="885"/>
                  <a:pt x="8850" y="872"/>
                  <a:pt x="8781" y="819"/>
                </a:cubicBezTo>
                <a:cubicBezTo>
                  <a:pt x="8768" y="809"/>
                  <a:pt x="8668" y="758"/>
                  <a:pt x="8657" y="769"/>
                </a:cubicBezTo>
                <a:cubicBezTo>
                  <a:pt x="8623" y="803"/>
                  <a:pt x="8568" y="896"/>
                  <a:pt x="8558" y="943"/>
                </a:cubicBezTo>
                <a:cubicBezTo>
                  <a:pt x="8542" y="1014"/>
                  <a:pt x="8513" y="1116"/>
                  <a:pt x="8533" y="1191"/>
                </a:cubicBezTo>
                <a:cubicBezTo>
                  <a:pt x="8553" y="1265"/>
                  <a:pt x="8606" y="1322"/>
                  <a:pt x="8682" y="1339"/>
                </a:cubicBezTo>
                <a:cubicBezTo>
                  <a:pt x="8751" y="1354"/>
                  <a:pt x="8867" y="1347"/>
                  <a:pt x="8930" y="1315"/>
                </a:cubicBezTo>
                <a:cubicBezTo>
                  <a:pt x="9005" y="1278"/>
                  <a:pt x="9058" y="1210"/>
                  <a:pt x="9128" y="1166"/>
                </a:cubicBezTo>
              </a:path>
              <a:path w="5160" h="1092">
                <a:moveTo>
                  <a:pt x="9302" y="893"/>
                </a:moveTo>
                <a:cubicBezTo>
                  <a:pt x="9302" y="766"/>
                  <a:pt x="9279" y="964"/>
                  <a:pt x="9277" y="992"/>
                </a:cubicBezTo>
                <a:cubicBezTo>
                  <a:pt x="9271" y="1099"/>
                  <a:pt x="9277" y="1208"/>
                  <a:pt x="9277" y="1315"/>
                </a:cubicBezTo>
                <a:cubicBezTo>
                  <a:pt x="9277" y="1247"/>
                  <a:pt x="9298" y="1234"/>
                  <a:pt x="9302" y="1166"/>
                </a:cubicBezTo>
                <a:cubicBezTo>
                  <a:pt x="9306" y="1101"/>
                  <a:pt x="9289" y="1046"/>
                  <a:pt x="9327" y="992"/>
                </a:cubicBezTo>
                <a:cubicBezTo>
                  <a:pt x="9370" y="931"/>
                  <a:pt x="9399" y="899"/>
                  <a:pt x="9475" y="868"/>
                </a:cubicBezTo>
                <a:cubicBezTo>
                  <a:pt x="9517" y="851"/>
                  <a:pt x="9570" y="828"/>
                  <a:pt x="9624" y="843"/>
                </a:cubicBezTo>
                <a:cubicBezTo>
                  <a:pt x="9720" y="870"/>
                  <a:pt x="9699" y="936"/>
                  <a:pt x="9699" y="1017"/>
                </a:cubicBezTo>
                <a:cubicBezTo>
                  <a:pt x="9699" y="1124"/>
                  <a:pt x="9699" y="1232"/>
                  <a:pt x="9699" y="1339"/>
                </a:cubicBezTo>
                <a:cubicBezTo>
                  <a:pt x="9755" y="1311"/>
                  <a:pt x="9774" y="1296"/>
                  <a:pt x="9773" y="1240"/>
                </a:cubicBezTo>
              </a:path>
              <a:path w="5160" h="1092">
                <a:moveTo>
                  <a:pt x="10170" y="719"/>
                </a:moveTo>
                <a:cubicBezTo>
                  <a:pt x="10227" y="719"/>
                  <a:pt x="10266" y="740"/>
                  <a:pt x="10319" y="744"/>
                </a:cubicBezTo>
                <a:cubicBezTo>
                  <a:pt x="10384" y="748"/>
                  <a:pt x="10452" y="744"/>
                  <a:pt x="10517" y="744"/>
                </a:cubicBezTo>
                <a:cubicBezTo>
                  <a:pt x="10466" y="847"/>
                  <a:pt x="10399" y="886"/>
                  <a:pt x="10344" y="967"/>
                </a:cubicBezTo>
                <a:cubicBezTo>
                  <a:pt x="10285" y="1053"/>
                  <a:pt x="10220" y="1106"/>
                  <a:pt x="10145" y="1191"/>
                </a:cubicBezTo>
                <a:cubicBezTo>
                  <a:pt x="10097" y="1245"/>
                  <a:pt x="10090" y="1221"/>
                  <a:pt x="10071" y="1290"/>
                </a:cubicBezTo>
                <a:cubicBezTo>
                  <a:pt x="10159" y="1290"/>
                  <a:pt x="10473" y="1340"/>
                  <a:pt x="10542" y="1265"/>
                </a:cubicBezTo>
                <a:cubicBezTo>
                  <a:pt x="10550" y="1248"/>
                  <a:pt x="10559" y="1232"/>
                  <a:pt x="10567" y="1215"/>
                </a:cubicBezTo>
              </a:path>
              <a:path w="5160" h="1092">
                <a:moveTo>
                  <a:pt x="10889" y="868"/>
                </a:moveTo>
                <a:cubicBezTo>
                  <a:pt x="10971" y="868"/>
                  <a:pt x="11099" y="892"/>
                  <a:pt x="11162" y="843"/>
                </a:cubicBezTo>
                <a:cubicBezTo>
                  <a:pt x="11187" y="819"/>
                  <a:pt x="11196" y="811"/>
                  <a:pt x="11212" y="794"/>
                </a:cubicBezTo>
                <a:cubicBezTo>
                  <a:pt x="11189" y="757"/>
                  <a:pt x="11144" y="658"/>
                  <a:pt x="11088" y="670"/>
                </a:cubicBezTo>
                <a:cubicBezTo>
                  <a:pt x="11032" y="682"/>
                  <a:pt x="10891" y="754"/>
                  <a:pt x="10864" y="794"/>
                </a:cubicBezTo>
                <a:cubicBezTo>
                  <a:pt x="10828" y="847"/>
                  <a:pt x="10815" y="921"/>
                  <a:pt x="10815" y="992"/>
                </a:cubicBezTo>
                <a:cubicBezTo>
                  <a:pt x="10815" y="1097"/>
                  <a:pt x="10869" y="1129"/>
                  <a:pt x="10939" y="1191"/>
                </a:cubicBezTo>
                <a:cubicBezTo>
                  <a:pt x="11041" y="1280"/>
                  <a:pt x="11112" y="1268"/>
                  <a:pt x="11237" y="1215"/>
                </a:cubicBezTo>
                <a:cubicBezTo>
                  <a:pt x="11270" y="1199"/>
                  <a:pt x="11303" y="1182"/>
                  <a:pt x="11336" y="1166"/>
                </a:cubicBezTo>
              </a:path>
              <a:path w="5160" h="1092">
                <a:moveTo>
                  <a:pt x="11534" y="769"/>
                </a:moveTo>
                <a:cubicBezTo>
                  <a:pt x="11544" y="848"/>
                  <a:pt x="11559" y="908"/>
                  <a:pt x="11559" y="992"/>
                </a:cubicBezTo>
                <a:cubicBezTo>
                  <a:pt x="11559" y="1049"/>
                  <a:pt x="11558" y="1119"/>
                  <a:pt x="11534" y="1166"/>
                </a:cubicBezTo>
                <a:cubicBezTo>
                  <a:pt x="11526" y="1174"/>
                  <a:pt x="11517" y="1183"/>
                  <a:pt x="11509" y="1191"/>
                </a:cubicBezTo>
                <a:cubicBezTo>
                  <a:pt x="11509" y="1126"/>
                  <a:pt x="11494" y="1042"/>
                  <a:pt x="11534" y="992"/>
                </a:cubicBezTo>
                <a:cubicBezTo>
                  <a:pt x="11582" y="932"/>
                  <a:pt x="11603" y="900"/>
                  <a:pt x="11683" y="868"/>
                </a:cubicBezTo>
                <a:cubicBezTo>
                  <a:pt x="11726" y="851"/>
                  <a:pt x="11804" y="886"/>
                  <a:pt x="11832" y="918"/>
                </a:cubicBezTo>
                <a:cubicBezTo>
                  <a:pt x="11868" y="960"/>
                  <a:pt x="11857" y="1017"/>
                  <a:pt x="11857" y="1067"/>
                </a:cubicBezTo>
                <a:cubicBezTo>
                  <a:pt x="11857" y="1108"/>
                  <a:pt x="11854" y="1197"/>
                  <a:pt x="11881" y="1166"/>
                </a:cubicBezTo>
                <a:cubicBezTo>
                  <a:pt x="11889" y="1149"/>
                  <a:pt x="11898" y="1133"/>
                  <a:pt x="11906" y="1116"/>
                </a:cubicBezTo>
              </a:path>
              <a:path w="5160" h="1092">
                <a:moveTo>
                  <a:pt x="12278" y="918"/>
                </a:moveTo>
                <a:cubicBezTo>
                  <a:pt x="12356" y="918"/>
                  <a:pt x="12375" y="921"/>
                  <a:pt x="12427" y="868"/>
                </a:cubicBezTo>
                <a:cubicBezTo>
                  <a:pt x="12458" y="836"/>
                  <a:pt x="12469" y="811"/>
                  <a:pt x="12477" y="769"/>
                </a:cubicBezTo>
                <a:cubicBezTo>
                  <a:pt x="12419" y="744"/>
                  <a:pt x="12392" y="744"/>
                  <a:pt x="12328" y="744"/>
                </a:cubicBezTo>
                <a:cubicBezTo>
                  <a:pt x="12259" y="744"/>
                  <a:pt x="12205" y="774"/>
                  <a:pt x="12154" y="819"/>
                </a:cubicBezTo>
                <a:cubicBezTo>
                  <a:pt x="12099" y="867"/>
                  <a:pt x="12059" y="896"/>
                  <a:pt x="12055" y="967"/>
                </a:cubicBezTo>
                <a:cubicBezTo>
                  <a:pt x="12051" y="1030"/>
                  <a:pt x="12103" y="1102"/>
                  <a:pt x="12154" y="1141"/>
                </a:cubicBezTo>
                <a:cubicBezTo>
                  <a:pt x="12242" y="1208"/>
                  <a:pt x="12318" y="1237"/>
                  <a:pt x="12427" y="1265"/>
                </a:cubicBezTo>
                <a:cubicBezTo>
                  <a:pt x="12560" y="1300"/>
                  <a:pt x="12671" y="1291"/>
                  <a:pt x="12799" y="1240"/>
                </a:cubicBezTo>
                <a:cubicBezTo>
                  <a:pt x="12886" y="1197"/>
                  <a:pt x="12910" y="1190"/>
                  <a:pt x="12948" y="11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10120" y="71280"/>
            <a:ext cx="1535040" cy="500400"/>
          </a:xfrm>
          <a:custGeom>
            <a:avLst/>
            <a:gdLst/>
            <a:ahLst/>
            <a:rect l="l" t="t" r="r" b="b"/>
            <a:pathLst>
              <a:path w="4268" h="1391">
                <a:moveTo>
                  <a:pt x="14412" y="198"/>
                </a:moveTo>
                <a:cubicBezTo>
                  <a:pt x="14340" y="219"/>
                  <a:pt x="14304" y="270"/>
                  <a:pt x="14263" y="347"/>
                </a:cubicBezTo>
                <a:cubicBezTo>
                  <a:pt x="14181" y="499"/>
                  <a:pt x="14107" y="634"/>
                  <a:pt x="14039" y="794"/>
                </a:cubicBezTo>
                <a:cubicBezTo>
                  <a:pt x="13984" y="922"/>
                  <a:pt x="13873" y="1119"/>
                  <a:pt x="13915" y="1265"/>
                </a:cubicBezTo>
                <a:cubicBezTo>
                  <a:pt x="13932" y="1326"/>
                  <a:pt x="14033" y="1475"/>
                  <a:pt x="14089" y="1513"/>
                </a:cubicBezTo>
                <a:cubicBezTo>
                  <a:pt x="14193" y="1583"/>
                  <a:pt x="14214" y="1585"/>
                  <a:pt x="14312" y="1563"/>
                </a:cubicBezTo>
              </a:path>
              <a:path w="4268" h="1391">
                <a:moveTo>
                  <a:pt x="14883" y="893"/>
                </a:moveTo>
                <a:cubicBezTo>
                  <a:pt x="14814" y="913"/>
                  <a:pt x="14694" y="934"/>
                  <a:pt x="14660" y="1017"/>
                </a:cubicBezTo>
                <a:cubicBezTo>
                  <a:pt x="14642" y="1060"/>
                  <a:pt x="14668" y="1122"/>
                  <a:pt x="14709" y="1141"/>
                </a:cubicBezTo>
                <a:cubicBezTo>
                  <a:pt x="14791" y="1180"/>
                  <a:pt x="14862" y="1206"/>
                  <a:pt x="14932" y="1265"/>
                </a:cubicBezTo>
                <a:cubicBezTo>
                  <a:pt x="14990" y="1313"/>
                  <a:pt x="15041" y="1352"/>
                  <a:pt x="15106" y="1389"/>
                </a:cubicBezTo>
                <a:cubicBezTo>
                  <a:pt x="15069" y="1454"/>
                  <a:pt x="15004" y="1483"/>
                  <a:pt x="14908" y="1488"/>
                </a:cubicBezTo>
                <a:cubicBezTo>
                  <a:pt x="14841" y="1492"/>
                  <a:pt x="14764" y="1454"/>
                  <a:pt x="14734" y="1414"/>
                </a:cubicBezTo>
              </a:path>
              <a:path w="4268" h="1391">
                <a:moveTo>
                  <a:pt x="15429" y="620"/>
                </a:moveTo>
                <a:cubicBezTo>
                  <a:pt x="15429" y="876"/>
                  <a:pt x="15443" y="1142"/>
                  <a:pt x="15404" y="1389"/>
                </a:cubicBezTo>
                <a:cubicBezTo>
                  <a:pt x="15404" y="1430"/>
                  <a:pt x="15404" y="1438"/>
                  <a:pt x="15404" y="1463"/>
                </a:cubicBezTo>
                <a:cubicBezTo>
                  <a:pt x="15404" y="1387"/>
                  <a:pt x="15428" y="1349"/>
                  <a:pt x="15478" y="1290"/>
                </a:cubicBezTo>
                <a:cubicBezTo>
                  <a:pt x="15514" y="1247"/>
                  <a:pt x="15575" y="1156"/>
                  <a:pt x="15627" y="1141"/>
                </a:cubicBezTo>
                <a:cubicBezTo>
                  <a:pt x="15644" y="1141"/>
                  <a:pt x="15660" y="1141"/>
                  <a:pt x="15677" y="1141"/>
                </a:cubicBezTo>
                <a:cubicBezTo>
                  <a:pt x="15677" y="1199"/>
                  <a:pt x="15697" y="1236"/>
                  <a:pt x="15701" y="1290"/>
                </a:cubicBezTo>
                <a:cubicBezTo>
                  <a:pt x="15706" y="1369"/>
                  <a:pt x="15732" y="1394"/>
                  <a:pt x="15801" y="1414"/>
                </a:cubicBezTo>
              </a:path>
              <a:path w="4268" h="1391">
                <a:moveTo>
                  <a:pt x="16222" y="1042"/>
                </a:moveTo>
                <a:cubicBezTo>
                  <a:pt x="16177" y="1008"/>
                  <a:pt x="16117" y="1020"/>
                  <a:pt x="16073" y="1067"/>
                </a:cubicBezTo>
                <a:cubicBezTo>
                  <a:pt x="16032" y="1112"/>
                  <a:pt x="15979" y="1212"/>
                  <a:pt x="15974" y="1265"/>
                </a:cubicBezTo>
                <a:cubicBezTo>
                  <a:pt x="15964" y="1382"/>
                  <a:pt x="16035" y="1445"/>
                  <a:pt x="16148" y="1463"/>
                </a:cubicBezTo>
                <a:cubicBezTo>
                  <a:pt x="16234" y="1477"/>
                  <a:pt x="16342" y="1418"/>
                  <a:pt x="16396" y="1364"/>
                </a:cubicBezTo>
                <a:cubicBezTo>
                  <a:pt x="16447" y="1313"/>
                  <a:pt x="16421" y="1237"/>
                  <a:pt x="16396" y="1191"/>
                </a:cubicBezTo>
                <a:cubicBezTo>
                  <a:pt x="16368" y="1140"/>
                  <a:pt x="16351" y="1105"/>
                  <a:pt x="16297" y="1091"/>
                </a:cubicBezTo>
              </a:path>
              <a:path w="4268" h="1391">
                <a:moveTo>
                  <a:pt x="16644" y="1116"/>
                </a:moveTo>
                <a:cubicBezTo>
                  <a:pt x="16634" y="1167"/>
                  <a:pt x="16603" y="1215"/>
                  <a:pt x="16594" y="1265"/>
                </a:cubicBezTo>
                <a:cubicBezTo>
                  <a:pt x="16579" y="1352"/>
                  <a:pt x="16589" y="1414"/>
                  <a:pt x="16644" y="1463"/>
                </a:cubicBezTo>
                <a:cubicBezTo>
                  <a:pt x="16685" y="1500"/>
                  <a:pt x="16723" y="1454"/>
                  <a:pt x="16743" y="1414"/>
                </a:cubicBezTo>
                <a:cubicBezTo>
                  <a:pt x="16768" y="1365"/>
                  <a:pt x="16789" y="1310"/>
                  <a:pt x="16818" y="1265"/>
                </a:cubicBezTo>
                <a:cubicBezTo>
                  <a:pt x="16842" y="1240"/>
                  <a:pt x="16850" y="1231"/>
                  <a:pt x="16867" y="1215"/>
                </a:cubicBezTo>
                <a:cubicBezTo>
                  <a:pt x="16927" y="1275"/>
                  <a:pt x="16890" y="1294"/>
                  <a:pt x="16917" y="1364"/>
                </a:cubicBezTo>
                <a:cubicBezTo>
                  <a:pt x="16936" y="1413"/>
                  <a:pt x="17004" y="1467"/>
                  <a:pt x="17041" y="1439"/>
                </a:cubicBezTo>
                <a:cubicBezTo>
                  <a:pt x="17057" y="1422"/>
                  <a:pt x="17074" y="1406"/>
                  <a:pt x="17090" y="1389"/>
                </a:cubicBezTo>
              </a:path>
              <a:path w="4268" h="1391">
                <a:moveTo>
                  <a:pt x="17363" y="695"/>
                </a:moveTo>
                <a:cubicBezTo>
                  <a:pt x="17363" y="793"/>
                  <a:pt x="17374" y="876"/>
                  <a:pt x="17388" y="967"/>
                </a:cubicBezTo>
                <a:cubicBezTo>
                  <a:pt x="17402" y="1058"/>
                  <a:pt x="17405" y="1213"/>
                  <a:pt x="17363" y="1290"/>
                </a:cubicBezTo>
                <a:cubicBezTo>
                  <a:pt x="17338" y="1339"/>
                  <a:pt x="17330" y="1355"/>
                  <a:pt x="17363" y="1290"/>
                </a:cubicBezTo>
              </a:path>
              <a:path w="4268" h="1391">
                <a:moveTo>
                  <a:pt x="18083" y="1067"/>
                </a:moveTo>
                <a:cubicBezTo>
                  <a:pt x="18050" y="1002"/>
                  <a:pt x="18011" y="918"/>
                  <a:pt x="17909" y="967"/>
                </a:cubicBezTo>
                <a:cubicBezTo>
                  <a:pt x="17807" y="1016"/>
                  <a:pt x="17762" y="1097"/>
                  <a:pt x="17711" y="1191"/>
                </a:cubicBezTo>
                <a:cubicBezTo>
                  <a:pt x="17689" y="1231"/>
                  <a:pt x="17661" y="1344"/>
                  <a:pt x="17686" y="1389"/>
                </a:cubicBezTo>
                <a:cubicBezTo>
                  <a:pt x="17720" y="1451"/>
                  <a:pt x="17817" y="1485"/>
                  <a:pt x="17884" y="1463"/>
                </a:cubicBezTo>
                <a:cubicBezTo>
                  <a:pt x="17957" y="1439"/>
                  <a:pt x="18027" y="1332"/>
                  <a:pt x="18058" y="1265"/>
                </a:cubicBezTo>
                <a:cubicBezTo>
                  <a:pt x="18130" y="1110"/>
                  <a:pt x="18144" y="886"/>
                  <a:pt x="18157" y="719"/>
                </a:cubicBezTo>
                <a:cubicBezTo>
                  <a:pt x="18162" y="652"/>
                  <a:pt x="18114" y="370"/>
                  <a:pt x="18157" y="595"/>
                </a:cubicBezTo>
                <a:cubicBezTo>
                  <a:pt x="18181" y="720"/>
                  <a:pt x="18182" y="837"/>
                  <a:pt x="18182" y="967"/>
                </a:cubicBezTo>
                <a:cubicBezTo>
                  <a:pt x="18182" y="1066"/>
                  <a:pt x="18182" y="1166"/>
                  <a:pt x="18182" y="12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56280" y="133200"/>
            <a:ext cx="517680" cy="411480"/>
          </a:xfrm>
          <a:custGeom>
            <a:avLst/>
            <a:gdLst/>
            <a:ahLst/>
            <a:rect l="l" t="t" r="r" b="b"/>
            <a:pathLst>
              <a:path w="1440" h="1142">
                <a:moveTo>
                  <a:pt x="19372" y="372"/>
                </a:moveTo>
                <a:cubicBezTo>
                  <a:pt x="19323" y="406"/>
                  <a:pt x="19325" y="544"/>
                  <a:pt x="19323" y="620"/>
                </a:cubicBezTo>
                <a:cubicBezTo>
                  <a:pt x="19319" y="783"/>
                  <a:pt x="19323" y="1319"/>
                  <a:pt x="19323" y="1315"/>
                </a:cubicBezTo>
                <a:cubicBezTo>
                  <a:pt x="19323" y="1235"/>
                  <a:pt x="19313" y="1157"/>
                  <a:pt x="19348" y="1091"/>
                </a:cubicBezTo>
                <a:cubicBezTo>
                  <a:pt x="19382" y="1026"/>
                  <a:pt x="19495" y="980"/>
                  <a:pt x="19571" y="967"/>
                </a:cubicBezTo>
                <a:cubicBezTo>
                  <a:pt x="19640" y="955"/>
                  <a:pt x="19693" y="963"/>
                  <a:pt x="19720" y="1017"/>
                </a:cubicBezTo>
                <a:cubicBezTo>
                  <a:pt x="19759" y="1095"/>
                  <a:pt x="19745" y="1179"/>
                  <a:pt x="19745" y="1265"/>
                </a:cubicBezTo>
                <a:cubicBezTo>
                  <a:pt x="19745" y="1374"/>
                  <a:pt x="19695" y="1405"/>
                  <a:pt x="19596" y="1414"/>
                </a:cubicBezTo>
                <a:cubicBezTo>
                  <a:pt x="19516" y="1422"/>
                  <a:pt x="19469" y="1361"/>
                  <a:pt x="19397" y="1339"/>
                </a:cubicBezTo>
                <a:cubicBezTo>
                  <a:pt x="19335" y="1320"/>
                  <a:pt x="19377" y="1280"/>
                  <a:pt x="19397" y="1240"/>
                </a:cubicBezTo>
              </a:path>
              <a:path w="1440" h="1142">
                <a:moveTo>
                  <a:pt x="20017" y="1141"/>
                </a:moveTo>
                <a:cubicBezTo>
                  <a:pt x="20055" y="1129"/>
                  <a:pt x="20145" y="1097"/>
                  <a:pt x="20191" y="1116"/>
                </a:cubicBezTo>
                <a:cubicBezTo>
                  <a:pt x="20251" y="1141"/>
                  <a:pt x="20297" y="1158"/>
                  <a:pt x="20365" y="1116"/>
                </a:cubicBezTo>
                <a:cubicBezTo>
                  <a:pt x="20428" y="1077"/>
                  <a:pt x="20446" y="1030"/>
                  <a:pt x="20414" y="967"/>
                </a:cubicBezTo>
                <a:cubicBezTo>
                  <a:pt x="20398" y="935"/>
                  <a:pt x="20295" y="888"/>
                  <a:pt x="20265" y="918"/>
                </a:cubicBezTo>
                <a:cubicBezTo>
                  <a:pt x="20214" y="969"/>
                  <a:pt x="20157" y="1023"/>
                  <a:pt x="20117" y="1091"/>
                </a:cubicBezTo>
                <a:cubicBezTo>
                  <a:pt x="20079" y="1155"/>
                  <a:pt x="20081" y="1226"/>
                  <a:pt x="20117" y="1290"/>
                </a:cubicBezTo>
                <a:cubicBezTo>
                  <a:pt x="20186" y="1412"/>
                  <a:pt x="20309" y="1456"/>
                  <a:pt x="20439" y="1488"/>
                </a:cubicBezTo>
                <a:cubicBezTo>
                  <a:pt x="20543" y="1513"/>
                  <a:pt x="20682" y="1525"/>
                  <a:pt x="20737" y="1414"/>
                </a:cubicBezTo>
                <a:cubicBezTo>
                  <a:pt x="20745" y="1389"/>
                  <a:pt x="20754" y="1364"/>
                  <a:pt x="20762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37120" y="625320"/>
            <a:ext cx="1946160" cy="384480"/>
          </a:xfrm>
          <a:custGeom>
            <a:avLst/>
            <a:gdLst/>
            <a:ahLst/>
            <a:rect l="l" t="t" r="r" b="b"/>
            <a:pathLst>
              <a:path w="5408" h="1068">
                <a:moveTo>
                  <a:pt x="14362" y="2208"/>
                </a:moveTo>
                <a:cubicBezTo>
                  <a:pt x="14339" y="2140"/>
                  <a:pt x="14338" y="2158"/>
                  <a:pt x="14263" y="2158"/>
                </a:cubicBezTo>
                <a:cubicBezTo>
                  <a:pt x="14183" y="2158"/>
                  <a:pt x="14152" y="2214"/>
                  <a:pt x="14114" y="2282"/>
                </a:cubicBezTo>
                <a:cubicBezTo>
                  <a:pt x="14070" y="2362"/>
                  <a:pt x="14007" y="2438"/>
                  <a:pt x="13990" y="2530"/>
                </a:cubicBezTo>
                <a:cubicBezTo>
                  <a:pt x="13983" y="2569"/>
                  <a:pt x="13990" y="2640"/>
                  <a:pt x="14039" y="2654"/>
                </a:cubicBezTo>
                <a:cubicBezTo>
                  <a:pt x="14136" y="2682"/>
                  <a:pt x="14156" y="2626"/>
                  <a:pt x="14213" y="2580"/>
                </a:cubicBezTo>
                <a:cubicBezTo>
                  <a:pt x="14272" y="2533"/>
                  <a:pt x="14275" y="2482"/>
                  <a:pt x="14312" y="2406"/>
                </a:cubicBezTo>
                <a:cubicBezTo>
                  <a:pt x="14312" y="2343"/>
                  <a:pt x="14335" y="2485"/>
                  <a:pt x="14337" y="2505"/>
                </a:cubicBezTo>
                <a:cubicBezTo>
                  <a:pt x="14343" y="2564"/>
                  <a:pt x="14326" y="2601"/>
                  <a:pt x="14362" y="2654"/>
                </a:cubicBezTo>
                <a:cubicBezTo>
                  <a:pt x="14394" y="2702"/>
                  <a:pt x="14437" y="2698"/>
                  <a:pt x="14486" y="2704"/>
                </a:cubicBezTo>
              </a:path>
              <a:path w="5408" h="1068">
                <a:moveTo>
                  <a:pt x="14858" y="2009"/>
                </a:moveTo>
                <a:cubicBezTo>
                  <a:pt x="14858" y="2211"/>
                  <a:pt x="14883" y="2445"/>
                  <a:pt x="14833" y="2629"/>
                </a:cubicBezTo>
                <a:cubicBezTo>
                  <a:pt x="14821" y="2673"/>
                  <a:pt x="14830" y="2678"/>
                  <a:pt x="14808" y="2729"/>
                </a:cubicBezTo>
              </a:path>
              <a:path w="5408" h="1068">
                <a:moveTo>
                  <a:pt x="14585" y="2257"/>
                </a:moveTo>
                <a:cubicBezTo>
                  <a:pt x="14678" y="2257"/>
                  <a:pt x="14720" y="2285"/>
                  <a:pt x="14808" y="2307"/>
                </a:cubicBezTo>
                <a:cubicBezTo>
                  <a:pt x="14921" y="2336"/>
                  <a:pt x="15000" y="2343"/>
                  <a:pt x="15106" y="2307"/>
                </a:cubicBezTo>
              </a:path>
              <a:path w="5408" h="1068">
                <a:moveTo>
                  <a:pt x="15453" y="2108"/>
                </a:moveTo>
                <a:cubicBezTo>
                  <a:pt x="15453" y="2219"/>
                  <a:pt x="15446" y="2303"/>
                  <a:pt x="15429" y="2406"/>
                </a:cubicBezTo>
                <a:cubicBezTo>
                  <a:pt x="15416" y="2488"/>
                  <a:pt x="15468" y="2804"/>
                  <a:pt x="15404" y="2654"/>
                </a:cubicBezTo>
              </a:path>
              <a:path w="5408" h="1068">
                <a:moveTo>
                  <a:pt x="15180" y="2356"/>
                </a:moveTo>
                <a:cubicBezTo>
                  <a:pt x="15240" y="2356"/>
                  <a:pt x="15266" y="2361"/>
                  <a:pt x="15329" y="2381"/>
                </a:cubicBezTo>
                <a:cubicBezTo>
                  <a:pt x="15415" y="2409"/>
                  <a:pt x="15486" y="2406"/>
                  <a:pt x="15577" y="2406"/>
                </a:cubicBezTo>
                <a:cubicBezTo>
                  <a:pt x="15612" y="2406"/>
                  <a:pt x="15630" y="2401"/>
                  <a:pt x="15652" y="2381"/>
                </a:cubicBezTo>
              </a:path>
              <a:path w="5408" h="1068">
                <a:moveTo>
                  <a:pt x="15999" y="2307"/>
                </a:moveTo>
                <a:cubicBezTo>
                  <a:pt x="15913" y="2233"/>
                  <a:pt x="15918" y="2255"/>
                  <a:pt x="15850" y="2332"/>
                </a:cubicBezTo>
                <a:cubicBezTo>
                  <a:pt x="15800" y="2388"/>
                  <a:pt x="15759" y="2454"/>
                  <a:pt x="15751" y="2530"/>
                </a:cubicBezTo>
                <a:cubicBezTo>
                  <a:pt x="15747" y="2570"/>
                  <a:pt x="15820" y="2655"/>
                  <a:pt x="15850" y="2679"/>
                </a:cubicBezTo>
                <a:cubicBezTo>
                  <a:pt x="15867" y="2687"/>
                  <a:pt x="15883" y="2696"/>
                  <a:pt x="15900" y="2704"/>
                </a:cubicBezTo>
                <a:cubicBezTo>
                  <a:pt x="15932" y="2624"/>
                  <a:pt x="15958" y="2619"/>
                  <a:pt x="15999" y="2555"/>
                </a:cubicBezTo>
                <a:cubicBezTo>
                  <a:pt x="16028" y="2510"/>
                  <a:pt x="16024" y="2481"/>
                  <a:pt x="16024" y="2431"/>
                </a:cubicBezTo>
                <a:cubicBezTo>
                  <a:pt x="15986" y="2493"/>
                  <a:pt x="15999" y="2505"/>
                  <a:pt x="16049" y="2555"/>
                </a:cubicBezTo>
                <a:cubicBezTo>
                  <a:pt x="16130" y="2636"/>
                  <a:pt x="16155" y="2734"/>
                  <a:pt x="16247" y="2803"/>
                </a:cubicBezTo>
              </a:path>
              <a:path w="5408" h="1068">
                <a:moveTo>
                  <a:pt x="17016" y="2158"/>
                </a:moveTo>
                <a:cubicBezTo>
                  <a:pt x="16954" y="2117"/>
                  <a:pt x="16929" y="2068"/>
                  <a:pt x="16842" y="2059"/>
                </a:cubicBezTo>
                <a:cubicBezTo>
                  <a:pt x="16776" y="2052"/>
                  <a:pt x="16721" y="2066"/>
                  <a:pt x="16669" y="2108"/>
                </a:cubicBezTo>
                <a:cubicBezTo>
                  <a:pt x="16616" y="2151"/>
                  <a:pt x="16598" y="2190"/>
                  <a:pt x="16594" y="2257"/>
                </a:cubicBezTo>
                <a:cubicBezTo>
                  <a:pt x="16590" y="2320"/>
                  <a:pt x="16593" y="2409"/>
                  <a:pt x="16644" y="2456"/>
                </a:cubicBezTo>
                <a:cubicBezTo>
                  <a:pt x="16703" y="2510"/>
                  <a:pt x="16785" y="2547"/>
                  <a:pt x="16867" y="2555"/>
                </a:cubicBezTo>
                <a:cubicBezTo>
                  <a:pt x="16996" y="2568"/>
                  <a:pt x="17135" y="2555"/>
                  <a:pt x="17264" y="2555"/>
                </a:cubicBezTo>
              </a:path>
              <a:path w="5408" h="1068">
                <a:moveTo>
                  <a:pt x="17512" y="1736"/>
                </a:moveTo>
                <a:cubicBezTo>
                  <a:pt x="17512" y="1816"/>
                  <a:pt x="17525" y="1862"/>
                  <a:pt x="17537" y="1935"/>
                </a:cubicBezTo>
                <a:cubicBezTo>
                  <a:pt x="17550" y="2012"/>
                  <a:pt x="17574" y="2084"/>
                  <a:pt x="17587" y="2158"/>
                </a:cubicBezTo>
                <a:cubicBezTo>
                  <a:pt x="17598" y="2219"/>
                  <a:pt x="17591" y="2298"/>
                  <a:pt x="17611" y="2356"/>
                </a:cubicBezTo>
                <a:cubicBezTo>
                  <a:pt x="17619" y="2373"/>
                  <a:pt x="17628" y="2389"/>
                  <a:pt x="17636" y="2406"/>
                </a:cubicBezTo>
                <a:cubicBezTo>
                  <a:pt x="17662" y="2347"/>
                  <a:pt x="17652" y="2287"/>
                  <a:pt x="17686" y="2232"/>
                </a:cubicBezTo>
                <a:cubicBezTo>
                  <a:pt x="17719" y="2180"/>
                  <a:pt x="17756" y="2166"/>
                  <a:pt x="17810" y="2158"/>
                </a:cubicBezTo>
                <a:cubicBezTo>
                  <a:pt x="17819" y="2223"/>
                  <a:pt x="17858" y="2276"/>
                  <a:pt x="17884" y="2332"/>
                </a:cubicBezTo>
                <a:cubicBezTo>
                  <a:pt x="17913" y="2394"/>
                  <a:pt x="17939" y="2440"/>
                  <a:pt x="17983" y="2480"/>
                </a:cubicBezTo>
                <a:cubicBezTo>
                  <a:pt x="18006" y="2503"/>
                  <a:pt x="18010" y="2511"/>
                  <a:pt x="18033" y="2505"/>
                </a:cubicBezTo>
              </a:path>
              <a:path w="5408" h="1068">
                <a:moveTo>
                  <a:pt x="18306" y="2282"/>
                </a:moveTo>
                <a:cubicBezTo>
                  <a:pt x="18371" y="2282"/>
                  <a:pt x="18449" y="2297"/>
                  <a:pt x="18504" y="2257"/>
                </a:cubicBezTo>
                <a:cubicBezTo>
                  <a:pt x="18547" y="2227"/>
                  <a:pt x="18568" y="2201"/>
                  <a:pt x="18579" y="2158"/>
                </a:cubicBezTo>
                <a:cubicBezTo>
                  <a:pt x="18543" y="2115"/>
                  <a:pt x="18516" y="2088"/>
                  <a:pt x="18455" y="2084"/>
                </a:cubicBezTo>
                <a:cubicBezTo>
                  <a:pt x="18371" y="2078"/>
                  <a:pt x="18342" y="2116"/>
                  <a:pt x="18306" y="2183"/>
                </a:cubicBezTo>
                <a:cubicBezTo>
                  <a:pt x="18270" y="2251"/>
                  <a:pt x="18261" y="2330"/>
                  <a:pt x="18256" y="2406"/>
                </a:cubicBezTo>
                <a:cubicBezTo>
                  <a:pt x="18253" y="2456"/>
                  <a:pt x="18367" y="2494"/>
                  <a:pt x="18405" y="2505"/>
                </a:cubicBezTo>
                <a:cubicBezTo>
                  <a:pt x="18510" y="2537"/>
                  <a:pt x="18552" y="2531"/>
                  <a:pt x="18653" y="2505"/>
                </a:cubicBezTo>
              </a:path>
              <a:path w="5408" h="1068">
                <a:moveTo>
                  <a:pt x="19248" y="2084"/>
                </a:moveTo>
                <a:cubicBezTo>
                  <a:pt x="19210" y="2051"/>
                  <a:pt x="19162" y="1987"/>
                  <a:pt x="19100" y="2009"/>
                </a:cubicBezTo>
                <a:cubicBezTo>
                  <a:pt x="18987" y="2050"/>
                  <a:pt x="19024" y="2111"/>
                  <a:pt x="19000" y="2208"/>
                </a:cubicBezTo>
                <a:cubicBezTo>
                  <a:pt x="18974" y="2315"/>
                  <a:pt x="18967" y="2291"/>
                  <a:pt x="19025" y="2381"/>
                </a:cubicBezTo>
                <a:cubicBezTo>
                  <a:pt x="19064" y="2442"/>
                  <a:pt x="19130" y="2457"/>
                  <a:pt x="19199" y="2406"/>
                </a:cubicBezTo>
                <a:cubicBezTo>
                  <a:pt x="19274" y="2351"/>
                  <a:pt x="19288" y="2289"/>
                  <a:pt x="19323" y="2208"/>
                </a:cubicBezTo>
                <a:cubicBezTo>
                  <a:pt x="19364" y="2112"/>
                  <a:pt x="19334" y="2059"/>
                  <a:pt x="19323" y="1960"/>
                </a:cubicBezTo>
                <a:cubicBezTo>
                  <a:pt x="19314" y="1884"/>
                  <a:pt x="19298" y="1813"/>
                  <a:pt x="19298" y="1736"/>
                </a:cubicBezTo>
                <a:cubicBezTo>
                  <a:pt x="19257" y="1818"/>
                  <a:pt x="19230" y="1889"/>
                  <a:pt x="19248" y="1984"/>
                </a:cubicBezTo>
                <a:cubicBezTo>
                  <a:pt x="19264" y="2068"/>
                  <a:pt x="19334" y="2152"/>
                  <a:pt x="19372" y="2232"/>
                </a:cubicBezTo>
                <a:cubicBezTo>
                  <a:pt x="19388" y="2266"/>
                  <a:pt x="19397" y="2419"/>
                  <a:pt x="19397" y="23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73960" y="554040"/>
            <a:ext cx="1312920" cy="330120"/>
          </a:xfrm>
          <a:custGeom>
            <a:avLst/>
            <a:gdLst/>
            <a:ahLst/>
            <a:rect l="l" t="t" r="r" b="b"/>
            <a:pathLst>
              <a:path w="3647" h="919">
                <a:moveTo>
                  <a:pt x="21134" y="2108"/>
                </a:moveTo>
                <a:cubicBezTo>
                  <a:pt x="21040" y="2108"/>
                  <a:pt x="20856" y="2070"/>
                  <a:pt x="20786" y="2133"/>
                </a:cubicBezTo>
                <a:cubicBezTo>
                  <a:pt x="20746" y="2169"/>
                  <a:pt x="20762" y="2232"/>
                  <a:pt x="20762" y="2282"/>
                </a:cubicBezTo>
                <a:cubicBezTo>
                  <a:pt x="20762" y="2347"/>
                  <a:pt x="20818" y="2415"/>
                  <a:pt x="20886" y="2431"/>
                </a:cubicBezTo>
                <a:cubicBezTo>
                  <a:pt x="20968" y="2450"/>
                  <a:pt x="21031" y="2466"/>
                  <a:pt x="21109" y="2431"/>
                </a:cubicBezTo>
                <a:cubicBezTo>
                  <a:pt x="21202" y="2389"/>
                  <a:pt x="21235" y="2347"/>
                  <a:pt x="21282" y="2257"/>
                </a:cubicBezTo>
                <a:cubicBezTo>
                  <a:pt x="21308" y="2208"/>
                  <a:pt x="21323" y="2162"/>
                  <a:pt x="21332" y="2108"/>
                </a:cubicBezTo>
                <a:cubicBezTo>
                  <a:pt x="21306" y="2169"/>
                  <a:pt x="21291" y="2197"/>
                  <a:pt x="21332" y="2257"/>
                </a:cubicBezTo>
                <a:cubicBezTo>
                  <a:pt x="21359" y="2298"/>
                  <a:pt x="21428" y="2371"/>
                  <a:pt x="21481" y="2381"/>
                </a:cubicBezTo>
                <a:cubicBezTo>
                  <a:pt x="21545" y="2393"/>
                  <a:pt x="21554" y="2393"/>
                  <a:pt x="21605" y="2406"/>
                </a:cubicBezTo>
              </a:path>
              <a:path w="3647" h="919">
                <a:moveTo>
                  <a:pt x="21853" y="1612"/>
                </a:moveTo>
                <a:cubicBezTo>
                  <a:pt x="21853" y="1743"/>
                  <a:pt x="21885" y="1812"/>
                  <a:pt x="21903" y="1935"/>
                </a:cubicBezTo>
                <a:cubicBezTo>
                  <a:pt x="21916" y="2024"/>
                  <a:pt x="21923" y="2120"/>
                  <a:pt x="21927" y="2208"/>
                </a:cubicBezTo>
                <a:cubicBezTo>
                  <a:pt x="21930" y="2265"/>
                  <a:pt x="21927" y="2324"/>
                  <a:pt x="21927" y="2381"/>
                </a:cubicBezTo>
              </a:path>
              <a:path w="3647" h="919">
                <a:moveTo>
                  <a:pt x="21654" y="1984"/>
                </a:moveTo>
                <a:cubicBezTo>
                  <a:pt x="21827" y="1984"/>
                  <a:pt x="22089" y="2036"/>
                  <a:pt x="22225" y="1935"/>
                </a:cubicBezTo>
              </a:path>
              <a:path w="3647" h="919">
                <a:moveTo>
                  <a:pt x="22994" y="1761"/>
                </a:moveTo>
                <a:cubicBezTo>
                  <a:pt x="23021" y="1825"/>
                  <a:pt x="23019" y="1864"/>
                  <a:pt x="23019" y="1935"/>
                </a:cubicBezTo>
                <a:cubicBezTo>
                  <a:pt x="23019" y="2009"/>
                  <a:pt x="23003" y="2066"/>
                  <a:pt x="22994" y="2133"/>
                </a:cubicBezTo>
                <a:cubicBezTo>
                  <a:pt x="22987" y="2187"/>
                  <a:pt x="22994" y="2252"/>
                  <a:pt x="22994" y="2307"/>
                </a:cubicBezTo>
              </a:path>
              <a:path w="3647" h="919">
                <a:moveTo>
                  <a:pt x="22671" y="1984"/>
                </a:moveTo>
                <a:cubicBezTo>
                  <a:pt x="22739" y="2009"/>
                  <a:pt x="22799" y="2020"/>
                  <a:pt x="22870" y="2034"/>
                </a:cubicBezTo>
                <a:cubicBezTo>
                  <a:pt x="22981" y="2056"/>
                  <a:pt x="23153" y="2094"/>
                  <a:pt x="23267" y="2059"/>
                </a:cubicBezTo>
                <a:cubicBezTo>
                  <a:pt x="23379" y="2025"/>
                  <a:pt x="23486" y="1968"/>
                  <a:pt x="23540" y="1860"/>
                </a:cubicBezTo>
                <a:cubicBezTo>
                  <a:pt x="23584" y="1771"/>
                  <a:pt x="23568" y="1670"/>
                  <a:pt x="23515" y="1588"/>
                </a:cubicBezTo>
                <a:cubicBezTo>
                  <a:pt x="23490" y="1563"/>
                  <a:pt x="23482" y="1555"/>
                  <a:pt x="23465" y="1538"/>
                </a:cubicBezTo>
                <a:cubicBezTo>
                  <a:pt x="23427" y="1595"/>
                  <a:pt x="23419" y="1637"/>
                  <a:pt x="23416" y="1712"/>
                </a:cubicBezTo>
                <a:cubicBezTo>
                  <a:pt x="23412" y="1821"/>
                  <a:pt x="23391" y="1922"/>
                  <a:pt x="23391" y="2034"/>
                </a:cubicBezTo>
                <a:cubicBezTo>
                  <a:pt x="23391" y="2131"/>
                  <a:pt x="23355" y="2217"/>
                  <a:pt x="23341" y="2307"/>
                </a:cubicBezTo>
                <a:cubicBezTo>
                  <a:pt x="23341" y="2323"/>
                  <a:pt x="23341" y="2340"/>
                  <a:pt x="23341" y="2356"/>
                </a:cubicBezTo>
                <a:cubicBezTo>
                  <a:pt x="23395" y="2312"/>
                  <a:pt x="23425" y="2241"/>
                  <a:pt x="23440" y="2158"/>
                </a:cubicBezTo>
                <a:cubicBezTo>
                  <a:pt x="23454" y="2084"/>
                  <a:pt x="23497" y="2052"/>
                  <a:pt x="23540" y="2009"/>
                </a:cubicBezTo>
                <a:cubicBezTo>
                  <a:pt x="23553" y="2023"/>
                  <a:pt x="23650" y="2086"/>
                  <a:pt x="23664" y="2108"/>
                </a:cubicBezTo>
                <a:cubicBezTo>
                  <a:pt x="23672" y="2121"/>
                  <a:pt x="23745" y="2304"/>
                  <a:pt x="23788" y="2282"/>
                </a:cubicBezTo>
                <a:cubicBezTo>
                  <a:pt x="23788" y="2325"/>
                  <a:pt x="23793" y="2316"/>
                  <a:pt x="23812" y="2232"/>
                </a:cubicBezTo>
              </a:path>
              <a:path w="3647" h="919">
                <a:moveTo>
                  <a:pt x="23937" y="2034"/>
                </a:moveTo>
                <a:cubicBezTo>
                  <a:pt x="24005" y="2034"/>
                  <a:pt x="24047" y="2024"/>
                  <a:pt x="24110" y="2009"/>
                </a:cubicBezTo>
                <a:cubicBezTo>
                  <a:pt x="24162" y="1997"/>
                  <a:pt x="24186" y="1989"/>
                  <a:pt x="24234" y="1960"/>
                </a:cubicBezTo>
                <a:cubicBezTo>
                  <a:pt x="24282" y="1936"/>
                  <a:pt x="24299" y="1930"/>
                  <a:pt x="24284" y="1885"/>
                </a:cubicBezTo>
                <a:cubicBezTo>
                  <a:pt x="24215" y="1855"/>
                  <a:pt x="24189" y="1860"/>
                  <a:pt x="24110" y="1860"/>
                </a:cubicBezTo>
                <a:cubicBezTo>
                  <a:pt x="24012" y="1860"/>
                  <a:pt x="23991" y="1897"/>
                  <a:pt x="23937" y="1984"/>
                </a:cubicBezTo>
                <a:cubicBezTo>
                  <a:pt x="23905" y="2036"/>
                  <a:pt x="23874" y="2147"/>
                  <a:pt x="23862" y="2208"/>
                </a:cubicBezTo>
                <a:cubicBezTo>
                  <a:pt x="23847" y="2284"/>
                  <a:pt x="23957" y="2329"/>
                  <a:pt x="24011" y="2356"/>
                </a:cubicBezTo>
                <a:cubicBezTo>
                  <a:pt x="24124" y="2413"/>
                  <a:pt x="24212" y="2425"/>
                  <a:pt x="24333" y="2381"/>
                </a:cubicBezTo>
                <a:cubicBezTo>
                  <a:pt x="24377" y="2359"/>
                  <a:pt x="24388" y="2356"/>
                  <a:pt x="24408" y="23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83120" y="1017720"/>
            <a:ext cx="1320840" cy="465120"/>
          </a:xfrm>
          <a:custGeom>
            <a:avLst/>
            <a:gdLst/>
            <a:ahLst/>
            <a:rect l="l" t="t" r="r" b="b"/>
            <a:pathLst>
              <a:path w="3672" h="1291">
                <a:moveTo>
                  <a:pt x="14312" y="3299"/>
                </a:moveTo>
                <a:cubicBezTo>
                  <a:pt x="14312" y="3387"/>
                  <a:pt x="14326" y="3460"/>
                  <a:pt x="14337" y="3547"/>
                </a:cubicBezTo>
                <a:cubicBezTo>
                  <a:pt x="14352" y="3664"/>
                  <a:pt x="14354" y="4074"/>
                  <a:pt x="14312" y="4018"/>
                </a:cubicBezTo>
              </a:path>
              <a:path w="3672" h="1291">
                <a:moveTo>
                  <a:pt x="13841" y="3249"/>
                </a:moveTo>
                <a:cubicBezTo>
                  <a:pt x="13863" y="3232"/>
                  <a:pt x="13892" y="3215"/>
                  <a:pt x="13940" y="3200"/>
                </a:cubicBezTo>
                <a:cubicBezTo>
                  <a:pt x="14085" y="3156"/>
                  <a:pt x="14211" y="3107"/>
                  <a:pt x="14362" y="3101"/>
                </a:cubicBezTo>
                <a:cubicBezTo>
                  <a:pt x="14545" y="3094"/>
                  <a:pt x="14686" y="3104"/>
                  <a:pt x="14808" y="3249"/>
                </a:cubicBezTo>
                <a:cubicBezTo>
                  <a:pt x="14867" y="3319"/>
                  <a:pt x="14925" y="3428"/>
                  <a:pt x="14908" y="3522"/>
                </a:cubicBezTo>
                <a:cubicBezTo>
                  <a:pt x="14896" y="3587"/>
                  <a:pt x="14823" y="3678"/>
                  <a:pt x="14759" y="3696"/>
                </a:cubicBezTo>
                <a:cubicBezTo>
                  <a:pt x="14733" y="3703"/>
                  <a:pt x="14508" y="3724"/>
                  <a:pt x="14560" y="3646"/>
                </a:cubicBezTo>
                <a:cubicBezTo>
                  <a:pt x="14568" y="3646"/>
                  <a:pt x="14577" y="3646"/>
                  <a:pt x="14585" y="3646"/>
                </a:cubicBezTo>
              </a:path>
              <a:path w="3672" h="1291">
                <a:moveTo>
                  <a:pt x="15230" y="3423"/>
                </a:moveTo>
                <a:cubicBezTo>
                  <a:pt x="15114" y="3405"/>
                  <a:pt x="15057" y="3398"/>
                  <a:pt x="15007" y="3522"/>
                </a:cubicBezTo>
                <a:cubicBezTo>
                  <a:pt x="14990" y="3564"/>
                  <a:pt x="15009" y="3636"/>
                  <a:pt x="15032" y="3671"/>
                </a:cubicBezTo>
                <a:cubicBezTo>
                  <a:pt x="15059" y="3713"/>
                  <a:pt x="15179" y="3757"/>
                  <a:pt x="15230" y="3746"/>
                </a:cubicBezTo>
                <a:cubicBezTo>
                  <a:pt x="15306" y="3729"/>
                  <a:pt x="15347" y="3713"/>
                  <a:pt x="15379" y="3646"/>
                </a:cubicBezTo>
                <a:cubicBezTo>
                  <a:pt x="15410" y="3581"/>
                  <a:pt x="15429" y="3546"/>
                  <a:pt x="15429" y="3473"/>
                </a:cubicBezTo>
                <a:cubicBezTo>
                  <a:pt x="15429" y="3384"/>
                  <a:pt x="15412" y="3373"/>
                  <a:pt x="15329" y="3373"/>
                </a:cubicBezTo>
                <a:cubicBezTo>
                  <a:pt x="15304" y="3373"/>
                  <a:pt x="15296" y="3373"/>
                  <a:pt x="15280" y="3373"/>
                </a:cubicBezTo>
              </a:path>
              <a:path w="3672" h="1291">
                <a:moveTo>
                  <a:pt x="15627" y="3497"/>
                </a:moveTo>
                <a:cubicBezTo>
                  <a:pt x="15634" y="3541"/>
                  <a:pt x="15637" y="3604"/>
                  <a:pt x="15652" y="3646"/>
                </a:cubicBezTo>
                <a:cubicBezTo>
                  <a:pt x="15667" y="3687"/>
                  <a:pt x="15701" y="3828"/>
                  <a:pt x="15701" y="3721"/>
                </a:cubicBezTo>
              </a:path>
              <a:path w="3672" h="1291">
                <a:moveTo>
                  <a:pt x="15627" y="3150"/>
                </a:moveTo>
                <a:cubicBezTo>
                  <a:pt x="15652" y="3150"/>
                  <a:pt x="15660" y="3150"/>
                  <a:pt x="15627" y="3150"/>
                </a:cubicBezTo>
              </a:path>
              <a:path w="3672" h="1291">
                <a:moveTo>
                  <a:pt x="15900" y="3373"/>
                </a:moveTo>
                <a:cubicBezTo>
                  <a:pt x="15900" y="3456"/>
                  <a:pt x="15900" y="3538"/>
                  <a:pt x="15900" y="3621"/>
                </a:cubicBezTo>
                <a:cubicBezTo>
                  <a:pt x="15930" y="3584"/>
                  <a:pt x="16010" y="3514"/>
                  <a:pt x="16024" y="3473"/>
                </a:cubicBezTo>
                <a:cubicBezTo>
                  <a:pt x="16046" y="3407"/>
                  <a:pt x="16061" y="3361"/>
                  <a:pt x="16098" y="3299"/>
                </a:cubicBezTo>
                <a:cubicBezTo>
                  <a:pt x="16130" y="3245"/>
                  <a:pt x="16146" y="3227"/>
                  <a:pt x="16197" y="3274"/>
                </a:cubicBezTo>
                <a:cubicBezTo>
                  <a:pt x="16263" y="3336"/>
                  <a:pt x="16224" y="3363"/>
                  <a:pt x="16272" y="3423"/>
                </a:cubicBezTo>
                <a:cubicBezTo>
                  <a:pt x="16311" y="3471"/>
                  <a:pt x="16314" y="3536"/>
                  <a:pt x="16371" y="3572"/>
                </a:cubicBezTo>
                <a:cubicBezTo>
                  <a:pt x="16412" y="3592"/>
                  <a:pt x="16418" y="3601"/>
                  <a:pt x="16446" y="3597"/>
                </a:cubicBezTo>
              </a:path>
              <a:path w="3672" h="1291">
                <a:moveTo>
                  <a:pt x="16669" y="2977"/>
                </a:moveTo>
                <a:cubicBezTo>
                  <a:pt x="16669" y="3097"/>
                  <a:pt x="16641" y="3263"/>
                  <a:pt x="16694" y="3373"/>
                </a:cubicBezTo>
                <a:cubicBezTo>
                  <a:pt x="16722" y="3431"/>
                  <a:pt x="16764" y="3486"/>
                  <a:pt x="16768" y="3547"/>
                </a:cubicBezTo>
                <a:cubicBezTo>
                  <a:pt x="16772" y="3604"/>
                  <a:pt x="16773" y="3606"/>
                  <a:pt x="16743" y="3646"/>
                </a:cubicBezTo>
              </a:path>
              <a:path w="3672" h="1291">
                <a:moveTo>
                  <a:pt x="16520" y="3349"/>
                </a:moveTo>
                <a:cubicBezTo>
                  <a:pt x="16587" y="3338"/>
                  <a:pt x="16631" y="3303"/>
                  <a:pt x="16694" y="3299"/>
                </a:cubicBezTo>
                <a:cubicBezTo>
                  <a:pt x="16735" y="3297"/>
                  <a:pt x="16777" y="3299"/>
                  <a:pt x="16818" y="3299"/>
                </a:cubicBezTo>
              </a:path>
              <a:path w="3672" h="1291">
                <a:moveTo>
                  <a:pt x="16942" y="2828"/>
                </a:moveTo>
                <a:cubicBezTo>
                  <a:pt x="17035" y="2849"/>
                  <a:pt x="17138" y="2918"/>
                  <a:pt x="17214" y="2977"/>
                </a:cubicBezTo>
                <a:cubicBezTo>
                  <a:pt x="17331" y="3068"/>
                  <a:pt x="17407" y="3217"/>
                  <a:pt x="17462" y="3349"/>
                </a:cubicBezTo>
                <a:cubicBezTo>
                  <a:pt x="17518" y="3484"/>
                  <a:pt x="17492" y="3581"/>
                  <a:pt x="17487" y="3721"/>
                </a:cubicBezTo>
                <a:cubicBezTo>
                  <a:pt x="17483" y="3827"/>
                  <a:pt x="17414" y="3905"/>
                  <a:pt x="17363" y="3994"/>
                </a:cubicBezTo>
                <a:cubicBezTo>
                  <a:pt x="17337" y="4039"/>
                  <a:pt x="17272" y="4133"/>
                  <a:pt x="17214" y="4118"/>
                </a:cubicBezTo>
                <a:cubicBezTo>
                  <a:pt x="17206" y="4110"/>
                  <a:pt x="17198" y="4101"/>
                  <a:pt x="17190" y="40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2200" y="1687680"/>
            <a:ext cx="266760" cy="447480"/>
          </a:xfrm>
          <a:custGeom>
            <a:avLst/>
            <a:gdLst/>
            <a:ahLst/>
            <a:rect l="l" t="t" r="r" b="b"/>
            <a:pathLst>
              <a:path w="745" h="1241">
                <a:moveTo>
                  <a:pt x="1290" y="4762"/>
                </a:moveTo>
                <a:cubicBezTo>
                  <a:pt x="1242" y="4743"/>
                  <a:pt x="1191" y="4698"/>
                  <a:pt x="1141" y="4688"/>
                </a:cubicBezTo>
                <a:cubicBezTo>
                  <a:pt x="1045" y="4669"/>
                  <a:pt x="1025" y="4702"/>
                  <a:pt x="967" y="4738"/>
                </a:cubicBezTo>
                <a:cubicBezTo>
                  <a:pt x="919" y="4768"/>
                  <a:pt x="898" y="4799"/>
                  <a:pt x="893" y="4862"/>
                </a:cubicBezTo>
                <a:cubicBezTo>
                  <a:pt x="887" y="4934"/>
                  <a:pt x="875" y="5046"/>
                  <a:pt x="918" y="5110"/>
                </a:cubicBezTo>
                <a:cubicBezTo>
                  <a:pt x="946" y="5153"/>
                  <a:pt x="1014" y="5221"/>
                  <a:pt x="1067" y="5234"/>
                </a:cubicBezTo>
                <a:cubicBezTo>
                  <a:pt x="1162" y="5257"/>
                  <a:pt x="1297" y="5246"/>
                  <a:pt x="1364" y="5184"/>
                </a:cubicBezTo>
                <a:cubicBezTo>
                  <a:pt x="1429" y="5124"/>
                  <a:pt x="1435" y="5138"/>
                  <a:pt x="1463" y="5060"/>
                </a:cubicBezTo>
                <a:cubicBezTo>
                  <a:pt x="1483" y="5003"/>
                  <a:pt x="1518" y="4917"/>
                  <a:pt x="1463" y="4862"/>
                </a:cubicBezTo>
                <a:cubicBezTo>
                  <a:pt x="1431" y="4830"/>
                  <a:pt x="1291" y="4692"/>
                  <a:pt x="1240" y="4713"/>
                </a:cubicBezTo>
                <a:cubicBezTo>
                  <a:pt x="1210" y="4743"/>
                  <a:pt x="1196" y="4754"/>
                  <a:pt x="1166" y="4762"/>
                </a:cubicBezTo>
              </a:path>
              <a:path w="745" h="1241">
                <a:moveTo>
                  <a:pt x="1265" y="5507"/>
                </a:moveTo>
                <a:cubicBezTo>
                  <a:pt x="1224" y="5446"/>
                  <a:pt x="1211" y="5427"/>
                  <a:pt x="1141" y="5407"/>
                </a:cubicBezTo>
                <a:cubicBezTo>
                  <a:pt x="1117" y="5419"/>
                  <a:pt x="1059" y="5471"/>
                  <a:pt x="1042" y="5507"/>
                </a:cubicBezTo>
                <a:cubicBezTo>
                  <a:pt x="1013" y="5567"/>
                  <a:pt x="1017" y="5617"/>
                  <a:pt x="1017" y="5680"/>
                </a:cubicBezTo>
                <a:cubicBezTo>
                  <a:pt x="1017" y="5753"/>
                  <a:pt x="1052" y="5834"/>
                  <a:pt x="1116" y="5879"/>
                </a:cubicBezTo>
                <a:cubicBezTo>
                  <a:pt x="1180" y="5923"/>
                  <a:pt x="1265" y="5928"/>
                  <a:pt x="1339" y="5928"/>
                </a:cubicBezTo>
                <a:cubicBezTo>
                  <a:pt x="1404" y="5928"/>
                  <a:pt x="1486" y="5895"/>
                  <a:pt x="1538" y="5854"/>
                </a:cubicBezTo>
                <a:cubicBezTo>
                  <a:pt x="1620" y="5790"/>
                  <a:pt x="1637" y="5753"/>
                  <a:pt x="1637" y="5655"/>
                </a:cubicBezTo>
                <a:cubicBezTo>
                  <a:pt x="1637" y="5563"/>
                  <a:pt x="1629" y="5514"/>
                  <a:pt x="1588" y="5432"/>
                </a:cubicBezTo>
                <a:cubicBezTo>
                  <a:pt x="1547" y="5350"/>
                  <a:pt x="1503" y="5365"/>
                  <a:pt x="1439" y="5333"/>
                </a:cubicBezTo>
                <a:cubicBezTo>
                  <a:pt x="1401" y="5314"/>
                  <a:pt x="1367" y="5291"/>
                  <a:pt x="1315" y="5308"/>
                </a:cubicBezTo>
                <a:cubicBezTo>
                  <a:pt x="1252" y="5329"/>
                  <a:pt x="1172" y="5336"/>
                  <a:pt x="1116" y="5358"/>
                </a:cubicBezTo>
                <a:cubicBezTo>
                  <a:pt x="1073" y="5375"/>
                  <a:pt x="1091" y="5480"/>
                  <a:pt x="1091" y="5507"/>
                </a:cubicBezTo>
                <a:cubicBezTo>
                  <a:pt x="1091" y="5544"/>
                  <a:pt x="1116" y="5556"/>
                  <a:pt x="1141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1240" y="2017800"/>
            <a:ext cx="17640" cy="54000"/>
          </a:xfrm>
          <a:custGeom>
            <a:avLst/>
            <a:gdLst/>
            <a:ahLst/>
            <a:rect l="l" t="t" r="r" b="b"/>
            <a:pathLst>
              <a:path w="50" h="150">
                <a:moveTo>
                  <a:pt x="2108" y="5606"/>
                </a:moveTo>
                <a:cubicBezTo>
                  <a:pt x="2108" y="5651"/>
                  <a:pt x="2091" y="5774"/>
                  <a:pt x="2084" y="5730"/>
                </a:cubicBezTo>
                <a:cubicBezTo>
                  <a:pt x="2084" y="5713"/>
                  <a:pt x="2084" y="5697"/>
                  <a:pt x="2084" y="5680"/>
                </a:cubicBezTo>
                <a:cubicBezTo>
                  <a:pt x="2134" y="5654"/>
                  <a:pt x="2059" y="5705"/>
                  <a:pt x="2084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70000" y="1785960"/>
            <a:ext cx="172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3299" y="4961"/>
                </a:moveTo>
                <a:cubicBezTo>
                  <a:pt x="3299" y="5096"/>
                  <a:pt x="3334" y="5296"/>
                  <a:pt x="3274" y="5407"/>
                </a:cubicBezTo>
                <a:cubicBezTo>
                  <a:pt x="3252" y="5449"/>
                  <a:pt x="3249" y="5527"/>
                  <a:pt x="3249" y="54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30200" y="1911240"/>
            <a:ext cx="81000" cy="196920"/>
          </a:xfrm>
          <a:custGeom>
            <a:avLst/>
            <a:gdLst/>
            <a:ahLst/>
            <a:rect l="l" t="t" r="r" b="b"/>
            <a:pathLst>
              <a:path w="224" h="547">
                <a:moveTo>
                  <a:pt x="3696" y="5308"/>
                </a:moveTo>
                <a:cubicBezTo>
                  <a:pt x="3696" y="5386"/>
                  <a:pt x="3741" y="5387"/>
                  <a:pt x="3795" y="5432"/>
                </a:cubicBezTo>
                <a:cubicBezTo>
                  <a:pt x="3849" y="5477"/>
                  <a:pt x="3914" y="5533"/>
                  <a:pt x="3919" y="5606"/>
                </a:cubicBezTo>
                <a:cubicBezTo>
                  <a:pt x="3925" y="5689"/>
                  <a:pt x="3909" y="5694"/>
                  <a:pt x="3870" y="5755"/>
                </a:cubicBezTo>
                <a:cubicBezTo>
                  <a:pt x="3849" y="5788"/>
                  <a:pt x="3820" y="5904"/>
                  <a:pt x="3795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1760" y="1714680"/>
            <a:ext cx="411120" cy="29520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4366" y="5011"/>
                </a:moveTo>
                <a:cubicBezTo>
                  <a:pt x="4379" y="5063"/>
                  <a:pt x="4390" y="5097"/>
                  <a:pt x="4390" y="5159"/>
                </a:cubicBezTo>
                <a:cubicBezTo>
                  <a:pt x="4390" y="5223"/>
                  <a:pt x="4366" y="5268"/>
                  <a:pt x="4366" y="5333"/>
                </a:cubicBezTo>
                <a:cubicBezTo>
                  <a:pt x="4429" y="5325"/>
                  <a:pt x="4464" y="5311"/>
                  <a:pt x="4514" y="5283"/>
                </a:cubicBezTo>
                <a:cubicBezTo>
                  <a:pt x="4571" y="5251"/>
                  <a:pt x="4625" y="5259"/>
                  <a:pt x="4688" y="5259"/>
                </a:cubicBezTo>
                <a:cubicBezTo>
                  <a:pt x="4755" y="5259"/>
                  <a:pt x="4808" y="5220"/>
                  <a:pt x="4862" y="5209"/>
                </a:cubicBezTo>
                <a:cubicBezTo>
                  <a:pt x="4953" y="5191"/>
                  <a:pt x="4951" y="5185"/>
                  <a:pt x="4887" y="5110"/>
                </a:cubicBezTo>
              </a:path>
              <a:path w="1142" h="820">
                <a:moveTo>
                  <a:pt x="4663" y="4762"/>
                </a:moveTo>
                <a:cubicBezTo>
                  <a:pt x="4636" y="4826"/>
                  <a:pt x="4638" y="4865"/>
                  <a:pt x="4638" y="4936"/>
                </a:cubicBezTo>
                <a:cubicBezTo>
                  <a:pt x="4638" y="5056"/>
                  <a:pt x="4626" y="5167"/>
                  <a:pt x="4614" y="5283"/>
                </a:cubicBezTo>
                <a:cubicBezTo>
                  <a:pt x="4604" y="5377"/>
                  <a:pt x="4571" y="5465"/>
                  <a:pt x="4564" y="5556"/>
                </a:cubicBezTo>
                <a:cubicBezTo>
                  <a:pt x="4559" y="5615"/>
                  <a:pt x="4624" y="5498"/>
                  <a:pt x="4638" y="5482"/>
                </a:cubicBezTo>
              </a:path>
              <a:path w="1142" h="820">
                <a:moveTo>
                  <a:pt x="5209" y="5234"/>
                </a:moveTo>
                <a:cubicBezTo>
                  <a:pt x="5314" y="5234"/>
                  <a:pt x="5479" y="5268"/>
                  <a:pt x="5507" y="51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51080" y="1589040"/>
            <a:ext cx="338040" cy="349200"/>
          </a:xfrm>
          <a:custGeom>
            <a:avLst/>
            <a:gdLst/>
            <a:ahLst/>
            <a:rect l="l" t="t" r="r" b="b"/>
            <a:pathLst>
              <a:path w="943" h="969">
                <a:moveTo>
                  <a:pt x="6722" y="4986"/>
                </a:moveTo>
                <a:cubicBezTo>
                  <a:pt x="6673" y="4958"/>
                  <a:pt x="6630" y="4915"/>
                  <a:pt x="6573" y="4911"/>
                </a:cubicBezTo>
                <a:cubicBezTo>
                  <a:pt x="6509" y="4907"/>
                  <a:pt x="6423" y="4910"/>
                  <a:pt x="6375" y="4961"/>
                </a:cubicBezTo>
                <a:cubicBezTo>
                  <a:pt x="6322" y="5017"/>
                  <a:pt x="6266" y="5107"/>
                  <a:pt x="6251" y="5184"/>
                </a:cubicBezTo>
                <a:cubicBezTo>
                  <a:pt x="6237" y="5260"/>
                  <a:pt x="6239" y="5320"/>
                  <a:pt x="6300" y="5358"/>
                </a:cubicBezTo>
                <a:cubicBezTo>
                  <a:pt x="6365" y="5399"/>
                  <a:pt x="6450" y="5383"/>
                  <a:pt x="6524" y="5383"/>
                </a:cubicBezTo>
                <a:cubicBezTo>
                  <a:pt x="6576" y="5383"/>
                  <a:pt x="6669" y="5360"/>
                  <a:pt x="6697" y="5308"/>
                </a:cubicBezTo>
                <a:cubicBezTo>
                  <a:pt x="6757" y="5195"/>
                  <a:pt x="6807" y="5066"/>
                  <a:pt x="6796" y="4936"/>
                </a:cubicBezTo>
                <a:cubicBezTo>
                  <a:pt x="6784" y="4788"/>
                  <a:pt x="6747" y="4657"/>
                  <a:pt x="6722" y="4514"/>
                </a:cubicBezTo>
                <a:cubicBezTo>
                  <a:pt x="6710" y="4448"/>
                  <a:pt x="6688" y="4403"/>
                  <a:pt x="6722" y="4465"/>
                </a:cubicBezTo>
                <a:cubicBezTo>
                  <a:pt x="6730" y="4473"/>
                  <a:pt x="6739" y="4482"/>
                  <a:pt x="6747" y="4490"/>
                </a:cubicBezTo>
              </a:path>
              <a:path w="943" h="969">
                <a:moveTo>
                  <a:pt x="7119" y="5060"/>
                </a:moveTo>
                <a:cubicBezTo>
                  <a:pt x="7154" y="5121"/>
                  <a:pt x="7169" y="5139"/>
                  <a:pt x="7169" y="5209"/>
                </a:cubicBezTo>
                <a:cubicBezTo>
                  <a:pt x="7169" y="5250"/>
                  <a:pt x="7169" y="5292"/>
                  <a:pt x="7169" y="5333"/>
                </a:cubicBezTo>
                <a:cubicBezTo>
                  <a:pt x="7197" y="5256"/>
                  <a:pt x="7193" y="5223"/>
                  <a:pt x="7193" y="5135"/>
                </a:cubicBezTo>
              </a:path>
              <a:path w="943" h="969">
                <a:moveTo>
                  <a:pt x="7169" y="4614"/>
                </a:moveTo>
                <a:cubicBezTo>
                  <a:pt x="7169" y="4606"/>
                  <a:pt x="7169" y="4597"/>
                  <a:pt x="7169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76680" y="1652760"/>
            <a:ext cx="1179360" cy="544320"/>
          </a:xfrm>
          <a:custGeom>
            <a:avLst/>
            <a:gdLst/>
            <a:ahLst/>
            <a:rect l="l" t="t" r="r" b="b"/>
            <a:pathLst>
              <a:path w="3275" h="1514">
                <a:moveTo>
                  <a:pt x="7714" y="5110"/>
                </a:moveTo>
                <a:cubicBezTo>
                  <a:pt x="7726" y="5171"/>
                  <a:pt x="7739" y="5217"/>
                  <a:pt x="7739" y="5283"/>
                </a:cubicBezTo>
                <a:cubicBezTo>
                  <a:pt x="7739" y="5341"/>
                  <a:pt x="7739" y="5399"/>
                  <a:pt x="7739" y="5457"/>
                </a:cubicBezTo>
                <a:cubicBezTo>
                  <a:pt x="7767" y="5381"/>
                  <a:pt x="7780" y="5304"/>
                  <a:pt x="7813" y="5234"/>
                </a:cubicBezTo>
                <a:cubicBezTo>
                  <a:pt x="7841" y="5175"/>
                  <a:pt x="7900" y="5027"/>
                  <a:pt x="7987" y="5035"/>
                </a:cubicBezTo>
                <a:cubicBezTo>
                  <a:pt x="8056" y="5041"/>
                  <a:pt x="8037" y="5174"/>
                  <a:pt x="8037" y="5209"/>
                </a:cubicBezTo>
                <a:cubicBezTo>
                  <a:pt x="8037" y="5272"/>
                  <a:pt x="8035" y="5301"/>
                  <a:pt x="8062" y="5358"/>
                </a:cubicBezTo>
                <a:cubicBezTo>
                  <a:pt x="8070" y="5374"/>
                  <a:pt x="8078" y="5391"/>
                  <a:pt x="8086" y="5407"/>
                </a:cubicBezTo>
                <a:cubicBezTo>
                  <a:pt x="8125" y="5340"/>
                  <a:pt x="8148" y="5297"/>
                  <a:pt x="8186" y="5234"/>
                </a:cubicBezTo>
                <a:cubicBezTo>
                  <a:pt x="8236" y="5152"/>
                  <a:pt x="8227" y="5150"/>
                  <a:pt x="8310" y="5110"/>
                </a:cubicBezTo>
                <a:cubicBezTo>
                  <a:pt x="8384" y="5075"/>
                  <a:pt x="8390" y="5083"/>
                  <a:pt x="8434" y="5135"/>
                </a:cubicBezTo>
                <a:cubicBezTo>
                  <a:pt x="8491" y="5202"/>
                  <a:pt x="8483" y="5199"/>
                  <a:pt x="8483" y="5283"/>
                </a:cubicBezTo>
                <a:cubicBezTo>
                  <a:pt x="8483" y="5340"/>
                  <a:pt x="8518" y="5387"/>
                  <a:pt x="8558" y="5407"/>
                </a:cubicBezTo>
              </a:path>
              <a:path w="3275" h="1514">
                <a:moveTo>
                  <a:pt x="8954" y="5135"/>
                </a:moveTo>
                <a:cubicBezTo>
                  <a:pt x="8997" y="5135"/>
                  <a:pt x="9048" y="5134"/>
                  <a:pt x="9079" y="5110"/>
                </a:cubicBezTo>
                <a:cubicBezTo>
                  <a:pt x="9118" y="5079"/>
                  <a:pt x="9210" y="4987"/>
                  <a:pt x="9128" y="4936"/>
                </a:cubicBezTo>
                <a:cubicBezTo>
                  <a:pt x="9110" y="4925"/>
                  <a:pt x="9005" y="4879"/>
                  <a:pt x="8979" y="4887"/>
                </a:cubicBezTo>
                <a:cubicBezTo>
                  <a:pt x="8915" y="4907"/>
                  <a:pt x="8861" y="4979"/>
                  <a:pt x="8830" y="5035"/>
                </a:cubicBezTo>
                <a:cubicBezTo>
                  <a:pt x="8800" y="5090"/>
                  <a:pt x="8769" y="5220"/>
                  <a:pt x="8781" y="5283"/>
                </a:cubicBezTo>
                <a:cubicBezTo>
                  <a:pt x="8799" y="5378"/>
                  <a:pt x="8901" y="5402"/>
                  <a:pt x="8979" y="5407"/>
                </a:cubicBezTo>
                <a:cubicBezTo>
                  <a:pt x="9101" y="5414"/>
                  <a:pt x="9248" y="5375"/>
                  <a:pt x="9351" y="5308"/>
                </a:cubicBezTo>
                <a:cubicBezTo>
                  <a:pt x="9368" y="5292"/>
                  <a:pt x="9384" y="5275"/>
                  <a:pt x="9401" y="5259"/>
                </a:cubicBezTo>
              </a:path>
              <a:path w="3275" h="1514">
                <a:moveTo>
                  <a:pt x="9624" y="4688"/>
                </a:moveTo>
                <a:cubicBezTo>
                  <a:pt x="9597" y="4785"/>
                  <a:pt x="9599" y="4859"/>
                  <a:pt x="9599" y="4961"/>
                </a:cubicBezTo>
                <a:cubicBezTo>
                  <a:pt x="9599" y="5046"/>
                  <a:pt x="9645" y="5295"/>
                  <a:pt x="9575" y="5358"/>
                </a:cubicBezTo>
                <a:cubicBezTo>
                  <a:pt x="9567" y="5358"/>
                  <a:pt x="9558" y="5358"/>
                  <a:pt x="9550" y="5358"/>
                </a:cubicBezTo>
              </a:path>
              <a:path w="3275" h="1514">
                <a:moveTo>
                  <a:pt x="9426" y="5060"/>
                </a:moveTo>
                <a:cubicBezTo>
                  <a:pt x="9481" y="5093"/>
                  <a:pt x="9536" y="5082"/>
                  <a:pt x="9599" y="5110"/>
                </a:cubicBezTo>
                <a:cubicBezTo>
                  <a:pt x="9666" y="5140"/>
                  <a:pt x="9798" y="5158"/>
                  <a:pt x="9872" y="5135"/>
                </a:cubicBezTo>
                <a:cubicBezTo>
                  <a:pt x="9959" y="5107"/>
                  <a:pt x="10097" y="5020"/>
                  <a:pt x="10145" y="4936"/>
                </a:cubicBezTo>
                <a:cubicBezTo>
                  <a:pt x="10197" y="4845"/>
                  <a:pt x="10171" y="4723"/>
                  <a:pt x="10120" y="4638"/>
                </a:cubicBezTo>
                <a:cubicBezTo>
                  <a:pt x="10100" y="4604"/>
                  <a:pt x="10072" y="4604"/>
                  <a:pt x="10046" y="4589"/>
                </a:cubicBezTo>
                <a:cubicBezTo>
                  <a:pt x="9964" y="4693"/>
                  <a:pt x="9971" y="4754"/>
                  <a:pt x="9971" y="4887"/>
                </a:cubicBezTo>
                <a:cubicBezTo>
                  <a:pt x="9971" y="5027"/>
                  <a:pt x="9971" y="5168"/>
                  <a:pt x="9971" y="5308"/>
                </a:cubicBezTo>
                <a:cubicBezTo>
                  <a:pt x="10003" y="5222"/>
                  <a:pt x="10013" y="5150"/>
                  <a:pt x="10071" y="5085"/>
                </a:cubicBezTo>
                <a:cubicBezTo>
                  <a:pt x="10131" y="5017"/>
                  <a:pt x="10170" y="4996"/>
                  <a:pt x="10244" y="5035"/>
                </a:cubicBezTo>
                <a:cubicBezTo>
                  <a:pt x="10307" y="5068"/>
                  <a:pt x="10341" y="5132"/>
                  <a:pt x="10393" y="5184"/>
                </a:cubicBezTo>
                <a:cubicBezTo>
                  <a:pt x="10475" y="5266"/>
                  <a:pt x="10450" y="5244"/>
                  <a:pt x="10418" y="5308"/>
                </a:cubicBezTo>
              </a:path>
              <a:path w="3275" h="1514">
                <a:moveTo>
                  <a:pt x="10616" y="5060"/>
                </a:moveTo>
                <a:cubicBezTo>
                  <a:pt x="10606" y="5131"/>
                  <a:pt x="10592" y="5153"/>
                  <a:pt x="10592" y="5234"/>
                </a:cubicBezTo>
                <a:cubicBezTo>
                  <a:pt x="10592" y="5268"/>
                  <a:pt x="10634" y="5340"/>
                  <a:pt x="10666" y="5358"/>
                </a:cubicBezTo>
                <a:cubicBezTo>
                  <a:pt x="10674" y="5358"/>
                  <a:pt x="10683" y="5358"/>
                  <a:pt x="10691" y="5358"/>
                </a:cubicBezTo>
                <a:cubicBezTo>
                  <a:pt x="10742" y="5298"/>
                  <a:pt x="10773" y="5232"/>
                  <a:pt x="10815" y="5159"/>
                </a:cubicBezTo>
                <a:cubicBezTo>
                  <a:pt x="10859" y="5083"/>
                  <a:pt x="10854" y="5036"/>
                  <a:pt x="10914" y="4986"/>
                </a:cubicBezTo>
                <a:cubicBezTo>
                  <a:pt x="10900" y="5057"/>
                  <a:pt x="10889" y="5106"/>
                  <a:pt x="10889" y="5184"/>
                </a:cubicBezTo>
                <a:cubicBezTo>
                  <a:pt x="10889" y="5310"/>
                  <a:pt x="10931" y="5412"/>
                  <a:pt x="10964" y="5531"/>
                </a:cubicBezTo>
                <a:cubicBezTo>
                  <a:pt x="11000" y="5660"/>
                  <a:pt x="11000" y="5798"/>
                  <a:pt x="10964" y="5928"/>
                </a:cubicBezTo>
                <a:cubicBezTo>
                  <a:pt x="10939" y="6019"/>
                  <a:pt x="10897" y="6047"/>
                  <a:pt x="10815" y="6077"/>
                </a:cubicBezTo>
                <a:cubicBezTo>
                  <a:pt x="10684" y="6124"/>
                  <a:pt x="10642" y="6052"/>
                  <a:pt x="10567" y="5953"/>
                </a:cubicBezTo>
                <a:cubicBezTo>
                  <a:pt x="10550" y="5928"/>
                  <a:pt x="10534" y="5904"/>
                  <a:pt x="10517" y="58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25960" y="1616040"/>
            <a:ext cx="17280" cy="339840"/>
          </a:xfrm>
          <a:custGeom>
            <a:avLst/>
            <a:gdLst/>
            <a:ahLst/>
            <a:rect l="l" t="t" r="r" b="b"/>
            <a:pathLst>
              <a:path w="50" h="943">
                <a:moveTo>
                  <a:pt x="11485" y="4490"/>
                </a:moveTo>
                <a:cubicBezTo>
                  <a:pt x="11485" y="4760"/>
                  <a:pt x="11463" y="5055"/>
                  <a:pt x="11509" y="5308"/>
                </a:cubicBezTo>
                <a:cubicBezTo>
                  <a:pt x="11526" y="5403"/>
                  <a:pt x="11540" y="5466"/>
                  <a:pt x="11460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1589040"/>
            <a:ext cx="1509840" cy="339840"/>
          </a:xfrm>
          <a:custGeom>
            <a:avLst/>
            <a:gdLst/>
            <a:ahLst/>
            <a:rect l="l" t="t" r="r" b="b"/>
            <a:pathLst>
              <a:path w="4193" h="944">
                <a:moveTo>
                  <a:pt x="12725" y="4415"/>
                </a:moveTo>
                <a:cubicBezTo>
                  <a:pt x="12686" y="4480"/>
                  <a:pt x="12700" y="4558"/>
                  <a:pt x="12700" y="4638"/>
                </a:cubicBezTo>
                <a:cubicBezTo>
                  <a:pt x="12700" y="4845"/>
                  <a:pt x="12700" y="5052"/>
                  <a:pt x="12700" y="5259"/>
                </a:cubicBezTo>
                <a:cubicBezTo>
                  <a:pt x="12700" y="5161"/>
                  <a:pt x="12695" y="5077"/>
                  <a:pt x="12725" y="4986"/>
                </a:cubicBezTo>
                <a:cubicBezTo>
                  <a:pt x="12760" y="4883"/>
                  <a:pt x="12794" y="4858"/>
                  <a:pt x="12898" y="4837"/>
                </a:cubicBezTo>
                <a:cubicBezTo>
                  <a:pt x="12947" y="4827"/>
                  <a:pt x="12991" y="4924"/>
                  <a:pt x="12998" y="4961"/>
                </a:cubicBezTo>
                <a:cubicBezTo>
                  <a:pt x="13012" y="5042"/>
                  <a:pt x="13022" y="5125"/>
                  <a:pt x="13022" y="5209"/>
                </a:cubicBezTo>
                <a:cubicBezTo>
                  <a:pt x="13022" y="5263"/>
                  <a:pt x="12948" y="5319"/>
                  <a:pt x="12898" y="5333"/>
                </a:cubicBezTo>
                <a:cubicBezTo>
                  <a:pt x="12834" y="5351"/>
                  <a:pt x="12801" y="5279"/>
                  <a:pt x="12750" y="5259"/>
                </a:cubicBezTo>
                <a:cubicBezTo>
                  <a:pt x="12716" y="5246"/>
                  <a:pt x="12725" y="5253"/>
                  <a:pt x="12725" y="5209"/>
                </a:cubicBezTo>
              </a:path>
              <a:path w="4193" h="944">
                <a:moveTo>
                  <a:pt x="13519" y="5035"/>
                </a:moveTo>
                <a:cubicBezTo>
                  <a:pt x="13571" y="4997"/>
                  <a:pt x="13610" y="5033"/>
                  <a:pt x="13667" y="5011"/>
                </a:cubicBezTo>
                <a:cubicBezTo>
                  <a:pt x="13693" y="5001"/>
                  <a:pt x="13741" y="4951"/>
                  <a:pt x="13767" y="4936"/>
                </a:cubicBezTo>
                <a:cubicBezTo>
                  <a:pt x="13727" y="4857"/>
                  <a:pt x="13709" y="4837"/>
                  <a:pt x="13643" y="4787"/>
                </a:cubicBezTo>
                <a:cubicBezTo>
                  <a:pt x="13593" y="4749"/>
                  <a:pt x="13516" y="4761"/>
                  <a:pt x="13469" y="4812"/>
                </a:cubicBezTo>
                <a:cubicBezTo>
                  <a:pt x="13411" y="4875"/>
                  <a:pt x="13374" y="4948"/>
                  <a:pt x="13370" y="5035"/>
                </a:cubicBezTo>
                <a:cubicBezTo>
                  <a:pt x="13366" y="5142"/>
                  <a:pt x="13398" y="5208"/>
                  <a:pt x="13469" y="5283"/>
                </a:cubicBezTo>
                <a:cubicBezTo>
                  <a:pt x="13546" y="5365"/>
                  <a:pt x="13659" y="5333"/>
                  <a:pt x="13767" y="5333"/>
                </a:cubicBezTo>
              </a:path>
              <a:path w="4193" h="944">
                <a:moveTo>
                  <a:pt x="14064" y="4887"/>
                </a:moveTo>
                <a:cubicBezTo>
                  <a:pt x="14064" y="4934"/>
                  <a:pt x="14042" y="4966"/>
                  <a:pt x="14039" y="5011"/>
                </a:cubicBezTo>
                <a:cubicBezTo>
                  <a:pt x="14036" y="5053"/>
                  <a:pt x="14033" y="5148"/>
                  <a:pt x="14015" y="5184"/>
                </a:cubicBezTo>
                <a:cubicBezTo>
                  <a:pt x="13987" y="5212"/>
                  <a:pt x="13978" y="5226"/>
                  <a:pt x="13990" y="5259"/>
                </a:cubicBezTo>
                <a:cubicBezTo>
                  <a:pt x="14029" y="5209"/>
                  <a:pt x="14030" y="5160"/>
                  <a:pt x="14064" y="5110"/>
                </a:cubicBezTo>
                <a:cubicBezTo>
                  <a:pt x="14105" y="5050"/>
                  <a:pt x="14129" y="4978"/>
                  <a:pt x="14163" y="4911"/>
                </a:cubicBezTo>
                <a:cubicBezTo>
                  <a:pt x="14171" y="4895"/>
                  <a:pt x="14180" y="4878"/>
                  <a:pt x="14188" y="4862"/>
                </a:cubicBezTo>
                <a:cubicBezTo>
                  <a:pt x="14260" y="4876"/>
                  <a:pt x="14285" y="4887"/>
                  <a:pt x="14288" y="4961"/>
                </a:cubicBezTo>
                <a:cubicBezTo>
                  <a:pt x="14294" y="5084"/>
                  <a:pt x="14288" y="5209"/>
                  <a:pt x="14288" y="5333"/>
                </a:cubicBezTo>
                <a:cubicBezTo>
                  <a:pt x="14353" y="5311"/>
                  <a:pt x="14333" y="5305"/>
                  <a:pt x="14387" y="5234"/>
                </a:cubicBezTo>
              </a:path>
              <a:path w="4193" h="944">
                <a:moveTo>
                  <a:pt x="14635" y="4862"/>
                </a:moveTo>
                <a:cubicBezTo>
                  <a:pt x="14686" y="4831"/>
                  <a:pt x="14745" y="4817"/>
                  <a:pt x="14808" y="4812"/>
                </a:cubicBezTo>
                <a:cubicBezTo>
                  <a:pt x="14849" y="4809"/>
                  <a:pt x="14891" y="4812"/>
                  <a:pt x="14932" y="4812"/>
                </a:cubicBezTo>
                <a:cubicBezTo>
                  <a:pt x="14932" y="4919"/>
                  <a:pt x="14896" y="4868"/>
                  <a:pt x="14858" y="4961"/>
                </a:cubicBezTo>
                <a:cubicBezTo>
                  <a:pt x="14829" y="5031"/>
                  <a:pt x="14786" y="5092"/>
                  <a:pt x="14734" y="5159"/>
                </a:cubicBezTo>
                <a:cubicBezTo>
                  <a:pt x="14686" y="5221"/>
                  <a:pt x="14660" y="5226"/>
                  <a:pt x="14660" y="5308"/>
                </a:cubicBezTo>
                <a:cubicBezTo>
                  <a:pt x="14660" y="5388"/>
                  <a:pt x="14746" y="5351"/>
                  <a:pt x="14784" y="5333"/>
                </a:cubicBezTo>
                <a:cubicBezTo>
                  <a:pt x="14848" y="5302"/>
                  <a:pt x="14921" y="5270"/>
                  <a:pt x="14982" y="5259"/>
                </a:cubicBezTo>
                <a:cubicBezTo>
                  <a:pt x="15027" y="5259"/>
                  <a:pt x="15040" y="5263"/>
                  <a:pt x="15056" y="5234"/>
                </a:cubicBezTo>
              </a:path>
              <a:path w="4193" h="944">
                <a:moveTo>
                  <a:pt x="15180" y="5035"/>
                </a:moveTo>
                <a:cubicBezTo>
                  <a:pt x="15180" y="5019"/>
                  <a:pt x="15180" y="5002"/>
                  <a:pt x="15180" y="4986"/>
                </a:cubicBezTo>
                <a:cubicBezTo>
                  <a:pt x="15233" y="4999"/>
                  <a:pt x="15266" y="5011"/>
                  <a:pt x="15329" y="5011"/>
                </a:cubicBezTo>
                <a:cubicBezTo>
                  <a:pt x="15410" y="5011"/>
                  <a:pt x="15442" y="4963"/>
                  <a:pt x="15453" y="4887"/>
                </a:cubicBezTo>
                <a:cubicBezTo>
                  <a:pt x="15461" y="4833"/>
                  <a:pt x="15395" y="4816"/>
                  <a:pt x="15354" y="4812"/>
                </a:cubicBezTo>
                <a:cubicBezTo>
                  <a:pt x="15296" y="4806"/>
                  <a:pt x="15218" y="4846"/>
                  <a:pt x="15180" y="4887"/>
                </a:cubicBezTo>
                <a:cubicBezTo>
                  <a:pt x="15137" y="4934"/>
                  <a:pt x="15090" y="5055"/>
                  <a:pt x="15081" y="5110"/>
                </a:cubicBezTo>
                <a:cubicBezTo>
                  <a:pt x="15069" y="5186"/>
                  <a:pt x="15106" y="5209"/>
                  <a:pt x="15156" y="5259"/>
                </a:cubicBezTo>
                <a:cubicBezTo>
                  <a:pt x="15221" y="5324"/>
                  <a:pt x="15266" y="5308"/>
                  <a:pt x="15354" y="5308"/>
                </a:cubicBezTo>
                <a:cubicBezTo>
                  <a:pt x="15450" y="5308"/>
                  <a:pt x="15458" y="5295"/>
                  <a:pt x="15528" y="5234"/>
                </a:cubicBezTo>
              </a:path>
              <a:path w="4193" h="944">
                <a:moveTo>
                  <a:pt x="15677" y="4862"/>
                </a:moveTo>
                <a:cubicBezTo>
                  <a:pt x="15621" y="4927"/>
                  <a:pt x="15609" y="4969"/>
                  <a:pt x="15602" y="5060"/>
                </a:cubicBezTo>
                <a:cubicBezTo>
                  <a:pt x="15597" y="5125"/>
                  <a:pt x="15602" y="5193"/>
                  <a:pt x="15602" y="5259"/>
                </a:cubicBezTo>
                <a:cubicBezTo>
                  <a:pt x="15629" y="5186"/>
                  <a:pt x="15627" y="5140"/>
                  <a:pt x="15627" y="5060"/>
                </a:cubicBezTo>
                <a:cubicBezTo>
                  <a:pt x="15627" y="4997"/>
                  <a:pt x="15613" y="4935"/>
                  <a:pt x="15652" y="4887"/>
                </a:cubicBezTo>
                <a:cubicBezTo>
                  <a:pt x="15671" y="4864"/>
                  <a:pt x="15777" y="4838"/>
                  <a:pt x="15801" y="4862"/>
                </a:cubicBezTo>
                <a:cubicBezTo>
                  <a:pt x="15841" y="4902"/>
                  <a:pt x="15868" y="5010"/>
                  <a:pt x="15900" y="5060"/>
                </a:cubicBezTo>
                <a:cubicBezTo>
                  <a:pt x="15929" y="5105"/>
                  <a:pt x="15970" y="5156"/>
                  <a:pt x="15974" y="5209"/>
                </a:cubicBezTo>
                <a:cubicBezTo>
                  <a:pt x="15978" y="5268"/>
                  <a:pt x="15973" y="5271"/>
                  <a:pt x="15925" y="5283"/>
                </a:cubicBezTo>
              </a:path>
              <a:path w="4193" h="944">
                <a:moveTo>
                  <a:pt x="16222" y="5011"/>
                </a:moveTo>
                <a:cubicBezTo>
                  <a:pt x="16306" y="5011"/>
                  <a:pt x="16368" y="5006"/>
                  <a:pt x="16446" y="4986"/>
                </a:cubicBezTo>
                <a:cubicBezTo>
                  <a:pt x="16500" y="4972"/>
                  <a:pt x="16535" y="4919"/>
                  <a:pt x="16545" y="4862"/>
                </a:cubicBezTo>
                <a:cubicBezTo>
                  <a:pt x="16556" y="4798"/>
                  <a:pt x="16490" y="4723"/>
                  <a:pt x="16421" y="4738"/>
                </a:cubicBezTo>
                <a:cubicBezTo>
                  <a:pt x="16362" y="4751"/>
                  <a:pt x="16333" y="4809"/>
                  <a:pt x="16297" y="4837"/>
                </a:cubicBezTo>
                <a:cubicBezTo>
                  <a:pt x="16234" y="4887"/>
                  <a:pt x="16182" y="4926"/>
                  <a:pt x="16173" y="5011"/>
                </a:cubicBezTo>
                <a:cubicBezTo>
                  <a:pt x="16167" y="5070"/>
                  <a:pt x="16163" y="5175"/>
                  <a:pt x="16222" y="5209"/>
                </a:cubicBezTo>
                <a:cubicBezTo>
                  <a:pt x="16315" y="5263"/>
                  <a:pt x="16436" y="5318"/>
                  <a:pt x="16545" y="5333"/>
                </a:cubicBezTo>
                <a:cubicBezTo>
                  <a:pt x="16668" y="5350"/>
                  <a:pt x="16739" y="5315"/>
                  <a:pt x="16842" y="5259"/>
                </a:cubicBezTo>
                <a:cubicBezTo>
                  <a:pt x="16859" y="5251"/>
                  <a:pt x="16875" y="5242"/>
                  <a:pt x="16892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4880" y="2463840"/>
            <a:ext cx="536400" cy="44748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8508" y="6871"/>
                </a:moveTo>
                <a:cubicBezTo>
                  <a:pt x="8549" y="6891"/>
                  <a:pt x="8622" y="6973"/>
                  <a:pt x="8657" y="7020"/>
                </a:cubicBezTo>
                <a:cubicBezTo>
                  <a:pt x="8686" y="7060"/>
                  <a:pt x="8765" y="7165"/>
                  <a:pt x="8806" y="7193"/>
                </a:cubicBezTo>
                <a:cubicBezTo>
                  <a:pt x="8824" y="7205"/>
                  <a:pt x="8969" y="7327"/>
                  <a:pt x="8979" y="7317"/>
                </a:cubicBezTo>
                <a:cubicBezTo>
                  <a:pt x="8987" y="7301"/>
                  <a:pt x="8996" y="7284"/>
                  <a:pt x="9004" y="7268"/>
                </a:cubicBezTo>
              </a:path>
              <a:path w="1490" h="1241">
                <a:moveTo>
                  <a:pt x="8855" y="6846"/>
                </a:moveTo>
                <a:cubicBezTo>
                  <a:pt x="8768" y="6934"/>
                  <a:pt x="8769" y="6974"/>
                  <a:pt x="8706" y="7069"/>
                </a:cubicBezTo>
                <a:cubicBezTo>
                  <a:pt x="8652" y="7151"/>
                  <a:pt x="8588" y="7241"/>
                  <a:pt x="8533" y="7317"/>
                </a:cubicBezTo>
                <a:cubicBezTo>
                  <a:pt x="8493" y="7372"/>
                  <a:pt x="8417" y="7483"/>
                  <a:pt x="8483" y="7466"/>
                </a:cubicBezTo>
                <a:cubicBezTo>
                  <a:pt x="8491" y="7458"/>
                  <a:pt x="8500" y="7449"/>
                  <a:pt x="8508" y="7441"/>
                </a:cubicBezTo>
              </a:path>
              <a:path w="1490" h="1241">
                <a:moveTo>
                  <a:pt x="9475" y="6871"/>
                </a:moveTo>
                <a:cubicBezTo>
                  <a:pt x="9423" y="6941"/>
                  <a:pt x="9363" y="6977"/>
                  <a:pt x="9351" y="7069"/>
                </a:cubicBezTo>
                <a:cubicBezTo>
                  <a:pt x="9341" y="7145"/>
                  <a:pt x="9346" y="7225"/>
                  <a:pt x="9376" y="7293"/>
                </a:cubicBezTo>
                <a:cubicBezTo>
                  <a:pt x="9416" y="7381"/>
                  <a:pt x="9472" y="7377"/>
                  <a:pt x="9550" y="7342"/>
                </a:cubicBezTo>
                <a:cubicBezTo>
                  <a:pt x="9635" y="7304"/>
                  <a:pt x="9691" y="7262"/>
                  <a:pt x="9723" y="7169"/>
                </a:cubicBezTo>
                <a:cubicBezTo>
                  <a:pt x="9755" y="7075"/>
                  <a:pt x="9723" y="6985"/>
                  <a:pt x="9748" y="6896"/>
                </a:cubicBezTo>
                <a:cubicBezTo>
                  <a:pt x="9756" y="6879"/>
                  <a:pt x="9765" y="6863"/>
                  <a:pt x="9773" y="6846"/>
                </a:cubicBezTo>
                <a:cubicBezTo>
                  <a:pt x="9805" y="6931"/>
                  <a:pt x="9798" y="7000"/>
                  <a:pt x="9798" y="7094"/>
                </a:cubicBezTo>
                <a:cubicBezTo>
                  <a:pt x="9798" y="7267"/>
                  <a:pt x="9811" y="7420"/>
                  <a:pt x="9847" y="7590"/>
                </a:cubicBezTo>
                <a:cubicBezTo>
                  <a:pt x="9873" y="7714"/>
                  <a:pt x="9924" y="7841"/>
                  <a:pt x="9947" y="7962"/>
                </a:cubicBezTo>
                <a:cubicBezTo>
                  <a:pt x="9960" y="8030"/>
                  <a:pt x="9890" y="8094"/>
                  <a:pt x="9823" y="8086"/>
                </a:cubicBezTo>
                <a:cubicBezTo>
                  <a:pt x="9699" y="8071"/>
                  <a:pt x="9550" y="8013"/>
                  <a:pt x="9451" y="7938"/>
                </a:cubicBezTo>
                <a:cubicBezTo>
                  <a:pt x="9404" y="7891"/>
                  <a:pt x="9390" y="7879"/>
                  <a:pt x="9376" y="78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68840" y="2303640"/>
            <a:ext cx="892080" cy="366480"/>
          </a:xfrm>
          <a:custGeom>
            <a:avLst/>
            <a:gdLst/>
            <a:ahLst/>
            <a:rect l="l" t="t" r="r" b="b"/>
            <a:pathLst>
              <a:path w="2481" h="1018">
                <a:moveTo>
                  <a:pt x="10492" y="6400"/>
                </a:moveTo>
                <a:cubicBezTo>
                  <a:pt x="10456" y="6497"/>
                  <a:pt x="10483" y="6548"/>
                  <a:pt x="10492" y="6648"/>
                </a:cubicBezTo>
                <a:cubicBezTo>
                  <a:pt x="10502" y="6763"/>
                  <a:pt x="10513" y="6881"/>
                  <a:pt x="10517" y="6995"/>
                </a:cubicBezTo>
                <a:cubicBezTo>
                  <a:pt x="10520" y="7078"/>
                  <a:pt x="10499" y="7139"/>
                  <a:pt x="10492" y="7218"/>
                </a:cubicBezTo>
                <a:cubicBezTo>
                  <a:pt x="10486" y="7280"/>
                  <a:pt x="10482" y="7263"/>
                  <a:pt x="10542" y="7243"/>
                </a:cubicBezTo>
              </a:path>
              <a:path w="2481" h="1018">
                <a:moveTo>
                  <a:pt x="10840" y="6970"/>
                </a:moveTo>
                <a:cubicBezTo>
                  <a:pt x="10928" y="6926"/>
                  <a:pt x="10970" y="6896"/>
                  <a:pt x="11063" y="6896"/>
                </a:cubicBezTo>
                <a:cubicBezTo>
                  <a:pt x="11102" y="6896"/>
                  <a:pt x="11175" y="6832"/>
                  <a:pt x="11187" y="6796"/>
                </a:cubicBezTo>
                <a:cubicBezTo>
                  <a:pt x="11214" y="6717"/>
                  <a:pt x="11119" y="6675"/>
                  <a:pt x="11063" y="6672"/>
                </a:cubicBezTo>
                <a:cubicBezTo>
                  <a:pt x="10978" y="6667"/>
                  <a:pt x="10919" y="6674"/>
                  <a:pt x="10864" y="6747"/>
                </a:cubicBezTo>
                <a:cubicBezTo>
                  <a:pt x="10800" y="6830"/>
                  <a:pt x="10790" y="6865"/>
                  <a:pt x="10790" y="6970"/>
                </a:cubicBezTo>
                <a:cubicBezTo>
                  <a:pt x="10790" y="7048"/>
                  <a:pt x="10843" y="7137"/>
                  <a:pt x="10914" y="7169"/>
                </a:cubicBezTo>
                <a:cubicBezTo>
                  <a:pt x="10994" y="7205"/>
                  <a:pt x="11086" y="7248"/>
                  <a:pt x="11162" y="7218"/>
                </a:cubicBezTo>
                <a:cubicBezTo>
                  <a:pt x="11235" y="7190"/>
                  <a:pt x="11264" y="7173"/>
                  <a:pt x="11311" y="7119"/>
                </a:cubicBezTo>
              </a:path>
              <a:path w="2481" h="1018">
                <a:moveTo>
                  <a:pt x="11509" y="6796"/>
                </a:moveTo>
                <a:cubicBezTo>
                  <a:pt x="11567" y="6815"/>
                  <a:pt x="11521" y="6870"/>
                  <a:pt x="11509" y="6921"/>
                </a:cubicBezTo>
                <a:cubicBezTo>
                  <a:pt x="11488" y="7009"/>
                  <a:pt x="11509" y="7126"/>
                  <a:pt x="11509" y="7218"/>
                </a:cubicBezTo>
                <a:cubicBezTo>
                  <a:pt x="11554" y="7186"/>
                  <a:pt x="11605" y="7153"/>
                  <a:pt x="11609" y="7094"/>
                </a:cubicBezTo>
                <a:cubicBezTo>
                  <a:pt x="11616" y="7004"/>
                  <a:pt x="11624" y="6970"/>
                  <a:pt x="11658" y="6896"/>
                </a:cubicBezTo>
                <a:cubicBezTo>
                  <a:pt x="11671" y="6869"/>
                  <a:pt x="11747" y="6794"/>
                  <a:pt x="11782" y="6796"/>
                </a:cubicBezTo>
                <a:cubicBezTo>
                  <a:pt x="11865" y="6802"/>
                  <a:pt x="11935" y="6871"/>
                  <a:pt x="11981" y="6921"/>
                </a:cubicBezTo>
                <a:cubicBezTo>
                  <a:pt x="12025" y="6968"/>
                  <a:pt x="12030" y="6978"/>
                  <a:pt x="12030" y="7045"/>
                </a:cubicBezTo>
                <a:cubicBezTo>
                  <a:pt x="12030" y="7091"/>
                  <a:pt x="12028" y="7235"/>
                  <a:pt x="12005" y="7119"/>
                </a:cubicBezTo>
              </a:path>
              <a:path w="2481" h="1018">
                <a:moveTo>
                  <a:pt x="12353" y="6945"/>
                </a:moveTo>
                <a:cubicBezTo>
                  <a:pt x="12402" y="6945"/>
                  <a:pt x="12506" y="6954"/>
                  <a:pt x="12551" y="6921"/>
                </a:cubicBezTo>
                <a:cubicBezTo>
                  <a:pt x="12578" y="6901"/>
                  <a:pt x="12701" y="6823"/>
                  <a:pt x="12650" y="6772"/>
                </a:cubicBezTo>
                <a:cubicBezTo>
                  <a:pt x="12598" y="6719"/>
                  <a:pt x="12519" y="6722"/>
                  <a:pt x="12452" y="6722"/>
                </a:cubicBezTo>
                <a:cubicBezTo>
                  <a:pt x="12408" y="6722"/>
                  <a:pt x="12334" y="6761"/>
                  <a:pt x="12303" y="6796"/>
                </a:cubicBezTo>
                <a:cubicBezTo>
                  <a:pt x="12263" y="6842"/>
                  <a:pt x="12233" y="6937"/>
                  <a:pt x="12229" y="6995"/>
                </a:cubicBezTo>
                <a:cubicBezTo>
                  <a:pt x="12225" y="7057"/>
                  <a:pt x="12225" y="7197"/>
                  <a:pt x="12278" y="7243"/>
                </a:cubicBezTo>
                <a:cubicBezTo>
                  <a:pt x="12393" y="7343"/>
                  <a:pt x="12647" y="7437"/>
                  <a:pt x="12799" y="7417"/>
                </a:cubicBezTo>
                <a:cubicBezTo>
                  <a:pt x="12859" y="7409"/>
                  <a:pt x="12922" y="7377"/>
                  <a:pt x="12948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16000" y="2616120"/>
            <a:ext cx="1527120" cy="90720"/>
          </a:xfrm>
          <a:custGeom>
            <a:avLst/>
            <a:gdLst/>
            <a:ahLst/>
            <a:rect l="l" t="t" r="r" b="b"/>
            <a:pathLst>
              <a:path w="4242" h="249">
                <a:moveTo>
                  <a:pt x="3101" y="7268"/>
                </a:moveTo>
                <a:cubicBezTo>
                  <a:pt x="3334" y="7268"/>
                  <a:pt x="3570" y="7270"/>
                  <a:pt x="3795" y="7293"/>
                </a:cubicBezTo>
                <a:cubicBezTo>
                  <a:pt x="3856" y="7299"/>
                  <a:pt x="3895" y="7331"/>
                  <a:pt x="3944" y="7342"/>
                </a:cubicBezTo>
                <a:cubicBezTo>
                  <a:pt x="4002" y="7355"/>
                  <a:pt x="4061" y="7354"/>
                  <a:pt x="4118" y="7367"/>
                </a:cubicBezTo>
                <a:cubicBezTo>
                  <a:pt x="4195" y="7385"/>
                  <a:pt x="4257" y="7390"/>
                  <a:pt x="4341" y="7392"/>
                </a:cubicBezTo>
                <a:cubicBezTo>
                  <a:pt x="4456" y="7395"/>
                  <a:pt x="4555" y="7393"/>
                  <a:pt x="4663" y="7417"/>
                </a:cubicBezTo>
                <a:cubicBezTo>
                  <a:pt x="4752" y="7436"/>
                  <a:pt x="4797" y="7499"/>
                  <a:pt x="4887" y="7516"/>
                </a:cubicBezTo>
                <a:cubicBezTo>
                  <a:pt x="5162" y="7569"/>
                  <a:pt x="5505" y="7513"/>
                  <a:pt x="5779" y="7491"/>
                </a:cubicBezTo>
                <a:cubicBezTo>
                  <a:pt x="6124" y="7463"/>
                  <a:pt x="6483" y="7495"/>
                  <a:pt x="6821" y="7466"/>
                </a:cubicBezTo>
                <a:cubicBezTo>
                  <a:pt x="6925" y="7457"/>
                  <a:pt x="7020" y="7462"/>
                  <a:pt x="7119" y="7441"/>
                </a:cubicBezTo>
                <a:cubicBezTo>
                  <a:pt x="7184" y="7428"/>
                  <a:pt x="7250" y="7422"/>
                  <a:pt x="7317" y="7417"/>
                </a:cubicBezTo>
                <a:cubicBezTo>
                  <a:pt x="7361" y="7413"/>
                  <a:pt x="7328" y="7428"/>
                  <a:pt x="7317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8840" y="3313080"/>
            <a:ext cx="322200" cy="419040"/>
          </a:xfrm>
          <a:custGeom>
            <a:avLst/>
            <a:gdLst/>
            <a:ahLst/>
            <a:rect l="l" t="t" r="r" b="b"/>
            <a:pathLst>
              <a:path w="894" h="1166">
                <a:moveTo>
                  <a:pt x="1414" y="9426"/>
                </a:moveTo>
                <a:cubicBezTo>
                  <a:pt x="1364" y="9347"/>
                  <a:pt x="1312" y="9307"/>
                  <a:pt x="1240" y="9252"/>
                </a:cubicBezTo>
                <a:cubicBezTo>
                  <a:pt x="1183" y="9208"/>
                  <a:pt x="1116" y="9206"/>
                  <a:pt x="1042" y="9203"/>
                </a:cubicBezTo>
                <a:cubicBezTo>
                  <a:pt x="944" y="9199"/>
                  <a:pt x="892" y="9279"/>
                  <a:pt x="819" y="9327"/>
                </a:cubicBezTo>
                <a:cubicBezTo>
                  <a:pt x="746" y="9375"/>
                  <a:pt x="730" y="9437"/>
                  <a:pt x="719" y="9525"/>
                </a:cubicBezTo>
                <a:cubicBezTo>
                  <a:pt x="709" y="9607"/>
                  <a:pt x="711" y="9707"/>
                  <a:pt x="744" y="9773"/>
                </a:cubicBezTo>
                <a:cubicBezTo>
                  <a:pt x="767" y="9819"/>
                  <a:pt x="836" y="9887"/>
                  <a:pt x="893" y="9897"/>
                </a:cubicBezTo>
                <a:cubicBezTo>
                  <a:pt x="966" y="9910"/>
                  <a:pt x="1047" y="9856"/>
                  <a:pt x="1091" y="9798"/>
                </a:cubicBezTo>
                <a:cubicBezTo>
                  <a:pt x="1136" y="9739"/>
                  <a:pt x="1160" y="9683"/>
                  <a:pt x="1191" y="9624"/>
                </a:cubicBezTo>
                <a:cubicBezTo>
                  <a:pt x="1238" y="9535"/>
                  <a:pt x="1207" y="9588"/>
                  <a:pt x="1265" y="9599"/>
                </a:cubicBezTo>
                <a:cubicBezTo>
                  <a:pt x="1224" y="9681"/>
                  <a:pt x="1195" y="9731"/>
                  <a:pt x="1191" y="9823"/>
                </a:cubicBezTo>
                <a:cubicBezTo>
                  <a:pt x="1187" y="9910"/>
                  <a:pt x="1151" y="9986"/>
                  <a:pt x="1141" y="10071"/>
                </a:cubicBezTo>
                <a:cubicBezTo>
                  <a:pt x="1132" y="10152"/>
                  <a:pt x="1115" y="10241"/>
                  <a:pt x="1091" y="10319"/>
                </a:cubicBezTo>
                <a:cubicBezTo>
                  <a:pt x="1070" y="10362"/>
                  <a:pt x="1057" y="10383"/>
                  <a:pt x="1091" y="10344"/>
                </a:cubicBezTo>
              </a:path>
              <a:path w="894" h="1166">
                <a:moveTo>
                  <a:pt x="1538" y="10269"/>
                </a:moveTo>
                <a:cubicBezTo>
                  <a:pt x="1566" y="10269"/>
                  <a:pt x="1577" y="10271"/>
                  <a:pt x="1588" y="10294"/>
                </a:cubicBezTo>
                <a:cubicBezTo>
                  <a:pt x="1595" y="10238"/>
                  <a:pt x="1548" y="10325"/>
                  <a:pt x="1538" y="10269"/>
                </a:cubicBezTo>
                <a:cubicBezTo>
                  <a:pt x="1538" y="10253"/>
                  <a:pt x="1538" y="10236"/>
                  <a:pt x="1538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08080" y="3411360"/>
            <a:ext cx="231840" cy="393840"/>
          </a:xfrm>
          <a:custGeom>
            <a:avLst/>
            <a:gdLst/>
            <a:ahLst/>
            <a:rect l="l" t="t" r="r" b="b"/>
            <a:pathLst>
              <a:path w="646" h="1093">
                <a:moveTo>
                  <a:pt x="3101" y="9475"/>
                </a:moveTo>
                <a:cubicBezTo>
                  <a:pt x="3101" y="9579"/>
                  <a:pt x="3085" y="9672"/>
                  <a:pt x="3076" y="9773"/>
                </a:cubicBezTo>
                <a:cubicBezTo>
                  <a:pt x="3068" y="9868"/>
                  <a:pt x="3040" y="10248"/>
                  <a:pt x="3101" y="10170"/>
                </a:cubicBezTo>
                <a:cubicBezTo>
                  <a:pt x="3109" y="10162"/>
                  <a:pt x="3117" y="10153"/>
                  <a:pt x="3125" y="10145"/>
                </a:cubicBezTo>
              </a:path>
              <a:path w="646" h="1093">
                <a:moveTo>
                  <a:pt x="3671" y="10096"/>
                </a:moveTo>
                <a:cubicBezTo>
                  <a:pt x="3706" y="10156"/>
                  <a:pt x="3741" y="10242"/>
                  <a:pt x="3721" y="10319"/>
                </a:cubicBezTo>
                <a:cubicBezTo>
                  <a:pt x="3703" y="10389"/>
                  <a:pt x="3668" y="10448"/>
                  <a:pt x="3646" y="10517"/>
                </a:cubicBezTo>
                <a:cubicBezTo>
                  <a:pt x="3613" y="10623"/>
                  <a:pt x="3560" y="10541"/>
                  <a:pt x="3522" y="104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81120" y="3367080"/>
            <a:ext cx="446040" cy="330120"/>
          </a:xfrm>
          <a:custGeom>
            <a:avLst/>
            <a:gdLst/>
            <a:ahLst/>
            <a:rect l="l" t="t" r="r" b="b"/>
            <a:pathLst>
              <a:path w="1242" h="919">
                <a:moveTo>
                  <a:pt x="4415" y="9599"/>
                </a:moveTo>
                <a:cubicBezTo>
                  <a:pt x="4415" y="9658"/>
                  <a:pt x="4396" y="9693"/>
                  <a:pt x="4390" y="9748"/>
                </a:cubicBezTo>
                <a:cubicBezTo>
                  <a:pt x="4388" y="9772"/>
                  <a:pt x="4411" y="9863"/>
                  <a:pt x="4440" y="9872"/>
                </a:cubicBezTo>
                <a:cubicBezTo>
                  <a:pt x="4530" y="9899"/>
                  <a:pt x="4572" y="9882"/>
                  <a:pt x="4663" y="9872"/>
                </a:cubicBezTo>
                <a:cubicBezTo>
                  <a:pt x="4739" y="9863"/>
                  <a:pt x="4815" y="9854"/>
                  <a:pt x="4887" y="9847"/>
                </a:cubicBezTo>
                <a:cubicBezTo>
                  <a:pt x="4937" y="9842"/>
                  <a:pt x="4936" y="9817"/>
                  <a:pt x="4961" y="9773"/>
                </a:cubicBezTo>
              </a:path>
              <a:path w="1242" h="919">
                <a:moveTo>
                  <a:pt x="4787" y="9351"/>
                </a:moveTo>
                <a:cubicBezTo>
                  <a:pt x="4738" y="9467"/>
                  <a:pt x="4738" y="9523"/>
                  <a:pt x="4738" y="9649"/>
                </a:cubicBezTo>
                <a:cubicBezTo>
                  <a:pt x="4738" y="9811"/>
                  <a:pt x="4735" y="9963"/>
                  <a:pt x="4713" y="10120"/>
                </a:cubicBezTo>
                <a:cubicBezTo>
                  <a:pt x="4711" y="10133"/>
                  <a:pt x="4691" y="10272"/>
                  <a:pt x="4688" y="10269"/>
                </a:cubicBezTo>
                <a:cubicBezTo>
                  <a:pt x="4688" y="10236"/>
                  <a:pt x="4688" y="10220"/>
                  <a:pt x="4688" y="10195"/>
                </a:cubicBezTo>
              </a:path>
              <a:path w="1242" h="919">
                <a:moveTo>
                  <a:pt x="5283" y="9847"/>
                </a:moveTo>
                <a:cubicBezTo>
                  <a:pt x="5340" y="9825"/>
                  <a:pt x="5375" y="9798"/>
                  <a:pt x="5432" y="9798"/>
                </a:cubicBezTo>
                <a:cubicBezTo>
                  <a:pt x="5517" y="9798"/>
                  <a:pt x="5617" y="9830"/>
                  <a:pt x="5631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95360" y="3276720"/>
            <a:ext cx="366840" cy="393480"/>
          </a:xfrm>
          <a:custGeom>
            <a:avLst/>
            <a:gdLst/>
            <a:ahLst/>
            <a:rect l="l" t="t" r="r" b="b"/>
            <a:pathLst>
              <a:path w="1018" h="1093">
                <a:moveTo>
                  <a:pt x="6772" y="9674"/>
                </a:moveTo>
                <a:cubicBezTo>
                  <a:pt x="6725" y="9627"/>
                  <a:pt x="6669" y="9599"/>
                  <a:pt x="6598" y="9624"/>
                </a:cubicBezTo>
                <a:cubicBezTo>
                  <a:pt x="6557" y="9639"/>
                  <a:pt x="6473" y="9711"/>
                  <a:pt x="6449" y="9748"/>
                </a:cubicBezTo>
                <a:cubicBezTo>
                  <a:pt x="6400" y="9826"/>
                  <a:pt x="6352" y="9925"/>
                  <a:pt x="6375" y="10021"/>
                </a:cubicBezTo>
                <a:cubicBezTo>
                  <a:pt x="6391" y="10087"/>
                  <a:pt x="6478" y="10176"/>
                  <a:pt x="6524" y="10195"/>
                </a:cubicBezTo>
                <a:cubicBezTo>
                  <a:pt x="6582" y="10218"/>
                  <a:pt x="6718" y="10142"/>
                  <a:pt x="6747" y="10096"/>
                </a:cubicBezTo>
                <a:cubicBezTo>
                  <a:pt x="6805" y="10005"/>
                  <a:pt x="6849" y="9898"/>
                  <a:pt x="6871" y="9798"/>
                </a:cubicBezTo>
                <a:cubicBezTo>
                  <a:pt x="6903" y="9651"/>
                  <a:pt x="6921" y="9526"/>
                  <a:pt x="6921" y="9376"/>
                </a:cubicBezTo>
                <a:cubicBezTo>
                  <a:pt x="6921" y="9347"/>
                  <a:pt x="6867" y="9127"/>
                  <a:pt x="6896" y="9103"/>
                </a:cubicBezTo>
                <a:cubicBezTo>
                  <a:pt x="6965" y="9047"/>
                  <a:pt x="6981" y="9157"/>
                  <a:pt x="6995" y="9178"/>
                </a:cubicBezTo>
              </a:path>
              <a:path w="1018" h="1093">
                <a:moveTo>
                  <a:pt x="7317" y="9847"/>
                </a:moveTo>
                <a:cubicBezTo>
                  <a:pt x="7288" y="9928"/>
                  <a:pt x="7309" y="9942"/>
                  <a:pt x="7317" y="10021"/>
                </a:cubicBezTo>
                <a:cubicBezTo>
                  <a:pt x="7326" y="10113"/>
                  <a:pt x="7280" y="10098"/>
                  <a:pt x="7317" y="9996"/>
                </a:cubicBezTo>
              </a:path>
              <a:path w="1018" h="1093">
                <a:moveTo>
                  <a:pt x="7392" y="9252"/>
                </a:moveTo>
                <a:cubicBezTo>
                  <a:pt x="7392" y="9217"/>
                  <a:pt x="7387" y="9200"/>
                  <a:pt x="7367" y="91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840040" y="3276720"/>
            <a:ext cx="1438200" cy="339480"/>
          </a:xfrm>
          <a:custGeom>
            <a:avLst/>
            <a:gdLst/>
            <a:ahLst/>
            <a:rect l="l" t="t" r="r" b="b"/>
            <a:pathLst>
              <a:path w="3994" h="944">
                <a:moveTo>
                  <a:pt x="7888" y="9103"/>
                </a:moveTo>
                <a:cubicBezTo>
                  <a:pt x="7888" y="9359"/>
                  <a:pt x="7888" y="9616"/>
                  <a:pt x="7888" y="9872"/>
                </a:cubicBezTo>
                <a:cubicBezTo>
                  <a:pt x="7904" y="9820"/>
                  <a:pt x="7908" y="9745"/>
                  <a:pt x="7938" y="9699"/>
                </a:cubicBezTo>
                <a:cubicBezTo>
                  <a:pt x="7979" y="9636"/>
                  <a:pt x="8007" y="9596"/>
                  <a:pt x="8062" y="9550"/>
                </a:cubicBezTo>
                <a:cubicBezTo>
                  <a:pt x="8119" y="9501"/>
                  <a:pt x="8160" y="9534"/>
                  <a:pt x="8186" y="9599"/>
                </a:cubicBezTo>
                <a:cubicBezTo>
                  <a:pt x="8210" y="9658"/>
                  <a:pt x="8248" y="9759"/>
                  <a:pt x="8260" y="9823"/>
                </a:cubicBezTo>
                <a:cubicBezTo>
                  <a:pt x="8272" y="9883"/>
                  <a:pt x="8263" y="9958"/>
                  <a:pt x="8210" y="9996"/>
                </a:cubicBezTo>
                <a:cubicBezTo>
                  <a:pt x="8122" y="10059"/>
                  <a:pt x="8062" y="10027"/>
                  <a:pt x="7962" y="10021"/>
                </a:cubicBezTo>
                <a:cubicBezTo>
                  <a:pt x="7934" y="10021"/>
                  <a:pt x="7924" y="10018"/>
                  <a:pt x="7913" y="9996"/>
                </a:cubicBezTo>
                <a:cubicBezTo>
                  <a:pt x="7913" y="9930"/>
                  <a:pt x="7913" y="9864"/>
                  <a:pt x="7913" y="9798"/>
                </a:cubicBezTo>
              </a:path>
              <a:path w="3994" h="944">
                <a:moveTo>
                  <a:pt x="8682" y="9575"/>
                </a:moveTo>
                <a:cubicBezTo>
                  <a:pt x="8732" y="9650"/>
                  <a:pt x="8731" y="9708"/>
                  <a:pt x="8731" y="9798"/>
                </a:cubicBezTo>
                <a:cubicBezTo>
                  <a:pt x="8731" y="9872"/>
                  <a:pt x="8731" y="9947"/>
                  <a:pt x="8731" y="10021"/>
                </a:cubicBezTo>
                <a:cubicBezTo>
                  <a:pt x="8731" y="9951"/>
                  <a:pt x="8726" y="9909"/>
                  <a:pt x="8756" y="9847"/>
                </a:cubicBezTo>
                <a:cubicBezTo>
                  <a:pt x="8787" y="9781"/>
                  <a:pt x="8837" y="9716"/>
                  <a:pt x="8880" y="9649"/>
                </a:cubicBezTo>
                <a:cubicBezTo>
                  <a:pt x="8913" y="9598"/>
                  <a:pt x="8972" y="9564"/>
                  <a:pt x="9029" y="9550"/>
                </a:cubicBezTo>
                <a:cubicBezTo>
                  <a:pt x="9085" y="9536"/>
                  <a:pt x="9110" y="9582"/>
                  <a:pt x="9153" y="9599"/>
                </a:cubicBezTo>
                <a:cubicBezTo>
                  <a:pt x="9208" y="9620"/>
                  <a:pt x="9268" y="9619"/>
                  <a:pt x="9327" y="9624"/>
                </a:cubicBezTo>
              </a:path>
              <a:path w="3994" h="944">
                <a:moveTo>
                  <a:pt x="9748" y="9649"/>
                </a:moveTo>
                <a:cubicBezTo>
                  <a:pt x="9680" y="9580"/>
                  <a:pt x="9669" y="9558"/>
                  <a:pt x="9575" y="9599"/>
                </a:cubicBezTo>
                <a:cubicBezTo>
                  <a:pt x="9498" y="9633"/>
                  <a:pt x="9462" y="9673"/>
                  <a:pt x="9401" y="9723"/>
                </a:cubicBezTo>
                <a:cubicBezTo>
                  <a:pt x="9335" y="9776"/>
                  <a:pt x="9337" y="9804"/>
                  <a:pt x="9376" y="9872"/>
                </a:cubicBezTo>
                <a:cubicBezTo>
                  <a:pt x="9423" y="9954"/>
                  <a:pt x="9514" y="9959"/>
                  <a:pt x="9599" y="9996"/>
                </a:cubicBezTo>
                <a:cubicBezTo>
                  <a:pt x="9693" y="10036"/>
                  <a:pt x="9716" y="10012"/>
                  <a:pt x="9798" y="9947"/>
                </a:cubicBezTo>
                <a:cubicBezTo>
                  <a:pt x="9865" y="9894"/>
                  <a:pt x="9869" y="9799"/>
                  <a:pt x="9872" y="9723"/>
                </a:cubicBezTo>
                <a:cubicBezTo>
                  <a:pt x="9874" y="9682"/>
                  <a:pt x="9846" y="9573"/>
                  <a:pt x="9798" y="9550"/>
                </a:cubicBezTo>
                <a:cubicBezTo>
                  <a:pt x="9756" y="9550"/>
                  <a:pt x="9748" y="9550"/>
                  <a:pt x="9723" y="9550"/>
                </a:cubicBezTo>
              </a:path>
              <a:path w="3994" h="944">
                <a:moveTo>
                  <a:pt x="10244" y="9649"/>
                </a:moveTo>
                <a:cubicBezTo>
                  <a:pt x="10275" y="9720"/>
                  <a:pt x="10315" y="9729"/>
                  <a:pt x="10344" y="9798"/>
                </a:cubicBezTo>
                <a:cubicBezTo>
                  <a:pt x="10364" y="9845"/>
                  <a:pt x="10344" y="9944"/>
                  <a:pt x="10344" y="9996"/>
                </a:cubicBezTo>
                <a:cubicBezTo>
                  <a:pt x="10355" y="9917"/>
                  <a:pt x="10388" y="9862"/>
                  <a:pt x="10443" y="9798"/>
                </a:cubicBezTo>
                <a:cubicBezTo>
                  <a:pt x="10496" y="9737"/>
                  <a:pt x="10520" y="9687"/>
                  <a:pt x="10592" y="9649"/>
                </a:cubicBezTo>
                <a:cubicBezTo>
                  <a:pt x="10655" y="9615"/>
                  <a:pt x="10694" y="9576"/>
                  <a:pt x="10740" y="9649"/>
                </a:cubicBezTo>
                <a:cubicBezTo>
                  <a:pt x="10766" y="9690"/>
                  <a:pt x="10785" y="9777"/>
                  <a:pt x="10790" y="9823"/>
                </a:cubicBezTo>
                <a:cubicBezTo>
                  <a:pt x="10790" y="9831"/>
                  <a:pt x="10790" y="9839"/>
                  <a:pt x="10790" y="9847"/>
                </a:cubicBezTo>
                <a:cubicBezTo>
                  <a:pt x="10827" y="9829"/>
                  <a:pt x="10874" y="9784"/>
                  <a:pt x="10914" y="9748"/>
                </a:cubicBezTo>
                <a:cubicBezTo>
                  <a:pt x="10953" y="9713"/>
                  <a:pt x="11013" y="9666"/>
                  <a:pt x="11063" y="9649"/>
                </a:cubicBezTo>
                <a:cubicBezTo>
                  <a:pt x="11071" y="9649"/>
                  <a:pt x="11080" y="9649"/>
                  <a:pt x="11088" y="9649"/>
                </a:cubicBezTo>
                <a:cubicBezTo>
                  <a:pt x="11108" y="9704"/>
                  <a:pt x="11117" y="9750"/>
                  <a:pt x="11137" y="9798"/>
                </a:cubicBezTo>
                <a:cubicBezTo>
                  <a:pt x="11179" y="9898"/>
                  <a:pt x="11134" y="9870"/>
                  <a:pt x="11212" y="9922"/>
                </a:cubicBezTo>
              </a:path>
              <a:path w="3994" h="944">
                <a:moveTo>
                  <a:pt x="11757" y="9624"/>
                </a:moveTo>
                <a:cubicBezTo>
                  <a:pt x="11699" y="9606"/>
                  <a:pt x="11622" y="9581"/>
                  <a:pt x="11559" y="9599"/>
                </a:cubicBezTo>
                <a:cubicBezTo>
                  <a:pt x="11480" y="9621"/>
                  <a:pt x="11460" y="9669"/>
                  <a:pt x="11410" y="9723"/>
                </a:cubicBezTo>
                <a:cubicBezTo>
                  <a:pt x="11337" y="9802"/>
                  <a:pt x="11344" y="9849"/>
                  <a:pt x="11410" y="9922"/>
                </a:cubicBezTo>
                <a:cubicBezTo>
                  <a:pt x="11454" y="9970"/>
                  <a:pt x="11505" y="9981"/>
                  <a:pt x="11559" y="9996"/>
                </a:cubicBezTo>
                <a:cubicBezTo>
                  <a:pt x="11597" y="10006"/>
                  <a:pt x="11657" y="9991"/>
                  <a:pt x="11683" y="9971"/>
                </a:cubicBezTo>
                <a:cubicBezTo>
                  <a:pt x="11731" y="9934"/>
                  <a:pt x="11825" y="9897"/>
                  <a:pt x="11857" y="9847"/>
                </a:cubicBezTo>
                <a:cubicBezTo>
                  <a:pt x="11870" y="9827"/>
                  <a:pt x="11898" y="9728"/>
                  <a:pt x="11881" y="9699"/>
                </a:cubicBezTo>
                <a:cubicBezTo>
                  <a:pt x="11835" y="9619"/>
                  <a:pt x="11756" y="9646"/>
                  <a:pt x="11708" y="9599"/>
                </a:cubicBezTo>
                <a:cubicBezTo>
                  <a:pt x="11688" y="9559"/>
                  <a:pt x="11689" y="9543"/>
                  <a:pt x="1165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62640" y="3232080"/>
            <a:ext cx="1911240" cy="349200"/>
          </a:xfrm>
          <a:custGeom>
            <a:avLst/>
            <a:gdLst/>
            <a:ahLst/>
            <a:rect l="l" t="t" r="r" b="b"/>
            <a:pathLst>
              <a:path w="5309" h="969">
                <a:moveTo>
                  <a:pt x="12675" y="8979"/>
                </a:moveTo>
                <a:cubicBezTo>
                  <a:pt x="12675" y="9129"/>
                  <a:pt x="12684" y="9232"/>
                  <a:pt x="12725" y="9376"/>
                </a:cubicBezTo>
                <a:cubicBezTo>
                  <a:pt x="12757" y="9489"/>
                  <a:pt x="12769" y="9613"/>
                  <a:pt x="12799" y="9723"/>
                </a:cubicBezTo>
                <a:cubicBezTo>
                  <a:pt x="12807" y="9740"/>
                  <a:pt x="12816" y="9756"/>
                  <a:pt x="12824" y="9773"/>
                </a:cubicBezTo>
                <a:cubicBezTo>
                  <a:pt x="12824" y="9916"/>
                  <a:pt x="12824" y="9673"/>
                  <a:pt x="12824" y="9649"/>
                </a:cubicBezTo>
                <a:cubicBezTo>
                  <a:pt x="12824" y="9590"/>
                  <a:pt x="12870" y="9547"/>
                  <a:pt x="12898" y="9500"/>
                </a:cubicBezTo>
                <a:cubicBezTo>
                  <a:pt x="12932" y="9443"/>
                  <a:pt x="12980" y="9430"/>
                  <a:pt x="13047" y="9426"/>
                </a:cubicBezTo>
                <a:cubicBezTo>
                  <a:pt x="13162" y="9419"/>
                  <a:pt x="13115" y="9466"/>
                  <a:pt x="13171" y="9550"/>
                </a:cubicBezTo>
                <a:cubicBezTo>
                  <a:pt x="13212" y="9611"/>
                  <a:pt x="13264" y="9712"/>
                  <a:pt x="13246" y="9798"/>
                </a:cubicBezTo>
                <a:cubicBezTo>
                  <a:pt x="13240" y="9828"/>
                  <a:pt x="13144" y="9940"/>
                  <a:pt x="13122" y="9947"/>
                </a:cubicBezTo>
                <a:cubicBezTo>
                  <a:pt x="13076" y="9962"/>
                  <a:pt x="12988" y="9949"/>
                  <a:pt x="12948" y="9922"/>
                </a:cubicBezTo>
                <a:cubicBezTo>
                  <a:pt x="12901" y="9891"/>
                  <a:pt x="12881" y="9868"/>
                  <a:pt x="12849" y="9823"/>
                </a:cubicBezTo>
              </a:path>
              <a:path w="5309" h="969">
                <a:moveTo>
                  <a:pt x="13742" y="9599"/>
                </a:moveTo>
                <a:cubicBezTo>
                  <a:pt x="13800" y="9599"/>
                  <a:pt x="13837" y="9599"/>
                  <a:pt x="13891" y="9575"/>
                </a:cubicBezTo>
                <a:cubicBezTo>
                  <a:pt x="13955" y="9547"/>
                  <a:pt x="13986" y="9534"/>
                  <a:pt x="13990" y="9475"/>
                </a:cubicBezTo>
                <a:cubicBezTo>
                  <a:pt x="13994" y="9407"/>
                  <a:pt x="13957" y="9383"/>
                  <a:pt x="13891" y="9376"/>
                </a:cubicBezTo>
                <a:cubicBezTo>
                  <a:pt x="13788" y="9366"/>
                  <a:pt x="13804" y="9421"/>
                  <a:pt x="13742" y="9475"/>
                </a:cubicBezTo>
                <a:cubicBezTo>
                  <a:pt x="13678" y="9530"/>
                  <a:pt x="13672" y="9605"/>
                  <a:pt x="13667" y="9699"/>
                </a:cubicBezTo>
                <a:cubicBezTo>
                  <a:pt x="13662" y="9793"/>
                  <a:pt x="13717" y="9849"/>
                  <a:pt x="13791" y="9897"/>
                </a:cubicBezTo>
                <a:cubicBezTo>
                  <a:pt x="13866" y="9946"/>
                  <a:pt x="14010" y="9936"/>
                  <a:pt x="14089" y="9897"/>
                </a:cubicBezTo>
                <a:cubicBezTo>
                  <a:pt x="14114" y="9880"/>
                  <a:pt x="14138" y="9864"/>
                  <a:pt x="14163" y="9847"/>
                </a:cubicBezTo>
              </a:path>
              <a:path w="5309" h="969">
                <a:moveTo>
                  <a:pt x="14412" y="9277"/>
                </a:moveTo>
                <a:cubicBezTo>
                  <a:pt x="14412" y="9451"/>
                  <a:pt x="14412" y="9624"/>
                  <a:pt x="14412" y="9798"/>
                </a:cubicBezTo>
                <a:cubicBezTo>
                  <a:pt x="14441" y="9727"/>
                  <a:pt x="14436" y="9678"/>
                  <a:pt x="14436" y="9599"/>
                </a:cubicBezTo>
                <a:cubicBezTo>
                  <a:pt x="14436" y="9522"/>
                  <a:pt x="14462" y="9439"/>
                  <a:pt x="14511" y="9376"/>
                </a:cubicBezTo>
                <a:cubicBezTo>
                  <a:pt x="14547" y="9330"/>
                  <a:pt x="14605" y="9316"/>
                  <a:pt x="14660" y="9302"/>
                </a:cubicBezTo>
                <a:cubicBezTo>
                  <a:pt x="14668" y="9302"/>
                  <a:pt x="14676" y="9302"/>
                  <a:pt x="14684" y="9302"/>
                </a:cubicBezTo>
                <a:cubicBezTo>
                  <a:pt x="14709" y="9351"/>
                  <a:pt x="14774" y="9423"/>
                  <a:pt x="14784" y="9475"/>
                </a:cubicBezTo>
                <a:cubicBezTo>
                  <a:pt x="14786" y="9488"/>
                  <a:pt x="14767" y="9828"/>
                  <a:pt x="14808" y="9823"/>
                </a:cubicBezTo>
                <a:cubicBezTo>
                  <a:pt x="14816" y="9815"/>
                  <a:pt x="14825" y="9806"/>
                  <a:pt x="14833" y="9798"/>
                </a:cubicBezTo>
              </a:path>
              <a:path w="5309" h="969">
                <a:moveTo>
                  <a:pt x="15106" y="9327"/>
                </a:moveTo>
                <a:cubicBezTo>
                  <a:pt x="15177" y="9266"/>
                  <a:pt x="15182" y="9277"/>
                  <a:pt x="15280" y="9277"/>
                </a:cubicBezTo>
                <a:cubicBezTo>
                  <a:pt x="15345" y="9277"/>
                  <a:pt x="15372" y="9258"/>
                  <a:pt x="15404" y="9327"/>
                </a:cubicBezTo>
                <a:cubicBezTo>
                  <a:pt x="15434" y="9392"/>
                  <a:pt x="15346" y="9432"/>
                  <a:pt x="15329" y="9475"/>
                </a:cubicBezTo>
                <a:cubicBezTo>
                  <a:pt x="15304" y="9539"/>
                  <a:pt x="15286" y="9617"/>
                  <a:pt x="15255" y="9674"/>
                </a:cubicBezTo>
                <a:cubicBezTo>
                  <a:pt x="15236" y="9710"/>
                  <a:pt x="15214" y="9730"/>
                  <a:pt x="15205" y="9773"/>
                </a:cubicBezTo>
                <a:cubicBezTo>
                  <a:pt x="15253" y="9773"/>
                  <a:pt x="15311" y="9762"/>
                  <a:pt x="15354" y="9748"/>
                </a:cubicBezTo>
                <a:cubicBezTo>
                  <a:pt x="15450" y="9716"/>
                  <a:pt x="15554" y="9713"/>
                  <a:pt x="15652" y="9674"/>
                </a:cubicBezTo>
                <a:cubicBezTo>
                  <a:pt x="15685" y="9657"/>
                  <a:pt x="15718" y="9641"/>
                  <a:pt x="15751" y="9624"/>
                </a:cubicBezTo>
              </a:path>
              <a:path w="5309" h="969">
                <a:moveTo>
                  <a:pt x="15949" y="9376"/>
                </a:moveTo>
                <a:cubicBezTo>
                  <a:pt x="15982" y="9396"/>
                  <a:pt x="16029" y="9417"/>
                  <a:pt x="16073" y="9401"/>
                </a:cubicBezTo>
                <a:cubicBezTo>
                  <a:pt x="16150" y="9373"/>
                  <a:pt x="16197" y="9327"/>
                  <a:pt x="16222" y="9252"/>
                </a:cubicBezTo>
                <a:cubicBezTo>
                  <a:pt x="16222" y="9244"/>
                  <a:pt x="16222" y="9235"/>
                  <a:pt x="16222" y="9227"/>
                </a:cubicBezTo>
                <a:cubicBezTo>
                  <a:pt x="16141" y="9227"/>
                  <a:pt x="16049" y="9212"/>
                  <a:pt x="15974" y="9252"/>
                </a:cubicBezTo>
                <a:cubicBezTo>
                  <a:pt x="15905" y="9289"/>
                  <a:pt x="15851" y="9360"/>
                  <a:pt x="15825" y="9426"/>
                </a:cubicBezTo>
                <a:cubicBezTo>
                  <a:pt x="15793" y="9506"/>
                  <a:pt x="15792" y="9579"/>
                  <a:pt x="15850" y="9649"/>
                </a:cubicBezTo>
                <a:cubicBezTo>
                  <a:pt x="15935" y="9751"/>
                  <a:pt x="15993" y="9792"/>
                  <a:pt x="16123" y="9798"/>
                </a:cubicBezTo>
                <a:cubicBezTo>
                  <a:pt x="16230" y="9803"/>
                  <a:pt x="16260" y="9778"/>
                  <a:pt x="16346" y="9723"/>
                </a:cubicBezTo>
              </a:path>
              <a:path w="5309" h="969">
                <a:moveTo>
                  <a:pt x="16495" y="9302"/>
                </a:moveTo>
                <a:cubicBezTo>
                  <a:pt x="16495" y="9397"/>
                  <a:pt x="16500" y="9439"/>
                  <a:pt x="16520" y="9525"/>
                </a:cubicBezTo>
                <a:cubicBezTo>
                  <a:pt x="16532" y="9575"/>
                  <a:pt x="16506" y="9603"/>
                  <a:pt x="16495" y="9649"/>
                </a:cubicBezTo>
                <a:cubicBezTo>
                  <a:pt x="16473" y="9737"/>
                  <a:pt x="16513" y="9657"/>
                  <a:pt x="16520" y="9624"/>
                </a:cubicBezTo>
                <a:cubicBezTo>
                  <a:pt x="16534" y="9556"/>
                  <a:pt x="16551" y="9509"/>
                  <a:pt x="16594" y="9451"/>
                </a:cubicBezTo>
                <a:cubicBezTo>
                  <a:pt x="16625" y="9409"/>
                  <a:pt x="16644" y="9360"/>
                  <a:pt x="16694" y="9327"/>
                </a:cubicBezTo>
                <a:cubicBezTo>
                  <a:pt x="16760" y="9283"/>
                  <a:pt x="16788" y="9277"/>
                  <a:pt x="16867" y="9277"/>
                </a:cubicBezTo>
                <a:cubicBezTo>
                  <a:pt x="16953" y="9277"/>
                  <a:pt x="16924" y="9406"/>
                  <a:pt x="16917" y="9451"/>
                </a:cubicBezTo>
                <a:cubicBezTo>
                  <a:pt x="16907" y="9519"/>
                  <a:pt x="16904" y="9591"/>
                  <a:pt x="16892" y="9649"/>
                </a:cubicBezTo>
                <a:cubicBezTo>
                  <a:pt x="16882" y="9696"/>
                  <a:pt x="16904" y="9768"/>
                  <a:pt x="16942" y="9798"/>
                </a:cubicBezTo>
                <a:cubicBezTo>
                  <a:pt x="16950" y="9798"/>
                  <a:pt x="16958" y="9798"/>
                  <a:pt x="16966" y="9798"/>
                </a:cubicBezTo>
              </a:path>
              <a:path w="5309" h="969">
                <a:moveTo>
                  <a:pt x="17289" y="9500"/>
                </a:moveTo>
                <a:cubicBezTo>
                  <a:pt x="17345" y="9466"/>
                  <a:pt x="17377" y="9493"/>
                  <a:pt x="17438" y="9475"/>
                </a:cubicBezTo>
                <a:cubicBezTo>
                  <a:pt x="17488" y="9461"/>
                  <a:pt x="17568" y="9406"/>
                  <a:pt x="17611" y="9376"/>
                </a:cubicBezTo>
                <a:cubicBezTo>
                  <a:pt x="17676" y="9330"/>
                  <a:pt x="17619" y="9266"/>
                  <a:pt x="17562" y="9252"/>
                </a:cubicBezTo>
                <a:cubicBezTo>
                  <a:pt x="17474" y="9231"/>
                  <a:pt x="17452" y="9261"/>
                  <a:pt x="17388" y="9302"/>
                </a:cubicBezTo>
                <a:cubicBezTo>
                  <a:pt x="17328" y="9341"/>
                  <a:pt x="17270" y="9358"/>
                  <a:pt x="17239" y="9426"/>
                </a:cubicBezTo>
                <a:cubicBezTo>
                  <a:pt x="17216" y="9476"/>
                  <a:pt x="17198" y="9568"/>
                  <a:pt x="17214" y="9624"/>
                </a:cubicBezTo>
                <a:cubicBezTo>
                  <a:pt x="17226" y="9666"/>
                  <a:pt x="17304" y="9809"/>
                  <a:pt x="17338" y="9823"/>
                </a:cubicBezTo>
                <a:cubicBezTo>
                  <a:pt x="17435" y="9862"/>
                  <a:pt x="17600" y="9911"/>
                  <a:pt x="17711" y="9922"/>
                </a:cubicBezTo>
                <a:cubicBezTo>
                  <a:pt x="17740" y="9925"/>
                  <a:pt x="17963" y="9950"/>
                  <a:pt x="17983" y="9897"/>
                </a:cubicBezTo>
                <a:cubicBezTo>
                  <a:pt x="17983" y="9880"/>
                  <a:pt x="17983" y="9864"/>
                  <a:pt x="17983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2840" y="4179960"/>
            <a:ext cx="482400" cy="249120"/>
          </a:xfrm>
          <a:custGeom>
            <a:avLst/>
            <a:gdLst/>
            <a:ahLst/>
            <a:rect l="l" t="t" r="r" b="b"/>
            <a:pathLst>
              <a:path w="1341" h="695">
                <a:moveTo>
                  <a:pt x="1017" y="11633"/>
                </a:moveTo>
                <a:cubicBezTo>
                  <a:pt x="1017" y="11726"/>
                  <a:pt x="1030" y="11821"/>
                  <a:pt x="992" y="11906"/>
                </a:cubicBezTo>
                <a:cubicBezTo>
                  <a:pt x="952" y="11996"/>
                  <a:pt x="925" y="12080"/>
                  <a:pt x="918" y="12179"/>
                </a:cubicBezTo>
                <a:cubicBezTo>
                  <a:pt x="914" y="12244"/>
                  <a:pt x="881" y="12230"/>
                  <a:pt x="868" y="12179"/>
                </a:cubicBezTo>
              </a:path>
              <a:path w="1341" h="695">
                <a:moveTo>
                  <a:pt x="1538" y="11683"/>
                </a:moveTo>
                <a:cubicBezTo>
                  <a:pt x="1471" y="11693"/>
                  <a:pt x="1449" y="11722"/>
                  <a:pt x="1389" y="11757"/>
                </a:cubicBezTo>
                <a:cubicBezTo>
                  <a:pt x="1302" y="11808"/>
                  <a:pt x="1292" y="11848"/>
                  <a:pt x="1240" y="11931"/>
                </a:cubicBezTo>
                <a:cubicBezTo>
                  <a:pt x="1230" y="11946"/>
                  <a:pt x="1183" y="12033"/>
                  <a:pt x="1215" y="12055"/>
                </a:cubicBezTo>
                <a:cubicBezTo>
                  <a:pt x="1258" y="12085"/>
                  <a:pt x="1300" y="12104"/>
                  <a:pt x="1364" y="12154"/>
                </a:cubicBezTo>
                <a:cubicBezTo>
                  <a:pt x="1414" y="12193"/>
                  <a:pt x="1463" y="12233"/>
                  <a:pt x="1538" y="12204"/>
                </a:cubicBezTo>
                <a:cubicBezTo>
                  <a:pt x="1586" y="12186"/>
                  <a:pt x="1650" y="12140"/>
                  <a:pt x="1687" y="12105"/>
                </a:cubicBezTo>
                <a:cubicBezTo>
                  <a:pt x="1735" y="12060"/>
                  <a:pt x="1782" y="11998"/>
                  <a:pt x="1786" y="11931"/>
                </a:cubicBezTo>
                <a:cubicBezTo>
                  <a:pt x="1790" y="11870"/>
                  <a:pt x="1799" y="11803"/>
                  <a:pt x="1761" y="11757"/>
                </a:cubicBezTo>
                <a:cubicBezTo>
                  <a:pt x="1720" y="11707"/>
                  <a:pt x="1694" y="11667"/>
                  <a:pt x="1637" y="11633"/>
                </a:cubicBezTo>
                <a:cubicBezTo>
                  <a:pt x="1573" y="11595"/>
                  <a:pt x="1552" y="11610"/>
                  <a:pt x="1488" y="11633"/>
                </a:cubicBezTo>
              </a:path>
              <a:path w="1341" h="695">
                <a:moveTo>
                  <a:pt x="2208" y="12204"/>
                </a:moveTo>
                <a:cubicBezTo>
                  <a:pt x="2208" y="12237"/>
                  <a:pt x="2208" y="12237"/>
                  <a:pt x="2208" y="12179"/>
                </a:cubicBezTo>
                <a:cubicBezTo>
                  <a:pt x="2180" y="12216"/>
                  <a:pt x="2167" y="12349"/>
                  <a:pt x="2158" y="12303"/>
                </a:cubicBezTo>
                <a:cubicBezTo>
                  <a:pt x="2158" y="12287"/>
                  <a:pt x="2158" y="12270"/>
                  <a:pt x="2158" y="122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95280" y="3963960"/>
            <a:ext cx="1293840" cy="509760"/>
          </a:xfrm>
          <a:custGeom>
            <a:avLst/>
            <a:gdLst/>
            <a:ahLst/>
            <a:rect l="l" t="t" r="r" b="b"/>
            <a:pathLst>
              <a:path w="3597" h="1415">
                <a:moveTo>
                  <a:pt x="3894" y="11460"/>
                </a:moveTo>
                <a:cubicBezTo>
                  <a:pt x="3894" y="11403"/>
                  <a:pt x="3915" y="11353"/>
                  <a:pt x="3845" y="11336"/>
                </a:cubicBezTo>
                <a:cubicBezTo>
                  <a:pt x="3772" y="11318"/>
                  <a:pt x="3733" y="11393"/>
                  <a:pt x="3696" y="11435"/>
                </a:cubicBezTo>
                <a:cubicBezTo>
                  <a:pt x="3627" y="11513"/>
                  <a:pt x="3608" y="11578"/>
                  <a:pt x="3597" y="11683"/>
                </a:cubicBezTo>
                <a:cubicBezTo>
                  <a:pt x="3587" y="11775"/>
                  <a:pt x="3576" y="11879"/>
                  <a:pt x="3646" y="11931"/>
                </a:cubicBezTo>
                <a:cubicBezTo>
                  <a:pt x="3742" y="12004"/>
                  <a:pt x="3906" y="12014"/>
                  <a:pt x="4018" y="12005"/>
                </a:cubicBezTo>
                <a:cubicBezTo>
                  <a:pt x="4157" y="11993"/>
                  <a:pt x="4287" y="11930"/>
                  <a:pt x="4415" y="11881"/>
                </a:cubicBezTo>
              </a:path>
              <a:path w="3597" h="1415">
                <a:moveTo>
                  <a:pt x="4638" y="11385"/>
                </a:moveTo>
                <a:cubicBezTo>
                  <a:pt x="4638" y="11491"/>
                  <a:pt x="4633" y="11580"/>
                  <a:pt x="4614" y="11683"/>
                </a:cubicBezTo>
                <a:cubicBezTo>
                  <a:pt x="4602" y="11751"/>
                  <a:pt x="4682" y="11764"/>
                  <a:pt x="4713" y="11782"/>
                </a:cubicBezTo>
                <a:cubicBezTo>
                  <a:pt x="4781" y="11821"/>
                  <a:pt x="4850" y="11798"/>
                  <a:pt x="4911" y="11733"/>
                </a:cubicBezTo>
                <a:cubicBezTo>
                  <a:pt x="4956" y="11685"/>
                  <a:pt x="4965" y="11618"/>
                  <a:pt x="4986" y="11559"/>
                </a:cubicBezTo>
                <a:cubicBezTo>
                  <a:pt x="5014" y="11481"/>
                  <a:pt x="5011" y="11418"/>
                  <a:pt x="5011" y="11336"/>
                </a:cubicBezTo>
                <a:cubicBezTo>
                  <a:pt x="5011" y="11447"/>
                  <a:pt x="5007" y="11553"/>
                  <a:pt x="5035" y="11658"/>
                </a:cubicBezTo>
                <a:cubicBezTo>
                  <a:pt x="5066" y="11774"/>
                  <a:pt x="5099" y="11890"/>
                  <a:pt x="5135" y="12005"/>
                </a:cubicBezTo>
                <a:cubicBezTo>
                  <a:pt x="5163" y="12094"/>
                  <a:pt x="5184" y="12161"/>
                  <a:pt x="5184" y="12254"/>
                </a:cubicBezTo>
                <a:cubicBezTo>
                  <a:pt x="5184" y="12344"/>
                  <a:pt x="5158" y="12364"/>
                  <a:pt x="5085" y="12402"/>
                </a:cubicBezTo>
                <a:cubicBezTo>
                  <a:pt x="4964" y="12465"/>
                  <a:pt x="4935" y="12389"/>
                  <a:pt x="4837" y="12353"/>
                </a:cubicBezTo>
                <a:cubicBezTo>
                  <a:pt x="4787" y="12353"/>
                  <a:pt x="4770" y="12353"/>
                  <a:pt x="4787" y="12303"/>
                </a:cubicBezTo>
              </a:path>
              <a:path w="3597" h="1415">
                <a:moveTo>
                  <a:pt x="5779" y="11385"/>
                </a:moveTo>
                <a:cubicBezTo>
                  <a:pt x="5726" y="11385"/>
                  <a:pt x="5699" y="11386"/>
                  <a:pt x="5655" y="11410"/>
                </a:cubicBezTo>
                <a:cubicBezTo>
                  <a:pt x="5607" y="11434"/>
                  <a:pt x="5593" y="11443"/>
                  <a:pt x="5556" y="11435"/>
                </a:cubicBezTo>
                <a:cubicBezTo>
                  <a:pt x="5535" y="11510"/>
                  <a:pt x="5507" y="11515"/>
                  <a:pt x="5507" y="11609"/>
                </a:cubicBezTo>
                <a:cubicBezTo>
                  <a:pt x="5507" y="11682"/>
                  <a:pt x="5523" y="11802"/>
                  <a:pt x="5581" y="11857"/>
                </a:cubicBezTo>
                <a:cubicBezTo>
                  <a:pt x="5663" y="11935"/>
                  <a:pt x="5752" y="11958"/>
                  <a:pt x="5854" y="11931"/>
                </a:cubicBezTo>
                <a:cubicBezTo>
                  <a:pt x="5932" y="11905"/>
                  <a:pt x="5959" y="11894"/>
                  <a:pt x="6003" y="11857"/>
                </a:cubicBezTo>
              </a:path>
              <a:path w="3597" h="1415">
                <a:moveTo>
                  <a:pt x="6251" y="11013"/>
                </a:moveTo>
                <a:cubicBezTo>
                  <a:pt x="6260" y="11127"/>
                  <a:pt x="6310" y="11223"/>
                  <a:pt x="6325" y="11336"/>
                </a:cubicBezTo>
                <a:cubicBezTo>
                  <a:pt x="6337" y="11428"/>
                  <a:pt x="6371" y="11517"/>
                  <a:pt x="6375" y="11609"/>
                </a:cubicBezTo>
                <a:cubicBezTo>
                  <a:pt x="6376" y="11625"/>
                  <a:pt x="6375" y="11817"/>
                  <a:pt x="6375" y="11757"/>
                </a:cubicBezTo>
                <a:cubicBezTo>
                  <a:pt x="6375" y="11749"/>
                  <a:pt x="6375" y="11741"/>
                  <a:pt x="6375" y="11733"/>
                </a:cubicBezTo>
              </a:path>
              <a:path w="3597" h="1415">
                <a:moveTo>
                  <a:pt x="6921" y="11311"/>
                </a:moveTo>
                <a:cubicBezTo>
                  <a:pt x="6857" y="11295"/>
                  <a:pt x="6761" y="11302"/>
                  <a:pt x="6722" y="11385"/>
                </a:cubicBezTo>
                <a:cubicBezTo>
                  <a:pt x="6692" y="11448"/>
                  <a:pt x="6697" y="11534"/>
                  <a:pt x="6697" y="11609"/>
                </a:cubicBezTo>
                <a:cubicBezTo>
                  <a:pt x="6697" y="11673"/>
                  <a:pt x="6743" y="11741"/>
                  <a:pt x="6796" y="11782"/>
                </a:cubicBezTo>
                <a:cubicBezTo>
                  <a:pt x="6832" y="11809"/>
                  <a:pt x="6957" y="11831"/>
                  <a:pt x="6995" y="11807"/>
                </a:cubicBezTo>
                <a:cubicBezTo>
                  <a:pt x="7029" y="11786"/>
                  <a:pt x="7119" y="11714"/>
                  <a:pt x="7144" y="11683"/>
                </a:cubicBezTo>
                <a:cubicBezTo>
                  <a:pt x="7168" y="11652"/>
                  <a:pt x="7223" y="11560"/>
                  <a:pt x="7193" y="11509"/>
                </a:cubicBezTo>
                <a:cubicBezTo>
                  <a:pt x="7147" y="11431"/>
                  <a:pt x="7035" y="11356"/>
                  <a:pt x="6970" y="11311"/>
                </a:cubicBezTo>
                <a:cubicBezTo>
                  <a:pt x="6942" y="11283"/>
                  <a:pt x="6929" y="11274"/>
                  <a:pt x="6896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59040" y="3963960"/>
            <a:ext cx="1581120" cy="322200"/>
          </a:xfrm>
          <a:custGeom>
            <a:avLst/>
            <a:gdLst/>
            <a:ahLst/>
            <a:rect l="l" t="t" r="r" b="b"/>
            <a:pathLst>
              <a:path w="4391" h="894">
                <a:moveTo>
                  <a:pt x="7665" y="11013"/>
                </a:moveTo>
                <a:cubicBezTo>
                  <a:pt x="7665" y="11311"/>
                  <a:pt x="7665" y="11608"/>
                  <a:pt x="7665" y="11906"/>
                </a:cubicBezTo>
                <a:cubicBezTo>
                  <a:pt x="7702" y="11822"/>
                  <a:pt x="7712" y="11744"/>
                  <a:pt x="7739" y="11658"/>
                </a:cubicBezTo>
                <a:cubicBezTo>
                  <a:pt x="7773" y="11549"/>
                  <a:pt x="7795" y="11461"/>
                  <a:pt x="7863" y="11410"/>
                </a:cubicBezTo>
                <a:cubicBezTo>
                  <a:pt x="7907" y="11377"/>
                  <a:pt x="7930" y="11436"/>
                  <a:pt x="7962" y="11485"/>
                </a:cubicBezTo>
                <a:cubicBezTo>
                  <a:pt x="7992" y="11531"/>
                  <a:pt x="8076" y="11605"/>
                  <a:pt x="8086" y="11658"/>
                </a:cubicBezTo>
                <a:cubicBezTo>
                  <a:pt x="8090" y="11680"/>
                  <a:pt x="8066" y="11849"/>
                  <a:pt x="8111" y="11832"/>
                </a:cubicBezTo>
                <a:cubicBezTo>
                  <a:pt x="8119" y="11824"/>
                  <a:pt x="8128" y="11815"/>
                  <a:pt x="8136" y="11807"/>
                </a:cubicBezTo>
              </a:path>
              <a:path w="4391" h="894">
                <a:moveTo>
                  <a:pt x="8508" y="11559"/>
                </a:moveTo>
                <a:cubicBezTo>
                  <a:pt x="8598" y="11559"/>
                  <a:pt x="8648" y="11547"/>
                  <a:pt x="8731" y="11509"/>
                </a:cubicBezTo>
                <a:cubicBezTo>
                  <a:pt x="8772" y="11490"/>
                  <a:pt x="8843" y="11413"/>
                  <a:pt x="8806" y="11361"/>
                </a:cubicBezTo>
                <a:cubicBezTo>
                  <a:pt x="8767" y="11306"/>
                  <a:pt x="8699" y="11294"/>
                  <a:pt x="8632" y="11311"/>
                </a:cubicBezTo>
                <a:cubicBezTo>
                  <a:pt x="8562" y="11329"/>
                  <a:pt x="8502" y="11435"/>
                  <a:pt x="8458" y="11485"/>
                </a:cubicBezTo>
                <a:cubicBezTo>
                  <a:pt x="8421" y="11527"/>
                  <a:pt x="8374" y="11619"/>
                  <a:pt x="8409" y="11683"/>
                </a:cubicBezTo>
                <a:cubicBezTo>
                  <a:pt x="8454" y="11766"/>
                  <a:pt x="8550" y="11803"/>
                  <a:pt x="8632" y="11832"/>
                </a:cubicBezTo>
                <a:cubicBezTo>
                  <a:pt x="8761" y="11877"/>
                  <a:pt x="8833" y="11856"/>
                  <a:pt x="8954" y="11807"/>
                </a:cubicBezTo>
              </a:path>
              <a:path w="4391" h="894">
                <a:moveTo>
                  <a:pt x="9203" y="11336"/>
                </a:moveTo>
                <a:cubicBezTo>
                  <a:pt x="9219" y="11420"/>
                  <a:pt x="9265" y="11446"/>
                  <a:pt x="9327" y="11509"/>
                </a:cubicBezTo>
                <a:cubicBezTo>
                  <a:pt x="9370" y="11552"/>
                  <a:pt x="9439" y="11592"/>
                  <a:pt x="9475" y="11633"/>
                </a:cubicBezTo>
                <a:cubicBezTo>
                  <a:pt x="9510" y="11674"/>
                  <a:pt x="9588" y="11717"/>
                  <a:pt x="9649" y="11733"/>
                </a:cubicBezTo>
                <a:cubicBezTo>
                  <a:pt x="9699" y="11733"/>
                  <a:pt x="9716" y="11733"/>
                  <a:pt x="9699" y="11683"/>
                </a:cubicBezTo>
              </a:path>
              <a:path w="4391" h="894">
                <a:moveTo>
                  <a:pt x="9550" y="11286"/>
                </a:moveTo>
                <a:cubicBezTo>
                  <a:pt x="9503" y="11387"/>
                  <a:pt x="9468" y="11520"/>
                  <a:pt x="9401" y="11609"/>
                </a:cubicBezTo>
                <a:cubicBezTo>
                  <a:pt x="9361" y="11662"/>
                  <a:pt x="9285" y="11718"/>
                  <a:pt x="9252" y="11757"/>
                </a:cubicBezTo>
                <a:cubicBezTo>
                  <a:pt x="9213" y="11803"/>
                  <a:pt x="9091" y="11956"/>
                  <a:pt x="9178" y="11782"/>
                </a:cubicBezTo>
              </a:path>
              <a:path w="4391" h="894">
                <a:moveTo>
                  <a:pt x="10220" y="11361"/>
                </a:moveTo>
                <a:cubicBezTo>
                  <a:pt x="10179" y="11309"/>
                  <a:pt x="10173" y="11268"/>
                  <a:pt x="10096" y="11286"/>
                </a:cubicBezTo>
                <a:cubicBezTo>
                  <a:pt x="10036" y="11300"/>
                  <a:pt x="9954" y="11352"/>
                  <a:pt x="9922" y="11410"/>
                </a:cubicBezTo>
                <a:cubicBezTo>
                  <a:pt x="9892" y="11465"/>
                  <a:pt x="9851" y="11550"/>
                  <a:pt x="9847" y="11609"/>
                </a:cubicBezTo>
                <a:cubicBezTo>
                  <a:pt x="9842" y="11693"/>
                  <a:pt x="9880" y="11722"/>
                  <a:pt x="9947" y="11757"/>
                </a:cubicBezTo>
                <a:cubicBezTo>
                  <a:pt x="9971" y="11770"/>
                  <a:pt x="10090" y="11809"/>
                  <a:pt x="10120" y="11782"/>
                </a:cubicBezTo>
                <a:cubicBezTo>
                  <a:pt x="10187" y="11723"/>
                  <a:pt x="10209" y="11636"/>
                  <a:pt x="10244" y="11559"/>
                </a:cubicBezTo>
                <a:cubicBezTo>
                  <a:pt x="10288" y="11461"/>
                  <a:pt x="10294" y="11456"/>
                  <a:pt x="10294" y="11361"/>
                </a:cubicBezTo>
                <a:cubicBezTo>
                  <a:pt x="10266" y="11409"/>
                  <a:pt x="10226" y="11448"/>
                  <a:pt x="10244" y="11509"/>
                </a:cubicBezTo>
                <a:cubicBezTo>
                  <a:pt x="10257" y="11553"/>
                  <a:pt x="10294" y="11627"/>
                  <a:pt x="10319" y="11658"/>
                </a:cubicBezTo>
                <a:cubicBezTo>
                  <a:pt x="10353" y="11701"/>
                  <a:pt x="10393" y="11708"/>
                  <a:pt x="10443" y="11708"/>
                </a:cubicBezTo>
              </a:path>
              <a:path w="4391" h="894">
                <a:moveTo>
                  <a:pt x="10666" y="11311"/>
                </a:moveTo>
                <a:cubicBezTo>
                  <a:pt x="10666" y="11443"/>
                  <a:pt x="10666" y="11576"/>
                  <a:pt x="10666" y="11708"/>
                </a:cubicBezTo>
                <a:cubicBezTo>
                  <a:pt x="10692" y="11695"/>
                  <a:pt x="10757" y="11623"/>
                  <a:pt x="10765" y="11584"/>
                </a:cubicBezTo>
                <a:cubicBezTo>
                  <a:pt x="10784" y="11488"/>
                  <a:pt x="10753" y="11407"/>
                  <a:pt x="10790" y="11311"/>
                </a:cubicBezTo>
                <a:cubicBezTo>
                  <a:pt x="10817" y="11239"/>
                  <a:pt x="10859" y="11199"/>
                  <a:pt x="10939" y="11212"/>
                </a:cubicBezTo>
                <a:cubicBezTo>
                  <a:pt x="11029" y="11226"/>
                  <a:pt x="11110" y="11289"/>
                  <a:pt x="11162" y="11361"/>
                </a:cubicBezTo>
                <a:cubicBezTo>
                  <a:pt x="11216" y="11435"/>
                  <a:pt x="11222" y="11506"/>
                  <a:pt x="11187" y="11584"/>
                </a:cubicBezTo>
                <a:cubicBezTo>
                  <a:pt x="11180" y="11600"/>
                  <a:pt x="11135" y="11761"/>
                  <a:pt x="11187" y="11683"/>
                </a:cubicBezTo>
                <a:cubicBezTo>
                  <a:pt x="11195" y="11666"/>
                  <a:pt x="11204" y="11650"/>
                  <a:pt x="11212" y="11633"/>
                </a:cubicBezTo>
              </a:path>
              <a:path w="4391" h="894">
                <a:moveTo>
                  <a:pt x="11584" y="11485"/>
                </a:moveTo>
                <a:cubicBezTo>
                  <a:pt x="11648" y="11457"/>
                  <a:pt x="11684" y="11460"/>
                  <a:pt x="11757" y="11460"/>
                </a:cubicBezTo>
                <a:cubicBezTo>
                  <a:pt x="11820" y="11460"/>
                  <a:pt x="11807" y="11380"/>
                  <a:pt x="11807" y="11336"/>
                </a:cubicBezTo>
                <a:cubicBezTo>
                  <a:pt x="11807" y="11253"/>
                  <a:pt x="11780" y="11261"/>
                  <a:pt x="11708" y="11261"/>
                </a:cubicBezTo>
                <a:cubicBezTo>
                  <a:pt x="11674" y="11261"/>
                  <a:pt x="11587" y="11296"/>
                  <a:pt x="11559" y="11311"/>
                </a:cubicBezTo>
                <a:cubicBezTo>
                  <a:pt x="11501" y="11343"/>
                  <a:pt x="11467" y="11427"/>
                  <a:pt x="11460" y="11485"/>
                </a:cubicBezTo>
                <a:cubicBezTo>
                  <a:pt x="11450" y="11573"/>
                  <a:pt x="11451" y="11630"/>
                  <a:pt x="11509" y="11683"/>
                </a:cubicBezTo>
                <a:cubicBezTo>
                  <a:pt x="11553" y="11724"/>
                  <a:pt x="11624" y="11764"/>
                  <a:pt x="11683" y="11782"/>
                </a:cubicBezTo>
                <a:cubicBezTo>
                  <a:pt x="11746" y="11801"/>
                  <a:pt x="11802" y="11764"/>
                  <a:pt x="11857" y="11757"/>
                </a:cubicBezTo>
                <a:cubicBezTo>
                  <a:pt x="11924" y="11748"/>
                  <a:pt x="11969" y="11738"/>
                  <a:pt x="12030" y="11733"/>
                </a:cubicBezTo>
                <a:cubicBezTo>
                  <a:pt x="12063" y="11733"/>
                  <a:pt x="12072" y="11725"/>
                  <a:pt x="12055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6840" y="4919760"/>
            <a:ext cx="17280" cy="277560"/>
          </a:xfrm>
          <a:custGeom>
            <a:avLst/>
            <a:gdLst/>
            <a:ahLst/>
            <a:rect l="l" t="t" r="r" b="b"/>
            <a:pathLst>
              <a:path w="51" h="770">
                <a:moveTo>
                  <a:pt x="1067" y="13692"/>
                </a:moveTo>
                <a:cubicBezTo>
                  <a:pt x="1067" y="13623"/>
                  <a:pt x="1067" y="13831"/>
                  <a:pt x="1067" y="13841"/>
                </a:cubicBezTo>
                <a:cubicBezTo>
                  <a:pt x="1067" y="13978"/>
                  <a:pt x="1059" y="14105"/>
                  <a:pt x="1042" y="14238"/>
                </a:cubicBezTo>
                <a:cubicBezTo>
                  <a:pt x="1039" y="14262"/>
                  <a:pt x="989" y="14419"/>
                  <a:pt x="1017" y="14436"/>
                </a:cubicBezTo>
                <a:cubicBezTo>
                  <a:pt x="1047" y="14407"/>
                  <a:pt x="1059" y="14393"/>
                  <a:pt x="1067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8960" y="4911840"/>
            <a:ext cx="196920" cy="2584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637" y="13643"/>
                </a:moveTo>
                <a:cubicBezTo>
                  <a:pt x="1664" y="13713"/>
                  <a:pt x="1662" y="13765"/>
                  <a:pt x="1662" y="13841"/>
                </a:cubicBezTo>
                <a:cubicBezTo>
                  <a:pt x="1662" y="13933"/>
                  <a:pt x="1687" y="14019"/>
                  <a:pt x="1687" y="14114"/>
                </a:cubicBezTo>
                <a:cubicBezTo>
                  <a:pt x="1687" y="14181"/>
                  <a:pt x="1673" y="14234"/>
                  <a:pt x="1662" y="14288"/>
                </a:cubicBezTo>
                <a:cubicBezTo>
                  <a:pt x="1662" y="14304"/>
                  <a:pt x="1662" y="14321"/>
                  <a:pt x="1662" y="14337"/>
                </a:cubicBezTo>
              </a:path>
              <a:path w="547" h="720">
                <a:moveTo>
                  <a:pt x="2158" y="14238"/>
                </a:moveTo>
                <a:cubicBezTo>
                  <a:pt x="2135" y="14261"/>
                  <a:pt x="2127" y="14265"/>
                  <a:pt x="2133" y="14288"/>
                </a:cubicBezTo>
                <a:cubicBezTo>
                  <a:pt x="2228" y="14310"/>
                  <a:pt x="2165" y="14206"/>
                  <a:pt x="2108" y="14238"/>
                </a:cubicBezTo>
                <a:cubicBezTo>
                  <a:pt x="2071" y="14259"/>
                  <a:pt x="2084" y="14405"/>
                  <a:pt x="2084" y="14362"/>
                </a:cubicBezTo>
                <a:cubicBezTo>
                  <a:pt x="2084" y="14345"/>
                  <a:pt x="2084" y="14329"/>
                  <a:pt x="2084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65200" y="4776840"/>
            <a:ext cx="544680" cy="411120"/>
          </a:xfrm>
          <a:custGeom>
            <a:avLst/>
            <a:gdLst/>
            <a:ahLst/>
            <a:rect l="l" t="t" r="r" b="b"/>
            <a:pathLst>
              <a:path w="1514" h="1142">
                <a:moveTo>
                  <a:pt x="4192" y="13345"/>
                </a:moveTo>
                <a:cubicBezTo>
                  <a:pt x="4192" y="13648"/>
                  <a:pt x="4286" y="14110"/>
                  <a:pt x="4167" y="14387"/>
                </a:cubicBezTo>
                <a:cubicBezTo>
                  <a:pt x="4167" y="14312"/>
                  <a:pt x="4167" y="14288"/>
                  <a:pt x="4167" y="14238"/>
                </a:cubicBezTo>
              </a:path>
              <a:path w="1514" h="1142">
                <a:moveTo>
                  <a:pt x="4242" y="13395"/>
                </a:moveTo>
                <a:cubicBezTo>
                  <a:pt x="4319" y="13401"/>
                  <a:pt x="4388" y="13416"/>
                  <a:pt x="4465" y="13419"/>
                </a:cubicBezTo>
                <a:cubicBezTo>
                  <a:pt x="4564" y="13423"/>
                  <a:pt x="4644" y="13405"/>
                  <a:pt x="4738" y="13370"/>
                </a:cubicBezTo>
                <a:cubicBezTo>
                  <a:pt x="4821" y="13339"/>
                  <a:pt x="4896" y="13345"/>
                  <a:pt x="4986" y="13345"/>
                </a:cubicBezTo>
                <a:cubicBezTo>
                  <a:pt x="5083" y="13345"/>
                  <a:pt x="5166" y="13330"/>
                  <a:pt x="5259" y="13320"/>
                </a:cubicBezTo>
                <a:cubicBezTo>
                  <a:pt x="5350" y="13310"/>
                  <a:pt x="5423" y="13332"/>
                  <a:pt x="5507" y="13295"/>
                </a:cubicBezTo>
                <a:cubicBezTo>
                  <a:pt x="5530" y="13285"/>
                  <a:pt x="5558" y="13281"/>
                  <a:pt x="5581" y="13271"/>
                </a:cubicBezTo>
                <a:cubicBezTo>
                  <a:pt x="5534" y="13324"/>
                  <a:pt x="5510" y="13344"/>
                  <a:pt x="5507" y="13419"/>
                </a:cubicBezTo>
                <a:cubicBezTo>
                  <a:pt x="5493" y="13749"/>
                  <a:pt x="5507" y="14082"/>
                  <a:pt x="5507" y="14412"/>
                </a:cubicBezTo>
                <a:cubicBezTo>
                  <a:pt x="5448" y="14390"/>
                  <a:pt x="5415" y="14403"/>
                  <a:pt x="5358" y="14387"/>
                </a:cubicBezTo>
                <a:cubicBezTo>
                  <a:pt x="5298" y="14370"/>
                  <a:pt x="5261" y="14362"/>
                  <a:pt x="5184" y="14362"/>
                </a:cubicBezTo>
                <a:cubicBezTo>
                  <a:pt x="5063" y="14362"/>
                  <a:pt x="4954" y="14371"/>
                  <a:pt x="4837" y="14387"/>
                </a:cubicBezTo>
                <a:cubicBezTo>
                  <a:pt x="4715" y="14404"/>
                  <a:pt x="4583" y="14397"/>
                  <a:pt x="4465" y="14412"/>
                </a:cubicBezTo>
                <a:cubicBezTo>
                  <a:pt x="4375" y="14424"/>
                  <a:pt x="4075" y="14394"/>
                  <a:pt x="4093" y="14387"/>
                </a:cubicBezTo>
                <a:cubicBezTo>
                  <a:pt x="4126" y="14374"/>
                  <a:pt x="4133" y="14379"/>
                  <a:pt x="4167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89120" y="4786200"/>
            <a:ext cx="527040" cy="312840"/>
          </a:xfrm>
          <a:custGeom>
            <a:avLst/>
            <a:gdLst/>
            <a:ahLst/>
            <a:rect l="l" t="t" r="r" b="b"/>
            <a:pathLst>
              <a:path w="1465" h="869">
                <a:moveTo>
                  <a:pt x="7590" y="13419"/>
                </a:moveTo>
                <a:cubicBezTo>
                  <a:pt x="7546" y="13385"/>
                  <a:pt x="7521" y="13370"/>
                  <a:pt x="7466" y="13370"/>
                </a:cubicBezTo>
                <a:cubicBezTo>
                  <a:pt x="7383" y="13370"/>
                  <a:pt x="7338" y="13425"/>
                  <a:pt x="7293" y="13494"/>
                </a:cubicBezTo>
                <a:cubicBezTo>
                  <a:pt x="7237" y="13579"/>
                  <a:pt x="7200" y="13694"/>
                  <a:pt x="7193" y="13791"/>
                </a:cubicBezTo>
                <a:cubicBezTo>
                  <a:pt x="7183" y="13929"/>
                  <a:pt x="7199" y="13989"/>
                  <a:pt x="7293" y="14089"/>
                </a:cubicBezTo>
                <a:cubicBezTo>
                  <a:pt x="7364" y="14164"/>
                  <a:pt x="7488" y="14185"/>
                  <a:pt x="7590" y="14163"/>
                </a:cubicBezTo>
                <a:cubicBezTo>
                  <a:pt x="7680" y="14143"/>
                  <a:pt x="7714" y="14055"/>
                  <a:pt x="7739" y="13990"/>
                </a:cubicBezTo>
                <a:cubicBezTo>
                  <a:pt x="7770" y="13910"/>
                  <a:pt x="7787" y="13798"/>
                  <a:pt x="7739" y="13717"/>
                </a:cubicBezTo>
                <a:cubicBezTo>
                  <a:pt x="7705" y="13660"/>
                  <a:pt x="7657" y="13584"/>
                  <a:pt x="7640" y="13519"/>
                </a:cubicBezTo>
                <a:cubicBezTo>
                  <a:pt x="7640" y="13502"/>
                  <a:pt x="7640" y="13486"/>
                  <a:pt x="7640" y="13469"/>
                </a:cubicBezTo>
              </a:path>
              <a:path w="1465" h="869">
                <a:moveTo>
                  <a:pt x="8037" y="13593"/>
                </a:moveTo>
                <a:cubicBezTo>
                  <a:pt x="8055" y="13663"/>
                  <a:pt x="8037" y="13711"/>
                  <a:pt x="8037" y="13791"/>
                </a:cubicBezTo>
                <a:cubicBezTo>
                  <a:pt x="8037" y="13886"/>
                  <a:pt x="8062" y="13968"/>
                  <a:pt x="8062" y="14064"/>
                </a:cubicBezTo>
                <a:cubicBezTo>
                  <a:pt x="8062" y="14097"/>
                  <a:pt x="8062" y="14130"/>
                  <a:pt x="8062" y="14163"/>
                </a:cubicBezTo>
                <a:cubicBezTo>
                  <a:pt x="8062" y="13960"/>
                  <a:pt x="8021" y="13710"/>
                  <a:pt x="8086" y="13519"/>
                </a:cubicBezTo>
                <a:cubicBezTo>
                  <a:pt x="8129" y="13394"/>
                  <a:pt x="8151" y="13314"/>
                  <a:pt x="8285" y="13295"/>
                </a:cubicBezTo>
                <a:cubicBezTo>
                  <a:pt x="8321" y="13290"/>
                  <a:pt x="8390" y="13315"/>
                  <a:pt x="8409" y="13345"/>
                </a:cubicBezTo>
                <a:cubicBezTo>
                  <a:pt x="8432" y="13382"/>
                  <a:pt x="8494" y="13526"/>
                  <a:pt x="8483" y="13568"/>
                </a:cubicBezTo>
                <a:cubicBezTo>
                  <a:pt x="8464" y="13642"/>
                  <a:pt x="8422" y="13683"/>
                  <a:pt x="8359" y="13717"/>
                </a:cubicBezTo>
                <a:cubicBezTo>
                  <a:pt x="8300" y="13749"/>
                  <a:pt x="8298" y="13758"/>
                  <a:pt x="8235" y="13767"/>
                </a:cubicBezTo>
                <a:cubicBezTo>
                  <a:pt x="8235" y="13824"/>
                  <a:pt x="8239" y="13897"/>
                  <a:pt x="8285" y="13940"/>
                </a:cubicBezTo>
                <a:cubicBezTo>
                  <a:pt x="8345" y="13996"/>
                  <a:pt x="8447" y="14095"/>
                  <a:pt x="8533" y="14114"/>
                </a:cubicBezTo>
                <a:cubicBezTo>
                  <a:pt x="8582" y="14125"/>
                  <a:pt x="8644" y="14127"/>
                  <a:pt x="8657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83000" y="4660920"/>
            <a:ext cx="803160" cy="287280"/>
          </a:xfrm>
          <a:custGeom>
            <a:avLst/>
            <a:gdLst/>
            <a:ahLst/>
            <a:rect l="l" t="t" r="r" b="b"/>
            <a:pathLst>
              <a:path w="2233" h="795">
                <a:moveTo>
                  <a:pt x="9971" y="13047"/>
                </a:moveTo>
                <a:cubicBezTo>
                  <a:pt x="9938" y="12968"/>
                  <a:pt x="9903" y="12923"/>
                  <a:pt x="9798" y="12948"/>
                </a:cubicBezTo>
                <a:cubicBezTo>
                  <a:pt x="9759" y="12957"/>
                  <a:pt x="9714" y="13043"/>
                  <a:pt x="9699" y="13072"/>
                </a:cubicBezTo>
                <a:cubicBezTo>
                  <a:pt x="9654" y="13159"/>
                  <a:pt x="9674" y="13274"/>
                  <a:pt x="9674" y="13370"/>
                </a:cubicBezTo>
                <a:cubicBezTo>
                  <a:pt x="9674" y="13458"/>
                  <a:pt x="9700" y="13563"/>
                  <a:pt x="9798" y="13593"/>
                </a:cubicBezTo>
                <a:cubicBezTo>
                  <a:pt x="9919" y="13630"/>
                  <a:pt x="9962" y="13591"/>
                  <a:pt x="10071" y="13543"/>
                </a:cubicBezTo>
                <a:cubicBezTo>
                  <a:pt x="10096" y="13535"/>
                  <a:pt x="10120" y="13527"/>
                  <a:pt x="10145" y="13519"/>
                </a:cubicBezTo>
              </a:path>
              <a:path w="2233" h="795">
                <a:moveTo>
                  <a:pt x="10319" y="12973"/>
                </a:moveTo>
                <a:cubicBezTo>
                  <a:pt x="10319" y="13087"/>
                  <a:pt x="10308" y="13183"/>
                  <a:pt x="10294" y="13295"/>
                </a:cubicBezTo>
                <a:cubicBezTo>
                  <a:pt x="10282" y="13388"/>
                  <a:pt x="10247" y="13574"/>
                  <a:pt x="10344" y="13494"/>
                </a:cubicBezTo>
              </a:path>
              <a:path w="2233" h="795">
                <a:moveTo>
                  <a:pt x="10616" y="12948"/>
                </a:moveTo>
                <a:cubicBezTo>
                  <a:pt x="10616" y="13028"/>
                  <a:pt x="10631" y="13052"/>
                  <a:pt x="10641" y="13122"/>
                </a:cubicBezTo>
                <a:cubicBezTo>
                  <a:pt x="10650" y="13185"/>
                  <a:pt x="10641" y="13540"/>
                  <a:pt x="10641" y="13444"/>
                </a:cubicBezTo>
              </a:path>
              <a:path w="2233" h="795">
                <a:moveTo>
                  <a:pt x="10418" y="13271"/>
                </a:moveTo>
                <a:cubicBezTo>
                  <a:pt x="10467" y="13246"/>
                  <a:pt x="10509" y="13246"/>
                  <a:pt x="10567" y="13246"/>
                </a:cubicBezTo>
                <a:cubicBezTo>
                  <a:pt x="10625" y="13246"/>
                  <a:pt x="10633" y="13246"/>
                  <a:pt x="10666" y="13246"/>
                </a:cubicBezTo>
              </a:path>
              <a:path w="2233" h="795">
                <a:moveTo>
                  <a:pt x="10889" y="13395"/>
                </a:moveTo>
                <a:cubicBezTo>
                  <a:pt x="10914" y="13382"/>
                  <a:pt x="10961" y="13307"/>
                  <a:pt x="11013" y="13345"/>
                </a:cubicBezTo>
                <a:cubicBezTo>
                  <a:pt x="11052" y="13374"/>
                  <a:pt x="11037" y="13455"/>
                  <a:pt x="11013" y="13494"/>
                </a:cubicBezTo>
                <a:cubicBezTo>
                  <a:pt x="10978" y="13551"/>
                  <a:pt x="10915" y="13576"/>
                  <a:pt x="10889" y="13643"/>
                </a:cubicBezTo>
                <a:cubicBezTo>
                  <a:pt x="10852" y="13738"/>
                  <a:pt x="10947" y="13739"/>
                  <a:pt x="11013" y="13742"/>
                </a:cubicBezTo>
                <a:cubicBezTo>
                  <a:pt x="11118" y="13748"/>
                  <a:pt x="11240" y="13758"/>
                  <a:pt x="11336" y="13717"/>
                </a:cubicBezTo>
              </a:path>
              <a:path w="2233" h="795">
                <a:moveTo>
                  <a:pt x="11609" y="13419"/>
                </a:moveTo>
                <a:cubicBezTo>
                  <a:pt x="11637" y="13419"/>
                  <a:pt x="11925" y="13412"/>
                  <a:pt x="11906" y="13395"/>
                </a:cubicBezTo>
                <a:cubicBezTo>
                  <a:pt x="11890" y="13387"/>
                  <a:pt x="11873" y="13378"/>
                  <a:pt x="11857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83080" y="4589640"/>
            <a:ext cx="561960" cy="617400"/>
          </a:xfrm>
          <a:custGeom>
            <a:avLst/>
            <a:gdLst/>
            <a:ahLst/>
            <a:rect l="l" t="t" r="r" b="b"/>
            <a:pathLst>
              <a:path w="1564" h="1712">
                <a:moveTo>
                  <a:pt x="12824" y="12799"/>
                </a:moveTo>
                <a:cubicBezTo>
                  <a:pt x="12753" y="12761"/>
                  <a:pt x="12697" y="12717"/>
                  <a:pt x="12626" y="12774"/>
                </a:cubicBezTo>
                <a:cubicBezTo>
                  <a:pt x="12556" y="12830"/>
                  <a:pt x="12512" y="12918"/>
                  <a:pt x="12477" y="12998"/>
                </a:cubicBezTo>
                <a:cubicBezTo>
                  <a:pt x="12448" y="13063"/>
                  <a:pt x="12418" y="13277"/>
                  <a:pt x="12452" y="13345"/>
                </a:cubicBezTo>
                <a:cubicBezTo>
                  <a:pt x="12489" y="13419"/>
                  <a:pt x="12618" y="13496"/>
                  <a:pt x="12700" y="13494"/>
                </a:cubicBezTo>
                <a:cubicBezTo>
                  <a:pt x="12796" y="13491"/>
                  <a:pt x="12868" y="13460"/>
                  <a:pt x="12948" y="13419"/>
                </a:cubicBezTo>
              </a:path>
              <a:path w="1564" h="1712">
                <a:moveTo>
                  <a:pt x="13146" y="12824"/>
                </a:moveTo>
                <a:cubicBezTo>
                  <a:pt x="13146" y="13001"/>
                  <a:pt x="13149" y="13176"/>
                  <a:pt x="13171" y="13345"/>
                </a:cubicBezTo>
                <a:cubicBezTo>
                  <a:pt x="13171" y="13403"/>
                  <a:pt x="13171" y="13411"/>
                  <a:pt x="13171" y="13444"/>
                </a:cubicBezTo>
              </a:path>
              <a:path w="1564" h="1712">
                <a:moveTo>
                  <a:pt x="13419" y="12799"/>
                </a:moveTo>
                <a:cubicBezTo>
                  <a:pt x="13419" y="12899"/>
                  <a:pt x="13430" y="12978"/>
                  <a:pt x="13469" y="13072"/>
                </a:cubicBezTo>
                <a:cubicBezTo>
                  <a:pt x="13493" y="13131"/>
                  <a:pt x="13509" y="13205"/>
                  <a:pt x="13494" y="13271"/>
                </a:cubicBezTo>
                <a:cubicBezTo>
                  <a:pt x="13482" y="13324"/>
                  <a:pt x="13498" y="13424"/>
                  <a:pt x="13444" y="13419"/>
                </a:cubicBezTo>
                <a:cubicBezTo>
                  <a:pt x="13428" y="13411"/>
                  <a:pt x="13411" y="13403"/>
                  <a:pt x="13395" y="13395"/>
                </a:cubicBezTo>
              </a:path>
              <a:path w="1564" h="1712">
                <a:moveTo>
                  <a:pt x="13221" y="13196"/>
                </a:moveTo>
                <a:cubicBezTo>
                  <a:pt x="13312" y="13196"/>
                  <a:pt x="13403" y="13196"/>
                  <a:pt x="13494" y="13196"/>
                </a:cubicBezTo>
              </a:path>
              <a:path w="1564" h="1712">
                <a:moveTo>
                  <a:pt x="13717" y="13370"/>
                </a:moveTo>
                <a:cubicBezTo>
                  <a:pt x="13757" y="13350"/>
                  <a:pt x="13764" y="13341"/>
                  <a:pt x="13791" y="13345"/>
                </a:cubicBezTo>
                <a:cubicBezTo>
                  <a:pt x="13834" y="13420"/>
                  <a:pt x="13853" y="13437"/>
                  <a:pt x="13767" y="13494"/>
                </a:cubicBezTo>
                <a:cubicBezTo>
                  <a:pt x="13707" y="13534"/>
                  <a:pt x="13675" y="13592"/>
                  <a:pt x="13667" y="13667"/>
                </a:cubicBezTo>
                <a:cubicBezTo>
                  <a:pt x="13658" y="13759"/>
                  <a:pt x="13727" y="13742"/>
                  <a:pt x="13791" y="13742"/>
                </a:cubicBezTo>
                <a:cubicBezTo>
                  <a:pt x="13868" y="13742"/>
                  <a:pt x="13935" y="13717"/>
                  <a:pt x="14015" y="13717"/>
                </a:cubicBezTo>
              </a:path>
              <a:path w="1564" h="1712">
                <a:moveTo>
                  <a:pt x="13271" y="13841"/>
                </a:moveTo>
                <a:cubicBezTo>
                  <a:pt x="13271" y="13933"/>
                  <a:pt x="13290" y="14001"/>
                  <a:pt x="13320" y="14089"/>
                </a:cubicBezTo>
                <a:cubicBezTo>
                  <a:pt x="13347" y="14169"/>
                  <a:pt x="13351" y="14212"/>
                  <a:pt x="13320" y="14288"/>
                </a:cubicBezTo>
                <a:cubicBezTo>
                  <a:pt x="13304" y="14328"/>
                  <a:pt x="13289" y="14403"/>
                  <a:pt x="13271" y="14436"/>
                </a:cubicBezTo>
                <a:cubicBezTo>
                  <a:pt x="13263" y="14444"/>
                  <a:pt x="13254" y="14453"/>
                  <a:pt x="13246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11920" y="4616280"/>
            <a:ext cx="17280" cy="277920"/>
          </a:xfrm>
          <a:custGeom>
            <a:avLst/>
            <a:gdLst/>
            <a:ahLst/>
            <a:rect l="l" t="t" r="r" b="b"/>
            <a:pathLst>
              <a:path w="50" h="770">
                <a:moveTo>
                  <a:pt x="16470" y="12824"/>
                </a:moveTo>
                <a:cubicBezTo>
                  <a:pt x="16441" y="12874"/>
                  <a:pt x="16446" y="12912"/>
                  <a:pt x="16446" y="12973"/>
                </a:cubicBezTo>
                <a:cubicBezTo>
                  <a:pt x="16446" y="13165"/>
                  <a:pt x="16452" y="13359"/>
                  <a:pt x="16421" y="13543"/>
                </a:cubicBezTo>
                <a:cubicBezTo>
                  <a:pt x="16421" y="13560"/>
                  <a:pt x="16421" y="13576"/>
                  <a:pt x="16421" y="13593"/>
                </a:cubicBezTo>
                <a:cubicBezTo>
                  <a:pt x="16421" y="13520"/>
                  <a:pt x="16438" y="13486"/>
                  <a:pt x="16470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53120" y="4572000"/>
            <a:ext cx="3747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17338" y="12824"/>
                </a:moveTo>
                <a:cubicBezTo>
                  <a:pt x="17312" y="12731"/>
                  <a:pt x="17336" y="12752"/>
                  <a:pt x="17413" y="12725"/>
                </a:cubicBezTo>
                <a:cubicBezTo>
                  <a:pt x="17463" y="12707"/>
                  <a:pt x="17531" y="12678"/>
                  <a:pt x="17587" y="12700"/>
                </a:cubicBezTo>
                <a:cubicBezTo>
                  <a:pt x="17666" y="12731"/>
                  <a:pt x="17683" y="12795"/>
                  <a:pt x="17686" y="12874"/>
                </a:cubicBezTo>
                <a:cubicBezTo>
                  <a:pt x="17691" y="12983"/>
                  <a:pt x="17644" y="13092"/>
                  <a:pt x="17611" y="13196"/>
                </a:cubicBezTo>
                <a:cubicBezTo>
                  <a:pt x="17576" y="13306"/>
                  <a:pt x="17527" y="13404"/>
                  <a:pt x="17462" y="13494"/>
                </a:cubicBezTo>
                <a:cubicBezTo>
                  <a:pt x="17408" y="13569"/>
                  <a:pt x="17416" y="13612"/>
                  <a:pt x="17314" y="13618"/>
                </a:cubicBezTo>
                <a:cubicBezTo>
                  <a:pt x="17229" y="13623"/>
                  <a:pt x="17171" y="13616"/>
                  <a:pt x="17115" y="13543"/>
                </a:cubicBezTo>
                <a:cubicBezTo>
                  <a:pt x="17087" y="13506"/>
                  <a:pt x="17073" y="13413"/>
                  <a:pt x="17090" y="13370"/>
                </a:cubicBezTo>
                <a:cubicBezTo>
                  <a:pt x="17122" y="13288"/>
                  <a:pt x="17229" y="13311"/>
                  <a:pt x="17289" y="13295"/>
                </a:cubicBezTo>
                <a:cubicBezTo>
                  <a:pt x="17350" y="13279"/>
                  <a:pt x="17420" y="13253"/>
                  <a:pt x="17487" y="13271"/>
                </a:cubicBezTo>
                <a:cubicBezTo>
                  <a:pt x="17564" y="13292"/>
                  <a:pt x="17637" y="13330"/>
                  <a:pt x="17686" y="13395"/>
                </a:cubicBezTo>
                <a:cubicBezTo>
                  <a:pt x="17738" y="13465"/>
                  <a:pt x="17735" y="13491"/>
                  <a:pt x="17735" y="13568"/>
                </a:cubicBezTo>
                <a:cubicBezTo>
                  <a:pt x="17735" y="13660"/>
                  <a:pt x="17728" y="13590"/>
                  <a:pt x="17760" y="13568"/>
                </a:cubicBezTo>
              </a:path>
              <a:path w="1043" h="919">
                <a:moveTo>
                  <a:pt x="18132" y="13444"/>
                </a:moveTo>
                <a:cubicBezTo>
                  <a:pt x="18132" y="13504"/>
                  <a:pt x="18102" y="13510"/>
                  <a:pt x="18083" y="13568"/>
                </a:cubicBezTo>
                <a:cubicBezTo>
                  <a:pt x="18083" y="13596"/>
                  <a:pt x="18081" y="13607"/>
                  <a:pt x="18058" y="13618"/>
                </a:cubicBezTo>
                <a:cubicBezTo>
                  <a:pt x="18058" y="13552"/>
                  <a:pt x="18059" y="13530"/>
                  <a:pt x="18033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13720" y="4545000"/>
            <a:ext cx="1276200" cy="473040"/>
          </a:xfrm>
          <a:custGeom>
            <a:avLst/>
            <a:gdLst/>
            <a:ahLst/>
            <a:rect l="l" t="t" r="r" b="b"/>
            <a:pathLst>
              <a:path w="3548" h="1315">
                <a:moveTo>
                  <a:pt x="19273" y="12874"/>
                </a:moveTo>
                <a:cubicBezTo>
                  <a:pt x="19255" y="12831"/>
                  <a:pt x="19248" y="12755"/>
                  <a:pt x="19199" y="12750"/>
                </a:cubicBezTo>
                <a:cubicBezTo>
                  <a:pt x="19152" y="12745"/>
                  <a:pt x="19029" y="12742"/>
                  <a:pt x="19000" y="12799"/>
                </a:cubicBezTo>
                <a:cubicBezTo>
                  <a:pt x="18970" y="12859"/>
                  <a:pt x="18938" y="12913"/>
                  <a:pt x="18926" y="12998"/>
                </a:cubicBezTo>
                <a:cubicBezTo>
                  <a:pt x="18909" y="13116"/>
                  <a:pt x="18922" y="13205"/>
                  <a:pt x="18976" y="13295"/>
                </a:cubicBezTo>
                <a:cubicBezTo>
                  <a:pt x="19008" y="13348"/>
                  <a:pt x="19046" y="13409"/>
                  <a:pt x="19100" y="13444"/>
                </a:cubicBezTo>
                <a:cubicBezTo>
                  <a:pt x="19182" y="13497"/>
                  <a:pt x="19220" y="13449"/>
                  <a:pt x="19298" y="13419"/>
                </a:cubicBezTo>
                <a:cubicBezTo>
                  <a:pt x="19417" y="13373"/>
                  <a:pt x="19406" y="13411"/>
                  <a:pt x="19496" y="13320"/>
                </a:cubicBezTo>
              </a:path>
              <a:path w="3548" h="1315">
                <a:moveTo>
                  <a:pt x="19844" y="13097"/>
                </a:moveTo>
                <a:cubicBezTo>
                  <a:pt x="19915" y="13097"/>
                  <a:pt x="20065" y="13124"/>
                  <a:pt x="20117" y="13072"/>
                </a:cubicBezTo>
                <a:cubicBezTo>
                  <a:pt x="20117" y="13064"/>
                  <a:pt x="20117" y="13055"/>
                  <a:pt x="20117" y="13047"/>
                </a:cubicBezTo>
              </a:path>
              <a:path w="3548" h="1315">
                <a:moveTo>
                  <a:pt x="19869" y="12824"/>
                </a:moveTo>
                <a:cubicBezTo>
                  <a:pt x="19895" y="12888"/>
                  <a:pt x="19893" y="12928"/>
                  <a:pt x="19893" y="12998"/>
                </a:cubicBezTo>
                <a:cubicBezTo>
                  <a:pt x="19893" y="13155"/>
                  <a:pt x="19835" y="13577"/>
                  <a:pt x="19918" y="13444"/>
                </a:cubicBezTo>
                <a:cubicBezTo>
                  <a:pt x="19926" y="13419"/>
                  <a:pt x="19935" y="13395"/>
                  <a:pt x="19943" y="13370"/>
                </a:cubicBezTo>
              </a:path>
              <a:path w="3548" h="1315">
                <a:moveTo>
                  <a:pt x="20191" y="12824"/>
                </a:moveTo>
                <a:cubicBezTo>
                  <a:pt x="20191" y="12898"/>
                  <a:pt x="20175" y="12981"/>
                  <a:pt x="20216" y="13047"/>
                </a:cubicBezTo>
                <a:cubicBezTo>
                  <a:pt x="20251" y="13103"/>
                  <a:pt x="20236" y="13162"/>
                  <a:pt x="20265" y="13221"/>
                </a:cubicBezTo>
                <a:cubicBezTo>
                  <a:pt x="20286" y="13264"/>
                  <a:pt x="20312" y="13326"/>
                  <a:pt x="20315" y="13370"/>
                </a:cubicBezTo>
                <a:cubicBezTo>
                  <a:pt x="20322" y="13472"/>
                  <a:pt x="20303" y="13436"/>
                  <a:pt x="20265" y="13370"/>
                </a:cubicBezTo>
              </a:path>
              <a:path w="3548" h="1315">
                <a:moveTo>
                  <a:pt x="20712" y="13469"/>
                </a:moveTo>
                <a:cubicBezTo>
                  <a:pt x="20754" y="13463"/>
                  <a:pt x="20814" y="13425"/>
                  <a:pt x="20861" y="13444"/>
                </a:cubicBezTo>
                <a:cubicBezTo>
                  <a:pt x="20869" y="13452"/>
                  <a:pt x="20878" y="13461"/>
                  <a:pt x="20886" y="13469"/>
                </a:cubicBezTo>
                <a:cubicBezTo>
                  <a:pt x="20874" y="13529"/>
                  <a:pt x="20842" y="13567"/>
                  <a:pt x="20811" y="13618"/>
                </a:cubicBezTo>
                <a:cubicBezTo>
                  <a:pt x="20803" y="13634"/>
                  <a:pt x="20794" y="13651"/>
                  <a:pt x="20786" y="13667"/>
                </a:cubicBezTo>
                <a:cubicBezTo>
                  <a:pt x="20831" y="13678"/>
                  <a:pt x="20893" y="13713"/>
                  <a:pt x="20935" y="13742"/>
                </a:cubicBezTo>
                <a:cubicBezTo>
                  <a:pt x="20994" y="13783"/>
                  <a:pt x="20941" y="13850"/>
                  <a:pt x="20910" y="13891"/>
                </a:cubicBezTo>
                <a:cubicBezTo>
                  <a:pt x="20875" y="13937"/>
                  <a:pt x="20802" y="13967"/>
                  <a:pt x="20762" y="13915"/>
                </a:cubicBezTo>
                <a:cubicBezTo>
                  <a:pt x="20734" y="13860"/>
                  <a:pt x="20726" y="13837"/>
                  <a:pt x="20737" y="13791"/>
                </a:cubicBezTo>
              </a:path>
              <a:path w="3548" h="1315">
                <a:moveTo>
                  <a:pt x="21084" y="13022"/>
                </a:moveTo>
                <a:cubicBezTo>
                  <a:pt x="21148" y="12985"/>
                  <a:pt x="21157" y="13036"/>
                  <a:pt x="21208" y="13022"/>
                </a:cubicBezTo>
                <a:cubicBezTo>
                  <a:pt x="21250" y="13010"/>
                  <a:pt x="21276" y="12997"/>
                  <a:pt x="21307" y="12973"/>
                </a:cubicBezTo>
              </a:path>
              <a:path w="3548" h="1315">
                <a:moveTo>
                  <a:pt x="21779" y="12750"/>
                </a:moveTo>
                <a:cubicBezTo>
                  <a:pt x="21692" y="12713"/>
                  <a:pt x="21703" y="12728"/>
                  <a:pt x="21654" y="12799"/>
                </a:cubicBezTo>
                <a:cubicBezTo>
                  <a:pt x="21612" y="12860"/>
                  <a:pt x="21630" y="12946"/>
                  <a:pt x="21630" y="13022"/>
                </a:cubicBezTo>
                <a:cubicBezTo>
                  <a:pt x="21630" y="13096"/>
                  <a:pt x="21614" y="13181"/>
                  <a:pt x="21654" y="13246"/>
                </a:cubicBezTo>
                <a:cubicBezTo>
                  <a:pt x="21691" y="13306"/>
                  <a:pt x="21701" y="13367"/>
                  <a:pt x="21803" y="13345"/>
                </a:cubicBezTo>
                <a:cubicBezTo>
                  <a:pt x="21853" y="13320"/>
                  <a:pt x="21869" y="13312"/>
                  <a:pt x="21878" y="13271"/>
                </a:cubicBezTo>
              </a:path>
              <a:path w="3548" h="1315">
                <a:moveTo>
                  <a:pt x="22076" y="12650"/>
                </a:moveTo>
                <a:cubicBezTo>
                  <a:pt x="22076" y="12730"/>
                  <a:pt x="22097" y="12796"/>
                  <a:pt x="22101" y="12874"/>
                </a:cubicBezTo>
                <a:cubicBezTo>
                  <a:pt x="22105" y="12953"/>
                  <a:pt x="22126" y="13016"/>
                  <a:pt x="22126" y="13097"/>
                </a:cubicBezTo>
                <a:cubicBezTo>
                  <a:pt x="22126" y="13144"/>
                  <a:pt x="22106" y="13176"/>
                  <a:pt x="22101" y="13221"/>
                </a:cubicBezTo>
                <a:cubicBezTo>
                  <a:pt x="22101" y="13246"/>
                  <a:pt x="22101" y="13254"/>
                  <a:pt x="22126" y="13246"/>
                </a:cubicBezTo>
              </a:path>
              <a:path w="3548" h="1315">
                <a:moveTo>
                  <a:pt x="22349" y="12626"/>
                </a:moveTo>
                <a:cubicBezTo>
                  <a:pt x="22349" y="12733"/>
                  <a:pt x="22359" y="12820"/>
                  <a:pt x="22374" y="12923"/>
                </a:cubicBezTo>
                <a:cubicBezTo>
                  <a:pt x="22385" y="13001"/>
                  <a:pt x="22397" y="13050"/>
                  <a:pt x="22423" y="13122"/>
                </a:cubicBezTo>
                <a:cubicBezTo>
                  <a:pt x="22438" y="13164"/>
                  <a:pt x="22421" y="13181"/>
                  <a:pt x="22399" y="13196"/>
                </a:cubicBezTo>
              </a:path>
              <a:path w="3548" h="1315">
                <a:moveTo>
                  <a:pt x="22200" y="12973"/>
                </a:moveTo>
                <a:cubicBezTo>
                  <a:pt x="22264" y="12949"/>
                  <a:pt x="22305" y="12948"/>
                  <a:pt x="22374" y="12948"/>
                </a:cubicBezTo>
                <a:cubicBezTo>
                  <a:pt x="22423" y="12948"/>
                  <a:pt x="22440" y="12948"/>
                  <a:pt x="22473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51920" y="4554360"/>
            <a:ext cx="892080" cy="482760"/>
          </a:xfrm>
          <a:custGeom>
            <a:avLst/>
            <a:gdLst/>
            <a:ahLst/>
            <a:rect l="l" t="t" r="r" b="b"/>
            <a:pathLst>
              <a:path w="2481" h="1341">
                <a:moveTo>
                  <a:pt x="22920" y="12998"/>
                </a:moveTo>
                <a:cubicBezTo>
                  <a:pt x="22955" y="12955"/>
                  <a:pt x="22983" y="12927"/>
                  <a:pt x="23044" y="12923"/>
                </a:cubicBezTo>
                <a:cubicBezTo>
                  <a:pt x="23060" y="12923"/>
                  <a:pt x="23077" y="12923"/>
                  <a:pt x="23093" y="12923"/>
                </a:cubicBezTo>
              </a:path>
              <a:path w="2481" h="1341">
                <a:moveTo>
                  <a:pt x="23440" y="12725"/>
                </a:moveTo>
                <a:cubicBezTo>
                  <a:pt x="23384" y="12736"/>
                  <a:pt x="23356" y="12758"/>
                  <a:pt x="23316" y="12799"/>
                </a:cubicBezTo>
                <a:cubicBezTo>
                  <a:pt x="23268" y="12848"/>
                  <a:pt x="23246" y="12932"/>
                  <a:pt x="23242" y="12998"/>
                </a:cubicBezTo>
                <a:cubicBezTo>
                  <a:pt x="23239" y="13060"/>
                  <a:pt x="23232" y="13123"/>
                  <a:pt x="23267" y="13171"/>
                </a:cubicBezTo>
                <a:cubicBezTo>
                  <a:pt x="23301" y="13218"/>
                  <a:pt x="23362" y="13254"/>
                  <a:pt x="23416" y="13271"/>
                </a:cubicBezTo>
                <a:cubicBezTo>
                  <a:pt x="23440" y="13271"/>
                  <a:pt x="23449" y="13271"/>
                  <a:pt x="23465" y="13271"/>
                </a:cubicBezTo>
              </a:path>
              <a:path w="2481" h="1341">
                <a:moveTo>
                  <a:pt x="23713" y="12675"/>
                </a:moveTo>
                <a:cubicBezTo>
                  <a:pt x="23742" y="12746"/>
                  <a:pt x="23763" y="12775"/>
                  <a:pt x="23763" y="12849"/>
                </a:cubicBezTo>
                <a:cubicBezTo>
                  <a:pt x="23763" y="12933"/>
                  <a:pt x="23742" y="12993"/>
                  <a:pt x="23738" y="13072"/>
                </a:cubicBezTo>
                <a:cubicBezTo>
                  <a:pt x="23734" y="13136"/>
                  <a:pt x="23736" y="13161"/>
                  <a:pt x="23713" y="13221"/>
                </a:cubicBezTo>
              </a:path>
              <a:path w="2481" h="1341">
                <a:moveTo>
                  <a:pt x="23961" y="12750"/>
                </a:moveTo>
                <a:cubicBezTo>
                  <a:pt x="23961" y="12868"/>
                  <a:pt x="23927" y="13074"/>
                  <a:pt x="23986" y="13171"/>
                </a:cubicBezTo>
              </a:path>
              <a:path w="2481" h="1341">
                <a:moveTo>
                  <a:pt x="23812" y="13047"/>
                </a:moveTo>
                <a:cubicBezTo>
                  <a:pt x="23856" y="13014"/>
                  <a:pt x="23879" y="13022"/>
                  <a:pt x="23937" y="13022"/>
                </a:cubicBezTo>
                <a:cubicBezTo>
                  <a:pt x="23980" y="13022"/>
                  <a:pt x="24007" y="12977"/>
                  <a:pt x="24036" y="12948"/>
                </a:cubicBezTo>
              </a:path>
              <a:path w="2481" h="1341">
                <a:moveTo>
                  <a:pt x="24135" y="13370"/>
                </a:moveTo>
                <a:cubicBezTo>
                  <a:pt x="24199" y="13370"/>
                  <a:pt x="24289" y="13341"/>
                  <a:pt x="24309" y="13419"/>
                </a:cubicBezTo>
                <a:cubicBezTo>
                  <a:pt x="24329" y="13499"/>
                  <a:pt x="24234" y="13530"/>
                  <a:pt x="24185" y="13568"/>
                </a:cubicBezTo>
                <a:cubicBezTo>
                  <a:pt x="24125" y="13615"/>
                  <a:pt x="24095" y="13649"/>
                  <a:pt x="24085" y="13717"/>
                </a:cubicBezTo>
                <a:cubicBezTo>
                  <a:pt x="24173" y="13717"/>
                  <a:pt x="24260" y="13708"/>
                  <a:pt x="24333" y="13692"/>
                </a:cubicBezTo>
                <a:cubicBezTo>
                  <a:pt x="24392" y="13679"/>
                  <a:pt x="24392" y="13715"/>
                  <a:pt x="24408" y="13667"/>
                </a:cubicBezTo>
              </a:path>
              <a:path w="2481" h="1341">
                <a:moveTo>
                  <a:pt x="24284" y="13022"/>
                </a:moveTo>
                <a:cubicBezTo>
                  <a:pt x="24346" y="13022"/>
                  <a:pt x="24375" y="13003"/>
                  <a:pt x="24433" y="12998"/>
                </a:cubicBezTo>
                <a:cubicBezTo>
                  <a:pt x="24521" y="12991"/>
                  <a:pt x="24485" y="13016"/>
                  <a:pt x="24557" y="12923"/>
                </a:cubicBezTo>
              </a:path>
              <a:path w="2481" h="1341">
                <a:moveTo>
                  <a:pt x="24954" y="12700"/>
                </a:moveTo>
                <a:cubicBezTo>
                  <a:pt x="24954" y="12683"/>
                  <a:pt x="24954" y="12667"/>
                  <a:pt x="24954" y="12650"/>
                </a:cubicBezTo>
                <a:cubicBezTo>
                  <a:pt x="24867" y="12700"/>
                  <a:pt x="24841" y="12773"/>
                  <a:pt x="24780" y="12849"/>
                </a:cubicBezTo>
                <a:cubicBezTo>
                  <a:pt x="24735" y="12905"/>
                  <a:pt x="24672" y="12963"/>
                  <a:pt x="24705" y="13047"/>
                </a:cubicBezTo>
                <a:cubicBezTo>
                  <a:pt x="24724" y="13096"/>
                  <a:pt x="24780" y="13207"/>
                  <a:pt x="24805" y="13246"/>
                </a:cubicBezTo>
                <a:cubicBezTo>
                  <a:pt x="24851" y="13292"/>
                  <a:pt x="24863" y="13306"/>
                  <a:pt x="24904" y="13320"/>
                </a:cubicBezTo>
              </a:path>
              <a:path w="2481" h="1341">
                <a:moveTo>
                  <a:pt x="25127" y="12700"/>
                </a:moveTo>
                <a:cubicBezTo>
                  <a:pt x="25120" y="12779"/>
                  <a:pt x="25102" y="12842"/>
                  <a:pt x="25102" y="12923"/>
                </a:cubicBezTo>
                <a:cubicBezTo>
                  <a:pt x="25102" y="12988"/>
                  <a:pt x="25082" y="13037"/>
                  <a:pt x="25078" y="13097"/>
                </a:cubicBezTo>
                <a:cubicBezTo>
                  <a:pt x="25074" y="13154"/>
                  <a:pt x="25078" y="13213"/>
                  <a:pt x="25078" y="13271"/>
                </a:cubicBezTo>
              </a:path>
              <a:path w="2481" h="1341">
                <a:moveTo>
                  <a:pt x="25326" y="12725"/>
                </a:moveTo>
                <a:cubicBezTo>
                  <a:pt x="25326" y="12793"/>
                  <a:pt x="25313" y="12845"/>
                  <a:pt x="25301" y="12898"/>
                </a:cubicBezTo>
                <a:cubicBezTo>
                  <a:pt x="25285" y="12974"/>
                  <a:pt x="25286" y="13080"/>
                  <a:pt x="25276" y="13146"/>
                </a:cubicBezTo>
                <a:cubicBezTo>
                  <a:pt x="25276" y="13171"/>
                  <a:pt x="25276" y="13196"/>
                  <a:pt x="25276" y="13221"/>
                </a:cubicBezTo>
              </a:path>
              <a:path w="2481" h="1341">
                <a:moveTo>
                  <a:pt x="25078" y="12998"/>
                </a:moveTo>
                <a:cubicBezTo>
                  <a:pt x="25133" y="13041"/>
                  <a:pt x="25158" y="13047"/>
                  <a:pt x="25226" y="13047"/>
                </a:cubicBezTo>
                <a:cubicBezTo>
                  <a:pt x="25234" y="13047"/>
                  <a:pt x="25243" y="13047"/>
                  <a:pt x="25251" y="13047"/>
                </a:cubicBezTo>
              </a:path>
              <a:path w="2481" h="1341">
                <a:moveTo>
                  <a:pt x="25326" y="13543"/>
                </a:moveTo>
                <a:cubicBezTo>
                  <a:pt x="25346" y="13503"/>
                  <a:pt x="25344" y="13487"/>
                  <a:pt x="25375" y="13494"/>
                </a:cubicBezTo>
                <a:cubicBezTo>
                  <a:pt x="25383" y="13498"/>
                  <a:pt x="25397" y="13537"/>
                  <a:pt x="25375" y="13568"/>
                </a:cubicBezTo>
                <a:cubicBezTo>
                  <a:pt x="25334" y="13627"/>
                  <a:pt x="25276" y="13646"/>
                  <a:pt x="25226" y="13692"/>
                </a:cubicBezTo>
                <a:cubicBezTo>
                  <a:pt x="25218" y="13700"/>
                  <a:pt x="25210" y="13709"/>
                  <a:pt x="25202" y="13717"/>
                </a:cubicBezTo>
                <a:cubicBezTo>
                  <a:pt x="25248" y="13737"/>
                  <a:pt x="25342" y="13738"/>
                  <a:pt x="25350" y="13791"/>
                </a:cubicBezTo>
                <a:cubicBezTo>
                  <a:pt x="25357" y="13838"/>
                  <a:pt x="25357" y="13882"/>
                  <a:pt x="25326" y="13915"/>
                </a:cubicBezTo>
                <a:cubicBezTo>
                  <a:pt x="25283" y="13962"/>
                  <a:pt x="25248" y="14011"/>
                  <a:pt x="25177" y="13990"/>
                </a:cubicBezTo>
                <a:cubicBezTo>
                  <a:pt x="25131" y="13976"/>
                  <a:pt x="25109" y="13947"/>
                  <a:pt x="25078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9640" y="5000760"/>
            <a:ext cx="992160" cy="687240"/>
          </a:xfrm>
          <a:custGeom>
            <a:avLst/>
            <a:gdLst/>
            <a:ahLst/>
            <a:rect l="l" t="t" r="r" b="b"/>
            <a:pathLst>
              <a:path w="2755" h="1911">
                <a:moveTo>
                  <a:pt x="11286" y="15156"/>
                </a:moveTo>
                <a:cubicBezTo>
                  <a:pt x="11313" y="15237"/>
                  <a:pt x="11387" y="15205"/>
                  <a:pt x="11485" y="15205"/>
                </a:cubicBezTo>
                <a:cubicBezTo>
                  <a:pt x="11671" y="15205"/>
                  <a:pt x="11846" y="15189"/>
                  <a:pt x="12030" y="15156"/>
                </a:cubicBezTo>
                <a:cubicBezTo>
                  <a:pt x="12098" y="15144"/>
                  <a:pt x="12271" y="15140"/>
                  <a:pt x="12229" y="15056"/>
                </a:cubicBezTo>
              </a:path>
              <a:path w="2755" h="1911">
                <a:moveTo>
                  <a:pt x="9823" y="15032"/>
                </a:moveTo>
                <a:cubicBezTo>
                  <a:pt x="9791" y="15011"/>
                  <a:pt x="9738" y="14924"/>
                  <a:pt x="9699" y="14932"/>
                </a:cubicBezTo>
                <a:cubicBezTo>
                  <a:pt x="9666" y="14939"/>
                  <a:pt x="9562" y="15003"/>
                  <a:pt x="9550" y="15032"/>
                </a:cubicBezTo>
                <a:cubicBezTo>
                  <a:pt x="9520" y="15101"/>
                  <a:pt x="9503" y="15203"/>
                  <a:pt x="9500" y="15280"/>
                </a:cubicBezTo>
                <a:cubicBezTo>
                  <a:pt x="9497" y="15369"/>
                  <a:pt x="9482" y="15459"/>
                  <a:pt x="9550" y="15528"/>
                </a:cubicBezTo>
                <a:cubicBezTo>
                  <a:pt x="9614" y="15592"/>
                  <a:pt x="9724" y="15596"/>
                  <a:pt x="9798" y="15577"/>
                </a:cubicBezTo>
                <a:cubicBezTo>
                  <a:pt x="9872" y="15553"/>
                  <a:pt x="9897" y="15545"/>
                  <a:pt x="9947" y="15528"/>
                </a:cubicBezTo>
              </a:path>
              <a:path w="2755" h="1911">
                <a:moveTo>
                  <a:pt x="10071" y="15032"/>
                </a:moveTo>
                <a:cubicBezTo>
                  <a:pt x="10094" y="15069"/>
                  <a:pt x="10111" y="15130"/>
                  <a:pt x="10096" y="15180"/>
                </a:cubicBezTo>
                <a:cubicBezTo>
                  <a:pt x="10079" y="15238"/>
                  <a:pt x="10042" y="15341"/>
                  <a:pt x="10071" y="15404"/>
                </a:cubicBezTo>
                <a:cubicBezTo>
                  <a:pt x="10088" y="15442"/>
                  <a:pt x="10118" y="15494"/>
                  <a:pt x="10145" y="15503"/>
                </a:cubicBezTo>
              </a:path>
              <a:path w="2755" h="1911">
                <a:moveTo>
                  <a:pt x="10393" y="15007"/>
                </a:moveTo>
                <a:cubicBezTo>
                  <a:pt x="10393" y="15072"/>
                  <a:pt x="10383" y="15097"/>
                  <a:pt x="10368" y="15156"/>
                </a:cubicBezTo>
                <a:cubicBezTo>
                  <a:pt x="10347" y="15240"/>
                  <a:pt x="10379" y="15335"/>
                  <a:pt x="10393" y="15404"/>
                </a:cubicBezTo>
                <a:cubicBezTo>
                  <a:pt x="10396" y="15420"/>
                  <a:pt x="10393" y="15587"/>
                  <a:pt x="10393" y="15453"/>
                </a:cubicBezTo>
              </a:path>
              <a:path w="2755" h="1911">
                <a:moveTo>
                  <a:pt x="10096" y="15255"/>
                </a:moveTo>
                <a:cubicBezTo>
                  <a:pt x="10142" y="15219"/>
                  <a:pt x="10183" y="15230"/>
                  <a:pt x="10244" y="15230"/>
                </a:cubicBezTo>
                <a:cubicBezTo>
                  <a:pt x="10302" y="15230"/>
                  <a:pt x="10327" y="15230"/>
                  <a:pt x="10368" y="15230"/>
                </a:cubicBezTo>
              </a:path>
              <a:path w="2755" h="1911">
                <a:moveTo>
                  <a:pt x="10691" y="15404"/>
                </a:moveTo>
                <a:cubicBezTo>
                  <a:pt x="10729" y="15375"/>
                  <a:pt x="10780" y="15362"/>
                  <a:pt x="10790" y="15429"/>
                </a:cubicBezTo>
                <a:cubicBezTo>
                  <a:pt x="10801" y="15507"/>
                  <a:pt x="10751" y="15523"/>
                  <a:pt x="10716" y="15577"/>
                </a:cubicBezTo>
                <a:cubicBezTo>
                  <a:pt x="10690" y="15618"/>
                  <a:pt x="10608" y="15686"/>
                  <a:pt x="10592" y="15726"/>
                </a:cubicBezTo>
                <a:cubicBezTo>
                  <a:pt x="10557" y="15812"/>
                  <a:pt x="10671" y="15801"/>
                  <a:pt x="10716" y="15801"/>
                </a:cubicBezTo>
                <a:cubicBezTo>
                  <a:pt x="10785" y="15801"/>
                  <a:pt x="10839" y="15771"/>
                  <a:pt x="10889" y="15726"/>
                </a:cubicBezTo>
                <a:cubicBezTo>
                  <a:pt x="10897" y="15718"/>
                  <a:pt x="10906" y="15709"/>
                  <a:pt x="10914" y="15701"/>
                </a:cubicBezTo>
              </a:path>
              <a:path w="2755" h="1911">
                <a:moveTo>
                  <a:pt x="10096" y="13891"/>
                </a:moveTo>
                <a:cubicBezTo>
                  <a:pt x="10096" y="14073"/>
                  <a:pt x="10096" y="14254"/>
                  <a:pt x="10096" y="14436"/>
                </a:cubicBezTo>
                <a:cubicBezTo>
                  <a:pt x="10124" y="14408"/>
                  <a:pt x="10132" y="14395"/>
                  <a:pt x="10120" y="143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89640" y="5313240"/>
            <a:ext cx="617400" cy="401760"/>
          </a:xfrm>
          <a:custGeom>
            <a:avLst/>
            <a:gdLst/>
            <a:ahLst/>
            <a:rect l="l" t="t" r="r" b="b"/>
            <a:pathLst>
              <a:path w="1712" h="1117">
                <a:moveTo>
                  <a:pt x="13122" y="14908"/>
                </a:moveTo>
                <a:cubicBezTo>
                  <a:pt x="13071" y="14867"/>
                  <a:pt x="13036" y="14837"/>
                  <a:pt x="12973" y="14833"/>
                </a:cubicBezTo>
                <a:cubicBezTo>
                  <a:pt x="12878" y="14827"/>
                  <a:pt x="12853" y="14852"/>
                  <a:pt x="12799" y="14932"/>
                </a:cubicBezTo>
                <a:cubicBezTo>
                  <a:pt x="12735" y="15028"/>
                  <a:pt x="12735" y="15195"/>
                  <a:pt x="12750" y="15304"/>
                </a:cubicBezTo>
                <a:cubicBezTo>
                  <a:pt x="12770" y="15447"/>
                  <a:pt x="12866" y="15523"/>
                  <a:pt x="12973" y="15577"/>
                </a:cubicBezTo>
                <a:cubicBezTo>
                  <a:pt x="13085" y="15633"/>
                  <a:pt x="13165" y="15577"/>
                  <a:pt x="13271" y="15528"/>
                </a:cubicBezTo>
              </a:path>
              <a:path w="1712" h="1117">
                <a:moveTo>
                  <a:pt x="13568" y="14833"/>
                </a:moveTo>
                <a:cubicBezTo>
                  <a:pt x="13568" y="14972"/>
                  <a:pt x="13568" y="15418"/>
                  <a:pt x="13568" y="15379"/>
                </a:cubicBezTo>
              </a:path>
              <a:path w="1712" h="1117">
                <a:moveTo>
                  <a:pt x="13866" y="14759"/>
                </a:moveTo>
                <a:cubicBezTo>
                  <a:pt x="13855" y="14861"/>
                  <a:pt x="13841" y="14950"/>
                  <a:pt x="13841" y="15056"/>
                </a:cubicBezTo>
                <a:cubicBezTo>
                  <a:pt x="13841" y="15158"/>
                  <a:pt x="13866" y="15251"/>
                  <a:pt x="13866" y="15354"/>
                </a:cubicBezTo>
                <a:cubicBezTo>
                  <a:pt x="13866" y="15416"/>
                  <a:pt x="13903" y="15666"/>
                  <a:pt x="13841" y="15503"/>
                </a:cubicBezTo>
              </a:path>
              <a:path w="1712" h="1117">
                <a:moveTo>
                  <a:pt x="13643" y="15230"/>
                </a:moveTo>
                <a:cubicBezTo>
                  <a:pt x="13734" y="15230"/>
                  <a:pt x="13824" y="15230"/>
                  <a:pt x="13915" y="15230"/>
                </a:cubicBezTo>
              </a:path>
              <a:path w="1712" h="1117">
                <a:moveTo>
                  <a:pt x="14139" y="15429"/>
                </a:moveTo>
                <a:cubicBezTo>
                  <a:pt x="14198" y="15384"/>
                  <a:pt x="14293" y="15341"/>
                  <a:pt x="14312" y="15478"/>
                </a:cubicBezTo>
                <a:cubicBezTo>
                  <a:pt x="14320" y="15536"/>
                  <a:pt x="14278" y="15585"/>
                  <a:pt x="14238" y="15627"/>
                </a:cubicBezTo>
                <a:cubicBezTo>
                  <a:pt x="14192" y="15676"/>
                  <a:pt x="14105" y="15724"/>
                  <a:pt x="14064" y="15776"/>
                </a:cubicBezTo>
                <a:cubicBezTo>
                  <a:pt x="14064" y="15784"/>
                  <a:pt x="14064" y="15793"/>
                  <a:pt x="14064" y="15801"/>
                </a:cubicBezTo>
                <a:cubicBezTo>
                  <a:pt x="14089" y="15888"/>
                  <a:pt x="14121" y="15875"/>
                  <a:pt x="14213" y="15875"/>
                </a:cubicBezTo>
                <a:cubicBezTo>
                  <a:pt x="14316" y="15875"/>
                  <a:pt x="14370" y="15871"/>
                  <a:pt x="14461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5000" y="5527800"/>
            <a:ext cx="2411280" cy="1303200"/>
          </a:xfrm>
          <a:custGeom>
            <a:avLst/>
            <a:gdLst/>
            <a:ahLst/>
            <a:rect l="l" t="t" r="r" b="b"/>
            <a:pathLst>
              <a:path w="6698" h="3623">
                <a:moveTo>
                  <a:pt x="14982" y="16321"/>
                </a:moveTo>
                <a:cubicBezTo>
                  <a:pt x="14924" y="16379"/>
                  <a:pt x="14954" y="16402"/>
                  <a:pt x="14908" y="16470"/>
                </a:cubicBezTo>
                <a:cubicBezTo>
                  <a:pt x="14849" y="16558"/>
                  <a:pt x="14790" y="16662"/>
                  <a:pt x="14734" y="16743"/>
                </a:cubicBezTo>
                <a:cubicBezTo>
                  <a:pt x="14656" y="16855"/>
                  <a:pt x="14563" y="16995"/>
                  <a:pt x="14461" y="17090"/>
                </a:cubicBezTo>
                <a:cubicBezTo>
                  <a:pt x="14412" y="17135"/>
                  <a:pt x="14289" y="17207"/>
                  <a:pt x="14263" y="17264"/>
                </a:cubicBezTo>
                <a:cubicBezTo>
                  <a:pt x="14209" y="17381"/>
                  <a:pt x="14358" y="17233"/>
                  <a:pt x="14387" y="17214"/>
                </a:cubicBezTo>
              </a:path>
              <a:path w="6698" h="3623">
                <a:moveTo>
                  <a:pt x="15156" y="16396"/>
                </a:moveTo>
                <a:cubicBezTo>
                  <a:pt x="15156" y="16388"/>
                  <a:pt x="15156" y="16379"/>
                  <a:pt x="15156" y="16371"/>
                </a:cubicBezTo>
                <a:cubicBezTo>
                  <a:pt x="15118" y="16434"/>
                  <a:pt x="15146" y="16473"/>
                  <a:pt x="15205" y="16520"/>
                </a:cubicBezTo>
                <a:cubicBezTo>
                  <a:pt x="15270" y="16572"/>
                  <a:pt x="15327" y="16654"/>
                  <a:pt x="15404" y="16694"/>
                </a:cubicBezTo>
                <a:cubicBezTo>
                  <a:pt x="15496" y="16742"/>
                  <a:pt x="15558" y="16820"/>
                  <a:pt x="15652" y="16867"/>
                </a:cubicBezTo>
                <a:cubicBezTo>
                  <a:pt x="15727" y="16905"/>
                  <a:pt x="15803" y="16923"/>
                  <a:pt x="15875" y="16966"/>
                </a:cubicBezTo>
                <a:cubicBezTo>
                  <a:pt x="15973" y="17024"/>
                  <a:pt x="15875" y="16991"/>
                  <a:pt x="15825" y="16991"/>
                </a:cubicBezTo>
              </a:path>
              <a:path w="6698" h="3623">
                <a:moveTo>
                  <a:pt x="14312" y="17388"/>
                </a:moveTo>
                <a:cubicBezTo>
                  <a:pt x="14354" y="17399"/>
                  <a:pt x="14403" y="17435"/>
                  <a:pt x="14412" y="17487"/>
                </a:cubicBezTo>
                <a:cubicBezTo>
                  <a:pt x="14429" y="17579"/>
                  <a:pt x="14460" y="17669"/>
                  <a:pt x="14486" y="17760"/>
                </a:cubicBezTo>
                <a:cubicBezTo>
                  <a:pt x="14509" y="17839"/>
                  <a:pt x="14511" y="17894"/>
                  <a:pt x="14511" y="17983"/>
                </a:cubicBezTo>
                <a:cubicBezTo>
                  <a:pt x="14511" y="18005"/>
                  <a:pt x="14511" y="18094"/>
                  <a:pt x="14511" y="17983"/>
                </a:cubicBezTo>
              </a:path>
              <a:path w="6698" h="3623">
                <a:moveTo>
                  <a:pt x="14585" y="17909"/>
                </a:moveTo>
                <a:cubicBezTo>
                  <a:pt x="14616" y="17926"/>
                  <a:pt x="14716" y="17946"/>
                  <a:pt x="14734" y="17959"/>
                </a:cubicBezTo>
                <a:cubicBezTo>
                  <a:pt x="14783" y="17995"/>
                  <a:pt x="14864" y="18058"/>
                  <a:pt x="14932" y="18083"/>
                </a:cubicBezTo>
                <a:cubicBezTo>
                  <a:pt x="15023" y="18117"/>
                  <a:pt x="15138" y="18130"/>
                  <a:pt x="15230" y="18157"/>
                </a:cubicBezTo>
                <a:cubicBezTo>
                  <a:pt x="15296" y="18176"/>
                  <a:pt x="15345" y="18196"/>
                  <a:pt x="15404" y="18231"/>
                </a:cubicBezTo>
                <a:cubicBezTo>
                  <a:pt x="15420" y="18239"/>
                  <a:pt x="15437" y="18248"/>
                  <a:pt x="15453" y="18256"/>
                </a:cubicBezTo>
                <a:cubicBezTo>
                  <a:pt x="15465" y="18172"/>
                  <a:pt x="15500" y="18171"/>
                  <a:pt x="15577" y="18132"/>
                </a:cubicBezTo>
                <a:cubicBezTo>
                  <a:pt x="15655" y="18093"/>
                  <a:pt x="15716" y="18012"/>
                  <a:pt x="15801" y="17983"/>
                </a:cubicBezTo>
                <a:cubicBezTo>
                  <a:pt x="15857" y="17964"/>
                  <a:pt x="15922" y="17935"/>
                  <a:pt x="15974" y="17909"/>
                </a:cubicBezTo>
                <a:cubicBezTo>
                  <a:pt x="16063" y="17864"/>
                  <a:pt x="16034" y="17850"/>
                  <a:pt x="16024" y="17835"/>
                </a:cubicBezTo>
                <a:cubicBezTo>
                  <a:pt x="16024" y="17827"/>
                  <a:pt x="16024" y="17818"/>
                  <a:pt x="16024" y="17810"/>
                </a:cubicBezTo>
              </a:path>
              <a:path w="6698" h="3623">
                <a:moveTo>
                  <a:pt x="15974" y="17041"/>
                </a:moveTo>
                <a:cubicBezTo>
                  <a:pt x="15974" y="17116"/>
                  <a:pt x="15967" y="17172"/>
                  <a:pt x="15999" y="17239"/>
                </a:cubicBezTo>
                <a:cubicBezTo>
                  <a:pt x="16027" y="17297"/>
                  <a:pt x="16043" y="17354"/>
                  <a:pt x="16073" y="17413"/>
                </a:cubicBezTo>
                <a:cubicBezTo>
                  <a:pt x="16104" y="17475"/>
                  <a:pt x="16098" y="17516"/>
                  <a:pt x="16098" y="17587"/>
                </a:cubicBezTo>
                <a:cubicBezTo>
                  <a:pt x="16098" y="17596"/>
                  <a:pt x="16098" y="17741"/>
                  <a:pt x="16098" y="17611"/>
                </a:cubicBezTo>
              </a:path>
              <a:path w="6698" h="3623">
                <a:moveTo>
                  <a:pt x="15329" y="17214"/>
                </a:moveTo>
                <a:cubicBezTo>
                  <a:pt x="15255" y="17183"/>
                  <a:pt x="15219" y="17193"/>
                  <a:pt x="15156" y="17264"/>
                </a:cubicBezTo>
                <a:cubicBezTo>
                  <a:pt x="15115" y="17311"/>
                  <a:pt x="15086" y="17405"/>
                  <a:pt x="15081" y="17462"/>
                </a:cubicBezTo>
                <a:cubicBezTo>
                  <a:pt x="15073" y="17555"/>
                  <a:pt x="15058" y="17619"/>
                  <a:pt x="15156" y="17661"/>
                </a:cubicBezTo>
                <a:cubicBezTo>
                  <a:pt x="15206" y="17682"/>
                  <a:pt x="15285" y="17657"/>
                  <a:pt x="15329" y="17636"/>
                </a:cubicBezTo>
                <a:cubicBezTo>
                  <a:pt x="15397" y="17604"/>
                  <a:pt x="15444" y="17581"/>
                  <a:pt x="15478" y="17512"/>
                </a:cubicBezTo>
                <a:cubicBezTo>
                  <a:pt x="15497" y="17473"/>
                  <a:pt x="15472" y="17395"/>
                  <a:pt x="15453" y="17363"/>
                </a:cubicBezTo>
                <a:cubicBezTo>
                  <a:pt x="15417" y="17304"/>
                  <a:pt x="15359" y="17338"/>
                  <a:pt x="15329" y="17289"/>
                </a:cubicBezTo>
                <a:cubicBezTo>
                  <a:pt x="15329" y="17261"/>
                  <a:pt x="15327" y="17250"/>
                  <a:pt x="15304" y="17239"/>
                </a:cubicBezTo>
              </a:path>
              <a:path w="6698" h="3623">
                <a:moveTo>
                  <a:pt x="15056" y="16321"/>
                </a:moveTo>
                <a:cubicBezTo>
                  <a:pt x="15089" y="16313"/>
                  <a:pt x="15179" y="16266"/>
                  <a:pt x="15205" y="16247"/>
                </a:cubicBezTo>
                <a:cubicBezTo>
                  <a:pt x="15280" y="16195"/>
                  <a:pt x="15336" y="16129"/>
                  <a:pt x="15404" y="16073"/>
                </a:cubicBezTo>
                <a:cubicBezTo>
                  <a:pt x="15420" y="16060"/>
                  <a:pt x="15531" y="15983"/>
                  <a:pt x="15528" y="15974"/>
                </a:cubicBezTo>
                <a:cubicBezTo>
                  <a:pt x="15511" y="15966"/>
                  <a:pt x="15495" y="15957"/>
                  <a:pt x="15478" y="15949"/>
                </a:cubicBezTo>
              </a:path>
              <a:path w="6698" h="3623">
                <a:moveTo>
                  <a:pt x="16222" y="15379"/>
                </a:moveTo>
                <a:cubicBezTo>
                  <a:pt x="16178" y="15353"/>
                  <a:pt x="16151" y="15354"/>
                  <a:pt x="16098" y="15354"/>
                </a:cubicBezTo>
                <a:cubicBezTo>
                  <a:pt x="16014" y="15354"/>
                  <a:pt x="15967" y="15435"/>
                  <a:pt x="15925" y="15503"/>
                </a:cubicBezTo>
                <a:cubicBezTo>
                  <a:pt x="15894" y="15554"/>
                  <a:pt x="15887" y="15642"/>
                  <a:pt x="15900" y="15701"/>
                </a:cubicBezTo>
                <a:cubicBezTo>
                  <a:pt x="15922" y="15800"/>
                  <a:pt x="15980" y="15844"/>
                  <a:pt x="16024" y="15925"/>
                </a:cubicBezTo>
                <a:cubicBezTo>
                  <a:pt x="16061" y="15993"/>
                  <a:pt x="16034" y="16017"/>
                  <a:pt x="16123" y="16024"/>
                </a:cubicBezTo>
                <a:cubicBezTo>
                  <a:pt x="16179" y="16029"/>
                  <a:pt x="16228" y="15976"/>
                  <a:pt x="16272" y="15949"/>
                </a:cubicBezTo>
                <a:cubicBezTo>
                  <a:pt x="16288" y="15941"/>
                  <a:pt x="16305" y="15933"/>
                  <a:pt x="16321" y="15925"/>
                </a:cubicBezTo>
              </a:path>
              <a:path w="6698" h="3623">
                <a:moveTo>
                  <a:pt x="16545" y="15379"/>
                </a:moveTo>
                <a:cubicBezTo>
                  <a:pt x="16579" y="15435"/>
                  <a:pt x="16552" y="15467"/>
                  <a:pt x="16570" y="15528"/>
                </a:cubicBezTo>
                <a:cubicBezTo>
                  <a:pt x="16590" y="15599"/>
                  <a:pt x="16594" y="15650"/>
                  <a:pt x="16594" y="15726"/>
                </a:cubicBezTo>
                <a:cubicBezTo>
                  <a:pt x="16594" y="15803"/>
                  <a:pt x="16602" y="15854"/>
                  <a:pt x="16619" y="15925"/>
                </a:cubicBezTo>
                <a:cubicBezTo>
                  <a:pt x="16624" y="15945"/>
                  <a:pt x="16645" y="16056"/>
                  <a:pt x="16619" y="15999"/>
                </a:cubicBezTo>
                <a:cubicBezTo>
                  <a:pt x="16611" y="15982"/>
                  <a:pt x="16602" y="15966"/>
                  <a:pt x="16594" y="15949"/>
                </a:cubicBezTo>
              </a:path>
              <a:path w="6698" h="3623">
                <a:moveTo>
                  <a:pt x="16148" y="17686"/>
                </a:moveTo>
                <a:cubicBezTo>
                  <a:pt x="16211" y="17686"/>
                  <a:pt x="16238" y="17666"/>
                  <a:pt x="16297" y="17661"/>
                </a:cubicBezTo>
                <a:cubicBezTo>
                  <a:pt x="16453" y="17648"/>
                  <a:pt x="16875" y="17661"/>
                  <a:pt x="16718" y="17661"/>
                </a:cubicBezTo>
              </a:path>
              <a:path w="6698" h="3623">
                <a:moveTo>
                  <a:pt x="17438" y="17314"/>
                </a:moveTo>
                <a:cubicBezTo>
                  <a:pt x="17421" y="17314"/>
                  <a:pt x="17405" y="17314"/>
                  <a:pt x="17388" y="17314"/>
                </a:cubicBezTo>
                <a:cubicBezTo>
                  <a:pt x="17367" y="17250"/>
                  <a:pt x="17304" y="17228"/>
                  <a:pt x="17264" y="17314"/>
                </a:cubicBezTo>
                <a:cubicBezTo>
                  <a:pt x="17241" y="17364"/>
                  <a:pt x="17230" y="17459"/>
                  <a:pt x="17214" y="17512"/>
                </a:cubicBezTo>
                <a:cubicBezTo>
                  <a:pt x="17193" y="17580"/>
                  <a:pt x="17136" y="17686"/>
                  <a:pt x="17165" y="17760"/>
                </a:cubicBezTo>
                <a:cubicBezTo>
                  <a:pt x="17189" y="17822"/>
                  <a:pt x="17226" y="17855"/>
                  <a:pt x="17289" y="17859"/>
                </a:cubicBezTo>
                <a:cubicBezTo>
                  <a:pt x="17363" y="17863"/>
                  <a:pt x="17438" y="17859"/>
                  <a:pt x="17512" y="17859"/>
                </a:cubicBezTo>
              </a:path>
              <a:path w="6698" h="3623">
                <a:moveTo>
                  <a:pt x="17735" y="17686"/>
                </a:moveTo>
                <a:cubicBezTo>
                  <a:pt x="17804" y="17686"/>
                  <a:pt x="17820" y="17672"/>
                  <a:pt x="17859" y="17735"/>
                </a:cubicBezTo>
                <a:cubicBezTo>
                  <a:pt x="17910" y="17817"/>
                  <a:pt x="17905" y="17806"/>
                  <a:pt x="17859" y="17884"/>
                </a:cubicBezTo>
                <a:cubicBezTo>
                  <a:pt x="17823" y="17946"/>
                  <a:pt x="17774" y="17987"/>
                  <a:pt x="17760" y="18058"/>
                </a:cubicBezTo>
                <a:cubicBezTo>
                  <a:pt x="17828" y="18058"/>
                  <a:pt x="17872" y="18061"/>
                  <a:pt x="17934" y="18033"/>
                </a:cubicBezTo>
                <a:cubicBezTo>
                  <a:pt x="18003" y="18002"/>
                  <a:pt x="18084" y="17999"/>
                  <a:pt x="18157" y="17983"/>
                </a:cubicBezTo>
                <a:cubicBezTo>
                  <a:pt x="18185" y="17983"/>
                  <a:pt x="18196" y="17981"/>
                  <a:pt x="18207" y="17959"/>
                </a:cubicBezTo>
              </a:path>
              <a:path w="6698" h="3623">
                <a:moveTo>
                  <a:pt x="18306" y="17214"/>
                </a:moveTo>
                <a:cubicBezTo>
                  <a:pt x="18306" y="17280"/>
                  <a:pt x="18311" y="17323"/>
                  <a:pt x="18331" y="17388"/>
                </a:cubicBezTo>
                <a:cubicBezTo>
                  <a:pt x="18364" y="17496"/>
                  <a:pt x="18380" y="17573"/>
                  <a:pt x="18380" y="17686"/>
                </a:cubicBezTo>
                <a:cubicBezTo>
                  <a:pt x="18380" y="17755"/>
                  <a:pt x="18328" y="17948"/>
                  <a:pt x="18355" y="17884"/>
                </a:cubicBezTo>
                <a:cubicBezTo>
                  <a:pt x="18363" y="17868"/>
                  <a:pt x="18372" y="17851"/>
                  <a:pt x="18380" y="17835"/>
                </a:cubicBezTo>
              </a:path>
              <a:path w="6698" h="3623">
                <a:moveTo>
                  <a:pt x="18604" y="17190"/>
                </a:moveTo>
                <a:cubicBezTo>
                  <a:pt x="18604" y="17271"/>
                  <a:pt x="18619" y="17338"/>
                  <a:pt x="18628" y="17413"/>
                </a:cubicBezTo>
                <a:cubicBezTo>
                  <a:pt x="18641" y="17519"/>
                  <a:pt x="18648" y="17630"/>
                  <a:pt x="18653" y="17735"/>
                </a:cubicBezTo>
                <a:cubicBezTo>
                  <a:pt x="18655" y="17785"/>
                  <a:pt x="18657" y="17842"/>
                  <a:pt x="18678" y="17884"/>
                </a:cubicBezTo>
                <a:cubicBezTo>
                  <a:pt x="18706" y="17912"/>
                  <a:pt x="18715" y="17916"/>
                  <a:pt x="18703" y="17859"/>
                </a:cubicBezTo>
              </a:path>
              <a:path w="6698" h="3623">
                <a:moveTo>
                  <a:pt x="18380" y="17611"/>
                </a:moveTo>
                <a:cubicBezTo>
                  <a:pt x="18450" y="17591"/>
                  <a:pt x="18539" y="17584"/>
                  <a:pt x="18604" y="17562"/>
                </a:cubicBezTo>
                <a:cubicBezTo>
                  <a:pt x="18652" y="17538"/>
                  <a:pt x="18666" y="17529"/>
                  <a:pt x="18703" y="17537"/>
                </a:cubicBezTo>
              </a:path>
              <a:path w="6698" h="3623">
                <a:moveTo>
                  <a:pt x="19224" y="17512"/>
                </a:moveTo>
                <a:cubicBezTo>
                  <a:pt x="19164" y="17538"/>
                  <a:pt x="19106" y="17515"/>
                  <a:pt x="19050" y="17537"/>
                </a:cubicBezTo>
                <a:cubicBezTo>
                  <a:pt x="19001" y="17556"/>
                  <a:pt x="19017" y="17673"/>
                  <a:pt x="19000" y="17711"/>
                </a:cubicBezTo>
                <a:cubicBezTo>
                  <a:pt x="18976" y="17764"/>
                  <a:pt x="18967" y="17793"/>
                  <a:pt x="19050" y="17810"/>
                </a:cubicBezTo>
                <a:cubicBezTo>
                  <a:pt x="19089" y="17818"/>
                  <a:pt x="19130" y="17785"/>
                  <a:pt x="19174" y="17785"/>
                </a:cubicBezTo>
                <a:cubicBezTo>
                  <a:pt x="19219" y="17785"/>
                  <a:pt x="19302" y="17778"/>
                  <a:pt x="19323" y="17835"/>
                </a:cubicBezTo>
                <a:cubicBezTo>
                  <a:pt x="19352" y="17915"/>
                  <a:pt x="19324" y="18029"/>
                  <a:pt x="19273" y="18083"/>
                </a:cubicBezTo>
                <a:cubicBezTo>
                  <a:pt x="19214" y="18146"/>
                  <a:pt x="19181" y="18132"/>
                  <a:pt x="19100" y="18132"/>
                </a:cubicBezTo>
                <a:cubicBezTo>
                  <a:pt x="19009" y="18132"/>
                  <a:pt x="18996" y="18142"/>
                  <a:pt x="18926" y="18083"/>
                </a:cubicBezTo>
              </a:path>
              <a:path w="6698" h="3623">
                <a:moveTo>
                  <a:pt x="14560" y="18033"/>
                </a:moveTo>
                <a:cubicBezTo>
                  <a:pt x="14482" y="18033"/>
                  <a:pt x="14467" y="18052"/>
                  <a:pt x="14412" y="18107"/>
                </a:cubicBezTo>
                <a:cubicBezTo>
                  <a:pt x="14374" y="18145"/>
                  <a:pt x="14333" y="18181"/>
                  <a:pt x="14288" y="18207"/>
                </a:cubicBezTo>
                <a:cubicBezTo>
                  <a:pt x="14237" y="18237"/>
                  <a:pt x="14169" y="18287"/>
                  <a:pt x="14114" y="18306"/>
                </a:cubicBezTo>
                <a:cubicBezTo>
                  <a:pt x="14074" y="18320"/>
                  <a:pt x="14038" y="18406"/>
                  <a:pt x="14089" y="18306"/>
                </a:cubicBezTo>
              </a:path>
              <a:path w="6698" h="3623">
                <a:moveTo>
                  <a:pt x="12923" y="18157"/>
                </a:moveTo>
                <a:cubicBezTo>
                  <a:pt x="12845" y="18102"/>
                  <a:pt x="12829" y="18065"/>
                  <a:pt x="12750" y="18107"/>
                </a:cubicBezTo>
                <a:cubicBezTo>
                  <a:pt x="12708" y="18129"/>
                  <a:pt x="12663" y="18177"/>
                  <a:pt x="12650" y="18231"/>
                </a:cubicBezTo>
                <a:cubicBezTo>
                  <a:pt x="12634" y="18298"/>
                  <a:pt x="12626" y="18355"/>
                  <a:pt x="12626" y="18430"/>
                </a:cubicBezTo>
                <a:cubicBezTo>
                  <a:pt x="12626" y="18502"/>
                  <a:pt x="12664" y="18543"/>
                  <a:pt x="12725" y="18579"/>
                </a:cubicBezTo>
                <a:cubicBezTo>
                  <a:pt x="12788" y="18616"/>
                  <a:pt x="12851" y="18604"/>
                  <a:pt x="12923" y="18604"/>
                </a:cubicBezTo>
                <a:cubicBezTo>
                  <a:pt x="12975" y="18604"/>
                  <a:pt x="13071" y="18582"/>
                  <a:pt x="13097" y="18529"/>
                </a:cubicBezTo>
                <a:cubicBezTo>
                  <a:pt x="13097" y="18512"/>
                  <a:pt x="13097" y="18496"/>
                  <a:pt x="13097" y="18479"/>
                </a:cubicBezTo>
              </a:path>
              <a:path w="6698" h="3623">
                <a:moveTo>
                  <a:pt x="13271" y="18083"/>
                </a:moveTo>
                <a:cubicBezTo>
                  <a:pt x="13271" y="18240"/>
                  <a:pt x="13247" y="18678"/>
                  <a:pt x="13295" y="18529"/>
                </a:cubicBezTo>
                <a:cubicBezTo>
                  <a:pt x="13295" y="18512"/>
                  <a:pt x="13295" y="18496"/>
                  <a:pt x="13295" y="18479"/>
                </a:cubicBezTo>
              </a:path>
              <a:path w="6698" h="3623">
                <a:moveTo>
                  <a:pt x="13494" y="18008"/>
                </a:moveTo>
                <a:cubicBezTo>
                  <a:pt x="13494" y="18102"/>
                  <a:pt x="13481" y="18195"/>
                  <a:pt x="13519" y="18281"/>
                </a:cubicBezTo>
                <a:cubicBezTo>
                  <a:pt x="13549" y="18351"/>
                  <a:pt x="13543" y="18418"/>
                  <a:pt x="13593" y="18479"/>
                </a:cubicBezTo>
                <a:cubicBezTo>
                  <a:pt x="13623" y="18515"/>
                  <a:pt x="13618" y="18532"/>
                  <a:pt x="13618" y="18579"/>
                </a:cubicBezTo>
              </a:path>
              <a:path w="6698" h="3623">
                <a:moveTo>
                  <a:pt x="13320" y="18355"/>
                </a:moveTo>
                <a:cubicBezTo>
                  <a:pt x="13366" y="18355"/>
                  <a:pt x="13430" y="18350"/>
                  <a:pt x="13469" y="18331"/>
                </a:cubicBezTo>
                <a:cubicBezTo>
                  <a:pt x="13526" y="18303"/>
                  <a:pt x="13518" y="18281"/>
                  <a:pt x="13593" y="18281"/>
                </a:cubicBezTo>
              </a:path>
              <a:path w="6698" h="3623">
                <a:moveTo>
                  <a:pt x="13816" y="18554"/>
                </a:moveTo>
                <a:cubicBezTo>
                  <a:pt x="13860" y="18521"/>
                  <a:pt x="13887" y="18518"/>
                  <a:pt x="13940" y="18554"/>
                </a:cubicBezTo>
                <a:cubicBezTo>
                  <a:pt x="13995" y="18591"/>
                  <a:pt x="13951" y="18633"/>
                  <a:pt x="13940" y="18678"/>
                </a:cubicBezTo>
                <a:cubicBezTo>
                  <a:pt x="13940" y="18686"/>
                  <a:pt x="13940" y="18695"/>
                  <a:pt x="13940" y="18703"/>
                </a:cubicBezTo>
                <a:cubicBezTo>
                  <a:pt x="13978" y="18687"/>
                  <a:pt x="14044" y="18659"/>
                  <a:pt x="14089" y="18678"/>
                </a:cubicBezTo>
                <a:cubicBezTo>
                  <a:pt x="14131" y="18696"/>
                  <a:pt x="14159" y="18788"/>
                  <a:pt x="14139" y="18827"/>
                </a:cubicBezTo>
                <a:cubicBezTo>
                  <a:pt x="14094" y="18917"/>
                  <a:pt x="14035" y="18919"/>
                  <a:pt x="13940" y="18926"/>
                </a:cubicBezTo>
                <a:cubicBezTo>
                  <a:pt x="13885" y="18930"/>
                  <a:pt x="13826" y="19018"/>
                  <a:pt x="13791" y="18976"/>
                </a:cubicBezTo>
                <a:cubicBezTo>
                  <a:pt x="13791" y="18934"/>
                  <a:pt x="13791" y="18926"/>
                  <a:pt x="13791" y="189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77040" y="5830920"/>
            <a:ext cx="430200" cy="233280"/>
          </a:xfrm>
          <a:custGeom>
            <a:avLst/>
            <a:gdLst/>
            <a:ahLst/>
            <a:rect l="l" t="t" r="r" b="b"/>
            <a:pathLst>
              <a:path w="1191" h="646">
                <a:moveTo>
                  <a:pt x="20241" y="16222"/>
                </a:moveTo>
                <a:cubicBezTo>
                  <a:pt x="20241" y="16146"/>
                  <a:pt x="20241" y="16283"/>
                  <a:pt x="20241" y="16297"/>
                </a:cubicBezTo>
                <a:cubicBezTo>
                  <a:pt x="20241" y="16402"/>
                  <a:pt x="20231" y="16493"/>
                  <a:pt x="20216" y="16594"/>
                </a:cubicBezTo>
                <a:cubicBezTo>
                  <a:pt x="20207" y="16657"/>
                  <a:pt x="20216" y="16729"/>
                  <a:pt x="20216" y="16793"/>
                </a:cubicBezTo>
                <a:cubicBezTo>
                  <a:pt x="20238" y="16726"/>
                  <a:pt x="20243" y="16708"/>
                  <a:pt x="20265" y="16669"/>
                </a:cubicBezTo>
              </a:path>
              <a:path w="1191" h="646">
                <a:moveTo>
                  <a:pt x="20613" y="16247"/>
                </a:moveTo>
                <a:cubicBezTo>
                  <a:pt x="20578" y="16291"/>
                  <a:pt x="20542" y="16338"/>
                  <a:pt x="20538" y="16396"/>
                </a:cubicBezTo>
                <a:cubicBezTo>
                  <a:pt x="20538" y="16413"/>
                  <a:pt x="20538" y="16429"/>
                  <a:pt x="20538" y="16446"/>
                </a:cubicBezTo>
                <a:cubicBezTo>
                  <a:pt x="20599" y="16420"/>
                  <a:pt x="20621" y="16421"/>
                  <a:pt x="20687" y="16421"/>
                </a:cubicBezTo>
                <a:cubicBezTo>
                  <a:pt x="20717" y="16421"/>
                  <a:pt x="20833" y="16539"/>
                  <a:pt x="20861" y="16570"/>
                </a:cubicBezTo>
                <a:cubicBezTo>
                  <a:pt x="20925" y="16641"/>
                  <a:pt x="20978" y="16688"/>
                  <a:pt x="20935" y="16768"/>
                </a:cubicBezTo>
                <a:cubicBezTo>
                  <a:pt x="20900" y="16833"/>
                  <a:pt x="20836" y="16836"/>
                  <a:pt x="20762" y="16842"/>
                </a:cubicBezTo>
                <a:cubicBezTo>
                  <a:pt x="20700" y="16847"/>
                  <a:pt x="20691" y="16710"/>
                  <a:pt x="20687" y="16669"/>
                </a:cubicBezTo>
              </a:path>
              <a:path w="1191" h="646">
                <a:moveTo>
                  <a:pt x="20712" y="16297"/>
                </a:moveTo>
                <a:cubicBezTo>
                  <a:pt x="20759" y="16277"/>
                  <a:pt x="20810" y="16250"/>
                  <a:pt x="20861" y="16247"/>
                </a:cubicBezTo>
                <a:cubicBezTo>
                  <a:pt x="20931" y="16242"/>
                  <a:pt x="20985" y="16222"/>
                  <a:pt x="21059" y="16222"/>
                </a:cubicBezTo>
              </a:path>
              <a:path w="1191" h="646">
                <a:moveTo>
                  <a:pt x="21357" y="16743"/>
                </a:moveTo>
                <a:cubicBezTo>
                  <a:pt x="21357" y="16768"/>
                  <a:pt x="21357" y="16776"/>
                  <a:pt x="21357" y="16793"/>
                </a:cubicBezTo>
                <a:cubicBezTo>
                  <a:pt x="21443" y="16671"/>
                  <a:pt x="21337" y="16730"/>
                  <a:pt x="21332" y="16768"/>
                </a:cubicBezTo>
                <a:cubicBezTo>
                  <a:pt x="21323" y="16830"/>
                  <a:pt x="21352" y="16814"/>
                  <a:pt x="21282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0000" y="5572080"/>
            <a:ext cx="1179720" cy="758880"/>
          </a:xfrm>
          <a:custGeom>
            <a:avLst/>
            <a:gdLst/>
            <a:ahLst/>
            <a:rect l="l" t="t" r="r" b="b"/>
            <a:pathLst>
              <a:path w="3275" h="2110">
                <a:moveTo>
                  <a:pt x="22647" y="16272"/>
                </a:moveTo>
                <a:cubicBezTo>
                  <a:pt x="22670" y="16284"/>
                  <a:pt x="22609" y="16345"/>
                  <a:pt x="22572" y="16371"/>
                </a:cubicBezTo>
                <a:cubicBezTo>
                  <a:pt x="22523" y="16405"/>
                  <a:pt x="22454" y="16458"/>
                  <a:pt x="22399" y="16495"/>
                </a:cubicBezTo>
                <a:cubicBezTo>
                  <a:pt x="22346" y="16530"/>
                  <a:pt x="22257" y="16627"/>
                  <a:pt x="22200" y="16644"/>
                </a:cubicBezTo>
                <a:cubicBezTo>
                  <a:pt x="22154" y="16658"/>
                  <a:pt x="22063" y="16684"/>
                  <a:pt x="22027" y="16718"/>
                </a:cubicBezTo>
                <a:cubicBezTo>
                  <a:pt x="21938" y="16800"/>
                  <a:pt x="22031" y="16739"/>
                  <a:pt x="22051" y="16718"/>
                </a:cubicBezTo>
              </a:path>
              <a:path w="3275" h="2110">
                <a:moveTo>
                  <a:pt x="22796" y="16346"/>
                </a:moveTo>
                <a:cubicBezTo>
                  <a:pt x="22818" y="16392"/>
                  <a:pt x="22829" y="16389"/>
                  <a:pt x="22845" y="16446"/>
                </a:cubicBezTo>
                <a:cubicBezTo>
                  <a:pt x="22907" y="16466"/>
                  <a:pt x="22912" y="16504"/>
                  <a:pt x="22994" y="16545"/>
                </a:cubicBezTo>
                <a:cubicBezTo>
                  <a:pt x="23071" y="16583"/>
                  <a:pt x="23110" y="16648"/>
                  <a:pt x="23168" y="16694"/>
                </a:cubicBezTo>
                <a:cubicBezTo>
                  <a:pt x="23215" y="16732"/>
                  <a:pt x="23243" y="16769"/>
                  <a:pt x="23292" y="16818"/>
                </a:cubicBezTo>
                <a:cubicBezTo>
                  <a:pt x="23423" y="16949"/>
                  <a:pt x="23224" y="16815"/>
                  <a:pt x="23192" y="16793"/>
                </a:cubicBezTo>
              </a:path>
              <a:path w="3275" h="2110">
                <a:moveTo>
                  <a:pt x="22076" y="16818"/>
                </a:moveTo>
                <a:cubicBezTo>
                  <a:pt x="22110" y="16840"/>
                  <a:pt x="22101" y="16866"/>
                  <a:pt x="22101" y="16917"/>
                </a:cubicBezTo>
                <a:cubicBezTo>
                  <a:pt x="22101" y="17140"/>
                  <a:pt x="22101" y="17364"/>
                  <a:pt x="22101" y="17587"/>
                </a:cubicBezTo>
                <a:cubicBezTo>
                  <a:pt x="22108" y="17535"/>
                  <a:pt x="22126" y="17514"/>
                  <a:pt x="22126" y="17462"/>
                </a:cubicBezTo>
              </a:path>
              <a:path w="3275" h="2110">
                <a:moveTo>
                  <a:pt x="22151" y="17487"/>
                </a:moveTo>
                <a:cubicBezTo>
                  <a:pt x="22411" y="17487"/>
                  <a:pt x="22703" y="17463"/>
                  <a:pt x="22944" y="17512"/>
                </a:cubicBezTo>
                <a:cubicBezTo>
                  <a:pt x="23003" y="17524"/>
                  <a:pt x="23082" y="17512"/>
                  <a:pt x="23143" y="17512"/>
                </a:cubicBezTo>
                <a:cubicBezTo>
                  <a:pt x="23099" y="17482"/>
                  <a:pt x="23127" y="17489"/>
                  <a:pt x="23143" y="17438"/>
                </a:cubicBezTo>
                <a:cubicBezTo>
                  <a:pt x="23160" y="17387"/>
                  <a:pt x="23170" y="17309"/>
                  <a:pt x="23192" y="17264"/>
                </a:cubicBezTo>
                <a:cubicBezTo>
                  <a:pt x="23216" y="17216"/>
                  <a:pt x="23261" y="17135"/>
                  <a:pt x="23292" y="17090"/>
                </a:cubicBezTo>
                <a:cubicBezTo>
                  <a:pt x="23323" y="17045"/>
                  <a:pt x="23344" y="17015"/>
                  <a:pt x="23366" y="16966"/>
                </a:cubicBezTo>
                <a:cubicBezTo>
                  <a:pt x="23397" y="16898"/>
                  <a:pt x="23383" y="16925"/>
                  <a:pt x="23316" y="16917"/>
                </a:cubicBezTo>
              </a:path>
              <a:path w="3275" h="2110">
                <a:moveTo>
                  <a:pt x="22771" y="16346"/>
                </a:moveTo>
                <a:cubicBezTo>
                  <a:pt x="22771" y="16330"/>
                  <a:pt x="22771" y="16313"/>
                  <a:pt x="22771" y="16297"/>
                </a:cubicBezTo>
                <a:cubicBezTo>
                  <a:pt x="22858" y="16297"/>
                  <a:pt x="22868" y="16278"/>
                  <a:pt x="22944" y="16247"/>
                </a:cubicBezTo>
                <a:cubicBezTo>
                  <a:pt x="23031" y="16211"/>
                  <a:pt x="23111" y="16229"/>
                  <a:pt x="23192" y="16173"/>
                </a:cubicBezTo>
                <a:cubicBezTo>
                  <a:pt x="23218" y="16155"/>
                  <a:pt x="23285" y="16107"/>
                  <a:pt x="23316" y="16098"/>
                </a:cubicBezTo>
                <a:cubicBezTo>
                  <a:pt x="23370" y="16082"/>
                  <a:pt x="23392" y="16087"/>
                  <a:pt x="23440" y="16049"/>
                </a:cubicBezTo>
                <a:cubicBezTo>
                  <a:pt x="23397" y="16070"/>
                  <a:pt x="23385" y="16074"/>
                  <a:pt x="23366" y="16098"/>
                </a:cubicBezTo>
              </a:path>
              <a:path w="3275" h="2110">
                <a:moveTo>
                  <a:pt x="23912" y="15652"/>
                </a:moveTo>
                <a:cubicBezTo>
                  <a:pt x="23852" y="15618"/>
                  <a:pt x="23816" y="15579"/>
                  <a:pt x="23763" y="15652"/>
                </a:cubicBezTo>
                <a:cubicBezTo>
                  <a:pt x="23730" y="15698"/>
                  <a:pt x="23676" y="15769"/>
                  <a:pt x="23664" y="15825"/>
                </a:cubicBezTo>
                <a:cubicBezTo>
                  <a:pt x="23651" y="15885"/>
                  <a:pt x="23680" y="15951"/>
                  <a:pt x="23713" y="15999"/>
                </a:cubicBezTo>
                <a:cubicBezTo>
                  <a:pt x="23754" y="16058"/>
                  <a:pt x="23796" y="16049"/>
                  <a:pt x="23862" y="16049"/>
                </a:cubicBezTo>
                <a:cubicBezTo>
                  <a:pt x="23907" y="16049"/>
                  <a:pt x="23920" y="16052"/>
                  <a:pt x="23937" y="16024"/>
                </a:cubicBezTo>
              </a:path>
              <a:path w="3275" h="2110">
                <a:moveTo>
                  <a:pt x="24185" y="15949"/>
                </a:moveTo>
                <a:cubicBezTo>
                  <a:pt x="24236" y="15911"/>
                  <a:pt x="24270" y="15929"/>
                  <a:pt x="24284" y="15999"/>
                </a:cubicBezTo>
                <a:cubicBezTo>
                  <a:pt x="24295" y="16055"/>
                  <a:pt x="24215" y="16112"/>
                  <a:pt x="24185" y="16148"/>
                </a:cubicBezTo>
                <a:cubicBezTo>
                  <a:pt x="24152" y="16188"/>
                  <a:pt x="24160" y="16189"/>
                  <a:pt x="24160" y="16247"/>
                </a:cubicBezTo>
                <a:cubicBezTo>
                  <a:pt x="24232" y="16247"/>
                  <a:pt x="24329" y="16270"/>
                  <a:pt x="24383" y="16222"/>
                </a:cubicBezTo>
                <a:cubicBezTo>
                  <a:pt x="24391" y="16214"/>
                  <a:pt x="24400" y="16205"/>
                  <a:pt x="24408" y="16197"/>
                </a:cubicBezTo>
              </a:path>
              <a:path w="3275" h="2110">
                <a:moveTo>
                  <a:pt x="24681" y="15478"/>
                </a:moveTo>
                <a:cubicBezTo>
                  <a:pt x="24681" y="15615"/>
                  <a:pt x="24673" y="15745"/>
                  <a:pt x="24656" y="15875"/>
                </a:cubicBezTo>
                <a:cubicBezTo>
                  <a:pt x="24648" y="15934"/>
                  <a:pt x="24673" y="16091"/>
                  <a:pt x="24631" y="16049"/>
                </a:cubicBezTo>
                <a:cubicBezTo>
                  <a:pt x="24631" y="16032"/>
                  <a:pt x="24631" y="16016"/>
                  <a:pt x="24631" y="15999"/>
                </a:cubicBezTo>
              </a:path>
              <a:path w="3275" h="2110">
                <a:moveTo>
                  <a:pt x="25053" y="15503"/>
                </a:moveTo>
                <a:cubicBezTo>
                  <a:pt x="25027" y="15586"/>
                  <a:pt x="25003" y="15620"/>
                  <a:pt x="25003" y="15701"/>
                </a:cubicBezTo>
                <a:cubicBezTo>
                  <a:pt x="25003" y="15791"/>
                  <a:pt x="25001" y="15873"/>
                  <a:pt x="24978" y="15949"/>
                </a:cubicBezTo>
                <a:cubicBezTo>
                  <a:pt x="24965" y="15992"/>
                  <a:pt x="25003" y="16102"/>
                  <a:pt x="25003" y="15999"/>
                </a:cubicBezTo>
              </a:path>
              <a:path w="3275" h="2110">
                <a:moveTo>
                  <a:pt x="24705" y="15801"/>
                </a:moveTo>
                <a:cubicBezTo>
                  <a:pt x="24817" y="15801"/>
                  <a:pt x="24921" y="15809"/>
                  <a:pt x="25028" y="15776"/>
                </a:cubicBezTo>
              </a:path>
              <a:path w="3275" h="2110">
                <a:moveTo>
                  <a:pt x="25202" y="16197"/>
                </a:moveTo>
                <a:cubicBezTo>
                  <a:pt x="25177" y="16189"/>
                  <a:pt x="25096" y="16088"/>
                  <a:pt x="25053" y="16123"/>
                </a:cubicBezTo>
                <a:cubicBezTo>
                  <a:pt x="24988" y="16176"/>
                  <a:pt x="24959" y="16212"/>
                  <a:pt x="24954" y="16297"/>
                </a:cubicBezTo>
                <a:cubicBezTo>
                  <a:pt x="24952" y="16329"/>
                  <a:pt x="24954" y="16364"/>
                  <a:pt x="24954" y="16396"/>
                </a:cubicBezTo>
                <a:cubicBezTo>
                  <a:pt x="25010" y="16396"/>
                  <a:pt x="25050" y="16375"/>
                  <a:pt x="25102" y="16371"/>
                </a:cubicBezTo>
                <a:cubicBezTo>
                  <a:pt x="25174" y="16366"/>
                  <a:pt x="25213" y="16439"/>
                  <a:pt x="25251" y="16495"/>
                </a:cubicBezTo>
                <a:cubicBezTo>
                  <a:pt x="25300" y="16569"/>
                  <a:pt x="25268" y="16584"/>
                  <a:pt x="25202" y="16619"/>
                </a:cubicBezTo>
                <a:cubicBezTo>
                  <a:pt x="25146" y="16649"/>
                  <a:pt x="25115" y="16644"/>
                  <a:pt x="25053" y="16644"/>
                </a:cubicBezTo>
                <a:cubicBezTo>
                  <a:pt x="25005" y="16644"/>
                  <a:pt x="24915" y="16661"/>
                  <a:pt x="24904" y="16619"/>
                </a:cubicBezTo>
                <a:cubicBezTo>
                  <a:pt x="24904" y="16611"/>
                  <a:pt x="24904" y="16602"/>
                  <a:pt x="24904" y="165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" y="589284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1290" y="16421"/>
                </a:moveTo>
                <a:cubicBezTo>
                  <a:pt x="1290" y="16578"/>
                  <a:pt x="1303" y="16751"/>
                  <a:pt x="1265" y="16892"/>
                </a:cubicBezTo>
                <a:cubicBezTo>
                  <a:pt x="1242" y="16977"/>
                  <a:pt x="1269" y="16901"/>
                  <a:pt x="1290" y="16867"/>
                </a:cubicBezTo>
              </a:path>
              <a:path w="1241" h="621">
                <a:moveTo>
                  <a:pt x="1761" y="16446"/>
                </a:moveTo>
                <a:cubicBezTo>
                  <a:pt x="1771" y="16388"/>
                  <a:pt x="1785" y="16376"/>
                  <a:pt x="1860" y="16371"/>
                </a:cubicBezTo>
                <a:cubicBezTo>
                  <a:pt x="1940" y="16366"/>
                  <a:pt x="2020" y="16359"/>
                  <a:pt x="2084" y="16396"/>
                </a:cubicBezTo>
                <a:cubicBezTo>
                  <a:pt x="2100" y="16404"/>
                  <a:pt x="2117" y="16413"/>
                  <a:pt x="2133" y="16421"/>
                </a:cubicBezTo>
                <a:cubicBezTo>
                  <a:pt x="2096" y="16485"/>
                  <a:pt x="2073" y="16533"/>
                  <a:pt x="2009" y="16570"/>
                </a:cubicBezTo>
                <a:cubicBezTo>
                  <a:pt x="1953" y="16603"/>
                  <a:pt x="1933" y="16621"/>
                  <a:pt x="1885" y="16669"/>
                </a:cubicBezTo>
                <a:cubicBezTo>
                  <a:pt x="1899" y="16683"/>
                  <a:pt x="1918" y="16636"/>
                  <a:pt x="1984" y="16619"/>
                </a:cubicBezTo>
                <a:cubicBezTo>
                  <a:pt x="2029" y="16608"/>
                  <a:pt x="2069" y="16626"/>
                  <a:pt x="2108" y="16644"/>
                </a:cubicBezTo>
                <a:cubicBezTo>
                  <a:pt x="2172" y="16674"/>
                  <a:pt x="2208" y="16697"/>
                  <a:pt x="2208" y="16768"/>
                </a:cubicBezTo>
                <a:cubicBezTo>
                  <a:pt x="2208" y="16832"/>
                  <a:pt x="2201" y="16866"/>
                  <a:pt x="2158" y="16917"/>
                </a:cubicBezTo>
                <a:cubicBezTo>
                  <a:pt x="2112" y="16973"/>
                  <a:pt x="2010" y="17020"/>
                  <a:pt x="1935" y="16991"/>
                </a:cubicBezTo>
                <a:cubicBezTo>
                  <a:pt x="1910" y="16981"/>
                  <a:pt x="1769" y="16926"/>
                  <a:pt x="1761" y="16917"/>
                </a:cubicBezTo>
                <a:cubicBezTo>
                  <a:pt x="1786" y="16917"/>
                  <a:pt x="1794" y="16917"/>
                  <a:pt x="1811" y="16917"/>
                </a:cubicBezTo>
              </a:path>
              <a:path w="1241" h="621">
                <a:moveTo>
                  <a:pt x="2505" y="16842"/>
                </a:moveTo>
                <a:cubicBezTo>
                  <a:pt x="2497" y="16850"/>
                  <a:pt x="2488" y="16859"/>
                  <a:pt x="2480" y="16867"/>
                </a:cubicBezTo>
                <a:cubicBezTo>
                  <a:pt x="2480" y="16841"/>
                  <a:pt x="2463" y="16818"/>
                  <a:pt x="2456" y="16818"/>
                </a:cubicBezTo>
                <a:cubicBezTo>
                  <a:pt x="2444" y="16818"/>
                  <a:pt x="2418" y="16911"/>
                  <a:pt x="2480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30280" y="6232680"/>
            <a:ext cx="866880" cy="312480"/>
          </a:xfrm>
          <a:custGeom>
            <a:avLst/>
            <a:gdLst/>
            <a:ahLst/>
            <a:rect l="l" t="t" r="r" b="b"/>
            <a:pathLst>
              <a:path w="2407" h="869">
                <a:moveTo>
                  <a:pt x="6474" y="17636"/>
                </a:moveTo>
                <a:cubicBezTo>
                  <a:pt x="6482" y="17628"/>
                  <a:pt x="6491" y="17619"/>
                  <a:pt x="6499" y="17611"/>
                </a:cubicBezTo>
                <a:cubicBezTo>
                  <a:pt x="6565" y="17637"/>
                  <a:pt x="6620" y="17669"/>
                  <a:pt x="6697" y="17686"/>
                </a:cubicBezTo>
                <a:cubicBezTo>
                  <a:pt x="6788" y="17706"/>
                  <a:pt x="6923" y="17707"/>
                  <a:pt x="6970" y="17636"/>
                </a:cubicBezTo>
              </a:path>
              <a:path w="2407" h="869">
                <a:moveTo>
                  <a:pt x="7491" y="17413"/>
                </a:moveTo>
                <a:cubicBezTo>
                  <a:pt x="7398" y="17357"/>
                  <a:pt x="7400" y="17436"/>
                  <a:pt x="7342" y="17512"/>
                </a:cubicBezTo>
                <a:cubicBezTo>
                  <a:pt x="7298" y="17570"/>
                  <a:pt x="7279" y="17661"/>
                  <a:pt x="7268" y="17735"/>
                </a:cubicBezTo>
                <a:cubicBezTo>
                  <a:pt x="7260" y="17788"/>
                  <a:pt x="7260" y="17879"/>
                  <a:pt x="7317" y="17909"/>
                </a:cubicBezTo>
                <a:cubicBezTo>
                  <a:pt x="7401" y="17953"/>
                  <a:pt x="7506" y="17941"/>
                  <a:pt x="7590" y="17909"/>
                </a:cubicBezTo>
                <a:cubicBezTo>
                  <a:pt x="7634" y="17887"/>
                  <a:pt x="7646" y="17884"/>
                  <a:pt x="7665" y="17859"/>
                </a:cubicBezTo>
              </a:path>
              <a:path w="2407" h="869">
                <a:moveTo>
                  <a:pt x="7913" y="17388"/>
                </a:moveTo>
                <a:cubicBezTo>
                  <a:pt x="7913" y="17492"/>
                  <a:pt x="7942" y="17543"/>
                  <a:pt x="7962" y="17636"/>
                </a:cubicBezTo>
                <a:cubicBezTo>
                  <a:pt x="7978" y="17711"/>
                  <a:pt x="7987" y="17779"/>
                  <a:pt x="7987" y="17859"/>
                </a:cubicBezTo>
                <a:cubicBezTo>
                  <a:pt x="7987" y="17881"/>
                  <a:pt x="7987" y="17970"/>
                  <a:pt x="7987" y="17859"/>
                </a:cubicBezTo>
              </a:path>
              <a:path w="2407" h="869">
                <a:moveTo>
                  <a:pt x="8285" y="17314"/>
                </a:moveTo>
                <a:cubicBezTo>
                  <a:pt x="8285" y="17491"/>
                  <a:pt x="8287" y="17666"/>
                  <a:pt x="8260" y="17835"/>
                </a:cubicBezTo>
                <a:cubicBezTo>
                  <a:pt x="8247" y="17914"/>
                  <a:pt x="8304" y="17988"/>
                  <a:pt x="8210" y="17909"/>
                </a:cubicBezTo>
              </a:path>
              <a:path w="2407" h="869">
                <a:moveTo>
                  <a:pt x="8012" y="17686"/>
                </a:moveTo>
                <a:cubicBezTo>
                  <a:pt x="8087" y="17663"/>
                  <a:pt x="8132" y="17661"/>
                  <a:pt x="8210" y="17661"/>
                </a:cubicBezTo>
                <a:cubicBezTo>
                  <a:pt x="8235" y="17661"/>
                  <a:pt x="8243" y="17661"/>
                  <a:pt x="8260" y="17661"/>
                </a:cubicBezTo>
              </a:path>
              <a:path w="2407" h="869">
                <a:moveTo>
                  <a:pt x="8582" y="17686"/>
                </a:moveTo>
                <a:cubicBezTo>
                  <a:pt x="8607" y="17667"/>
                  <a:pt x="8669" y="17615"/>
                  <a:pt x="8706" y="17636"/>
                </a:cubicBezTo>
                <a:cubicBezTo>
                  <a:pt x="8738" y="17654"/>
                  <a:pt x="8787" y="17716"/>
                  <a:pt x="8731" y="17760"/>
                </a:cubicBezTo>
                <a:cubicBezTo>
                  <a:pt x="8681" y="17799"/>
                  <a:pt x="8670" y="17794"/>
                  <a:pt x="8657" y="17859"/>
                </a:cubicBezTo>
                <a:cubicBezTo>
                  <a:pt x="8696" y="17869"/>
                  <a:pt x="8742" y="17893"/>
                  <a:pt x="8781" y="17909"/>
                </a:cubicBezTo>
                <a:cubicBezTo>
                  <a:pt x="8850" y="17937"/>
                  <a:pt x="8914" y="17970"/>
                  <a:pt x="8880" y="18058"/>
                </a:cubicBezTo>
                <a:cubicBezTo>
                  <a:pt x="8864" y="18100"/>
                  <a:pt x="8771" y="18166"/>
                  <a:pt x="8731" y="18182"/>
                </a:cubicBezTo>
                <a:cubicBezTo>
                  <a:pt x="8679" y="18203"/>
                  <a:pt x="8472" y="18201"/>
                  <a:pt x="8434" y="18157"/>
                </a:cubicBezTo>
                <a:cubicBezTo>
                  <a:pt x="8434" y="18149"/>
                  <a:pt x="8434" y="18140"/>
                  <a:pt x="8434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40120" y="5911920"/>
            <a:ext cx="357120" cy="241200"/>
          </a:xfrm>
          <a:custGeom>
            <a:avLst/>
            <a:gdLst/>
            <a:ahLst/>
            <a:rect l="l" t="t" r="r" b="b"/>
            <a:pathLst>
              <a:path w="993" h="670">
                <a:moveTo>
                  <a:pt x="10666" y="16421"/>
                </a:moveTo>
                <a:cubicBezTo>
                  <a:pt x="10696" y="16471"/>
                  <a:pt x="10691" y="16508"/>
                  <a:pt x="10691" y="16570"/>
                </a:cubicBezTo>
                <a:cubicBezTo>
                  <a:pt x="10691" y="16699"/>
                  <a:pt x="10684" y="16817"/>
                  <a:pt x="10666" y="16942"/>
                </a:cubicBezTo>
                <a:cubicBezTo>
                  <a:pt x="10662" y="16968"/>
                  <a:pt x="10666" y="17146"/>
                  <a:pt x="10666" y="16966"/>
                </a:cubicBezTo>
              </a:path>
              <a:path w="993" h="670">
                <a:moveTo>
                  <a:pt x="11038" y="16520"/>
                </a:moveTo>
                <a:cubicBezTo>
                  <a:pt x="11062" y="16584"/>
                  <a:pt x="11063" y="16625"/>
                  <a:pt x="11063" y="16694"/>
                </a:cubicBezTo>
                <a:cubicBezTo>
                  <a:pt x="11063" y="16746"/>
                  <a:pt x="11051" y="16786"/>
                  <a:pt x="11112" y="16793"/>
                </a:cubicBezTo>
                <a:cubicBezTo>
                  <a:pt x="11140" y="16796"/>
                  <a:pt x="11208" y="16778"/>
                  <a:pt x="11237" y="16768"/>
                </a:cubicBezTo>
                <a:cubicBezTo>
                  <a:pt x="11299" y="16745"/>
                  <a:pt x="11318" y="16743"/>
                  <a:pt x="11385" y="16743"/>
                </a:cubicBezTo>
                <a:cubicBezTo>
                  <a:pt x="11418" y="16743"/>
                  <a:pt x="11489" y="16754"/>
                  <a:pt x="11509" y="16718"/>
                </a:cubicBezTo>
                <a:cubicBezTo>
                  <a:pt x="11509" y="16677"/>
                  <a:pt x="11509" y="16669"/>
                  <a:pt x="11509" y="16644"/>
                </a:cubicBezTo>
              </a:path>
              <a:path w="993" h="670">
                <a:moveTo>
                  <a:pt x="11261" y="16421"/>
                </a:moveTo>
                <a:cubicBezTo>
                  <a:pt x="11261" y="16558"/>
                  <a:pt x="11253" y="16688"/>
                  <a:pt x="11237" y="16818"/>
                </a:cubicBezTo>
                <a:cubicBezTo>
                  <a:pt x="11227" y="16899"/>
                  <a:pt x="11193" y="16962"/>
                  <a:pt x="11187" y="17041"/>
                </a:cubicBezTo>
                <a:cubicBezTo>
                  <a:pt x="11187" y="17066"/>
                  <a:pt x="11187" y="17074"/>
                  <a:pt x="11187" y="17090"/>
                </a:cubicBezTo>
              </a:path>
              <a:path w="993" h="670">
                <a:moveTo>
                  <a:pt x="11658" y="16966"/>
                </a:moveTo>
                <a:cubicBezTo>
                  <a:pt x="11636" y="17003"/>
                  <a:pt x="11631" y="17029"/>
                  <a:pt x="11609" y="17066"/>
                </a:cubicBezTo>
                <a:cubicBezTo>
                  <a:pt x="11609" y="17009"/>
                  <a:pt x="11609" y="16999"/>
                  <a:pt x="11609" y="169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53240" y="4894200"/>
            <a:ext cx="534960" cy="793800"/>
          </a:xfrm>
          <a:custGeom>
            <a:avLst/>
            <a:gdLst/>
            <a:ahLst/>
            <a:rect l="l" t="t" r="r" b="b"/>
            <a:pathLst>
              <a:path w="1489" h="2209">
                <a:moveTo>
                  <a:pt x="21927" y="13593"/>
                </a:moveTo>
                <a:cubicBezTo>
                  <a:pt x="21927" y="13647"/>
                  <a:pt x="21916" y="13664"/>
                  <a:pt x="21903" y="13717"/>
                </a:cubicBezTo>
                <a:cubicBezTo>
                  <a:pt x="21883" y="13802"/>
                  <a:pt x="21896" y="13902"/>
                  <a:pt x="21878" y="13990"/>
                </a:cubicBezTo>
                <a:cubicBezTo>
                  <a:pt x="21869" y="14035"/>
                  <a:pt x="21878" y="14093"/>
                  <a:pt x="21878" y="14139"/>
                </a:cubicBezTo>
                <a:cubicBezTo>
                  <a:pt x="21844" y="14061"/>
                  <a:pt x="21842" y="14051"/>
                  <a:pt x="21927" y="14039"/>
                </a:cubicBezTo>
              </a:path>
              <a:path w="1489" h="2209">
                <a:moveTo>
                  <a:pt x="21952" y="14114"/>
                </a:moveTo>
                <a:cubicBezTo>
                  <a:pt x="21906" y="14126"/>
                  <a:pt x="21871" y="14162"/>
                  <a:pt x="21828" y="14188"/>
                </a:cubicBezTo>
                <a:cubicBezTo>
                  <a:pt x="21772" y="14222"/>
                  <a:pt x="21698" y="14259"/>
                  <a:pt x="21654" y="14288"/>
                </a:cubicBezTo>
                <a:cubicBezTo>
                  <a:pt x="21610" y="14317"/>
                  <a:pt x="21541" y="14384"/>
                  <a:pt x="21506" y="14412"/>
                </a:cubicBezTo>
                <a:cubicBezTo>
                  <a:pt x="21458" y="14450"/>
                  <a:pt x="21373" y="14520"/>
                  <a:pt x="21332" y="14536"/>
                </a:cubicBezTo>
                <a:cubicBezTo>
                  <a:pt x="21219" y="14581"/>
                  <a:pt x="21316" y="14474"/>
                  <a:pt x="21332" y="14461"/>
                </a:cubicBezTo>
              </a:path>
              <a:path w="1489" h="2209">
                <a:moveTo>
                  <a:pt x="22027" y="14139"/>
                </a:moveTo>
                <a:cubicBezTo>
                  <a:pt x="22010" y="14139"/>
                  <a:pt x="21994" y="14139"/>
                  <a:pt x="21977" y="14139"/>
                </a:cubicBezTo>
                <a:cubicBezTo>
                  <a:pt x="21995" y="14209"/>
                  <a:pt x="22044" y="14205"/>
                  <a:pt x="22076" y="14238"/>
                </a:cubicBezTo>
                <a:cubicBezTo>
                  <a:pt x="22139" y="14302"/>
                  <a:pt x="22201" y="14307"/>
                  <a:pt x="22275" y="14362"/>
                </a:cubicBezTo>
                <a:cubicBezTo>
                  <a:pt x="22341" y="14411"/>
                  <a:pt x="22398" y="14451"/>
                  <a:pt x="22448" y="14511"/>
                </a:cubicBezTo>
                <a:cubicBezTo>
                  <a:pt x="22478" y="14547"/>
                  <a:pt x="22557" y="14596"/>
                  <a:pt x="22473" y="14536"/>
                </a:cubicBezTo>
              </a:path>
              <a:path w="1489" h="2209">
                <a:moveTo>
                  <a:pt x="21258" y="14610"/>
                </a:moveTo>
                <a:cubicBezTo>
                  <a:pt x="21258" y="14762"/>
                  <a:pt x="21260" y="14911"/>
                  <a:pt x="21282" y="15056"/>
                </a:cubicBezTo>
                <a:cubicBezTo>
                  <a:pt x="21296" y="15145"/>
                  <a:pt x="21296" y="15244"/>
                  <a:pt x="21307" y="15329"/>
                </a:cubicBezTo>
                <a:cubicBezTo>
                  <a:pt x="21313" y="15375"/>
                  <a:pt x="21325" y="15418"/>
                  <a:pt x="21332" y="15453"/>
                </a:cubicBezTo>
                <a:cubicBezTo>
                  <a:pt x="21332" y="15470"/>
                  <a:pt x="21332" y="15486"/>
                  <a:pt x="21332" y="15503"/>
                </a:cubicBezTo>
                <a:cubicBezTo>
                  <a:pt x="21380" y="15474"/>
                  <a:pt x="21394" y="15478"/>
                  <a:pt x="21456" y="15478"/>
                </a:cubicBezTo>
                <a:cubicBezTo>
                  <a:pt x="21512" y="15478"/>
                  <a:pt x="21535" y="15516"/>
                  <a:pt x="21580" y="15528"/>
                </a:cubicBezTo>
                <a:cubicBezTo>
                  <a:pt x="21634" y="15543"/>
                  <a:pt x="21683" y="15564"/>
                  <a:pt x="21729" y="15577"/>
                </a:cubicBezTo>
                <a:cubicBezTo>
                  <a:pt x="21825" y="15604"/>
                  <a:pt x="21801" y="15548"/>
                  <a:pt x="21903" y="15627"/>
                </a:cubicBezTo>
                <a:cubicBezTo>
                  <a:pt x="21922" y="15642"/>
                  <a:pt x="21974" y="15676"/>
                  <a:pt x="22002" y="15701"/>
                </a:cubicBezTo>
                <a:cubicBezTo>
                  <a:pt x="22050" y="15743"/>
                  <a:pt x="22136" y="15739"/>
                  <a:pt x="22151" y="15801"/>
                </a:cubicBezTo>
                <a:cubicBezTo>
                  <a:pt x="22134" y="15801"/>
                  <a:pt x="22118" y="15801"/>
                  <a:pt x="22101" y="15801"/>
                </a:cubicBezTo>
              </a:path>
              <a:path w="1489" h="2209">
                <a:moveTo>
                  <a:pt x="22101" y="15801"/>
                </a:moveTo>
                <a:cubicBezTo>
                  <a:pt x="22132" y="15776"/>
                  <a:pt x="22189" y="15734"/>
                  <a:pt x="22225" y="15726"/>
                </a:cubicBezTo>
                <a:cubicBezTo>
                  <a:pt x="22291" y="15712"/>
                  <a:pt x="22331" y="15683"/>
                  <a:pt x="22399" y="15652"/>
                </a:cubicBezTo>
                <a:cubicBezTo>
                  <a:pt x="22479" y="15616"/>
                  <a:pt x="22544" y="15548"/>
                  <a:pt x="22622" y="15503"/>
                </a:cubicBezTo>
                <a:cubicBezTo>
                  <a:pt x="22672" y="15474"/>
                  <a:pt x="22779" y="15460"/>
                  <a:pt x="22721" y="15404"/>
                </a:cubicBezTo>
                <a:cubicBezTo>
                  <a:pt x="22713" y="15404"/>
                  <a:pt x="22704" y="15404"/>
                  <a:pt x="22696" y="15404"/>
                </a:cubicBezTo>
              </a:path>
              <a:path w="1489" h="2209">
                <a:moveTo>
                  <a:pt x="22696" y="14759"/>
                </a:moveTo>
                <a:cubicBezTo>
                  <a:pt x="22688" y="14791"/>
                  <a:pt x="22684" y="14851"/>
                  <a:pt x="22671" y="14883"/>
                </a:cubicBezTo>
                <a:cubicBezTo>
                  <a:pt x="22652" y="14931"/>
                  <a:pt x="22628" y="14972"/>
                  <a:pt x="22622" y="15032"/>
                </a:cubicBezTo>
                <a:cubicBezTo>
                  <a:pt x="22612" y="15138"/>
                  <a:pt x="22629" y="15239"/>
                  <a:pt x="22647" y="15329"/>
                </a:cubicBezTo>
                <a:cubicBezTo>
                  <a:pt x="22658" y="15382"/>
                  <a:pt x="22647" y="15448"/>
                  <a:pt x="22647" y="15503"/>
                </a:cubicBezTo>
                <a:cubicBezTo>
                  <a:pt x="22647" y="15451"/>
                  <a:pt x="22648" y="15433"/>
                  <a:pt x="22671" y="15404"/>
                </a:cubicBezTo>
              </a:path>
              <a:path w="1489" h="2209">
                <a:moveTo>
                  <a:pt x="22051" y="14709"/>
                </a:moveTo>
                <a:cubicBezTo>
                  <a:pt x="21989" y="14709"/>
                  <a:pt x="21971" y="14740"/>
                  <a:pt x="21927" y="14784"/>
                </a:cubicBezTo>
                <a:cubicBezTo>
                  <a:pt x="21881" y="14830"/>
                  <a:pt x="21848" y="14890"/>
                  <a:pt x="21803" y="14932"/>
                </a:cubicBezTo>
                <a:cubicBezTo>
                  <a:pt x="21752" y="14980"/>
                  <a:pt x="21744" y="15004"/>
                  <a:pt x="21729" y="15081"/>
                </a:cubicBezTo>
                <a:cubicBezTo>
                  <a:pt x="21795" y="15119"/>
                  <a:pt x="21839" y="15155"/>
                  <a:pt x="21903" y="15180"/>
                </a:cubicBezTo>
                <a:cubicBezTo>
                  <a:pt x="21976" y="15208"/>
                  <a:pt x="21971" y="15230"/>
                  <a:pt x="22051" y="15230"/>
                </a:cubicBezTo>
                <a:cubicBezTo>
                  <a:pt x="22103" y="15230"/>
                  <a:pt x="22193" y="15168"/>
                  <a:pt x="22225" y="15131"/>
                </a:cubicBezTo>
                <a:cubicBezTo>
                  <a:pt x="22268" y="15081"/>
                  <a:pt x="22275" y="15045"/>
                  <a:pt x="22275" y="14982"/>
                </a:cubicBezTo>
                <a:cubicBezTo>
                  <a:pt x="22275" y="14912"/>
                  <a:pt x="22280" y="14917"/>
                  <a:pt x="22225" y="14858"/>
                </a:cubicBezTo>
                <a:cubicBezTo>
                  <a:pt x="22178" y="14807"/>
                  <a:pt x="22174" y="14777"/>
                  <a:pt x="22101" y="14759"/>
                </a:cubicBezTo>
                <a:cubicBezTo>
                  <a:pt x="22068" y="14759"/>
                  <a:pt x="22059" y="14751"/>
                  <a:pt x="22076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43040" y="5464080"/>
            <a:ext cx="1009800" cy="1036800"/>
          </a:xfrm>
          <a:custGeom>
            <a:avLst/>
            <a:gdLst/>
            <a:ahLst/>
            <a:rect l="l" t="t" r="r" b="b"/>
            <a:pathLst>
              <a:path w="2804" h="2879">
                <a:moveTo>
                  <a:pt x="5407" y="15999"/>
                </a:moveTo>
                <a:cubicBezTo>
                  <a:pt x="5407" y="15982"/>
                  <a:pt x="5407" y="15966"/>
                  <a:pt x="5407" y="15949"/>
                </a:cubicBezTo>
                <a:cubicBezTo>
                  <a:pt x="5355" y="16003"/>
                  <a:pt x="5300" y="16061"/>
                  <a:pt x="5259" y="16123"/>
                </a:cubicBezTo>
                <a:cubicBezTo>
                  <a:pt x="5196" y="16218"/>
                  <a:pt x="5119" y="16271"/>
                  <a:pt x="5035" y="16346"/>
                </a:cubicBezTo>
                <a:cubicBezTo>
                  <a:pt x="4938" y="16432"/>
                  <a:pt x="4838" y="16498"/>
                  <a:pt x="4738" y="16570"/>
                </a:cubicBezTo>
                <a:cubicBezTo>
                  <a:pt x="4690" y="16605"/>
                  <a:pt x="4642" y="16667"/>
                  <a:pt x="4589" y="16694"/>
                </a:cubicBezTo>
                <a:cubicBezTo>
                  <a:pt x="4581" y="16694"/>
                  <a:pt x="4572" y="16694"/>
                  <a:pt x="4564" y="16694"/>
                </a:cubicBezTo>
                <a:cubicBezTo>
                  <a:pt x="4623" y="16722"/>
                  <a:pt x="4695" y="16659"/>
                  <a:pt x="4762" y="16619"/>
                </a:cubicBezTo>
              </a:path>
              <a:path w="2804" h="2879">
                <a:moveTo>
                  <a:pt x="5407" y="16024"/>
                </a:moveTo>
                <a:cubicBezTo>
                  <a:pt x="5436" y="16034"/>
                  <a:pt x="5464" y="16056"/>
                  <a:pt x="5507" y="16073"/>
                </a:cubicBezTo>
                <a:cubicBezTo>
                  <a:pt x="5582" y="16103"/>
                  <a:pt x="5639" y="16142"/>
                  <a:pt x="5705" y="16173"/>
                </a:cubicBezTo>
                <a:cubicBezTo>
                  <a:pt x="5798" y="16217"/>
                  <a:pt x="5895" y="16238"/>
                  <a:pt x="5978" y="16297"/>
                </a:cubicBezTo>
                <a:cubicBezTo>
                  <a:pt x="6039" y="16340"/>
                  <a:pt x="6090" y="16405"/>
                  <a:pt x="6152" y="16446"/>
                </a:cubicBezTo>
                <a:cubicBezTo>
                  <a:pt x="6206" y="16482"/>
                  <a:pt x="6268" y="16486"/>
                  <a:pt x="6325" y="16520"/>
                </a:cubicBezTo>
                <a:cubicBezTo>
                  <a:pt x="6420" y="16577"/>
                  <a:pt x="6395" y="16576"/>
                  <a:pt x="6325" y="16520"/>
                </a:cubicBezTo>
              </a:path>
              <a:path w="2804" h="2879">
                <a:moveTo>
                  <a:pt x="4713" y="16743"/>
                </a:moveTo>
                <a:cubicBezTo>
                  <a:pt x="4713" y="17040"/>
                  <a:pt x="4713" y="17884"/>
                  <a:pt x="4713" y="17587"/>
                </a:cubicBezTo>
              </a:path>
              <a:path w="2804" h="2879">
                <a:moveTo>
                  <a:pt x="4762" y="17512"/>
                </a:moveTo>
                <a:cubicBezTo>
                  <a:pt x="4802" y="17532"/>
                  <a:pt x="4845" y="17562"/>
                  <a:pt x="4887" y="17587"/>
                </a:cubicBezTo>
                <a:cubicBezTo>
                  <a:pt x="4955" y="17628"/>
                  <a:pt x="5008" y="17681"/>
                  <a:pt x="5085" y="17711"/>
                </a:cubicBezTo>
                <a:cubicBezTo>
                  <a:pt x="5164" y="17741"/>
                  <a:pt x="5238" y="17808"/>
                  <a:pt x="5308" y="17835"/>
                </a:cubicBezTo>
                <a:cubicBezTo>
                  <a:pt x="5379" y="17863"/>
                  <a:pt x="5416" y="17918"/>
                  <a:pt x="5482" y="17983"/>
                </a:cubicBezTo>
                <a:cubicBezTo>
                  <a:pt x="5509" y="18010"/>
                  <a:pt x="5602" y="18062"/>
                  <a:pt x="5631" y="18058"/>
                </a:cubicBezTo>
                <a:cubicBezTo>
                  <a:pt x="5685" y="18051"/>
                  <a:pt x="5761" y="17964"/>
                  <a:pt x="5804" y="17934"/>
                </a:cubicBezTo>
                <a:cubicBezTo>
                  <a:pt x="5839" y="17909"/>
                  <a:pt x="5906" y="17856"/>
                  <a:pt x="5953" y="17835"/>
                </a:cubicBezTo>
                <a:cubicBezTo>
                  <a:pt x="6043" y="17795"/>
                  <a:pt x="6095" y="17740"/>
                  <a:pt x="6176" y="17686"/>
                </a:cubicBezTo>
                <a:cubicBezTo>
                  <a:pt x="6240" y="17644"/>
                  <a:pt x="6314" y="17638"/>
                  <a:pt x="6375" y="17611"/>
                </a:cubicBezTo>
                <a:cubicBezTo>
                  <a:pt x="6441" y="17582"/>
                  <a:pt x="6351" y="17538"/>
                  <a:pt x="6325" y="17512"/>
                </a:cubicBezTo>
              </a:path>
              <a:path w="2804" h="2879">
                <a:moveTo>
                  <a:pt x="6325" y="16594"/>
                </a:moveTo>
                <a:cubicBezTo>
                  <a:pt x="6380" y="16612"/>
                  <a:pt x="6327" y="16640"/>
                  <a:pt x="6350" y="16694"/>
                </a:cubicBezTo>
                <a:cubicBezTo>
                  <a:pt x="6377" y="16757"/>
                  <a:pt x="6396" y="16786"/>
                  <a:pt x="6400" y="16867"/>
                </a:cubicBezTo>
                <a:cubicBezTo>
                  <a:pt x="6404" y="16958"/>
                  <a:pt x="6389" y="17032"/>
                  <a:pt x="6375" y="17115"/>
                </a:cubicBezTo>
                <a:cubicBezTo>
                  <a:pt x="6360" y="17203"/>
                  <a:pt x="6373" y="17285"/>
                  <a:pt x="6350" y="17363"/>
                </a:cubicBezTo>
                <a:cubicBezTo>
                  <a:pt x="6332" y="17422"/>
                  <a:pt x="6332" y="17591"/>
                  <a:pt x="6375" y="17562"/>
                </a:cubicBezTo>
              </a:path>
              <a:path w="2804" h="2879">
                <a:moveTo>
                  <a:pt x="5383" y="15974"/>
                </a:moveTo>
                <a:cubicBezTo>
                  <a:pt x="5375" y="15958"/>
                  <a:pt x="5366" y="15941"/>
                  <a:pt x="5358" y="15925"/>
                </a:cubicBezTo>
                <a:cubicBezTo>
                  <a:pt x="5413" y="15903"/>
                  <a:pt x="5460" y="15868"/>
                  <a:pt x="5507" y="15825"/>
                </a:cubicBezTo>
                <a:cubicBezTo>
                  <a:pt x="5556" y="15780"/>
                  <a:pt x="5606" y="15751"/>
                  <a:pt x="5655" y="15701"/>
                </a:cubicBezTo>
              </a:path>
              <a:path w="2804" h="2879">
                <a:moveTo>
                  <a:pt x="6102" y="15329"/>
                </a:moveTo>
                <a:cubicBezTo>
                  <a:pt x="6018" y="15258"/>
                  <a:pt x="6034" y="15275"/>
                  <a:pt x="5978" y="15354"/>
                </a:cubicBezTo>
                <a:cubicBezTo>
                  <a:pt x="5936" y="15413"/>
                  <a:pt x="5908" y="15454"/>
                  <a:pt x="5904" y="15528"/>
                </a:cubicBezTo>
                <a:cubicBezTo>
                  <a:pt x="5901" y="15589"/>
                  <a:pt x="5893" y="15653"/>
                  <a:pt x="5928" y="15701"/>
                </a:cubicBezTo>
                <a:cubicBezTo>
                  <a:pt x="5951" y="15733"/>
                  <a:pt x="6062" y="15760"/>
                  <a:pt x="6102" y="15751"/>
                </a:cubicBezTo>
                <a:cubicBezTo>
                  <a:pt x="6126" y="15746"/>
                  <a:pt x="6265" y="15690"/>
                  <a:pt x="6276" y="15677"/>
                </a:cubicBezTo>
                <a:cubicBezTo>
                  <a:pt x="6297" y="15633"/>
                  <a:pt x="6300" y="15621"/>
                  <a:pt x="6325" y="15602"/>
                </a:cubicBezTo>
              </a:path>
              <a:path w="2804" h="2879">
                <a:moveTo>
                  <a:pt x="6449" y="15255"/>
                </a:moveTo>
                <a:cubicBezTo>
                  <a:pt x="6449" y="15429"/>
                  <a:pt x="6419" y="15916"/>
                  <a:pt x="6474" y="15751"/>
                </a:cubicBezTo>
                <a:cubicBezTo>
                  <a:pt x="6474" y="15734"/>
                  <a:pt x="6474" y="15718"/>
                  <a:pt x="6474" y="15701"/>
                </a:cubicBezTo>
              </a:path>
              <a:path w="2804" h="2879">
                <a:moveTo>
                  <a:pt x="6722" y="15180"/>
                </a:moveTo>
                <a:cubicBezTo>
                  <a:pt x="6722" y="15293"/>
                  <a:pt x="6732" y="15397"/>
                  <a:pt x="6747" y="15503"/>
                </a:cubicBezTo>
                <a:cubicBezTo>
                  <a:pt x="6757" y="15574"/>
                  <a:pt x="6747" y="15654"/>
                  <a:pt x="6747" y="15726"/>
                </a:cubicBezTo>
              </a:path>
              <a:path w="2804" h="2879">
                <a:moveTo>
                  <a:pt x="6474" y="15478"/>
                </a:moveTo>
                <a:cubicBezTo>
                  <a:pt x="6557" y="15478"/>
                  <a:pt x="6639" y="15478"/>
                  <a:pt x="6722" y="15478"/>
                </a:cubicBezTo>
              </a:path>
              <a:path w="2804" h="2879">
                <a:moveTo>
                  <a:pt x="7069" y="15577"/>
                </a:moveTo>
                <a:cubicBezTo>
                  <a:pt x="7111" y="15547"/>
                  <a:pt x="7153" y="15555"/>
                  <a:pt x="7193" y="15602"/>
                </a:cubicBezTo>
                <a:cubicBezTo>
                  <a:pt x="7238" y="15655"/>
                  <a:pt x="7223" y="15688"/>
                  <a:pt x="7169" y="15701"/>
                </a:cubicBezTo>
                <a:cubicBezTo>
                  <a:pt x="7178" y="15731"/>
                  <a:pt x="7224" y="15761"/>
                  <a:pt x="7268" y="15776"/>
                </a:cubicBezTo>
                <a:cubicBezTo>
                  <a:pt x="7310" y="15790"/>
                  <a:pt x="7358" y="15761"/>
                  <a:pt x="7367" y="15825"/>
                </a:cubicBezTo>
                <a:cubicBezTo>
                  <a:pt x="7377" y="15892"/>
                  <a:pt x="7365" y="15955"/>
                  <a:pt x="7293" y="15974"/>
                </a:cubicBezTo>
                <a:cubicBezTo>
                  <a:pt x="7263" y="15982"/>
                  <a:pt x="7139" y="16025"/>
                  <a:pt x="7119" y="16024"/>
                </a:cubicBezTo>
                <a:cubicBezTo>
                  <a:pt x="7058" y="16021"/>
                  <a:pt x="7015" y="15974"/>
                  <a:pt x="6945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27760" y="3929040"/>
            <a:ext cx="295200" cy="15228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4089" y="10939"/>
                </a:moveTo>
                <a:cubicBezTo>
                  <a:pt x="14081" y="10931"/>
                  <a:pt x="14072" y="10922"/>
                  <a:pt x="14064" y="10914"/>
                </a:cubicBezTo>
                <a:cubicBezTo>
                  <a:pt x="14039" y="10973"/>
                  <a:pt x="14034" y="11030"/>
                  <a:pt x="14015" y="11088"/>
                </a:cubicBezTo>
                <a:cubicBezTo>
                  <a:pt x="13990" y="11163"/>
                  <a:pt x="13965" y="11155"/>
                  <a:pt x="13965" y="11237"/>
                </a:cubicBezTo>
                <a:cubicBezTo>
                  <a:pt x="13965" y="11315"/>
                  <a:pt x="13951" y="11293"/>
                  <a:pt x="14015" y="11336"/>
                </a:cubicBezTo>
              </a:path>
              <a:path w="820" h="423">
                <a:moveTo>
                  <a:pt x="14461" y="10988"/>
                </a:moveTo>
                <a:cubicBezTo>
                  <a:pt x="14427" y="11048"/>
                  <a:pt x="14402" y="11095"/>
                  <a:pt x="14387" y="11162"/>
                </a:cubicBezTo>
                <a:cubicBezTo>
                  <a:pt x="14375" y="11215"/>
                  <a:pt x="14387" y="11282"/>
                  <a:pt x="14387" y="11336"/>
                </a:cubicBezTo>
                <a:cubicBezTo>
                  <a:pt x="14417" y="11306"/>
                  <a:pt x="14428" y="11292"/>
                  <a:pt x="14436" y="11261"/>
                </a:cubicBezTo>
              </a:path>
              <a:path w="820" h="423">
                <a:moveTo>
                  <a:pt x="14784" y="11286"/>
                </a:moveTo>
                <a:cubicBezTo>
                  <a:pt x="14751" y="11286"/>
                  <a:pt x="14717" y="11286"/>
                  <a:pt x="146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3080" y="3875040"/>
            <a:ext cx="473040" cy="179280"/>
          </a:xfrm>
          <a:custGeom>
            <a:avLst/>
            <a:gdLst/>
            <a:ahLst/>
            <a:rect l="l" t="t" r="r" b="b"/>
            <a:pathLst>
              <a:path w="1316" h="497">
                <a:moveTo>
                  <a:pt x="16371" y="10765"/>
                </a:moveTo>
                <a:cubicBezTo>
                  <a:pt x="16288" y="10789"/>
                  <a:pt x="16290" y="10825"/>
                  <a:pt x="16247" y="10864"/>
                </a:cubicBezTo>
                <a:cubicBezTo>
                  <a:pt x="16193" y="10913"/>
                  <a:pt x="16128" y="10933"/>
                  <a:pt x="16073" y="10988"/>
                </a:cubicBezTo>
                <a:cubicBezTo>
                  <a:pt x="16018" y="11043"/>
                  <a:pt x="15975" y="11076"/>
                  <a:pt x="15925" y="11112"/>
                </a:cubicBezTo>
                <a:cubicBezTo>
                  <a:pt x="15871" y="11151"/>
                  <a:pt x="15804" y="11172"/>
                  <a:pt x="15751" y="11212"/>
                </a:cubicBezTo>
                <a:cubicBezTo>
                  <a:pt x="15726" y="11237"/>
                  <a:pt x="15718" y="11245"/>
                  <a:pt x="15701" y="11261"/>
                </a:cubicBezTo>
                <a:cubicBezTo>
                  <a:pt x="16089" y="11261"/>
                  <a:pt x="16653" y="11368"/>
                  <a:pt x="17016" y="11237"/>
                </a:cubicBezTo>
                <a:cubicBezTo>
                  <a:pt x="16972" y="11184"/>
                  <a:pt x="16931" y="11171"/>
                  <a:pt x="16867" y="11137"/>
                </a:cubicBezTo>
                <a:cubicBezTo>
                  <a:pt x="16806" y="11105"/>
                  <a:pt x="16754" y="11099"/>
                  <a:pt x="16694" y="11063"/>
                </a:cubicBezTo>
                <a:cubicBezTo>
                  <a:pt x="16639" y="11030"/>
                  <a:pt x="16595" y="11012"/>
                  <a:pt x="16545" y="10988"/>
                </a:cubicBezTo>
                <a:cubicBezTo>
                  <a:pt x="16486" y="10959"/>
                  <a:pt x="16356" y="10849"/>
                  <a:pt x="16446" y="10840"/>
                </a:cubicBezTo>
                <a:cubicBezTo>
                  <a:pt x="16454" y="10840"/>
                  <a:pt x="16462" y="10840"/>
                  <a:pt x="16470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081920" y="3633840"/>
            <a:ext cx="527040" cy="277920"/>
          </a:xfrm>
          <a:custGeom>
            <a:avLst/>
            <a:gdLst/>
            <a:ahLst/>
            <a:rect l="l" t="t" r="r" b="b"/>
            <a:pathLst>
              <a:path w="1465" h="769">
                <a:moveTo>
                  <a:pt x="20017" y="10269"/>
                </a:moveTo>
                <a:cubicBezTo>
                  <a:pt x="20008" y="10203"/>
                  <a:pt x="19991" y="10192"/>
                  <a:pt x="19943" y="10145"/>
                </a:cubicBezTo>
                <a:cubicBezTo>
                  <a:pt x="19859" y="10062"/>
                  <a:pt x="19837" y="10095"/>
                  <a:pt x="19769" y="10145"/>
                </a:cubicBezTo>
                <a:cubicBezTo>
                  <a:pt x="19725" y="10178"/>
                  <a:pt x="19682" y="10208"/>
                  <a:pt x="19670" y="10269"/>
                </a:cubicBezTo>
                <a:cubicBezTo>
                  <a:pt x="19651" y="10361"/>
                  <a:pt x="19666" y="10392"/>
                  <a:pt x="19720" y="10443"/>
                </a:cubicBezTo>
                <a:cubicBezTo>
                  <a:pt x="19808" y="10526"/>
                  <a:pt x="19894" y="10573"/>
                  <a:pt x="20017" y="10592"/>
                </a:cubicBezTo>
                <a:cubicBezTo>
                  <a:pt x="20042" y="10592"/>
                  <a:pt x="20067" y="10592"/>
                  <a:pt x="20092" y="10592"/>
                </a:cubicBezTo>
              </a:path>
              <a:path w="1465" h="769">
                <a:moveTo>
                  <a:pt x="20365" y="10319"/>
                </a:moveTo>
                <a:cubicBezTo>
                  <a:pt x="20356" y="10363"/>
                  <a:pt x="20340" y="10396"/>
                  <a:pt x="20340" y="10443"/>
                </a:cubicBezTo>
                <a:cubicBezTo>
                  <a:pt x="20340" y="10467"/>
                  <a:pt x="20334" y="10647"/>
                  <a:pt x="20365" y="10616"/>
                </a:cubicBezTo>
                <a:cubicBezTo>
                  <a:pt x="20373" y="10600"/>
                  <a:pt x="20381" y="10583"/>
                  <a:pt x="20389" y="10567"/>
                </a:cubicBezTo>
              </a:path>
              <a:path w="1465" h="769">
                <a:moveTo>
                  <a:pt x="20613" y="10294"/>
                </a:moveTo>
                <a:cubicBezTo>
                  <a:pt x="20613" y="10373"/>
                  <a:pt x="20613" y="10721"/>
                  <a:pt x="20613" y="10641"/>
                </a:cubicBezTo>
              </a:path>
              <a:path w="1465" h="769">
                <a:moveTo>
                  <a:pt x="20365" y="10443"/>
                </a:moveTo>
                <a:cubicBezTo>
                  <a:pt x="20424" y="10443"/>
                  <a:pt x="20458" y="10462"/>
                  <a:pt x="20513" y="10468"/>
                </a:cubicBezTo>
                <a:cubicBezTo>
                  <a:pt x="20538" y="10468"/>
                  <a:pt x="20546" y="10468"/>
                  <a:pt x="20563" y="10468"/>
                </a:cubicBezTo>
              </a:path>
              <a:path w="1465" h="769">
                <a:moveTo>
                  <a:pt x="20836" y="10641"/>
                </a:moveTo>
                <a:cubicBezTo>
                  <a:pt x="20902" y="10641"/>
                  <a:pt x="20968" y="10641"/>
                  <a:pt x="21034" y="10641"/>
                </a:cubicBezTo>
                <a:cubicBezTo>
                  <a:pt x="21009" y="10691"/>
                  <a:pt x="20941" y="10730"/>
                  <a:pt x="20886" y="10765"/>
                </a:cubicBezTo>
                <a:cubicBezTo>
                  <a:pt x="20900" y="10840"/>
                  <a:pt x="20911" y="10858"/>
                  <a:pt x="20985" y="10864"/>
                </a:cubicBezTo>
                <a:cubicBezTo>
                  <a:pt x="21034" y="10868"/>
                  <a:pt x="21085" y="10864"/>
                  <a:pt x="21134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26160" y="3848040"/>
            <a:ext cx="1660680" cy="527040"/>
          </a:xfrm>
          <a:custGeom>
            <a:avLst/>
            <a:gdLst/>
            <a:ahLst/>
            <a:rect l="l" t="t" r="r" b="b"/>
            <a:pathLst>
              <a:path w="4615" h="1464">
                <a:moveTo>
                  <a:pt x="19596" y="10691"/>
                </a:moveTo>
                <a:cubicBezTo>
                  <a:pt x="19530" y="10734"/>
                  <a:pt x="19412" y="10800"/>
                  <a:pt x="19372" y="10840"/>
                </a:cubicBezTo>
                <a:cubicBezTo>
                  <a:pt x="19326" y="10886"/>
                  <a:pt x="19275" y="10917"/>
                  <a:pt x="19224" y="10964"/>
                </a:cubicBezTo>
                <a:cubicBezTo>
                  <a:pt x="19207" y="10980"/>
                  <a:pt x="19191" y="10997"/>
                  <a:pt x="19174" y="11013"/>
                </a:cubicBezTo>
              </a:path>
              <a:path w="4615" h="1464">
                <a:moveTo>
                  <a:pt x="18628" y="11385"/>
                </a:moveTo>
                <a:cubicBezTo>
                  <a:pt x="18546" y="11385"/>
                  <a:pt x="18541" y="11376"/>
                  <a:pt x="18479" y="11435"/>
                </a:cubicBezTo>
                <a:cubicBezTo>
                  <a:pt x="18429" y="11482"/>
                  <a:pt x="18422" y="11543"/>
                  <a:pt x="18405" y="11609"/>
                </a:cubicBezTo>
                <a:cubicBezTo>
                  <a:pt x="18396" y="11643"/>
                  <a:pt x="18456" y="11709"/>
                  <a:pt x="18479" y="11733"/>
                </a:cubicBezTo>
                <a:cubicBezTo>
                  <a:pt x="18553" y="11812"/>
                  <a:pt x="18600" y="11807"/>
                  <a:pt x="18703" y="11807"/>
                </a:cubicBezTo>
                <a:cubicBezTo>
                  <a:pt x="18738" y="11807"/>
                  <a:pt x="18755" y="11802"/>
                  <a:pt x="18777" y="11782"/>
                </a:cubicBezTo>
              </a:path>
              <a:path w="4615" h="1464">
                <a:moveTo>
                  <a:pt x="19050" y="11534"/>
                </a:moveTo>
                <a:cubicBezTo>
                  <a:pt x="19000" y="11584"/>
                  <a:pt x="18981" y="11611"/>
                  <a:pt x="18976" y="11683"/>
                </a:cubicBezTo>
                <a:cubicBezTo>
                  <a:pt x="18971" y="11748"/>
                  <a:pt x="18951" y="11785"/>
                  <a:pt x="18951" y="11857"/>
                </a:cubicBezTo>
                <a:cubicBezTo>
                  <a:pt x="18994" y="11835"/>
                  <a:pt x="19006" y="11831"/>
                  <a:pt x="19025" y="11807"/>
                </a:cubicBezTo>
              </a:path>
              <a:path w="4615" h="1464">
                <a:moveTo>
                  <a:pt x="19298" y="11485"/>
                </a:moveTo>
                <a:cubicBezTo>
                  <a:pt x="19289" y="11536"/>
                  <a:pt x="19273" y="11581"/>
                  <a:pt x="19273" y="11633"/>
                </a:cubicBezTo>
                <a:cubicBezTo>
                  <a:pt x="19273" y="11741"/>
                  <a:pt x="19273" y="11848"/>
                  <a:pt x="19273" y="11956"/>
                </a:cubicBezTo>
              </a:path>
              <a:path w="4615" h="1464">
                <a:moveTo>
                  <a:pt x="18976" y="11733"/>
                </a:moveTo>
                <a:cubicBezTo>
                  <a:pt x="19092" y="11733"/>
                  <a:pt x="19207" y="11733"/>
                  <a:pt x="19323" y="11733"/>
                </a:cubicBezTo>
              </a:path>
              <a:path w="4615" h="1464">
                <a:moveTo>
                  <a:pt x="19496" y="11782"/>
                </a:moveTo>
                <a:cubicBezTo>
                  <a:pt x="19546" y="11782"/>
                  <a:pt x="19595" y="11782"/>
                  <a:pt x="19645" y="11782"/>
                </a:cubicBezTo>
                <a:cubicBezTo>
                  <a:pt x="19623" y="11819"/>
                  <a:pt x="19538" y="11920"/>
                  <a:pt x="19496" y="11956"/>
                </a:cubicBezTo>
                <a:cubicBezTo>
                  <a:pt x="19480" y="11964"/>
                  <a:pt x="19463" y="11973"/>
                  <a:pt x="19447" y="11981"/>
                </a:cubicBezTo>
                <a:cubicBezTo>
                  <a:pt x="19468" y="12024"/>
                  <a:pt x="19515" y="12049"/>
                  <a:pt x="19571" y="12055"/>
                </a:cubicBezTo>
                <a:cubicBezTo>
                  <a:pt x="19662" y="12064"/>
                  <a:pt x="19761" y="12061"/>
                  <a:pt x="19844" y="12030"/>
                </a:cubicBezTo>
              </a:path>
              <a:path w="4615" h="1464">
                <a:moveTo>
                  <a:pt x="20141" y="11832"/>
                </a:moveTo>
                <a:cubicBezTo>
                  <a:pt x="20191" y="11802"/>
                  <a:pt x="20228" y="11807"/>
                  <a:pt x="20290" y="11807"/>
                </a:cubicBezTo>
                <a:cubicBezTo>
                  <a:pt x="20467" y="11807"/>
                  <a:pt x="20642" y="11811"/>
                  <a:pt x="20811" y="11832"/>
                </a:cubicBezTo>
                <a:cubicBezTo>
                  <a:pt x="20882" y="11841"/>
                  <a:pt x="20965" y="11853"/>
                  <a:pt x="21034" y="11857"/>
                </a:cubicBezTo>
                <a:cubicBezTo>
                  <a:pt x="21084" y="11857"/>
                  <a:pt x="21101" y="11857"/>
                  <a:pt x="21034" y="11857"/>
                </a:cubicBezTo>
              </a:path>
              <a:path w="4615" h="1464">
                <a:moveTo>
                  <a:pt x="21803" y="11609"/>
                </a:moveTo>
                <a:cubicBezTo>
                  <a:pt x="21767" y="11595"/>
                  <a:pt x="21673" y="11559"/>
                  <a:pt x="21630" y="11584"/>
                </a:cubicBezTo>
                <a:cubicBezTo>
                  <a:pt x="21559" y="11625"/>
                  <a:pt x="21547" y="11670"/>
                  <a:pt x="21506" y="11733"/>
                </a:cubicBezTo>
                <a:cubicBezTo>
                  <a:pt x="21474" y="11782"/>
                  <a:pt x="21479" y="11835"/>
                  <a:pt x="21530" y="11881"/>
                </a:cubicBezTo>
                <a:cubicBezTo>
                  <a:pt x="21576" y="11922"/>
                  <a:pt x="21692" y="11968"/>
                  <a:pt x="21754" y="11981"/>
                </a:cubicBezTo>
                <a:cubicBezTo>
                  <a:pt x="21813" y="11981"/>
                  <a:pt x="21839" y="11978"/>
                  <a:pt x="21878" y="11956"/>
                </a:cubicBezTo>
              </a:path>
              <a:path w="4615" h="1464">
                <a:moveTo>
                  <a:pt x="22200" y="11683"/>
                </a:moveTo>
                <a:cubicBezTo>
                  <a:pt x="22191" y="11728"/>
                  <a:pt x="22188" y="11788"/>
                  <a:pt x="22175" y="11832"/>
                </a:cubicBezTo>
                <a:cubicBezTo>
                  <a:pt x="22172" y="11842"/>
                  <a:pt x="22150" y="11982"/>
                  <a:pt x="22151" y="11981"/>
                </a:cubicBezTo>
                <a:cubicBezTo>
                  <a:pt x="22159" y="11964"/>
                  <a:pt x="22167" y="11948"/>
                  <a:pt x="22175" y="11931"/>
                </a:cubicBezTo>
              </a:path>
              <a:path w="4615" h="1464">
                <a:moveTo>
                  <a:pt x="22448" y="11633"/>
                </a:moveTo>
                <a:cubicBezTo>
                  <a:pt x="22448" y="11731"/>
                  <a:pt x="22441" y="11811"/>
                  <a:pt x="22423" y="11906"/>
                </a:cubicBezTo>
                <a:cubicBezTo>
                  <a:pt x="22415" y="11950"/>
                  <a:pt x="22427" y="11941"/>
                  <a:pt x="22399" y="11981"/>
                </a:cubicBezTo>
              </a:path>
              <a:path w="4615" h="1464">
                <a:moveTo>
                  <a:pt x="22200" y="11857"/>
                </a:moveTo>
                <a:cubicBezTo>
                  <a:pt x="22250" y="11827"/>
                  <a:pt x="22287" y="11832"/>
                  <a:pt x="22349" y="11832"/>
                </a:cubicBezTo>
                <a:cubicBezTo>
                  <a:pt x="22390" y="11832"/>
                  <a:pt x="22398" y="11832"/>
                  <a:pt x="22423" y="11832"/>
                </a:cubicBezTo>
              </a:path>
              <a:path w="4615" h="1464">
                <a:moveTo>
                  <a:pt x="22696" y="11857"/>
                </a:moveTo>
                <a:cubicBezTo>
                  <a:pt x="22729" y="11873"/>
                  <a:pt x="22743" y="11897"/>
                  <a:pt x="22771" y="11931"/>
                </a:cubicBezTo>
                <a:cubicBezTo>
                  <a:pt x="22735" y="11942"/>
                  <a:pt x="22614" y="11958"/>
                  <a:pt x="22597" y="12005"/>
                </a:cubicBezTo>
                <a:cubicBezTo>
                  <a:pt x="22563" y="12101"/>
                  <a:pt x="22744" y="12118"/>
                  <a:pt x="22796" y="12129"/>
                </a:cubicBezTo>
                <a:cubicBezTo>
                  <a:pt x="22898" y="12151"/>
                  <a:pt x="22926" y="12160"/>
                  <a:pt x="23019" y="12129"/>
                </a:cubicBezTo>
              </a:path>
              <a:path w="4615" h="1464">
                <a:moveTo>
                  <a:pt x="21406" y="10889"/>
                </a:moveTo>
                <a:cubicBezTo>
                  <a:pt x="21449" y="10943"/>
                  <a:pt x="21488" y="11021"/>
                  <a:pt x="21530" y="11063"/>
                </a:cubicBezTo>
                <a:cubicBezTo>
                  <a:pt x="21596" y="11129"/>
                  <a:pt x="21686" y="11169"/>
                  <a:pt x="21754" y="11237"/>
                </a:cubicBezTo>
                <a:cubicBezTo>
                  <a:pt x="21805" y="11288"/>
                  <a:pt x="21874" y="11325"/>
                  <a:pt x="21927" y="11361"/>
                </a:cubicBezTo>
                <a:cubicBezTo>
                  <a:pt x="21975" y="11394"/>
                  <a:pt x="21879" y="11363"/>
                  <a:pt x="21828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97000" y="4626000"/>
            <a:ext cx="1320840" cy="276120"/>
          </a:xfrm>
          <a:custGeom>
            <a:avLst/>
            <a:gdLst/>
            <a:ahLst/>
            <a:rect l="l" t="t" r="r" b="b"/>
            <a:pathLst>
              <a:path w="3672" h="770">
                <a:moveTo>
                  <a:pt x="3324" y="13246"/>
                </a:moveTo>
                <a:cubicBezTo>
                  <a:pt x="3324" y="13356"/>
                  <a:pt x="3286" y="13534"/>
                  <a:pt x="3349" y="13618"/>
                </a:cubicBezTo>
                <a:cubicBezTo>
                  <a:pt x="3386" y="13599"/>
                  <a:pt x="3444" y="13513"/>
                  <a:pt x="3473" y="13469"/>
                </a:cubicBezTo>
                <a:cubicBezTo>
                  <a:pt x="3521" y="13396"/>
                  <a:pt x="3519" y="13364"/>
                  <a:pt x="3597" y="13320"/>
                </a:cubicBezTo>
                <a:cubicBezTo>
                  <a:pt x="3604" y="13371"/>
                  <a:pt x="3615" y="13423"/>
                  <a:pt x="3646" y="13469"/>
                </a:cubicBezTo>
                <a:cubicBezTo>
                  <a:pt x="3660" y="13489"/>
                  <a:pt x="3782" y="13587"/>
                  <a:pt x="3795" y="13593"/>
                </a:cubicBezTo>
                <a:cubicBezTo>
                  <a:pt x="3812" y="13593"/>
                  <a:pt x="3828" y="13593"/>
                  <a:pt x="3845" y="13593"/>
                </a:cubicBezTo>
                <a:cubicBezTo>
                  <a:pt x="3913" y="13511"/>
                  <a:pt x="3919" y="13473"/>
                  <a:pt x="3919" y="13370"/>
                </a:cubicBezTo>
                <a:cubicBezTo>
                  <a:pt x="3919" y="13331"/>
                  <a:pt x="3946" y="13142"/>
                  <a:pt x="3894" y="13122"/>
                </a:cubicBezTo>
                <a:cubicBezTo>
                  <a:pt x="3878" y="13122"/>
                  <a:pt x="3861" y="13122"/>
                  <a:pt x="3845" y="13122"/>
                </a:cubicBezTo>
              </a:path>
              <a:path w="3672" h="770">
                <a:moveTo>
                  <a:pt x="4266" y="13047"/>
                </a:moveTo>
                <a:cubicBezTo>
                  <a:pt x="4288" y="13112"/>
                  <a:pt x="4316" y="13148"/>
                  <a:pt x="4316" y="13221"/>
                </a:cubicBezTo>
                <a:cubicBezTo>
                  <a:pt x="4316" y="13262"/>
                  <a:pt x="4316" y="13304"/>
                  <a:pt x="4316" y="13345"/>
                </a:cubicBezTo>
                <a:cubicBezTo>
                  <a:pt x="4341" y="13345"/>
                  <a:pt x="4349" y="13345"/>
                  <a:pt x="4341" y="13320"/>
                </a:cubicBezTo>
              </a:path>
              <a:path w="3672" h="770">
                <a:moveTo>
                  <a:pt x="4415" y="12998"/>
                </a:moveTo>
                <a:cubicBezTo>
                  <a:pt x="4444" y="12925"/>
                  <a:pt x="4464" y="12923"/>
                  <a:pt x="4539" y="12923"/>
                </a:cubicBezTo>
                <a:cubicBezTo>
                  <a:pt x="4626" y="12923"/>
                  <a:pt x="4655" y="12966"/>
                  <a:pt x="4688" y="13047"/>
                </a:cubicBezTo>
                <a:cubicBezTo>
                  <a:pt x="4688" y="13055"/>
                  <a:pt x="4688" y="13064"/>
                  <a:pt x="4688" y="13072"/>
                </a:cubicBezTo>
                <a:cubicBezTo>
                  <a:pt x="4625" y="13104"/>
                  <a:pt x="4580" y="13141"/>
                  <a:pt x="4514" y="13146"/>
                </a:cubicBezTo>
                <a:cubicBezTo>
                  <a:pt x="4446" y="13152"/>
                  <a:pt x="4459" y="13225"/>
                  <a:pt x="4490" y="13246"/>
                </a:cubicBezTo>
                <a:cubicBezTo>
                  <a:pt x="4566" y="13296"/>
                  <a:pt x="4642" y="13341"/>
                  <a:pt x="4713" y="13395"/>
                </a:cubicBezTo>
                <a:cubicBezTo>
                  <a:pt x="4788" y="13452"/>
                  <a:pt x="4795" y="13422"/>
                  <a:pt x="4812" y="13345"/>
                </a:cubicBezTo>
              </a:path>
              <a:path w="3672" h="770">
                <a:moveTo>
                  <a:pt x="5135" y="12998"/>
                </a:moveTo>
                <a:cubicBezTo>
                  <a:pt x="5071" y="12998"/>
                  <a:pt x="5038" y="12992"/>
                  <a:pt x="5011" y="13047"/>
                </a:cubicBezTo>
                <a:cubicBezTo>
                  <a:pt x="4992" y="13086"/>
                  <a:pt x="4970" y="13150"/>
                  <a:pt x="4986" y="13196"/>
                </a:cubicBezTo>
                <a:cubicBezTo>
                  <a:pt x="5010" y="13263"/>
                  <a:pt x="5069" y="13266"/>
                  <a:pt x="5135" y="13271"/>
                </a:cubicBezTo>
                <a:cubicBezTo>
                  <a:pt x="5205" y="13276"/>
                  <a:pt x="5230" y="13196"/>
                  <a:pt x="5234" y="13146"/>
                </a:cubicBezTo>
                <a:cubicBezTo>
                  <a:pt x="5239" y="13093"/>
                  <a:pt x="5226" y="13068"/>
                  <a:pt x="5184" y="13047"/>
                </a:cubicBezTo>
              </a:path>
              <a:path w="3672" h="770">
                <a:moveTo>
                  <a:pt x="5308" y="13271"/>
                </a:moveTo>
                <a:cubicBezTo>
                  <a:pt x="5354" y="13240"/>
                  <a:pt x="5319" y="13207"/>
                  <a:pt x="5333" y="13146"/>
                </a:cubicBezTo>
                <a:cubicBezTo>
                  <a:pt x="5348" y="13081"/>
                  <a:pt x="5383" y="13039"/>
                  <a:pt x="5383" y="12973"/>
                </a:cubicBezTo>
                <a:cubicBezTo>
                  <a:pt x="5425" y="13026"/>
                  <a:pt x="5471" y="13089"/>
                  <a:pt x="5507" y="13146"/>
                </a:cubicBezTo>
                <a:cubicBezTo>
                  <a:pt x="5543" y="13203"/>
                  <a:pt x="5565" y="13266"/>
                  <a:pt x="5606" y="13320"/>
                </a:cubicBezTo>
                <a:cubicBezTo>
                  <a:pt x="5631" y="13345"/>
                  <a:pt x="5639" y="13353"/>
                  <a:pt x="5655" y="13370"/>
                </a:cubicBezTo>
                <a:cubicBezTo>
                  <a:pt x="5692" y="13305"/>
                  <a:pt x="5708" y="13263"/>
                  <a:pt x="5730" y="13196"/>
                </a:cubicBezTo>
                <a:cubicBezTo>
                  <a:pt x="5760" y="13105"/>
                  <a:pt x="5804" y="13137"/>
                  <a:pt x="5804" y="13022"/>
                </a:cubicBezTo>
                <a:cubicBezTo>
                  <a:pt x="5804" y="12949"/>
                  <a:pt x="5772" y="12934"/>
                  <a:pt x="5804" y="12998"/>
                </a:cubicBezTo>
              </a:path>
              <a:path w="3672" h="770">
                <a:moveTo>
                  <a:pt x="6102" y="12948"/>
                </a:moveTo>
                <a:cubicBezTo>
                  <a:pt x="6077" y="12910"/>
                  <a:pt x="6028" y="12914"/>
                  <a:pt x="5978" y="12948"/>
                </a:cubicBezTo>
                <a:cubicBezTo>
                  <a:pt x="5934" y="12977"/>
                  <a:pt x="5903" y="13027"/>
                  <a:pt x="5879" y="13072"/>
                </a:cubicBezTo>
                <a:cubicBezTo>
                  <a:pt x="5844" y="13138"/>
                  <a:pt x="5843" y="13200"/>
                  <a:pt x="5879" y="13271"/>
                </a:cubicBezTo>
                <a:cubicBezTo>
                  <a:pt x="5902" y="13316"/>
                  <a:pt x="5977" y="13375"/>
                  <a:pt x="6003" y="13395"/>
                </a:cubicBezTo>
                <a:cubicBezTo>
                  <a:pt x="6048" y="13430"/>
                  <a:pt x="6094" y="13419"/>
                  <a:pt x="6152" y="13419"/>
                </a:cubicBezTo>
                <a:cubicBezTo>
                  <a:pt x="6215" y="13419"/>
                  <a:pt x="6274" y="13431"/>
                  <a:pt x="6325" y="13395"/>
                </a:cubicBezTo>
                <a:cubicBezTo>
                  <a:pt x="6377" y="13357"/>
                  <a:pt x="6391" y="13370"/>
                  <a:pt x="6424" y="13320"/>
                </a:cubicBezTo>
                <a:cubicBezTo>
                  <a:pt x="6454" y="13290"/>
                  <a:pt x="6465" y="13276"/>
                  <a:pt x="6474" y="13246"/>
                </a:cubicBezTo>
                <a:cubicBezTo>
                  <a:pt x="6417" y="13246"/>
                  <a:pt x="6234" y="13273"/>
                  <a:pt x="6201" y="13221"/>
                </a:cubicBezTo>
                <a:cubicBezTo>
                  <a:pt x="6184" y="13193"/>
                  <a:pt x="6254" y="13184"/>
                  <a:pt x="6276" y="13171"/>
                </a:cubicBezTo>
              </a:path>
              <a:path w="3672" h="770">
                <a:moveTo>
                  <a:pt x="6995" y="12849"/>
                </a:moveTo>
                <a:cubicBezTo>
                  <a:pt x="6995" y="12902"/>
                  <a:pt x="6973" y="12918"/>
                  <a:pt x="6970" y="12973"/>
                </a:cubicBezTo>
                <a:cubicBezTo>
                  <a:pt x="6966" y="13035"/>
                  <a:pt x="6945" y="13055"/>
                  <a:pt x="6945" y="13122"/>
                </a:cubicBezTo>
                <a:cubicBezTo>
                  <a:pt x="6945" y="13150"/>
                  <a:pt x="6943" y="13160"/>
                  <a:pt x="6921" y="13171"/>
                </a:cubicBezTo>
              </a:path>
              <a:path w="3672" h="770">
                <a:moveTo>
                  <a:pt x="6846" y="13444"/>
                </a:moveTo>
                <a:cubicBezTo>
                  <a:pt x="6811" y="13444"/>
                  <a:pt x="6798" y="13435"/>
                  <a:pt x="679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parent molecule is benzene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br>
              <a:rPr sz="40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-Kekule proposed the following structure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06224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59280" cy="39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702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physics.sfsu.edu/~mugawa/molecu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284640"/>
            <a:ext cx="792000" cy="431640"/>
          </a:xfrm>
          <a:prstGeom prst="leftRightArrow">
            <a:avLst>
              <a:gd name="adj1" fmla="val 50000"/>
              <a:gd name="adj2" fmla="val 36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0064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www.answers.com/main/ntquery?method=4&amp;dsid=2222&amp;dekey=Friedrich+August+Kekul%C3%A9+von+Stradonitz&amp;gwp=8&amp;curtab=2222_1&amp;linktext=Friedrich%20August%20Kekul%C3%A9%20von%20Stradon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tual structure of benzene is a hybrid of the previous two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ests show the molecule is nonpo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proof that supports the existence of double bonds in benz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ray diffraction proves that the carbon-carbon bonds are the same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 evidence indicate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arbons are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rbon is bonded to a single hyd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ene behaves like an alkane and reacts slow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81360"/>
            <a:ext cx="900000" cy="503280"/>
          </a:xfrm>
          <a:prstGeom prst="rightArrow">
            <a:avLst>
              <a:gd name="adj1" fmla="val 50000"/>
              <a:gd name="adj2" fmla="val 44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1577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661000"/>
            <a:ext cx="971640" cy="432000"/>
          </a:xfrm>
          <a:prstGeom prst="rightArrow">
            <a:avLst>
              <a:gd name="adj1" fmla="val 50000"/>
              <a:gd name="adj2" fmla="val 562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f Benz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196640"/>
            <a:ext cx="83739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valence electrons(3per carbon a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hexago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like alk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35280" y="3500280"/>
          <a:ext cx="381636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00280"/>
                    <a:ext cx="38163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012000" y="3500280"/>
            <a:ext cx="266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oint has a carbon with one hydrogen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Image:benzene_circl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773360"/>
            <a:ext cx="2089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aromatics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only one hydrogen is substituted with an alkyl group, NO number is required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ing is used if more than one alkyl group is attached.  (smallest ones possib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7240" y="3294000"/>
          <a:ext cx="27054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3294000"/>
                    <a:ext cx="27054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878280" y="3294000"/>
          <a:ext cx="2428920" cy="23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8280" y="3294000"/>
                    <a:ext cx="24289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77080" y="3284640"/>
          <a:ext cx="208764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3284640"/>
                    <a:ext cx="2087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620640"/>
            <a:ext cx="684360" cy="289080"/>
          </a:xfrm>
          <a:prstGeom prst="rightArrow">
            <a:avLst>
              <a:gd name="adj1" fmla="val 50000"/>
              <a:gd name="adj2" fmla="val 591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0028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805360"/>
            <a:ext cx="96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enzene      ethyl benz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o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8172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565000"/>
            <a:ext cx="85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mon aro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0"/>
            <a:ext cx="871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matics are foun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s, lacquers, disinfectants, germicides, dyes, perfumes, medicines, varnishes and the list goes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0"/>
          <a:ext cx="237636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219640" y="0"/>
          <a:ext cx="201636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0"/>
                    <a:ext cx="20163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700360" y="0"/>
          <a:ext cx="2376360" cy="32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308720" y="0"/>
          <a:ext cx="1656000" cy="31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0"/>
                    <a:ext cx="16560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920" y="3860640"/>
          <a:ext cx="2449440" cy="237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860640"/>
                    <a:ext cx="24494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059280" y="3860640"/>
          <a:ext cx="2952720" cy="237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3860640"/>
                    <a:ext cx="295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372360" y="3716280"/>
          <a:ext cx="2771640" cy="26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3716280"/>
                    <a:ext cx="2771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5092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068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321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37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th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623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6381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salicyc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386064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b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0"/>
          <a:ext cx="237636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219640" y="0"/>
          <a:ext cx="201636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0"/>
                    <a:ext cx="20163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700360" y="0"/>
          <a:ext cx="2376360" cy="32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0"/>
                    <a:ext cx="237636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308720" y="0"/>
          <a:ext cx="1656000" cy="31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0"/>
                    <a:ext cx="16560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3860640"/>
          <a:ext cx="2449440" cy="237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860640"/>
                    <a:ext cx="244944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59280" y="3860640"/>
          <a:ext cx="2952720" cy="237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3860640"/>
                    <a:ext cx="295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372360" y="3716280"/>
          <a:ext cx="2771640" cy="26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3716280"/>
                    <a:ext cx="27716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5092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068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321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51640" y="3213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u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37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th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623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6381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salicyc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86064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b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5919840"/>
            <a:ext cx="358920" cy="223920"/>
          </a:xfrm>
          <a:custGeom>
            <a:avLst/>
            <a:gdLst/>
            <a:ahLst/>
            <a:rect l="l" t="t" r="r" b="b"/>
            <a:pathLst>
              <a:path w="993" h="621">
                <a:moveTo>
                  <a:pt x="1215" y="16446"/>
                </a:moveTo>
                <a:cubicBezTo>
                  <a:pt x="1183" y="16489"/>
                  <a:pt x="1191" y="16513"/>
                  <a:pt x="1191" y="16570"/>
                </a:cubicBezTo>
                <a:cubicBezTo>
                  <a:pt x="1191" y="16640"/>
                  <a:pt x="1210" y="16679"/>
                  <a:pt x="1215" y="16743"/>
                </a:cubicBezTo>
                <a:cubicBezTo>
                  <a:pt x="1222" y="16833"/>
                  <a:pt x="1215" y="16926"/>
                  <a:pt x="1215" y="17016"/>
                </a:cubicBezTo>
                <a:cubicBezTo>
                  <a:pt x="1195" y="16969"/>
                  <a:pt x="1171" y="16917"/>
                  <a:pt x="1166" y="16867"/>
                </a:cubicBezTo>
                <a:cubicBezTo>
                  <a:pt x="1161" y="16815"/>
                  <a:pt x="1173" y="16764"/>
                  <a:pt x="1191" y="16718"/>
                </a:cubicBezTo>
                <a:cubicBezTo>
                  <a:pt x="1223" y="16635"/>
                  <a:pt x="1250" y="16619"/>
                  <a:pt x="1315" y="16570"/>
                </a:cubicBezTo>
                <a:cubicBezTo>
                  <a:pt x="1360" y="16536"/>
                  <a:pt x="1380" y="16476"/>
                  <a:pt x="1439" y="16470"/>
                </a:cubicBezTo>
                <a:cubicBezTo>
                  <a:pt x="1482" y="16466"/>
                  <a:pt x="1555" y="16460"/>
                  <a:pt x="1588" y="16495"/>
                </a:cubicBezTo>
                <a:cubicBezTo>
                  <a:pt x="1626" y="16536"/>
                  <a:pt x="1656" y="16618"/>
                  <a:pt x="1662" y="16669"/>
                </a:cubicBezTo>
                <a:cubicBezTo>
                  <a:pt x="1674" y="16781"/>
                  <a:pt x="1662" y="16903"/>
                  <a:pt x="1662" y="17016"/>
                </a:cubicBezTo>
                <a:cubicBezTo>
                  <a:pt x="1653" y="16955"/>
                  <a:pt x="1637" y="16933"/>
                  <a:pt x="1637" y="16867"/>
                </a:cubicBezTo>
                <a:cubicBezTo>
                  <a:pt x="1637" y="16778"/>
                  <a:pt x="1632" y="16702"/>
                  <a:pt x="1662" y="16619"/>
                </a:cubicBezTo>
                <a:cubicBezTo>
                  <a:pt x="1688" y="16547"/>
                  <a:pt x="1736" y="16504"/>
                  <a:pt x="1811" y="16495"/>
                </a:cubicBezTo>
                <a:cubicBezTo>
                  <a:pt x="1862" y="16489"/>
                  <a:pt x="1917" y="16491"/>
                  <a:pt x="1960" y="16520"/>
                </a:cubicBezTo>
                <a:cubicBezTo>
                  <a:pt x="1980" y="16534"/>
                  <a:pt x="2102" y="16647"/>
                  <a:pt x="2108" y="16669"/>
                </a:cubicBezTo>
                <a:cubicBezTo>
                  <a:pt x="2139" y="16789"/>
                  <a:pt x="2099" y="16927"/>
                  <a:pt x="2133" y="17041"/>
                </a:cubicBezTo>
                <a:cubicBezTo>
                  <a:pt x="2148" y="17092"/>
                  <a:pt x="2151" y="17042"/>
                  <a:pt x="2158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1800" y="5830920"/>
            <a:ext cx="536400" cy="295200"/>
          </a:xfrm>
          <a:custGeom>
            <a:avLst/>
            <a:gdLst/>
            <a:ahLst/>
            <a:rect l="l" t="t" r="r" b="b"/>
            <a:pathLst>
              <a:path w="1490" h="820">
                <a:moveTo>
                  <a:pt x="2679" y="16619"/>
                </a:moveTo>
                <a:cubicBezTo>
                  <a:pt x="2652" y="16565"/>
                  <a:pt x="2614" y="16555"/>
                  <a:pt x="2555" y="16594"/>
                </a:cubicBezTo>
                <a:cubicBezTo>
                  <a:pt x="2501" y="16630"/>
                  <a:pt x="2505" y="16687"/>
                  <a:pt x="2505" y="16743"/>
                </a:cubicBezTo>
                <a:cubicBezTo>
                  <a:pt x="2505" y="16839"/>
                  <a:pt x="2492" y="16892"/>
                  <a:pt x="2555" y="16966"/>
                </a:cubicBezTo>
                <a:cubicBezTo>
                  <a:pt x="2599" y="17018"/>
                  <a:pt x="2642" y="17016"/>
                  <a:pt x="2704" y="17016"/>
                </a:cubicBezTo>
                <a:cubicBezTo>
                  <a:pt x="2761" y="17016"/>
                  <a:pt x="2808" y="16967"/>
                  <a:pt x="2828" y="16917"/>
                </a:cubicBezTo>
                <a:cubicBezTo>
                  <a:pt x="2849" y="16864"/>
                  <a:pt x="2815" y="16808"/>
                  <a:pt x="2803" y="16768"/>
                </a:cubicBezTo>
                <a:cubicBezTo>
                  <a:pt x="2787" y="16716"/>
                  <a:pt x="2763" y="16665"/>
                  <a:pt x="2729" y="16619"/>
                </a:cubicBezTo>
                <a:cubicBezTo>
                  <a:pt x="2714" y="16599"/>
                  <a:pt x="2654" y="16483"/>
                  <a:pt x="2679" y="16520"/>
                </a:cubicBezTo>
                <a:cubicBezTo>
                  <a:pt x="2679" y="16528"/>
                  <a:pt x="2679" y="16537"/>
                  <a:pt x="2679" y="16545"/>
                </a:cubicBezTo>
              </a:path>
              <a:path w="1490" h="820">
                <a:moveTo>
                  <a:pt x="3150" y="16371"/>
                </a:moveTo>
                <a:cubicBezTo>
                  <a:pt x="3150" y="16569"/>
                  <a:pt x="3150" y="16768"/>
                  <a:pt x="3150" y="16966"/>
                </a:cubicBezTo>
                <a:cubicBezTo>
                  <a:pt x="3125" y="16917"/>
                  <a:pt x="3117" y="16900"/>
                  <a:pt x="3101" y="16867"/>
                </a:cubicBezTo>
              </a:path>
              <a:path w="1490" h="820">
                <a:moveTo>
                  <a:pt x="2927" y="16718"/>
                </a:moveTo>
                <a:cubicBezTo>
                  <a:pt x="2973" y="16685"/>
                  <a:pt x="3028" y="16691"/>
                  <a:pt x="3076" y="16669"/>
                </a:cubicBezTo>
                <a:cubicBezTo>
                  <a:pt x="3109" y="16654"/>
                  <a:pt x="3170" y="16637"/>
                  <a:pt x="3200" y="16619"/>
                </a:cubicBezTo>
                <a:cubicBezTo>
                  <a:pt x="3243" y="16593"/>
                  <a:pt x="3296" y="16561"/>
                  <a:pt x="3349" y="16545"/>
                </a:cubicBezTo>
                <a:cubicBezTo>
                  <a:pt x="3425" y="16521"/>
                  <a:pt x="3480" y="16508"/>
                  <a:pt x="3522" y="16446"/>
                </a:cubicBezTo>
              </a:path>
              <a:path w="1490" h="820">
                <a:moveTo>
                  <a:pt x="3448" y="16197"/>
                </a:moveTo>
                <a:cubicBezTo>
                  <a:pt x="3448" y="16305"/>
                  <a:pt x="3477" y="16294"/>
                  <a:pt x="3497" y="16396"/>
                </a:cubicBezTo>
                <a:cubicBezTo>
                  <a:pt x="3512" y="16473"/>
                  <a:pt x="3560" y="16541"/>
                  <a:pt x="3572" y="16619"/>
                </a:cubicBezTo>
                <a:cubicBezTo>
                  <a:pt x="3585" y="16705"/>
                  <a:pt x="3579" y="16784"/>
                  <a:pt x="3597" y="16867"/>
                </a:cubicBezTo>
                <a:cubicBezTo>
                  <a:pt x="3605" y="16905"/>
                  <a:pt x="3597" y="16952"/>
                  <a:pt x="3597" y="16991"/>
                </a:cubicBezTo>
                <a:cubicBezTo>
                  <a:pt x="3597" y="16922"/>
                  <a:pt x="3593" y="16877"/>
                  <a:pt x="3572" y="16818"/>
                </a:cubicBezTo>
                <a:cubicBezTo>
                  <a:pt x="3549" y="16754"/>
                  <a:pt x="3529" y="16733"/>
                  <a:pt x="3572" y="16669"/>
                </a:cubicBezTo>
                <a:cubicBezTo>
                  <a:pt x="3606" y="16618"/>
                  <a:pt x="3691" y="16597"/>
                  <a:pt x="3746" y="16594"/>
                </a:cubicBezTo>
                <a:cubicBezTo>
                  <a:pt x="3849" y="16588"/>
                  <a:pt x="3880" y="16640"/>
                  <a:pt x="3919" y="16718"/>
                </a:cubicBezTo>
                <a:cubicBezTo>
                  <a:pt x="3956" y="16791"/>
                  <a:pt x="3969" y="16807"/>
                  <a:pt x="3969" y="16892"/>
                </a:cubicBezTo>
                <a:cubicBezTo>
                  <a:pt x="3969" y="16918"/>
                  <a:pt x="3951" y="17017"/>
                  <a:pt x="3994" y="17016"/>
                </a:cubicBezTo>
                <a:cubicBezTo>
                  <a:pt x="3994" y="17008"/>
                  <a:pt x="3994" y="16999"/>
                  <a:pt x="3994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7960" y="5892840"/>
            <a:ext cx="787320" cy="287280"/>
          </a:xfrm>
          <a:custGeom>
            <a:avLst/>
            <a:gdLst/>
            <a:ahLst/>
            <a:rect l="l" t="t" r="r" b="b"/>
            <a:pathLst>
              <a:path w="2184" h="795">
                <a:moveTo>
                  <a:pt x="4688" y="16396"/>
                </a:moveTo>
                <a:cubicBezTo>
                  <a:pt x="4688" y="16329"/>
                  <a:pt x="4688" y="16480"/>
                  <a:pt x="4688" y="16495"/>
                </a:cubicBezTo>
                <a:cubicBezTo>
                  <a:pt x="4688" y="16541"/>
                  <a:pt x="4712" y="16965"/>
                  <a:pt x="4663" y="16966"/>
                </a:cubicBezTo>
                <a:cubicBezTo>
                  <a:pt x="4663" y="16958"/>
                  <a:pt x="4663" y="16950"/>
                  <a:pt x="4663" y="16942"/>
                </a:cubicBezTo>
              </a:path>
              <a:path w="2184" h="795">
                <a:moveTo>
                  <a:pt x="4961" y="16371"/>
                </a:moveTo>
                <a:cubicBezTo>
                  <a:pt x="4961" y="16424"/>
                  <a:pt x="4971" y="16456"/>
                  <a:pt x="4936" y="16495"/>
                </a:cubicBezTo>
                <a:cubicBezTo>
                  <a:pt x="4880" y="16556"/>
                  <a:pt x="4837" y="16609"/>
                  <a:pt x="4787" y="16669"/>
                </a:cubicBezTo>
                <a:cubicBezTo>
                  <a:pt x="4754" y="16702"/>
                  <a:pt x="4738" y="16718"/>
                  <a:pt x="4713" y="16743"/>
                </a:cubicBezTo>
                <a:cubicBezTo>
                  <a:pt x="4735" y="16665"/>
                  <a:pt x="4778" y="16644"/>
                  <a:pt x="4862" y="16694"/>
                </a:cubicBezTo>
                <a:cubicBezTo>
                  <a:pt x="4895" y="16714"/>
                  <a:pt x="4986" y="16788"/>
                  <a:pt x="5011" y="16818"/>
                </a:cubicBezTo>
                <a:cubicBezTo>
                  <a:pt x="5033" y="16844"/>
                  <a:pt x="5118" y="17005"/>
                  <a:pt x="5135" y="16991"/>
                </a:cubicBezTo>
                <a:cubicBezTo>
                  <a:pt x="5151" y="16966"/>
                  <a:pt x="5168" y="16942"/>
                  <a:pt x="5184" y="16917"/>
                </a:cubicBezTo>
              </a:path>
              <a:path w="2184" h="795">
                <a:moveTo>
                  <a:pt x="5383" y="16867"/>
                </a:moveTo>
                <a:cubicBezTo>
                  <a:pt x="5383" y="16897"/>
                  <a:pt x="5403" y="17084"/>
                  <a:pt x="5407" y="17066"/>
                </a:cubicBezTo>
                <a:cubicBezTo>
                  <a:pt x="5407" y="17041"/>
                  <a:pt x="5407" y="17016"/>
                  <a:pt x="5407" y="16991"/>
                </a:cubicBezTo>
              </a:path>
              <a:path w="2184" h="795">
                <a:moveTo>
                  <a:pt x="5308" y="16470"/>
                </a:moveTo>
                <a:lnTo>
                  <a:pt x="5308" y="16470"/>
                </a:lnTo>
              </a:path>
              <a:path w="2184" h="795">
                <a:moveTo>
                  <a:pt x="5606" y="16545"/>
                </a:moveTo>
                <a:cubicBezTo>
                  <a:pt x="5615" y="16616"/>
                  <a:pt x="5650" y="16671"/>
                  <a:pt x="5655" y="16743"/>
                </a:cubicBezTo>
                <a:cubicBezTo>
                  <a:pt x="5662" y="16841"/>
                  <a:pt x="5655" y="16943"/>
                  <a:pt x="5655" y="17041"/>
                </a:cubicBezTo>
              </a:path>
              <a:path w="2184" h="795">
                <a:moveTo>
                  <a:pt x="5829" y="16520"/>
                </a:moveTo>
                <a:cubicBezTo>
                  <a:pt x="5829" y="16635"/>
                  <a:pt x="5857" y="16688"/>
                  <a:pt x="5879" y="16793"/>
                </a:cubicBezTo>
                <a:cubicBezTo>
                  <a:pt x="5906" y="16918"/>
                  <a:pt x="5826" y="17265"/>
                  <a:pt x="5904" y="17165"/>
                </a:cubicBezTo>
                <a:cubicBezTo>
                  <a:pt x="5912" y="17140"/>
                  <a:pt x="5920" y="17115"/>
                  <a:pt x="5928" y="17090"/>
                </a:cubicBezTo>
              </a:path>
              <a:path w="2184" h="795">
                <a:moveTo>
                  <a:pt x="6052" y="16942"/>
                </a:moveTo>
                <a:cubicBezTo>
                  <a:pt x="6064" y="16869"/>
                  <a:pt x="6073" y="16892"/>
                  <a:pt x="6152" y="16892"/>
                </a:cubicBezTo>
                <a:cubicBezTo>
                  <a:pt x="6238" y="16892"/>
                  <a:pt x="6275" y="16842"/>
                  <a:pt x="6226" y="16768"/>
                </a:cubicBezTo>
                <a:cubicBezTo>
                  <a:pt x="6195" y="16721"/>
                  <a:pt x="6132" y="16697"/>
                  <a:pt x="6077" y="16718"/>
                </a:cubicBezTo>
                <a:cubicBezTo>
                  <a:pt x="6021" y="16740"/>
                  <a:pt x="6018" y="16819"/>
                  <a:pt x="6028" y="16867"/>
                </a:cubicBezTo>
                <a:cubicBezTo>
                  <a:pt x="6042" y="16932"/>
                  <a:pt x="6099" y="17026"/>
                  <a:pt x="6152" y="17066"/>
                </a:cubicBezTo>
                <a:cubicBezTo>
                  <a:pt x="6206" y="17106"/>
                  <a:pt x="6251" y="17092"/>
                  <a:pt x="6300" y="17066"/>
                </a:cubicBezTo>
                <a:cubicBezTo>
                  <a:pt x="6341" y="17046"/>
                  <a:pt x="6347" y="17037"/>
                  <a:pt x="6375" y="17041"/>
                </a:cubicBezTo>
              </a:path>
              <a:path w="2184" h="795">
                <a:moveTo>
                  <a:pt x="6424" y="16768"/>
                </a:moveTo>
                <a:cubicBezTo>
                  <a:pt x="6424" y="16822"/>
                  <a:pt x="6425" y="16841"/>
                  <a:pt x="6449" y="16892"/>
                </a:cubicBezTo>
                <a:cubicBezTo>
                  <a:pt x="6479" y="16956"/>
                  <a:pt x="6494" y="17019"/>
                  <a:pt x="6499" y="17090"/>
                </a:cubicBezTo>
                <a:cubicBezTo>
                  <a:pt x="6499" y="17098"/>
                  <a:pt x="6499" y="17107"/>
                  <a:pt x="6499" y="17115"/>
                </a:cubicBezTo>
                <a:cubicBezTo>
                  <a:pt x="6516" y="17048"/>
                  <a:pt x="6499" y="17016"/>
                  <a:pt x="6499" y="16942"/>
                </a:cubicBezTo>
                <a:cubicBezTo>
                  <a:pt x="6499" y="16917"/>
                  <a:pt x="6499" y="16892"/>
                  <a:pt x="6499" y="16867"/>
                </a:cubicBezTo>
                <a:cubicBezTo>
                  <a:pt x="6553" y="16849"/>
                  <a:pt x="6568" y="16837"/>
                  <a:pt x="6623" y="16793"/>
                </a:cubicBezTo>
                <a:cubicBezTo>
                  <a:pt x="6657" y="16766"/>
                  <a:pt x="6748" y="16711"/>
                  <a:pt x="6796" y="16743"/>
                </a:cubicBezTo>
                <a:cubicBezTo>
                  <a:pt x="6835" y="16782"/>
                  <a:pt x="6852" y="16814"/>
                  <a:pt x="6846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9840" y="2394000"/>
            <a:ext cx="633240" cy="303120"/>
          </a:xfrm>
          <a:custGeom>
            <a:avLst/>
            <a:gdLst/>
            <a:ahLst/>
            <a:rect l="l" t="t" r="r" b="b"/>
            <a:pathLst>
              <a:path w="1762" h="844">
                <a:moveTo>
                  <a:pt x="967" y="6896"/>
                </a:moveTo>
                <a:cubicBezTo>
                  <a:pt x="967" y="6965"/>
                  <a:pt x="960" y="7011"/>
                  <a:pt x="943" y="7069"/>
                </a:cubicBezTo>
                <a:cubicBezTo>
                  <a:pt x="929" y="7116"/>
                  <a:pt x="924" y="7321"/>
                  <a:pt x="967" y="7342"/>
                </a:cubicBezTo>
                <a:cubicBezTo>
                  <a:pt x="1014" y="7365"/>
                  <a:pt x="1073" y="7304"/>
                  <a:pt x="1091" y="7268"/>
                </a:cubicBezTo>
                <a:cubicBezTo>
                  <a:pt x="1118" y="7213"/>
                  <a:pt x="1144" y="7145"/>
                  <a:pt x="1166" y="7094"/>
                </a:cubicBezTo>
                <a:cubicBezTo>
                  <a:pt x="1176" y="7071"/>
                  <a:pt x="1191" y="6967"/>
                  <a:pt x="1191" y="7020"/>
                </a:cubicBezTo>
                <a:cubicBezTo>
                  <a:pt x="1191" y="7103"/>
                  <a:pt x="1191" y="7185"/>
                  <a:pt x="1191" y="7268"/>
                </a:cubicBezTo>
                <a:cubicBezTo>
                  <a:pt x="1247" y="7284"/>
                  <a:pt x="1267" y="7400"/>
                  <a:pt x="1315" y="7367"/>
                </a:cubicBezTo>
                <a:cubicBezTo>
                  <a:pt x="1323" y="7350"/>
                  <a:pt x="1331" y="7334"/>
                  <a:pt x="1339" y="7317"/>
                </a:cubicBezTo>
              </a:path>
              <a:path w="1762" h="844">
                <a:moveTo>
                  <a:pt x="1736" y="6970"/>
                </a:moveTo>
                <a:cubicBezTo>
                  <a:pt x="1671" y="6920"/>
                  <a:pt x="1675" y="6978"/>
                  <a:pt x="1612" y="6995"/>
                </a:cubicBezTo>
                <a:cubicBezTo>
                  <a:pt x="1540" y="7014"/>
                  <a:pt x="1520" y="7010"/>
                  <a:pt x="1513" y="7094"/>
                </a:cubicBezTo>
                <a:cubicBezTo>
                  <a:pt x="1508" y="7151"/>
                  <a:pt x="1530" y="7181"/>
                  <a:pt x="1588" y="7193"/>
                </a:cubicBezTo>
                <a:cubicBezTo>
                  <a:pt x="1643" y="7204"/>
                  <a:pt x="1669" y="7179"/>
                  <a:pt x="1712" y="7218"/>
                </a:cubicBezTo>
                <a:cubicBezTo>
                  <a:pt x="1750" y="7253"/>
                  <a:pt x="1803" y="7338"/>
                  <a:pt x="1786" y="7392"/>
                </a:cubicBezTo>
                <a:cubicBezTo>
                  <a:pt x="1777" y="7421"/>
                  <a:pt x="1697" y="7501"/>
                  <a:pt x="1662" y="7491"/>
                </a:cubicBezTo>
                <a:cubicBezTo>
                  <a:pt x="1635" y="7483"/>
                  <a:pt x="1502" y="7427"/>
                  <a:pt x="1488" y="7417"/>
                </a:cubicBezTo>
                <a:cubicBezTo>
                  <a:pt x="1488" y="7409"/>
                  <a:pt x="1488" y="7400"/>
                  <a:pt x="1488" y="7392"/>
                </a:cubicBezTo>
              </a:path>
              <a:path w="1762" h="844">
                <a:moveTo>
                  <a:pt x="1935" y="7268"/>
                </a:moveTo>
                <a:cubicBezTo>
                  <a:pt x="1986" y="7237"/>
                  <a:pt x="2062" y="7264"/>
                  <a:pt x="2108" y="7218"/>
                </a:cubicBezTo>
                <a:cubicBezTo>
                  <a:pt x="2135" y="7191"/>
                  <a:pt x="2169" y="7146"/>
                  <a:pt x="2183" y="7119"/>
                </a:cubicBezTo>
                <a:cubicBezTo>
                  <a:pt x="2160" y="7078"/>
                  <a:pt x="2124" y="6994"/>
                  <a:pt x="2059" y="7020"/>
                </a:cubicBezTo>
                <a:cubicBezTo>
                  <a:pt x="1998" y="7045"/>
                  <a:pt x="1934" y="7130"/>
                  <a:pt x="1910" y="7193"/>
                </a:cubicBezTo>
                <a:cubicBezTo>
                  <a:pt x="1885" y="7259"/>
                  <a:pt x="1940" y="7293"/>
                  <a:pt x="1960" y="7342"/>
                </a:cubicBezTo>
                <a:cubicBezTo>
                  <a:pt x="1974" y="7376"/>
                  <a:pt x="2015" y="7415"/>
                  <a:pt x="2059" y="7417"/>
                </a:cubicBezTo>
                <a:cubicBezTo>
                  <a:pt x="2125" y="7420"/>
                  <a:pt x="2183" y="7430"/>
                  <a:pt x="2232" y="7392"/>
                </a:cubicBezTo>
              </a:path>
              <a:path w="1762" h="844">
                <a:moveTo>
                  <a:pt x="2580" y="7094"/>
                </a:moveTo>
                <a:cubicBezTo>
                  <a:pt x="2547" y="7062"/>
                  <a:pt x="2509" y="7019"/>
                  <a:pt x="2456" y="7045"/>
                </a:cubicBezTo>
                <a:cubicBezTo>
                  <a:pt x="2412" y="7066"/>
                  <a:pt x="2392" y="7133"/>
                  <a:pt x="2381" y="7169"/>
                </a:cubicBezTo>
                <a:cubicBezTo>
                  <a:pt x="2365" y="7223"/>
                  <a:pt x="2370" y="7302"/>
                  <a:pt x="2406" y="7342"/>
                </a:cubicBezTo>
                <a:cubicBezTo>
                  <a:pt x="2462" y="7405"/>
                  <a:pt x="2488" y="7392"/>
                  <a:pt x="2555" y="7367"/>
                </a:cubicBezTo>
                <a:cubicBezTo>
                  <a:pt x="2668" y="7326"/>
                  <a:pt x="2646" y="7291"/>
                  <a:pt x="2679" y="7193"/>
                </a:cubicBezTo>
                <a:cubicBezTo>
                  <a:pt x="2713" y="7091"/>
                  <a:pt x="2701" y="7030"/>
                  <a:pt x="2679" y="6921"/>
                </a:cubicBezTo>
                <a:cubicBezTo>
                  <a:pt x="2661" y="6834"/>
                  <a:pt x="2652" y="6746"/>
                  <a:pt x="2629" y="6672"/>
                </a:cubicBezTo>
                <a:cubicBezTo>
                  <a:pt x="2629" y="6664"/>
                  <a:pt x="2629" y="6656"/>
                  <a:pt x="2629" y="6648"/>
                </a:cubicBezTo>
                <a:cubicBezTo>
                  <a:pt x="2616" y="6698"/>
                  <a:pt x="2604" y="6711"/>
                  <a:pt x="2604" y="6772"/>
                </a:cubicBezTo>
                <a:cubicBezTo>
                  <a:pt x="2604" y="6928"/>
                  <a:pt x="2604" y="7351"/>
                  <a:pt x="2604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7920" y="2428920"/>
            <a:ext cx="528480" cy="258840"/>
          </a:xfrm>
          <a:custGeom>
            <a:avLst/>
            <a:gdLst/>
            <a:ahLst/>
            <a:rect l="l" t="t" r="r" b="b"/>
            <a:pathLst>
              <a:path w="1465" h="720">
                <a:moveTo>
                  <a:pt x="3547" y="7466"/>
                </a:moveTo>
                <a:cubicBezTo>
                  <a:pt x="3547" y="7354"/>
                  <a:pt x="3539" y="7250"/>
                  <a:pt x="3522" y="7144"/>
                </a:cubicBezTo>
                <a:cubicBezTo>
                  <a:pt x="3510" y="7068"/>
                  <a:pt x="3511" y="6997"/>
                  <a:pt x="3497" y="6921"/>
                </a:cubicBezTo>
                <a:cubicBezTo>
                  <a:pt x="3489" y="6878"/>
                  <a:pt x="3506" y="6817"/>
                  <a:pt x="3547" y="6796"/>
                </a:cubicBezTo>
                <a:cubicBezTo>
                  <a:pt x="3583" y="6777"/>
                  <a:pt x="3681" y="6750"/>
                  <a:pt x="3721" y="6747"/>
                </a:cubicBezTo>
                <a:cubicBezTo>
                  <a:pt x="3796" y="6742"/>
                  <a:pt x="3780" y="6738"/>
                  <a:pt x="3820" y="6796"/>
                </a:cubicBezTo>
              </a:path>
              <a:path w="1465" h="720">
                <a:moveTo>
                  <a:pt x="3274" y="7243"/>
                </a:moveTo>
                <a:cubicBezTo>
                  <a:pt x="3378" y="7223"/>
                  <a:pt x="3444" y="7218"/>
                  <a:pt x="3547" y="7218"/>
                </a:cubicBezTo>
                <a:cubicBezTo>
                  <a:pt x="3650" y="7218"/>
                  <a:pt x="3750" y="7229"/>
                  <a:pt x="3845" y="7193"/>
                </a:cubicBezTo>
              </a:path>
              <a:path w="1465" h="720">
                <a:moveTo>
                  <a:pt x="4018" y="7119"/>
                </a:moveTo>
                <a:cubicBezTo>
                  <a:pt x="3945" y="7128"/>
                  <a:pt x="3896" y="7139"/>
                  <a:pt x="3870" y="7218"/>
                </a:cubicBezTo>
                <a:cubicBezTo>
                  <a:pt x="3858" y="7255"/>
                  <a:pt x="3829" y="7296"/>
                  <a:pt x="3845" y="7342"/>
                </a:cubicBezTo>
                <a:cubicBezTo>
                  <a:pt x="3878" y="7441"/>
                  <a:pt x="3902" y="7385"/>
                  <a:pt x="3969" y="7417"/>
                </a:cubicBezTo>
                <a:cubicBezTo>
                  <a:pt x="3997" y="7444"/>
                  <a:pt x="4011" y="7452"/>
                  <a:pt x="4043" y="7441"/>
                </a:cubicBezTo>
                <a:cubicBezTo>
                  <a:pt x="4091" y="7375"/>
                  <a:pt x="4123" y="7353"/>
                  <a:pt x="4142" y="7268"/>
                </a:cubicBezTo>
                <a:cubicBezTo>
                  <a:pt x="4158" y="7196"/>
                  <a:pt x="4123" y="7148"/>
                  <a:pt x="4068" y="7119"/>
                </a:cubicBezTo>
                <a:cubicBezTo>
                  <a:pt x="4024" y="7097"/>
                  <a:pt x="4003" y="7084"/>
                  <a:pt x="4043" y="7119"/>
                </a:cubicBezTo>
              </a:path>
              <a:path w="1465" h="720">
                <a:moveTo>
                  <a:pt x="4266" y="7144"/>
                </a:moveTo>
                <a:cubicBezTo>
                  <a:pt x="4293" y="7217"/>
                  <a:pt x="4316" y="7266"/>
                  <a:pt x="4316" y="7342"/>
                </a:cubicBezTo>
                <a:cubicBezTo>
                  <a:pt x="4316" y="7384"/>
                  <a:pt x="4316" y="7392"/>
                  <a:pt x="4316" y="7417"/>
                </a:cubicBezTo>
                <a:cubicBezTo>
                  <a:pt x="4337" y="7368"/>
                  <a:pt x="4353" y="7313"/>
                  <a:pt x="4366" y="7268"/>
                </a:cubicBezTo>
                <a:cubicBezTo>
                  <a:pt x="4390" y="7187"/>
                  <a:pt x="4332" y="7171"/>
                  <a:pt x="4415" y="7119"/>
                </a:cubicBezTo>
                <a:cubicBezTo>
                  <a:pt x="4488" y="7073"/>
                  <a:pt x="4525" y="7069"/>
                  <a:pt x="4614" y="7069"/>
                </a:cubicBezTo>
                <a:cubicBezTo>
                  <a:pt x="4657" y="7069"/>
                  <a:pt x="4734" y="7046"/>
                  <a:pt x="4738" y="7094"/>
                </a:cubicBezTo>
                <a:cubicBezTo>
                  <a:pt x="4746" y="7192"/>
                  <a:pt x="4712" y="7130"/>
                  <a:pt x="468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2446200"/>
            <a:ext cx="519120" cy="358920"/>
          </a:xfrm>
          <a:custGeom>
            <a:avLst/>
            <a:gdLst/>
            <a:ahLst/>
            <a:rect l="l" t="t" r="r" b="b"/>
            <a:pathLst>
              <a:path w="1440" h="994">
                <a:moveTo>
                  <a:pt x="7714" y="7293"/>
                </a:moveTo>
                <a:cubicBezTo>
                  <a:pt x="7714" y="7252"/>
                  <a:pt x="7714" y="7326"/>
                  <a:pt x="7714" y="7367"/>
                </a:cubicBezTo>
                <a:cubicBezTo>
                  <a:pt x="7714" y="7456"/>
                  <a:pt x="7684" y="7582"/>
                  <a:pt x="7764" y="7640"/>
                </a:cubicBezTo>
                <a:cubicBezTo>
                  <a:pt x="7772" y="7640"/>
                  <a:pt x="7781" y="7640"/>
                  <a:pt x="7789" y="7640"/>
                </a:cubicBezTo>
                <a:cubicBezTo>
                  <a:pt x="7843" y="7585"/>
                  <a:pt x="7882" y="7565"/>
                  <a:pt x="7888" y="7491"/>
                </a:cubicBezTo>
                <a:cubicBezTo>
                  <a:pt x="7892" y="7441"/>
                  <a:pt x="7910" y="7409"/>
                  <a:pt x="7913" y="7367"/>
                </a:cubicBezTo>
                <a:cubicBezTo>
                  <a:pt x="7913" y="7350"/>
                  <a:pt x="7913" y="7334"/>
                  <a:pt x="7913" y="7317"/>
                </a:cubicBezTo>
                <a:cubicBezTo>
                  <a:pt x="7913" y="7253"/>
                  <a:pt x="7913" y="7356"/>
                  <a:pt x="7913" y="7367"/>
                </a:cubicBezTo>
                <a:cubicBezTo>
                  <a:pt x="7913" y="7496"/>
                  <a:pt x="7898" y="7601"/>
                  <a:pt x="7962" y="7689"/>
                </a:cubicBezTo>
                <a:cubicBezTo>
                  <a:pt x="7982" y="7730"/>
                  <a:pt x="7980" y="7746"/>
                  <a:pt x="8012" y="7739"/>
                </a:cubicBezTo>
              </a:path>
              <a:path w="1440" h="994">
                <a:moveTo>
                  <a:pt x="8285" y="7342"/>
                </a:moveTo>
                <a:cubicBezTo>
                  <a:pt x="8285" y="7326"/>
                  <a:pt x="8285" y="7309"/>
                  <a:pt x="8285" y="7293"/>
                </a:cubicBezTo>
                <a:cubicBezTo>
                  <a:pt x="8223" y="7302"/>
                  <a:pt x="8186" y="7322"/>
                  <a:pt x="8136" y="7367"/>
                </a:cubicBezTo>
                <a:cubicBezTo>
                  <a:pt x="8077" y="7421"/>
                  <a:pt x="8129" y="7468"/>
                  <a:pt x="8186" y="7491"/>
                </a:cubicBezTo>
                <a:cubicBezTo>
                  <a:pt x="8240" y="7513"/>
                  <a:pt x="8289" y="7479"/>
                  <a:pt x="8334" y="7541"/>
                </a:cubicBezTo>
                <a:cubicBezTo>
                  <a:pt x="8383" y="7609"/>
                  <a:pt x="8390" y="7626"/>
                  <a:pt x="8334" y="7689"/>
                </a:cubicBezTo>
                <a:cubicBezTo>
                  <a:pt x="8318" y="7707"/>
                  <a:pt x="8237" y="7770"/>
                  <a:pt x="8210" y="7739"/>
                </a:cubicBezTo>
                <a:cubicBezTo>
                  <a:pt x="8191" y="7698"/>
                  <a:pt x="8183" y="7692"/>
                  <a:pt x="8186" y="7665"/>
                </a:cubicBezTo>
              </a:path>
              <a:path w="1440" h="994">
                <a:moveTo>
                  <a:pt x="8483" y="7541"/>
                </a:moveTo>
                <a:cubicBezTo>
                  <a:pt x="8530" y="7568"/>
                  <a:pt x="8580" y="7572"/>
                  <a:pt x="8632" y="7541"/>
                </a:cubicBezTo>
                <a:cubicBezTo>
                  <a:pt x="8672" y="7517"/>
                  <a:pt x="8672" y="7442"/>
                  <a:pt x="8632" y="7417"/>
                </a:cubicBezTo>
                <a:cubicBezTo>
                  <a:pt x="8566" y="7377"/>
                  <a:pt x="8503" y="7432"/>
                  <a:pt x="8483" y="7491"/>
                </a:cubicBezTo>
                <a:cubicBezTo>
                  <a:pt x="8462" y="7554"/>
                  <a:pt x="8470" y="7724"/>
                  <a:pt x="8533" y="7764"/>
                </a:cubicBezTo>
                <a:cubicBezTo>
                  <a:pt x="8567" y="7785"/>
                  <a:pt x="8687" y="7801"/>
                  <a:pt x="8731" y="7789"/>
                </a:cubicBezTo>
                <a:cubicBezTo>
                  <a:pt x="8748" y="7781"/>
                  <a:pt x="8764" y="7772"/>
                  <a:pt x="8781" y="7764"/>
                </a:cubicBezTo>
              </a:path>
              <a:path w="1440" h="994">
                <a:moveTo>
                  <a:pt x="9079" y="7441"/>
                </a:moveTo>
                <a:cubicBezTo>
                  <a:pt x="9014" y="7359"/>
                  <a:pt x="9039" y="7367"/>
                  <a:pt x="8954" y="7367"/>
                </a:cubicBezTo>
                <a:cubicBezTo>
                  <a:pt x="8931" y="7430"/>
                  <a:pt x="8910" y="7478"/>
                  <a:pt x="8905" y="7541"/>
                </a:cubicBezTo>
                <a:cubicBezTo>
                  <a:pt x="8899" y="7617"/>
                  <a:pt x="8932" y="7623"/>
                  <a:pt x="8954" y="7689"/>
                </a:cubicBezTo>
                <a:cubicBezTo>
                  <a:pt x="8954" y="7724"/>
                  <a:pt x="8963" y="7737"/>
                  <a:pt x="9004" y="7739"/>
                </a:cubicBezTo>
                <a:cubicBezTo>
                  <a:pt x="9035" y="7685"/>
                  <a:pt x="9111" y="7619"/>
                  <a:pt x="9128" y="7565"/>
                </a:cubicBezTo>
                <a:cubicBezTo>
                  <a:pt x="9153" y="7486"/>
                  <a:pt x="9163" y="7378"/>
                  <a:pt x="9153" y="7293"/>
                </a:cubicBezTo>
                <a:cubicBezTo>
                  <a:pt x="9133" y="7127"/>
                  <a:pt x="9094" y="6962"/>
                  <a:pt x="9079" y="6796"/>
                </a:cubicBezTo>
                <a:cubicBezTo>
                  <a:pt x="9079" y="6941"/>
                  <a:pt x="9093" y="7076"/>
                  <a:pt x="9128" y="7218"/>
                </a:cubicBezTo>
                <a:cubicBezTo>
                  <a:pt x="9151" y="7313"/>
                  <a:pt x="9153" y="7393"/>
                  <a:pt x="9153" y="7491"/>
                </a:cubicBezTo>
                <a:cubicBezTo>
                  <a:pt x="9153" y="7514"/>
                  <a:pt x="9153" y="7631"/>
                  <a:pt x="9153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83000" y="2536920"/>
            <a:ext cx="23184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9823" y="7045"/>
                </a:moveTo>
                <a:cubicBezTo>
                  <a:pt x="9831" y="7139"/>
                  <a:pt x="9847" y="7221"/>
                  <a:pt x="9847" y="7317"/>
                </a:cubicBezTo>
                <a:cubicBezTo>
                  <a:pt x="9847" y="7416"/>
                  <a:pt x="9862" y="7473"/>
                  <a:pt x="9847" y="7565"/>
                </a:cubicBezTo>
                <a:cubicBezTo>
                  <a:pt x="9836" y="7629"/>
                  <a:pt x="9881" y="7851"/>
                  <a:pt x="9823" y="7689"/>
                </a:cubicBezTo>
              </a:path>
              <a:path w="646" h="720">
                <a:moveTo>
                  <a:pt x="9674" y="7491"/>
                </a:moveTo>
                <a:cubicBezTo>
                  <a:pt x="9727" y="7438"/>
                  <a:pt x="9747" y="7441"/>
                  <a:pt x="9823" y="7441"/>
                </a:cubicBezTo>
                <a:cubicBezTo>
                  <a:pt x="9914" y="7441"/>
                  <a:pt x="10041" y="7465"/>
                  <a:pt x="10120" y="7417"/>
                </a:cubicBezTo>
                <a:cubicBezTo>
                  <a:pt x="10145" y="7392"/>
                  <a:pt x="10153" y="7384"/>
                  <a:pt x="10170" y="7367"/>
                </a:cubicBezTo>
                <a:cubicBezTo>
                  <a:pt x="10106" y="7404"/>
                  <a:pt x="10069" y="7441"/>
                  <a:pt x="10046" y="7516"/>
                </a:cubicBezTo>
                <a:cubicBezTo>
                  <a:pt x="10030" y="7569"/>
                  <a:pt x="10049" y="7624"/>
                  <a:pt x="10071" y="7665"/>
                </a:cubicBezTo>
                <a:cubicBezTo>
                  <a:pt x="10100" y="7719"/>
                  <a:pt x="10164" y="7753"/>
                  <a:pt x="10220" y="7714"/>
                </a:cubicBezTo>
                <a:cubicBezTo>
                  <a:pt x="10293" y="7663"/>
                  <a:pt x="10315" y="7623"/>
                  <a:pt x="10319" y="7541"/>
                </a:cubicBezTo>
                <a:cubicBezTo>
                  <a:pt x="10324" y="7441"/>
                  <a:pt x="10317" y="7432"/>
                  <a:pt x="10269" y="7367"/>
                </a:cubicBezTo>
                <a:cubicBezTo>
                  <a:pt x="10227" y="7310"/>
                  <a:pt x="10218" y="7293"/>
                  <a:pt x="10145" y="7293"/>
                </a:cubicBezTo>
                <a:cubicBezTo>
                  <a:pt x="10137" y="7293"/>
                  <a:pt x="10128" y="7293"/>
                  <a:pt x="10120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7040" y="2562120"/>
            <a:ext cx="776160" cy="22392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11212" y="7317"/>
                </a:moveTo>
                <a:cubicBezTo>
                  <a:pt x="11212" y="7389"/>
                  <a:pt x="11212" y="7760"/>
                  <a:pt x="11212" y="7665"/>
                </a:cubicBezTo>
                <a:cubicBezTo>
                  <a:pt x="11212" y="7592"/>
                  <a:pt x="11195" y="7504"/>
                  <a:pt x="11237" y="7441"/>
                </a:cubicBezTo>
                <a:cubicBezTo>
                  <a:pt x="11256" y="7412"/>
                  <a:pt x="11348" y="7347"/>
                  <a:pt x="11385" y="7367"/>
                </a:cubicBezTo>
                <a:cubicBezTo>
                  <a:pt x="11425" y="7389"/>
                  <a:pt x="11469" y="7495"/>
                  <a:pt x="11485" y="7541"/>
                </a:cubicBezTo>
                <a:cubicBezTo>
                  <a:pt x="11492" y="7563"/>
                  <a:pt x="11485" y="7621"/>
                  <a:pt x="11485" y="7640"/>
                </a:cubicBezTo>
                <a:cubicBezTo>
                  <a:pt x="11485" y="7686"/>
                  <a:pt x="11524" y="7571"/>
                  <a:pt x="11534" y="7541"/>
                </a:cubicBezTo>
                <a:cubicBezTo>
                  <a:pt x="11547" y="7501"/>
                  <a:pt x="11566" y="7412"/>
                  <a:pt x="11633" y="7417"/>
                </a:cubicBezTo>
                <a:cubicBezTo>
                  <a:pt x="11653" y="7419"/>
                  <a:pt x="11749" y="7488"/>
                  <a:pt x="11757" y="7516"/>
                </a:cubicBezTo>
                <a:cubicBezTo>
                  <a:pt x="11774" y="7575"/>
                  <a:pt x="11761" y="7569"/>
                  <a:pt x="11807" y="7615"/>
                </a:cubicBezTo>
              </a:path>
              <a:path w="2159" h="621">
                <a:moveTo>
                  <a:pt x="12030" y="7392"/>
                </a:moveTo>
                <a:cubicBezTo>
                  <a:pt x="11997" y="7408"/>
                  <a:pt x="11949" y="7472"/>
                  <a:pt x="11931" y="7516"/>
                </a:cubicBezTo>
                <a:cubicBezTo>
                  <a:pt x="11912" y="7564"/>
                  <a:pt x="11924" y="7630"/>
                  <a:pt x="11956" y="7665"/>
                </a:cubicBezTo>
                <a:cubicBezTo>
                  <a:pt x="12040" y="7755"/>
                  <a:pt x="12045" y="7681"/>
                  <a:pt x="12080" y="7615"/>
                </a:cubicBezTo>
                <a:cubicBezTo>
                  <a:pt x="12112" y="7556"/>
                  <a:pt x="12105" y="7507"/>
                  <a:pt x="12105" y="7441"/>
                </a:cubicBezTo>
                <a:cubicBezTo>
                  <a:pt x="12155" y="7492"/>
                  <a:pt x="12134" y="7504"/>
                  <a:pt x="12154" y="7565"/>
                </a:cubicBezTo>
                <a:cubicBezTo>
                  <a:pt x="12168" y="7607"/>
                  <a:pt x="12265" y="7747"/>
                  <a:pt x="12303" y="7739"/>
                </a:cubicBezTo>
                <a:cubicBezTo>
                  <a:pt x="12326" y="7716"/>
                  <a:pt x="12334" y="7712"/>
                  <a:pt x="12328" y="7689"/>
                </a:cubicBezTo>
              </a:path>
              <a:path w="2159" h="621">
                <a:moveTo>
                  <a:pt x="12378" y="7119"/>
                </a:moveTo>
                <a:cubicBezTo>
                  <a:pt x="12378" y="7199"/>
                  <a:pt x="12376" y="7273"/>
                  <a:pt x="12402" y="7342"/>
                </a:cubicBezTo>
                <a:cubicBezTo>
                  <a:pt x="12430" y="7416"/>
                  <a:pt x="12427" y="7463"/>
                  <a:pt x="12427" y="7541"/>
                </a:cubicBezTo>
                <a:cubicBezTo>
                  <a:pt x="12427" y="7583"/>
                  <a:pt x="12429" y="7697"/>
                  <a:pt x="12402" y="7590"/>
                </a:cubicBezTo>
              </a:path>
              <a:path w="2159" h="621">
                <a:moveTo>
                  <a:pt x="12675" y="7119"/>
                </a:moveTo>
                <a:cubicBezTo>
                  <a:pt x="12658" y="7188"/>
                  <a:pt x="12629" y="7242"/>
                  <a:pt x="12551" y="7268"/>
                </a:cubicBezTo>
                <a:cubicBezTo>
                  <a:pt x="12500" y="7285"/>
                  <a:pt x="12467" y="7268"/>
                  <a:pt x="12452" y="7342"/>
                </a:cubicBezTo>
                <a:cubicBezTo>
                  <a:pt x="12436" y="7420"/>
                  <a:pt x="12481" y="7444"/>
                  <a:pt x="12551" y="7466"/>
                </a:cubicBezTo>
                <a:cubicBezTo>
                  <a:pt x="12581" y="7475"/>
                  <a:pt x="12627" y="7529"/>
                  <a:pt x="12650" y="7565"/>
                </a:cubicBezTo>
                <a:cubicBezTo>
                  <a:pt x="12655" y="7573"/>
                  <a:pt x="12773" y="7690"/>
                  <a:pt x="12774" y="7689"/>
                </a:cubicBezTo>
                <a:cubicBezTo>
                  <a:pt x="12774" y="7673"/>
                  <a:pt x="12774" y="7656"/>
                  <a:pt x="12774" y="7640"/>
                </a:cubicBezTo>
              </a:path>
              <a:path w="2159" h="621">
                <a:moveTo>
                  <a:pt x="12874" y="7491"/>
                </a:moveTo>
                <a:cubicBezTo>
                  <a:pt x="12923" y="7453"/>
                  <a:pt x="12960" y="7474"/>
                  <a:pt x="13022" y="7441"/>
                </a:cubicBezTo>
                <a:cubicBezTo>
                  <a:pt x="13068" y="7417"/>
                  <a:pt x="13107" y="7330"/>
                  <a:pt x="13047" y="7293"/>
                </a:cubicBezTo>
                <a:cubicBezTo>
                  <a:pt x="12960" y="7240"/>
                  <a:pt x="12939" y="7360"/>
                  <a:pt x="12923" y="7392"/>
                </a:cubicBezTo>
                <a:cubicBezTo>
                  <a:pt x="12890" y="7457"/>
                  <a:pt x="12874" y="7455"/>
                  <a:pt x="12874" y="7541"/>
                </a:cubicBezTo>
                <a:cubicBezTo>
                  <a:pt x="12874" y="7599"/>
                  <a:pt x="12915" y="7651"/>
                  <a:pt x="12973" y="7665"/>
                </a:cubicBezTo>
                <a:cubicBezTo>
                  <a:pt x="13074" y="7689"/>
                  <a:pt x="13105" y="7612"/>
                  <a:pt x="13196" y="7590"/>
                </a:cubicBezTo>
                <a:cubicBezTo>
                  <a:pt x="13251" y="7577"/>
                  <a:pt x="13313" y="7571"/>
                  <a:pt x="13370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02680" y="2482920"/>
            <a:ext cx="1349280" cy="276120"/>
          </a:xfrm>
          <a:custGeom>
            <a:avLst/>
            <a:gdLst/>
            <a:ahLst/>
            <a:rect l="l" t="t" r="r" b="b"/>
            <a:pathLst>
              <a:path w="3747" h="770">
                <a:moveTo>
                  <a:pt x="20613" y="7193"/>
                </a:moveTo>
                <a:cubicBezTo>
                  <a:pt x="20613" y="7246"/>
                  <a:pt x="20635" y="7273"/>
                  <a:pt x="20638" y="7317"/>
                </a:cubicBezTo>
                <a:cubicBezTo>
                  <a:pt x="20643" y="7380"/>
                  <a:pt x="20657" y="7407"/>
                  <a:pt x="20662" y="7466"/>
                </a:cubicBezTo>
                <a:cubicBezTo>
                  <a:pt x="20665" y="7498"/>
                  <a:pt x="20662" y="7533"/>
                  <a:pt x="20662" y="7565"/>
                </a:cubicBezTo>
                <a:cubicBezTo>
                  <a:pt x="20654" y="7511"/>
                  <a:pt x="20714" y="7433"/>
                  <a:pt x="20662" y="7417"/>
                </a:cubicBezTo>
                <a:cubicBezTo>
                  <a:pt x="20646" y="7425"/>
                  <a:pt x="20629" y="7433"/>
                  <a:pt x="20613" y="7441"/>
                </a:cubicBezTo>
              </a:path>
              <a:path w="3747" h="770">
                <a:moveTo>
                  <a:pt x="20985" y="7293"/>
                </a:moveTo>
                <a:cubicBezTo>
                  <a:pt x="20985" y="7384"/>
                  <a:pt x="20985" y="7474"/>
                  <a:pt x="20985" y="7565"/>
                </a:cubicBezTo>
                <a:cubicBezTo>
                  <a:pt x="21007" y="7493"/>
                  <a:pt x="21010" y="7464"/>
                  <a:pt x="21010" y="7392"/>
                </a:cubicBezTo>
                <a:cubicBezTo>
                  <a:pt x="21010" y="7337"/>
                  <a:pt x="21024" y="7312"/>
                  <a:pt x="21059" y="7268"/>
                </a:cubicBezTo>
                <a:cubicBezTo>
                  <a:pt x="21123" y="7268"/>
                  <a:pt x="21139" y="7303"/>
                  <a:pt x="21158" y="7367"/>
                </a:cubicBezTo>
                <a:cubicBezTo>
                  <a:pt x="21171" y="7411"/>
                  <a:pt x="21183" y="7438"/>
                  <a:pt x="21183" y="7491"/>
                </a:cubicBezTo>
                <a:cubicBezTo>
                  <a:pt x="21215" y="7436"/>
                  <a:pt x="21209" y="7390"/>
                  <a:pt x="21233" y="7342"/>
                </a:cubicBezTo>
                <a:cubicBezTo>
                  <a:pt x="21249" y="7310"/>
                  <a:pt x="21325" y="7261"/>
                  <a:pt x="21357" y="7293"/>
                </a:cubicBezTo>
                <a:cubicBezTo>
                  <a:pt x="21396" y="7331"/>
                  <a:pt x="21431" y="7386"/>
                  <a:pt x="21431" y="7441"/>
                </a:cubicBezTo>
                <a:cubicBezTo>
                  <a:pt x="21431" y="7493"/>
                  <a:pt x="21463" y="7581"/>
                  <a:pt x="21506" y="7615"/>
                </a:cubicBezTo>
                <a:cubicBezTo>
                  <a:pt x="21539" y="7615"/>
                  <a:pt x="21547" y="7606"/>
                  <a:pt x="21530" y="7565"/>
                </a:cubicBezTo>
              </a:path>
              <a:path w="3747" h="770">
                <a:moveTo>
                  <a:pt x="21729" y="7293"/>
                </a:moveTo>
                <a:cubicBezTo>
                  <a:pt x="21749" y="7367"/>
                  <a:pt x="21754" y="7416"/>
                  <a:pt x="21754" y="7491"/>
                </a:cubicBezTo>
                <a:cubicBezTo>
                  <a:pt x="21754" y="7524"/>
                  <a:pt x="21754" y="7691"/>
                  <a:pt x="21754" y="7640"/>
                </a:cubicBezTo>
              </a:path>
              <a:path w="3747" h="770">
                <a:moveTo>
                  <a:pt x="21605" y="7268"/>
                </a:moveTo>
                <a:cubicBezTo>
                  <a:pt x="21633" y="7154"/>
                  <a:pt x="21647" y="7203"/>
                  <a:pt x="21729" y="7169"/>
                </a:cubicBezTo>
                <a:cubicBezTo>
                  <a:pt x="21794" y="7142"/>
                  <a:pt x="21793" y="7144"/>
                  <a:pt x="21853" y="7169"/>
                </a:cubicBezTo>
                <a:cubicBezTo>
                  <a:pt x="21913" y="7194"/>
                  <a:pt x="21964" y="7210"/>
                  <a:pt x="22002" y="7268"/>
                </a:cubicBezTo>
                <a:cubicBezTo>
                  <a:pt x="22055" y="7349"/>
                  <a:pt x="22031" y="7371"/>
                  <a:pt x="21977" y="7417"/>
                </a:cubicBezTo>
                <a:cubicBezTo>
                  <a:pt x="21921" y="7465"/>
                  <a:pt x="21894" y="7492"/>
                  <a:pt x="21828" y="7441"/>
                </a:cubicBezTo>
                <a:cubicBezTo>
                  <a:pt x="21778" y="7402"/>
                  <a:pt x="21754" y="7438"/>
                  <a:pt x="21754" y="7367"/>
                </a:cubicBezTo>
              </a:path>
              <a:path w="3747" h="770">
                <a:moveTo>
                  <a:pt x="22275" y="7169"/>
                </a:moveTo>
                <a:cubicBezTo>
                  <a:pt x="22275" y="7231"/>
                  <a:pt x="22289" y="7261"/>
                  <a:pt x="22299" y="7317"/>
                </a:cubicBezTo>
                <a:cubicBezTo>
                  <a:pt x="22306" y="7356"/>
                  <a:pt x="22299" y="7402"/>
                  <a:pt x="22299" y="7441"/>
                </a:cubicBezTo>
                <a:cubicBezTo>
                  <a:pt x="22273" y="7378"/>
                  <a:pt x="22275" y="7338"/>
                  <a:pt x="22275" y="7268"/>
                </a:cubicBezTo>
                <a:cubicBezTo>
                  <a:pt x="22275" y="7183"/>
                  <a:pt x="22311" y="7170"/>
                  <a:pt x="22374" y="7144"/>
                </a:cubicBezTo>
                <a:cubicBezTo>
                  <a:pt x="22467" y="7106"/>
                  <a:pt x="22462" y="7140"/>
                  <a:pt x="22547" y="7193"/>
                </a:cubicBezTo>
                <a:cubicBezTo>
                  <a:pt x="22588" y="7213"/>
                  <a:pt x="22594" y="7222"/>
                  <a:pt x="22622" y="7218"/>
                </a:cubicBezTo>
              </a:path>
              <a:path w="3747" h="770">
                <a:moveTo>
                  <a:pt x="22870" y="7169"/>
                </a:moveTo>
                <a:cubicBezTo>
                  <a:pt x="22813" y="7134"/>
                  <a:pt x="22799" y="7139"/>
                  <a:pt x="22746" y="7169"/>
                </a:cubicBezTo>
                <a:cubicBezTo>
                  <a:pt x="22713" y="7187"/>
                  <a:pt x="22659" y="7250"/>
                  <a:pt x="22647" y="7293"/>
                </a:cubicBezTo>
                <a:cubicBezTo>
                  <a:pt x="22634" y="7340"/>
                  <a:pt x="22647" y="7410"/>
                  <a:pt x="22696" y="7417"/>
                </a:cubicBezTo>
                <a:cubicBezTo>
                  <a:pt x="22776" y="7428"/>
                  <a:pt x="22833" y="7433"/>
                  <a:pt x="22870" y="7367"/>
                </a:cubicBezTo>
                <a:cubicBezTo>
                  <a:pt x="22895" y="7323"/>
                  <a:pt x="22919" y="7236"/>
                  <a:pt x="22870" y="7193"/>
                </a:cubicBezTo>
                <a:cubicBezTo>
                  <a:pt x="22862" y="7193"/>
                  <a:pt x="22853" y="7193"/>
                  <a:pt x="22845" y="7193"/>
                </a:cubicBezTo>
              </a:path>
              <a:path w="3747" h="770">
                <a:moveTo>
                  <a:pt x="23068" y="7094"/>
                </a:moveTo>
                <a:cubicBezTo>
                  <a:pt x="23068" y="7167"/>
                  <a:pt x="23057" y="7249"/>
                  <a:pt x="23093" y="7317"/>
                </a:cubicBezTo>
                <a:cubicBezTo>
                  <a:pt x="23118" y="7363"/>
                  <a:pt x="23118" y="7381"/>
                  <a:pt x="23118" y="7441"/>
                </a:cubicBezTo>
                <a:cubicBezTo>
                  <a:pt x="23118" y="7539"/>
                  <a:pt x="23168" y="7515"/>
                  <a:pt x="23217" y="7466"/>
                </a:cubicBezTo>
                <a:cubicBezTo>
                  <a:pt x="23244" y="7439"/>
                  <a:pt x="23330" y="7357"/>
                  <a:pt x="23341" y="7317"/>
                </a:cubicBezTo>
                <a:cubicBezTo>
                  <a:pt x="23358" y="7257"/>
                  <a:pt x="23325" y="7222"/>
                  <a:pt x="23316" y="7169"/>
                </a:cubicBezTo>
                <a:cubicBezTo>
                  <a:pt x="23307" y="7120"/>
                  <a:pt x="23315" y="7046"/>
                  <a:pt x="23267" y="7119"/>
                </a:cubicBezTo>
              </a:path>
              <a:path w="3747" h="770">
                <a:moveTo>
                  <a:pt x="23416" y="7243"/>
                </a:moveTo>
                <a:cubicBezTo>
                  <a:pt x="23481" y="7310"/>
                  <a:pt x="23468" y="7287"/>
                  <a:pt x="23564" y="7268"/>
                </a:cubicBezTo>
                <a:cubicBezTo>
                  <a:pt x="23630" y="7255"/>
                  <a:pt x="23678" y="7203"/>
                  <a:pt x="23688" y="7144"/>
                </a:cubicBezTo>
                <a:cubicBezTo>
                  <a:pt x="23697" y="7090"/>
                  <a:pt x="23654" y="7016"/>
                  <a:pt x="23589" y="7045"/>
                </a:cubicBezTo>
                <a:cubicBezTo>
                  <a:pt x="23538" y="7068"/>
                  <a:pt x="23493" y="7167"/>
                  <a:pt x="23490" y="7218"/>
                </a:cubicBezTo>
                <a:cubicBezTo>
                  <a:pt x="23486" y="7304"/>
                  <a:pt x="23508" y="7335"/>
                  <a:pt x="23564" y="7392"/>
                </a:cubicBezTo>
                <a:cubicBezTo>
                  <a:pt x="23606" y="7435"/>
                  <a:pt x="23656" y="7441"/>
                  <a:pt x="23713" y="7441"/>
                </a:cubicBezTo>
                <a:cubicBezTo>
                  <a:pt x="23746" y="7441"/>
                  <a:pt x="23763" y="7441"/>
                  <a:pt x="23788" y="7441"/>
                </a:cubicBezTo>
              </a:path>
              <a:path w="3747" h="770">
                <a:moveTo>
                  <a:pt x="24259" y="7020"/>
                </a:moveTo>
                <a:cubicBezTo>
                  <a:pt x="24173" y="7020"/>
                  <a:pt x="24152" y="7012"/>
                  <a:pt x="24085" y="7069"/>
                </a:cubicBezTo>
                <a:cubicBezTo>
                  <a:pt x="24050" y="7099"/>
                  <a:pt x="24026" y="7131"/>
                  <a:pt x="24011" y="7169"/>
                </a:cubicBezTo>
                <a:cubicBezTo>
                  <a:pt x="24053" y="7199"/>
                  <a:pt x="24080" y="7193"/>
                  <a:pt x="24135" y="7193"/>
                </a:cubicBezTo>
                <a:cubicBezTo>
                  <a:pt x="24199" y="7193"/>
                  <a:pt x="24287" y="7231"/>
                  <a:pt x="24309" y="7293"/>
                </a:cubicBezTo>
                <a:cubicBezTo>
                  <a:pt x="24341" y="7384"/>
                  <a:pt x="24250" y="7413"/>
                  <a:pt x="24185" y="7417"/>
                </a:cubicBezTo>
                <a:cubicBezTo>
                  <a:pt x="24119" y="7421"/>
                  <a:pt x="24052" y="7417"/>
                  <a:pt x="23986" y="7417"/>
                </a:cubicBezTo>
              </a:path>
              <a:path w="3747" h="770">
                <a:moveTo>
                  <a:pt x="20613" y="6921"/>
                </a:moveTo>
                <a:cubicBezTo>
                  <a:pt x="20584" y="6978"/>
                  <a:pt x="20662" y="6979"/>
                  <a:pt x="20563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9840" y="2687760"/>
            <a:ext cx="1062000" cy="260280"/>
          </a:xfrm>
          <a:custGeom>
            <a:avLst/>
            <a:gdLst/>
            <a:ahLst/>
            <a:rect l="l" t="t" r="r" b="b"/>
            <a:pathLst>
              <a:path w="2952" h="721">
                <a:moveTo>
                  <a:pt x="943" y="7665"/>
                </a:moveTo>
                <a:cubicBezTo>
                  <a:pt x="943" y="7724"/>
                  <a:pt x="953" y="7764"/>
                  <a:pt x="967" y="7813"/>
                </a:cubicBezTo>
                <a:cubicBezTo>
                  <a:pt x="979" y="7855"/>
                  <a:pt x="967" y="7918"/>
                  <a:pt x="967" y="7962"/>
                </a:cubicBezTo>
                <a:cubicBezTo>
                  <a:pt x="967" y="8038"/>
                  <a:pt x="967" y="7902"/>
                  <a:pt x="967" y="7888"/>
                </a:cubicBezTo>
                <a:cubicBezTo>
                  <a:pt x="967" y="7834"/>
                  <a:pt x="957" y="7804"/>
                  <a:pt x="992" y="7764"/>
                </a:cubicBezTo>
                <a:cubicBezTo>
                  <a:pt x="1039" y="7711"/>
                  <a:pt x="1085" y="7708"/>
                  <a:pt x="1141" y="7689"/>
                </a:cubicBezTo>
                <a:cubicBezTo>
                  <a:pt x="1182" y="7670"/>
                  <a:pt x="1188" y="7662"/>
                  <a:pt x="1215" y="7665"/>
                </a:cubicBezTo>
                <a:cubicBezTo>
                  <a:pt x="1247" y="7707"/>
                  <a:pt x="1240" y="7733"/>
                  <a:pt x="1240" y="7789"/>
                </a:cubicBezTo>
                <a:cubicBezTo>
                  <a:pt x="1240" y="7830"/>
                  <a:pt x="1240" y="7838"/>
                  <a:pt x="1240" y="7863"/>
                </a:cubicBezTo>
                <a:cubicBezTo>
                  <a:pt x="1214" y="7804"/>
                  <a:pt x="1197" y="7768"/>
                  <a:pt x="1240" y="7714"/>
                </a:cubicBezTo>
                <a:cubicBezTo>
                  <a:pt x="1282" y="7661"/>
                  <a:pt x="1295" y="7633"/>
                  <a:pt x="1364" y="7615"/>
                </a:cubicBezTo>
                <a:cubicBezTo>
                  <a:pt x="1413" y="7603"/>
                  <a:pt x="1447" y="7683"/>
                  <a:pt x="1463" y="7714"/>
                </a:cubicBezTo>
                <a:cubicBezTo>
                  <a:pt x="1496" y="7777"/>
                  <a:pt x="1488" y="7816"/>
                  <a:pt x="1488" y="7888"/>
                </a:cubicBezTo>
                <a:cubicBezTo>
                  <a:pt x="1488" y="7994"/>
                  <a:pt x="1430" y="8043"/>
                  <a:pt x="1488" y="7962"/>
                </a:cubicBezTo>
                <a:cubicBezTo>
                  <a:pt x="1496" y="7962"/>
                  <a:pt x="1505" y="7962"/>
                  <a:pt x="1513" y="7962"/>
                </a:cubicBezTo>
              </a:path>
              <a:path w="2952" h="721">
                <a:moveTo>
                  <a:pt x="1885" y="7714"/>
                </a:moveTo>
                <a:cubicBezTo>
                  <a:pt x="1859" y="7681"/>
                  <a:pt x="1837" y="7648"/>
                  <a:pt x="1811" y="7615"/>
                </a:cubicBezTo>
                <a:cubicBezTo>
                  <a:pt x="1746" y="7652"/>
                  <a:pt x="1701" y="7683"/>
                  <a:pt x="1687" y="7764"/>
                </a:cubicBezTo>
                <a:cubicBezTo>
                  <a:pt x="1668" y="7873"/>
                  <a:pt x="1709" y="7919"/>
                  <a:pt x="1736" y="7987"/>
                </a:cubicBezTo>
                <a:cubicBezTo>
                  <a:pt x="1736" y="8037"/>
                  <a:pt x="1736" y="8054"/>
                  <a:pt x="1786" y="8037"/>
                </a:cubicBezTo>
                <a:cubicBezTo>
                  <a:pt x="1817" y="7966"/>
                  <a:pt x="1831" y="7917"/>
                  <a:pt x="1836" y="7838"/>
                </a:cubicBezTo>
                <a:cubicBezTo>
                  <a:pt x="1838" y="7805"/>
                  <a:pt x="1836" y="7772"/>
                  <a:pt x="1836" y="7739"/>
                </a:cubicBezTo>
                <a:cubicBezTo>
                  <a:pt x="1874" y="7752"/>
                  <a:pt x="1863" y="7814"/>
                  <a:pt x="1885" y="7863"/>
                </a:cubicBezTo>
                <a:cubicBezTo>
                  <a:pt x="1919" y="7940"/>
                  <a:pt x="1891" y="7979"/>
                  <a:pt x="1984" y="7987"/>
                </a:cubicBezTo>
                <a:cubicBezTo>
                  <a:pt x="1992" y="7987"/>
                  <a:pt x="2001" y="7987"/>
                  <a:pt x="2009" y="7987"/>
                </a:cubicBezTo>
              </a:path>
              <a:path w="2952" h="721">
                <a:moveTo>
                  <a:pt x="2158" y="7541"/>
                </a:moveTo>
                <a:cubicBezTo>
                  <a:pt x="2169" y="7596"/>
                  <a:pt x="2183" y="7630"/>
                  <a:pt x="2183" y="7689"/>
                </a:cubicBezTo>
                <a:cubicBezTo>
                  <a:pt x="2183" y="7729"/>
                  <a:pt x="2203" y="8037"/>
                  <a:pt x="2158" y="8037"/>
                </a:cubicBezTo>
                <a:cubicBezTo>
                  <a:pt x="2158" y="8002"/>
                  <a:pt x="2163" y="7984"/>
                  <a:pt x="2183" y="7962"/>
                </a:cubicBezTo>
              </a:path>
              <a:path w="2952" h="721">
                <a:moveTo>
                  <a:pt x="2406" y="7466"/>
                </a:moveTo>
                <a:cubicBezTo>
                  <a:pt x="2397" y="7531"/>
                  <a:pt x="2369" y="7574"/>
                  <a:pt x="2307" y="7615"/>
                </a:cubicBezTo>
                <a:cubicBezTo>
                  <a:pt x="2258" y="7648"/>
                  <a:pt x="2244" y="7668"/>
                  <a:pt x="2208" y="7714"/>
                </a:cubicBezTo>
                <a:cubicBezTo>
                  <a:pt x="2250" y="7748"/>
                  <a:pt x="2303" y="7796"/>
                  <a:pt x="2356" y="7813"/>
                </a:cubicBezTo>
                <a:cubicBezTo>
                  <a:pt x="2408" y="7830"/>
                  <a:pt x="2456" y="7884"/>
                  <a:pt x="2480" y="7938"/>
                </a:cubicBezTo>
                <a:cubicBezTo>
                  <a:pt x="2488" y="7963"/>
                  <a:pt x="2497" y="7987"/>
                  <a:pt x="2505" y="8012"/>
                </a:cubicBezTo>
              </a:path>
              <a:path w="2952" h="721">
                <a:moveTo>
                  <a:pt x="2729" y="7789"/>
                </a:moveTo>
                <a:cubicBezTo>
                  <a:pt x="2754" y="7849"/>
                  <a:pt x="2753" y="7873"/>
                  <a:pt x="2753" y="7938"/>
                </a:cubicBezTo>
                <a:cubicBezTo>
                  <a:pt x="2753" y="7913"/>
                  <a:pt x="2753" y="7905"/>
                  <a:pt x="2753" y="7888"/>
                </a:cubicBezTo>
              </a:path>
              <a:path w="2952" h="721">
                <a:moveTo>
                  <a:pt x="2753" y="7615"/>
                </a:moveTo>
                <a:cubicBezTo>
                  <a:pt x="2753" y="7574"/>
                  <a:pt x="2762" y="7557"/>
                  <a:pt x="2729" y="7565"/>
                </a:cubicBezTo>
              </a:path>
              <a:path w="2952" h="721">
                <a:moveTo>
                  <a:pt x="2902" y="7789"/>
                </a:moveTo>
                <a:cubicBezTo>
                  <a:pt x="2902" y="7839"/>
                  <a:pt x="2902" y="7888"/>
                  <a:pt x="2902" y="7938"/>
                </a:cubicBezTo>
                <a:cubicBezTo>
                  <a:pt x="2923" y="7889"/>
                  <a:pt x="2937" y="7801"/>
                  <a:pt x="2977" y="7764"/>
                </a:cubicBezTo>
                <a:cubicBezTo>
                  <a:pt x="3008" y="7735"/>
                  <a:pt x="3078" y="7694"/>
                  <a:pt x="3125" y="7714"/>
                </a:cubicBezTo>
                <a:cubicBezTo>
                  <a:pt x="3191" y="7742"/>
                  <a:pt x="3192" y="7813"/>
                  <a:pt x="3225" y="7863"/>
                </a:cubicBezTo>
                <a:cubicBezTo>
                  <a:pt x="3251" y="7902"/>
                  <a:pt x="3249" y="7943"/>
                  <a:pt x="3249" y="7863"/>
                </a:cubicBezTo>
              </a:path>
              <a:path w="2952" h="721">
                <a:moveTo>
                  <a:pt x="3597" y="7615"/>
                </a:moveTo>
                <a:cubicBezTo>
                  <a:pt x="3576" y="7552"/>
                  <a:pt x="3526" y="7539"/>
                  <a:pt x="3473" y="7615"/>
                </a:cubicBezTo>
                <a:cubicBezTo>
                  <a:pt x="3451" y="7646"/>
                  <a:pt x="3387" y="7723"/>
                  <a:pt x="3398" y="7764"/>
                </a:cubicBezTo>
                <a:cubicBezTo>
                  <a:pt x="3426" y="7867"/>
                  <a:pt x="3484" y="7832"/>
                  <a:pt x="3547" y="7863"/>
                </a:cubicBezTo>
                <a:cubicBezTo>
                  <a:pt x="3626" y="7903"/>
                  <a:pt x="3621" y="7801"/>
                  <a:pt x="3646" y="7739"/>
                </a:cubicBezTo>
                <a:cubicBezTo>
                  <a:pt x="3666" y="7688"/>
                  <a:pt x="3671" y="7669"/>
                  <a:pt x="3671" y="7615"/>
                </a:cubicBezTo>
                <a:cubicBezTo>
                  <a:pt x="3713" y="7667"/>
                  <a:pt x="3770" y="7725"/>
                  <a:pt x="3795" y="7789"/>
                </a:cubicBezTo>
                <a:cubicBezTo>
                  <a:pt x="3815" y="7840"/>
                  <a:pt x="3844" y="7889"/>
                  <a:pt x="3870" y="7938"/>
                </a:cubicBezTo>
                <a:cubicBezTo>
                  <a:pt x="3890" y="7977"/>
                  <a:pt x="3913" y="8065"/>
                  <a:pt x="3894" y="8111"/>
                </a:cubicBezTo>
                <a:cubicBezTo>
                  <a:pt x="3880" y="8144"/>
                  <a:pt x="3802" y="8184"/>
                  <a:pt x="3770" y="8186"/>
                </a:cubicBezTo>
                <a:cubicBezTo>
                  <a:pt x="3681" y="8192"/>
                  <a:pt x="3671" y="8164"/>
                  <a:pt x="3671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7120" y="2901960"/>
            <a:ext cx="1258920" cy="285840"/>
          </a:xfrm>
          <a:custGeom>
            <a:avLst/>
            <a:gdLst/>
            <a:ahLst/>
            <a:rect l="l" t="t" r="r" b="b"/>
            <a:pathLst>
              <a:path w="3499" h="794">
                <a:moveTo>
                  <a:pt x="1017" y="8334"/>
                </a:moveTo>
                <a:cubicBezTo>
                  <a:pt x="1038" y="8404"/>
                  <a:pt x="1042" y="8437"/>
                  <a:pt x="1042" y="8508"/>
                </a:cubicBezTo>
                <a:cubicBezTo>
                  <a:pt x="1042" y="8538"/>
                  <a:pt x="1017" y="8669"/>
                  <a:pt x="1017" y="8558"/>
                </a:cubicBezTo>
              </a:path>
              <a:path w="3499" h="794">
                <a:moveTo>
                  <a:pt x="992" y="8186"/>
                </a:moveTo>
                <a:cubicBezTo>
                  <a:pt x="1066" y="8166"/>
                  <a:pt x="1115" y="8161"/>
                  <a:pt x="1191" y="8161"/>
                </a:cubicBezTo>
                <a:cubicBezTo>
                  <a:pt x="1251" y="8161"/>
                  <a:pt x="1294" y="8194"/>
                  <a:pt x="1339" y="8235"/>
                </a:cubicBezTo>
                <a:cubicBezTo>
                  <a:pt x="1408" y="8298"/>
                  <a:pt x="1486" y="8306"/>
                  <a:pt x="1389" y="8409"/>
                </a:cubicBezTo>
                <a:cubicBezTo>
                  <a:pt x="1354" y="8447"/>
                  <a:pt x="1241" y="8478"/>
                  <a:pt x="1191" y="8483"/>
                </a:cubicBezTo>
                <a:cubicBezTo>
                  <a:pt x="1156" y="8483"/>
                  <a:pt x="1138" y="8478"/>
                  <a:pt x="1116" y="8458"/>
                </a:cubicBezTo>
              </a:path>
              <a:path w="3499" h="794">
                <a:moveTo>
                  <a:pt x="1662" y="8285"/>
                </a:moveTo>
                <a:cubicBezTo>
                  <a:pt x="1577" y="8297"/>
                  <a:pt x="1588" y="8318"/>
                  <a:pt x="1538" y="8384"/>
                </a:cubicBezTo>
                <a:cubicBezTo>
                  <a:pt x="1502" y="8432"/>
                  <a:pt x="1499" y="8485"/>
                  <a:pt x="1538" y="8533"/>
                </a:cubicBezTo>
                <a:cubicBezTo>
                  <a:pt x="1580" y="8585"/>
                  <a:pt x="1622" y="8556"/>
                  <a:pt x="1662" y="8533"/>
                </a:cubicBezTo>
                <a:cubicBezTo>
                  <a:pt x="1735" y="8491"/>
                  <a:pt x="1754" y="8470"/>
                  <a:pt x="1761" y="8384"/>
                </a:cubicBezTo>
                <a:cubicBezTo>
                  <a:pt x="1765" y="8331"/>
                  <a:pt x="1747" y="8299"/>
                  <a:pt x="1712" y="8260"/>
                </a:cubicBezTo>
                <a:cubicBezTo>
                  <a:pt x="1674" y="8218"/>
                  <a:pt x="1658" y="8229"/>
                  <a:pt x="1637" y="8260"/>
                </a:cubicBezTo>
              </a:path>
              <a:path w="3499" h="794">
                <a:moveTo>
                  <a:pt x="1935" y="8062"/>
                </a:moveTo>
                <a:cubicBezTo>
                  <a:pt x="1935" y="8135"/>
                  <a:pt x="1943" y="8168"/>
                  <a:pt x="1960" y="8235"/>
                </a:cubicBezTo>
                <a:cubicBezTo>
                  <a:pt x="1972" y="8284"/>
                  <a:pt x="1939" y="8334"/>
                  <a:pt x="1935" y="8384"/>
                </a:cubicBezTo>
                <a:cubicBezTo>
                  <a:pt x="1933" y="8412"/>
                  <a:pt x="1880" y="8478"/>
                  <a:pt x="1910" y="8508"/>
                </a:cubicBezTo>
                <a:cubicBezTo>
                  <a:pt x="1918" y="8508"/>
                  <a:pt x="1927" y="8508"/>
                  <a:pt x="1935" y="8508"/>
                </a:cubicBezTo>
              </a:path>
              <a:path w="3499" h="794">
                <a:moveTo>
                  <a:pt x="2183" y="8310"/>
                </a:moveTo>
                <a:cubicBezTo>
                  <a:pt x="2183" y="8369"/>
                  <a:pt x="2182" y="8388"/>
                  <a:pt x="2208" y="8434"/>
                </a:cubicBezTo>
                <a:cubicBezTo>
                  <a:pt x="2241" y="8493"/>
                  <a:pt x="2235" y="8473"/>
                  <a:pt x="2282" y="8508"/>
                </a:cubicBezTo>
                <a:cubicBezTo>
                  <a:pt x="2316" y="8480"/>
                  <a:pt x="2389" y="8410"/>
                  <a:pt x="2406" y="8359"/>
                </a:cubicBezTo>
                <a:cubicBezTo>
                  <a:pt x="2406" y="8315"/>
                  <a:pt x="2403" y="8301"/>
                  <a:pt x="2431" y="8285"/>
                </a:cubicBezTo>
                <a:cubicBezTo>
                  <a:pt x="2466" y="8332"/>
                  <a:pt x="2439" y="8355"/>
                  <a:pt x="2456" y="8409"/>
                </a:cubicBezTo>
                <a:cubicBezTo>
                  <a:pt x="2484" y="8495"/>
                  <a:pt x="2505" y="8537"/>
                  <a:pt x="2505" y="8632"/>
                </a:cubicBezTo>
                <a:cubicBezTo>
                  <a:pt x="2505" y="8683"/>
                  <a:pt x="2527" y="8813"/>
                  <a:pt x="2480" y="8855"/>
                </a:cubicBezTo>
                <a:cubicBezTo>
                  <a:pt x="2420" y="8907"/>
                  <a:pt x="2366" y="8792"/>
                  <a:pt x="2332" y="8781"/>
                </a:cubicBezTo>
                <a:cubicBezTo>
                  <a:pt x="2256" y="8757"/>
                  <a:pt x="2222" y="8762"/>
                  <a:pt x="2208" y="8682"/>
                </a:cubicBezTo>
                <a:cubicBezTo>
                  <a:pt x="2208" y="8674"/>
                  <a:pt x="2208" y="8665"/>
                  <a:pt x="2208" y="8657"/>
                </a:cubicBezTo>
              </a:path>
              <a:path w="3499" h="794">
                <a:moveTo>
                  <a:pt x="2580" y="8483"/>
                </a:moveTo>
                <a:cubicBezTo>
                  <a:pt x="2620" y="8450"/>
                  <a:pt x="2697" y="8444"/>
                  <a:pt x="2729" y="8409"/>
                </a:cubicBezTo>
                <a:cubicBezTo>
                  <a:pt x="2750" y="8365"/>
                  <a:pt x="2753" y="8353"/>
                  <a:pt x="2778" y="8334"/>
                </a:cubicBezTo>
                <a:cubicBezTo>
                  <a:pt x="2732" y="8315"/>
                  <a:pt x="2655" y="8269"/>
                  <a:pt x="2604" y="8285"/>
                </a:cubicBezTo>
                <a:cubicBezTo>
                  <a:pt x="2550" y="8302"/>
                  <a:pt x="2533" y="8416"/>
                  <a:pt x="2530" y="8458"/>
                </a:cubicBezTo>
                <a:cubicBezTo>
                  <a:pt x="2526" y="8514"/>
                  <a:pt x="2593" y="8531"/>
                  <a:pt x="2629" y="8558"/>
                </a:cubicBezTo>
                <a:cubicBezTo>
                  <a:pt x="2679" y="8595"/>
                  <a:pt x="2740" y="8582"/>
                  <a:pt x="2803" y="8582"/>
                </a:cubicBezTo>
                <a:cubicBezTo>
                  <a:pt x="2828" y="8582"/>
                  <a:pt x="2852" y="8582"/>
                  <a:pt x="2877" y="8582"/>
                </a:cubicBezTo>
              </a:path>
              <a:path w="3499" h="794">
                <a:moveTo>
                  <a:pt x="3150" y="8260"/>
                </a:moveTo>
                <a:cubicBezTo>
                  <a:pt x="3083" y="8235"/>
                  <a:pt x="3011" y="8222"/>
                  <a:pt x="2952" y="8285"/>
                </a:cubicBezTo>
                <a:cubicBezTo>
                  <a:pt x="2944" y="8301"/>
                  <a:pt x="2935" y="8318"/>
                  <a:pt x="2927" y="8334"/>
                </a:cubicBezTo>
                <a:cubicBezTo>
                  <a:pt x="2958" y="8418"/>
                  <a:pt x="2982" y="8434"/>
                  <a:pt x="3076" y="8434"/>
                </a:cubicBezTo>
                <a:cubicBezTo>
                  <a:pt x="3165" y="8434"/>
                  <a:pt x="3174" y="8420"/>
                  <a:pt x="3225" y="8483"/>
                </a:cubicBezTo>
                <a:cubicBezTo>
                  <a:pt x="3273" y="8542"/>
                  <a:pt x="3205" y="8559"/>
                  <a:pt x="3175" y="8582"/>
                </a:cubicBezTo>
                <a:cubicBezTo>
                  <a:pt x="3131" y="8615"/>
                  <a:pt x="3035" y="8690"/>
                  <a:pt x="2977" y="8607"/>
                </a:cubicBezTo>
                <a:cubicBezTo>
                  <a:pt x="2977" y="8558"/>
                  <a:pt x="2977" y="8541"/>
                  <a:pt x="2977" y="8508"/>
                </a:cubicBezTo>
              </a:path>
              <a:path w="3499" h="794">
                <a:moveTo>
                  <a:pt x="3448" y="8086"/>
                </a:moveTo>
                <a:cubicBezTo>
                  <a:pt x="3448" y="8243"/>
                  <a:pt x="3448" y="8401"/>
                  <a:pt x="3448" y="8558"/>
                </a:cubicBezTo>
              </a:path>
              <a:path w="3499" h="794">
                <a:moveTo>
                  <a:pt x="3299" y="8334"/>
                </a:moveTo>
                <a:cubicBezTo>
                  <a:pt x="3348" y="8310"/>
                  <a:pt x="3390" y="8310"/>
                  <a:pt x="3448" y="8310"/>
                </a:cubicBezTo>
                <a:cubicBezTo>
                  <a:pt x="3506" y="8310"/>
                  <a:pt x="3563" y="8310"/>
                  <a:pt x="3621" y="8310"/>
                </a:cubicBezTo>
              </a:path>
              <a:path w="3499" h="794">
                <a:moveTo>
                  <a:pt x="3746" y="8359"/>
                </a:moveTo>
                <a:cubicBezTo>
                  <a:pt x="3777" y="8340"/>
                  <a:pt x="3835" y="8317"/>
                  <a:pt x="3870" y="8310"/>
                </a:cubicBezTo>
                <a:cubicBezTo>
                  <a:pt x="3914" y="8310"/>
                  <a:pt x="3928" y="8313"/>
                  <a:pt x="3944" y="8285"/>
                </a:cubicBezTo>
                <a:cubicBezTo>
                  <a:pt x="3926" y="8241"/>
                  <a:pt x="3885" y="8173"/>
                  <a:pt x="3820" y="8186"/>
                </a:cubicBezTo>
                <a:cubicBezTo>
                  <a:pt x="3725" y="8204"/>
                  <a:pt x="3703" y="8245"/>
                  <a:pt x="3696" y="8334"/>
                </a:cubicBezTo>
                <a:cubicBezTo>
                  <a:pt x="3692" y="8390"/>
                  <a:pt x="3778" y="8433"/>
                  <a:pt x="3820" y="8458"/>
                </a:cubicBezTo>
                <a:cubicBezTo>
                  <a:pt x="3860" y="8478"/>
                  <a:pt x="3867" y="8487"/>
                  <a:pt x="3894" y="8483"/>
                </a:cubicBezTo>
              </a:path>
              <a:path w="3499" h="794">
                <a:moveTo>
                  <a:pt x="4068" y="8235"/>
                </a:moveTo>
                <a:cubicBezTo>
                  <a:pt x="4082" y="8293"/>
                  <a:pt x="4126" y="8343"/>
                  <a:pt x="4142" y="8409"/>
                </a:cubicBezTo>
                <a:cubicBezTo>
                  <a:pt x="4142" y="8442"/>
                  <a:pt x="4142" y="8458"/>
                  <a:pt x="4142" y="8483"/>
                </a:cubicBezTo>
                <a:cubicBezTo>
                  <a:pt x="4151" y="8412"/>
                  <a:pt x="4181" y="8324"/>
                  <a:pt x="4217" y="8260"/>
                </a:cubicBezTo>
                <a:cubicBezTo>
                  <a:pt x="4248" y="8206"/>
                  <a:pt x="4288" y="8170"/>
                  <a:pt x="4341" y="8161"/>
                </a:cubicBezTo>
                <a:cubicBezTo>
                  <a:pt x="4397" y="8152"/>
                  <a:pt x="4473" y="8188"/>
                  <a:pt x="449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1320" y="2776680"/>
            <a:ext cx="741600" cy="277560"/>
          </a:xfrm>
          <a:custGeom>
            <a:avLst/>
            <a:gdLst/>
            <a:ahLst/>
            <a:rect l="l" t="t" r="r" b="b"/>
            <a:pathLst>
              <a:path w="2060" h="770">
                <a:moveTo>
                  <a:pt x="5159" y="8483"/>
                </a:moveTo>
                <a:cubicBezTo>
                  <a:pt x="5159" y="8404"/>
                  <a:pt x="5164" y="8336"/>
                  <a:pt x="5135" y="8260"/>
                </a:cubicBezTo>
                <a:cubicBezTo>
                  <a:pt x="5114" y="8205"/>
                  <a:pt x="5068" y="8137"/>
                  <a:pt x="5060" y="8086"/>
                </a:cubicBezTo>
                <a:cubicBezTo>
                  <a:pt x="5044" y="7982"/>
                  <a:pt x="5073" y="7969"/>
                  <a:pt x="5110" y="7888"/>
                </a:cubicBezTo>
                <a:cubicBezTo>
                  <a:pt x="5140" y="7822"/>
                  <a:pt x="5179" y="7785"/>
                  <a:pt x="5234" y="7739"/>
                </a:cubicBezTo>
                <a:cubicBezTo>
                  <a:pt x="5265" y="7714"/>
                  <a:pt x="5342" y="7691"/>
                  <a:pt x="5383" y="7714"/>
                </a:cubicBezTo>
                <a:cubicBezTo>
                  <a:pt x="5434" y="7766"/>
                  <a:pt x="5451" y="7785"/>
                  <a:pt x="5457" y="7838"/>
                </a:cubicBezTo>
              </a:path>
              <a:path w="2060" h="770">
                <a:moveTo>
                  <a:pt x="4837" y="8310"/>
                </a:moveTo>
                <a:cubicBezTo>
                  <a:pt x="4908" y="8280"/>
                  <a:pt x="4956" y="8265"/>
                  <a:pt x="5035" y="8260"/>
                </a:cubicBezTo>
                <a:cubicBezTo>
                  <a:pt x="5128" y="8254"/>
                  <a:pt x="5134" y="8284"/>
                  <a:pt x="5209" y="8310"/>
                </a:cubicBezTo>
                <a:cubicBezTo>
                  <a:pt x="5250" y="8310"/>
                  <a:pt x="5258" y="8310"/>
                  <a:pt x="5283" y="8310"/>
                </a:cubicBezTo>
              </a:path>
              <a:path w="2060" h="770">
                <a:moveTo>
                  <a:pt x="5507" y="8235"/>
                </a:moveTo>
                <a:cubicBezTo>
                  <a:pt x="5507" y="8262"/>
                  <a:pt x="5533" y="8369"/>
                  <a:pt x="5531" y="8384"/>
                </a:cubicBezTo>
                <a:cubicBezTo>
                  <a:pt x="5502" y="8414"/>
                  <a:pt x="5488" y="8426"/>
                  <a:pt x="5457" y="8434"/>
                </a:cubicBezTo>
              </a:path>
              <a:path w="2060" h="770">
                <a:moveTo>
                  <a:pt x="5457" y="8086"/>
                </a:moveTo>
                <a:cubicBezTo>
                  <a:pt x="5465" y="8086"/>
                  <a:pt x="5474" y="8086"/>
                  <a:pt x="5482" y="8086"/>
                </a:cubicBezTo>
              </a:path>
              <a:path w="2060" h="770">
                <a:moveTo>
                  <a:pt x="5804" y="7913"/>
                </a:moveTo>
                <a:cubicBezTo>
                  <a:pt x="5804" y="8078"/>
                  <a:pt x="5804" y="8244"/>
                  <a:pt x="5804" y="8409"/>
                </a:cubicBezTo>
                <a:cubicBezTo>
                  <a:pt x="5804" y="8339"/>
                  <a:pt x="5818" y="8273"/>
                  <a:pt x="5854" y="8210"/>
                </a:cubicBezTo>
                <a:cubicBezTo>
                  <a:pt x="5880" y="8165"/>
                  <a:pt x="5933" y="8145"/>
                  <a:pt x="5978" y="8136"/>
                </a:cubicBezTo>
                <a:cubicBezTo>
                  <a:pt x="5978" y="8212"/>
                  <a:pt x="6005" y="8217"/>
                  <a:pt x="6028" y="8285"/>
                </a:cubicBezTo>
                <a:cubicBezTo>
                  <a:pt x="6048" y="8344"/>
                  <a:pt x="5968" y="8405"/>
                  <a:pt x="5928" y="8434"/>
                </a:cubicBezTo>
                <a:cubicBezTo>
                  <a:pt x="5856" y="8486"/>
                  <a:pt x="5848" y="8465"/>
                  <a:pt x="5829" y="8409"/>
                </a:cubicBezTo>
              </a:path>
              <a:path w="2060" h="770">
                <a:moveTo>
                  <a:pt x="6152" y="8161"/>
                </a:moveTo>
                <a:cubicBezTo>
                  <a:pt x="6184" y="8211"/>
                  <a:pt x="6201" y="8250"/>
                  <a:pt x="6201" y="8310"/>
                </a:cubicBezTo>
                <a:cubicBezTo>
                  <a:pt x="6201" y="8343"/>
                  <a:pt x="6201" y="8359"/>
                  <a:pt x="6201" y="8384"/>
                </a:cubicBezTo>
                <a:cubicBezTo>
                  <a:pt x="6206" y="8324"/>
                  <a:pt x="6207" y="8242"/>
                  <a:pt x="6226" y="8186"/>
                </a:cubicBezTo>
                <a:cubicBezTo>
                  <a:pt x="6248" y="8119"/>
                  <a:pt x="6310" y="8116"/>
                  <a:pt x="6375" y="8111"/>
                </a:cubicBezTo>
                <a:cubicBezTo>
                  <a:pt x="6417" y="8108"/>
                  <a:pt x="6414" y="8103"/>
                  <a:pt x="6424" y="8136"/>
                </a:cubicBezTo>
              </a:path>
              <a:path w="2060" h="770">
                <a:moveTo>
                  <a:pt x="6474" y="8310"/>
                </a:moveTo>
                <a:cubicBezTo>
                  <a:pt x="6511" y="8301"/>
                  <a:pt x="6535" y="8282"/>
                  <a:pt x="6573" y="8260"/>
                </a:cubicBezTo>
                <a:cubicBezTo>
                  <a:pt x="6498" y="8185"/>
                  <a:pt x="6493" y="8161"/>
                  <a:pt x="6424" y="8235"/>
                </a:cubicBezTo>
                <a:cubicBezTo>
                  <a:pt x="6372" y="8291"/>
                  <a:pt x="6349" y="8335"/>
                  <a:pt x="6424" y="8384"/>
                </a:cubicBezTo>
                <a:cubicBezTo>
                  <a:pt x="6470" y="8414"/>
                  <a:pt x="6521" y="8425"/>
                  <a:pt x="6573" y="8434"/>
                </a:cubicBezTo>
              </a:path>
              <a:path w="2060" h="770">
                <a:moveTo>
                  <a:pt x="6896" y="8111"/>
                </a:moveTo>
                <a:cubicBezTo>
                  <a:pt x="6787" y="8070"/>
                  <a:pt x="6778" y="8106"/>
                  <a:pt x="6697" y="8186"/>
                </a:cubicBezTo>
                <a:cubicBezTo>
                  <a:pt x="6624" y="8258"/>
                  <a:pt x="6705" y="8281"/>
                  <a:pt x="6772" y="8285"/>
                </a:cubicBezTo>
                <a:cubicBezTo>
                  <a:pt x="6817" y="8288"/>
                  <a:pt x="6874" y="8309"/>
                  <a:pt x="6896" y="8359"/>
                </a:cubicBezTo>
                <a:cubicBezTo>
                  <a:pt x="6917" y="8407"/>
                  <a:pt x="6896" y="8455"/>
                  <a:pt x="6846" y="8458"/>
                </a:cubicBezTo>
                <a:cubicBezTo>
                  <a:pt x="6784" y="8462"/>
                  <a:pt x="6754" y="8457"/>
                  <a:pt x="6697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2803680"/>
            <a:ext cx="633600" cy="358560"/>
          </a:xfrm>
          <a:custGeom>
            <a:avLst/>
            <a:gdLst/>
            <a:ahLst/>
            <a:rect l="l" t="t" r="r" b="b"/>
            <a:pathLst>
              <a:path w="1763" h="993">
                <a:moveTo>
                  <a:pt x="7789" y="8111"/>
                </a:moveTo>
                <a:cubicBezTo>
                  <a:pt x="7733" y="8111"/>
                  <a:pt x="7657" y="8114"/>
                  <a:pt x="7615" y="8161"/>
                </a:cubicBezTo>
                <a:cubicBezTo>
                  <a:pt x="7587" y="8193"/>
                  <a:pt x="7568" y="8290"/>
                  <a:pt x="7565" y="8334"/>
                </a:cubicBezTo>
                <a:cubicBezTo>
                  <a:pt x="7561" y="8388"/>
                  <a:pt x="7572" y="8413"/>
                  <a:pt x="7615" y="8434"/>
                </a:cubicBezTo>
                <a:cubicBezTo>
                  <a:pt x="7687" y="8469"/>
                  <a:pt x="7731" y="8508"/>
                  <a:pt x="7789" y="8409"/>
                </a:cubicBezTo>
                <a:cubicBezTo>
                  <a:pt x="7819" y="8359"/>
                  <a:pt x="7860" y="8266"/>
                  <a:pt x="7863" y="8210"/>
                </a:cubicBezTo>
                <a:cubicBezTo>
                  <a:pt x="7869" y="8088"/>
                  <a:pt x="7847" y="7981"/>
                  <a:pt x="7813" y="7863"/>
                </a:cubicBezTo>
                <a:cubicBezTo>
                  <a:pt x="7805" y="7838"/>
                  <a:pt x="7797" y="7814"/>
                  <a:pt x="7789" y="7789"/>
                </a:cubicBezTo>
                <a:cubicBezTo>
                  <a:pt x="7755" y="7911"/>
                  <a:pt x="7765" y="7933"/>
                  <a:pt x="7813" y="8037"/>
                </a:cubicBezTo>
                <a:cubicBezTo>
                  <a:pt x="7843" y="8103"/>
                  <a:pt x="7881" y="8189"/>
                  <a:pt x="7888" y="8260"/>
                </a:cubicBezTo>
                <a:cubicBezTo>
                  <a:pt x="7894" y="8322"/>
                  <a:pt x="7798" y="8482"/>
                  <a:pt x="7838" y="8434"/>
                </a:cubicBezTo>
                <a:cubicBezTo>
                  <a:pt x="7846" y="8417"/>
                  <a:pt x="7855" y="8401"/>
                  <a:pt x="7863" y="8384"/>
                </a:cubicBezTo>
              </a:path>
              <a:path w="1763" h="993">
                <a:moveTo>
                  <a:pt x="8062" y="8210"/>
                </a:moveTo>
                <a:cubicBezTo>
                  <a:pt x="8062" y="8309"/>
                  <a:pt x="8043" y="8384"/>
                  <a:pt x="8111" y="8458"/>
                </a:cubicBezTo>
                <a:cubicBezTo>
                  <a:pt x="8164" y="8516"/>
                  <a:pt x="8205" y="8460"/>
                  <a:pt x="8235" y="8409"/>
                </a:cubicBezTo>
                <a:cubicBezTo>
                  <a:pt x="8270" y="8350"/>
                  <a:pt x="8260" y="8303"/>
                  <a:pt x="8260" y="8235"/>
                </a:cubicBezTo>
                <a:cubicBezTo>
                  <a:pt x="8260" y="8194"/>
                  <a:pt x="8260" y="8186"/>
                  <a:pt x="8260" y="8161"/>
                </a:cubicBezTo>
                <a:cubicBezTo>
                  <a:pt x="8260" y="8230"/>
                  <a:pt x="8263" y="8271"/>
                  <a:pt x="8285" y="8334"/>
                </a:cubicBezTo>
                <a:cubicBezTo>
                  <a:pt x="8317" y="8426"/>
                  <a:pt x="8309" y="8519"/>
                  <a:pt x="8359" y="8607"/>
                </a:cubicBezTo>
                <a:cubicBezTo>
                  <a:pt x="8369" y="8625"/>
                  <a:pt x="8415" y="8735"/>
                  <a:pt x="8384" y="8756"/>
                </a:cubicBezTo>
                <a:cubicBezTo>
                  <a:pt x="8333" y="8791"/>
                  <a:pt x="8257" y="8780"/>
                  <a:pt x="8210" y="8756"/>
                </a:cubicBezTo>
                <a:cubicBezTo>
                  <a:pt x="8179" y="8740"/>
                  <a:pt x="8168" y="8709"/>
                  <a:pt x="8161" y="8682"/>
                </a:cubicBezTo>
              </a:path>
              <a:path w="1763" h="993">
                <a:moveTo>
                  <a:pt x="8483" y="8384"/>
                </a:moveTo>
                <a:cubicBezTo>
                  <a:pt x="8536" y="8384"/>
                  <a:pt x="8568" y="8394"/>
                  <a:pt x="8607" y="8359"/>
                </a:cubicBezTo>
                <a:cubicBezTo>
                  <a:pt x="8646" y="8321"/>
                  <a:pt x="8663" y="8319"/>
                  <a:pt x="8657" y="8285"/>
                </a:cubicBezTo>
                <a:cubicBezTo>
                  <a:pt x="8606" y="8266"/>
                  <a:pt x="8532" y="8233"/>
                  <a:pt x="8483" y="8285"/>
                </a:cubicBezTo>
                <a:cubicBezTo>
                  <a:pt x="8458" y="8311"/>
                  <a:pt x="8441" y="8401"/>
                  <a:pt x="8458" y="8434"/>
                </a:cubicBezTo>
                <a:cubicBezTo>
                  <a:pt x="8491" y="8499"/>
                  <a:pt x="8546" y="8540"/>
                  <a:pt x="8607" y="8558"/>
                </a:cubicBezTo>
                <a:cubicBezTo>
                  <a:pt x="8651" y="8571"/>
                  <a:pt x="8674" y="8553"/>
                  <a:pt x="8706" y="8533"/>
                </a:cubicBezTo>
              </a:path>
              <a:path w="1763" h="993">
                <a:moveTo>
                  <a:pt x="9004" y="8186"/>
                </a:moveTo>
                <a:cubicBezTo>
                  <a:pt x="8947" y="8186"/>
                  <a:pt x="8836" y="8155"/>
                  <a:pt x="8830" y="8235"/>
                </a:cubicBezTo>
                <a:cubicBezTo>
                  <a:pt x="8826" y="8295"/>
                  <a:pt x="8898" y="8348"/>
                  <a:pt x="8954" y="8359"/>
                </a:cubicBezTo>
                <a:cubicBezTo>
                  <a:pt x="9013" y="8371"/>
                  <a:pt x="9051" y="8404"/>
                  <a:pt x="9103" y="8434"/>
                </a:cubicBezTo>
                <a:cubicBezTo>
                  <a:pt x="9073" y="8508"/>
                  <a:pt x="9054" y="8508"/>
                  <a:pt x="8979" y="8508"/>
                </a:cubicBezTo>
                <a:cubicBezTo>
                  <a:pt x="8935" y="8508"/>
                  <a:pt x="8940" y="8510"/>
                  <a:pt x="8905" y="8483"/>
                </a:cubicBezTo>
              </a:path>
              <a:path w="1763" h="993">
                <a:moveTo>
                  <a:pt x="9252" y="8458"/>
                </a:moveTo>
                <a:cubicBezTo>
                  <a:pt x="9296" y="8509"/>
                  <a:pt x="9358" y="8547"/>
                  <a:pt x="9302" y="8607"/>
                </a:cubicBezTo>
                <a:cubicBezTo>
                  <a:pt x="9263" y="8646"/>
                  <a:pt x="9261" y="8663"/>
                  <a:pt x="9227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0920" y="2840040"/>
            <a:ext cx="1260360" cy="276120"/>
          </a:xfrm>
          <a:custGeom>
            <a:avLst/>
            <a:gdLst/>
            <a:ahLst/>
            <a:rect l="l" t="t" r="r" b="b"/>
            <a:pathLst>
              <a:path w="3498" h="770">
                <a:moveTo>
                  <a:pt x="9872" y="8260"/>
                </a:moveTo>
                <a:cubicBezTo>
                  <a:pt x="9883" y="8313"/>
                  <a:pt x="9897" y="8352"/>
                  <a:pt x="9897" y="8409"/>
                </a:cubicBezTo>
                <a:cubicBezTo>
                  <a:pt x="9897" y="8481"/>
                  <a:pt x="9883" y="8519"/>
                  <a:pt x="9872" y="8582"/>
                </a:cubicBezTo>
                <a:cubicBezTo>
                  <a:pt x="9855" y="8677"/>
                  <a:pt x="9878" y="8607"/>
                  <a:pt x="9897" y="8582"/>
                </a:cubicBezTo>
              </a:path>
              <a:path w="3498" h="770">
                <a:moveTo>
                  <a:pt x="9699" y="8235"/>
                </a:moveTo>
                <a:cubicBezTo>
                  <a:pt x="9712" y="8128"/>
                  <a:pt x="9741" y="8142"/>
                  <a:pt x="9823" y="8086"/>
                </a:cubicBezTo>
                <a:cubicBezTo>
                  <a:pt x="9878" y="8048"/>
                  <a:pt x="9911" y="8058"/>
                  <a:pt x="9971" y="8086"/>
                </a:cubicBezTo>
                <a:cubicBezTo>
                  <a:pt x="10034" y="8115"/>
                  <a:pt x="10129" y="8187"/>
                  <a:pt x="10145" y="8260"/>
                </a:cubicBezTo>
                <a:cubicBezTo>
                  <a:pt x="10160" y="8329"/>
                  <a:pt x="10147" y="8391"/>
                  <a:pt x="10071" y="8409"/>
                </a:cubicBezTo>
                <a:cubicBezTo>
                  <a:pt x="10030" y="8419"/>
                  <a:pt x="9905" y="8422"/>
                  <a:pt x="9872" y="8384"/>
                </a:cubicBezTo>
                <a:cubicBezTo>
                  <a:pt x="9872" y="8376"/>
                  <a:pt x="9872" y="8367"/>
                  <a:pt x="9872" y="8359"/>
                </a:cubicBezTo>
              </a:path>
              <a:path w="3498" h="770">
                <a:moveTo>
                  <a:pt x="10220" y="8235"/>
                </a:moveTo>
                <a:cubicBezTo>
                  <a:pt x="10260" y="8202"/>
                  <a:pt x="10301" y="8180"/>
                  <a:pt x="10344" y="8161"/>
                </a:cubicBezTo>
                <a:cubicBezTo>
                  <a:pt x="10405" y="8135"/>
                  <a:pt x="10449" y="8073"/>
                  <a:pt x="10368" y="8037"/>
                </a:cubicBezTo>
                <a:cubicBezTo>
                  <a:pt x="10324" y="8017"/>
                  <a:pt x="10258" y="8108"/>
                  <a:pt x="10244" y="8136"/>
                </a:cubicBezTo>
                <a:cubicBezTo>
                  <a:pt x="10226" y="8172"/>
                  <a:pt x="10222" y="8269"/>
                  <a:pt x="10220" y="8310"/>
                </a:cubicBezTo>
                <a:cubicBezTo>
                  <a:pt x="10217" y="8369"/>
                  <a:pt x="10259" y="8431"/>
                  <a:pt x="10319" y="8434"/>
                </a:cubicBezTo>
                <a:cubicBezTo>
                  <a:pt x="10385" y="8434"/>
                  <a:pt x="10402" y="8434"/>
                  <a:pt x="10443" y="8434"/>
                </a:cubicBezTo>
              </a:path>
              <a:path w="3498" h="770">
                <a:moveTo>
                  <a:pt x="10542" y="8136"/>
                </a:moveTo>
                <a:cubicBezTo>
                  <a:pt x="10542" y="8231"/>
                  <a:pt x="10565" y="8253"/>
                  <a:pt x="10592" y="8334"/>
                </a:cubicBezTo>
                <a:cubicBezTo>
                  <a:pt x="10599" y="8356"/>
                  <a:pt x="10592" y="8415"/>
                  <a:pt x="10592" y="8434"/>
                </a:cubicBezTo>
                <a:cubicBezTo>
                  <a:pt x="10557" y="8373"/>
                  <a:pt x="10542" y="8355"/>
                  <a:pt x="10542" y="8285"/>
                </a:cubicBezTo>
                <a:cubicBezTo>
                  <a:pt x="10542" y="8228"/>
                  <a:pt x="10584" y="8174"/>
                  <a:pt x="10641" y="8161"/>
                </a:cubicBezTo>
                <a:cubicBezTo>
                  <a:pt x="10677" y="8152"/>
                  <a:pt x="10775" y="8075"/>
                  <a:pt x="10815" y="8086"/>
                </a:cubicBezTo>
                <a:cubicBezTo>
                  <a:pt x="10815" y="8094"/>
                  <a:pt x="10815" y="8103"/>
                  <a:pt x="10815" y="8111"/>
                </a:cubicBezTo>
              </a:path>
              <a:path w="3498" h="770">
                <a:moveTo>
                  <a:pt x="11013" y="8458"/>
                </a:moveTo>
                <a:cubicBezTo>
                  <a:pt x="11013" y="8388"/>
                  <a:pt x="10999" y="8348"/>
                  <a:pt x="10988" y="8285"/>
                </a:cubicBezTo>
                <a:cubicBezTo>
                  <a:pt x="10973" y="8202"/>
                  <a:pt x="10964" y="8123"/>
                  <a:pt x="10964" y="8037"/>
                </a:cubicBezTo>
                <a:cubicBezTo>
                  <a:pt x="10964" y="7970"/>
                  <a:pt x="10959" y="7911"/>
                  <a:pt x="11038" y="7888"/>
                </a:cubicBezTo>
                <a:cubicBezTo>
                  <a:pt x="11126" y="7862"/>
                  <a:pt x="11139" y="7909"/>
                  <a:pt x="11187" y="7962"/>
                </a:cubicBezTo>
                <a:cubicBezTo>
                  <a:pt x="11217" y="7995"/>
                  <a:pt x="11228" y="8019"/>
                  <a:pt x="11237" y="8062"/>
                </a:cubicBezTo>
              </a:path>
              <a:path w="3498" h="770">
                <a:moveTo>
                  <a:pt x="10840" y="8310"/>
                </a:moveTo>
                <a:cubicBezTo>
                  <a:pt x="10920" y="8310"/>
                  <a:pt x="11052" y="8334"/>
                  <a:pt x="11112" y="8285"/>
                </a:cubicBezTo>
                <a:cubicBezTo>
                  <a:pt x="11120" y="8277"/>
                  <a:pt x="11129" y="8268"/>
                  <a:pt x="11137" y="8260"/>
                </a:cubicBezTo>
              </a:path>
              <a:path w="3498" h="770">
                <a:moveTo>
                  <a:pt x="11261" y="8210"/>
                </a:moveTo>
                <a:cubicBezTo>
                  <a:pt x="11270" y="8257"/>
                  <a:pt x="11308" y="8291"/>
                  <a:pt x="11311" y="8334"/>
                </a:cubicBezTo>
                <a:cubicBezTo>
                  <a:pt x="11315" y="8386"/>
                  <a:pt x="11289" y="8492"/>
                  <a:pt x="11336" y="8533"/>
                </a:cubicBezTo>
                <a:cubicBezTo>
                  <a:pt x="11375" y="8568"/>
                  <a:pt x="11464" y="8487"/>
                  <a:pt x="11485" y="8458"/>
                </a:cubicBezTo>
                <a:cubicBezTo>
                  <a:pt x="11532" y="8394"/>
                  <a:pt x="11534" y="8335"/>
                  <a:pt x="11534" y="8260"/>
                </a:cubicBezTo>
                <a:cubicBezTo>
                  <a:pt x="11534" y="8252"/>
                  <a:pt x="11534" y="8243"/>
                  <a:pt x="11534" y="8235"/>
                </a:cubicBezTo>
                <a:cubicBezTo>
                  <a:pt x="11494" y="8288"/>
                  <a:pt x="11501" y="8344"/>
                  <a:pt x="11534" y="8409"/>
                </a:cubicBezTo>
                <a:cubicBezTo>
                  <a:pt x="11558" y="8457"/>
                  <a:pt x="11592" y="8470"/>
                  <a:pt x="11633" y="8508"/>
                </a:cubicBezTo>
                <a:cubicBezTo>
                  <a:pt x="11678" y="8549"/>
                  <a:pt x="11659" y="8558"/>
                  <a:pt x="11708" y="8533"/>
                </a:cubicBezTo>
              </a:path>
              <a:path w="3498" h="770">
                <a:moveTo>
                  <a:pt x="11757" y="8260"/>
                </a:moveTo>
                <a:cubicBezTo>
                  <a:pt x="11757" y="8322"/>
                  <a:pt x="11794" y="8351"/>
                  <a:pt x="11807" y="8409"/>
                </a:cubicBezTo>
                <a:cubicBezTo>
                  <a:pt x="11815" y="8446"/>
                  <a:pt x="11807" y="8495"/>
                  <a:pt x="11807" y="8533"/>
                </a:cubicBezTo>
                <a:cubicBezTo>
                  <a:pt x="11807" y="8463"/>
                  <a:pt x="11773" y="8290"/>
                  <a:pt x="11832" y="8235"/>
                </a:cubicBezTo>
                <a:cubicBezTo>
                  <a:pt x="11886" y="8185"/>
                  <a:pt x="11933" y="8214"/>
                  <a:pt x="11956" y="8260"/>
                </a:cubicBezTo>
                <a:cubicBezTo>
                  <a:pt x="11985" y="8318"/>
                  <a:pt x="11981" y="8345"/>
                  <a:pt x="11981" y="8409"/>
                </a:cubicBezTo>
                <a:cubicBezTo>
                  <a:pt x="11981" y="8450"/>
                  <a:pt x="11981" y="8458"/>
                  <a:pt x="11981" y="8483"/>
                </a:cubicBezTo>
                <a:cubicBezTo>
                  <a:pt x="12008" y="8429"/>
                  <a:pt x="12047" y="8293"/>
                  <a:pt x="12105" y="8285"/>
                </a:cubicBezTo>
                <a:cubicBezTo>
                  <a:pt x="12152" y="8278"/>
                  <a:pt x="12206" y="8285"/>
                  <a:pt x="12254" y="8285"/>
                </a:cubicBezTo>
                <a:cubicBezTo>
                  <a:pt x="12254" y="8350"/>
                  <a:pt x="12238" y="8433"/>
                  <a:pt x="12278" y="8483"/>
                </a:cubicBezTo>
                <a:cubicBezTo>
                  <a:pt x="12308" y="8513"/>
                  <a:pt x="12322" y="8518"/>
                  <a:pt x="12353" y="8483"/>
                </a:cubicBezTo>
              </a:path>
              <a:path w="3498" h="770">
                <a:moveTo>
                  <a:pt x="12477" y="8310"/>
                </a:moveTo>
                <a:cubicBezTo>
                  <a:pt x="12522" y="8290"/>
                  <a:pt x="12567" y="8292"/>
                  <a:pt x="12601" y="8260"/>
                </a:cubicBezTo>
                <a:cubicBezTo>
                  <a:pt x="12617" y="8243"/>
                  <a:pt x="12634" y="8227"/>
                  <a:pt x="12650" y="8210"/>
                </a:cubicBezTo>
                <a:cubicBezTo>
                  <a:pt x="12624" y="8172"/>
                  <a:pt x="12565" y="8164"/>
                  <a:pt x="12502" y="8161"/>
                </a:cubicBezTo>
                <a:cubicBezTo>
                  <a:pt x="12486" y="8160"/>
                  <a:pt x="12357" y="8203"/>
                  <a:pt x="12353" y="8210"/>
                </a:cubicBezTo>
                <a:cubicBezTo>
                  <a:pt x="12340" y="8230"/>
                  <a:pt x="12314" y="8353"/>
                  <a:pt x="12328" y="8384"/>
                </a:cubicBezTo>
                <a:cubicBezTo>
                  <a:pt x="12350" y="8431"/>
                  <a:pt x="12424" y="8494"/>
                  <a:pt x="12477" y="8508"/>
                </a:cubicBezTo>
                <a:cubicBezTo>
                  <a:pt x="12526" y="8521"/>
                  <a:pt x="12559" y="8501"/>
                  <a:pt x="12601" y="8483"/>
                </a:cubicBezTo>
              </a:path>
              <a:path w="3498" h="770">
                <a:moveTo>
                  <a:pt x="12898" y="8161"/>
                </a:moveTo>
                <a:cubicBezTo>
                  <a:pt x="12849" y="8143"/>
                  <a:pt x="12759" y="8117"/>
                  <a:pt x="12725" y="8186"/>
                </a:cubicBezTo>
                <a:cubicBezTo>
                  <a:pt x="12690" y="8257"/>
                  <a:pt x="12749" y="8281"/>
                  <a:pt x="12799" y="8285"/>
                </a:cubicBezTo>
                <a:cubicBezTo>
                  <a:pt x="12857" y="8290"/>
                  <a:pt x="12902" y="8333"/>
                  <a:pt x="12948" y="8359"/>
                </a:cubicBezTo>
                <a:cubicBezTo>
                  <a:pt x="12965" y="8367"/>
                  <a:pt x="12981" y="8376"/>
                  <a:pt x="12998" y="8384"/>
                </a:cubicBezTo>
                <a:cubicBezTo>
                  <a:pt x="12978" y="8404"/>
                  <a:pt x="12917" y="8508"/>
                  <a:pt x="12898" y="8508"/>
                </a:cubicBezTo>
                <a:cubicBezTo>
                  <a:pt x="12876" y="8485"/>
                  <a:pt x="12871" y="8477"/>
                  <a:pt x="12849" y="8483"/>
                </a:cubicBezTo>
              </a:path>
              <a:path w="3498" h="770">
                <a:moveTo>
                  <a:pt x="13146" y="8458"/>
                </a:moveTo>
                <a:cubicBezTo>
                  <a:pt x="13207" y="8473"/>
                  <a:pt x="13196" y="8497"/>
                  <a:pt x="13196" y="8558"/>
                </a:cubicBezTo>
                <a:cubicBezTo>
                  <a:pt x="13196" y="8662"/>
                  <a:pt x="13201" y="8657"/>
                  <a:pt x="13097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32240" y="2705040"/>
            <a:ext cx="2554560" cy="393840"/>
          </a:xfrm>
          <a:custGeom>
            <a:avLst/>
            <a:gdLst/>
            <a:ahLst/>
            <a:rect l="l" t="t" r="r" b="b"/>
            <a:pathLst>
              <a:path w="7095" h="1092">
                <a:moveTo>
                  <a:pt x="14759" y="8037"/>
                </a:moveTo>
                <a:lnTo>
                  <a:pt x="14759" y="8037"/>
                </a:lnTo>
              </a:path>
              <a:path w="7095" h="1092">
                <a:moveTo>
                  <a:pt x="14858" y="8037"/>
                </a:moveTo>
                <a:cubicBezTo>
                  <a:pt x="14838" y="8009"/>
                  <a:pt x="14776" y="7932"/>
                  <a:pt x="14734" y="7938"/>
                </a:cubicBezTo>
                <a:cubicBezTo>
                  <a:pt x="14707" y="7942"/>
                  <a:pt x="14602" y="8017"/>
                  <a:pt x="14585" y="8037"/>
                </a:cubicBezTo>
                <a:cubicBezTo>
                  <a:pt x="14554" y="8073"/>
                  <a:pt x="14539" y="8144"/>
                  <a:pt x="14536" y="8186"/>
                </a:cubicBezTo>
                <a:cubicBezTo>
                  <a:pt x="14530" y="8254"/>
                  <a:pt x="14523" y="8349"/>
                  <a:pt x="14560" y="8409"/>
                </a:cubicBezTo>
                <a:cubicBezTo>
                  <a:pt x="14580" y="8442"/>
                  <a:pt x="14649" y="8481"/>
                  <a:pt x="14684" y="8483"/>
                </a:cubicBezTo>
                <a:cubicBezTo>
                  <a:pt x="14761" y="8489"/>
                  <a:pt x="14777" y="8476"/>
                  <a:pt x="14808" y="8409"/>
                </a:cubicBezTo>
                <a:cubicBezTo>
                  <a:pt x="14833" y="8356"/>
                  <a:pt x="14885" y="8343"/>
                  <a:pt x="14908" y="8285"/>
                </a:cubicBezTo>
                <a:cubicBezTo>
                  <a:pt x="14928" y="8235"/>
                  <a:pt x="14955" y="8189"/>
                  <a:pt x="14957" y="8136"/>
                </a:cubicBezTo>
                <a:cubicBezTo>
                  <a:pt x="14960" y="8061"/>
                  <a:pt x="14948" y="7937"/>
                  <a:pt x="14932" y="7863"/>
                </a:cubicBezTo>
                <a:cubicBezTo>
                  <a:pt x="14919" y="7802"/>
                  <a:pt x="14925" y="7724"/>
                  <a:pt x="14908" y="7665"/>
                </a:cubicBezTo>
                <a:cubicBezTo>
                  <a:pt x="14894" y="7615"/>
                  <a:pt x="14883" y="7464"/>
                  <a:pt x="14883" y="7516"/>
                </a:cubicBezTo>
                <a:cubicBezTo>
                  <a:pt x="14883" y="7524"/>
                  <a:pt x="14883" y="7533"/>
                  <a:pt x="14883" y="7541"/>
                </a:cubicBezTo>
                <a:cubicBezTo>
                  <a:pt x="14883" y="7696"/>
                  <a:pt x="14789" y="8267"/>
                  <a:pt x="14908" y="8359"/>
                </a:cubicBezTo>
                <a:cubicBezTo>
                  <a:pt x="14934" y="8379"/>
                  <a:pt x="15072" y="8421"/>
                  <a:pt x="15106" y="8434"/>
                </a:cubicBezTo>
                <a:cubicBezTo>
                  <a:pt x="15114" y="8434"/>
                  <a:pt x="15123" y="8434"/>
                  <a:pt x="15131" y="8434"/>
                </a:cubicBezTo>
              </a:path>
              <a:path w="7095" h="1092">
                <a:moveTo>
                  <a:pt x="15329" y="8210"/>
                </a:moveTo>
                <a:cubicBezTo>
                  <a:pt x="15329" y="8285"/>
                  <a:pt x="15329" y="8359"/>
                  <a:pt x="15329" y="8434"/>
                </a:cubicBezTo>
                <a:cubicBezTo>
                  <a:pt x="15329" y="8385"/>
                  <a:pt x="15329" y="8383"/>
                  <a:pt x="15329" y="8334"/>
                </a:cubicBezTo>
              </a:path>
              <a:path w="7095" h="1092">
                <a:moveTo>
                  <a:pt x="15304" y="7838"/>
                </a:moveTo>
                <a:cubicBezTo>
                  <a:pt x="15280" y="7863"/>
                  <a:pt x="15272" y="7871"/>
                  <a:pt x="15304" y="7888"/>
                </a:cubicBezTo>
              </a:path>
              <a:path w="7095" h="1092">
                <a:moveTo>
                  <a:pt x="15751" y="8111"/>
                </a:moveTo>
                <a:cubicBezTo>
                  <a:pt x="15679" y="8080"/>
                  <a:pt x="15667" y="8087"/>
                  <a:pt x="15602" y="8136"/>
                </a:cubicBezTo>
                <a:cubicBezTo>
                  <a:pt x="15573" y="8158"/>
                  <a:pt x="15560" y="8226"/>
                  <a:pt x="15577" y="8260"/>
                </a:cubicBezTo>
                <a:cubicBezTo>
                  <a:pt x="15598" y="8303"/>
                  <a:pt x="15663" y="8285"/>
                  <a:pt x="15701" y="8285"/>
                </a:cubicBezTo>
                <a:cubicBezTo>
                  <a:pt x="15755" y="8285"/>
                  <a:pt x="15813" y="8287"/>
                  <a:pt x="15850" y="8334"/>
                </a:cubicBezTo>
                <a:cubicBezTo>
                  <a:pt x="15875" y="8384"/>
                  <a:pt x="15883" y="8401"/>
                  <a:pt x="15925" y="8409"/>
                </a:cubicBezTo>
                <a:cubicBezTo>
                  <a:pt x="15898" y="8475"/>
                  <a:pt x="15871" y="8502"/>
                  <a:pt x="15801" y="8508"/>
                </a:cubicBezTo>
                <a:cubicBezTo>
                  <a:pt x="15756" y="8512"/>
                  <a:pt x="15705" y="8547"/>
                  <a:pt x="15677" y="8508"/>
                </a:cubicBezTo>
                <a:cubicBezTo>
                  <a:pt x="15677" y="8483"/>
                  <a:pt x="15677" y="8475"/>
                  <a:pt x="15677" y="8458"/>
                </a:cubicBezTo>
              </a:path>
              <a:path w="7095" h="1092">
                <a:moveTo>
                  <a:pt x="16197" y="8161"/>
                </a:moveTo>
                <a:cubicBezTo>
                  <a:pt x="16172" y="8204"/>
                  <a:pt x="16173" y="8233"/>
                  <a:pt x="16173" y="8285"/>
                </a:cubicBezTo>
                <a:cubicBezTo>
                  <a:pt x="16173" y="8309"/>
                  <a:pt x="16173" y="8486"/>
                  <a:pt x="16173" y="8359"/>
                </a:cubicBezTo>
                <a:cubicBezTo>
                  <a:pt x="16173" y="8351"/>
                  <a:pt x="16173" y="8342"/>
                  <a:pt x="16173" y="8334"/>
                </a:cubicBezTo>
              </a:path>
              <a:path w="7095" h="1092">
                <a:moveTo>
                  <a:pt x="16123" y="7863"/>
                </a:moveTo>
                <a:cubicBezTo>
                  <a:pt x="16123" y="7846"/>
                  <a:pt x="16123" y="7830"/>
                  <a:pt x="16123" y="7813"/>
                </a:cubicBezTo>
                <a:cubicBezTo>
                  <a:pt x="16123" y="7877"/>
                  <a:pt x="16131" y="7863"/>
                  <a:pt x="16197" y="7863"/>
                </a:cubicBezTo>
              </a:path>
              <a:path w="7095" h="1092">
                <a:moveTo>
                  <a:pt x="16470" y="8186"/>
                </a:moveTo>
                <a:cubicBezTo>
                  <a:pt x="16470" y="8248"/>
                  <a:pt x="16490" y="8276"/>
                  <a:pt x="16495" y="8334"/>
                </a:cubicBezTo>
                <a:cubicBezTo>
                  <a:pt x="16498" y="8366"/>
                  <a:pt x="16495" y="8402"/>
                  <a:pt x="16495" y="8434"/>
                </a:cubicBezTo>
                <a:cubicBezTo>
                  <a:pt x="16495" y="8513"/>
                  <a:pt x="16495" y="8336"/>
                  <a:pt x="16495" y="8334"/>
                </a:cubicBezTo>
                <a:cubicBezTo>
                  <a:pt x="16495" y="8292"/>
                  <a:pt x="16499" y="8209"/>
                  <a:pt x="16545" y="8186"/>
                </a:cubicBezTo>
                <a:cubicBezTo>
                  <a:pt x="16615" y="8151"/>
                  <a:pt x="16658" y="8213"/>
                  <a:pt x="16694" y="8235"/>
                </a:cubicBezTo>
                <a:cubicBezTo>
                  <a:pt x="16724" y="8253"/>
                  <a:pt x="16765" y="8289"/>
                  <a:pt x="16768" y="8334"/>
                </a:cubicBezTo>
                <a:cubicBezTo>
                  <a:pt x="16772" y="8384"/>
                  <a:pt x="16748" y="8481"/>
                  <a:pt x="16768" y="8458"/>
                </a:cubicBezTo>
                <a:cubicBezTo>
                  <a:pt x="16776" y="8450"/>
                  <a:pt x="16785" y="8442"/>
                  <a:pt x="16793" y="8434"/>
                </a:cubicBezTo>
              </a:path>
              <a:path w="7095" h="1092">
                <a:moveTo>
                  <a:pt x="17190" y="8434"/>
                </a:moveTo>
                <a:cubicBezTo>
                  <a:pt x="17190" y="8493"/>
                  <a:pt x="17171" y="8378"/>
                  <a:pt x="17165" y="8359"/>
                </a:cubicBezTo>
                <a:cubicBezTo>
                  <a:pt x="17141" y="8283"/>
                  <a:pt x="17121" y="8207"/>
                  <a:pt x="17090" y="8136"/>
                </a:cubicBezTo>
                <a:cubicBezTo>
                  <a:pt x="17054" y="8053"/>
                  <a:pt x="17005" y="7953"/>
                  <a:pt x="16991" y="7863"/>
                </a:cubicBezTo>
                <a:cubicBezTo>
                  <a:pt x="16982" y="7805"/>
                  <a:pt x="16977" y="7664"/>
                  <a:pt x="17016" y="7615"/>
                </a:cubicBezTo>
                <a:cubicBezTo>
                  <a:pt x="17042" y="7582"/>
                  <a:pt x="17150" y="7590"/>
                  <a:pt x="17190" y="7590"/>
                </a:cubicBezTo>
                <a:cubicBezTo>
                  <a:pt x="17243" y="7590"/>
                  <a:pt x="17313" y="7609"/>
                  <a:pt x="17338" y="7665"/>
                </a:cubicBezTo>
                <a:cubicBezTo>
                  <a:pt x="17362" y="7720"/>
                  <a:pt x="17292" y="7744"/>
                  <a:pt x="17264" y="7764"/>
                </a:cubicBezTo>
              </a:path>
              <a:path w="7095" h="1092">
                <a:moveTo>
                  <a:pt x="16942" y="8161"/>
                </a:moveTo>
                <a:cubicBezTo>
                  <a:pt x="17005" y="8133"/>
                  <a:pt x="17044" y="8136"/>
                  <a:pt x="17115" y="8136"/>
                </a:cubicBezTo>
                <a:cubicBezTo>
                  <a:pt x="17169" y="8136"/>
                  <a:pt x="17193" y="8091"/>
                  <a:pt x="17239" y="8086"/>
                </a:cubicBezTo>
                <a:cubicBezTo>
                  <a:pt x="17264" y="8086"/>
                  <a:pt x="17272" y="8086"/>
                  <a:pt x="17289" y="8086"/>
                </a:cubicBezTo>
              </a:path>
              <a:path w="7095" h="1092">
                <a:moveTo>
                  <a:pt x="17462" y="8186"/>
                </a:moveTo>
                <a:cubicBezTo>
                  <a:pt x="17523" y="8221"/>
                  <a:pt x="17568" y="8216"/>
                  <a:pt x="17636" y="8186"/>
                </a:cubicBezTo>
                <a:cubicBezTo>
                  <a:pt x="17653" y="8178"/>
                  <a:pt x="17669" y="8169"/>
                  <a:pt x="17686" y="8161"/>
                </a:cubicBezTo>
                <a:cubicBezTo>
                  <a:pt x="17673" y="8098"/>
                  <a:pt x="17646" y="8073"/>
                  <a:pt x="17587" y="8062"/>
                </a:cubicBezTo>
                <a:cubicBezTo>
                  <a:pt x="17536" y="8052"/>
                  <a:pt x="17455" y="8107"/>
                  <a:pt x="17413" y="8136"/>
                </a:cubicBezTo>
                <a:cubicBezTo>
                  <a:pt x="17361" y="8173"/>
                  <a:pt x="17383" y="8265"/>
                  <a:pt x="17413" y="8310"/>
                </a:cubicBezTo>
                <a:cubicBezTo>
                  <a:pt x="17449" y="8364"/>
                  <a:pt x="17446" y="8395"/>
                  <a:pt x="17512" y="8434"/>
                </a:cubicBezTo>
                <a:cubicBezTo>
                  <a:pt x="17585" y="8477"/>
                  <a:pt x="17634" y="8544"/>
                  <a:pt x="17711" y="8582"/>
                </a:cubicBezTo>
                <a:cubicBezTo>
                  <a:pt x="17771" y="8602"/>
                  <a:pt x="17786" y="8621"/>
                  <a:pt x="17810" y="8582"/>
                </a:cubicBezTo>
              </a:path>
              <a:path w="7095" h="1092">
                <a:moveTo>
                  <a:pt x="18058" y="8111"/>
                </a:moveTo>
                <a:cubicBezTo>
                  <a:pt x="17958" y="8121"/>
                  <a:pt x="17936" y="8142"/>
                  <a:pt x="17884" y="8235"/>
                </a:cubicBezTo>
                <a:cubicBezTo>
                  <a:pt x="17851" y="8293"/>
                  <a:pt x="17859" y="8344"/>
                  <a:pt x="17859" y="8409"/>
                </a:cubicBezTo>
                <a:cubicBezTo>
                  <a:pt x="17921" y="8426"/>
                  <a:pt x="17932" y="8475"/>
                  <a:pt x="18008" y="8458"/>
                </a:cubicBezTo>
                <a:cubicBezTo>
                  <a:pt x="18093" y="8439"/>
                  <a:pt x="18134" y="8423"/>
                  <a:pt x="18207" y="8384"/>
                </a:cubicBezTo>
                <a:cubicBezTo>
                  <a:pt x="18250" y="8362"/>
                  <a:pt x="18262" y="8358"/>
                  <a:pt x="18281" y="8334"/>
                </a:cubicBezTo>
              </a:path>
              <a:path w="7095" h="1092">
                <a:moveTo>
                  <a:pt x="18331" y="7739"/>
                </a:moveTo>
                <a:cubicBezTo>
                  <a:pt x="18340" y="7803"/>
                  <a:pt x="18375" y="7858"/>
                  <a:pt x="18405" y="7913"/>
                </a:cubicBezTo>
                <a:cubicBezTo>
                  <a:pt x="18447" y="7990"/>
                  <a:pt x="18408" y="8058"/>
                  <a:pt x="18430" y="8136"/>
                </a:cubicBezTo>
                <a:cubicBezTo>
                  <a:pt x="18448" y="8200"/>
                  <a:pt x="18455" y="8241"/>
                  <a:pt x="18455" y="8310"/>
                </a:cubicBezTo>
                <a:cubicBezTo>
                  <a:pt x="18455" y="8343"/>
                  <a:pt x="18455" y="8376"/>
                  <a:pt x="18455" y="8409"/>
                </a:cubicBezTo>
              </a:path>
              <a:path w="7095" h="1092">
                <a:moveTo>
                  <a:pt x="18182" y="8136"/>
                </a:moveTo>
                <a:cubicBezTo>
                  <a:pt x="18297" y="8136"/>
                  <a:pt x="18424" y="8155"/>
                  <a:pt x="18529" y="8111"/>
                </a:cubicBezTo>
                <a:cubicBezTo>
                  <a:pt x="18590" y="8085"/>
                  <a:pt x="18606" y="8060"/>
                  <a:pt x="18653" y="8037"/>
                </a:cubicBezTo>
              </a:path>
              <a:path w="7095" h="1092">
                <a:moveTo>
                  <a:pt x="18976" y="8210"/>
                </a:moveTo>
                <a:cubicBezTo>
                  <a:pt x="18954" y="8166"/>
                  <a:pt x="18911" y="8146"/>
                  <a:pt x="18852" y="8161"/>
                </a:cubicBezTo>
                <a:cubicBezTo>
                  <a:pt x="18771" y="8181"/>
                  <a:pt x="18753" y="8251"/>
                  <a:pt x="18728" y="8334"/>
                </a:cubicBezTo>
                <a:cubicBezTo>
                  <a:pt x="18705" y="8411"/>
                  <a:pt x="18732" y="8466"/>
                  <a:pt x="18777" y="8508"/>
                </a:cubicBezTo>
                <a:cubicBezTo>
                  <a:pt x="18825" y="8552"/>
                  <a:pt x="18866" y="8496"/>
                  <a:pt x="18901" y="8458"/>
                </a:cubicBezTo>
                <a:cubicBezTo>
                  <a:pt x="18927" y="8430"/>
                  <a:pt x="18948" y="8372"/>
                  <a:pt x="18951" y="8334"/>
                </a:cubicBezTo>
                <a:cubicBezTo>
                  <a:pt x="18952" y="8319"/>
                  <a:pt x="18951" y="8168"/>
                  <a:pt x="18951" y="8235"/>
                </a:cubicBezTo>
                <a:cubicBezTo>
                  <a:pt x="18969" y="8265"/>
                  <a:pt x="19016" y="8326"/>
                  <a:pt x="19025" y="8359"/>
                </a:cubicBezTo>
                <a:cubicBezTo>
                  <a:pt x="19044" y="8425"/>
                  <a:pt x="19050" y="8434"/>
                  <a:pt x="19124" y="8434"/>
                </a:cubicBezTo>
              </a:path>
              <a:path w="7095" h="1092">
                <a:moveTo>
                  <a:pt x="19224" y="8186"/>
                </a:moveTo>
                <a:cubicBezTo>
                  <a:pt x="19250" y="8221"/>
                  <a:pt x="19261" y="8271"/>
                  <a:pt x="19273" y="8310"/>
                </a:cubicBezTo>
                <a:cubicBezTo>
                  <a:pt x="19282" y="8339"/>
                  <a:pt x="19273" y="8530"/>
                  <a:pt x="19273" y="8409"/>
                </a:cubicBezTo>
                <a:cubicBezTo>
                  <a:pt x="19273" y="8317"/>
                  <a:pt x="19257" y="8213"/>
                  <a:pt x="19298" y="8136"/>
                </a:cubicBezTo>
                <a:cubicBezTo>
                  <a:pt x="19331" y="8074"/>
                  <a:pt x="19354" y="8062"/>
                  <a:pt x="19422" y="8062"/>
                </a:cubicBezTo>
                <a:cubicBezTo>
                  <a:pt x="19452" y="8062"/>
                  <a:pt x="19580" y="8114"/>
                  <a:pt x="19596" y="8136"/>
                </a:cubicBezTo>
                <a:cubicBezTo>
                  <a:pt x="19613" y="8160"/>
                  <a:pt x="19621" y="8248"/>
                  <a:pt x="19621" y="8285"/>
                </a:cubicBezTo>
                <a:cubicBezTo>
                  <a:pt x="19621" y="8321"/>
                  <a:pt x="19621" y="8511"/>
                  <a:pt x="19621" y="8334"/>
                </a:cubicBezTo>
              </a:path>
              <a:path w="7095" h="1092">
                <a:moveTo>
                  <a:pt x="19720" y="7689"/>
                </a:moveTo>
                <a:cubicBezTo>
                  <a:pt x="19730" y="7737"/>
                  <a:pt x="19733" y="7790"/>
                  <a:pt x="19745" y="7838"/>
                </a:cubicBezTo>
                <a:cubicBezTo>
                  <a:pt x="19764" y="7919"/>
                  <a:pt x="19769" y="7979"/>
                  <a:pt x="19769" y="8062"/>
                </a:cubicBezTo>
                <a:cubicBezTo>
                  <a:pt x="19769" y="8081"/>
                  <a:pt x="19761" y="8419"/>
                  <a:pt x="19745" y="8409"/>
                </a:cubicBezTo>
                <a:cubicBezTo>
                  <a:pt x="19737" y="8392"/>
                  <a:pt x="19728" y="8376"/>
                  <a:pt x="19720" y="8359"/>
                </a:cubicBezTo>
              </a:path>
              <a:path w="7095" h="1092">
                <a:moveTo>
                  <a:pt x="19496" y="7962"/>
                </a:moveTo>
                <a:cubicBezTo>
                  <a:pt x="19601" y="7962"/>
                  <a:pt x="19696" y="7955"/>
                  <a:pt x="19794" y="7938"/>
                </a:cubicBezTo>
                <a:cubicBezTo>
                  <a:pt x="19839" y="7930"/>
                  <a:pt x="19926" y="7931"/>
                  <a:pt x="19968" y="7913"/>
                </a:cubicBezTo>
                <a:cubicBezTo>
                  <a:pt x="20018" y="7892"/>
                  <a:pt x="20024" y="7870"/>
                  <a:pt x="19968" y="7913"/>
                </a:cubicBezTo>
              </a:path>
              <a:path w="7095" h="1092">
                <a:moveTo>
                  <a:pt x="20538" y="7987"/>
                </a:moveTo>
                <a:cubicBezTo>
                  <a:pt x="20581" y="8059"/>
                  <a:pt x="20551" y="8085"/>
                  <a:pt x="20538" y="8161"/>
                </a:cubicBezTo>
                <a:cubicBezTo>
                  <a:pt x="20531" y="8205"/>
                  <a:pt x="20516" y="8247"/>
                  <a:pt x="20513" y="8285"/>
                </a:cubicBezTo>
                <a:cubicBezTo>
                  <a:pt x="20513" y="8301"/>
                  <a:pt x="20513" y="8318"/>
                  <a:pt x="20513" y="8334"/>
                </a:cubicBezTo>
              </a:path>
              <a:path w="7095" h="1092">
                <a:moveTo>
                  <a:pt x="20340" y="8186"/>
                </a:moveTo>
                <a:cubicBezTo>
                  <a:pt x="20446" y="8186"/>
                  <a:pt x="20565" y="8204"/>
                  <a:pt x="20662" y="8161"/>
                </a:cubicBezTo>
                <a:cubicBezTo>
                  <a:pt x="20713" y="8138"/>
                  <a:pt x="20779" y="8112"/>
                  <a:pt x="20811" y="8062"/>
                </a:cubicBezTo>
                <a:cubicBezTo>
                  <a:pt x="20836" y="8024"/>
                  <a:pt x="20901" y="7934"/>
                  <a:pt x="20886" y="7888"/>
                </a:cubicBezTo>
                <a:cubicBezTo>
                  <a:pt x="20875" y="7856"/>
                  <a:pt x="20836" y="7844"/>
                  <a:pt x="20811" y="7838"/>
                </a:cubicBezTo>
                <a:cubicBezTo>
                  <a:pt x="20811" y="8012"/>
                  <a:pt x="20811" y="8185"/>
                  <a:pt x="20811" y="8359"/>
                </a:cubicBezTo>
                <a:cubicBezTo>
                  <a:pt x="20841" y="8308"/>
                  <a:pt x="20870" y="8254"/>
                  <a:pt x="20910" y="8210"/>
                </a:cubicBezTo>
                <a:cubicBezTo>
                  <a:pt x="20944" y="8172"/>
                  <a:pt x="21018" y="8178"/>
                  <a:pt x="21034" y="8235"/>
                </a:cubicBezTo>
                <a:cubicBezTo>
                  <a:pt x="21050" y="8294"/>
                  <a:pt x="21015" y="8305"/>
                  <a:pt x="21059" y="8334"/>
                </a:cubicBezTo>
                <a:cubicBezTo>
                  <a:pt x="21094" y="8334"/>
                  <a:pt x="21107" y="8325"/>
                  <a:pt x="21109" y="8285"/>
                </a:cubicBezTo>
              </a:path>
              <a:path w="7095" h="1092">
                <a:moveTo>
                  <a:pt x="21208" y="8210"/>
                </a:moveTo>
                <a:cubicBezTo>
                  <a:pt x="21297" y="8210"/>
                  <a:pt x="21374" y="8222"/>
                  <a:pt x="21431" y="8136"/>
                </a:cubicBezTo>
                <a:cubicBezTo>
                  <a:pt x="21431" y="8128"/>
                  <a:pt x="21431" y="8119"/>
                  <a:pt x="21431" y="8111"/>
                </a:cubicBezTo>
                <a:cubicBezTo>
                  <a:pt x="21389" y="8079"/>
                  <a:pt x="21363" y="8086"/>
                  <a:pt x="21307" y="8086"/>
                </a:cubicBezTo>
                <a:cubicBezTo>
                  <a:pt x="21217" y="8086"/>
                  <a:pt x="21233" y="8141"/>
                  <a:pt x="21233" y="8210"/>
                </a:cubicBezTo>
                <a:cubicBezTo>
                  <a:pt x="21233" y="8284"/>
                  <a:pt x="21269" y="8301"/>
                  <a:pt x="21332" y="8334"/>
                </a:cubicBezTo>
                <a:cubicBezTo>
                  <a:pt x="21384" y="8361"/>
                  <a:pt x="21443" y="8403"/>
                  <a:pt x="21506" y="8384"/>
                </a:cubicBezTo>
                <a:cubicBezTo>
                  <a:pt x="21574" y="8364"/>
                  <a:pt x="21615" y="8287"/>
                  <a:pt x="21630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768760"/>
            <a:ext cx="946080" cy="393480"/>
          </a:xfrm>
          <a:custGeom>
            <a:avLst/>
            <a:gdLst/>
            <a:ahLst/>
            <a:rect l="l" t="t" r="r" b="b"/>
            <a:pathLst>
              <a:path w="2630" h="1093">
                <a:moveTo>
                  <a:pt x="22547" y="7938"/>
                </a:moveTo>
                <a:cubicBezTo>
                  <a:pt x="22524" y="7866"/>
                  <a:pt x="22506" y="7888"/>
                  <a:pt x="22423" y="7888"/>
                </a:cubicBezTo>
                <a:cubicBezTo>
                  <a:pt x="22367" y="7888"/>
                  <a:pt x="22316" y="7875"/>
                  <a:pt x="22275" y="7913"/>
                </a:cubicBezTo>
                <a:cubicBezTo>
                  <a:pt x="22211" y="7972"/>
                  <a:pt x="22225" y="8005"/>
                  <a:pt x="22225" y="8086"/>
                </a:cubicBezTo>
                <a:cubicBezTo>
                  <a:pt x="22225" y="8164"/>
                  <a:pt x="22225" y="8199"/>
                  <a:pt x="22275" y="8260"/>
                </a:cubicBezTo>
                <a:cubicBezTo>
                  <a:pt x="22337" y="8260"/>
                  <a:pt x="22408" y="8184"/>
                  <a:pt x="22448" y="8136"/>
                </a:cubicBezTo>
                <a:cubicBezTo>
                  <a:pt x="22494" y="8081"/>
                  <a:pt x="22520" y="8027"/>
                  <a:pt x="22547" y="7962"/>
                </a:cubicBezTo>
                <a:cubicBezTo>
                  <a:pt x="22547" y="8035"/>
                  <a:pt x="22531" y="8091"/>
                  <a:pt x="22523" y="8161"/>
                </a:cubicBezTo>
                <a:cubicBezTo>
                  <a:pt x="22509" y="8287"/>
                  <a:pt x="22462" y="8407"/>
                  <a:pt x="22448" y="8533"/>
                </a:cubicBezTo>
                <a:cubicBezTo>
                  <a:pt x="22441" y="8593"/>
                  <a:pt x="22434" y="8686"/>
                  <a:pt x="22473" y="8731"/>
                </a:cubicBezTo>
                <a:cubicBezTo>
                  <a:pt x="22538" y="8806"/>
                  <a:pt x="22577" y="8790"/>
                  <a:pt x="22622" y="8706"/>
                </a:cubicBezTo>
                <a:cubicBezTo>
                  <a:pt x="22673" y="8611"/>
                  <a:pt x="22669" y="8644"/>
                  <a:pt x="22647" y="8533"/>
                </a:cubicBezTo>
                <a:cubicBezTo>
                  <a:pt x="22642" y="8508"/>
                  <a:pt x="22552" y="8448"/>
                  <a:pt x="22523" y="8434"/>
                </a:cubicBezTo>
                <a:cubicBezTo>
                  <a:pt x="22474" y="8410"/>
                  <a:pt x="22458" y="8412"/>
                  <a:pt x="22498" y="8359"/>
                </a:cubicBezTo>
              </a:path>
              <a:path w="2630" h="1093">
                <a:moveTo>
                  <a:pt x="22870" y="7987"/>
                </a:moveTo>
                <a:cubicBezTo>
                  <a:pt x="22887" y="7987"/>
                  <a:pt x="22903" y="7987"/>
                  <a:pt x="22920" y="7987"/>
                </a:cubicBezTo>
                <a:cubicBezTo>
                  <a:pt x="22920" y="8041"/>
                  <a:pt x="22912" y="8089"/>
                  <a:pt x="22895" y="8136"/>
                </a:cubicBezTo>
                <a:cubicBezTo>
                  <a:pt x="22875" y="8192"/>
                  <a:pt x="22870" y="8226"/>
                  <a:pt x="22870" y="8285"/>
                </a:cubicBezTo>
                <a:cubicBezTo>
                  <a:pt x="22870" y="8336"/>
                  <a:pt x="22872" y="8354"/>
                  <a:pt x="22920" y="8359"/>
                </a:cubicBezTo>
                <a:cubicBezTo>
                  <a:pt x="22950" y="8344"/>
                  <a:pt x="23010" y="8282"/>
                  <a:pt x="23019" y="8235"/>
                </a:cubicBezTo>
                <a:cubicBezTo>
                  <a:pt x="23034" y="8153"/>
                  <a:pt x="23076" y="8091"/>
                  <a:pt x="23093" y="8012"/>
                </a:cubicBezTo>
                <a:cubicBezTo>
                  <a:pt x="23093" y="7995"/>
                  <a:pt x="23093" y="7979"/>
                  <a:pt x="23093" y="7962"/>
                </a:cubicBezTo>
                <a:cubicBezTo>
                  <a:pt x="23058" y="8009"/>
                  <a:pt x="23068" y="8049"/>
                  <a:pt x="23068" y="8111"/>
                </a:cubicBezTo>
                <a:cubicBezTo>
                  <a:pt x="23068" y="8196"/>
                  <a:pt x="23050" y="8226"/>
                  <a:pt x="23118" y="8260"/>
                </a:cubicBezTo>
                <a:cubicBezTo>
                  <a:pt x="23187" y="8294"/>
                  <a:pt x="23173" y="8290"/>
                  <a:pt x="23242" y="8260"/>
                </a:cubicBezTo>
              </a:path>
              <a:path w="2630" h="1093">
                <a:moveTo>
                  <a:pt x="23416" y="7987"/>
                </a:moveTo>
                <a:cubicBezTo>
                  <a:pt x="23352" y="7960"/>
                  <a:pt x="23314" y="7937"/>
                  <a:pt x="23267" y="8012"/>
                </a:cubicBezTo>
                <a:cubicBezTo>
                  <a:pt x="23248" y="8043"/>
                  <a:pt x="23221" y="8095"/>
                  <a:pt x="23217" y="8136"/>
                </a:cubicBezTo>
                <a:cubicBezTo>
                  <a:pt x="23209" y="8213"/>
                  <a:pt x="23208" y="8221"/>
                  <a:pt x="23267" y="8260"/>
                </a:cubicBezTo>
                <a:cubicBezTo>
                  <a:pt x="23317" y="8239"/>
                  <a:pt x="23362" y="8205"/>
                  <a:pt x="23366" y="8136"/>
                </a:cubicBezTo>
                <a:cubicBezTo>
                  <a:pt x="23370" y="8066"/>
                  <a:pt x="23351" y="8016"/>
                  <a:pt x="23391" y="7962"/>
                </a:cubicBezTo>
                <a:cubicBezTo>
                  <a:pt x="23443" y="7929"/>
                  <a:pt x="23416" y="7982"/>
                  <a:pt x="23416" y="8037"/>
                </a:cubicBezTo>
                <a:cubicBezTo>
                  <a:pt x="23416" y="8099"/>
                  <a:pt x="23430" y="8138"/>
                  <a:pt x="23440" y="8186"/>
                </a:cubicBezTo>
                <a:cubicBezTo>
                  <a:pt x="23446" y="8217"/>
                  <a:pt x="23439" y="8288"/>
                  <a:pt x="23465" y="8235"/>
                </a:cubicBezTo>
              </a:path>
              <a:path w="2630" h="1093">
                <a:moveTo>
                  <a:pt x="23614" y="7689"/>
                </a:moveTo>
                <a:cubicBezTo>
                  <a:pt x="23614" y="7759"/>
                  <a:pt x="23609" y="7800"/>
                  <a:pt x="23639" y="7863"/>
                </a:cubicBezTo>
                <a:cubicBezTo>
                  <a:pt x="23668" y="7924"/>
                  <a:pt x="23664" y="7970"/>
                  <a:pt x="23664" y="8037"/>
                </a:cubicBezTo>
                <a:cubicBezTo>
                  <a:pt x="23664" y="8103"/>
                  <a:pt x="23664" y="8169"/>
                  <a:pt x="23664" y="8235"/>
                </a:cubicBezTo>
              </a:path>
              <a:path w="2630" h="1093">
                <a:moveTo>
                  <a:pt x="23961" y="8086"/>
                </a:moveTo>
                <a:cubicBezTo>
                  <a:pt x="23983" y="8160"/>
                  <a:pt x="24004" y="8179"/>
                  <a:pt x="23961" y="8235"/>
                </a:cubicBezTo>
              </a:path>
              <a:path w="2630" h="1093">
                <a:moveTo>
                  <a:pt x="23986" y="7764"/>
                </a:moveTo>
                <a:lnTo>
                  <a:pt x="23986" y="7764"/>
                </a:lnTo>
              </a:path>
              <a:path w="2630" h="1093">
                <a:moveTo>
                  <a:pt x="24309" y="7739"/>
                </a:moveTo>
                <a:cubicBezTo>
                  <a:pt x="24288" y="7795"/>
                  <a:pt x="24284" y="7829"/>
                  <a:pt x="24284" y="7888"/>
                </a:cubicBezTo>
                <a:cubicBezTo>
                  <a:pt x="24284" y="7954"/>
                  <a:pt x="24290" y="8016"/>
                  <a:pt x="24284" y="8062"/>
                </a:cubicBezTo>
                <a:cubicBezTo>
                  <a:pt x="24276" y="8122"/>
                  <a:pt x="24276" y="8136"/>
                  <a:pt x="24259" y="8186"/>
                </a:cubicBezTo>
                <a:cubicBezTo>
                  <a:pt x="24259" y="8194"/>
                  <a:pt x="24259" y="8202"/>
                  <a:pt x="24259" y="8210"/>
                </a:cubicBezTo>
              </a:path>
              <a:path w="2630" h="1093">
                <a:moveTo>
                  <a:pt x="24135" y="8012"/>
                </a:moveTo>
                <a:cubicBezTo>
                  <a:pt x="24191" y="8040"/>
                  <a:pt x="24242" y="8037"/>
                  <a:pt x="24309" y="8037"/>
                </a:cubicBezTo>
                <a:cubicBezTo>
                  <a:pt x="24392" y="8037"/>
                  <a:pt x="24457" y="8044"/>
                  <a:pt x="24532" y="8012"/>
                </a:cubicBezTo>
              </a:path>
              <a:path w="2630" h="1093">
                <a:moveTo>
                  <a:pt x="24581" y="7962"/>
                </a:moveTo>
                <a:cubicBezTo>
                  <a:pt x="24581" y="7989"/>
                  <a:pt x="24550" y="8075"/>
                  <a:pt x="24557" y="8086"/>
                </a:cubicBezTo>
                <a:cubicBezTo>
                  <a:pt x="24608" y="8167"/>
                  <a:pt x="24676" y="8127"/>
                  <a:pt x="24730" y="8062"/>
                </a:cubicBezTo>
                <a:cubicBezTo>
                  <a:pt x="24752" y="8035"/>
                  <a:pt x="24793" y="7952"/>
                  <a:pt x="24805" y="7913"/>
                </a:cubicBezTo>
                <a:cubicBezTo>
                  <a:pt x="24805" y="7905"/>
                  <a:pt x="24805" y="7896"/>
                  <a:pt x="24805" y="7888"/>
                </a:cubicBezTo>
                <a:cubicBezTo>
                  <a:pt x="24805" y="7985"/>
                  <a:pt x="24777" y="8126"/>
                  <a:pt x="24829" y="8210"/>
                </a:cubicBezTo>
                <a:cubicBezTo>
                  <a:pt x="24857" y="8255"/>
                  <a:pt x="24872" y="8326"/>
                  <a:pt x="24854" y="8384"/>
                </a:cubicBezTo>
                <a:cubicBezTo>
                  <a:pt x="24837" y="8439"/>
                  <a:pt x="24820" y="8518"/>
                  <a:pt x="24755" y="8533"/>
                </a:cubicBezTo>
                <a:cubicBezTo>
                  <a:pt x="24694" y="8547"/>
                  <a:pt x="24628" y="8533"/>
                  <a:pt x="24581" y="8508"/>
                </a:cubicBezTo>
                <a:cubicBezTo>
                  <a:pt x="24535" y="8483"/>
                  <a:pt x="24443" y="8445"/>
                  <a:pt x="24408" y="8409"/>
                </a:cubicBezTo>
                <a:cubicBezTo>
                  <a:pt x="24325" y="8299"/>
                  <a:pt x="24287" y="8260"/>
                  <a:pt x="24185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1920" y="3081240"/>
            <a:ext cx="723960" cy="204840"/>
          </a:xfrm>
          <a:custGeom>
            <a:avLst/>
            <a:gdLst/>
            <a:ahLst/>
            <a:rect l="l" t="t" r="r" b="b"/>
            <a:pathLst>
              <a:path w="2010" h="571">
                <a:moveTo>
                  <a:pt x="3646" y="9054"/>
                </a:moveTo>
                <a:cubicBezTo>
                  <a:pt x="3646" y="8985"/>
                  <a:pt x="3637" y="8969"/>
                  <a:pt x="3621" y="8905"/>
                </a:cubicBezTo>
                <a:cubicBezTo>
                  <a:pt x="3604" y="8837"/>
                  <a:pt x="3572" y="8834"/>
                  <a:pt x="3572" y="8756"/>
                </a:cubicBezTo>
                <a:cubicBezTo>
                  <a:pt x="3572" y="8700"/>
                  <a:pt x="3566" y="8658"/>
                  <a:pt x="3597" y="8607"/>
                </a:cubicBezTo>
                <a:cubicBezTo>
                  <a:pt x="3613" y="8580"/>
                  <a:pt x="3688" y="8534"/>
                  <a:pt x="3721" y="8558"/>
                </a:cubicBezTo>
                <a:cubicBezTo>
                  <a:pt x="3765" y="8602"/>
                  <a:pt x="3788" y="8619"/>
                  <a:pt x="3721" y="8607"/>
                </a:cubicBezTo>
              </a:path>
              <a:path w="2010" h="571">
                <a:moveTo>
                  <a:pt x="3423" y="8880"/>
                </a:moveTo>
                <a:cubicBezTo>
                  <a:pt x="3514" y="8880"/>
                  <a:pt x="3605" y="8880"/>
                  <a:pt x="3696" y="8880"/>
                </a:cubicBezTo>
              </a:path>
              <a:path w="2010" h="571">
                <a:moveTo>
                  <a:pt x="3894" y="8905"/>
                </a:moveTo>
                <a:cubicBezTo>
                  <a:pt x="3894" y="8965"/>
                  <a:pt x="3838" y="9129"/>
                  <a:pt x="3870" y="9079"/>
                </a:cubicBezTo>
                <a:cubicBezTo>
                  <a:pt x="3878" y="9062"/>
                  <a:pt x="3886" y="9046"/>
                  <a:pt x="3894" y="9029"/>
                </a:cubicBezTo>
              </a:path>
              <a:path w="2010" h="571">
                <a:moveTo>
                  <a:pt x="4093" y="8607"/>
                </a:moveTo>
                <a:cubicBezTo>
                  <a:pt x="4116" y="8687"/>
                  <a:pt x="4142" y="8749"/>
                  <a:pt x="4142" y="8830"/>
                </a:cubicBezTo>
                <a:cubicBezTo>
                  <a:pt x="4142" y="8897"/>
                  <a:pt x="4111" y="9098"/>
                  <a:pt x="4167" y="9004"/>
                </a:cubicBezTo>
              </a:path>
              <a:path w="2010" h="571">
                <a:moveTo>
                  <a:pt x="4316" y="8781"/>
                </a:moveTo>
                <a:cubicBezTo>
                  <a:pt x="4338" y="8853"/>
                  <a:pt x="4341" y="8882"/>
                  <a:pt x="4341" y="8954"/>
                </a:cubicBezTo>
                <a:cubicBezTo>
                  <a:pt x="4341" y="8987"/>
                  <a:pt x="4341" y="9021"/>
                  <a:pt x="4341" y="9054"/>
                </a:cubicBezTo>
                <a:cubicBezTo>
                  <a:pt x="4382" y="8982"/>
                  <a:pt x="4378" y="8929"/>
                  <a:pt x="4415" y="8855"/>
                </a:cubicBezTo>
                <a:cubicBezTo>
                  <a:pt x="4433" y="8819"/>
                  <a:pt x="4526" y="8768"/>
                  <a:pt x="4564" y="8781"/>
                </a:cubicBezTo>
                <a:cubicBezTo>
                  <a:pt x="4596" y="8792"/>
                  <a:pt x="4611" y="8878"/>
                  <a:pt x="4614" y="8905"/>
                </a:cubicBezTo>
                <a:cubicBezTo>
                  <a:pt x="4618" y="8946"/>
                  <a:pt x="4614" y="8988"/>
                  <a:pt x="4614" y="9029"/>
                </a:cubicBezTo>
                <a:cubicBezTo>
                  <a:pt x="4661" y="9005"/>
                  <a:pt x="4699" y="8952"/>
                  <a:pt x="4738" y="8905"/>
                </a:cubicBezTo>
                <a:cubicBezTo>
                  <a:pt x="4746" y="8897"/>
                  <a:pt x="4754" y="8888"/>
                  <a:pt x="4762" y="8880"/>
                </a:cubicBezTo>
                <a:cubicBezTo>
                  <a:pt x="4794" y="8891"/>
                  <a:pt x="4802" y="8914"/>
                  <a:pt x="4812" y="8954"/>
                </a:cubicBezTo>
              </a:path>
              <a:path w="2010" h="571">
                <a:moveTo>
                  <a:pt x="5135" y="8731"/>
                </a:moveTo>
                <a:cubicBezTo>
                  <a:pt x="5092" y="8699"/>
                  <a:pt x="5004" y="8645"/>
                  <a:pt x="4961" y="8731"/>
                </a:cubicBezTo>
                <a:cubicBezTo>
                  <a:pt x="4937" y="8779"/>
                  <a:pt x="4966" y="8827"/>
                  <a:pt x="5011" y="8830"/>
                </a:cubicBezTo>
                <a:cubicBezTo>
                  <a:pt x="5085" y="8835"/>
                  <a:pt x="5144" y="8824"/>
                  <a:pt x="5184" y="8905"/>
                </a:cubicBezTo>
                <a:cubicBezTo>
                  <a:pt x="5184" y="8913"/>
                  <a:pt x="5184" y="8922"/>
                  <a:pt x="5184" y="8930"/>
                </a:cubicBezTo>
                <a:cubicBezTo>
                  <a:pt x="5127" y="8954"/>
                  <a:pt x="5098" y="8954"/>
                  <a:pt x="5035" y="8954"/>
                </a:cubicBezTo>
                <a:cubicBezTo>
                  <a:pt x="5027" y="8954"/>
                  <a:pt x="5019" y="8954"/>
                  <a:pt x="5011" y="8954"/>
                </a:cubicBezTo>
              </a:path>
              <a:path w="2010" h="571">
                <a:moveTo>
                  <a:pt x="5358" y="8880"/>
                </a:moveTo>
                <a:cubicBezTo>
                  <a:pt x="5380" y="8887"/>
                  <a:pt x="5423" y="8945"/>
                  <a:pt x="5432" y="8979"/>
                </a:cubicBezTo>
                <a:cubicBezTo>
                  <a:pt x="5439" y="9007"/>
                  <a:pt x="5439" y="9111"/>
                  <a:pt x="5407" y="9128"/>
                </a:cubicBezTo>
                <a:cubicBezTo>
                  <a:pt x="5382" y="9141"/>
                  <a:pt x="5313" y="9128"/>
                  <a:pt x="5283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14760" y="3089160"/>
            <a:ext cx="2830320" cy="358920"/>
          </a:xfrm>
          <a:custGeom>
            <a:avLst/>
            <a:gdLst/>
            <a:ahLst/>
            <a:rect l="l" t="t" r="r" b="b"/>
            <a:pathLst>
              <a:path w="7864" h="994">
                <a:moveTo>
                  <a:pt x="7541" y="8905"/>
                </a:moveTo>
                <a:cubicBezTo>
                  <a:pt x="7607" y="8894"/>
                  <a:pt x="7606" y="8915"/>
                  <a:pt x="7615" y="9004"/>
                </a:cubicBezTo>
                <a:cubicBezTo>
                  <a:pt x="7622" y="9069"/>
                  <a:pt x="7605" y="9095"/>
                  <a:pt x="7590" y="9153"/>
                </a:cubicBezTo>
                <a:cubicBezTo>
                  <a:pt x="7590" y="9161"/>
                  <a:pt x="7590" y="9170"/>
                  <a:pt x="7590" y="9178"/>
                </a:cubicBezTo>
                <a:cubicBezTo>
                  <a:pt x="7590" y="9104"/>
                  <a:pt x="7575" y="9019"/>
                  <a:pt x="7615" y="8954"/>
                </a:cubicBezTo>
                <a:cubicBezTo>
                  <a:pt x="7637" y="8919"/>
                  <a:pt x="7659" y="8844"/>
                  <a:pt x="7714" y="8855"/>
                </a:cubicBezTo>
                <a:cubicBezTo>
                  <a:pt x="7757" y="8864"/>
                  <a:pt x="7791" y="8953"/>
                  <a:pt x="7813" y="8979"/>
                </a:cubicBezTo>
                <a:cubicBezTo>
                  <a:pt x="7849" y="9023"/>
                  <a:pt x="7863" y="9185"/>
                  <a:pt x="7863" y="9128"/>
                </a:cubicBezTo>
                <a:cubicBezTo>
                  <a:pt x="7863" y="9055"/>
                  <a:pt x="7907" y="9022"/>
                  <a:pt x="7913" y="8954"/>
                </a:cubicBezTo>
                <a:cubicBezTo>
                  <a:pt x="7918" y="8891"/>
                  <a:pt x="7989" y="8905"/>
                  <a:pt x="8037" y="8905"/>
                </a:cubicBezTo>
                <a:cubicBezTo>
                  <a:pt x="8101" y="8905"/>
                  <a:pt x="8111" y="8953"/>
                  <a:pt x="8111" y="9004"/>
                </a:cubicBezTo>
                <a:cubicBezTo>
                  <a:pt x="8111" y="9112"/>
                  <a:pt x="8062" y="9267"/>
                  <a:pt x="8161" y="9153"/>
                </a:cubicBezTo>
              </a:path>
              <a:path w="7864" h="994">
                <a:moveTo>
                  <a:pt x="8384" y="9103"/>
                </a:moveTo>
                <a:cubicBezTo>
                  <a:pt x="8482" y="9103"/>
                  <a:pt x="8453" y="9075"/>
                  <a:pt x="8533" y="9029"/>
                </a:cubicBezTo>
                <a:cubicBezTo>
                  <a:pt x="8541" y="9029"/>
                  <a:pt x="8550" y="9029"/>
                  <a:pt x="8558" y="9029"/>
                </a:cubicBezTo>
                <a:cubicBezTo>
                  <a:pt x="8518" y="8972"/>
                  <a:pt x="8485" y="8937"/>
                  <a:pt x="8409" y="8930"/>
                </a:cubicBezTo>
                <a:cubicBezTo>
                  <a:pt x="8332" y="8923"/>
                  <a:pt x="8320" y="8982"/>
                  <a:pt x="8285" y="9029"/>
                </a:cubicBezTo>
                <a:cubicBezTo>
                  <a:pt x="8263" y="9059"/>
                  <a:pt x="8239" y="9111"/>
                  <a:pt x="8260" y="9153"/>
                </a:cubicBezTo>
                <a:cubicBezTo>
                  <a:pt x="8289" y="9211"/>
                  <a:pt x="8388" y="9234"/>
                  <a:pt x="8434" y="9252"/>
                </a:cubicBezTo>
                <a:cubicBezTo>
                  <a:pt x="8492" y="9275"/>
                  <a:pt x="8520" y="9294"/>
                  <a:pt x="8582" y="9302"/>
                </a:cubicBezTo>
              </a:path>
              <a:path w="7864" h="994">
                <a:moveTo>
                  <a:pt x="9128" y="9054"/>
                </a:moveTo>
                <a:cubicBezTo>
                  <a:pt x="9112" y="8976"/>
                  <a:pt x="9104" y="8979"/>
                  <a:pt x="9029" y="8979"/>
                </a:cubicBezTo>
                <a:cubicBezTo>
                  <a:pt x="8951" y="8979"/>
                  <a:pt x="8928" y="8966"/>
                  <a:pt x="8880" y="9029"/>
                </a:cubicBezTo>
                <a:cubicBezTo>
                  <a:pt x="8822" y="9104"/>
                  <a:pt x="8830" y="9119"/>
                  <a:pt x="8830" y="9203"/>
                </a:cubicBezTo>
                <a:cubicBezTo>
                  <a:pt x="8830" y="9242"/>
                  <a:pt x="8858" y="9318"/>
                  <a:pt x="8880" y="9327"/>
                </a:cubicBezTo>
                <a:cubicBezTo>
                  <a:pt x="8931" y="9348"/>
                  <a:pt x="8993" y="9304"/>
                  <a:pt x="9029" y="9277"/>
                </a:cubicBezTo>
                <a:cubicBezTo>
                  <a:pt x="9091" y="9230"/>
                  <a:pt x="9061" y="9217"/>
                  <a:pt x="9079" y="9153"/>
                </a:cubicBezTo>
                <a:cubicBezTo>
                  <a:pt x="9107" y="9053"/>
                  <a:pt x="9141" y="9021"/>
                  <a:pt x="9128" y="8905"/>
                </a:cubicBezTo>
                <a:cubicBezTo>
                  <a:pt x="9115" y="8791"/>
                  <a:pt x="9103" y="8696"/>
                  <a:pt x="9103" y="8582"/>
                </a:cubicBezTo>
                <a:cubicBezTo>
                  <a:pt x="9076" y="8692"/>
                  <a:pt x="9079" y="8791"/>
                  <a:pt x="9079" y="8905"/>
                </a:cubicBezTo>
                <a:cubicBezTo>
                  <a:pt x="9079" y="8999"/>
                  <a:pt x="9122" y="9039"/>
                  <a:pt x="9128" y="9128"/>
                </a:cubicBezTo>
                <a:cubicBezTo>
                  <a:pt x="9131" y="9173"/>
                  <a:pt x="9060" y="9263"/>
                  <a:pt x="9103" y="9252"/>
                </a:cubicBezTo>
                <a:cubicBezTo>
                  <a:pt x="9111" y="9244"/>
                  <a:pt x="9120" y="9235"/>
                  <a:pt x="9128" y="9227"/>
                </a:cubicBezTo>
              </a:path>
              <a:path w="7864" h="994">
                <a:moveTo>
                  <a:pt x="9376" y="9079"/>
                </a:moveTo>
                <a:cubicBezTo>
                  <a:pt x="9376" y="9136"/>
                  <a:pt x="9368" y="9178"/>
                  <a:pt x="9401" y="9227"/>
                </a:cubicBezTo>
                <a:cubicBezTo>
                  <a:pt x="9429" y="9255"/>
                  <a:pt x="9438" y="9269"/>
                  <a:pt x="9426" y="9302"/>
                </a:cubicBezTo>
                <a:cubicBezTo>
                  <a:pt x="9426" y="9344"/>
                  <a:pt x="9426" y="9269"/>
                  <a:pt x="9426" y="9227"/>
                </a:cubicBezTo>
              </a:path>
              <a:path w="7864" h="994">
                <a:moveTo>
                  <a:pt x="9401" y="8830"/>
                </a:moveTo>
                <a:cubicBezTo>
                  <a:pt x="9401" y="8806"/>
                  <a:pt x="9401" y="8798"/>
                  <a:pt x="9426" y="8806"/>
                </a:cubicBezTo>
              </a:path>
              <a:path w="7864" h="994">
                <a:moveTo>
                  <a:pt x="9847" y="8954"/>
                </a:moveTo>
                <a:cubicBezTo>
                  <a:pt x="9787" y="8980"/>
                  <a:pt x="9764" y="8979"/>
                  <a:pt x="9699" y="8979"/>
                </a:cubicBezTo>
                <a:cubicBezTo>
                  <a:pt x="9645" y="8979"/>
                  <a:pt x="9621" y="8983"/>
                  <a:pt x="9599" y="9029"/>
                </a:cubicBezTo>
                <a:cubicBezTo>
                  <a:pt x="9581" y="9065"/>
                  <a:pt x="9558" y="9135"/>
                  <a:pt x="9575" y="9178"/>
                </a:cubicBezTo>
                <a:cubicBezTo>
                  <a:pt x="9607" y="9259"/>
                  <a:pt x="9706" y="9252"/>
                  <a:pt x="9773" y="9252"/>
                </a:cubicBezTo>
                <a:cubicBezTo>
                  <a:pt x="9849" y="9252"/>
                  <a:pt x="9901" y="9254"/>
                  <a:pt x="9971" y="9227"/>
                </a:cubicBezTo>
              </a:path>
              <a:path w="7864" h="994">
                <a:moveTo>
                  <a:pt x="10195" y="9054"/>
                </a:moveTo>
                <a:cubicBezTo>
                  <a:pt x="10195" y="9115"/>
                  <a:pt x="10183" y="9140"/>
                  <a:pt x="10170" y="9203"/>
                </a:cubicBezTo>
                <a:cubicBezTo>
                  <a:pt x="10158" y="9261"/>
                  <a:pt x="10170" y="9191"/>
                  <a:pt x="10170" y="9178"/>
                </a:cubicBezTo>
              </a:path>
              <a:path w="7864" h="994">
                <a:moveTo>
                  <a:pt x="10170" y="8855"/>
                </a:moveTo>
                <a:cubicBezTo>
                  <a:pt x="10195" y="8855"/>
                  <a:pt x="10203" y="8855"/>
                  <a:pt x="10195" y="8880"/>
                </a:cubicBezTo>
              </a:path>
              <a:path w="7864" h="994">
                <a:moveTo>
                  <a:pt x="10344" y="9054"/>
                </a:moveTo>
                <a:cubicBezTo>
                  <a:pt x="10383" y="9108"/>
                  <a:pt x="10348" y="9136"/>
                  <a:pt x="10344" y="9203"/>
                </a:cubicBezTo>
                <a:cubicBezTo>
                  <a:pt x="10341" y="9252"/>
                  <a:pt x="10344" y="9302"/>
                  <a:pt x="10344" y="9351"/>
                </a:cubicBezTo>
                <a:cubicBezTo>
                  <a:pt x="10374" y="9326"/>
                  <a:pt x="10430" y="9272"/>
                  <a:pt x="10443" y="9227"/>
                </a:cubicBezTo>
                <a:cubicBezTo>
                  <a:pt x="10462" y="9163"/>
                  <a:pt x="10465" y="9072"/>
                  <a:pt x="10517" y="9029"/>
                </a:cubicBezTo>
                <a:cubicBezTo>
                  <a:pt x="10570" y="8985"/>
                  <a:pt x="10615" y="8970"/>
                  <a:pt x="10666" y="9029"/>
                </a:cubicBezTo>
                <a:cubicBezTo>
                  <a:pt x="10710" y="9081"/>
                  <a:pt x="10704" y="9167"/>
                  <a:pt x="10740" y="9227"/>
                </a:cubicBezTo>
                <a:cubicBezTo>
                  <a:pt x="10765" y="9252"/>
                  <a:pt x="10773" y="9260"/>
                  <a:pt x="10790" y="9227"/>
                </a:cubicBezTo>
              </a:path>
              <a:path w="7864" h="994">
                <a:moveTo>
                  <a:pt x="10988" y="9004"/>
                </a:moveTo>
                <a:cubicBezTo>
                  <a:pt x="11051" y="9004"/>
                  <a:pt x="11080" y="9006"/>
                  <a:pt x="11137" y="8979"/>
                </a:cubicBezTo>
                <a:cubicBezTo>
                  <a:pt x="11177" y="8959"/>
                  <a:pt x="11194" y="8961"/>
                  <a:pt x="11187" y="8930"/>
                </a:cubicBezTo>
                <a:cubicBezTo>
                  <a:pt x="11138" y="8872"/>
                  <a:pt x="11092" y="8856"/>
                  <a:pt x="11013" y="8905"/>
                </a:cubicBezTo>
                <a:cubicBezTo>
                  <a:pt x="10974" y="8929"/>
                  <a:pt x="10901" y="9030"/>
                  <a:pt x="10889" y="9079"/>
                </a:cubicBezTo>
                <a:cubicBezTo>
                  <a:pt x="10868" y="9169"/>
                  <a:pt x="10969" y="9146"/>
                  <a:pt x="11013" y="9178"/>
                </a:cubicBezTo>
                <a:cubicBezTo>
                  <a:pt x="11102" y="9243"/>
                  <a:pt x="11112" y="9227"/>
                  <a:pt x="11212" y="9178"/>
                </a:cubicBezTo>
              </a:path>
              <a:path w="7864" h="994">
                <a:moveTo>
                  <a:pt x="11534" y="8880"/>
                </a:moveTo>
                <a:cubicBezTo>
                  <a:pt x="11471" y="8880"/>
                  <a:pt x="11409" y="8866"/>
                  <a:pt x="11361" y="8905"/>
                </a:cubicBezTo>
                <a:cubicBezTo>
                  <a:pt x="11327" y="8933"/>
                  <a:pt x="11319" y="8964"/>
                  <a:pt x="11311" y="9004"/>
                </a:cubicBezTo>
                <a:cubicBezTo>
                  <a:pt x="11375" y="9041"/>
                  <a:pt x="11401" y="9029"/>
                  <a:pt x="11460" y="9054"/>
                </a:cubicBezTo>
                <a:cubicBezTo>
                  <a:pt x="11503" y="9072"/>
                  <a:pt x="11575" y="9100"/>
                  <a:pt x="11609" y="9128"/>
                </a:cubicBezTo>
                <a:cubicBezTo>
                  <a:pt x="11685" y="9190"/>
                  <a:pt x="11601" y="9220"/>
                  <a:pt x="11559" y="9252"/>
                </a:cubicBezTo>
                <a:cubicBezTo>
                  <a:pt x="11500" y="9296"/>
                  <a:pt x="11489" y="9326"/>
                  <a:pt x="11410" y="9277"/>
                </a:cubicBezTo>
                <a:cubicBezTo>
                  <a:pt x="11402" y="9269"/>
                  <a:pt x="11393" y="9260"/>
                  <a:pt x="11385" y="9252"/>
                </a:cubicBezTo>
              </a:path>
              <a:path w="7864" h="994">
                <a:moveTo>
                  <a:pt x="11832" y="9277"/>
                </a:moveTo>
                <a:cubicBezTo>
                  <a:pt x="11812" y="9236"/>
                  <a:pt x="11793" y="9220"/>
                  <a:pt x="11832" y="9227"/>
                </a:cubicBezTo>
                <a:cubicBezTo>
                  <a:pt x="11901" y="9255"/>
                  <a:pt x="11919" y="9310"/>
                  <a:pt x="11931" y="9376"/>
                </a:cubicBezTo>
                <a:cubicBezTo>
                  <a:pt x="11941" y="9430"/>
                  <a:pt x="11893" y="9487"/>
                  <a:pt x="11857" y="9525"/>
                </a:cubicBezTo>
                <a:cubicBezTo>
                  <a:pt x="11800" y="9586"/>
                  <a:pt x="11798" y="9587"/>
                  <a:pt x="11782" y="9525"/>
                </a:cubicBezTo>
              </a:path>
              <a:path w="7864" h="994">
                <a:moveTo>
                  <a:pt x="12030" y="8979"/>
                </a:moveTo>
                <a:cubicBezTo>
                  <a:pt x="12077" y="9014"/>
                  <a:pt x="12088" y="9094"/>
                  <a:pt x="12129" y="9153"/>
                </a:cubicBezTo>
                <a:cubicBezTo>
                  <a:pt x="12151" y="9185"/>
                  <a:pt x="12194" y="9264"/>
                  <a:pt x="12204" y="9302"/>
                </a:cubicBezTo>
                <a:cubicBezTo>
                  <a:pt x="12204" y="9343"/>
                  <a:pt x="12204" y="9351"/>
                  <a:pt x="12204" y="9376"/>
                </a:cubicBezTo>
                <a:cubicBezTo>
                  <a:pt x="12283" y="9354"/>
                  <a:pt x="12287" y="9307"/>
                  <a:pt x="12328" y="9227"/>
                </a:cubicBezTo>
                <a:cubicBezTo>
                  <a:pt x="12361" y="9163"/>
                  <a:pt x="12378" y="9126"/>
                  <a:pt x="12378" y="9054"/>
                </a:cubicBezTo>
                <a:cubicBezTo>
                  <a:pt x="12378" y="9012"/>
                  <a:pt x="12378" y="9004"/>
                  <a:pt x="12378" y="8979"/>
                </a:cubicBezTo>
              </a:path>
              <a:path w="7864" h="994">
                <a:moveTo>
                  <a:pt x="12799" y="8979"/>
                </a:moveTo>
                <a:cubicBezTo>
                  <a:pt x="12730" y="8979"/>
                  <a:pt x="12723" y="8980"/>
                  <a:pt x="12675" y="9029"/>
                </a:cubicBezTo>
                <a:cubicBezTo>
                  <a:pt x="12630" y="9074"/>
                  <a:pt x="12596" y="9139"/>
                  <a:pt x="12576" y="9203"/>
                </a:cubicBezTo>
                <a:cubicBezTo>
                  <a:pt x="12564" y="9241"/>
                  <a:pt x="12595" y="9343"/>
                  <a:pt x="12650" y="9327"/>
                </a:cubicBezTo>
                <a:cubicBezTo>
                  <a:pt x="12735" y="9302"/>
                  <a:pt x="12770" y="9170"/>
                  <a:pt x="12799" y="9103"/>
                </a:cubicBezTo>
                <a:cubicBezTo>
                  <a:pt x="12819" y="9063"/>
                  <a:pt x="12818" y="9047"/>
                  <a:pt x="12849" y="9054"/>
                </a:cubicBezTo>
                <a:cubicBezTo>
                  <a:pt x="12849" y="9118"/>
                  <a:pt x="12850" y="9188"/>
                  <a:pt x="12898" y="9227"/>
                </a:cubicBezTo>
                <a:cubicBezTo>
                  <a:pt x="12942" y="9249"/>
                  <a:pt x="12954" y="9252"/>
                  <a:pt x="12973" y="9277"/>
                </a:cubicBezTo>
              </a:path>
              <a:path w="7864" h="994">
                <a:moveTo>
                  <a:pt x="13097" y="9029"/>
                </a:moveTo>
                <a:cubicBezTo>
                  <a:pt x="13110" y="9091"/>
                  <a:pt x="13141" y="9137"/>
                  <a:pt x="13146" y="9203"/>
                </a:cubicBezTo>
                <a:cubicBezTo>
                  <a:pt x="13146" y="9227"/>
                  <a:pt x="13146" y="9236"/>
                  <a:pt x="13146" y="9252"/>
                </a:cubicBezTo>
                <a:cubicBezTo>
                  <a:pt x="13123" y="9198"/>
                  <a:pt x="13113" y="9157"/>
                  <a:pt x="13146" y="9103"/>
                </a:cubicBezTo>
                <a:cubicBezTo>
                  <a:pt x="13162" y="9077"/>
                  <a:pt x="13266" y="8976"/>
                  <a:pt x="13295" y="8979"/>
                </a:cubicBezTo>
                <a:cubicBezTo>
                  <a:pt x="13318" y="9002"/>
                  <a:pt x="13322" y="9010"/>
                  <a:pt x="13345" y="9004"/>
                </a:cubicBezTo>
              </a:path>
              <a:path w="7864" h="994">
                <a:moveTo>
                  <a:pt x="13469" y="9004"/>
                </a:moveTo>
                <a:cubicBezTo>
                  <a:pt x="13456" y="9055"/>
                  <a:pt x="13444" y="9091"/>
                  <a:pt x="13444" y="9153"/>
                </a:cubicBezTo>
                <a:cubicBezTo>
                  <a:pt x="13444" y="9211"/>
                  <a:pt x="13444" y="9269"/>
                  <a:pt x="13444" y="9327"/>
                </a:cubicBezTo>
                <a:cubicBezTo>
                  <a:pt x="13485" y="9276"/>
                  <a:pt x="13483" y="9224"/>
                  <a:pt x="13519" y="9178"/>
                </a:cubicBezTo>
                <a:cubicBezTo>
                  <a:pt x="13564" y="9120"/>
                  <a:pt x="13562" y="9073"/>
                  <a:pt x="13643" y="9029"/>
                </a:cubicBezTo>
                <a:cubicBezTo>
                  <a:pt x="13678" y="9029"/>
                  <a:pt x="13695" y="9024"/>
                  <a:pt x="13717" y="9004"/>
                </a:cubicBezTo>
                <a:cubicBezTo>
                  <a:pt x="13717" y="9087"/>
                  <a:pt x="13723" y="9150"/>
                  <a:pt x="13742" y="9227"/>
                </a:cubicBezTo>
                <a:cubicBezTo>
                  <a:pt x="13742" y="9260"/>
                  <a:pt x="13742" y="9277"/>
                  <a:pt x="13742" y="9302"/>
                </a:cubicBezTo>
              </a:path>
              <a:path w="7864" h="994">
                <a:moveTo>
                  <a:pt x="13866" y="9079"/>
                </a:moveTo>
                <a:cubicBezTo>
                  <a:pt x="13866" y="9163"/>
                  <a:pt x="13897" y="9214"/>
                  <a:pt x="13816" y="9227"/>
                </a:cubicBezTo>
              </a:path>
              <a:path w="7864" h="994">
                <a:moveTo>
                  <a:pt x="13866" y="8806"/>
                </a:moveTo>
                <a:cubicBezTo>
                  <a:pt x="13818" y="8782"/>
                  <a:pt x="13804" y="8774"/>
                  <a:pt x="13767" y="8781"/>
                </a:cubicBezTo>
              </a:path>
              <a:path w="7864" h="994">
                <a:moveTo>
                  <a:pt x="14238" y="9004"/>
                </a:moveTo>
                <a:cubicBezTo>
                  <a:pt x="14190" y="8986"/>
                  <a:pt x="14092" y="8950"/>
                  <a:pt x="14064" y="9029"/>
                </a:cubicBezTo>
                <a:cubicBezTo>
                  <a:pt x="14044" y="9086"/>
                  <a:pt x="14106" y="9119"/>
                  <a:pt x="14139" y="9153"/>
                </a:cubicBezTo>
                <a:cubicBezTo>
                  <a:pt x="14185" y="9200"/>
                  <a:pt x="14207" y="9211"/>
                  <a:pt x="14213" y="9277"/>
                </a:cubicBezTo>
                <a:cubicBezTo>
                  <a:pt x="14219" y="9348"/>
                  <a:pt x="14175" y="9356"/>
                  <a:pt x="14114" y="9376"/>
                </a:cubicBezTo>
                <a:cubicBezTo>
                  <a:pt x="14070" y="9290"/>
                  <a:pt x="14064" y="9274"/>
                  <a:pt x="14064" y="9178"/>
                </a:cubicBezTo>
              </a:path>
              <a:path w="7864" h="994">
                <a:moveTo>
                  <a:pt x="14362" y="8806"/>
                </a:moveTo>
                <a:cubicBezTo>
                  <a:pt x="14420" y="8838"/>
                  <a:pt x="14437" y="8850"/>
                  <a:pt x="14461" y="8905"/>
                </a:cubicBezTo>
                <a:cubicBezTo>
                  <a:pt x="14499" y="8992"/>
                  <a:pt x="14475" y="9019"/>
                  <a:pt x="14461" y="9103"/>
                </a:cubicBezTo>
                <a:cubicBezTo>
                  <a:pt x="14453" y="9150"/>
                  <a:pt x="14461" y="9204"/>
                  <a:pt x="14461" y="9252"/>
                </a:cubicBezTo>
                <a:cubicBezTo>
                  <a:pt x="14492" y="9214"/>
                  <a:pt x="14541" y="9154"/>
                  <a:pt x="14560" y="9128"/>
                </a:cubicBezTo>
                <a:cubicBezTo>
                  <a:pt x="14582" y="9085"/>
                  <a:pt x="14586" y="9073"/>
                  <a:pt x="14610" y="9054"/>
                </a:cubicBezTo>
                <a:cubicBezTo>
                  <a:pt x="14683" y="9126"/>
                  <a:pt x="14642" y="9144"/>
                  <a:pt x="14684" y="9203"/>
                </a:cubicBezTo>
                <a:cubicBezTo>
                  <a:pt x="14709" y="9203"/>
                  <a:pt x="14717" y="9203"/>
                  <a:pt x="14734" y="9203"/>
                </a:cubicBezTo>
              </a:path>
              <a:path w="7864" h="994">
                <a:moveTo>
                  <a:pt x="14883" y="9079"/>
                </a:moveTo>
                <a:cubicBezTo>
                  <a:pt x="14949" y="9079"/>
                  <a:pt x="14982" y="9075"/>
                  <a:pt x="15032" y="9029"/>
                </a:cubicBezTo>
                <a:cubicBezTo>
                  <a:pt x="15078" y="8987"/>
                  <a:pt x="15070" y="8921"/>
                  <a:pt x="15007" y="8905"/>
                </a:cubicBezTo>
                <a:cubicBezTo>
                  <a:pt x="14946" y="8890"/>
                  <a:pt x="14904" y="8951"/>
                  <a:pt x="14858" y="8979"/>
                </a:cubicBezTo>
                <a:cubicBezTo>
                  <a:pt x="14804" y="9011"/>
                  <a:pt x="14788" y="9060"/>
                  <a:pt x="14784" y="9128"/>
                </a:cubicBezTo>
                <a:cubicBezTo>
                  <a:pt x="14781" y="9168"/>
                  <a:pt x="14789" y="9255"/>
                  <a:pt x="14833" y="9277"/>
                </a:cubicBezTo>
                <a:cubicBezTo>
                  <a:pt x="14875" y="9298"/>
                  <a:pt x="14947" y="9267"/>
                  <a:pt x="14982" y="9252"/>
                </a:cubicBezTo>
              </a:path>
              <a:path w="7864" h="994">
                <a:moveTo>
                  <a:pt x="15354" y="8930"/>
                </a:moveTo>
                <a:cubicBezTo>
                  <a:pt x="15335" y="8934"/>
                  <a:pt x="15238" y="8946"/>
                  <a:pt x="15230" y="8954"/>
                </a:cubicBezTo>
                <a:cubicBezTo>
                  <a:pt x="15182" y="9002"/>
                  <a:pt x="15208" y="9049"/>
                  <a:pt x="15255" y="9079"/>
                </a:cubicBezTo>
                <a:cubicBezTo>
                  <a:pt x="15307" y="9112"/>
                  <a:pt x="15374" y="9107"/>
                  <a:pt x="15404" y="9178"/>
                </a:cubicBezTo>
                <a:cubicBezTo>
                  <a:pt x="15440" y="9265"/>
                  <a:pt x="15297" y="9263"/>
                  <a:pt x="15255" y="9277"/>
                </a:cubicBezTo>
                <a:cubicBezTo>
                  <a:pt x="15177" y="9303"/>
                  <a:pt x="15197" y="9300"/>
                  <a:pt x="1515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23120" y="3089160"/>
            <a:ext cx="293760" cy="268560"/>
          </a:xfrm>
          <a:custGeom>
            <a:avLst/>
            <a:gdLst/>
            <a:ahLst/>
            <a:rect l="l" t="t" r="r" b="b"/>
            <a:pathLst>
              <a:path w="819" h="746">
                <a:moveTo>
                  <a:pt x="20513" y="8781"/>
                </a:moveTo>
                <a:cubicBezTo>
                  <a:pt x="20452" y="8790"/>
                  <a:pt x="20386" y="8808"/>
                  <a:pt x="20365" y="8880"/>
                </a:cubicBezTo>
                <a:cubicBezTo>
                  <a:pt x="20346" y="8946"/>
                  <a:pt x="20340" y="9008"/>
                  <a:pt x="20340" y="9079"/>
                </a:cubicBezTo>
                <a:cubicBezTo>
                  <a:pt x="20340" y="9126"/>
                  <a:pt x="20389" y="9159"/>
                  <a:pt x="20414" y="9178"/>
                </a:cubicBezTo>
                <a:cubicBezTo>
                  <a:pt x="20466" y="9218"/>
                  <a:pt x="20506" y="9252"/>
                  <a:pt x="20563" y="9203"/>
                </a:cubicBezTo>
                <a:cubicBezTo>
                  <a:pt x="20632" y="9143"/>
                  <a:pt x="20629" y="9094"/>
                  <a:pt x="20662" y="9029"/>
                </a:cubicBezTo>
                <a:cubicBezTo>
                  <a:pt x="20694" y="8965"/>
                  <a:pt x="20662" y="8944"/>
                  <a:pt x="20613" y="8880"/>
                </a:cubicBezTo>
                <a:cubicBezTo>
                  <a:pt x="20577" y="8833"/>
                  <a:pt x="20516" y="8827"/>
                  <a:pt x="20538" y="8806"/>
                </a:cubicBezTo>
              </a:path>
              <a:path w="819" h="746">
                <a:moveTo>
                  <a:pt x="20861" y="9327"/>
                </a:moveTo>
                <a:cubicBezTo>
                  <a:pt x="20901" y="9257"/>
                  <a:pt x="20910" y="9235"/>
                  <a:pt x="20910" y="9153"/>
                </a:cubicBezTo>
                <a:cubicBezTo>
                  <a:pt x="20910" y="9120"/>
                  <a:pt x="20896" y="9040"/>
                  <a:pt x="20886" y="9004"/>
                </a:cubicBezTo>
                <a:cubicBezTo>
                  <a:pt x="20862" y="8918"/>
                  <a:pt x="20816" y="8848"/>
                  <a:pt x="20811" y="8756"/>
                </a:cubicBezTo>
                <a:cubicBezTo>
                  <a:pt x="20806" y="8659"/>
                  <a:pt x="20821" y="8667"/>
                  <a:pt x="20886" y="8607"/>
                </a:cubicBezTo>
                <a:cubicBezTo>
                  <a:pt x="20919" y="8577"/>
                  <a:pt x="20988" y="8566"/>
                  <a:pt x="21034" y="8582"/>
                </a:cubicBezTo>
                <a:cubicBezTo>
                  <a:pt x="21110" y="8609"/>
                  <a:pt x="21171" y="8650"/>
                  <a:pt x="21134" y="8706"/>
                </a:cubicBezTo>
              </a:path>
              <a:path w="819" h="746">
                <a:moveTo>
                  <a:pt x="20762" y="9004"/>
                </a:moveTo>
                <a:cubicBezTo>
                  <a:pt x="20878" y="9004"/>
                  <a:pt x="20993" y="9004"/>
                  <a:pt x="21109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32800" y="3071880"/>
            <a:ext cx="1251000" cy="322200"/>
          </a:xfrm>
          <a:custGeom>
            <a:avLst/>
            <a:gdLst/>
            <a:ahLst/>
            <a:rect l="l" t="t" r="r" b="b"/>
            <a:pathLst>
              <a:path w="3474" h="894">
                <a:moveTo>
                  <a:pt x="21704" y="8954"/>
                </a:moveTo>
                <a:cubicBezTo>
                  <a:pt x="21696" y="8917"/>
                  <a:pt x="21660" y="8812"/>
                  <a:pt x="21580" y="8855"/>
                </a:cubicBezTo>
                <a:cubicBezTo>
                  <a:pt x="21547" y="8872"/>
                  <a:pt x="21462" y="8986"/>
                  <a:pt x="21481" y="9029"/>
                </a:cubicBezTo>
                <a:cubicBezTo>
                  <a:pt x="21504" y="9080"/>
                  <a:pt x="21562" y="9153"/>
                  <a:pt x="21630" y="9128"/>
                </a:cubicBezTo>
                <a:cubicBezTo>
                  <a:pt x="21696" y="9104"/>
                  <a:pt x="21732" y="9013"/>
                  <a:pt x="21754" y="8954"/>
                </a:cubicBezTo>
                <a:cubicBezTo>
                  <a:pt x="21754" y="8919"/>
                  <a:pt x="21759" y="8902"/>
                  <a:pt x="21779" y="8880"/>
                </a:cubicBezTo>
                <a:cubicBezTo>
                  <a:pt x="21779" y="9009"/>
                  <a:pt x="21784" y="9130"/>
                  <a:pt x="21803" y="9252"/>
                </a:cubicBezTo>
                <a:cubicBezTo>
                  <a:pt x="21813" y="9317"/>
                  <a:pt x="21803" y="9368"/>
                  <a:pt x="21779" y="9426"/>
                </a:cubicBezTo>
                <a:cubicBezTo>
                  <a:pt x="21703" y="9416"/>
                  <a:pt x="21669" y="9389"/>
                  <a:pt x="21605" y="9351"/>
                </a:cubicBezTo>
                <a:cubicBezTo>
                  <a:pt x="21546" y="9316"/>
                  <a:pt x="21555" y="9335"/>
                  <a:pt x="21555" y="9277"/>
                </a:cubicBezTo>
              </a:path>
              <a:path w="3474" h="894">
                <a:moveTo>
                  <a:pt x="22175" y="8930"/>
                </a:moveTo>
                <a:cubicBezTo>
                  <a:pt x="22164" y="8849"/>
                  <a:pt x="22157" y="8855"/>
                  <a:pt x="22076" y="8855"/>
                </a:cubicBezTo>
                <a:cubicBezTo>
                  <a:pt x="22028" y="8855"/>
                  <a:pt x="22017" y="8920"/>
                  <a:pt x="22002" y="8954"/>
                </a:cubicBezTo>
                <a:cubicBezTo>
                  <a:pt x="21974" y="9018"/>
                  <a:pt x="21964" y="9044"/>
                  <a:pt x="22002" y="9103"/>
                </a:cubicBezTo>
                <a:cubicBezTo>
                  <a:pt x="22062" y="9197"/>
                  <a:pt x="22101" y="9200"/>
                  <a:pt x="22175" y="9103"/>
                </a:cubicBezTo>
                <a:cubicBezTo>
                  <a:pt x="22209" y="9058"/>
                  <a:pt x="22234" y="9020"/>
                  <a:pt x="22275" y="8979"/>
                </a:cubicBezTo>
                <a:cubicBezTo>
                  <a:pt x="22275" y="9039"/>
                  <a:pt x="22259" y="9107"/>
                  <a:pt x="22299" y="9153"/>
                </a:cubicBezTo>
                <a:cubicBezTo>
                  <a:pt x="22349" y="9210"/>
                  <a:pt x="22361" y="9200"/>
                  <a:pt x="22423" y="9153"/>
                </a:cubicBezTo>
                <a:cubicBezTo>
                  <a:pt x="22431" y="9145"/>
                  <a:pt x="22440" y="9136"/>
                  <a:pt x="22448" y="9128"/>
                </a:cubicBezTo>
              </a:path>
              <a:path w="3474" h="894">
                <a:moveTo>
                  <a:pt x="22696" y="8905"/>
                </a:moveTo>
                <a:cubicBezTo>
                  <a:pt x="22619" y="8860"/>
                  <a:pt x="22617" y="8855"/>
                  <a:pt x="22523" y="8855"/>
                </a:cubicBezTo>
                <a:cubicBezTo>
                  <a:pt x="22515" y="8855"/>
                  <a:pt x="22506" y="8855"/>
                  <a:pt x="22498" y="8855"/>
                </a:cubicBezTo>
                <a:cubicBezTo>
                  <a:pt x="22498" y="8938"/>
                  <a:pt x="22514" y="8927"/>
                  <a:pt x="22572" y="8979"/>
                </a:cubicBezTo>
                <a:cubicBezTo>
                  <a:pt x="22623" y="9025"/>
                  <a:pt x="22701" y="9052"/>
                  <a:pt x="22746" y="9103"/>
                </a:cubicBezTo>
                <a:cubicBezTo>
                  <a:pt x="22795" y="9158"/>
                  <a:pt x="22768" y="9236"/>
                  <a:pt x="22696" y="9252"/>
                </a:cubicBezTo>
                <a:cubicBezTo>
                  <a:pt x="22620" y="9269"/>
                  <a:pt x="22572" y="9251"/>
                  <a:pt x="22547" y="9178"/>
                </a:cubicBezTo>
                <a:cubicBezTo>
                  <a:pt x="22547" y="9170"/>
                  <a:pt x="22547" y="9161"/>
                  <a:pt x="22547" y="9153"/>
                </a:cubicBezTo>
              </a:path>
              <a:path w="3474" h="894">
                <a:moveTo>
                  <a:pt x="23093" y="8905"/>
                </a:moveTo>
                <a:cubicBezTo>
                  <a:pt x="23040" y="8920"/>
                  <a:pt x="22960" y="8948"/>
                  <a:pt x="22920" y="9004"/>
                </a:cubicBezTo>
                <a:cubicBezTo>
                  <a:pt x="22888" y="9049"/>
                  <a:pt x="22887" y="9111"/>
                  <a:pt x="22920" y="9153"/>
                </a:cubicBezTo>
                <a:cubicBezTo>
                  <a:pt x="22929" y="9165"/>
                  <a:pt x="23049" y="9228"/>
                  <a:pt x="23068" y="9227"/>
                </a:cubicBezTo>
                <a:cubicBezTo>
                  <a:pt x="23100" y="9225"/>
                  <a:pt x="23183" y="9136"/>
                  <a:pt x="23192" y="9103"/>
                </a:cubicBezTo>
                <a:cubicBezTo>
                  <a:pt x="23208" y="9047"/>
                  <a:pt x="23192" y="8985"/>
                  <a:pt x="23143" y="8954"/>
                </a:cubicBezTo>
                <a:cubicBezTo>
                  <a:pt x="23116" y="8937"/>
                  <a:pt x="23051" y="8913"/>
                  <a:pt x="23019" y="8905"/>
                </a:cubicBezTo>
              </a:path>
              <a:path w="3474" h="894">
                <a:moveTo>
                  <a:pt x="23440" y="8582"/>
                </a:moveTo>
                <a:cubicBezTo>
                  <a:pt x="23440" y="8566"/>
                  <a:pt x="23440" y="8549"/>
                  <a:pt x="23440" y="8533"/>
                </a:cubicBezTo>
                <a:cubicBezTo>
                  <a:pt x="23440" y="8632"/>
                  <a:pt x="23454" y="8712"/>
                  <a:pt x="23465" y="8806"/>
                </a:cubicBezTo>
                <a:cubicBezTo>
                  <a:pt x="23478" y="8921"/>
                  <a:pt x="23470" y="9054"/>
                  <a:pt x="23440" y="9153"/>
                </a:cubicBezTo>
                <a:cubicBezTo>
                  <a:pt x="23440" y="9186"/>
                  <a:pt x="23440" y="9202"/>
                  <a:pt x="23440" y="9227"/>
                </a:cubicBezTo>
              </a:path>
              <a:path w="3474" h="894">
                <a:moveTo>
                  <a:pt x="23738" y="9029"/>
                </a:moveTo>
                <a:cubicBezTo>
                  <a:pt x="23738" y="9063"/>
                  <a:pt x="23738" y="9296"/>
                  <a:pt x="23738" y="9178"/>
                </a:cubicBezTo>
                <a:cubicBezTo>
                  <a:pt x="23738" y="9170"/>
                  <a:pt x="23738" y="9161"/>
                  <a:pt x="23738" y="9153"/>
                </a:cubicBezTo>
              </a:path>
              <a:path w="3474" h="894">
                <a:moveTo>
                  <a:pt x="23763" y="8756"/>
                </a:moveTo>
                <a:cubicBezTo>
                  <a:pt x="23771" y="8764"/>
                  <a:pt x="23780" y="8773"/>
                  <a:pt x="23788" y="8781"/>
                </a:cubicBezTo>
              </a:path>
              <a:path w="3474" h="894">
                <a:moveTo>
                  <a:pt x="24036" y="8930"/>
                </a:moveTo>
                <a:cubicBezTo>
                  <a:pt x="24043" y="8979"/>
                  <a:pt x="24101" y="9030"/>
                  <a:pt x="24085" y="9079"/>
                </a:cubicBezTo>
                <a:cubicBezTo>
                  <a:pt x="24068" y="9130"/>
                  <a:pt x="24061" y="9162"/>
                  <a:pt x="24061" y="9227"/>
                </a:cubicBezTo>
                <a:cubicBezTo>
                  <a:pt x="24061" y="9235"/>
                  <a:pt x="24061" y="9244"/>
                  <a:pt x="24061" y="9252"/>
                </a:cubicBezTo>
                <a:cubicBezTo>
                  <a:pt x="24093" y="9197"/>
                  <a:pt x="24085" y="9146"/>
                  <a:pt x="24085" y="9079"/>
                </a:cubicBezTo>
                <a:cubicBezTo>
                  <a:pt x="24085" y="9032"/>
                  <a:pt x="24144" y="8969"/>
                  <a:pt x="24185" y="8954"/>
                </a:cubicBezTo>
                <a:cubicBezTo>
                  <a:pt x="24257" y="8927"/>
                  <a:pt x="24267" y="8988"/>
                  <a:pt x="24284" y="9029"/>
                </a:cubicBezTo>
                <a:cubicBezTo>
                  <a:pt x="24310" y="9093"/>
                  <a:pt x="24284" y="9276"/>
                  <a:pt x="24333" y="9227"/>
                </a:cubicBezTo>
                <a:cubicBezTo>
                  <a:pt x="24350" y="9202"/>
                  <a:pt x="24366" y="9178"/>
                  <a:pt x="24383" y="9153"/>
                </a:cubicBezTo>
              </a:path>
              <a:path w="3474" h="894">
                <a:moveTo>
                  <a:pt x="24532" y="9079"/>
                </a:moveTo>
                <a:cubicBezTo>
                  <a:pt x="24584" y="9056"/>
                  <a:pt x="24635" y="9074"/>
                  <a:pt x="24681" y="9054"/>
                </a:cubicBezTo>
                <a:cubicBezTo>
                  <a:pt x="24694" y="9048"/>
                  <a:pt x="24805" y="9004"/>
                  <a:pt x="24805" y="9004"/>
                </a:cubicBezTo>
                <a:cubicBezTo>
                  <a:pt x="24843" y="8942"/>
                  <a:pt x="24848" y="8880"/>
                  <a:pt x="24780" y="8855"/>
                </a:cubicBezTo>
                <a:cubicBezTo>
                  <a:pt x="24740" y="8840"/>
                  <a:pt x="24611" y="8845"/>
                  <a:pt x="24581" y="8880"/>
                </a:cubicBezTo>
                <a:cubicBezTo>
                  <a:pt x="24557" y="8908"/>
                  <a:pt x="24516" y="8952"/>
                  <a:pt x="24507" y="9004"/>
                </a:cubicBezTo>
                <a:cubicBezTo>
                  <a:pt x="24490" y="9098"/>
                  <a:pt x="24518" y="9070"/>
                  <a:pt x="24557" y="9128"/>
                </a:cubicBezTo>
                <a:cubicBezTo>
                  <a:pt x="24576" y="9156"/>
                  <a:pt x="24617" y="9202"/>
                  <a:pt x="24656" y="9227"/>
                </a:cubicBezTo>
                <a:cubicBezTo>
                  <a:pt x="24696" y="9253"/>
                  <a:pt x="24782" y="9268"/>
                  <a:pt x="24829" y="9252"/>
                </a:cubicBezTo>
                <a:cubicBezTo>
                  <a:pt x="24881" y="9235"/>
                  <a:pt x="24888" y="9227"/>
                  <a:pt x="24954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9040" y="3268800"/>
            <a:ext cx="777960" cy="22356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4415" y="9079"/>
                </a:moveTo>
                <a:cubicBezTo>
                  <a:pt x="4455" y="9157"/>
                  <a:pt x="4458" y="9225"/>
                  <a:pt x="4490" y="9302"/>
                </a:cubicBezTo>
                <a:cubicBezTo>
                  <a:pt x="4516" y="9364"/>
                  <a:pt x="4514" y="9408"/>
                  <a:pt x="4514" y="9475"/>
                </a:cubicBezTo>
                <a:cubicBezTo>
                  <a:pt x="4514" y="9533"/>
                  <a:pt x="4514" y="9542"/>
                  <a:pt x="4514" y="9575"/>
                </a:cubicBezTo>
                <a:cubicBezTo>
                  <a:pt x="4566" y="9540"/>
                  <a:pt x="4514" y="9511"/>
                  <a:pt x="4539" y="9451"/>
                </a:cubicBezTo>
                <a:cubicBezTo>
                  <a:pt x="4553" y="9417"/>
                  <a:pt x="4617" y="9361"/>
                  <a:pt x="4638" y="9351"/>
                </a:cubicBezTo>
                <a:cubicBezTo>
                  <a:pt x="4722" y="9310"/>
                  <a:pt x="4748" y="9336"/>
                  <a:pt x="4762" y="9426"/>
                </a:cubicBezTo>
                <a:cubicBezTo>
                  <a:pt x="4769" y="9470"/>
                  <a:pt x="4778" y="9548"/>
                  <a:pt x="4738" y="9575"/>
                </a:cubicBezTo>
                <a:cubicBezTo>
                  <a:pt x="4665" y="9625"/>
                  <a:pt x="4656" y="9601"/>
                  <a:pt x="4614" y="9550"/>
                </a:cubicBezTo>
              </a:path>
              <a:path w="2159" h="621">
                <a:moveTo>
                  <a:pt x="5011" y="9376"/>
                </a:moveTo>
                <a:cubicBezTo>
                  <a:pt x="4961" y="9416"/>
                  <a:pt x="4909" y="9433"/>
                  <a:pt x="4887" y="9500"/>
                </a:cubicBezTo>
                <a:cubicBezTo>
                  <a:pt x="4869" y="9556"/>
                  <a:pt x="4885" y="9601"/>
                  <a:pt x="4936" y="9624"/>
                </a:cubicBezTo>
                <a:cubicBezTo>
                  <a:pt x="4977" y="9643"/>
                  <a:pt x="5071" y="9648"/>
                  <a:pt x="5110" y="9599"/>
                </a:cubicBezTo>
                <a:cubicBezTo>
                  <a:pt x="5127" y="9578"/>
                  <a:pt x="5135" y="9486"/>
                  <a:pt x="5135" y="9451"/>
                </a:cubicBezTo>
                <a:cubicBezTo>
                  <a:pt x="5135" y="9423"/>
                  <a:pt x="5089" y="9401"/>
                  <a:pt x="5060" y="9376"/>
                </a:cubicBezTo>
              </a:path>
              <a:path w="2159" h="621">
                <a:moveTo>
                  <a:pt x="5358" y="9277"/>
                </a:moveTo>
                <a:cubicBezTo>
                  <a:pt x="5358" y="9418"/>
                  <a:pt x="5358" y="9558"/>
                  <a:pt x="5358" y="9699"/>
                </a:cubicBezTo>
              </a:path>
              <a:path w="2159" h="621">
                <a:moveTo>
                  <a:pt x="5135" y="9426"/>
                </a:moveTo>
                <a:cubicBezTo>
                  <a:pt x="5178" y="9399"/>
                  <a:pt x="5206" y="9401"/>
                  <a:pt x="5259" y="9401"/>
                </a:cubicBezTo>
                <a:cubicBezTo>
                  <a:pt x="5321" y="9401"/>
                  <a:pt x="5406" y="9415"/>
                  <a:pt x="5432" y="9376"/>
                </a:cubicBezTo>
              </a:path>
              <a:path w="2159" h="621">
                <a:moveTo>
                  <a:pt x="5556" y="9227"/>
                </a:moveTo>
                <a:cubicBezTo>
                  <a:pt x="5572" y="9302"/>
                  <a:pt x="5581" y="9353"/>
                  <a:pt x="5581" y="9426"/>
                </a:cubicBezTo>
                <a:cubicBezTo>
                  <a:pt x="5581" y="9500"/>
                  <a:pt x="5599" y="9591"/>
                  <a:pt x="5556" y="9649"/>
                </a:cubicBezTo>
              </a:path>
              <a:path w="2159" h="621">
                <a:moveTo>
                  <a:pt x="5383" y="9500"/>
                </a:moveTo>
                <a:cubicBezTo>
                  <a:pt x="5483" y="9500"/>
                  <a:pt x="5515" y="9478"/>
                  <a:pt x="5606" y="9451"/>
                </a:cubicBezTo>
                <a:cubicBezTo>
                  <a:pt x="5653" y="9437"/>
                  <a:pt x="5712" y="9430"/>
                  <a:pt x="5755" y="9401"/>
                </a:cubicBezTo>
                <a:cubicBezTo>
                  <a:pt x="5763" y="9393"/>
                  <a:pt x="5771" y="9384"/>
                  <a:pt x="5779" y="9376"/>
                </a:cubicBezTo>
              </a:path>
              <a:path w="2159" h="621">
                <a:moveTo>
                  <a:pt x="5804" y="9227"/>
                </a:moveTo>
                <a:cubicBezTo>
                  <a:pt x="5822" y="9293"/>
                  <a:pt x="5829" y="9335"/>
                  <a:pt x="5829" y="9401"/>
                </a:cubicBezTo>
                <a:cubicBezTo>
                  <a:pt x="5829" y="9416"/>
                  <a:pt x="5833" y="9685"/>
                  <a:pt x="5804" y="9674"/>
                </a:cubicBezTo>
                <a:cubicBezTo>
                  <a:pt x="5796" y="9657"/>
                  <a:pt x="5787" y="9641"/>
                  <a:pt x="5779" y="9624"/>
                </a:cubicBezTo>
              </a:path>
              <a:path w="2159" h="621">
                <a:moveTo>
                  <a:pt x="5953" y="9500"/>
                </a:moveTo>
                <a:cubicBezTo>
                  <a:pt x="6014" y="9500"/>
                  <a:pt x="6031" y="9506"/>
                  <a:pt x="6077" y="9475"/>
                </a:cubicBezTo>
                <a:cubicBezTo>
                  <a:pt x="6128" y="9441"/>
                  <a:pt x="6228" y="9349"/>
                  <a:pt x="6127" y="9302"/>
                </a:cubicBezTo>
                <a:cubicBezTo>
                  <a:pt x="6047" y="9265"/>
                  <a:pt x="5946" y="9366"/>
                  <a:pt x="5928" y="9426"/>
                </a:cubicBezTo>
                <a:cubicBezTo>
                  <a:pt x="5910" y="9484"/>
                  <a:pt x="5937" y="9530"/>
                  <a:pt x="5978" y="9550"/>
                </a:cubicBezTo>
                <a:cubicBezTo>
                  <a:pt x="6046" y="9584"/>
                  <a:pt x="6050" y="9599"/>
                  <a:pt x="6127" y="9599"/>
                </a:cubicBezTo>
                <a:cubicBezTo>
                  <a:pt x="6190" y="9599"/>
                  <a:pt x="6218" y="9599"/>
                  <a:pt x="6276" y="9575"/>
                </a:cubicBezTo>
              </a:path>
              <a:path w="2159" h="621">
                <a:moveTo>
                  <a:pt x="6424" y="9203"/>
                </a:moveTo>
                <a:cubicBezTo>
                  <a:pt x="6334" y="9203"/>
                  <a:pt x="6288" y="9206"/>
                  <a:pt x="6251" y="9302"/>
                </a:cubicBezTo>
                <a:cubicBezTo>
                  <a:pt x="6227" y="9365"/>
                  <a:pt x="6329" y="9366"/>
                  <a:pt x="6350" y="9376"/>
                </a:cubicBezTo>
                <a:cubicBezTo>
                  <a:pt x="6409" y="9406"/>
                  <a:pt x="6427" y="9426"/>
                  <a:pt x="6499" y="9426"/>
                </a:cubicBezTo>
                <a:cubicBezTo>
                  <a:pt x="6539" y="9426"/>
                  <a:pt x="6558" y="9436"/>
                  <a:pt x="6573" y="9475"/>
                </a:cubicBezTo>
                <a:cubicBezTo>
                  <a:pt x="6542" y="9500"/>
                  <a:pt x="6485" y="9542"/>
                  <a:pt x="6449" y="9550"/>
                </a:cubicBezTo>
                <a:cubicBezTo>
                  <a:pt x="6369" y="9567"/>
                  <a:pt x="6369" y="9557"/>
                  <a:pt x="635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70800" y="6072120"/>
            <a:ext cx="1089000" cy="277920"/>
          </a:xfrm>
          <a:custGeom>
            <a:avLst/>
            <a:gdLst/>
            <a:ahLst/>
            <a:rect l="l" t="t" r="r" b="b"/>
            <a:pathLst>
              <a:path w="3027" h="770">
                <a:moveTo>
                  <a:pt x="18802" y="17066"/>
                </a:moveTo>
                <a:cubicBezTo>
                  <a:pt x="18793" y="17004"/>
                  <a:pt x="18773" y="16967"/>
                  <a:pt x="18728" y="16917"/>
                </a:cubicBezTo>
                <a:cubicBezTo>
                  <a:pt x="18694" y="16879"/>
                  <a:pt x="18626" y="16874"/>
                  <a:pt x="18579" y="16867"/>
                </a:cubicBezTo>
                <a:cubicBezTo>
                  <a:pt x="18561" y="16920"/>
                  <a:pt x="18529" y="16956"/>
                  <a:pt x="18529" y="17016"/>
                </a:cubicBezTo>
                <a:cubicBezTo>
                  <a:pt x="18529" y="17102"/>
                  <a:pt x="18501" y="17242"/>
                  <a:pt x="18554" y="17314"/>
                </a:cubicBezTo>
                <a:cubicBezTo>
                  <a:pt x="18590" y="17363"/>
                  <a:pt x="18677" y="17429"/>
                  <a:pt x="18728" y="17363"/>
                </a:cubicBezTo>
                <a:cubicBezTo>
                  <a:pt x="18762" y="17319"/>
                  <a:pt x="18752" y="17266"/>
                  <a:pt x="18752" y="17214"/>
                </a:cubicBezTo>
                <a:cubicBezTo>
                  <a:pt x="18752" y="17165"/>
                  <a:pt x="18752" y="17115"/>
                  <a:pt x="18752" y="17066"/>
                </a:cubicBezTo>
                <a:cubicBezTo>
                  <a:pt x="18752" y="17163"/>
                  <a:pt x="18722" y="17338"/>
                  <a:pt x="18777" y="17413"/>
                </a:cubicBezTo>
                <a:cubicBezTo>
                  <a:pt x="18825" y="17479"/>
                  <a:pt x="18854" y="17403"/>
                  <a:pt x="18876" y="17363"/>
                </a:cubicBezTo>
              </a:path>
              <a:path w="3027" h="770">
                <a:moveTo>
                  <a:pt x="19348" y="16991"/>
                </a:moveTo>
                <a:cubicBezTo>
                  <a:pt x="19315" y="16942"/>
                  <a:pt x="19247" y="16908"/>
                  <a:pt x="19174" y="16942"/>
                </a:cubicBezTo>
                <a:cubicBezTo>
                  <a:pt x="19121" y="16967"/>
                  <a:pt x="19100" y="17029"/>
                  <a:pt x="19075" y="17066"/>
                </a:cubicBezTo>
                <a:cubicBezTo>
                  <a:pt x="19034" y="17126"/>
                  <a:pt x="19043" y="17157"/>
                  <a:pt x="19124" y="17165"/>
                </a:cubicBezTo>
                <a:cubicBezTo>
                  <a:pt x="19195" y="17172"/>
                  <a:pt x="19230" y="17194"/>
                  <a:pt x="19298" y="17214"/>
                </a:cubicBezTo>
                <a:cubicBezTo>
                  <a:pt x="19357" y="17232"/>
                  <a:pt x="19376" y="17251"/>
                  <a:pt x="19422" y="17289"/>
                </a:cubicBezTo>
                <a:cubicBezTo>
                  <a:pt x="19430" y="17297"/>
                  <a:pt x="19439" y="17306"/>
                  <a:pt x="19447" y="17314"/>
                </a:cubicBezTo>
                <a:cubicBezTo>
                  <a:pt x="19436" y="17331"/>
                  <a:pt x="19364" y="17374"/>
                  <a:pt x="19323" y="17388"/>
                </a:cubicBezTo>
                <a:cubicBezTo>
                  <a:pt x="19291" y="17399"/>
                  <a:pt x="19189" y="17383"/>
                  <a:pt x="19174" y="17363"/>
                </a:cubicBezTo>
                <a:cubicBezTo>
                  <a:pt x="19174" y="17322"/>
                  <a:pt x="19166" y="17306"/>
                  <a:pt x="19199" y="17314"/>
                </a:cubicBezTo>
              </a:path>
              <a:path w="3027" h="770">
                <a:moveTo>
                  <a:pt x="19670" y="17115"/>
                </a:moveTo>
                <a:cubicBezTo>
                  <a:pt x="19695" y="17173"/>
                  <a:pt x="19715" y="17204"/>
                  <a:pt x="19720" y="17264"/>
                </a:cubicBezTo>
                <a:cubicBezTo>
                  <a:pt x="19731" y="17396"/>
                  <a:pt x="19720" y="17743"/>
                  <a:pt x="19720" y="17611"/>
                </a:cubicBezTo>
              </a:path>
              <a:path w="3027" h="770">
                <a:moveTo>
                  <a:pt x="19546" y="17140"/>
                </a:moveTo>
                <a:cubicBezTo>
                  <a:pt x="19546" y="17098"/>
                  <a:pt x="19540" y="17032"/>
                  <a:pt x="19596" y="17016"/>
                </a:cubicBezTo>
                <a:cubicBezTo>
                  <a:pt x="19642" y="17003"/>
                  <a:pt x="19715" y="17031"/>
                  <a:pt x="19745" y="17066"/>
                </a:cubicBezTo>
                <a:cubicBezTo>
                  <a:pt x="19778" y="17104"/>
                  <a:pt x="19877" y="17166"/>
                  <a:pt x="19893" y="17214"/>
                </a:cubicBezTo>
                <a:cubicBezTo>
                  <a:pt x="19929" y="17324"/>
                  <a:pt x="19833" y="17343"/>
                  <a:pt x="19769" y="17388"/>
                </a:cubicBezTo>
                <a:cubicBezTo>
                  <a:pt x="19690" y="17443"/>
                  <a:pt x="19720" y="17465"/>
                  <a:pt x="19695" y="17363"/>
                </a:cubicBezTo>
              </a:path>
              <a:path w="3027" h="770">
                <a:moveTo>
                  <a:pt x="20042" y="17115"/>
                </a:moveTo>
                <a:cubicBezTo>
                  <a:pt x="20091" y="17177"/>
                  <a:pt x="20072" y="17198"/>
                  <a:pt x="20092" y="17264"/>
                </a:cubicBezTo>
                <a:cubicBezTo>
                  <a:pt x="20111" y="17328"/>
                  <a:pt x="20117" y="17344"/>
                  <a:pt x="20117" y="17413"/>
                </a:cubicBezTo>
                <a:cubicBezTo>
                  <a:pt x="20117" y="17361"/>
                  <a:pt x="20116" y="17343"/>
                  <a:pt x="20092" y="17314"/>
                </a:cubicBezTo>
              </a:path>
              <a:path w="3027" h="770">
                <a:moveTo>
                  <a:pt x="20017" y="16892"/>
                </a:moveTo>
                <a:cubicBezTo>
                  <a:pt x="20017" y="16867"/>
                  <a:pt x="20017" y="16859"/>
                  <a:pt x="20042" y="16867"/>
                </a:cubicBezTo>
              </a:path>
              <a:path w="3027" h="770">
                <a:moveTo>
                  <a:pt x="20365" y="17165"/>
                </a:moveTo>
                <a:cubicBezTo>
                  <a:pt x="20365" y="17248"/>
                  <a:pt x="20365" y="17330"/>
                  <a:pt x="20365" y="17413"/>
                </a:cubicBezTo>
                <a:cubicBezTo>
                  <a:pt x="20365" y="17489"/>
                  <a:pt x="20365" y="17352"/>
                  <a:pt x="20365" y="17338"/>
                </a:cubicBezTo>
                <a:cubicBezTo>
                  <a:pt x="20365" y="17270"/>
                  <a:pt x="20356" y="17253"/>
                  <a:pt x="20340" y="17190"/>
                </a:cubicBezTo>
                <a:cubicBezTo>
                  <a:pt x="20323" y="17122"/>
                  <a:pt x="20347" y="17104"/>
                  <a:pt x="20389" y="17066"/>
                </a:cubicBezTo>
                <a:cubicBezTo>
                  <a:pt x="20435" y="17025"/>
                  <a:pt x="20502" y="17041"/>
                  <a:pt x="20563" y="17041"/>
                </a:cubicBezTo>
                <a:cubicBezTo>
                  <a:pt x="20640" y="17041"/>
                  <a:pt x="20638" y="17029"/>
                  <a:pt x="20687" y="17066"/>
                </a:cubicBezTo>
              </a:path>
              <a:path w="3027" h="770">
                <a:moveTo>
                  <a:pt x="20935" y="17140"/>
                </a:moveTo>
                <a:cubicBezTo>
                  <a:pt x="20935" y="17206"/>
                  <a:pt x="20935" y="17272"/>
                  <a:pt x="20935" y="17338"/>
                </a:cubicBezTo>
                <a:cubicBezTo>
                  <a:pt x="20935" y="17429"/>
                  <a:pt x="20935" y="17247"/>
                  <a:pt x="20935" y="17239"/>
                </a:cubicBezTo>
              </a:path>
              <a:path w="3027" h="770">
                <a:moveTo>
                  <a:pt x="20836" y="16892"/>
                </a:moveTo>
                <a:cubicBezTo>
                  <a:pt x="20844" y="16892"/>
                  <a:pt x="20853" y="16892"/>
                  <a:pt x="20861" y="16892"/>
                </a:cubicBezTo>
              </a:path>
              <a:path w="3027" h="770">
                <a:moveTo>
                  <a:pt x="21134" y="17115"/>
                </a:moveTo>
                <a:cubicBezTo>
                  <a:pt x="21141" y="17152"/>
                  <a:pt x="21142" y="17233"/>
                  <a:pt x="21158" y="17264"/>
                </a:cubicBezTo>
                <a:cubicBezTo>
                  <a:pt x="21182" y="17311"/>
                  <a:pt x="21176" y="17367"/>
                  <a:pt x="21208" y="17388"/>
                </a:cubicBezTo>
                <a:cubicBezTo>
                  <a:pt x="21208" y="17298"/>
                  <a:pt x="21173" y="17119"/>
                  <a:pt x="21258" y="17066"/>
                </a:cubicBezTo>
                <a:cubicBezTo>
                  <a:pt x="21292" y="17045"/>
                  <a:pt x="21387" y="17028"/>
                  <a:pt x="21431" y="17041"/>
                </a:cubicBezTo>
                <a:cubicBezTo>
                  <a:pt x="21519" y="17067"/>
                  <a:pt x="21506" y="17140"/>
                  <a:pt x="21506" y="17214"/>
                </a:cubicBezTo>
                <a:cubicBezTo>
                  <a:pt x="21506" y="17240"/>
                  <a:pt x="21517" y="17368"/>
                  <a:pt x="21530" y="17388"/>
                </a:cubicBezTo>
                <a:cubicBezTo>
                  <a:pt x="21538" y="17388"/>
                  <a:pt x="21547" y="17388"/>
                  <a:pt x="21555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02720" y="6072120"/>
            <a:ext cx="741240" cy="277920"/>
          </a:xfrm>
          <a:custGeom>
            <a:avLst/>
            <a:gdLst/>
            <a:ahLst/>
            <a:rect l="l" t="t" r="r" b="b"/>
            <a:pathLst>
              <a:path w="2060" h="770">
                <a:moveTo>
                  <a:pt x="21952" y="17190"/>
                </a:moveTo>
                <a:cubicBezTo>
                  <a:pt x="21983" y="17184"/>
                  <a:pt x="22051" y="17129"/>
                  <a:pt x="22076" y="17140"/>
                </a:cubicBezTo>
                <a:cubicBezTo>
                  <a:pt x="22084" y="17148"/>
                  <a:pt x="22093" y="17157"/>
                  <a:pt x="22101" y="17165"/>
                </a:cubicBezTo>
              </a:path>
              <a:path w="2060" h="770">
                <a:moveTo>
                  <a:pt x="22448" y="17165"/>
                </a:moveTo>
                <a:cubicBezTo>
                  <a:pt x="22448" y="17277"/>
                  <a:pt x="22448" y="17645"/>
                  <a:pt x="22448" y="17587"/>
                </a:cubicBezTo>
              </a:path>
              <a:path w="2060" h="770">
                <a:moveTo>
                  <a:pt x="22324" y="17190"/>
                </a:moveTo>
                <a:cubicBezTo>
                  <a:pt x="22324" y="17103"/>
                  <a:pt x="22333" y="17097"/>
                  <a:pt x="22423" y="17090"/>
                </a:cubicBezTo>
                <a:cubicBezTo>
                  <a:pt x="22496" y="17084"/>
                  <a:pt x="22552" y="17093"/>
                  <a:pt x="22622" y="17115"/>
                </a:cubicBezTo>
                <a:cubicBezTo>
                  <a:pt x="22677" y="17132"/>
                  <a:pt x="22774" y="17147"/>
                  <a:pt x="22796" y="17214"/>
                </a:cubicBezTo>
                <a:cubicBezTo>
                  <a:pt x="22811" y="17260"/>
                  <a:pt x="22780" y="17334"/>
                  <a:pt x="22746" y="17363"/>
                </a:cubicBezTo>
                <a:cubicBezTo>
                  <a:pt x="22698" y="17403"/>
                  <a:pt x="22629" y="17388"/>
                  <a:pt x="22572" y="17388"/>
                </a:cubicBezTo>
              </a:path>
              <a:path w="2060" h="770">
                <a:moveTo>
                  <a:pt x="23168" y="17090"/>
                </a:moveTo>
                <a:cubicBezTo>
                  <a:pt x="23147" y="17028"/>
                  <a:pt x="23114" y="17020"/>
                  <a:pt x="23044" y="17066"/>
                </a:cubicBezTo>
                <a:cubicBezTo>
                  <a:pt x="22991" y="17101"/>
                  <a:pt x="23010" y="17145"/>
                  <a:pt x="22994" y="17190"/>
                </a:cubicBezTo>
                <a:cubicBezTo>
                  <a:pt x="22980" y="17230"/>
                  <a:pt x="22949" y="17291"/>
                  <a:pt x="22969" y="17338"/>
                </a:cubicBezTo>
                <a:cubicBezTo>
                  <a:pt x="22989" y="17385"/>
                  <a:pt x="23029" y="17382"/>
                  <a:pt x="23068" y="17388"/>
                </a:cubicBezTo>
                <a:cubicBezTo>
                  <a:pt x="23104" y="17326"/>
                  <a:pt x="23107" y="17272"/>
                  <a:pt x="23143" y="17214"/>
                </a:cubicBezTo>
                <a:cubicBezTo>
                  <a:pt x="23161" y="17186"/>
                  <a:pt x="23154" y="17104"/>
                  <a:pt x="23168" y="17090"/>
                </a:cubicBezTo>
                <a:cubicBezTo>
                  <a:pt x="23176" y="17090"/>
                  <a:pt x="23184" y="17090"/>
                  <a:pt x="23192" y="17090"/>
                </a:cubicBezTo>
                <a:cubicBezTo>
                  <a:pt x="23227" y="17151"/>
                  <a:pt x="23246" y="17180"/>
                  <a:pt x="23267" y="17239"/>
                </a:cubicBezTo>
                <a:cubicBezTo>
                  <a:pt x="23289" y="17302"/>
                  <a:pt x="23330" y="17343"/>
                  <a:pt x="23366" y="17289"/>
                </a:cubicBezTo>
              </a:path>
              <a:path w="2060" h="770">
                <a:moveTo>
                  <a:pt x="23515" y="17090"/>
                </a:moveTo>
                <a:cubicBezTo>
                  <a:pt x="23515" y="17125"/>
                  <a:pt x="23515" y="17365"/>
                  <a:pt x="23515" y="17239"/>
                </a:cubicBezTo>
              </a:path>
              <a:path w="2060" h="770">
                <a:moveTo>
                  <a:pt x="23490" y="16867"/>
                </a:moveTo>
                <a:cubicBezTo>
                  <a:pt x="23490" y="16875"/>
                  <a:pt x="23490" y="16884"/>
                  <a:pt x="23490" y="16892"/>
                </a:cubicBezTo>
              </a:path>
              <a:path w="2060" h="770">
                <a:moveTo>
                  <a:pt x="23688" y="17115"/>
                </a:moveTo>
                <a:cubicBezTo>
                  <a:pt x="23698" y="17182"/>
                  <a:pt x="23732" y="17196"/>
                  <a:pt x="23738" y="17264"/>
                </a:cubicBezTo>
                <a:cubicBezTo>
                  <a:pt x="23741" y="17304"/>
                  <a:pt x="23738" y="17348"/>
                  <a:pt x="23738" y="17388"/>
                </a:cubicBezTo>
                <a:cubicBezTo>
                  <a:pt x="23738" y="17458"/>
                  <a:pt x="23738" y="17306"/>
                  <a:pt x="23738" y="17289"/>
                </a:cubicBezTo>
                <a:cubicBezTo>
                  <a:pt x="23738" y="17238"/>
                  <a:pt x="23732" y="17170"/>
                  <a:pt x="23788" y="17140"/>
                </a:cubicBezTo>
                <a:cubicBezTo>
                  <a:pt x="23885" y="17088"/>
                  <a:pt x="23872" y="17114"/>
                  <a:pt x="23912" y="17165"/>
                </a:cubicBezTo>
                <a:cubicBezTo>
                  <a:pt x="23951" y="17215"/>
                  <a:pt x="23974" y="17256"/>
                  <a:pt x="23986" y="17314"/>
                </a:cubicBezTo>
                <a:cubicBezTo>
                  <a:pt x="23986" y="17358"/>
                  <a:pt x="23983" y="17372"/>
                  <a:pt x="24011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31080" y="6303960"/>
            <a:ext cx="393840" cy="169920"/>
          </a:xfrm>
          <a:custGeom>
            <a:avLst/>
            <a:gdLst/>
            <a:ahLst/>
            <a:rect l="l" t="t" r="r" b="b"/>
            <a:pathLst>
              <a:path w="1092" h="472">
                <a:moveTo>
                  <a:pt x="21754" y="17537"/>
                </a:moveTo>
                <a:cubicBezTo>
                  <a:pt x="21754" y="17604"/>
                  <a:pt x="21768" y="17657"/>
                  <a:pt x="21779" y="17711"/>
                </a:cubicBezTo>
                <a:cubicBezTo>
                  <a:pt x="21788" y="17757"/>
                  <a:pt x="21801" y="17819"/>
                  <a:pt x="21803" y="17859"/>
                </a:cubicBezTo>
                <a:cubicBezTo>
                  <a:pt x="21803" y="17884"/>
                  <a:pt x="21803" y="17909"/>
                  <a:pt x="21803" y="17934"/>
                </a:cubicBezTo>
                <a:cubicBezTo>
                  <a:pt x="21796" y="17849"/>
                  <a:pt x="21766" y="17786"/>
                  <a:pt x="21803" y="17711"/>
                </a:cubicBezTo>
                <a:cubicBezTo>
                  <a:pt x="21848" y="17620"/>
                  <a:pt x="21833" y="17615"/>
                  <a:pt x="21927" y="17562"/>
                </a:cubicBezTo>
                <a:cubicBezTo>
                  <a:pt x="21979" y="17533"/>
                  <a:pt x="22019" y="17537"/>
                  <a:pt x="22076" y="17537"/>
                </a:cubicBezTo>
                <a:cubicBezTo>
                  <a:pt x="22126" y="17537"/>
                  <a:pt x="22142" y="17537"/>
                  <a:pt x="22175" y="17537"/>
                </a:cubicBezTo>
              </a:path>
              <a:path w="1092" h="472">
                <a:moveTo>
                  <a:pt x="22225" y="17760"/>
                </a:moveTo>
                <a:cubicBezTo>
                  <a:pt x="22284" y="17760"/>
                  <a:pt x="22332" y="17774"/>
                  <a:pt x="22374" y="17735"/>
                </a:cubicBezTo>
                <a:cubicBezTo>
                  <a:pt x="22415" y="17697"/>
                  <a:pt x="22436" y="17683"/>
                  <a:pt x="22448" y="17636"/>
                </a:cubicBezTo>
                <a:cubicBezTo>
                  <a:pt x="22396" y="17613"/>
                  <a:pt x="22326" y="17584"/>
                  <a:pt x="22275" y="17636"/>
                </a:cubicBezTo>
                <a:cubicBezTo>
                  <a:pt x="22236" y="17676"/>
                  <a:pt x="22204" y="17760"/>
                  <a:pt x="22200" y="17810"/>
                </a:cubicBezTo>
                <a:cubicBezTo>
                  <a:pt x="22193" y="17892"/>
                  <a:pt x="22236" y="17926"/>
                  <a:pt x="22299" y="17959"/>
                </a:cubicBezTo>
                <a:cubicBezTo>
                  <a:pt x="22369" y="17996"/>
                  <a:pt x="22385" y="17977"/>
                  <a:pt x="22448" y="17959"/>
                </a:cubicBezTo>
                <a:cubicBezTo>
                  <a:pt x="22506" y="17942"/>
                  <a:pt x="22535" y="17913"/>
                  <a:pt x="22572" y="17884"/>
                </a:cubicBezTo>
                <a:cubicBezTo>
                  <a:pt x="22580" y="17876"/>
                  <a:pt x="22589" y="17867"/>
                  <a:pt x="22597" y="17859"/>
                </a:cubicBezTo>
              </a:path>
              <a:path w="1092" h="472">
                <a:moveTo>
                  <a:pt x="22820" y="17512"/>
                </a:moveTo>
                <a:cubicBezTo>
                  <a:pt x="22820" y="17569"/>
                  <a:pt x="22841" y="17608"/>
                  <a:pt x="22845" y="17661"/>
                </a:cubicBezTo>
                <a:cubicBezTo>
                  <a:pt x="22851" y="17755"/>
                  <a:pt x="22862" y="18018"/>
                  <a:pt x="22820" y="17934"/>
                </a:cubicBezTo>
                <a:cubicBezTo>
                  <a:pt x="22820" y="17917"/>
                  <a:pt x="22820" y="17901"/>
                  <a:pt x="22820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40840" y="6340320"/>
            <a:ext cx="554040" cy="196920"/>
          </a:xfrm>
          <a:custGeom>
            <a:avLst/>
            <a:gdLst/>
            <a:ahLst/>
            <a:rect l="l" t="t" r="r" b="b"/>
            <a:pathLst>
              <a:path w="1538" h="547">
                <a:moveTo>
                  <a:pt x="23168" y="17835"/>
                </a:moveTo>
                <a:cubicBezTo>
                  <a:pt x="23168" y="17882"/>
                  <a:pt x="23168" y="18165"/>
                  <a:pt x="23168" y="17983"/>
                </a:cubicBezTo>
              </a:path>
              <a:path w="1538" h="547">
                <a:moveTo>
                  <a:pt x="23168" y="17611"/>
                </a:moveTo>
                <a:cubicBezTo>
                  <a:pt x="23184" y="17611"/>
                  <a:pt x="23201" y="17611"/>
                  <a:pt x="23217" y="17611"/>
                </a:cubicBezTo>
              </a:path>
              <a:path w="1538" h="547">
                <a:moveTo>
                  <a:pt x="23391" y="17859"/>
                </a:moveTo>
                <a:cubicBezTo>
                  <a:pt x="23456" y="17859"/>
                  <a:pt x="23486" y="17851"/>
                  <a:pt x="23540" y="17810"/>
                </a:cubicBezTo>
                <a:cubicBezTo>
                  <a:pt x="23548" y="17802"/>
                  <a:pt x="23556" y="17793"/>
                  <a:pt x="23564" y="17785"/>
                </a:cubicBezTo>
                <a:cubicBezTo>
                  <a:pt x="23531" y="17745"/>
                  <a:pt x="23504" y="17712"/>
                  <a:pt x="23440" y="17735"/>
                </a:cubicBezTo>
                <a:cubicBezTo>
                  <a:pt x="23350" y="17767"/>
                  <a:pt x="23346" y="17824"/>
                  <a:pt x="23341" y="17909"/>
                </a:cubicBezTo>
                <a:cubicBezTo>
                  <a:pt x="23337" y="17971"/>
                  <a:pt x="23374" y="18001"/>
                  <a:pt x="23391" y="18058"/>
                </a:cubicBezTo>
                <a:cubicBezTo>
                  <a:pt x="23399" y="18084"/>
                  <a:pt x="23453" y="18161"/>
                  <a:pt x="23490" y="18157"/>
                </a:cubicBezTo>
                <a:cubicBezTo>
                  <a:pt x="23557" y="18134"/>
                  <a:pt x="23578" y="18133"/>
                  <a:pt x="23589" y="18083"/>
                </a:cubicBezTo>
              </a:path>
              <a:path w="1538" h="547">
                <a:moveTo>
                  <a:pt x="23639" y="17810"/>
                </a:moveTo>
                <a:cubicBezTo>
                  <a:pt x="23639" y="17870"/>
                  <a:pt x="23669" y="17876"/>
                  <a:pt x="23688" y="17934"/>
                </a:cubicBezTo>
                <a:cubicBezTo>
                  <a:pt x="23706" y="17990"/>
                  <a:pt x="23734" y="18029"/>
                  <a:pt x="23763" y="18083"/>
                </a:cubicBezTo>
                <a:cubicBezTo>
                  <a:pt x="23771" y="18099"/>
                  <a:pt x="23780" y="18116"/>
                  <a:pt x="23788" y="18132"/>
                </a:cubicBezTo>
                <a:cubicBezTo>
                  <a:pt x="23866" y="18101"/>
                  <a:pt x="23846" y="18070"/>
                  <a:pt x="23887" y="18008"/>
                </a:cubicBezTo>
                <a:cubicBezTo>
                  <a:pt x="23916" y="17964"/>
                  <a:pt x="23924" y="17906"/>
                  <a:pt x="23937" y="17859"/>
                </a:cubicBezTo>
                <a:cubicBezTo>
                  <a:pt x="23961" y="17773"/>
                  <a:pt x="23866" y="17824"/>
                  <a:pt x="23961" y="17785"/>
                </a:cubicBezTo>
              </a:path>
              <a:path w="1538" h="547">
                <a:moveTo>
                  <a:pt x="24110" y="17884"/>
                </a:moveTo>
                <a:cubicBezTo>
                  <a:pt x="24162" y="17807"/>
                  <a:pt x="24183" y="17863"/>
                  <a:pt x="24234" y="17760"/>
                </a:cubicBezTo>
                <a:cubicBezTo>
                  <a:pt x="24234" y="17752"/>
                  <a:pt x="24234" y="17743"/>
                  <a:pt x="24234" y="17735"/>
                </a:cubicBezTo>
                <a:cubicBezTo>
                  <a:pt x="24184" y="17696"/>
                  <a:pt x="24161" y="17667"/>
                  <a:pt x="24110" y="17711"/>
                </a:cubicBezTo>
                <a:cubicBezTo>
                  <a:pt x="24053" y="17760"/>
                  <a:pt x="24061" y="17815"/>
                  <a:pt x="24061" y="17884"/>
                </a:cubicBezTo>
                <a:cubicBezTo>
                  <a:pt x="24061" y="17932"/>
                  <a:pt x="24087" y="17997"/>
                  <a:pt x="24110" y="18008"/>
                </a:cubicBezTo>
                <a:cubicBezTo>
                  <a:pt x="24148" y="18027"/>
                  <a:pt x="24214" y="18055"/>
                  <a:pt x="24259" y="18058"/>
                </a:cubicBezTo>
                <a:cubicBezTo>
                  <a:pt x="24319" y="18058"/>
                  <a:pt x="24338" y="18049"/>
                  <a:pt x="24333" y="17983"/>
                </a:cubicBezTo>
              </a:path>
              <a:path w="1538" h="547">
                <a:moveTo>
                  <a:pt x="24433" y="17760"/>
                </a:moveTo>
                <a:cubicBezTo>
                  <a:pt x="24433" y="17843"/>
                  <a:pt x="24433" y="17925"/>
                  <a:pt x="24433" y="18008"/>
                </a:cubicBezTo>
                <a:cubicBezTo>
                  <a:pt x="24433" y="17932"/>
                  <a:pt x="24396" y="17773"/>
                  <a:pt x="24482" y="17735"/>
                </a:cubicBezTo>
                <a:cubicBezTo>
                  <a:pt x="24519" y="17719"/>
                  <a:pt x="24619" y="17713"/>
                  <a:pt x="24656" y="17711"/>
                </a:cubicBezTo>
                <a:cubicBezTo>
                  <a:pt x="24738" y="17706"/>
                  <a:pt x="24676" y="17697"/>
                  <a:pt x="24631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38760" y="5732640"/>
            <a:ext cx="152280" cy="28548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10939" y="15999"/>
                </a:moveTo>
                <a:cubicBezTo>
                  <a:pt x="10976" y="15971"/>
                  <a:pt x="11025" y="15971"/>
                  <a:pt x="11063" y="15949"/>
                </a:cubicBezTo>
                <a:cubicBezTo>
                  <a:pt x="11101" y="15927"/>
                  <a:pt x="11162" y="15911"/>
                  <a:pt x="11212" y="15925"/>
                </a:cubicBezTo>
                <a:cubicBezTo>
                  <a:pt x="11270" y="15941"/>
                  <a:pt x="11341" y="15970"/>
                  <a:pt x="11361" y="16024"/>
                </a:cubicBezTo>
                <a:cubicBezTo>
                  <a:pt x="11368" y="16044"/>
                  <a:pt x="11361" y="16106"/>
                  <a:pt x="11361" y="16123"/>
                </a:cubicBezTo>
                <a:cubicBezTo>
                  <a:pt x="11313" y="16130"/>
                  <a:pt x="11254" y="16148"/>
                  <a:pt x="11212" y="16173"/>
                </a:cubicBezTo>
                <a:cubicBezTo>
                  <a:pt x="11170" y="16197"/>
                  <a:pt x="11105" y="16250"/>
                  <a:pt x="11088" y="16297"/>
                </a:cubicBezTo>
                <a:cubicBezTo>
                  <a:pt x="11073" y="16339"/>
                  <a:pt x="11061" y="16407"/>
                  <a:pt x="11088" y="16421"/>
                </a:cubicBezTo>
                <a:cubicBezTo>
                  <a:pt x="11096" y="16421"/>
                  <a:pt x="11104" y="16421"/>
                  <a:pt x="11112" y="16421"/>
                </a:cubicBezTo>
              </a:path>
              <a:path w="423" h="794">
                <a:moveTo>
                  <a:pt x="11112" y="16694"/>
                </a:moveTo>
                <a:cubicBezTo>
                  <a:pt x="11135" y="16716"/>
                  <a:pt x="11140" y="16724"/>
                  <a:pt x="11162" y="16718"/>
                </a:cubicBezTo>
                <a:cubicBezTo>
                  <a:pt x="11111" y="16643"/>
                  <a:pt x="11111" y="16695"/>
                  <a:pt x="11162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84800" y="5724360"/>
            <a:ext cx="133200" cy="30348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179" y="15974"/>
                </a:moveTo>
                <a:cubicBezTo>
                  <a:pt x="12189" y="15915"/>
                  <a:pt x="12204" y="15908"/>
                  <a:pt x="12278" y="15900"/>
                </a:cubicBezTo>
                <a:cubicBezTo>
                  <a:pt x="12325" y="15895"/>
                  <a:pt x="12555" y="15869"/>
                  <a:pt x="12551" y="15949"/>
                </a:cubicBezTo>
                <a:cubicBezTo>
                  <a:pt x="12548" y="16003"/>
                  <a:pt x="12473" y="16119"/>
                  <a:pt x="12427" y="16148"/>
                </a:cubicBezTo>
                <a:cubicBezTo>
                  <a:pt x="12377" y="16180"/>
                  <a:pt x="12301" y="16143"/>
                  <a:pt x="12254" y="16222"/>
                </a:cubicBezTo>
                <a:cubicBezTo>
                  <a:pt x="12230" y="16263"/>
                  <a:pt x="12260" y="16365"/>
                  <a:pt x="12278" y="16396"/>
                </a:cubicBezTo>
              </a:path>
              <a:path w="373" h="844">
                <a:moveTo>
                  <a:pt x="12278" y="16694"/>
                </a:moveTo>
                <a:cubicBezTo>
                  <a:pt x="12278" y="16822"/>
                  <a:pt x="12300" y="16665"/>
                  <a:pt x="12303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vers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z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508720" y="1268280"/>
          <a:ext cx="302400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268280"/>
                    <a:ext cx="30240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1268280"/>
          <a:ext cx="2808360" cy="29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268280"/>
                    <a:ext cx="280836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95280" y="450864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enzene is found as branch of a larger molecule it is named phenyl. If there is a carbon separating it from the Larger molecule it is known as a benzy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45:14Z</dcterms:created>
  <dc:creator>nbdoe</dc:creator>
  <dc:description/>
  <dc:language>en-US</dc:language>
  <cp:lastModifiedBy>nbdoe</cp:lastModifiedBy>
  <dcterms:modified xsi:type="dcterms:W3CDTF">2008-04-23T17:46:12Z</dcterms:modified>
  <cp:revision>1</cp:revision>
  <dc:subject/>
  <dc:title>Aromatic Hydrocarbons</dc:title>
</cp:coreProperties>
</file>